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94552-D207-4579-9B76-8E8E94548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DD606-20A0-46DC-BF53-637C18F7B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8E859-E8FC-4F4B-A596-E15B777B0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CA41E-0E08-46DF-83F6-F9BE8FE45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C8743-58B5-4A17-92C1-F9BD99317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4C584-D872-426E-8B2A-66F8BF196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14EDD-A69A-4616-8163-283E143E0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16030-4531-4E31-96D6-416B5D2CB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C0392-1ADB-486B-9D6C-5B26AA732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A098B-BF52-4F9F-BC49-82BF3D41D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4B3A-8418-48DF-A151-32E1C9A79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F6268-1F09-4B40-8CE1-C55258A01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9A018-2B1C-4B76-8EBA-98E5EA630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12F5-5CDB-4FE6-8B71-67E1B6107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65BA-AA94-4F9F-BE75-B3819F84C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8755-22F1-4EF5-9ACE-94F00E74F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F8BC-C8E6-43D9-99B2-980F5CC5F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AF21-B299-417D-B647-DF0D02342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9E59-52CF-4B13-9920-9B0BF954A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DEE0-1307-4B46-999B-AFC9CE90C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EB04-C3DE-45B0-9F8D-01526A4F3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C2C1-D011-46D3-ADB9-381BA46FB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88ED-1DFE-43B9-8A59-5C51556F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466F-9DA8-4FC1-8A3B-204A0BAA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5D9B-57A9-4C40-894D-48238A9A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4E911-D612-4B4D-B425-91FB66513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 2.01: Distance and Mid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09480" y="380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quare has the vertices (1, -2)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7, -2), (7, 3) and (1, 3).  At what point do the diagonals inters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Ink 3"/>
          <p:cNvSpPr/>
          <p:nvPr/>
        </p:nvSpPr>
        <p:spPr>
          <a:xfrm>
            <a:off x="1268280" y="2549520"/>
            <a:ext cx="2435400" cy="2136960"/>
          </a:xfrm>
          <a:custGeom>
            <a:avLst/>
            <a:gdLst/>
            <a:ahLst/>
            <a:rect l="l" t="t" r="r" b="b"/>
            <a:pathLst>
              <a:path w="6764" h="5939">
                <a:moveTo>
                  <a:pt x="7017" y="7080"/>
                </a:moveTo>
                <a:cubicBezTo>
                  <a:pt x="7013" y="7134"/>
                  <a:pt x="6988" y="7201"/>
                  <a:pt x="6985" y="7239"/>
                </a:cubicBezTo>
                <a:cubicBezTo>
                  <a:pt x="6977" y="7334"/>
                  <a:pt x="6961" y="7407"/>
                  <a:pt x="6953" y="7493"/>
                </a:cubicBezTo>
                <a:cubicBezTo>
                  <a:pt x="6945" y="7583"/>
                  <a:pt x="6930" y="7660"/>
                  <a:pt x="6922" y="7747"/>
                </a:cubicBezTo>
                <a:cubicBezTo>
                  <a:pt x="6911" y="7859"/>
                  <a:pt x="6894" y="7948"/>
                  <a:pt x="6890" y="8064"/>
                </a:cubicBezTo>
                <a:cubicBezTo>
                  <a:pt x="6886" y="8186"/>
                  <a:pt x="6858" y="8287"/>
                  <a:pt x="6858" y="8414"/>
                </a:cubicBezTo>
                <a:cubicBezTo>
                  <a:pt x="6858" y="8839"/>
                  <a:pt x="6862" y="9264"/>
                  <a:pt x="6826" y="9684"/>
                </a:cubicBezTo>
                <a:cubicBezTo>
                  <a:pt x="6763" y="10413"/>
                  <a:pt x="6797" y="11215"/>
                  <a:pt x="6858" y="11938"/>
                </a:cubicBezTo>
                <a:cubicBezTo>
                  <a:pt x="6874" y="12130"/>
                  <a:pt x="6869" y="12322"/>
                  <a:pt x="6890" y="12510"/>
                </a:cubicBezTo>
                <a:cubicBezTo>
                  <a:pt x="6904" y="12633"/>
                  <a:pt x="6911" y="12773"/>
                  <a:pt x="6922" y="12890"/>
                </a:cubicBezTo>
                <a:cubicBezTo>
                  <a:pt x="6929" y="12968"/>
                  <a:pt x="6922" y="12986"/>
                  <a:pt x="6890" y="13018"/>
                </a:cubicBezTo>
                <a:cubicBezTo>
                  <a:pt x="6879" y="13007"/>
                  <a:pt x="6869" y="12997"/>
                  <a:pt x="6858" y="12986"/>
                </a:cubicBezTo>
              </a:path>
              <a:path w="6764" h="5939">
                <a:moveTo>
                  <a:pt x="3524" y="10255"/>
                </a:moveTo>
                <a:cubicBezTo>
                  <a:pt x="3579" y="10238"/>
                  <a:pt x="3577" y="10236"/>
                  <a:pt x="3620" y="10224"/>
                </a:cubicBezTo>
                <a:cubicBezTo>
                  <a:pt x="3665" y="10212"/>
                  <a:pt x="3699" y="10204"/>
                  <a:pt x="3746" y="10192"/>
                </a:cubicBezTo>
                <a:cubicBezTo>
                  <a:pt x="3799" y="10178"/>
                  <a:pt x="3852" y="10172"/>
                  <a:pt x="3905" y="10160"/>
                </a:cubicBezTo>
                <a:cubicBezTo>
                  <a:pt x="3975" y="10145"/>
                  <a:pt x="4058" y="10133"/>
                  <a:pt x="4128" y="10128"/>
                </a:cubicBezTo>
                <a:cubicBezTo>
                  <a:pt x="4224" y="10121"/>
                  <a:pt x="4325" y="10103"/>
                  <a:pt x="4413" y="10096"/>
                </a:cubicBezTo>
                <a:cubicBezTo>
                  <a:pt x="4485" y="10090"/>
                  <a:pt x="4580" y="10070"/>
                  <a:pt x="4636" y="10065"/>
                </a:cubicBezTo>
                <a:cubicBezTo>
                  <a:pt x="4739" y="10056"/>
                  <a:pt x="4823" y="10054"/>
                  <a:pt x="4921" y="10033"/>
                </a:cubicBezTo>
                <a:cubicBezTo>
                  <a:pt x="5017" y="10012"/>
                  <a:pt x="5108" y="10014"/>
                  <a:pt x="5207" y="10001"/>
                </a:cubicBezTo>
                <a:cubicBezTo>
                  <a:pt x="5329" y="9985"/>
                  <a:pt x="5466" y="9963"/>
                  <a:pt x="5588" y="9938"/>
                </a:cubicBezTo>
                <a:cubicBezTo>
                  <a:pt x="5684" y="9919"/>
                  <a:pt x="5775" y="9920"/>
                  <a:pt x="5874" y="9906"/>
                </a:cubicBezTo>
                <a:cubicBezTo>
                  <a:pt x="5972" y="9893"/>
                  <a:pt x="6060" y="9876"/>
                  <a:pt x="6160" y="9874"/>
                </a:cubicBezTo>
                <a:cubicBezTo>
                  <a:pt x="6283" y="9871"/>
                  <a:pt x="6388" y="9850"/>
                  <a:pt x="6509" y="9842"/>
                </a:cubicBezTo>
                <a:cubicBezTo>
                  <a:pt x="6615" y="9835"/>
                  <a:pt x="6725" y="9817"/>
                  <a:pt x="6826" y="9811"/>
                </a:cubicBezTo>
                <a:cubicBezTo>
                  <a:pt x="6960" y="9803"/>
                  <a:pt x="7076" y="9834"/>
                  <a:pt x="7207" y="9842"/>
                </a:cubicBezTo>
                <a:cubicBezTo>
                  <a:pt x="7794" y="9877"/>
                  <a:pt x="8406" y="9846"/>
                  <a:pt x="8985" y="9811"/>
                </a:cubicBezTo>
                <a:cubicBezTo>
                  <a:pt x="9164" y="9800"/>
                  <a:pt x="9355" y="9791"/>
                  <a:pt x="9525" y="9779"/>
                </a:cubicBezTo>
                <a:cubicBezTo>
                  <a:pt x="9631" y="9772"/>
                  <a:pt x="9744" y="9755"/>
                  <a:pt x="9842" y="9747"/>
                </a:cubicBezTo>
                <a:cubicBezTo>
                  <a:pt x="9936" y="9740"/>
                  <a:pt x="9981" y="9775"/>
                  <a:pt x="10065" y="9779"/>
                </a:cubicBezTo>
                <a:cubicBezTo>
                  <a:pt x="10139" y="9783"/>
                  <a:pt x="10213" y="9779"/>
                  <a:pt x="10287" y="97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Ink 4"/>
          <p:cNvSpPr/>
          <p:nvPr/>
        </p:nvSpPr>
        <p:spPr>
          <a:xfrm>
            <a:off x="1211400" y="3554280"/>
            <a:ext cx="149040" cy="206640"/>
          </a:xfrm>
          <a:custGeom>
            <a:avLst/>
            <a:gdLst/>
            <a:ahLst/>
            <a:rect l="l" t="t" r="r" b="b"/>
            <a:pathLst>
              <a:path w="413" h="573">
                <a:moveTo>
                  <a:pt x="3651" y="9874"/>
                </a:moveTo>
                <a:cubicBezTo>
                  <a:pt x="3651" y="9925"/>
                  <a:pt x="3644" y="9993"/>
                  <a:pt x="3620" y="10033"/>
                </a:cubicBezTo>
                <a:cubicBezTo>
                  <a:pt x="3581" y="10099"/>
                  <a:pt x="3500" y="10166"/>
                  <a:pt x="3461" y="10224"/>
                </a:cubicBezTo>
                <a:cubicBezTo>
                  <a:pt x="3438" y="10258"/>
                  <a:pt x="3398" y="10263"/>
                  <a:pt x="3366" y="10287"/>
                </a:cubicBezTo>
                <a:cubicBezTo>
                  <a:pt x="3370" y="10274"/>
                  <a:pt x="3435" y="10218"/>
                  <a:pt x="3461" y="10224"/>
                </a:cubicBezTo>
                <a:cubicBezTo>
                  <a:pt x="3517" y="10236"/>
                  <a:pt x="3576" y="10275"/>
                  <a:pt x="3620" y="10319"/>
                </a:cubicBezTo>
                <a:cubicBezTo>
                  <a:pt x="3659" y="10358"/>
                  <a:pt x="3663" y="10427"/>
                  <a:pt x="3715" y="10446"/>
                </a:cubicBezTo>
                <a:cubicBezTo>
                  <a:pt x="3736" y="10446"/>
                  <a:pt x="3757" y="10446"/>
                  <a:pt x="3778" y="104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Ink 5"/>
          <p:cNvSpPr/>
          <p:nvPr/>
        </p:nvSpPr>
        <p:spPr>
          <a:xfrm>
            <a:off x="2092320" y="2960640"/>
            <a:ext cx="2046240" cy="1040040"/>
          </a:xfrm>
          <a:custGeom>
            <a:avLst/>
            <a:gdLst/>
            <a:ahLst/>
            <a:rect l="l" t="t" r="r" b="b"/>
            <a:pathLst>
              <a:path w="5685" h="2890">
                <a:moveTo>
                  <a:pt x="10128" y="9652"/>
                </a:moveTo>
                <a:cubicBezTo>
                  <a:pt x="10128" y="9663"/>
                  <a:pt x="10128" y="9673"/>
                  <a:pt x="10128" y="9684"/>
                </a:cubicBezTo>
                <a:cubicBezTo>
                  <a:pt x="10183" y="9684"/>
                  <a:pt x="10177" y="9671"/>
                  <a:pt x="10192" y="9716"/>
                </a:cubicBezTo>
                <a:cubicBezTo>
                  <a:pt x="10284" y="9716"/>
                  <a:pt x="10217" y="9744"/>
                  <a:pt x="10287" y="9779"/>
                </a:cubicBezTo>
                <a:cubicBezTo>
                  <a:pt x="10298" y="9779"/>
                  <a:pt x="10308" y="9779"/>
                  <a:pt x="10319" y="9779"/>
                </a:cubicBezTo>
                <a:cubicBezTo>
                  <a:pt x="10335" y="9845"/>
                  <a:pt x="10382" y="9862"/>
                  <a:pt x="10382" y="9938"/>
                </a:cubicBezTo>
                <a:cubicBezTo>
                  <a:pt x="10351" y="9946"/>
                  <a:pt x="10283" y="9955"/>
                  <a:pt x="10255" y="9970"/>
                </a:cubicBezTo>
                <a:cubicBezTo>
                  <a:pt x="10203" y="9999"/>
                  <a:pt x="10192" y="10001"/>
                  <a:pt x="10128" y="10001"/>
                </a:cubicBezTo>
              </a:path>
              <a:path w="5685" h="2890">
                <a:moveTo>
                  <a:pt x="9525" y="8700"/>
                </a:moveTo>
                <a:cubicBezTo>
                  <a:pt x="9513" y="8715"/>
                  <a:pt x="9442" y="8806"/>
                  <a:pt x="9462" y="8826"/>
                </a:cubicBezTo>
                <a:cubicBezTo>
                  <a:pt x="9472" y="8826"/>
                  <a:pt x="9483" y="8826"/>
                  <a:pt x="9493" y="8826"/>
                </a:cubicBezTo>
                <a:cubicBezTo>
                  <a:pt x="9557" y="8810"/>
                  <a:pt x="9557" y="8796"/>
                  <a:pt x="9557" y="8731"/>
                </a:cubicBezTo>
                <a:cubicBezTo>
                  <a:pt x="9557" y="8677"/>
                  <a:pt x="9570" y="8683"/>
                  <a:pt x="9525" y="8668"/>
                </a:cubicBezTo>
                <a:cubicBezTo>
                  <a:pt x="9476" y="8717"/>
                  <a:pt x="9462" y="8727"/>
                  <a:pt x="9462" y="8795"/>
                </a:cubicBezTo>
                <a:cubicBezTo>
                  <a:pt x="9462" y="8847"/>
                  <a:pt x="9513" y="8826"/>
                  <a:pt x="9557" y="8826"/>
                </a:cubicBezTo>
                <a:cubicBezTo>
                  <a:pt x="9581" y="8826"/>
                  <a:pt x="9637" y="8769"/>
                  <a:pt x="9620" y="8731"/>
                </a:cubicBezTo>
                <a:cubicBezTo>
                  <a:pt x="9591" y="8703"/>
                  <a:pt x="9580" y="8697"/>
                  <a:pt x="9588" y="8668"/>
                </a:cubicBezTo>
                <a:cubicBezTo>
                  <a:pt x="9534" y="8668"/>
                  <a:pt x="9512" y="8675"/>
                  <a:pt x="9493" y="8731"/>
                </a:cubicBezTo>
                <a:cubicBezTo>
                  <a:pt x="9468" y="8805"/>
                  <a:pt x="9508" y="8819"/>
                  <a:pt x="9557" y="8795"/>
                </a:cubicBezTo>
              </a:path>
              <a:path w="5685" h="2890">
                <a:moveTo>
                  <a:pt x="10255" y="8255"/>
                </a:moveTo>
                <a:cubicBezTo>
                  <a:pt x="10207" y="8267"/>
                  <a:pt x="10140" y="8317"/>
                  <a:pt x="10096" y="8350"/>
                </a:cubicBezTo>
                <a:cubicBezTo>
                  <a:pt x="10011" y="8414"/>
                  <a:pt x="9999" y="8459"/>
                  <a:pt x="9970" y="8541"/>
                </a:cubicBezTo>
                <a:cubicBezTo>
                  <a:pt x="9934" y="8643"/>
                  <a:pt x="9952" y="8640"/>
                  <a:pt x="9970" y="8731"/>
                </a:cubicBezTo>
                <a:cubicBezTo>
                  <a:pt x="9984" y="8799"/>
                  <a:pt x="9982" y="8849"/>
                  <a:pt x="10065" y="8858"/>
                </a:cubicBezTo>
                <a:cubicBezTo>
                  <a:pt x="10096" y="8861"/>
                  <a:pt x="10129" y="8858"/>
                  <a:pt x="10160" y="8858"/>
                </a:cubicBezTo>
              </a:path>
              <a:path w="5685" h="2890">
                <a:moveTo>
                  <a:pt x="10255" y="8446"/>
                </a:moveTo>
                <a:cubicBezTo>
                  <a:pt x="10314" y="8446"/>
                  <a:pt x="10330" y="8420"/>
                  <a:pt x="10382" y="8414"/>
                </a:cubicBezTo>
                <a:cubicBezTo>
                  <a:pt x="10434" y="8408"/>
                  <a:pt x="10451" y="8382"/>
                  <a:pt x="10509" y="8382"/>
                </a:cubicBezTo>
                <a:cubicBezTo>
                  <a:pt x="10509" y="8452"/>
                  <a:pt x="10495" y="8473"/>
                  <a:pt x="10478" y="8541"/>
                </a:cubicBezTo>
                <a:cubicBezTo>
                  <a:pt x="10469" y="8579"/>
                  <a:pt x="10465" y="8667"/>
                  <a:pt x="10446" y="8700"/>
                </a:cubicBezTo>
                <a:cubicBezTo>
                  <a:pt x="10417" y="8728"/>
                  <a:pt x="10406" y="8734"/>
                  <a:pt x="10414" y="8763"/>
                </a:cubicBezTo>
              </a:path>
              <a:path w="5685" h="2890">
                <a:moveTo>
                  <a:pt x="10700" y="8572"/>
                </a:moveTo>
                <a:cubicBezTo>
                  <a:pt x="10700" y="8631"/>
                  <a:pt x="10674" y="8648"/>
                  <a:pt x="10668" y="8700"/>
                </a:cubicBezTo>
                <a:cubicBezTo>
                  <a:pt x="10660" y="8771"/>
                  <a:pt x="10655" y="8801"/>
                  <a:pt x="10636" y="8858"/>
                </a:cubicBezTo>
                <a:cubicBezTo>
                  <a:pt x="10636" y="8890"/>
                  <a:pt x="10636" y="8901"/>
                  <a:pt x="10668" y="8890"/>
                </a:cubicBezTo>
              </a:path>
              <a:path w="5685" h="2890">
                <a:moveTo>
                  <a:pt x="10922" y="8477"/>
                </a:moveTo>
                <a:cubicBezTo>
                  <a:pt x="10938" y="8414"/>
                  <a:pt x="10953" y="8414"/>
                  <a:pt x="11017" y="8414"/>
                </a:cubicBezTo>
                <a:cubicBezTo>
                  <a:pt x="11074" y="8414"/>
                  <a:pt x="11080" y="8422"/>
                  <a:pt x="11112" y="8446"/>
                </a:cubicBezTo>
                <a:cubicBezTo>
                  <a:pt x="11164" y="8484"/>
                  <a:pt x="11144" y="8547"/>
                  <a:pt x="11144" y="8604"/>
                </a:cubicBezTo>
                <a:cubicBezTo>
                  <a:pt x="11144" y="8643"/>
                  <a:pt x="11092" y="8663"/>
                  <a:pt x="11049" y="8668"/>
                </a:cubicBezTo>
                <a:cubicBezTo>
                  <a:pt x="11038" y="8668"/>
                  <a:pt x="11028" y="8668"/>
                  <a:pt x="11017" y="8668"/>
                </a:cubicBezTo>
                <a:cubicBezTo>
                  <a:pt x="11035" y="8615"/>
                  <a:pt x="11078" y="8636"/>
                  <a:pt x="11144" y="8636"/>
                </a:cubicBezTo>
                <a:cubicBezTo>
                  <a:pt x="11196" y="8636"/>
                  <a:pt x="11183" y="8694"/>
                  <a:pt x="11208" y="8731"/>
                </a:cubicBezTo>
                <a:cubicBezTo>
                  <a:pt x="11259" y="8807"/>
                  <a:pt x="11229" y="8784"/>
                  <a:pt x="11208" y="8826"/>
                </a:cubicBezTo>
                <a:cubicBezTo>
                  <a:pt x="11176" y="8890"/>
                  <a:pt x="11170" y="8846"/>
                  <a:pt x="11112" y="8826"/>
                </a:cubicBezTo>
                <a:cubicBezTo>
                  <a:pt x="11062" y="8809"/>
                  <a:pt x="11062" y="8816"/>
                  <a:pt x="11049" y="8763"/>
                </a:cubicBezTo>
              </a:path>
              <a:path w="5685" h="2890">
                <a:moveTo>
                  <a:pt x="11366" y="8223"/>
                </a:moveTo>
                <a:cubicBezTo>
                  <a:pt x="11386" y="8250"/>
                  <a:pt x="11453" y="8319"/>
                  <a:pt x="11462" y="8350"/>
                </a:cubicBezTo>
                <a:cubicBezTo>
                  <a:pt x="11485" y="8432"/>
                  <a:pt x="11494" y="8516"/>
                  <a:pt x="11494" y="8604"/>
                </a:cubicBezTo>
                <a:cubicBezTo>
                  <a:pt x="11494" y="8696"/>
                  <a:pt x="11495" y="8775"/>
                  <a:pt x="11462" y="8858"/>
                </a:cubicBezTo>
                <a:cubicBezTo>
                  <a:pt x="11440" y="8913"/>
                  <a:pt x="11411" y="8935"/>
                  <a:pt x="11398" y="8985"/>
                </a:cubicBezTo>
              </a:path>
              <a:path w="5685" h="2890">
                <a:moveTo>
                  <a:pt x="7493" y="8636"/>
                </a:moveTo>
                <a:cubicBezTo>
                  <a:pt x="7477" y="8684"/>
                  <a:pt x="7461" y="8663"/>
                  <a:pt x="7461" y="8731"/>
                </a:cubicBezTo>
                <a:cubicBezTo>
                  <a:pt x="7461" y="8810"/>
                  <a:pt x="7439" y="8780"/>
                  <a:pt x="7461" y="8826"/>
                </a:cubicBezTo>
                <a:cubicBezTo>
                  <a:pt x="7461" y="8837"/>
                  <a:pt x="7461" y="8847"/>
                  <a:pt x="7461" y="8858"/>
                </a:cubicBezTo>
                <a:cubicBezTo>
                  <a:pt x="7511" y="8820"/>
                  <a:pt x="7529" y="8830"/>
                  <a:pt x="7556" y="8795"/>
                </a:cubicBezTo>
                <a:cubicBezTo>
                  <a:pt x="7593" y="8746"/>
                  <a:pt x="7588" y="8730"/>
                  <a:pt x="7588" y="8668"/>
                </a:cubicBezTo>
                <a:cubicBezTo>
                  <a:pt x="7553" y="8641"/>
                  <a:pt x="7491" y="8624"/>
                  <a:pt x="7461" y="8668"/>
                </a:cubicBezTo>
                <a:cubicBezTo>
                  <a:pt x="7438" y="8702"/>
                  <a:pt x="7430" y="8749"/>
                  <a:pt x="7430" y="8795"/>
                </a:cubicBezTo>
                <a:cubicBezTo>
                  <a:pt x="7482" y="8834"/>
                  <a:pt x="7504" y="8841"/>
                  <a:pt x="7556" y="8795"/>
                </a:cubicBezTo>
                <a:cubicBezTo>
                  <a:pt x="7592" y="8763"/>
                  <a:pt x="7614" y="8697"/>
                  <a:pt x="7556" y="8668"/>
                </a:cubicBezTo>
                <a:cubicBezTo>
                  <a:pt x="7515" y="8647"/>
                  <a:pt x="7469" y="8739"/>
                  <a:pt x="7461" y="8763"/>
                </a:cubicBezTo>
                <a:cubicBezTo>
                  <a:pt x="7461" y="8774"/>
                  <a:pt x="7461" y="8784"/>
                  <a:pt x="7461" y="8795"/>
                </a:cubicBezTo>
                <a:cubicBezTo>
                  <a:pt x="7517" y="8795"/>
                  <a:pt x="7537" y="8789"/>
                  <a:pt x="7556" y="8731"/>
                </a:cubicBezTo>
                <a:cubicBezTo>
                  <a:pt x="7556" y="8721"/>
                  <a:pt x="7556" y="8710"/>
                  <a:pt x="7556" y="8700"/>
                </a:cubicBezTo>
              </a:path>
              <a:path w="5685" h="2890">
                <a:moveTo>
                  <a:pt x="6032" y="8287"/>
                </a:moveTo>
                <a:cubicBezTo>
                  <a:pt x="6032" y="8255"/>
                  <a:pt x="6032" y="8244"/>
                  <a:pt x="6064" y="8255"/>
                </a:cubicBezTo>
                <a:cubicBezTo>
                  <a:pt x="6054" y="8286"/>
                  <a:pt x="6002" y="8338"/>
                  <a:pt x="5969" y="8382"/>
                </a:cubicBezTo>
                <a:cubicBezTo>
                  <a:pt x="5917" y="8451"/>
                  <a:pt x="5881" y="8526"/>
                  <a:pt x="5842" y="8604"/>
                </a:cubicBezTo>
                <a:cubicBezTo>
                  <a:pt x="5803" y="8681"/>
                  <a:pt x="5810" y="8742"/>
                  <a:pt x="5810" y="8826"/>
                </a:cubicBezTo>
                <a:cubicBezTo>
                  <a:pt x="5810" y="8860"/>
                  <a:pt x="5864" y="8917"/>
                  <a:pt x="5874" y="8922"/>
                </a:cubicBezTo>
                <a:cubicBezTo>
                  <a:pt x="5906" y="8922"/>
                  <a:pt x="5916" y="8922"/>
                  <a:pt x="5937" y="8922"/>
                </a:cubicBezTo>
              </a:path>
              <a:path w="5685" h="2890">
                <a:moveTo>
                  <a:pt x="6128" y="8509"/>
                </a:moveTo>
                <a:cubicBezTo>
                  <a:pt x="6128" y="8627"/>
                  <a:pt x="6126" y="8726"/>
                  <a:pt x="6096" y="8826"/>
                </a:cubicBezTo>
                <a:cubicBezTo>
                  <a:pt x="6096" y="8837"/>
                  <a:pt x="6096" y="8847"/>
                  <a:pt x="6096" y="8858"/>
                </a:cubicBezTo>
              </a:path>
              <a:path w="5685" h="2890">
                <a:moveTo>
                  <a:pt x="6255" y="8700"/>
                </a:moveTo>
                <a:cubicBezTo>
                  <a:pt x="6255" y="8772"/>
                  <a:pt x="6243" y="8799"/>
                  <a:pt x="6223" y="8858"/>
                </a:cubicBezTo>
                <a:cubicBezTo>
                  <a:pt x="6215" y="8882"/>
                  <a:pt x="6223" y="8928"/>
                  <a:pt x="6223" y="8954"/>
                </a:cubicBezTo>
              </a:path>
              <a:path w="5685" h="2890">
                <a:moveTo>
                  <a:pt x="6318" y="8541"/>
                </a:moveTo>
                <a:cubicBezTo>
                  <a:pt x="6338" y="8521"/>
                  <a:pt x="6420" y="8440"/>
                  <a:pt x="6445" y="8446"/>
                </a:cubicBezTo>
                <a:cubicBezTo>
                  <a:pt x="6480" y="8454"/>
                  <a:pt x="6535" y="8496"/>
                  <a:pt x="6509" y="8541"/>
                </a:cubicBezTo>
                <a:cubicBezTo>
                  <a:pt x="6486" y="8581"/>
                  <a:pt x="6428" y="8614"/>
                  <a:pt x="6414" y="8636"/>
                </a:cubicBezTo>
                <a:cubicBezTo>
                  <a:pt x="6414" y="8668"/>
                  <a:pt x="6414" y="8679"/>
                  <a:pt x="6382" y="8668"/>
                </a:cubicBezTo>
                <a:cubicBezTo>
                  <a:pt x="6446" y="8620"/>
                  <a:pt x="6449" y="8623"/>
                  <a:pt x="6509" y="8636"/>
                </a:cubicBezTo>
                <a:cubicBezTo>
                  <a:pt x="6558" y="8647"/>
                  <a:pt x="6540" y="8679"/>
                  <a:pt x="6540" y="8731"/>
                </a:cubicBezTo>
                <a:cubicBezTo>
                  <a:pt x="6540" y="8791"/>
                  <a:pt x="6487" y="8805"/>
                  <a:pt x="6477" y="8826"/>
                </a:cubicBezTo>
                <a:cubicBezTo>
                  <a:pt x="6455" y="8870"/>
                  <a:pt x="6444" y="8858"/>
                  <a:pt x="6382" y="8858"/>
                </a:cubicBezTo>
                <a:cubicBezTo>
                  <a:pt x="6326" y="8858"/>
                  <a:pt x="6331" y="8860"/>
                  <a:pt x="6286" y="8826"/>
                </a:cubicBezTo>
              </a:path>
              <a:path w="5685" h="2890">
                <a:moveTo>
                  <a:pt x="6445" y="8255"/>
                </a:moveTo>
                <a:cubicBezTo>
                  <a:pt x="6505" y="8255"/>
                  <a:pt x="6527" y="8247"/>
                  <a:pt x="6572" y="8287"/>
                </a:cubicBezTo>
                <a:cubicBezTo>
                  <a:pt x="6628" y="8336"/>
                  <a:pt x="6614" y="8412"/>
                  <a:pt x="6636" y="8477"/>
                </a:cubicBezTo>
                <a:cubicBezTo>
                  <a:pt x="6675" y="8593"/>
                  <a:pt x="6661" y="8646"/>
                  <a:pt x="6636" y="8763"/>
                </a:cubicBezTo>
                <a:cubicBezTo>
                  <a:pt x="6619" y="8840"/>
                  <a:pt x="6653" y="8882"/>
                  <a:pt x="6604" y="8954"/>
                </a:cubicBezTo>
                <a:cubicBezTo>
                  <a:pt x="6575" y="8982"/>
                  <a:pt x="6564" y="8988"/>
                  <a:pt x="6572" y="9017"/>
                </a:cubicBezTo>
              </a:path>
              <a:path w="5685" h="2890">
                <a:moveTo>
                  <a:pt x="7398" y="8700"/>
                </a:moveTo>
                <a:cubicBezTo>
                  <a:pt x="7642" y="8700"/>
                  <a:pt x="7904" y="8713"/>
                  <a:pt x="8128" y="8668"/>
                </a:cubicBezTo>
                <a:cubicBezTo>
                  <a:pt x="8265" y="8641"/>
                  <a:pt x="8423" y="8707"/>
                  <a:pt x="8541" y="8636"/>
                </a:cubicBezTo>
                <a:cubicBezTo>
                  <a:pt x="8598" y="8659"/>
                  <a:pt x="8654" y="8663"/>
                  <a:pt x="8731" y="8668"/>
                </a:cubicBezTo>
                <a:cubicBezTo>
                  <a:pt x="8886" y="8677"/>
                  <a:pt x="9029" y="8675"/>
                  <a:pt x="9176" y="8700"/>
                </a:cubicBezTo>
                <a:cubicBezTo>
                  <a:pt x="9241" y="8711"/>
                  <a:pt x="9312" y="8720"/>
                  <a:pt x="9366" y="8731"/>
                </a:cubicBezTo>
                <a:cubicBezTo>
                  <a:pt x="9397" y="8737"/>
                  <a:pt x="9431" y="8727"/>
                  <a:pt x="9462" y="8731"/>
                </a:cubicBezTo>
              </a:path>
              <a:path w="5685" h="2890">
                <a:moveTo>
                  <a:pt x="9557" y="8826"/>
                </a:moveTo>
                <a:cubicBezTo>
                  <a:pt x="9567" y="8826"/>
                  <a:pt x="9578" y="8826"/>
                  <a:pt x="9588" y="8826"/>
                </a:cubicBezTo>
                <a:cubicBezTo>
                  <a:pt x="9588" y="8922"/>
                  <a:pt x="9604" y="9001"/>
                  <a:pt x="9620" y="9080"/>
                </a:cubicBezTo>
                <a:cubicBezTo>
                  <a:pt x="9667" y="9314"/>
                  <a:pt x="9607" y="9588"/>
                  <a:pt x="9652" y="9811"/>
                </a:cubicBezTo>
                <a:cubicBezTo>
                  <a:pt x="9694" y="10018"/>
                  <a:pt x="9658" y="10321"/>
                  <a:pt x="9620" y="10509"/>
                </a:cubicBezTo>
                <a:cubicBezTo>
                  <a:pt x="9603" y="10591"/>
                  <a:pt x="9602" y="10692"/>
                  <a:pt x="9588" y="10763"/>
                </a:cubicBezTo>
                <a:cubicBezTo>
                  <a:pt x="9576" y="10821"/>
                  <a:pt x="9588" y="10894"/>
                  <a:pt x="9588" y="10954"/>
                </a:cubicBezTo>
                <a:cubicBezTo>
                  <a:pt x="9571" y="10984"/>
                  <a:pt x="9561" y="10984"/>
                  <a:pt x="9557" y="11049"/>
                </a:cubicBezTo>
                <a:cubicBezTo>
                  <a:pt x="9553" y="11121"/>
                  <a:pt x="9580" y="11098"/>
                  <a:pt x="9525" y="11081"/>
                </a:cubicBezTo>
              </a:path>
              <a:path w="5685" h="2890">
                <a:moveTo>
                  <a:pt x="7302" y="10922"/>
                </a:moveTo>
                <a:cubicBezTo>
                  <a:pt x="7302" y="10933"/>
                  <a:pt x="7302" y="10943"/>
                  <a:pt x="7302" y="10954"/>
                </a:cubicBezTo>
                <a:cubicBezTo>
                  <a:pt x="7349" y="10936"/>
                  <a:pt x="7376" y="10925"/>
                  <a:pt x="7430" y="10922"/>
                </a:cubicBezTo>
                <a:cubicBezTo>
                  <a:pt x="7635" y="10910"/>
                  <a:pt x="7846" y="10925"/>
                  <a:pt x="8033" y="10890"/>
                </a:cubicBezTo>
                <a:cubicBezTo>
                  <a:pt x="8222" y="10854"/>
                  <a:pt x="8466" y="10896"/>
                  <a:pt x="8636" y="10922"/>
                </a:cubicBezTo>
                <a:cubicBezTo>
                  <a:pt x="8712" y="10934"/>
                  <a:pt x="8786" y="10942"/>
                  <a:pt x="8858" y="10954"/>
                </a:cubicBezTo>
                <a:cubicBezTo>
                  <a:pt x="8914" y="10963"/>
                  <a:pt x="8972" y="10977"/>
                  <a:pt x="9017" y="10986"/>
                </a:cubicBezTo>
                <a:cubicBezTo>
                  <a:pt x="9069" y="10997"/>
                  <a:pt x="9133" y="11009"/>
                  <a:pt x="9176" y="11017"/>
                </a:cubicBezTo>
                <a:cubicBezTo>
                  <a:pt x="9226" y="11027"/>
                  <a:pt x="9256" y="11041"/>
                  <a:pt x="9303" y="11049"/>
                </a:cubicBezTo>
                <a:cubicBezTo>
                  <a:pt x="9341" y="11055"/>
                  <a:pt x="9401" y="11088"/>
                  <a:pt x="9430" y="11081"/>
                </a:cubicBezTo>
                <a:cubicBezTo>
                  <a:pt x="9459" y="11074"/>
                  <a:pt x="9405" y="11074"/>
                  <a:pt x="9430" y="11049"/>
                </a:cubicBezTo>
              </a:path>
              <a:path w="5685" h="2890">
                <a:moveTo>
                  <a:pt x="9493" y="11049"/>
                </a:moveTo>
                <a:cubicBezTo>
                  <a:pt x="9462" y="11049"/>
                  <a:pt x="9451" y="11049"/>
                  <a:pt x="9430" y="11049"/>
                </a:cubicBezTo>
                <a:cubicBezTo>
                  <a:pt x="9435" y="11064"/>
                  <a:pt x="9495" y="11119"/>
                  <a:pt x="9525" y="11081"/>
                </a:cubicBezTo>
                <a:cubicBezTo>
                  <a:pt x="9573" y="11021"/>
                  <a:pt x="9435" y="11080"/>
                  <a:pt x="9430" y="11081"/>
                </a:cubicBezTo>
              </a:path>
              <a:path w="5685" h="2890">
                <a:moveTo>
                  <a:pt x="7493" y="8731"/>
                </a:moveTo>
                <a:cubicBezTo>
                  <a:pt x="7493" y="8857"/>
                  <a:pt x="7483" y="8971"/>
                  <a:pt x="7461" y="9080"/>
                </a:cubicBezTo>
                <a:cubicBezTo>
                  <a:pt x="7442" y="9176"/>
                  <a:pt x="7442" y="9313"/>
                  <a:pt x="7430" y="9398"/>
                </a:cubicBezTo>
                <a:cubicBezTo>
                  <a:pt x="7391" y="9666"/>
                  <a:pt x="7436" y="9971"/>
                  <a:pt x="7398" y="10224"/>
                </a:cubicBezTo>
                <a:cubicBezTo>
                  <a:pt x="7362" y="10465"/>
                  <a:pt x="7398" y="10742"/>
                  <a:pt x="7398" y="10986"/>
                </a:cubicBezTo>
              </a:path>
              <a:path w="5685" h="2890">
                <a:moveTo>
                  <a:pt x="7525" y="8731"/>
                </a:moveTo>
                <a:cubicBezTo>
                  <a:pt x="7535" y="8731"/>
                  <a:pt x="7546" y="8731"/>
                  <a:pt x="7556" y="8731"/>
                </a:cubicBezTo>
                <a:cubicBezTo>
                  <a:pt x="7576" y="8757"/>
                  <a:pt x="7568" y="8769"/>
                  <a:pt x="7588" y="8795"/>
                </a:cubicBezTo>
                <a:cubicBezTo>
                  <a:pt x="7628" y="8821"/>
                  <a:pt x="7625" y="8819"/>
                  <a:pt x="7652" y="8858"/>
                </a:cubicBezTo>
                <a:cubicBezTo>
                  <a:pt x="7680" y="8879"/>
                  <a:pt x="7683" y="8874"/>
                  <a:pt x="7715" y="8890"/>
                </a:cubicBezTo>
                <a:cubicBezTo>
                  <a:pt x="7739" y="8972"/>
                  <a:pt x="7737" y="8915"/>
                  <a:pt x="7779" y="8985"/>
                </a:cubicBezTo>
                <a:cubicBezTo>
                  <a:pt x="7779" y="8996"/>
                  <a:pt x="7779" y="9006"/>
                  <a:pt x="7779" y="9017"/>
                </a:cubicBezTo>
                <a:cubicBezTo>
                  <a:pt x="7811" y="9033"/>
                  <a:pt x="7814" y="9028"/>
                  <a:pt x="7842" y="9049"/>
                </a:cubicBezTo>
                <a:cubicBezTo>
                  <a:pt x="7863" y="9083"/>
                  <a:pt x="7884" y="9121"/>
                  <a:pt x="7906" y="9176"/>
                </a:cubicBezTo>
                <a:cubicBezTo>
                  <a:pt x="7924" y="9198"/>
                  <a:pt x="7946" y="9231"/>
                  <a:pt x="7969" y="9271"/>
                </a:cubicBezTo>
                <a:cubicBezTo>
                  <a:pt x="7988" y="9297"/>
                  <a:pt x="7980" y="9293"/>
                  <a:pt x="8001" y="9334"/>
                </a:cubicBezTo>
                <a:cubicBezTo>
                  <a:pt x="8029" y="9355"/>
                  <a:pt x="8032" y="9350"/>
                  <a:pt x="8064" y="9366"/>
                </a:cubicBezTo>
                <a:cubicBezTo>
                  <a:pt x="8083" y="9418"/>
                  <a:pt x="8105" y="9479"/>
                  <a:pt x="8128" y="9525"/>
                </a:cubicBezTo>
                <a:cubicBezTo>
                  <a:pt x="8147" y="9548"/>
                  <a:pt x="8169" y="9577"/>
                  <a:pt x="8192" y="9620"/>
                </a:cubicBezTo>
                <a:cubicBezTo>
                  <a:pt x="8217" y="9668"/>
                  <a:pt x="8261" y="9698"/>
                  <a:pt x="8287" y="9747"/>
                </a:cubicBezTo>
                <a:cubicBezTo>
                  <a:pt x="8287" y="9758"/>
                  <a:pt x="8287" y="9768"/>
                  <a:pt x="8287" y="9779"/>
                </a:cubicBezTo>
                <a:cubicBezTo>
                  <a:pt x="8302" y="9796"/>
                  <a:pt x="8329" y="9848"/>
                  <a:pt x="8350" y="9874"/>
                </a:cubicBezTo>
                <a:cubicBezTo>
                  <a:pt x="8389" y="9921"/>
                  <a:pt x="8420" y="9954"/>
                  <a:pt x="8446" y="10001"/>
                </a:cubicBezTo>
                <a:cubicBezTo>
                  <a:pt x="8474" y="10030"/>
                  <a:pt x="8484" y="10036"/>
                  <a:pt x="8477" y="10065"/>
                </a:cubicBezTo>
                <a:cubicBezTo>
                  <a:pt x="8524" y="10098"/>
                  <a:pt x="8538" y="10103"/>
                  <a:pt x="8572" y="10160"/>
                </a:cubicBezTo>
                <a:cubicBezTo>
                  <a:pt x="8600" y="10207"/>
                  <a:pt x="8645" y="10226"/>
                  <a:pt x="8668" y="10255"/>
                </a:cubicBezTo>
                <a:cubicBezTo>
                  <a:pt x="8697" y="10291"/>
                  <a:pt x="8740" y="10339"/>
                  <a:pt x="8763" y="10382"/>
                </a:cubicBezTo>
                <a:cubicBezTo>
                  <a:pt x="8763" y="10393"/>
                  <a:pt x="8763" y="10403"/>
                  <a:pt x="8763" y="10414"/>
                </a:cubicBezTo>
                <a:cubicBezTo>
                  <a:pt x="8802" y="10441"/>
                  <a:pt x="8800" y="10438"/>
                  <a:pt x="8826" y="10478"/>
                </a:cubicBezTo>
                <a:cubicBezTo>
                  <a:pt x="8851" y="10499"/>
                  <a:pt x="8883" y="10519"/>
                  <a:pt x="8922" y="10541"/>
                </a:cubicBezTo>
                <a:cubicBezTo>
                  <a:pt x="8944" y="10575"/>
                  <a:pt x="8995" y="10627"/>
                  <a:pt x="9017" y="10668"/>
                </a:cubicBezTo>
                <a:cubicBezTo>
                  <a:pt x="9017" y="10679"/>
                  <a:pt x="9017" y="10689"/>
                  <a:pt x="9017" y="10700"/>
                </a:cubicBezTo>
                <a:cubicBezTo>
                  <a:pt x="9045" y="10721"/>
                  <a:pt x="9048" y="10716"/>
                  <a:pt x="9080" y="10732"/>
                </a:cubicBezTo>
                <a:cubicBezTo>
                  <a:pt x="9107" y="10775"/>
                  <a:pt x="9135" y="10814"/>
                  <a:pt x="9176" y="10858"/>
                </a:cubicBezTo>
                <a:cubicBezTo>
                  <a:pt x="9218" y="10902"/>
                  <a:pt x="9244" y="10943"/>
                  <a:pt x="9271" y="10986"/>
                </a:cubicBezTo>
                <a:cubicBezTo>
                  <a:pt x="9312" y="11006"/>
                  <a:pt x="9294" y="10997"/>
                  <a:pt x="9334" y="11017"/>
                </a:cubicBezTo>
                <a:cubicBezTo>
                  <a:pt x="9355" y="11038"/>
                  <a:pt x="9377" y="11060"/>
                  <a:pt x="9398" y="11081"/>
                </a:cubicBezTo>
              </a:path>
              <a:path w="5685" h="2890">
                <a:moveTo>
                  <a:pt x="7366" y="10922"/>
                </a:moveTo>
                <a:cubicBezTo>
                  <a:pt x="7377" y="10922"/>
                  <a:pt x="7387" y="10922"/>
                  <a:pt x="7398" y="10922"/>
                </a:cubicBezTo>
                <a:cubicBezTo>
                  <a:pt x="7409" y="10901"/>
                  <a:pt x="7429" y="10860"/>
                  <a:pt x="7430" y="10858"/>
                </a:cubicBezTo>
                <a:cubicBezTo>
                  <a:pt x="7443" y="10828"/>
                  <a:pt x="7448" y="10793"/>
                  <a:pt x="7461" y="10763"/>
                </a:cubicBezTo>
                <a:cubicBezTo>
                  <a:pt x="7482" y="10739"/>
                  <a:pt x="7501" y="10710"/>
                  <a:pt x="7525" y="10668"/>
                </a:cubicBezTo>
                <a:cubicBezTo>
                  <a:pt x="7564" y="10648"/>
                  <a:pt x="7548" y="10656"/>
                  <a:pt x="7588" y="10636"/>
                </a:cubicBezTo>
                <a:cubicBezTo>
                  <a:pt x="7610" y="10601"/>
                  <a:pt x="7661" y="10550"/>
                  <a:pt x="7684" y="10509"/>
                </a:cubicBezTo>
                <a:cubicBezTo>
                  <a:pt x="7684" y="10499"/>
                  <a:pt x="7684" y="10488"/>
                  <a:pt x="7684" y="10478"/>
                </a:cubicBezTo>
                <a:cubicBezTo>
                  <a:pt x="7723" y="10458"/>
                  <a:pt x="7707" y="10466"/>
                  <a:pt x="7747" y="10446"/>
                </a:cubicBezTo>
                <a:cubicBezTo>
                  <a:pt x="7773" y="10407"/>
                  <a:pt x="7772" y="10408"/>
                  <a:pt x="7810" y="10382"/>
                </a:cubicBezTo>
                <a:cubicBezTo>
                  <a:pt x="7837" y="10343"/>
                  <a:pt x="7834" y="10345"/>
                  <a:pt x="7874" y="10319"/>
                </a:cubicBezTo>
                <a:cubicBezTo>
                  <a:pt x="7896" y="10289"/>
                  <a:pt x="7894" y="10258"/>
                  <a:pt x="7938" y="10224"/>
                </a:cubicBezTo>
                <a:cubicBezTo>
                  <a:pt x="7948" y="10224"/>
                  <a:pt x="7959" y="10224"/>
                  <a:pt x="7969" y="10224"/>
                </a:cubicBezTo>
                <a:cubicBezTo>
                  <a:pt x="7995" y="10184"/>
                  <a:pt x="7993" y="10186"/>
                  <a:pt x="8033" y="10160"/>
                </a:cubicBezTo>
                <a:cubicBezTo>
                  <a:pt x="8059" y="10120"/>
                  <a:pt x="8057" y="10123"/>
                  <a:pt x="8096" y="10096"/>
                </a:cubicBezTo>
                <a:cubicBezTo>
                  <a:pt x="8129" y="10051"/>
                  <a:pt x="8147" y="10033"/>
                  <a:pt x="8192" y="10001"/>
                </a:cubicBezTo>
                <a:cubicBezTo>
                  <a:pt x="8226" y="9953"/>
                  <a:pt x="8239" y="9949"/>
                  <a:pt x="8287" y="9906"/>
                </a:cubicBezTo>
                <a:cubicBezTo>
                  <a:pt x="8326" y="9871"/>
                  <a:pt x="8383" y="9837"/>
                  <a:pt x="8414" y="9811"/>
                </a:cubicBezTo>
                <a:cubicBezTo>
                  <a:pt x="8456" y="9776"/>
                  <a:pt x="8509" y="9753"/>
                  <a:pt x="8541" y="9716"/>
                </a:cubicBezTo>
                <a:cubicBezTo>
                  <a:pt x="8580" y="9671"/>
                  <a:pt x="8598" y="9653"/>
                  <a:pt x="8636" y="9620"/>
                </a:cubicBezTo>
                <a:cubicBezTo>
                  <a:pt x="8708" y="9557"/>
                  <a:pt x="8760" y="9455"/>
                  <a:pt x="8826" y="9398"/>
                </a:cubicBezTo>
                <a:cubicBezTo>
                  <a:pt x="8865" y="9364"/>
                  <a:pt x="8938" y="9365"/>
                  <a:pt x="8985" y="9334"/>
                </a:cubicBezTo>
                <a:cubicBezTo>
                  <a:pt x="9056" y="9287"/>
                  <a:pt x="9091" y="9205"/>
                  <a:pt x="9144" y="9144"/>
                </a:cubicBezTo>
                <a:cubicBezTo>
                  <a:pt x="9170" y="9114"/>
                  <a:pt x="9231" y="9084"/>
                  <a:pt x="9271" y="9049"/>
                </a:cubicBezTo>
                <a:cubicBezTo>
                  <a:pt x="9327" y="8999"/>
                  <a:pt x="9364" y="8944"/>
                  <a:pt x="9398" y="8890"/>
                </a:cubicBezTo>
                <a:cubicBezTo>
                  <a:pt x="9438" y="8865"/>
                  <a:pt x="9480" y="8825"/>
                  <a:pt x="9525" y="8795"/>
                </a:cubicBezTo>
                <a:cubicBezTo>
                  <a:pt x="9554" y="8766"/>
                  <a:pt x="9560" y="8756"/>
                  <a:pt x="9588" y="8763"/>
                </a:cubicBezTo>
              </a:path>
              <a:path w="5685" h="2890">
                <a:moveTo>
                  <a:pt x="8128" y="10033"/>
                </a:moveTo>
                <a:cubicBezTo>
                  <a:pt x="8096" y="10033"/>
                  <a:pt x="8085" y="10033"/>
                  <a:pt x="8096" y="10065"/>
                </a:cubicBezTo>
                <a:cubicBezTo>
                  <a:pt x="8112" y="10112"/>
                  <a:pt x="8125" y="10102"/>
                  <a:pt x="8160" y="10128"/>
                </a:cubicBezTo>
                <a:cubicBezTo>
                  <a:pt x="8238" y="10186"/>
                  <a:pt x="8236" y="10158"/>
                  <a:pt x="8318" y="10192"/>
                </a:cubicBezTo>
                <a:cubicBezTo>
                  <a:pt x="8378" y="10217"/>
                  <a:pt x="8400" y="10224"/>
                  <a:pt x="8477" y="10224"/>
                </a:cubicBezTo>
                <a:cubicBezTo>
                  <a:pt x="8524" y="10224"/>
                  <a:pt x="8570" y="10215"/>
                  <a:pt x="8604" y="10192"/>
                </a:cubicBezTo>
                <a:cubicBezTo>
                  <a:pt x="8622" y="10180"/>
                  <a:pt x="8691" y="10113"/>
                  <a:pt x="8700" y="10096"/>
                </a:cubicBezTo>
                <a:cubicBezTo>
                  <a:pt x="8720" y="10056"/>
                  <a:pt x="8751" y="9986"/>
                  <a:pt x="8763" y="9938"/>
                </a:cubicBezTo>
                <a:cubicBezTo>
                  <a:pt x="8774" y="9893"/>
                  <a:pt x="8790" y="9853"/>
                  <a:pt x="8795" y="9811"/>
                </a:cubicBezTo>
                <a:cubicBezTo>
                  <a:pt x="8800" y="9763"/>
                  <a:pt x="8763" y="9713"/>
                  <a:pt x="8763" y="9652"/>
                </a:cubicBezTo>
                <a:cubicBezTo>
                  <a:pt x="8763" y="9612"/>
                  <a:pt x="8708" y="9543"/>
                  <a:pt x="8668" y="9525"/>
                </a:cubicBezTo>
                <a:cubicBezTo>
                  <a:pt x="8594" y="9492"/>
                  <a:pt x="8568" y="9437"/>
                  <a:pt x="8509" y="9398"/>
                </a:cubicBezTo>
                <a:cubicBezTo>
                  <a:pt x="8421" y="9339"/>
                  <a:pt x="8298" y="9433"/>
                  <a:pt x="8255" y="9462"/>
                </a:cubicBezTo>
                <a:cubicBezTo>
                  <a:pt x="8216" y="9488"/>
                  <a:pt x="8168" y="9489"/>
                  <a:pt x="8128" y="9525"/>
                </a:cubicBezTo>
                <a:cubicBezTo>
                  <a:pt x="8077" y="9571"/>
                  <a:pt x="8049" y="9616"/>
                  <a:pt x="8033" y="9684"/>
                </a:cubicBezTo>
                <a:cubicBezTo>
                  <a:pt x="8017" y="9750"/>
                  <a:pt x="7969" y="9766"/>
                  <a:pt x="7969" y="9842"/>
                </a:cubicBezTo>
                <a:cubicBezTo>
                  <a:pt x="7969" y="9863"/>
                  <a:pt x="7916" y="9983"/>
                  <a:pt x="7938" y="10001"/>
                </a:cubicBezTo>
                <a:cubicBezTo>
                  <a:pt x="7973" y="10029"/>
                  <a:pt x="7959" y="10049"/>
                  <a:pt x="8001" y="10096"/>
                </a:cubicBezTo>
                <a:cubicBezTo>
                  <a:pt x="8035" y="10134"/>
                  <a:pt x="8084" y="10177"/>
                  <a:pt x="8128" y="10192"/>
                </a:cubicBezTo>
                <a:cubicBezTo>
                  <a:pt x="8184" y="10211"/>
                  <a:pt x="8219" y="10224"/>
                  <a:pt x="8287" y="10224"/>
                </a:cubicBezTo>
                <a:cubicBezTo>
                  <a:pt x="8338" y="10224"/>
                  <a:pt x="8323" y="10173"/>
                  <a:pt x="8350" y="10160"/>
                </a:cubicBezTo>
                <a:cubicBezTo>
                  <a:pt x="8361" y="10160"/>
                  <a:pt x="8371" y="10160"/>
                  <a:pt x="8382" y="10160"/>
                </a:cubicBezTo>
              </a:path>
              <a:path w="5685" h="2890">
                <a:moveTo>
                  <a:pt x="8350" y="9811"/>
                </a:moveTo>
                <a:cubicBezTo>
                  <a:pt x="8390" y="9840"/>
                  <a:pt x="8427" y="9849"/>
                  <a:pt x="8446" y="9811"/>
                </a:cubicBezTo>
                <a:cubicBezTo>
                  <a:pt x="8462" y="9779"/>
                  <a:pt x="8400" y="9753"/>
                  <a:pt x="8382" y="9747"/>
                </a:cubicBezTo>
                <a:cubicBezTo>
                  <a:pt x="8382" y="9779"/>
                  <a:pt x="8382" y="9790"/>
                  <a:pt x="8382" y="9811"/>
                </a:cubicBezTo>
                <a:cubicBezTo>
                  <a:pt x="8445" y="9795"/>
                  <a:pt x="8446" y="9781"/>
                  <a:pt x="8446" y="9716"/>
                </a:cubicBezTo>
                <a:cubicBezTo>
                  <a:pt x="8446" y="9648"/>
                  <a:pt x="8380" y="9690"/>
                  <a:pt x="8350" y="9716"/>
                </a:cubicBezTo>
                <a:cubicBezTo>
                  <a:pt x="8321" y="9744"/>
                  <a:pt x="8310" y="9750"/>
                  <a:pt x="8318" y="9779"/>
                </a:cubicBezTo>
                <a:cubicBezTo>
                  <a:pt x="8379" y="9779"/>
                  <a:pt x="8429" y="9798"/>
                  <a:pt x="8446" y="97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Ink 6"/>
          <p:cNvSpPr/>
          <p:nvPr/>
        </p:nvSpPr>
        <p:spPr>
          <a:xfrm>
            <a:off x="4811760" y="2435400"/>
            <a:ext cx="2252520" cy="1417320"/>
          </a:xfrm>
          <a:custGeom>
            <a:avLst/>
            <a:gdLst/>
            <a:ahLst/>
            <a:rect l="l" t="t" r="r" b="b"/>
            <a:pathLst>
              <a:path w="6256" h="3938">
                <a:moveTo>
                  <a:pt x="13367" y="7271"/>
                </a:moveTo>
                <a:cubicBezTo>
                  <a:pt x="13367" y="7580"/>
                  <a:pt x="13358" y="7890"/>
                  <a:pt x="13398" y="8192"/>
                </a:cubicBezTo>
                <a:cubicBezTo>
                  <a:pt x="13405" y="8243"/>
                  <a:pt x="13398" y="8299"/>
                  <a:pt x="13398" y="8350"/>
                </a:cubicBezTo>
                <a:cubicBezTo>
                  <a:pt x="13398" y="8135"/>
                  <a:pt x="13412" y="7926"/>
                  <a:pt x="13430" y="7715"/>
                </a:cubicBezTo>
                <a:cubicBezTo>
                  <a:pt x="13444" y="7545"/>
                  <a:pt x="13464" y="7296"/>
                  <a:pt x="13557" y="7144"/>
                </a:cubicBezTo>
                <a:cubicBezTo>
                  <a:pt x="13606" y="7063"/>
                  <a:pt x="13684" y="6992"/>
                  <a:pt x="13748" y="6922"/>
                </a:cubicBezTo>
                <a:cubicBezTo>
                  <a:pt x="13850" y="6956"/>
                  <a:pt x="13871" y="6977"/>
                  <a:pt x="13938" y="7080"/>
                </a:cubicBezTo>
                <a:cubicBezTo>
                  <a:pt x="14035" y="7228"/>
                  <a:pt x="14108" y="7442"/>
                  <a:pt x="14129" y="7620"/>
                </a:cubicBezTo>
                <a:cubicBezTo>
                  <a:pt x="14141" y="7727"/>
                  <a:pt x="14131" y="7865"/>
                  <a:pt x="14160" y="7969"/>
                </a:cubicBezTo>
                <a:cubicBezTo>
                  <a:pt x="14189" y="7998"/>
                  <a:pt x="14200" y="8004"/>
                  <a:pt x="14192" y="8033"/>
                </a:cubicBezTo>
                <a:cubicBezTo>
                  <a:pt x="14221" y="7957"/>
                  <a:pt x="14224" y="7904"/>
                  <a:pt x="14224" y="7810"/>
                </a:cubicBezTo>
                <a:cubicBezTo>
                  <a:pt x="14224" y="7651"/>
                  <a:pt x="14230" y="7489"/>
                  <a:pt x="14256" y="7334"/>
                </a:cubicBezTo>
                <a:cubicBezTo>
                  <a:pt x="14283" y="7171"/>
                  <a:pt x="14341" y="6982"/>
                  <a:pt x="14446" y="6858"/>
                </a:cubicBezTo>
                <a:cubicBezTo>
                  <a:pt x="14457" y="6847"/>
                  <a:pt x="14467" y="6837"/>
                  <a:pt x="14478" y="6826"/>
                </a:cubicBezTo>
                <a:cubicBezTo>
                  <a:pt x="14563" y="6850"/>
                  <a:pt x="14558" y="6859"/>
                  <a:pt x="14605" y="6953"/>
                </a:cubicBezTo>
                <a:cubicBezTo>
                  <a:pt x="14693" y="7129"/>
                  <a:pt x="14701" y="7306"/>
                  <a:pt x="14732" y="7493"/>
                </a:cubicBezTo>
                <a:cubicBezTo>
                  <a:pt x="14760" y="7659"/>
                  <a:pt x="14792" y="7839"/>
                  <a:pt x="14827" y="8001"/>
                </a:cubicBezTo>
                <a:cubicBezTo>
                  <a:pt x="14842" y="8069"/>
                  <a:pt x="14872" y="8244"/>
                  <a:pt x="14922" y="8287"/>
                </a:cubicBezTo>
                <a:cubicBezTo>
                  <a:pt x="14954" y="8318"/>
                  <a:pt x="14965" y="8328"/>
                  <a:pt x="14986" y="8287"/>
                </a:cubicBezTo>
              </a:path>
              <a:path w="6256" h="3938">
                <a:moveTo>
                  <a:pt x="15240" y="7493"/>
                </a:moveTo>
                <a:cubicBezTo>
                  <a:pt x="15240" y="7587"/>
                  <a:pt x="15269" y="7653"/>
                  <a:pt x="15272" y="7747"/>
                </a:cubicBezTo>
                <a:cubicBezTo>
                  <a:pt x="15276" y="7872"/>
                  <a:pt x="15277" y="8038"/>
                  <a:pt x="15304" y="8160"/>
                </a:cubicBezTo>
                <a:cubicBezTo>
                  <a:pt x="15317" y="8216"/>
                  <a:pt x="15361" y="8249"/>
                  <a:pt x="15399" y="8287"/>
                </a:cubicBezTo>
              </a:path>
              <a:path w="6256" h="3938">
                <a:moveTo>
                  <a:pt x="16129" y="6763"/>
                </a:moveTo>
                <a:cubicBezTo>
                  <a:pt x="16208" y="6782"/>
                  <a:pt x="16243" y="6870"/>
                  <a:pt x="16256" y="6953"/>
                </a:cubicBezTo>
                <a:cubicBezTo>
                  <a:pt x="16279" y="7099"/>
                  <a:pt x="16261" y="7252"/>
                  <a:pt x="16288" y="7398"/>
                </a:cubicBezTo>
                <a:cubicBezTo>
                  <a:pt x="16311" y="7521"/>
                  <a:pt x="16317" y="7662"/>
                  <a:pt x="16351" y="7779"/>
                </a:cubicBezTo>
                <a:cubicBezTo>
                  <a:pt x="16362" y="7816"/>
                  <a:pt x="16374" y="7837"/>
                  <a:pt x="16383" y="7874"/>
                </a:cubicBezTo>
                <a:cubicBezTo>
                  <a:pt x="16367" y="7792"/>
                  <a:pt x="16351" y="7701"/>
                  <a:pt x="16320" y="7620"/>
                </a:cubicBezTo>
                <a:cubicBezTo>
                  <a:pt x="16284" y="7525"/>
                  <a:pt x="16257" y="7485"/>
                  <a:pt x="16161" y="7461"/>
                </a:cubicBezTo>
                <a:cubicBezTo>
                  <a:pt x="16063" y="7436"/>
                  <a:pt x="15995" y="7479"/>
                  <a:pt x="15938" y="7556"/>
                </a:cubicBezTo>
                <a:cubicBezTo>
                  <a:pt x="15850" y="7674"/>
                  <a:pt x="15790" y="7826"/>
                  <a:pt x="15780" y="7969"/>
                </a:cubicBezTo>
                <a:cubicBezTo>
                  <a:pt x="15773" y="8071"/>
                  <a:pt x="15808" y="8149"/>
                  <a:pt x="15875" y="8223"/>
                </a:cubicBezTo>
                <a:cubicBezTo>
                  <a:pt x="15931" y="8285"/>
                  <a:pt x="16032" y="8260"/>
                  <a:pt x="16097" y="8223"/>
                </a:cubicBezTo>
                <a:cubicBezTo>
                  <a:pt x="16186" y="8173"/>
                  <a:pt x="16248" y="8104"/>
                  <a:pt x="16320" y="8033"/>
                </a:cubicBezTo>
              </a:path>
              <a:path w="6256" h="3938">
                <a:moveTo>
                  <a:pt x="16637" y="7398"/>
                </a:moveTo>
                <a:cubicBezTo>
                  <a:pt x="16637" y="7603"/>
                  <a:pt x="16652" y="7800"/>
                  <a:pt x="16669" y="8001"/>
                </a:cubicBezTo>
                <a:cubicBezTo>
                  <a:pt x="16682" y="8147"/>
                  <a:pt x="16701" y="8303"/>
                  <a:pt x="16732" y="8446"/>
                </a:cubicBezTo>
                <a:cubicBezTo>
                  <a:pt x="16757" y="8562"/>
                  <a:pt x="16796" y="8643"/>
                  <a:pt x="16796" y="8763"/>
                </a:cubicBezTo>
                <a:cubicBezTo>
                  <a:pt x="16874" y="8815"/>
                  <a:pt x="16798" y="8703"/>
                  <a:pt x="16796" y="8636"/>
                </a:cubicBezTo>
                <a:cubicBezTo>
                  <a:pt x="16790" y="8473"/>
                  <a:pt x="16748" y="8322"/>
                  <a:pt x="16732" y="8160"/>
                </a:cubicBezTo>
                <a:cubicBezTo>
                  <a:pt x="16718" y="8020"/>
                  <a:pt x="16700" y="7889"/>
                  <a:pt x="16700" y="7747"/>
                </a:cubicBezTo>
                <a:cubicBezTo>
                  <a:pt x="16700" y="7656"/>
                  <a:pt x="16670" y="7530"/>
                  <a:pt x="16732" y="7461"/>
                </a:cubicBezTo>
                <a:cubicBezTo>
                  <a:pt x="16772" y="7416"/>
                  <a:pt x="16822" y="7369"/>
                  <a:pt x="16891" y="7398"/>
                </a:cubicBezTo>
                <a:cubicBezTo>
                  <a:pt x="16971" y="7431"/>
                  <a:pt x="17031" y="7494"/>
                  <a:pt x="17082" y="7556"/>
                </a:cubicBezTo>
                <a:cubicBezTo>
                  <a:pt x="17141" y="7628"/>
                  <a:pt x="17196" y="7711"/>
                  <a:pt x="17177" y="7810"/>
                </a:cubicBezTo>
                <a:cubicBezTo>
                  <a:pt x="17158" y="7910"/>
                  <a:pt x="17070" y="7987"/>
                  <a:pt x="17018" y="8064"/>
                </a:cubicBezTo>
                <a:cubicBezTo>
                  <a:pt x="16958" y="8153"/>
                  <a:pt x="16937" y="8160"/>
                  <a:pt x="16828" y="8160"/>
                </a:cubicBezTo>
                <a:cubicBezTo>
                  <a:pt x="16760" y="8160"/>
                  <a:pt x="16764" y="8118"/>
                  <a:pt x="16764" y="8064"/>
                </a:cubicBezTo>
              </a:path>
              <a:path w="6256" h="3938">
                <a:moveTo>
                  <a:pt x="17590" y="7366"/>
                </a:moveTo>
                <a:cubicBezTo>
                  <a:pt x="17590" y="7334"/>
                  <a:pt x="17590" y="7324"/>
                  <a:pt x="17621" y="7334"/>
                </a:cubicBezTo>
                <a:cubicBezTo>
                  <a:pt x="17558" y="7350"/>
                  <a:pt x="17466" y="7432"/>
                  <a:pt x="17431" y="7493"/>
                </a:cubicBezTo>
                <a:cubicBezTo>
                  <a:pt x="17362" y="7614"/>
                  <a:pt x="17310" y="7734"/>
                  <a:pt x="17304" y="7874"/>
                </a:cubicBezTo>
                <a:cubicBezTo>
                  <a:pt x="17301" y="7942"/>
                  <a:pt x="17282" y="8052"/>
                  <a:pt x="17367" y="8064"/>
                </a:cubicBezTo>
                <a:cubicBezTo>
                  <a:pt x="17454" y="8076"/>
                  <a:pt x="17531" y="7994"/>
                  <a:pt x="17590" y="7938"/>
                </a:cubicBezTo>
                <a:cubicBezTo>
                  <a:pt x="17683" y="7850"/>
                  <a:pt x="17711" y="7742"/>
                  <a:pt x="17716" y="7620"/>
                </a:cubicBezTo>
                <a:cubicBezTo>
                  <a:pt x="17720" y="7515"/>
                  <a:pt x="17690" y="7443"/>
                  <a:pt x="17621" y="7366"/>
                </a:cubicBezTo>
                <a:cubicBezTo>
                  <a:pt x="17585" y="7326"/>
                  <a:pt x="17575" y="7334"/>
                  <a:pt x="17526" y="7334"/>
                </a:cubicBezTo>
              </a:path>
              <a:path w="6256" h="3938">
                <a:moveTo>
                  <a:pt x="18002" y="7271"/>
                </a:moveTo>
                <a:cubicBezTo>
                  <a:pt x="18017" y="7360"/>
                  <a:pt x="18034" y="7433"/>
                  <a:pt x="18034" y="7525"/>
                </a:cubicBezTo>
                <a:cubicBezTo>
                  <a:pt x="18034" y="7661"/>
                  <a:pt x="18048" y="7776"/>
                  <a:pt x="18066" y="7906"/>
                </a:cubicBezTo>
                <a:cubicBezTo>
                  <a:pt x="18077" y="7987"/>
                  <a:pt x="18041" y="8059"/>
                  <a:pt x="18098" y="8096"/>
                </a:cubicBezTo>
              </a:path>
              <a:path w="6256" h="3938">
                <a:moveTo>
                  <a:pt x="18320" y="7302"/>
                </a:moveTo>
                <a:cubicBezTo>
                  <a:pt x="18359" y="7445"/>
                  <a:pt x="18336" y="7510"/>
                  <a:pt x="18320" y="7652"/>
                </a:cubicBezTo>
                <a:cubicBezTo>
                  <a:pt x="18308" y="7759"/>
                  <a:pt x="18352" y="7859"/>
                  <a:pt x="18352" y="7969"/>
                </a:cubicBezTo>
                <a:cubicBezTo>
                  <a:pt x="18352" y="8001"/>
                  <a:pt x="18352" y="8012"/>
                  <a:pt x="18352" y="8033"/>
                </a:cubicBezTo>
                <a:cubicBezTo>
                  <a:pt x="18415" y="8011"/>
                  <a:pt x="18383" y="7883"/>
                  <a:pt x="18383" y="7810"/>
                </a:cubicBezTo>
                <a:cubicBezTo>
                  <a:pt x="18383" y="7688"/>
                  <a:pt x="18406" y="7545"/>
                  <a:pt x="18447" y="7430"/>
                </a:cubicBezTo>
                <a:cubicBezTo>
                  <a:pt x="18476" y="7348"/>
                  <a:pt x="18552" y="7274"/>
                  <a:pt x="18606" y="7207"/>
                </a:cubicBezTo>
                <a:cubicBezTo>
                  <a:pt x="18702" y="7207"/>
                  <a:pt x="18740" y="7226"/>
                  <a:pt x="18764" y="7334"/>
                </a:cubicBezTo>
                <a:cubicBezTo>
                  <a:pt x="18791" y="7455"/>
                  <a:pt x="18815" y="7593"/>
                  <a:pt x="18828" y="7715"/>
                </a:cubicBezTo>
                <a:cubicBezTo>
                  <a:pt x="18842" y="7848"/>
                  <a:pt x="18863" y="7901"/>
                  <a:pt x="18955" y="8001"/>
                </a:cubicBezTo>
                <a:cubicBezTo>
                  <a:pt x="19012" y="8063"/>
                  <a:pt x="19080" y="8032"/>
                  <a:pt x="19145" y="8001"/>
                </a:cubicBezTo>
                <a:cubicBezTo>
                  <a:pt x="19232" y="7960"/>
                  <a:pt x="19255" y="7863"/>
                  <a:pt x="19304" y="7779"/>
                </a:cubicBezTo>
              </a:path>
              <a:path w="6256" h="3938">
                <a:moveTo>
                  <a:pt x="19494" y="6858"/>
                </a:moveTo>
                <a:cubicBezTo>
                  <a:pt x="19507" y="6977"/>
                  <a:pt x="19526" y="7083"/>
                  <a:pt x="19526" y="7207"/>
                </a:cubicBezTo>
                <a:cubicBezTo>
                  <a:pt x="19526" y="7371"/>
                  <a:pt x="19553" y="7521"/>
                  <a:pt x="19558" y="7684"/>
                </a:cubicBezTo>
                <a:cubicBezTo>
                  <a:pt x="19561" y="7767"/>
                  <a:pt x="19560" y="7924"/>
                  <a:pt x="19590" y="8001"/>
                </a:cubicBezTo>
                <a:cubicBezTo>
                  <a:pt x="19601" y="8012"/>
                  <a:pt x="19611" y="8022"/>
                  <a:pt x="19622" y="8033"/>
                </a:cubicBezTo>
              </a:path>
              <a:path w="6256" h="3938">
                <a:moveTo>
                  <a:pt x="19304" y="7620"/>
                </a:moveTo>
                <a:cubicBezTo>
                  <a:pt x="19336" y="7620"/>
                  <a:pt x="19347" y="7620"/>
                  <a:pt x="19368" y="7620"/>
                </a:cubicBezTo>
              </a:path>
              <a:path w="6256" h="3938">
                <a:moveTo>
                  <a:pt x="14542" y="8985"/>
                </a:moveTo>
                <a:cubicBezTo>
                  <a:pt x="14521" y="9006"/>
                  <a:pt x="14483" y="9043"/>
                  <a:pt x="14446" y="9080"/>
                </a:cubicBezTo>
                <a:cubicBezTo>
                  <a:pt x="14396" y="9131"/>
                  <a:pt x="14306" y="9228"/>
                  <a:pt x="14256" y="9303"/>
                </a:cubicBezTo>
                <a:cubicBezTo>
                  <a:pt x="14194" y="9396"/>
                  <a:pt x="14136" y="9482"/>
                  <a:pt x="14097" y="9588"/>
                </a:cubicBezTo>
                <a:cubicBezTo>
                  <a:pt x="14052" y="9709"/>
                  <a:pt x="14016" y="9844"/>
                  <a:pt x="14002" y="9970"/>
                </a:cubicBezTo>
                <a:cubicBezTo>
                  <a:pt x="13981" y="10157"/>
                  <a:pt x="14000" y="10374"/>
                  <a:pt x="14034" y="10541"/>
                </a:cubicBezTo>
                <a:cubicBezTo>
                  <a:pt x="14055" y="10643"/>
                  <a:pt x="14039" y="10587"/>
                  <a:pt x="14097" y="10636"/>
                </a:cubicBezTo>
              </a:path>
              <a:path w="6256" h="3938">
                <a:moveTo>
                  <a:pt x="14383" y="9684"/>
                </a:moveTo>
                <a:cubicBezTo>
                  <a:pt x="14292" y="9684"/>
                  <a:pt x="14438" y="9689"/>
                  <a:pt x="14446" y="9684"/>
                </a:cubicBezTo>
                <a:cubicBezTo>
                  <a:pt x="14497" y="9656"/>
                  <a:pt x="14549" y="9643"/>
                  <a:pt x="14605" y="9620"/>
                </a:cubicBezTo>
                <a:cubicBezTo>
                  <a:pt x="14645" y="9604"/>
                  <a:pt x="14754" y="9540"/>
                  <a:pt x="14796" y="9557"/>
                </a:cubicBezTo>
                <a:cubicBezTo>
                  <a:pt x="14834" y="9572"/>
                  <a:pt x="14839" y="9650"/>
                  <a:pt x="14827" y="9684"/>
                </a:cubicBezTo>
                <a:cubicBezTo>
                  <a:pt x="14793" y="9782"/>
                  <a:pt x="14748" y="9869"/>
                  <a:pt x="14732" y="9970"/>
                </a:cubicBezTo>
                <a:cubicBezTo>
                  <a:pt x="14718" y="10059"/>
                  <a:pt x="14700" y="10130"/>
                  <a:pt x="14700" y="10224"/>
                </a:cubicBezTo>
                <a:cubicBezTo>
                  <a:pt x="14700" y="10299"/>
                  <a:pt x="14668" y="10334"/>
                  <a:pt x="14668" y="10414"/>
                </a:cubicBezTo>
                <a:cubicBezTo>
                  <a:pt x="14668" y="10446"/>
                  <a:pt x="14668" y="10457"/>
                  <a:pt x="14668" y="10414"/>
                </a:cubicBezTo>
              </a:path>
              <a:path w="6256" h="3938">
                <a:moveTo>
                  <a:pt x="15050" y="10033"/>
                </a:moveTo>
                <a:cubicBezTo>
                  <a:pt x="15050" y="10168"/>
                  <a:pt x="15039" y="10288"/>
                  <a:pt x="15018" y="10414"/>
                </a:cubicBezTo>
                <a:cubicBezTo>
                  <a:pt x="15007" y="10481"/>
                  <a:pt x="15012" y="10548"/>
                  <a:pt x="15050" y="10573"/>
                </a:cubicBezTo>
              </a:path>
              <a:path w="6256" h="3938">
                <a:moveTo>
                  <a:pt x="15335" y="9525"/>
                </a:moveTo>
                <a:cubicBezTo>
                  <a:pt x="15369" y="9499"/>
                  <a:pt x="15416" y="9481"/>
                  <a:pt x="15430" y="9462"/>
                </a:cubicBezTo>
                <a:cubicBezTo>
                  <a:pt x="15449" y="9436"/>
                  <a:pt x="15504" y="9341"/>
                  <a:pt x="15558" y="9366"/>
                </a:cubicBezTo>
                <a:cubicBezTo>
                  <a:pt x="15614" y="9391"/>
                  <a:pt x="15648" y="9425"/>
                  <a:pt x="15653" y="9493"/>
                </a:cubicBezTo>
                <a:cubicBezTo>
                  <a:pt x="15659" y="9576"/>
                  <a:pt x="15605" y="9679"/>
                  <a:pt x="15558" y="9747"/>
                </a:cubicBezTo>
                <a:cubicBezTo>
                  <a:pt x="15534" y="9782"/>
                  <a:pt x="15475" y="9823"/>
                  <a:pt x="15462" y="9842"/>
                </a:cubicBezTo>
                <a:cubicBezTo>
                  <a:pt x="15462" y="9853"/>
                  <a:pt x="15462" y="9863"/>
                  <a:pt x="15462" y="9874"/>
                </a:cubicBezTo>
                <a:cubicBezTo>
                  <a:pt x="15498" y="9838"/>
                  <a:pt x="15544" y="9794"/>
                  <a:pt x="15589" y="9779"/>
                </a:cubicBezTo>
                <a:cubicBezTo>
                  <a:pt x="15648" y="9759"/>
                  <a:pt x="15692" y="9844"/>
                  <a:pt x="15716" y="9874"/>
                </a:cubicBezTo>
                <a:cubicBezTo>
                  <a:pt x="15748" y="9913"/>
                  <a:pt x="15771" y="9990"/>
                  <a:pt x="15780" y="10033"/>
                </a:cubicBezTo>
                <a:cubicBezTo>
                  <a:pt x="15794" y="10102"/>
                  <a:pt x="15784" y="10197"/>
                  <a:pt x="15748" y="10255"/>
                </a:cubicBezTo>
                <a:cubicBezTo>
                  <a:pt x="15709" y="10318"/>
                  <a:pt x="15671" y="10349"/>
                  <a:pt x="15621" y="10382"/>
                </a:cubicBezTo>
                <a:cubicBezTo>
                  <a:pt x="15587" y="10405"/>
                  <a:pt x="15562" y="10406"/>
                  <a:pt x="15558" y="10350"/>
                </a:cubicBezTo>
                <a:cubicBezTo>
                  <a:pt x="15558" y="10329"/>
                  <a:pt x="15558" y="10308"/>
                  <a:pt x="15558" y="10287"/>
                </a:cubicBezTo>
              </a:path>
              <a:path w="6256" h="3938">
                <a:moveTo>
                  <a:pt x="15907" y="9080"/>
                </a:moveTo>
                <a:cubicBezTo>
                  <a:pt x="15954" y="9104"/>
                  <a:pt x="15988" y="9162"/>
                  <a:pt x="16034" y="9208"/>
                </a:cubicBezTo>
                <a:cubicBezTo>
                  <a:pt x="16118" y="9292"/>
                  <a:pt x="16182" y="9384"/>
                  <a:pt x="16224" y="9493"/>
                </a:cubicBezTo>
                <a:cubicBezTo>
                  <a:pt x="16272" y="9618"/>
                  <a:pt x="16316" y="9741"/>
                  <a:pt x="16320" y="9874"/>
                </a:cubicBezTo>
                <a:cubicBezTo>
                  <a:pt x="16324" y="9996"/>
                  <a:pt x="16298" y="10140"/>
                  <a:pt x="16256" y="10255"/>
                </a:cubicBezTo>
                <a:cubicBezTo>
                  <a:pt x="16226" y="10337"/>
                  <a:pt x="16222" y="10410"/>
                  <a:pt x="16161" y="10478"/>
                </a:cubicBezTo>
                <a:cubicBezTo>
                  <a:pt x="16101" y="10545"/>
                  <a:pt x="16162" y="10531"/>
                  <a:pt x="16097" y="10509"/>
                </a:cubicBezTo>
              </a:path>
              <a:path w="6256" h="3938">
                <a:moveTo>
                  <a:pt x="17082" y="8985"/>
                </a:moveTo>
                <a:cubicBezTo>
                  <a:pt x="17113" y="8985"/>
                  <a:pt x="17124" y="8985"/>
                  <a:pt x="17145" y="8985"/>
                </a:cubicBezTo>
                <a:cubicBezTo>
                  <a:pt x="17099" y="9049"/>
                  <a:pt x="17059" y="9094"/>
                  <a:pt x="17018" y="9176"/>
                </a:cubicBezTo>
                <a:cubicBezTo>
                  <a:pt x="16956" y="9299"/>
                  <a:pt x="16888" y="9409"/>
                  <a:pt x="16828" y="9525"/>
                </a:cubicBezTo>
                <a:cubicBezTo>
                  <a:pt x="16759" y="9658"/>
                  <a:pt x="16682" y="9793"/>
                  <a:pt x="16637" y="9938"/>
                </a:cubicBezTo>
                <a:cubicBezTo>
                  <a:pt x="16609" y="10027"/>
                  <a:pt x="16555" y="10226"/>
                  <a:pt x="16574" y="10319"/>
                </a:cubicBezTo>
                <a:cubicBezTo>
                  <a:pt x="16588" y="10386"/>
                  <a:pt x="16597" y="10491"/>
                  <a:pt x="16637" y="10541"/>
                </a:cubicBezTo>
                <a:cubicBezTo>
                  <a:pt x="16675" y="10589"/>
                  <a:pt x="16692" y="10603"/>
                  <a:pt x="16732" y="10636"/>
                </a:cubicBezTo>
                <a:cubicBezTo>
                  <a:pt x="16807" y="10699"/>
                  <a:pt x="16781" y="10691"/>
                  <a:pt x="16828" y="10668"/>
                </a:cubicBezTo>
              </a:path>
              <a:path w="6256" h="3938">
                <a:moveTo>
                  <a:pt x="17208" y="9493"/>
                </a:moveTo>
                <a:cubicBezTo>
                  <a:pt x="17222" y="9551"/>
                  <a:pt x="17240" y="9583"/>
                  <a:pt x="17240" y="9652"/>
                </a:cubicBezTo>
                <a:cubicBezTo>
                  <a:pt x="17240" y="9874"/>
                  <a:pt x="17240" y="10097"/>
                  <a:pt x="17240" y="10319"/>
                </a:cubicBezTo>
              </a:path>
              <a:path w="6256" h="3938">
                <a:moveTo>
                  <a:pt x="17653" y="9938"/>
                </a:moveTo>
                <a:cubicBezTo>
                  <a:pt x="17703" y="10004"/>
                  <a:pt x="17685" y="10074"/>
                  <a:pt x="17685" y="10160"/>
                </a:cubicBezTo>
                <a:cubicBezTo>
                  <a:pt x="17685" y="10266"/>
                  <a:pt x="17685" y="10372"/>
                  <a:pt x="17685" y="10478"/>
                </a:cubicBezTo>
              </a:path>
              <a:path w="6256" h="3938">
                <a:moveTo>
                  <a:pt x="17970" y="9652"/>
                </a:moveTo>
                <a:cubicBezTo>
                  <a:pt x="18040" y="9652"/>
                  <a:pt x="18061" y="9637"/>
                  <a:pt x="18129" y="9620"/>
                </a:cubicBezTo>
                <a:cubicBezTo>
                  <a:pt x="18174" y="9620"/>
                  <a:pt x="18196" y="9614"/>
                  <a:pt x="18224" y="9588"/>
                </a:cubicBezTo>
              </a:path>
              <a:path w="6256" h="3938">
                <a:moveTo>
                  <a:pt x="18478" y="9588"/>
                </a:moveTo>
                <a:cubicBezTo>
                  <a:pt x="18557" y="9511"/>
                  <a:pt x="18638" y="9407"/>
                  <a:pt x="18732" y="9366"/>
                </a:cubicBezTo>
                <a:cubicBezTo>
                  <a:pt x="18777" y="9347"/>
                  <a:pt x="18857" y="9314"/>
                  <a:pt x="18891" y="9366"/>
                </a:cubicBezTo>
                <a:cubicBezTo>
                  <a:pt x="18930" y="9426"/>
                  <a:pt x="18880" y="9562"/>
                  <a:pt x="18860" y="9620"/>
                </a:cubicBezTo>
                <a:cubicBezTo>
                  <a:pt x="18823" y="9728"/>
                  <a:pt x="18781" y="9835"/>
                  <a:pt x="18732" y="9938"/>
                </a:cubicBezTo>
                <a:cubicBezTo>
                  <a:pt x="18716" y="9973"/>
                  <a:pt x="18640" y="10164"/>
                  <a:pt x="18669" y="10065"/>
                </a:cubicBezTo>
                <a:cubicBezTo>
                  <a:pt x="18687" y="10001"/>
                  <a:pt x="18735" y="9988"/>
                  <a:pt x="18796" y="9970"/>
                </a:cubicBezTo>
                <a:cubicBezTo>
                  <a:pt x="18851" y="9954"/>
                  <a:pt x="18915" y="9969"/>
                  <a:pt x="18955" y="10001"/>
                </a:cubicBezTo>
                <a:cubicBezTo>
                  <a:pt x="19002" y="10039"/>
                  <a:pt x="19065" y="10036"/>
                  <a:pt x="19114" y="10065"/>
                </a:cubicBezTo>
                <a:cubicBezTo>
                  <a:pt x="19154" y="10089"/>
                  <a:pt x="19238" y="10133"/>
                  <a:pt x="19272" y="10065"/>
                </a:cubicBezTo>
                <a:cubicBezTo>
                  <a:pt x="19272" y="10029"/>
                  <a:pt x="19275" y="10015"/>
                  <a:pt x="19304" y="10001"/>
                </a:cubicBezTo>
              </a:path>
              <a:path w="6256" h="3938">
                <a:moveTo>
                  <a:pt x="19114" y="9049"/>
                </a:moveTo>
                <a:cubicBezTo>
                  <a:pt x="19168" y="9117"/>
                  <a:pt x="19194" y="9196"/>
                  <a:pt x="19240" y="9271"/>
                </a:cubicBezTo>
                <a:cubicBezTo>
                  <a:pt x="19314" y="9392"/>
                  <a:pt x="19386" y="9538"/>
                  <a:pt x="19463" y="9652"/>
                </a:cubicBezTo>
                <a:cubicBezTo>
                  <a:pt x="19557" y="9791"/>
                  <a:pt x="19568" y="9833"/>
                  <a:pt x="19526" y="10001"/>
                </a:cubicBezTo>
                <a:cubicBezTo>
                  <a:pt x="19486" y="10161"/>
                  <a:pt x="19451" y="10262"/>
                  <a:pt x="19336" y="10382"/>
                </a:cubicBezTo>
                <a:cubicBezTo>
                  <a:pt x="19304" y="10414"/>
                  <a:pt x="19272" y="10446"/>
                  <a:pt x="19240" y="10478"/>
                </a:cubicBezTo>
              </a:path>
              <a:path w="6256" h="3938">
                <a:moveTo>
                  <a:pt x="14637" y="8636"/>
                </a:moveTo>
                <a:cubicBezTo>
                  <a:pt x="14653" y="8700"/>
                  <a:pt x="14668" y="8718"/>
                  <a:pt x="14668" y="8795"/>
                </a:cubicBezTo>
                <a:cubicBezTo>
                  <a:pt x="14668" y="8862"/>
                  <a:pt x="14721" y="8903"/>
                  <a:pt x="14732" y="8954"/>
                </a:cubicBezTo>
                <a:cubicBezTo>
                  <a:pt x="14750" y="9037"/>
                  <a:pt x="14715" y="9016"/>
                  <a:pt x="14764" y="9080"/>
                </a:cubicBezTo>
              </a:path>
              <a:path w="6256" h="3938">
                <a:moveTo>
                  <a:pt x="14827" y="8572"/>
                </a:moveTo>
                <a:cubicBezTo>
                  <a:pt x="14812" y="8635"/>
                  <a:pt x="14794" y="8697"/>
                  <a:pt x="14764" y="8763"/>
                </a:cubicBezTo>
                <a:cubicBezTo>
                  <a:pt x="14722" y="8855"/>
                  <a:pt x="14704" y="8964"/>
                  <a:pt x="14668" y="9049"/>
                </a:cubicBezTo>
                <a:cubicBezTo>
                  <a:pt x="14645" y="9102"/>
                  <a:pt x="14619" y="9151"/>
                  <a:pt x="14605" y="9208"/>
                </a:cubicBezTo>
              </a:path>
              <a:path w="6256" h="3938">
                <a:moveTo>
                  <a:pt x="14986" y="8826"/>
                </a:moveTo>
                <a:cubicBezTo>
                  <a:pt x="14986" y="8909"/>
                  <a:pt x="14960" y="8968"/>
                  <a:pt x="14954" y="9049"/>
                </a:cubicBezTo>
                <a:cubicBezTo>
                  <a:pt x="14954" y="9091"/>
                  <a:pt x="14954" y="9112"/>
                  <a:pt x="14954" y="9144"/>
                </a:cubicBezTo>
              </a:path>
              <a:path w="6256" h="3938">
                <a:moveTo>
                  <a:pt x="15430" y="8668"/>
                </a:moveTo>
                <a:cubicBezTo>
                  <a:pt x="15430" y="8742"/>
                  <a:pt x="15446" y="8788"/>
                  <a:pt x="15462" y="8858"/>
                </a:cubicBezTo>
                <a:cubicBezTo>
                  <a:pt x="15478" y="8925"/>
                  <a:pt x="15476" y="8990"/>
                  <a:pt x="15494" y="9049"/>
                </a:cubicBezTo>
                <a:cubicBezTo>
                  <a:pt x="15494" y="9059"/>
                  <a:pt x="15494" y="9070"/>
                  <a:pt x="15494" y="9080"/>
                </a:cubicBezTo>
                <a:cubicBezTo>
                  <a:pt x="15559" y="9059"/>
                  <a:pt x="15532" y="9054"/>
                  <a:pt x="15558" y="8985"/>
                </a:cubicBezTo>
                <a:cubicBezTo>
                  <a:pt x="15593" y="8914"/>
                  <a:pt x="15603" y="8885"/>
                  <a:pt x="15589" y="8826"/>
                </a:cubicBezTo>
              </a:path>
              <a:path w="6256" h="3938">
                <a:moveTo>
                  <a:pt x="15653" y="8572"/>
                </a:moveTo>
                <a:cubicBezTo>
                  <a:pt x="15653" y="8639"/>
                  <a:pt x="15673" y="8667"/>
                  <a:pt x="15684" y="8731"/>
                </a:cubicBezTo>
                <a:cubicBezTo>
                  <a:pt x="15717" y="8922"/>
                  <a:pt x="15647" y="9120"/>
                  <a:pt x="15716" y="9303"/>
                </a:cubicBezTo>
              </a:path>
              <a:path w="6256" h="3938">
                <a:moveTo>
                  <a:pt x="15843" y="8731"/>
                </a:moveTo>
                <a:cubicBezTo>
                  <a:pt x="15843" y="8897"/>
                  <a:pt x="15793" y="9167"/>
                  <a:pt x="15875" y="9303"/>
                </a:cubicBezTo>
              </a:path>
              <a:path w="6256" h="3938">
                <a:moveTo>
                  <a:pt x="17240" y="8763"/>
                </a:moveTo>
                <a:cubicBezTo>
                  <a:pt x="17272" y="8847"/>
                  <a:pt x="17276" y="8935"/>
                  <a:pt x="17304" y="9017"/>
                </a:cubicBezTo>
                <a:cubicBezTo>
                  <a:pt x="17333" y="9102"/>
                  <a:pt x="17376" y="9195"/>
                  <a:pt x="17399" y="9271"/>
                </a:cubicBezTo>
                <a:cubicBezTo>
                  <a:pt x="17399" y="9307"/>
                  <a:pt x="17402" y="9321"/>
                  <a:pt x="17431" y="9334"/>
                </a:cubicBezTo>
              </a:path>
              <a:path w="6256" h="3938">
                <a:moveTo>
                  <a:pt x="17558" y="8700"/>
                </a:moveTo>
                <a:cubicBezTo>
                  <a:pt x="17540" y="8787"/>
                  <a:pt x="17494" y="8869"/>
                  <a:pt x="17462" y="8954"/>
                </a:cubicBezTo>
                <a:cubicBezTo>
                  <a:pt x="17412" y="9089"/>
                  <a:pt x="17390" y="9215"/>
                  <a:pt x="17304" y="9334"/>
                </a:cubicBezTo>
                <a:cubicBezTo>
                  <a:pt x="17270" y="9381"/>
                  <a:pt x="17266" y="9401"/>
                  <a:pt x="17240" y="9462"/>
                </a:cubicBezTo>
              </a:path>
              <a:path w="6256" h="3938">
                <a:moveTo>
                  <a:pt x="17526" y="9080"/>
                </a:moveTo>
                <a:cubicBezTo>
                  <a:pt x="17590" y="9080"/>
                  <a:pt x="17595" y="9062"/>
                  <a:pt x="17621" y="9049"/>
                </a:cubicBezTo>
                <a:cubicBezTo>
                  <a:pt x="17653" y="9049"/>
                  <a:pt x="17664" y="9049"/>
                  <a:pt x="17685" y="9049"/>
                </a:cubicBezTo>
                <a:cubicBezTo>
                  <a:pt x="17685" y="9157"/>
                  <a:pt x="17678" y="9234"/>
                  <a:pt x="17653" y="9334"/>
                </a:cubicBezTo>
                <a:cubicBezTo>
                  <a:pt x="17653" y="9345"/>
                  <a:pt x="17653" y="9355"/>
                  <a:pt x="17653" y="9366"/>
                </a:cubicBezTo>
                <a:cubicBezTo>
                  <a:pt x="17720" y="9366"/>
                  <a:pt x="17731" y="9351"/>
                  <a:pt x="17780" y="9303"/>
                </a:cubicBezTo>
              </a:path>
              <a:path w="6256" h="3938">
                <a:moveTo>
                  <a:pt x="18383" y="8700"/>
                </a:moveTo>
                <a:cubicBezTo>
                  <a:pt x="18383" y="8818"/>
                  <a:pt x="18388" y="8909"/>
                  <a:pt x="18415" y="9017"/>
                </a:cubicBezTo>
                <a:cubicBezTo>
                  <a:pt x="18415" y="9049"/>
                  <a:pt x="18415" y="9060"/>
                  <a:pt x="18447" y="9049"/>
                </a:cubicBezTo>
                <a:cubicBezTo>
                  <a:pt x="18479" y="9038"/>
                  <a:pt x="18529" y="8975"/>
                  <a:pt x="18542" y="8922"/>
                </a:cubicBezTo>
                <a:cubicBezTo>
                  <a:pt x="18559" y="8848"/>
                  <a:pt x="18574" y="8778"/>
                  <a:pt x="18574" y="8700"/>
                </a:cubicBezTo>
                <a:cubicBezTo>
                  <a:pt x="18574" y="8596"/>
                  <a:pt x="18574" y="8823"/>
                  <a:pt x="18574" y="8826"/>
                </a:cubicBezTo>
                <a:cubicBezTo>
                  <a:pt x="18574" y="8983"/>
                  <a:pt x="18589" y="9196"/>
                  <a:pt x="18542" y="9303"/>
                </a:cubicBezTo>
                <a:cubicBezTo>
                  <a:pt x="18524" y="9343"/>
                  <a:pt x="18527" y="9351"/>
                  <a:pt x="18510" y="9303"/>
                </a:cubicBezTo>
              </a:path>
              <a:path w="6256" h="3938">
                <a:moveTo>
                  <a:pt x="18732" y="8858"/>
                </a:moveTo>
                <a:cubicBezTo>
                  <a:pt x="18732" y="8847"/>
                  <a:pt x="18732" y="8837"/>
                  <a:pt x="18732" y="8826"/>
                </a:cubicBezTo>
                <a:cubicBezTo>
                  <a:pt x="18780" y="8811"/>
                  <a:pt x="18760" y="8795"/>
                  <a:pt x="18828" y="8795"/>
                </a:cubicBezTo>
                <a:cubicBezTo>
                  <a:pt x="18839" y="8795"/>
                  <a:pt x="18849" y="8795"/>
                  <a:pt x="18860" y="8795"/>
                </a:cubicBezTo>
                <a:cubicBezTo>
                  <a:pt x="18860" y="8878"/>
                  <a:pt x="18847" y="8909"/>
                  <a:pt x="18828" y="8985"/>
                </a:cubicBezTo>
                <a:cubicBezTo>
                  <a:pt x="18821" y="9012"/>
                  <a:pt x="18828" y="9052"/>
                  <a:pt x="18828" y="9080"/>
                </a:cubicBezTo>
                <a:cubicBezTo>
                  <a:pt x="18898" y="9080"/>
                  <a:pt x="18924" y="9064"/>
                  <a:pt x="18955" y="9049"/>
                </a:cubicBezTo>
                <a:cubicBezTo>
                  <a:pt x="18986" y="9049"/>
                  <a:pt x="18997" y="9049"/>
                  <a:pt x="19018" y="90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Ink 7"/>
          <p:cNvSpPr/>
          <p:nvPr/>
        </p:nvSpPr>
        <p:spPr>
          <a:xfrm>
            <a:off x="2354400" y="3908520"/>
            <a:ext cx="674640" cy="846000"/>
          </a:xfrm>
          <a:custGeom>
            <a:avLst/>
            <a:gdLst/>
            <a:ahLst/>
            <a:rect l="l" t="t" r="r" b="b"/>
            <a:pathLst>
              <a:path w="1875" h="2351">
                <a:moveTo>
                  <a:pt x="6540" y="12827"/>
                </a:moveTo>
                <a:cubicBezTo>
                  <a:pt x="6585" y="12842"/>
                  <a:pt x="6579" y="12889"/>
                  <a:pt x="6604" y="12922"/>
                </a:cubicBezTo>
                <a:cubicBezTo>
                  <a:pt x="6643" y="12975"/>
                  <a:pt x="6695" y="13026"/>
                  <a:pt x="6731" y="13081"/>
                </a:cubicBezTo>
                <a:cubicBezTo>
                  <a:pt x="6769" y="13140"/>
                  <a:pt x="6793" y="13186"/>
                  <a:pt x="6858" y="13208"/>
                </a:cubicBezTo>
                <a:cubicBezTo>
                  <a:pt x="6890" y="13208"/>
                  <a:pt x="6901" y="13208"/>
                  <a:pt x="6922" y="13208"/>
                </a:cubicBezTo>
                <a:cubicBezTo>
                  <a:pt x="6922" y="13137"/>
                  <a:pt x="6894" y="13164"/>
                  <a:pt x="6890" y="13113"/>
                </a:cubicBezTo>
                <a:cubicBezTo>
                  <a:pt x="6883" y="13023"/>
                  <a:pt x="6886" y="12941"/>
                  <a:pt x="6922" y="12859"/>
                </a:cubicBezTo>
                <a:cubicBezTo>
                  <a:pt x="6932" y="12838"/>
                  <a:pt x="6943" y="12816"/>
                  <a:pt x="6953" y="12795"/>
                </a:cubicBezTo>
              </a:path>
              <a:path w="1875" h="2351">
                <a:moveTo>
                  <a:pt x="7334" y="10890"/>
                </a:moveTo>
                <a:cubicBezTo>
                  <a:pt x="7334" y="10879"/>
                  <a:pt x="7334" y="10869"/>
                  <a:pt x="7334" y="10858"/>
                </a:cubicBezTo>
                <a:cubicBezTo>
                  <a:pt x="7286" y="10922"/>
                  <a:pt x="7289" y="10927"/>
                  <a:pt x="7302" y="10986"/>
                </a:cubicBezTo>
                <a:cubicBezTo>
                  <a:pt x="7316" y="11052"/>
                  <a:pt x="7348" y="11010"/>
                  <a:pt x="7366" y="10986"/>
                </a:cubicBezTo>
                <a:cubicBezTo>
                  <a:pt x="7419" y="10916"/>
                  <a:pt x="7368" y="10913"/>
                  <a:pt x="7334" y="10922"/>
                </a:cubicBezTo>
                <a:cubicBezTo>
                  <a:pt x="7287" y="10934"/>
                  <a:pt x="7302" y="10934"/>
                  <a:pt x="7302" y="10986"/>
                </a:cubicBezTo>
                <a:cubicBezTo>
                  <a:pt x="7321" y="10986"/>
                  <a:pt x="7450" y="10974"/>
                  <a:pt x="7398" y="10922"/>
                </a:cubicBezTo>
                <a:cubicBezTo>
                  <a:pt x="7347" y="10871"/>
                  <a:pt x="7334" y="10958"/>
                  <a:pt x="7334" y="10986"/>
                </a:cubicBezTo>
              </a:path>
              <a:path w="1875" h="2351">
                <a:moveTo>
                  <a:pt x="7207" y="11462"/>
                </a:moveTo>
                <a:cubicBezTo>
                  <a:pt x="7167" y="11472"/>
                  <a:pt x="7100" y="11511"/>
                  <a:pt x="7080" y="11557"/>
                </a:cubicBezTo>
                <a:cubicBezTo>
                  <a:pt x="7062" y="11598"/>
                  <a:pt x="7020" y="11637"/>
                  <a:pt x="7017" y="11684"/>
                </a:cubicBezTo>
                <a:cubicBezTo>
                  <a:pt x="7012" y="11763"/>
                  <a:pt x="7041" y="11777"/>
                  <a:pt x="7048" y="11843"/>
                </a:cubicBezTo>
                <a:cubicBezTo>
                  <a:pt x="7054" y="11896"/>
                  <a:pt x="7065" y="11894"/>
                  <a:pt x="7112" y="11906"/>
                </a:cubicBezTo>
              </a:path>
              <a:path w="1875" h="2351">
                <a:moveTo>
                  <a:pt x="7398" y="11620"/>
                </a:moveTo>
                <a:cubicBezTo>
                  <a:pt x="7387" y="11620"/>
                  <a:pt x="7377" y="11620"/>
                  <a:pt x="7366" y="11620"/>
                </a:cubicBezTo>
                <a:cubicBezTo>
                  <a:pt x="7436" y="11643"/>
                  <a:pt x="7383" y="11666"/>
                  <a:pt x="7366" y="11716"/>
                </a:cubicBezTo>
                <a:cubicBezTo>
                  <a:pt x="7349" y="11766"/>
                  <a:pt x="7366" y="11852"/>
                  <a:pt x="7366" y="11906"/>
                </a:cubicBezTo>
              </a:path>
              <a:path w="1875" h="2351">
                <a:moveTo>
                  <a:pt x="7556" y="11906"/>
                </a:moveTo>
                <a:cubicBezTo>
                  <a:pt x="7556" y="11970"/>
                  <a:pt x="7556" y="12033"/>
                  <a:pt x="7556" y="12097"/>
                </a:cubicBezTo>
              </a:path>
              <a:path w="1875" h="2351">
                <a:moveTo>
                  <a:pt x="7715" y="11811"/>
                </a:moveTo>
                <a:cubicBezTo>
                  <a:pt x="7747" y="11811"/>
                  <a:pt x="7758" y="11811"/>
                  <a:pt x="7779" y="11811"/>
                </a:cubicBezTo>
                <a:cubicBezTo>
                  <a:pt x="7794" y="11766"/>
                  <a:pt x="7788" y="11779"/>
                  <a:pt x="7842" y="11779"/>
                </a:cubicBezTo>
              </a:path>
              <a:path w="1875" h="2351">
                <a:moveTo>
                  <a:pt x="7969" y="11748"/>
                </a:moveTo>
                <a:cubicBezTo>
                  <a:pt x="8019" y="11736"/>
                  <a:pt x="8039" y="11716"/>
                  <a:pt x="8096" y="11716"/>
                </a:cubicBezTo>
                <a:cubicBezTo>
                  <a:pt x="8128" y="11716"/>
                  <a:pt x="8139" y="11716"/>
                  <a:pt x="8160" y="11716"/>
                </a:cubicBezTo>
                <a:cubicBezTo>
                  <a:pt x="8160" y="11781"/>
                  <a:pt x="8146" y="11791"/>
                  <a:pt x="8128" y="11843"/>
                </a:cubicBezTo>
                <a:cubicBezTo>
                  <a:pt x="8112" y="11891"/>
                  <a:pt x="8077" y="11920"/>
                  <a:pt x="8064" y="11970"/>
                </a:cubicBezTo>
                <a:cubicBezTo>
                  <a:pt x="8114" y="11933"/>
                  <a:pt x="8141" y="11935"/>
                  <a:pt x="8192" y="11970"/>
                </a:cubicBezTo>
                <a:cubicBezTo>
                  <a:pt x="8220" y="11999"/>
                  <a:pt x="8226" y="12010"/>
                  <a:pt x="8255" y="12002"/>
                </a:cubicBezTo>
              </a:path>
              <a:path w="1875" h="2351">
                <a:moveTo>
                  <a:pt x="8287" y="11652"/>
                </a:moveTo>
                <a:cubicBezTo>
                  <a:pt x="8300" y="11706"/>
                  <a:pt x="8323" y="11732"/>
                  <a:pt x="8350" y="11779"/>
                </a:cubicBezTo>
                <a:cubicBezTo>
                  <a:pt x="8410" y="11883"/>
                  <a:pt x="8414" y="11946"/>
                  <a:pt x="8414" y="12065"/>
                </a:cubicBezTo>
                <a:cubicBezTo>
                  <a:pt x="8414" y="12142"/>
                  <a:pt x="8394" y="12195"/>
                  <a:pt x="8382" y="12256"/>
                </a:cubicBezTo>
                <a:cubicBezTo>
                  <a:pt x="8382" y="12313"/>
                  <a:pt x="8386" y="12330"/>
                  <a:pt x="8350" y="123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Ink 8"/>
          <p:cNvSpPr/>
          <p:nvPr/>
        </p:nvSpPr>
        <p:spPr>
          <a:xfrm>
            <a:off x="3279600" y="3943440"/>
            <a:ext cx="538200" cy="446040"/>
          </a:xfrm>
          <a:custGeom>
            <a:avLst/>
            <a:gdLst/>
            <a:ahLst/>
            <a:rect l="l" t="t" r="r" b="b"/>
            <a:pathLst>
              <a:path w="1493" h="1239">
                <a:moveTo>
                  <a:pt x="9303" y="10954"/>
                </a:moveTo>
                <a:cubicBezTo>
                  <a:pt x="9303" y="10954"/>
                  <a:pt x="9235" y="11104"/>
                  <a:pt x="9303" y="11081"/>
                </a:cubicBezTo>
                <a:cubicBezTo>
                  <a:pt x="9310" y="11079"/>
                  <a:pt x="9363" y="11015"/>
                  <a:pt x="9366" y="10986"/>
                </a:cubicBezTo>
                <a:cubicBezTo>
                  <a:pt x="9366" y="10975"/>
                  <a:pt x="9366" y="10965"/>
                  <a:pt x="9366" y="10954"/>
                </a:cubicBezTo>
                <a:cubicBezTo>
                  <a:pt x="9332" y="10965"/>
                  <a:pt x="9308" y="10977"/>
                  <a:pt x="9303" y="11017"/>
                </a:cubicBezTo>
                <a:cubicBezTo>
                  <a:pt x="9300" y="11046"/>
                  <a:pt x="9324" y="11134"/>
                  <a:pt x="9366" y="11081"/>
                </a:cubicBezTo>
                <a:cubicBezTo>
                  <a:pt x="9377" y="11067"/>
                  <a:pt x="9419" y="11024"/>
                  <a:pt x="9398" y="10986"/>
                </a:cubicBezTo>
                <a:cubicBezTo>
                  <a:pt x="9367" y="10930"/>
                  <a:pt x="9344" y="10987"/>
                  <a:pt x="9334" y="11017"/>
                </a:cubicBezTo>
                <a:cubicBezTo>
                  <a:pt x="9349" y="11062"/>
                  <a:pt x="9383" y="11046"/>
                  <a:pt x="9398" y="11017"/>
                </a:cubicBezTo>
                <a:cubicBezTo>
                  <a:pt x="9420" y="10974"/>
                  <a:pt x="9348" y="10977"/>
                  <a:pt x="9334" y="11017"/>
                </a:cubicBezTo>
              </a:path>
              <a:path w="1493" h="1239">
                <a:moveTo>
                  <a:pt x="9334" y="11430"/>
                </a:moveTo>
                <a:cubicBezTo>
                  <a:pt x="9334" y="11441"/>
                  <a:pt x="9334" y="11451"/>
                  <a:pt x="9334" y="11462"/>
                </a:cubicBezTo>
                <a:cubicBezTo>
                  <a:pt x="9279" y="11476"/>
                  <a:pt x="9251" y="11514"/>
                  <a:pt x="9208" y="11557"/>
                </a:cubicBezTo>
                <a:cubicBezTo>
                  <a:pt x="9189" y="11576"/>
                  <a:pt x="9119" y="11660"/>
                  <a:pt x="9112" y="11684"/>
                </a:cubicBezTo>
                <a:cubicBezTo>
                  <a:pt x="9093" y="11749"/>
                  <a:pt x="9102" y="11859"/>
                  <a:pt x="9144" y="11906"/>
                </a:cubicBezTo>
                <a:cubicBezTo>
                  <a:pt x="9173" y="11935"/>
                  <a:pt x="9184" y="11941"/>
                  <a:pt x="9176" y="11970"/>
                </a:cubicBezTo>
                <a:cubicBezTo>
                  <a:pt x="9208" y="11970"/>
                  <a:pt x="9239" y="11970"/>
                  <a:pt x="9271" y="11970"/>
                </a:cubicBezTo>
              </a:path>
              <a:path w="1493" h="1239">
                <a:moveTo>
                  <a:pt x="9462" y="11652"/>
                </a:moveTo>
                <a:cubicBezTo>
                  <a:pt x="9472" y="11652"/>
                  <a:pt x="9483" y="11652"/>
                  <a:pt x="9493" y="11652"/>
                </a:cubicBezTo>
                <a:cubicBezTo>
                  <a:pt x="9509" y="11604"/>
                  <a:pt x="9531" y="11620"/>
                  <a:pt x="9588" y="11620"/>
                </a:cubicBezTo>
                <a:cubicBezTo>
                  <a:pt x="9622" y="11620"/>
                  <a:pt x="9713" y="11618"/>
                  <a:pt x="9684" y="11684"/>
                </a:cubicBezTo>
                <a:cubicBezTo>
                  <a:pt x="9663" y="11732"/>
                  <a:pt x="9605" y="11761"/>
                  <a:pt x="9588" y="11811"/>
                </a:cubicBezTo>
                <a:cubicBezTo>
                  <a:pt x="9570" y="11864"/>
                  <a:pt x="9583" y="11926"/>
                  <a:pt x="9620" y="11938"/>
                </a:cubicBezTo>
              </a:path>
              <a:path w="1493" h="1239">
                <a:moveTo>
                  <a:pt x="9842" y="11874"/>
                </a:moveTo>
                <a:cubicBezTo>
                  <a:pt x="9842" y="11942"/>
                  <a:pt x="9781" y="12004"/>
                  <a:pt x="9811" y="12065"/>
                </a:cubicBezTo>
                <a:cubicBezTo>
                  <a:pt x="9821" y="12065"/>
                  <a:pt x="9832" y="12065"/>
                  <a:pt x="9842" y="12065"/>
                </a:cubicBezTo>
              </a:path>
              <a:path w="1493" h="1239">
                <a:moveTo>
                  <a:pt x="9970" y="11652"/>
                </a:moveTo>
                <a:cubicBezTo>
                  <a:pt x="10040" y="11598"/>
                  <a:pt x="10022" y="11644"/>
                  <a:pt x="10096" y="11652"/>
                </a:cubicBezTo>
                <a:cubicBezTo>
                  <a:pt x="10107" y="11652"/>
                  <a:pt x="10117" y="11652"/>
                  <a:pt x="10128" y="11652"/>
                </a:cubicBezTo>
              </a:path>
              <a:path w="1493" h="1239">
                <a:moveTo>
                  <a:pt x="10160" y="11684"/>
                </a:moveTo>
                <a:cubicBezTo>
                  <a:pt x="10203" y="11670"/>
                  <a:pt x="10197" y="11634"/>
                  <a:pt x="10224" y="11620"/>
                </a:cubicBezTo>
                <a:cubicBezTo>
                  <a:pt x="10237" y="11613"/>
                  <a:pt x="10330" y="11565"/>
                  <a:pt x="10350" y="11589"/>
                </a:cubicBezTo>
                <a:cubicBezTo>
                  <a:pt x="10370" y="11614"/>
                  <a:pt x="10371" y="11618"/>
                  <a:pt x="10382" y="11652"/>
                </a:cubicBezTo>
                <a:cubicBezTo>
                  <a:pt x="10362" y="11679"/>
                  <a:pt x="10323" y="11740"/>
                  <a:pt x="10319" y="11748"/>
                </a:cubicBezTo>
                <a:cubicBezTo>
                  <a:pt x="10302" y="11782"/>
                  <a:pt x="10267" y="11838"/>
                  <a:pt x="10255" y="11874"/>
                </a:cubicBezTo>
                <a:cubicBezTo>
                  <a:pt x="10255" y="11885"/>
                  <a:pt x="10255" y="11895"/>
                  <a:pt x="10255" y="11906"/>
                </a:cubicBezTo>
                <a:cubicBezTo>
                  <a:pt x="10314" y="11906"/>
                  <a:pt x="10330" y="11932"/>
                  <a:pt x="10382" y="11938"/>
                </a:cubicBezTo>
                <a:cubicBezTo>
                  <a:pt x="10414" y="11938"/>
                  <a:pt x="10425" y="11938"/>
                  <a:pt x="10446" y="11938"/>
                </a:cubicBezTo>
              </a:path>
              <a:path w="1493" h="1239">
                <a:moveTo>
                  <a:pt x="10446" y="11430"/>
                </a:moveTo>
                <a:cubicBezTo>
                  <a:pt x="10459" y="11483"/>
                  <a:pt x="10483" y="11533"/>
                  <a:pt x="10509" y="11589"/>
                </a:cubicBezTo>
                <a:cubicBezTo>
                  <a:pt x="10542" y="11659"/>
                  <a:pt x="10587" y="11766"/>
                  <a:pt x="10604" y="11843"/>
                </a:cubicBezTo>
                <a:cubicBezTo>
                  <a:pt x="10622" y="11927"/>
                  <a:pt x="10586" y="12000"/>
                  <a:pt x="10573" y="12065"/>
                </a:cubicBezTo>
                <a:cubicBezTo>
                  <a:pt x="10558" y="12143"/>
                  <a:pt x="10566" y="12135"/>
                  <a:pt x="10509" y="121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Ink 9"/>
          <p:cNvSpPr/>
          <p:nvPr/>
        </p:nvSpPr>
        <p:spPr>
          <a:xfrm>
            <a:off x="5143680" y="3807000"/>
            <a:ext cx="3074760" cy="1496880"/>
          </a:xfrm>
          <a:custGeom>
            <a:avLst/>
            <a:gdLst/>
            <a:ahLst/>
            <a:rect l="l" t="t" r="r" b="b"/>
            <a:pathLst>
              <a:path w="8541" h="4160">
                <a:moveTo>
                  <a:pt x="14859" y="11335"/>
                </a:moveTo>
                <a:cubicBezTo>
                  <a:pt x="14891" y="11335"/>
                  <a:pt x="14901" y="11335"/>
                  <a:pt x="14922" y="11335"/>
                </a:cubicBezTo>
                <a:cubicBezTo>
                  <a:pt x="14917" y="11378"/>
                  <a:pt x="14916" y="11430"/>
                  <a:pt x="14891" y="11462"/>
                </a:cubicBezTo>
                <a:cubicBezTo>
                  <a:pt x="14831" y="11539"/>
                  <a:pt x="14784" y="11600"/>
                  <a:pt x="14732" y="11684"/>
                </a:cubicBezTo>
                <a:cubicBezTo>
                  <a:pt x="14649" y="11819"/>
                  <a:pt x="14571" y="11913"/>
                  <a:pt x="14510" y="12065"/>
                </a:cubicBezTo>
                <a:cubicBezTo>
                  <a:pt x="14450" y="12215"/>
                  <a:pt x="14392" y="12353"/>
                  <a:pt x="14351" y="12510"/>
                </a:cubicBezTo>
                <a:cubicBezTo>
                  <a:pt x="14314" y="12653"/>
                  <a:pt x="14292" y="12807"/>
                  <a:pt x="14288" y="12954"/>
                </a:cubicBezTo>
                <a:cubicBezTo>
                  <a:pt x="14283" y="13122"/>
                  <a:pt x="14292" y="13298"/>
                  <a:pt x="14319" y="13462"/>
                </a:cubicBezTo>
                <a:cubicBezTo>
                  <a:pt x="14344" y="13613"/>
                  <a:pt x="14367" y="13758"/>
                  <a:pt x="14414" y="13906"/>
                </a:cubicBezTo>
                <a:cubicBezTo>
                  <a:pt x="14452" y="14025"/>
                  <a:pt x="14516" y="14115"/>
                  <a:pt x="14573" y="14224"/>
                </a:cubicBezTo>
                <a:cubicBezTo>
                  <a:pt x="14622" y="14318"/>
                  <a:pt x="14689" y="14418"/>
                  <a:pt x="14732" y="14510"/>
                </a:cubicBezTo>
                <a:cubicBezTo>
                  <a:pt x="14755" y="14559"/>
                  <a:pt x="14810" y="14618"/>
                  <a:pt x="14827" y="14668"/>
                </a:cubicBezTo>
                <a:cubicBezTo>
                  <a:pt x="14855" y="14754"/>
                  <a:pt x="14814" y="14715"/>
                  <a:pt x="14859" y="14700"/>
                </a:cubicBezTo>
              </a:path>
              <a:path w="8541" h="4160">
                <a:moveTo>
                  <a:pt x="15113" y="11811"/>
                </a:moveTo>
                <a:cubicBezTo>
                  <a:pt x="15129" y="11859"/>
                  <a:pt x="15151" y="11843"/>
                  <a:pt x="15208" y="11843"/>
                </a:cubicBezTo>
                <a:cubicBezTo>
                  <a:pt x="15262" y="11843"/>
                  <a:pt x="15301" y="11811"/>
                  <a:pt x="15367" y="11811"/>
                </a:cubicBezTo>
                <a:cubicBezTo>
                  <a:pt x="15425" y="11811"/>
                  <a:pt x="15465" y="11779"/>
                  <a:pt x="15526" y="11779"/>
                </a:cubicBezTo>
                <a:cubicBezTo>
                  <a:pt x="15558" y="11779"/>
                  <a:pt x="15568" y="11779"/>
                  <a:pt x="15589" y="11779"/>
                </a:cubicBezTo>
                <a:cubicBezTo>
                  <a:pt x="15589" y="11847"/>
                  <a:pt x="15588" y="11873"/>
                  <a:pt x="15558" y="11938"/>
                </a:cubicBezTo>
                <a:cubicBezTo>
                  <a:pt x="15519" y="12022"/>
                  <a:pt x="15522" y="12108"/>
                  <a:pt x="15494" y="12192"/>
                </a:cubicBezTo>
                <a:cubicBezTo>
                  <a:pt x="15463" y="12284"/>
                  <a:pt x="15458" y="12387"/>
                  <a:pt x="15430" y="12478"/>
                </a:cubicBezTo>
                <a:cubicBezTo>
                  <a:pt x="15407" y="12551"/>
                  <a:pt x="15375" y="12624"/>
                  <a:pt x="15367" y="12700"/>
                </a:cubicBezTo>
                <a:cubicBezTo>
                  <a:pt x="15367" y="12711"/>
                  <a:pt x="15367" y="12721"/>
                  <a:pt x="15367" y="12732"/>
                </a:cubicBezTo>
              </a:path>
              <a:path w="8541" h="4160">
                <a:moveTo>
                  <a:pt x="15907" y="11938"/>
                </a:moveTo>
                <a:cubicBezTo>
                  <a:pt x="15948" y="11994"/>
                  <a:pt x="15938" y="12023"/>
                  <a:pt x="15938" y="12097"/>
                </a:cubicBezTo>
                <a:cubicBezTo>
                  <a:pt x="15938" y="12233"/>
                  <a:pt x="15936" y="12351"/>
                  <a:pt x="15907" y="12478"/>
                </a:cubicBezTo>
                <a:cubicBezTo>
                  <a:pt x="15907" y="12510"/>
                  <a:pt x="15907" y="12520"/>
                  <a:pt x="15907" y="12541"/>
                </a:cubicBezTo>
              </a:path>
              <a:path w="8541" h="4160">
                <a:moveTo>
                  <a:pt x="15780" y="12192"/>
                </a:moveTo>
                <a:cubicBezTo>
                  <a:pt x="15875" y="12192"/>
                  <a:pt x="15954" y="12176"/>
                  <a:pt x="16034" y="12160"/>
                </a:cubicBezTo>
                <a:cubicBezTo>
                  <a:pt x="16111" y="12144"/>
                  <a:pt x="16104" y="12153"/>
                  <a:pt x="16161" y="12097"/>
                </a:cubicBezTo>
              </a:path>
              <a:path w="8541" h="4160">
                <a:moveTo>
                  <a:pt x="16415" y="11557"/>
                </a:moveTo>
                <a:cubicBezTo>
                  <a:pt x="16415" y="11875"/>
                  <a:pt x="16415" y="12192"/>
                  <a:pt x="16415" y="12510"/>
                </a:cubicBezTo>
              </a:path>
              <a:path w="8541" h="4160">
                <a:moveTo>
                  <a:pt x="14986" y="13081"/>
                </a:moveTo>
                <a:cubicBezTo>
                  <a:pt x="14986" y="13049"/>
                  <a:pt x="14986" y="13038"/>
                  <a:pt x="14954" y="13049"/>
                </a:cubicBezTo>
                <a:cubicBezTo>
                  <a:pt x="15006" y="13049"/>
                  <a:pt x="15038" y="13037"/>
                  <a:pt x="15081" y="13018"/>
                </a:cubicBezTo>
                <a:cubicBezTo>
                  <a:pt x="15165" y="12982"/>
                  <a:pt x="15275" y="12940"/>
                  <a:pt x="15367" y="12922"/>
                </a:cubicBezTo>
                <a:cubicBezTo>
                  <a:pt x="15472" y="12902"/>
                  <a:pt x="15581" y="12883"/>
                  <a:pt x="15684" y="12859"/>
                </a:cubicBezTo>
                <a:cubicBezTo>
                  <a:pt x="15801" y="12832"/>
                  <a:pt x="15921" y="12821"/>
                  <a:pt x="16034" y="12795"/>
                </a:cubicBezTo>
                <a:cubicBezTo>
                  <a:pt x="16132" y="12772"/>
                  <a:pt x="16215" y="12764"/>
                  <a:pt x="16320" y="12764"/>
                </a:cubicBezTo>
                <a:cubicBezTo>
                  <a:pt x="16394" y="12764"/>
                  <a:pt x="16468" y="12764"/>
                  <a:pt x="16542" y="12764"/>
                </a:cubicBezTo>
              </a:path>
              <a:path w="8541" h="4160">
                <a:moveTo>
                  <a:pt x="15589" y="13335"/>
                </a:moveTo>
                <a:cubicBezTo>
                  <a:pt x="15597" y="13301"/>
                  <a:pt x="15625" y="13203"/>
                  <a:pt x="15653" y="13176"/>
                </a:cubicBezTo>
                <a:cubicBezTo>
                  <a:pt x="15696" y="13135"/>
                  <a:pt x="15786" y="13087"/>
                  <a:pt x="15843" y="13081"/>
                </a:cubicBezTo>
                <a:cubicBezTo>
                  <a:pt x="15912" y="13074"/>
                  <a:pt x="15914" y="13140"/>
                  <a:pt x="15938" y="13176"/>
                </a:cubicBezTo>
                <a:cubicBezTo>
                  <a:pt x="16001" y="13271"/>
                  <a:pt x="15950" y="13323"/>
                  <a:pt x="15938" y="13430"/>
                </a:cubicBezTo>
                <a:cubicBezTo>
                  <a:pt x="15923" y="13559"/>
                  <a:pt x="15899" y="13660"/>
                  <a:pt x="15843" y="13780"/>
                </a:cubicBezTo>
                <a:cubicBezTo>
                  <a:pt x="15804" y="13863"/>
                  <a:pt x="15814" y="13904"/>
                  <a:pt x="15748" y="13970"/>
                </a:cubicBezTo>
                <a:cubicBezTo>
                  <a:pt x="15761" y="13931"/>
                  <a:pt x="15775" y="13917"/>
                  <a:pt x="15812" y="13875"/>
                </a:cubicBezTo>
                <a:cubicBezTo>
                  <a:pt x="15841" y="13842"/>
                  <a:pt x="15896" y="13816"/>
                  <a:pt x="15938" y="13811"/>
                </a:cubicBezTo>
                <a:cubicBezTo>
                  <a:pt x="16008" y="13803"/>
                  <a:pt x="16053" y="13862"/>
                  <a:pt x="16097" y="13906"/>
                </a:cubicBezTo>
                <a:cubicBezTo>
                  <a:pt x="16129" y="13938"/>
                  <a:pt x="16162" y="13966"/>
                  <a:pt x="16192" y="13970"/>
                </a:cubicBezTo>
                <a:cubicBezTo>
                  <a:pt x="16223" y="13974"/>
                  <a:pt x="16257" y="13970"/>
                  <a:pt x="16288" y="13970"/>
                </a:cubicBezTo>
              </a:path>
              <a:path w="8541" h="4160">
                <a:moveTo>
                  <a:pt x="17082" y="13176"/>
                </a:moveTo>
                <a:cubicBezTo>
                  <a:pt x="17103" y="13286"/>
                  <a:pt x="17113" y="13375"/>
                  <a:pt x="17113" y="13494"/>
                </a:cubicBezTo>
                <a:cubicBezTo>
                  <a:pt x="17113" y="13737"/>
                  <a:pt x="17113" y="13981"/>
                  <a:pt x="17113" y="14224"/>
                </a:cubicBezTo>
              </a:path>
              <a:path w="8541" h="4160">
                <a:moveTo>
                  <a:pt x="17494" y="11398"/>
                </a:moveTo>
                <a:cubicBezTo>
                  <a:pt x="17494" y="11430"/>
                  <a:pt x="17494" y="11441"/>
                  <a:pt x="17494" y="11462"/>
                </a:cubicBezTo>
                <a:cubicBezTo>
                  <a:pt x="17539" y="11447"/>
                  <a:pt x="17546" y="11384"/>
                  <a:pt x="17590" y="11335"/>
                </a:cubicBezTo>
                <a:cubicBezTo>
                  <a:pt x="17630" y="11291"/>
                  <a:pt x="17674" y="11250"/>
                  <a:pt x="17716" y="11208"/>
                </a:cubicBezTo>
                <a:cubicBezTo>
                  <a:pt x="17751" y="11220"/>
                  <a:pt x="17776" y="11251"/>
                  <a:pt x="17780" y="11303"/>
                </a:cubicBezTo>
                <a:cubicBezTo>
                  <a:pt x="17786" y="11384"/>
                  <a:pt x="17748" y="11484"/>
                  <a:pt x="17716" y="11557"/>
                </a:cubicBezTo>
                <a:cubicBezTo>
                  <a:pt x="17682" y="11634"/>
                  <a:pt x="17646" y="11717"/>
                  <a:pt x="17590" y="11779"/>
                </a:cubicBezTo>
                <a:cubicBezTo>
                  <a:pt x="17548" y="11826"/>
                  <a:pt x="17574" y="11827"/>
                  <a:pt x="17526" y="11843"/>
                </a:cubicBezTo>
                <a:cubicBezTo>
                  <a:pt x="17526" y="11787"/>
                  <a:pt x="17532" y="11767"/>
                  <a:pt x="17590" y="11748"/>
                </a:cubicBezTo>
                <a:cubicBezTo>
                  <a:pt x="17637" y="11732"/>
                  <a:pt x="17752" y="11738"/>
                  <a:pt x="17780" y="11779"/>
                </a:cubicBezTo>
                <a:cubicBezTo>
                  <a:pt x="17811" y="11824"/>
                  <a:pt x="17840" y="11918"/>
                  <a:pt x="17844" y="11970"/>
                </a:cubicBezTo>
                <a:cubicBezTo>
                  <a:pt x="17851" y="12073"/>
                  <a:pt x="17799" y="12199"/>
                  <a:pt x="17748" y="12287"/>
                </a:cubicBezTo>
                <a:cubicBezTo>
                  <a:pt x="17696" y="12377"/>
                  <a:pt x="17661" y="12430"/>
                  <a:pt x="17590" y="12478"/>
                </a:cubicBezTo>
                <a:cubicBezTo>
                  <a:pt x="17529" y="12519"/>
                  <a:pt x="17526" y="12522"/>
                  <a:pt x="17526" y="12446"/>
                </a:cubicBezTo>
                <a:cubicBezTo>
                  <a:pt x="17526" y="12435"/>
                  <a:pt x="17526" y="12425"/>
                  <a:pt x="17526" y="12414"/>
                </a:cubicBezTo>
              </a:path>
              <a:path w="8541" h="4160">
                <a:moveTo>
                  <a:pt x="18193" y="11525"/>
                </a:moveTo>
                <a:cubicBezTo>
                  <a:pt x="18211" y="11598"/>
                  <a:pt x="18245" y="11658"/>
                  <a:pt x="18224" y="11748"/>
                </a:cubicBezTo>
                <a:cubicBezTo>
                  <a:pt x="18199" y="11855"/>
                  <a:pt x="18193" y="11950"/>
                  <a:pt x="18193" y="12065"/>
                </a:cubicBezTo>
                <a:cubicBezTo>
                  <a:pt x="18193" y="12118"/>
                  <a:pt x="18193" y="12128"/>
                  <a:pt x="18193" y="12160"/>
                </a:cubicBezTo>
              </a:path>
              <a:path w="8541" h="4160">
                <a:moveTo>
                  <a:pt x="18034" y="11874"/>
                </a:moveTo>
                <a:cubicBezTo>
                  <a:pt x="18084" y="11838"/>
                  <a:pt x="18116" y="11868"/>
                  <a:pt x="18161" y="11843"/>
                </a:cubicBezTo>
                <a:cubicBezTo>
                  <a:pt x="18226" y="11807"/>
                  <a:pt x="18276" y="11790"/>
                  <a:pt x="18352" y="11779"/>
                </a:cubicBezTo>
              </a:path>
              <a:path w="8541" h="4160">
                <a:moveTo>
                  <a:pt x="18574" y="11525"/>
                </a:moveTo>
                <a:cubicBezTo>
                  <a:pt x="18620" y="11492"/>
                  <a:pt x="18679" y="11476"/>
                  <a:pt x="18732" y="11462"/>
                </a:cubicBezTo>
              </a:path>
              <a:path w="8541" h="4160">
                <a:moveTo>
                  <a:pt x="18955" y="11335"/>
                </a:moveTo>
                <a:cubicBezTo>
                  <a:pt x="18971" y="11286"/>
                  <a:pt x="18982" y="11297"/>
                  <a:pt x="19018" y="11271"/>
                </a:cubicBezTo>
                <a:cubicBezTo>
                  <a:pt x="19052" y="11246"/>
                  <a:pt x="19090" y="11177"/>
                  <a:pt x="19145" y="11208"/>
                </a:cubicBezTo>
                <a:cubicBezTo>
                  <a:pt x="19221" y="11251"/>
                  <a:pt x="19154" y="11322"/>
                  <a:pt x="19145" y="11366"/>
                </a:cubicBezTo>
                <a:cubicBezTo>
                  <a:pt x="19125" y="11466"/>
                  <a:pt x="19096" y="11555"/>
                  <a:pt x="19050" y="11652"/>
                </a:cubicBezTo>
                <a:cubicBezTo>
                  <a:pt x="19015" y="11726"/>
                  <a:pt x="18975" y="11806"/>
                  <a:pt x="18955" y="11874"/>
                </a:cubicBezTo>
                <a:cubicBezTo>
                  <a:pt x="18955" y="11910"/>
                  <a:pt x="18952" y="11924"/>
                  <a:pt x="18923" y="11938"/>
                </a:cubicBezTo>
                <a:cubicBezTo>
                  <a:pt x="18966" y="11924"/>
                  <a:pt x="18960" y="11887"/>
                  <a:pt x="18986" y="11874"/>
                </a:cubicBezTo>
                <a:cubicBezTo>
                  <a:pt x="19020" y="11857"/>
                  <a:pt x="19078" y="11823"/>
                  <a:pt x="19114" y="11811"/>
                </a:cubicBezTo>
                <a:cubicBezTo>
                  <a:pt x="19168" y="11793"/>
                  <a:pt x="19193" y="11838"/>
                  <a:pt x="19240" y="11843"/>
                </a:cubicBezTo>
                <a:cubicBezTo>
                  <a:pt x="19305" y="11850"/>
                  <a:pt x="19351" y="11848"/>
                  <a:pt x="19399" y="11811"/>
                </a:cubicBezTo>
              </a:path>
              <a:path w="8541" h="4160">
                <a:moveTo>
                  <a:pt x="17812" y="12478"/>
                </a:moveTo>
                <a:cubicBezTo>
                  <a:pt x="17759" y="12478"/>
                  <a:pt x="17858" y="12499"/>
                  <a:pt x="17907" y="12478"/>
                </a:cubicBezTo>
                <a:cubicBezTo>
                  <a:pt x="17980" y="12447"/>
                  <a:pt x="18073" y="12399"/>
                  <a:pt x="18161" y="12382"/>
                </a:cubicBezTo>
                <a:cubicBezTo>
                  <a:pt x="18274" y="12360"/>
                  <a:pt x="18369" y="12327"/>
                  <a:pt x="18478" y="12287"/>
                </a:cubicBezTo>
                <a:cubicBezTo>
                  <a:pt x="18596" y="12243"/>
                  <a:pt x="18714" y="12225"/>
                  <a:pt x="18828" y="12192"/>
                </a:cubicBezTo>
                <a:cubicBezTo>
                  <a:pt x="18909" y="12169"/>
                  <a:pt x="18962" y="12160"/>
                  <a:pt x="19050" y="12160"/>
                </a:cubicBezTo>
                <a:cubicBezTo>
                  <a:pt x="19135" y="12160"/>
                  <a:pt x="19145" y="12142"/>
                  <a:pt x="19145" y="12224"/>
                </a:cubicBezTo>
              </a:path>
              <a:path w="8541" h="4160">
                <a:moveTo>
                  <a:pt x="18256" y="12890"/>
                </a:moveTo>
                <a:cubicBezTo>
                  <a:pt x="18193" y="12860"/>
                  <a:pt x="18286" y="12850"/>
                  <a:pt x="18320" y="12827"/>
                </a:cubicBezTo>
                <a:cubicBezTo>
                  <a:pt x="18356" y="12803"/>
                  <a:pt x="18439" y="12696"/>
                  <a:pt x="18478" y="12700"/>
                </a:cubicBezTo>
                <a:cubicBezTo>
                  <a:pt x="18536" y="12706"/>
                  <a:pt x="18559" y="12771"/>
                  <a:pt x="18542" y="12827"/>
                </a:cubicBezTo>
                <a:cubicBezTo>
                  <a:pt x="18513" y="12923"/>
                  <a:pt x="18492" y="13019"/>
                  <a:pt x="18447" y="13113"/>
                </a:cubicBezTo>
                <a:cubicBezTo>
                  <a:pt x="18412" y="13186"/>
                  <a:pt x="18348" y="13265"/>
                  <a:pt x="18320" y="13335"/>
                </a:cubicBezTo>
                <a:cubicBezTo>
                  <a:pt x="18320" y="13346"/>
                  <a:pt x="18320" y="13356"/>
                  <a:pt x="18320" y="13367"/>
                </a:cubicBezTo>
                <a:cubicBezTo>
                  <a:pt x="18334" y="13325"/>
                  <a:pt x="18370" y="13329"/>
                  <a:pt x="18383" y="13303"/>
                </a:cubicBezTo>
                <a:cubicBezTo>
                  <a:pt x="18418" y="13233"/>
                  <a:pt x="18411" y="13264"/>
                  <a:pt x="18478" y="13240"/>
                </a:cubicBezTo>
                <a:cubicBezTo>
                  <a:pt x="18525" y="13223"/>
                  <a:pt x="18586" y="13212"/>
                  <a:pt x="18637" y="13240"/>
                </a:cubicBezTo>
                <a:cubicBezTo>
                  <a:pt x="18681" y="13265"/>
                  <a:pt x="18688" y="13301"/>
                  <a:pt x="18732" y="13335"/>
                </a:cubicBezTo>
              </a:path>
              <a:path w="8541" h="4160">
                <a:moveTo>
                  <a:pt x="19240" y="10954"/>
                </a:moveTo>
                <a:cubicBezTo>
                  <a:pt x="19282" y="10975"/>
                  <a:pt x="19273" y="10950"/>
                  <a:pt x="19304" y="10986"/>
                </a:cubicBezTo>
                <a:cubicBezTo>
                  <a:pt x="19337" y="11025"/>
                  <a:pt x="19398" y="11102"/>
                  <a:pt x="19431" y="11144"/>
                </a:cubicBezTo>
                <a:cubicBezTo>
                  <a:pt x="19498" y="11229"/>
                  <a:pt x="19580" y="11328"/>
                  <a:pt x="19622" y="11430"/>
                </a:cubicBezTo>
                <a:cubicBezTo>
                  <a:pt x="19680" y="11570"/>
                  <a:pt x="19732" y="11756"/>
                  <a:pt x="19748" y="11906"/>
                </a:cubicBezTo>
                <a:cubicBezTo>
                  <a:pt x="19775" y="12162"/>
                  <a:pt x="19761" y="12449"/>
                  <a:pt x="19717" y="12700"/>
                </a:cubicBezTo>
                <a:cubicBezTo>
                  <a:pt x="19683" y="12895"/>
                  <a:pt x="19677" y="13080"/>
                  <a:pt x="19622" y="13272"/>
                </a:cubicBezTo>
                <a:cubicBezTo>
                  <a:pt x="19589" y="13387"/>
                  <a:pt x="19534" y="13555"/>
                  <a:pt x="19463" y="13652"/>
                </a:cubicBezTo>
                <a:cubicBezTo>
                  <a:pt x="19422" y="13708"/>
                  <a:pt x="19340" y="13848"/>
                  <a:pt x="19272" y="13875"/>
                </a:cubicBezTo>
                <a:cubicBezTo>
                  <a:pt x="19234" y="13890"/>
                  <a:pt x="19233" y="13836"/>
                  <a:pt x="19209" y="13811"/>
                </a:cubicBezTo>
              </a:path>
              <a:path w="8541" h="4160">
                <a:moveTo>
                  <a:pt x="20225" y="11970"/>
                </a:moveTo>
                <a:cubicBezTo>
                  <a:pt x="20257" y="11970"/>
                  <a:pt x="20288" y="11970"/>
                  <a:pt x="20320" y="11970"/>
                </a:cubicBezTo>
                <a:cubicBezTo>
                  <a:pt x="20332" y="12007"/>
                  <a:pt x="20363" y="12027"/>
                  <a:pt x="20415" y="12033"/>
                </a:cubicBezTo>
                <a:cubicBezTo>
                  <a:pt x="20440" y="12036"/>
                  <a:pt x="20519" y="12052"/>
                  <a:pt x="20542" y="12065"/>
                </a:cubicBezTo>
                <a:cubicBezTo>
                  <a:pt x="20571" y="12094"/>
                  <a:pt x="20577" y="12105"/>
                  <a:pt x="20606" y="12097"/>
                </a:cubicBezTo>
              </a:path>
              <a:path w="8541" h="4160">
                <a:moveTo>
                  <a:pt x="20288" y="12414"/>
                </a:moveTo>
                <a:cubicBezTo>
                  <a:pt x="20394" y="12414"/>
                  <a:pt x="20484" y="12416"/>
                  <a:pt x="20574" y="12446"/>
                </a:cubicBezTo>
                <a:cubicBezTo>
                  <a:pt x="20616" y="12446"/>
                  <a:pt x="20637" y="12446"/>
                  <a:pt x="20669" y="12446"/>
                </a:cubicBezTo>
              </a:path>
              <a:path w="8541" h="4160">
                <a:moveTo>
                  <a:pt x="21812" y="10668"/>
                </a:moveTo>
                <a:cubicBezTo>
                  <a:pt x="21825" y="10638"/>
                  <a:pt x="21831" y="10603"/>
                  <a:pt x="21844" y="10573"/>
                </a:cubicBezTo>
                <a:cubicBezTo>
                  <a:pt x="21813" y="10597"/>
                  <a:pt x="21787" y="10592"/>
                  <a:pt x="21749" y="10636"/>
                </a:cubicBezTo>
                <a:cubicBezTo>
                  <a:pt x="21675" y="10722"/>
                  <a:pt x="21644" y="10858"/>
                  <a:pt x="21590" y="10954"/>
                </a:cubicBezTo>
                <a:cubicBezTo>
                  <a:pt x="21502" y="11112"/>
                  <a:pt x="21421" y="11316"/>
                  <a:pt x="21368" y="11494"/>
                </a:cubicBezTo>
                <a:cubicBezTo>
                  <a:pt x="21308" y="11696"/>
                  <a:pt x="21226" y="11915"/>
                  <a:pt x="21209" y="12128"/>
                </a:cubicBezTo>
                <a:cubicBezTo>
                  <a:pt x="21190" y="12362"/>
                  <a:pt x="21177" y="12591"/>
                  <a:pt x="21177" y="12827"/>
                </a:cubicBezTo>
                <a:cubicBezTo>
                  <a:pt x="21177" y="13000"/>
                  <a:pt x="21201" y="13169"/>
                  <a:pt x="21241" y="13335"/>
                </a:cubicBezTo>
                <a:cubicBezTo>
                  <a:pt x="21278" y="13489"/>
                  <a:pt x="21316" y="13503"/>
                  <a:pt x="21400" y="13621"/>
                </a:cubicBezTo>
                <a:cubicBezTo>
                  <a:pt x="21442" y="13680"/>
                  <a:pt x="21475" y="13726"/>
                  <a:pt x="21526" y="13780"/>
                </a:cubicBezTo>
                <a:cubicBezTo>
                  <a:pt x="21570" y="13827"/>
                  <a:pt x="21607" y="13839"/>
                  <a:pt x="21654" y="13875"/>
                </a:cubicBezTo>
                <a:cubicBezTo>
                  <a:pt x="21664" y="13885"/>
                  <a:pt x="21675" y="13896"/>
                  <a:pt x="21685" y="13906"/>
                </a:cubicBezTo>
              </a:path>
              <a:path w="8541" h="4160">
                <a:moveTo>
                  <a:pt x="22034" y="11779"/>
                </a:moveTo>
                <a:cubicBezTo>
                  <a:pt x="22034" y="11862"/>
                  <a:pt x="22061" y="11921"/>
                  <a:pt x="22066" y="12002"/>
                </a:cubicBezTo>
                <a:cubicBezTo>
                  <a:pt x="22070" y="12082"/>
                  <a:pt x="22053" y="12239"/>
                  <a:pt x="22034" y="12319"/>
                </a:cubicBezTo>
                <a:cubicBezTo>
                  <a:pt x="22018" y="12387"/>
                  <a:pt x="21991" y="12451"/>
                  <a:pt x="21971" y="12510"/>
                </a:cubicBezTo>
                <a:cubicBezTo>
                  <a:pt x="21945" y="12587"/>
                  <a:pt x="21949" y="12549"/>
                  <a:pt x="21971" y="12510"/>
                </a:cubicBezTo>
                <a:cubicBezTo>
                  <a:pt x="22004" y="12451"/>
                  <a:pt x="22078" y="12471"/>
                  <a:pt x="22098" y="12446"/>
                </a:cubicBezTo>
                <a:cubicBezTo>
                  <a:pt x="22098" y="12414"/>
                  <a:pt x="22098" y="12403"/>
                  <a:pt x="22130" y="12414"/>
                </a:cubicBezTo>
                <a:cubicBezTo>
                  <a:pt x="22179" y="12451"/>
                  <a:pt x="22195" y="12446"/>
                  <a:pt x="22257" y="12446"/>
                </a:cubicBezTo>
                <a:cubicBezTo>
                  <a:pt x="22343" y="12446"/>
                  <a:pt x="22340" y="12435"/>
                  <a:pt x="22352" y="12351"/>
                </a:cubicBezTo>
              </a:path>
              <a:path w="8541" h="4160">
                <a:moveTo>
                  <a:pt x="22352" y="11874"/>
                </a:moveTo>
                <a:cubicBezTo>
                  <a:pt x="22297" y="11983"/>
                  <a:pt x="22349" y="12096"/>
                  <a:pt x="22352" y="12224"/>
                </a:cubicBezTo>
                <a:cubicBezTo>
                  <a:pt x="22357" y="12426"/>
                  <a:pt x="22320" y="12623"/>
                  <a:pt x="22320" y="12827"/>
                </a:cubicBezTo>
                <a:cubicBezTo>
                  <a:pt x="22320" y="12972"/>
                  <a:pt x="22336" y="13100"/>
                  <a:pt x="22352" y="13240"/>
                </a:cubicBezTo>
              </a:path>
              <a:path w="8541" h="4160">
                <a:moveTo>
                  <a:pt x="22828" y="13049"/>
                </a:moveTo>
                <a:cubicBezTo>
                  <a:pt x="22781" y="13250"/>
                  <a:pt x="22815" y="13446"/>
                  <a:pt x="22796" y="13652"/>
                </a:cubicBezTo>
                <a:cubicBezTo>
                  <a:pt x="22763" y="13852"/>
                  <a:pt x="22753" y="13926"/>
                  <a:pt x="22765" y="140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Ink 10"/>
          <p:cNvSpPr/>
          <p:nvPr/>
        </p:nvSpPr>
        <p:spPr>
          <a:xfrm>
            <a:off x="8458200" y="3886200"/>
            <a:ext cx="423720" cy="1006560"/>
          </a:xfrm>
          <a:custGeom>
            <a:avLst/>
            <a:gdLst/>
            <a:ahLst/>
            <a:rect l="l" t="t" r="r" b="b"/>
            <a:pathLst>
              <a:path w="1176" h="2795">
                <a:moveTo>
                  <a:pt x="23495" y="12954"/>
                </a:moveTo>
                <a:lnTo>
                  <a:pt x="23495" y="12954"/>
                </a:lnTo>
              </a:path>
              <a:path w="1176" h="2795">
                <a:moveTo>
                  <a:pt x="23495" y="12954"/>
                </a:moveTo>
                <a:lnTo>
                  <a:pt x="23495" y="12954"/>
                </a:lnTo>
              </a:path>
              <a:path w="1176" h="2795">
                <a:moveTo>
                  <a:pt x="23495" y="12986"/>
                </a:moveTo>
                <a:cubicBezTo>
                  <a:pt x="23495" y="13018"/>
                  <a:pt x="23495" y="13049"/>
                  <a:pt x="23495" y="13081"/>
                </a:cubicBezTo>
                <a:cubicBezTo>
                  <a:pt x="23543" y="13065"/>
                  <a:pt x="23527" y="13043"/>
                  <a:pt x="23527" y="12986"/>
                </a:cubicBezTo>
                <a:cubicBezTo>
                  <a:pt x="23527" y="12950"/>
                  <a:pt x="23524" y="12936"/>
                  <a:pt x="23495" y="12922"/>
                </a:cubicBezTo>
                <a:cubicBezTo>
                  <a:pt x="23495" y="12989"/>
                  <a:pt x="23463" y="13092"/>
                  <a:pt x="23527" y="13049"/>
                </a:cubicBezTo>
              </a:path>
              <a:path w="1176" h="2795">
                <a:moveTo>
                  <a:pt x="24225" y="11303"/>
                </a:moveTo>
                <a:cubicBezTo>
                  <a:pt x="24236" y="11303"/>
                  <a:pt x="24246" y="11303"/>
                  <a:pt x="24257" y="11303"/>
                </a:cubicBezTo>
                <a:cubicBezTo>
                  <a:pt x="24245" y="11352"/>
                  <a:pt x="24195" y="11417"/>
                  <a:pt x="24162" y="11462"/>
                </a:cubicBezTo>
                <a:cubicBezTo>
                  <a:pt x="24146" y="11483"/>
                  <a:pt x="24061" y="11546"/>
                  <a:pt x="24035" y="11557"/>
                </a:cubicBezTo>
                <a:cubicBezTo>
                  <a:pt x="23996" y="11574"/>
                  <a:pt x="23915" y="11576"/>
                  <a:pt x="23876" y="11589"/>
                </a:cubicBezTo>
                <a:cubicBezTo>
                  <a:pt x="23819" y="11608"/>
                  <a:pt x="23844" y="11680"/>
                  <a:pt x="23844" y="11748"/>
                </a:cubicBezTo>
                <a:cubicBezTo>
                  <a:pt x="23844" y="11896"/>
                  <a:pt x="23844" y="11980"/>
                  <a:pt x="23844" y="12128"/>
                </a:cubicBezTo>
                <a:cubicBezTo>
                  <a:pt x="23844" y="12204"/>
                  <a:pt x="23864" y="12062"/>
                  <a:pt x="23876" y="12033"/>
                </a:cubicBezTo>
                <a:cubicBezTo>
                  <a:pt x="23900" y="11974"/>
                  <a:pt x="23939" y="11913"/>
                  <a:pt x="24003" y="11906"/>
                </a:cubicBezTo>
                <a:cubicBezTo>
                  <a:pt x="24036" y="11902"/>
                  <a:pt x="24110" y="11942"/>
                  <a:pt x="24130" y="11970"/>
                </a:cubicBezTo>
                <a:cubicBezTo>
                  <a:pt x="24187" y="12052"/>
                  <a:pt x="24196" y="12139"/>
                  <a:pt x="24225" y="12224"/>
                </a:cubicBezTo>
                <a:cubicBezTo>
                  <a:pt x="24264" y="12341"/>
                  <a:pt x="24252" y="12451"/>
                  <a:pt x="24225" y="12573"/>
                </a:cubicBezTo>
                <a:cubicBezTo>
                  <a:pt x="24203" y="12674"/>
                  <a:pt x="24146" y="12774"/>
                  <a:pt x="24098" y="12859"/>
                </a:cubicBezTo>
                <a:cubicBezTo>
                  <a:pt x="24054" y="12937"/>
                  <a:pt x="24047" y="12979"/>
                  <a:pt x="23971" y="12922"/>
                </a:cubicBezTo>
              </a:path>
              <a:path w="1176" h="2795">
                <a:moveTo>
                  <a:pt x="24257" y="10795"/>
                </a:moveTo>
                <a:cubicBezTo>
                  <a:pt x="24333" y="10843"/>
                  <a:pt x="24355" y="10860"/>
                  <a:pt x="24384" y="10954"/>
                </a:cubicBezTo>
                <a:cubicBezTo>
                  <a:pt x="24429" y="11099"/>
                  <a:pt x="24499" y="11224"/>
                  <a:pt x="24543" y="11366"/>
                </a:cubicBezTo>
                <a:cubicBezTo>
                  <a:pt x="24597" y="11540"/>
                  <a:pt x="24611" y="11698"/>
                  <a:pt x="24638" y="11874"/>
                </a:cubicBezTo>
                <a:cubicBezTo>
                  <a:pt x="24672" y="12097"/>
                  <a:pt x="24666" y="12315"/>
                  <a:pt x="24638" y="12541"/>
                </a:cubicBezTo>
                <a:cubicBezTo>
                  <a:pt x="24609" y="12773"/>
                  <a:pt x="24519" y="13018"/>
                  <a:pt x="24448" y="13240"/>
                </a:cubicBezTo>
                <a:cubicBezTo>
                  <a:pt x="24387" y="13421"/>
                  <a:pt x="24369" y="13475"/>
                  <a:pt x="24320" y="135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Ink 11"/>
          <p:cNvSpPr/>
          <p:nvPr/>
        </p:nvSpPr>
        <p:spPr>
          <a:xfrm>
            <a:off x="2389320" y="2525760"/>
            <a:ext cx="171360" cy="127080"/>
          </a:xfrm>
          <a:custGeom>
            <a:avLst/>
            <a:gdLst/>
            <a:ahLst/>
            <a:rect l="l" t="t" r="r" b="b"/>
            <a:pathLst>
              <a:path w="477" h="350">
                <a:moveTo>
                  <a:pt x="6636" y="7366"/>
                </a:moveTo>
                <a:cubicBezTo>
                  <a:pt x="6669" y="7358"/>
                  <a:pt x="6744" y="7339"/>
                  <a:pt x="6763" y="7302"/>
                </a:cubicBezTo>
                <a:cubicBezTo>
                  <a:pt x="6787" y="7255"/>
                  <a:pt x="6827" y="7224"/>
                  <a:pt x="6858" y="7176"/>
                </a:cubicBezTo>
                <a:cubicBezTo>
                  <a:pt x="6893" y="7122"/>
                  <a:pt x="6907" y="6972"/>
                  <a:pt x="6953" y="7017"/>
                </a:cubicBezTo>
                <a:cubicBezTo>
                  <a:pt x="6989" y="7052"/>
                  <a:pt x="6996" y="7034"/>
                  <a:pt x="7017" y="7080"/>
                </a:cubicBezTo>
                <a:cubicBezTo>
                  <a:pt x="7030" y="7110"/>
                  <a:pt x="7045" y="7177"/>
                  <a:pt x="7048" y="7207"/>
                </a:cubicBezTo>
                <a:cubicBezTo>
                  <a:pt x="7053" y="7257"/>
                  <a:pt x="7082" y="7294"/>
                  <a:pt x="7112" y="73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28240" y="38088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riangle has the vertices (1, -2)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7, -2), and (5, 3).  What is the perime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Ink 3"/>
          <p:cNvSpPr/>
          <p:nvPr/>
        </p:nvSpPr>
        <p:spPr>
          <a:xfrm>
            <a:off x="743040" y="2057400"/>
            <a:ext cx="1303200" cy="1211400"/>
          </a:xfrm>
          <a:custGeom>
            <a:avLst/>
            <a:gdLst/>
            <a:ahLst/>
            <a:rect l="l" t="t" r="r" b="b"/>
            <a:pathLst>
              <a:path w="3620" h="3366">
                <a:moveTo>
                  <a:pt x="3588" y="5715"/>
                </a:moveTo>
                <a:cubicBezTo>
                  <a:pt x="3588" y="5811"/>
                  <a:pt x="3605" y="5880"/>
                  <a:pt x="3620" y="5969"/>
                </a:cubicBezTo>
                <a:cubicBezTo>
                  <a:pt x="3650" y="6146"/>
                  <a:pt x="3607" y="6339"/>
                  <a:pt x="3588" y="6509"/>
                </a:cubicBezTo>
                <a:cubicBezTo>
                  <a:pt x="3542" y="6918"/>
                  <a:pt x="3583" y="7377"/>
                  <a:pt x="3620" y="7779"/>
                </a:cubicBezTo>
                <a:cubicBezTo>
                  <a:pt x="3650" y="8107"/>
                  <a:pt x="3606" y="8439"/>
                  <a:pt x="3651" y="8763"/>
                </a:cubicBezTo>
                <a:cubicBezTo>
                  <a:pt x="3665" y="8865"/>
                  <a:pt x="3647" y="8994"/>
                  <a:pt x="3620" y="9049"/>
                </a:cubicBezTo>
              </a:path>
              <a:path w="3620" h="3366">
                <a:moveTo>
                  <a:pt x="2127" y="7652"/>
                </a:moveTo>
                <a:cubicBezTo>
                  <a:pt x="2117" y="7652"/>
                  <a:pt x="2106" y="7652"/>
                  <a:pt x="2096" y="7652"/>
                </a:cubicBezTo>
                <a:cubicBezTo>
                  <a:pt x="2127" y="7671"/>
                  <a:pt x="2123" y="7680"/>
                  <a:pt x="2191" y="7684"/>
                </a:cubicBezTo>
                <a:cubicBezTo>
                  <a:pt x="2250" y="7688"/>
                  <a:pt x="2350" y="7666"/>
                  <a:pt x="2413" y="7652"/>
                </a:cubicBezTo>
                <a:cubicBezTo>
                  <a:pt x="2530" y="7626"/>
                  <a:pt x="2645" y="7610"/>
                  <a:pt x="2762" y="7588"/>
                </a:cubicBezTo>
                <a:cubicBezTo>
                  <a:pt x="2972" y="7548"/>
                  <a:pt x="3188" y="7562"/>
                  <a:pt x="3397" y="7525"/>
                </a:cubicBezTo>
                <a:cubicBezTo>
                  <a:pt x="3577" y="7493"/>
                  <a:pt x="3755" y="7516"/>
                  <a:pt x="3937" y="7493"/>
                </a:cubicBezTo>
                <a:cubicBezTo>
                  <a:pt x="4119" y="7469"/>
                  <a:pt x="4290" y="7461"/>
                  <a:pt x="4477" y="7461"/>
                </a:cubicBezTo>
                <a:cubicBezTo>
                  <a:pt x="4725" y="7461"/>
                  <a:pt x="4966" y="7467"/>
                  <a:pt x="5207" y="7493"/>
                </a:cubicBezTo>
                <a:cubicBezTo>
                  <a:pt x="5308" y="7504"/>
                  <a:pt x="5397" y="7509"/>
                  <a:pt x="5493" y="7525"/>
                </a:cubicBezTo>
                <a:cubicBezTo>
                  <a:pt x="5524" y="7525"/>
                  <a:pt x="5535" y="7525"/>
                  <a:pt x="5556" y="7525"/>
                </a:cubicBezTo>
              </a:path>
              <a:path w="3620" h="3366">
                <a:moveTo>
                  <a:pt x="5429" y="7334"/>
                </a:moveTo>
                <a:cubicBezTo>
                  <a:pt x="5365" y="7334"/>
                  <a:pt x="5449" y="7350"/>
                  <a:pt x="5461" y="7366"/>
                </a:cubicBezTo>
                <a:cubicBezTo>
                  <a:pt x="5506" y="7428"/>
                  <a:pt x="5531" y="7436"/>
                  <a:pt x="5588" y="7493"/>
                </a:cubicBezTo>
                <a:cubicBezTo>
                  <a:pt x="5624" y="7528"/>
                  <a:pt x="5643" y="7527"/>
                  <a:pt x="5683" y="7556"/>
                </a:cubicBezTo>
                <a:cubicBezTo>
                  <a:pt x="5612" y="7556"/>
                  <a:pt x="5546" y="7541"/>
                  <a:pt x="5493" y="7588"/>
                </a:cubicBezTo>
                <a:cubicBezTo>
                  <a:pt x="5464" y="7614"/>
                  <a:pt x="5406" y="7636"/>
                  <a:pt x="5398" y="7652"/>
                </a:cubicBezTo>
                <a:cubicBezTo>
                  <a:pt x="5398" y="7688"/>
                  <a:pt x="5395" y="7702"/>
                  <a:pt x="5366" y="7715"/>
                </a:cubicBezTo>
              </a:path>
              <a:path w="3620" h="3366">
                <a:moveTo>
                  <a:pt x="2222" y="7493"/>
                </a:moveTo>
                <a:cubicBezTo>
                  <a:pt x="2233" y="7493"/>
                  <a:pt x="2243" y="7493"/>
                  <a:pt x="2254" y="7493"/>
                </a:cubicBezTo>
                <a:cubicBezTo>
                  <a:pt x="2217" y="7530"/>
                  <a:pt x="2203" y="7541"/>
                  <a:pt x="2191" y="7588"/>
                </a:cubicBezTo>
                <a:cubicBezTo>
                  <a:pt x="2140" y="7605"/>
                  <a:pt x="2178" y="7603"/>
                  <a:pt x="2127" y="7620"/>
                </a:cubicBezTo>
                <a:cubicBezTo>
                  <a:pt x="2114" y="7661"/>
                  <a:pt x="2105" y="7670"/>
                  <a:pt x="2064" y="7684"/>
                </a:cubicBezTo>
                <a:cubicBezTo>
                  <a:pt x="2127" y="7684"/>
                  <a:pt x="2139" y="7698"/>
                  <a:pt x="2191" y="7715"/>
                </a:cubicBezTo>
                <a:cubicBezTo>
                  <a:pt x="2222" y="7715"/>
                  <a:pt x="2233" y="7715"/>
                  <a:pt x="2254" y="7715"/>
                </a:cubicBezTo>
                <a:cubicBezTo>
                  <a:pt x="2267" y="7753"/>
                  <a:pt x="2308" y="7769"/>
                  <a:pt x="2350" y="7810"/>
                </a:cubicBezTo>
              </a:path>
              <a:path w="3620" h="3366">
                <a:moveTo>
                  <a:pt x="3461" y="8858"/>
                </a:moveTo>
                <a:cubicBezTo>
                  <a:pt x="3461" y="8904"/>
                  <a:pt x="3469" y="8951"/>
                  <a:pt x="3492" y="8985"/>
                </a:cubicBezTo>
                <a:cubicBezTo>
                  <a:pt x="3523" y="9032"/>
                  <a:pt x="3571" y="9068"/>
                  <a:pt x="3620" y="9080"/>
                </a:cubicBezTo>
                <a:cubicBezTo>
                  <a:pt x="3620" y="9022"/>
                  <a:pt x="3612" y="8998"/>
                  <a:pt x="3651" y="8954"/>
                </a:cubicBezTo>
                <a:cubicBezTo>
                  <a:pt x="3685" y="8916"/>
                  <a:pt x="3757" y="8872"/>
                  <a:pt x="3778" y="8826"/>
                </a:cubicBezTo>
                <a:cubicBezTo>
                  <a:pt x="3796" y="8785"/>
                  <a:pt x="3805" y="8768"/>
                  <a:pt x="3842" y="87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Ink 4"/>
          <p:cNvSpPr/>
          <p:nvPr/>
        </p:nvSpPr>
        <p:spPr>
          <a:xfrm>
            <a:off x="1257480" y="1932120"/>
            <a:ext cx="949320" cy="1050840"/>
          </a:xfrm>
          <a:custGeom>
            <a:avLst/>
            <a:gdLst/>
            <a:ahLst/>
            <a:rect l="l" t="t" r="r" b="b"/>
            <a:pathLst>
              <a:path w="2637" h="2922">
                <a:moveTo>
                  <a:pt x="3492" y="5842"/>
                </a:moveTo>
                <a:cubicBezTo>
                  <a:pt x="3492" y="5817"/>
                  <a:pt x="3461" y="5833"/>
                  <a:pt x="3492" y="5778"/>
                </a:cubicBezTo>
                <a:cubicBezTo>
                  <a:pt x="3518" y="5732"/>
                  <a:pt x="3534" y="5711"/>
                  <a:pt x="3556" y="5683"/>
                </a:cubicBezTo>
                <a:cubicBezTo>
                  <a:pt x="3600" y="5626"/>
                  <a:pt x="3601" y="5678"/>
                  <a:pt x="3620" y="5620"/>
                </a:cubicBezTo>
                <a:cubicBezTo>
                  <a:pt x="3634" y="5689"/>
                  <a:pt x="3646" y="5720"/>
                  <a:pt x="3683" y="5747"/>
                </a:cubicBezTo>
                <a:cubicBezTo>
                  <a:pt x="3712" y="5775"/>
                  <a:pt x="3723" y="5781"/>
                  <a:pt x="3715" y="5810"/>
                </a:cubicBezTo>
              </a:path>
              <a:path w="2637" h="2922">
                <a:moveTo>
                  <a:pt x="4794" y="6540"/>
                </a:moveTo>
                <a:cubicBezTo>
                  <a:pt x="4773" y="6498"/>
                  <a:pt x="4746" y="6558"/>
                  <a:pt x="4731" y="6604"/>
                </a:cubicBezTo>
                <a:cubicBezTo>
                  <a:pt x="4723" y="6629"/>
                  <a:pt x="4731" y="6673"/>
                  <a:pt x="4731" y="6699"/>
                </a:cubicBezTo>
                <a:cubicBezTo>
                  <a:pt x="4789" y="6699"/>
                  <a:pt x="4819" y="6702"/>
                  <a:pt x="4826" y="6636"/>
                </a:cubicBezTo>
                <a:cubicBezTo>
                  <a:pt x="4828" y="6620"/>
                  <a:pt x="4892" y="6567"/>
                  <a:pt x="4858" y="6540"/>
                </a:cubicBezTo>
                <a:cubicBezTo>
                  <a:pt x="4826" y="6540"/>
                  <a:pt x="4816" y="6540"/>
                  <a:pt x="4826" y="6509"/>
                </a:cubicBezTo>
                <a:cubicBezTo>
                  <a:pt x="4811" y="6551"/>
                  <a:pt x="4781" y="6548"/>
                  <a:pt x="4762" y="6604"/>
                </a:cubicBezTo>
                <a:cubicBezTo>
                  <a:pt x="4754" y="6628"/>
                  <a:pt x="4762" y="6673"/>
                  <a:pt x="4762" y="6699"/>
                </a:cubicBezTo>
                <a:cubicBezTo>
                  <a:pt x="4801" y="6699"/>
                  <a:pt x="4847" y="6689"/>
                  <a:pt x="4858" y="6668"/>
                </a:cubicBezTo>
                <a:cubicBezTo>
                  <a:pt x="4871" y="6642"/>
                  <a:pt x="4858" y="6570"/>
                  <a:pt x="4858" y="6540"/>
                </a:cubicBezTo>
                <a:cubicBezTo>
                  <a:pt x="4821" y="6552"/>
                  <a:pt x="4800" y="6584"/>
                  <a:pt x="4794" y="6636"/>
                </a:cubicBezTo>
                <a:cubicBezTo>
                  <a:pt x="4794" y="6647"/>
                  <a:pt x="4794" y="6657"/>
                  <a:pt x="4794" y="6668"/>
                </a:cubicBezTo>
              </a:path>
              <a:path w="2637" h="2922">
                <a:moveTo>
                  <a:pt x="4858" y="5398"/>
                </a:moveTo>
                <a:cubicBezTo>
                  <a:pt x="4812" y="5409"/>
                  <a:pt x="4772" y="5452"/>
                  <a:pt x="4731" y="5461"/>
                </a:cubicBezTo>
                <a:cubicBezTo>
                  <a:pt x="4612" y="5487"/>
                  <a:pt x="4645" y="5559"/>
                  <a:pt x="4572" y="5652"/>
                </a:cubicBezTo>
                <a:cubicBezTo>
                  <a:pt x="4524" y="5713"/>
                  <a:pt x="4450" y="5847"/>
                  <a:pt x="4477" y="5937"/>
                </a:cubicBezTo>
                <a:cubicBezTo>
                  <a:pt x="4490" y="5981"/>
                  <a:pt x="4516" y="6071"/>
                  <a:pt x="4572" y="6096"/>
                </a:cubicBezTo>
                <a:cubicBezTo>
                  <a:pt x="4593" y="6105"/>
                  <a:pt x="4644" y="6096"/>
                  <a:pt x="4667" y="6096"/>
                </a:cubicBezTo>
              </a:path>
              <a:path w="2637" h="2922">
                <a:moveTo>
                  <a:pt x="5080" y="5588"/>
                </a:moveTo>
                <a:cubicBezTo>
                  <a:pt x="5030" y="5600"/>
                  <a:pt x="5010" y="5620"/>
                  <a:pt x="4953" y="5620"/>
                </a:cubicBezTo>
                <a:cubicBezTo>
                  <a:pt x="4921" y="5620"/>
                  <a:pt x="4911" y="5620"/>
                  <a:pt x="4890" y="5620"/>
                </a:cubicBezTo>
                <a:cubicBezTo>
                  <a:pt x="4862" y="5634"/>
                  <a:pt x="4887" y="5676"/>
                  <a:pt x="4858" y="5747"/>
                </a:cubicBezTo>
                <a:cubicBezTo>
                  <a:pt x="4847" y="5768"/>
                  <a:pt x="4837" y="5789"/>
                  <a:pt x="4826" y="5810"/>
                </a:cubicBezTo>
                <a:cubicBezTo>
                  <a:pt x="4892" y="5793"/>
                  <a:pt x="4909" y="5747"/>
                  <a:pt x="4985" y="5747"/>
                </a:cubicBezTo>
                <a:cubicBezTo>
                  <a:pt x="5028" y="5747"/>
                  <a:pt x="5088" y="5730"/>
                  <a:pt x="5112" y="5778"/>
                </a:cubicBezTo>
                <a:cubicBezTo>
                  <a:pt x="5134" y="5821"/>
                  <a:pt x="5105" y="5878"/>
                  <a:pt x="5080" y="5906"/>
                </a:cubicBezTo>
                <a:cubicBezTo>
                  <a:pt x="5047" y="5942"/>
                  <a:pt x="4996" y="5987"/>
                  <a:pt x="4953" y="6001"/>
                </a:cubicBezTo>
                <a:cubicBezTo>
                  <a:pt x="4929" y="6009"/>
                  <a:pt x="4883" y="6001"/>
                  <a:pt x="4858" y="6001"/>
                </a:cubicBezTo>
              </a:path>
              <a:path w="2637" h="2922">
                <a:moveTo>
                  <a:pt x="5207" y="5810"/>
                </a:moveTo>
                <a:cubicBezTo>
                  <a:pt x="5207" y="5875"/>
                  <a:pt x="5192" y="5885"/>
                  <a:pt x="5175" y="5937"/>
                </a:cubicBezTo>
                <a:cubicBezTo>
                  <a:pt x="5160" y="5983"/>
                  <a:pt x="5190" y="6026"/>
                  <a:pt x="5207" y="6064"/>
                </a:cubicBezTo>
              </a:path>
              <a:path w="2637" h="2922">
                <a:moveTo>
                  <a:pt x="5398" y="5620"/>
                </a:moveTo>
                <a:cubicBezTo>
                  <a:pt x="5497" y="5620"/>
                  <a:pt x="5569" y="5616"/>
                  <a:pt x="5652" y="5588"/>
                </a:cubicBezTo>
                <a:cubicBezTo>
                  <a:pt x="5662" y="5588"/>
                  <a:pt x="5673" y="5588"/>
                  <a:pt x="5683" y="5588"/>
                </a:cubicBezTo>
                <a:cubicBezTo>
                  <a:pt x="5710" y="5642"/>
                  <a:pt x="5693" y="5679"/>
                  <a:pt x="5652" y="5715"/>
                </a:cubicBezTo>
                <a:cubicBezTo>
                  <a:pt x="5627" y="5737"/>
                  <a:pt x="5559" y="5804"/>
                  <a:pt x="5556" y="5810"/>
                </a:cubicBezTo>
                <a:cubicBezTo>
                  <a:pt x="5556" y="5842"/>
                  <a:pt x="5556" y="5853"/>
                  <a:pt x="5524" y="5842"/>
                </a:cubicBezTo>
                <a:cubicBezTo>
                  <a:pt x="5561" y="5805"/>
                  <a:pt x="5605" y="5762"/>
                  <a:pt x="5652" y="5747"/>
                </a:cubicBezTo>
                <a:cubicBezTo>
                  <a:pt x="5688" y="5735"/>
                  <a:pt x="5760" y="5741"/>
                  <a:pt x="5778" y="5778"/>
                </a:cubicBezTo>
                <a:cubicBezTo>
                  <a:pt x="5801" y="5824"/>
                  <a:pt x="5775" y="5906"/>
                  <a:pt x="5747" y="5937"/>
                </a:cubicBezTo>
                <a:cubicBezTo>
                  <a:pt x="5708" y="5981"/>
                  <a:pt x="5675" y="5969"/>
                  <a:pt x="5620" y="5969"/>
                </a:cubicBezTo>
                <a:cubicBezTo>
                  <a:pt x="5584" y="5969"/>
                  <a:pt x="5570" y="5966"/>
                  <a:pt x="5556" y="5937"/>
                </a:cubicBezTo>
              </a:path>
              <a:path w="2637" h="2922">
                <a:moveTo>
                  <a:pt x="5937" y="5366"/>
                </a:moveTo>
                <a:cubicBezTo>
                  <a:pt x="5979" y="5421"/>
                  <a:pt x="6065" y="5459"/>
                  <a:pt x="6096" y="5524"/>
                </a:cubicBezTo>
                <a:cubicBezTo>
                  <a:pt x="6133" y="5602"/>
                  <a:pt x="6128" y="5722"/>
                  <a:pt x="6128" y="5810"/>
                </a:cubicBezTo>
                <a:cubicBezTo>
                  <a:pt x="6128" y="5878"/>
                  <a:pt x="6089" y="5939"/>
                  <a:pt x="6064" y="6001"/>
                </a:cubicBezTo>
                <a:cubicBezTo>
                  <a:pt x="6041" y="6059"/>
                  <a:pt x="6011" y="6086"/>
                  <a:pt x="5969" y="6128"/>
                </a:cubicBezTo>
              </a:path>
              <a:path w="2637" h="2922">
                <a:moveTo>
                  <a:pt x="4794" y="6572"/>
                </a:moveTo>
                <a:cubicBezTo>
                  <a:pt x="4794" y="6637"/>
                  <a:pt x="4779" y="6647"/>
                  <a:pt x="4762" y="6699"/>
                </a:cubicBezTo>
                <a:cubicBezTo>
                  <a:pt x="4746" y="6746"/>
                  <a:pt x="4731" y="6772"/>
                  <a:pt x="4731" y="6826"/>
                </a:cubicBezTo>
                <a:cubicBezTo>
                  <a:pt x="4731" y="6882"/>
                  <a:pt x="4682" y="6936"/>
                  <a:pt x="4667" y="6985"/>
                </a:cubicBezTo>
                <a:cubicBezTo>
                  <a:pt x="4651" y="7039"/>
                  <a:pt x="4619" y="7093"/>
                  <a:pt x="4604" y="7144"/>
                </a:cubicBezTo>
                <a:cubicBezTo>
                  <a:pt x="4604" y="7155"/>
                  <a:pt x="4604" y="7165"/>
                  <a:pt x="4604" y="7176"/>
                </a:cubicBezTo>
                <a:cubicBezTo>
                  <a:pt x="4575" y="7186"/>
                  <a:pt x="4554" y="7230"/>
                  <a:pt x="4540" y="7271"/>
                </a:cubicBezTo>
                <a:cubicBezTo>
                  <a:pt x="4525" y="7316"/>
                  <a:pt x="4491" y="7354"/>
                  <a:pt x="4477" y="7398"/>
                </a:cubicBezTo>
                <a:cubicBezTo>
                  <a:pt x="4477" y="7409"/>
                  <a:pt x="4477" y="7419"/>
                  <a:pt x="4477" y="7430"/>
                </a:cubicBezTo>
                <a:cubicBezTo>
                  <a:pt x="4422" y="7448"/>
                  <a:pt x="4444" y="7503"/>
                  <a:pt x="4413" y="7556"/>
                </a:cubicBezTo>
                <a:cubicBezTo>
                  <a:pt x="4385" y="7585"/>
                  <a:pt x="4375" y="7591"/>
                  <a:pt x="4382" y="7620"/>
                </a:cubicBezTo>
                <a:cubicBezTo>
                  <a:pt x="4353" y="7630"/>
                  <a:pt x="4332" y="7674"/>
                  <a:pt x="4318" y="7715"/>
                </a:cubicBezTo>
                <a:cubicBezTo>
                  <a:pt x="4318" y="7726"/>
                  <a:pt x="4318" y="7736"/>
                  <a:pt x="4318" y="7747"/>
                </a:cubicBezTo>
                <a:cubicBezTo>
                  <a:pt x="4270" y="7763"/>
                  <a:pt x="4286" y="7785"/>
                  <a:pt x="4286" y="7842"/>
                </a:cubicBezTo>
                <a:cubicBezTo>
                  <a:pt x="4241" y="7857"/>
                  <a:pt x="4254" y="7851"/>
                  <a:pt x="4254" y="7906"/>
                </a:cubicBezTo>
                <a:cubicBezTo>
                  <a:pt x="4214" y="7920"/>
                  <a:pt x="4204" y="7950"/>
                  <a:pt x="4191" y="8001"/>
                </a:cubicBezTo>
              </a:path>
              <a:path w="2637" h="2922">
                <a:moveTo>
                  <a:pt x="4191" y="8033"/>
                </a:moveTo>
                <a:cubicBezTo>
                  <a:pt x="4255" y="8033"/>
                  <a:pt x="4266" y="8018"/>
                  <a:pt x="4318" y="8001"/>
                </a:cubicBezTo>
                <a:cubicBezTo>
                  <a:pt x="4407" y="7971"/>
                  <a:pt x="4519" y="7997"/>
                  <a:pt x="4604" y="7969"/>
                </a:cubicBezTo>
                <a:cubicBezTo>
                  <a:pt x="4670" y="7947"/>
                  <a:pt x="4744" y="7986"/>
                  <a:pt x="4794" y="8001"/>
                </a:cubicBezTo>
                <a:cubicBezTo>
                  <a:pt x="4906" y="8035"/>
                  <a:pt x="5038" y="7997"/>
                  <a:pt x="5144" y="8033"/>
                </a:cubicBezTo>
                <a:cubicBezTo>
                  <a:pt x="5177" y="8044"/>
                  <a:pt x="5224" y="8001"/>
                  <a:pt x="5270" y="8001"/>
                </a:cubicBezTo>
                <a:cubicBezTo>
                  <a:pt x="5281" y="8001"/>
                  <a:pt x="5387" y="8001"/>
                  <a:pt x="5302" y="8001"/>
                </a:cubicBezTo>
              </a:path>
              <a:path w="2637" h="2922">
                <a:moveTo>
                  <a:pt x="4826" y="6540"/>
                </a:moveTo>
                <a:cubicBezTo>
                  <a:pt x="4826" y="6572"/>
                  <a:pt x="4826" y="6604"/>
                  <a:pt x="4826" y="6636"/>
                </a:cubicBezTo>
                <a:cubicBezTo>
                  <a:pt x="4874" y="6652"/>
                  <a:pt x="4858" y="6674"/>
                  <a:pt x="4858" y="6731"/>
                </a:cubicBezTo>
                <a:cubicBezTo>
                  <a:pt x="4886" y="6740"/>
                  <a:pt x="4909" y="6785"/>
                  <a:pt x="4921" y="6826"/>
                </a:cubicBezTo>
                <a:cubicBezTo>
                  <a:pt x="4934" y="6871"/>
                  <a:pt x="4942" y="6910"/>
                  <a:pt x="4953" y="6953"/>
                </a:cubicBezTo>
                <a:cubicBezTo>
                  <a:pt x="4966" y="7005"/>
                  <a:pt x="4997" y="7032"/>
                  <a:pt x="5016" y="7080"/>
                </a:cubicBezTo>
                <a:cubicBezTo>
                  <a:pt x="5032" y="7121"/>
                  <a:pt x="5023" y="7170"/>
                  <a:pt x="5048" y="7207"/>
                </a:cubicBezTo>
                <a:cubicBezTo>
                  <a:pt x="5082" y="7257"/>
                  <a:pt x="5080" y="7319"/>
                  <a:pt x="5112" y="7366"/>
                </a:cubicBezTo>
                <a:cubicBezTo>
                  <a:pt x="5140" y="7408"/>
                  <a:pt x="5171" y="7474"/>
                  <a:pt x="5175" y="7525"/>
                </a:cubicBezTo>
                <a:cubicBezTo>
                  <a:pt x="5175" y="7556"/>
                  <a:pt x="5175" y="7567"/>
                  <a:pt x="5175" y="7588"/>
                </a:cubicBezTo>
                <a:cubicBezTo>
                  <a:pt x="5220" y="7603"/>
                  <a:pt x="5207" y="7597"/>
                  <a:pt x="5207" y="7652"/>
                </a:cubicBezTo>
                <a:cubicBezTo>
                  <a:pt x="5255" y="7668"/>
                  <a:pt x="5239" y="7690"/>
                  <a:pt x="5239" y="7747"/>
                </a:cubicBezTo>
                <a:cubicBezTo>
                  <a:pt x="5252" y="7763"/>
                  <a:pt x="5289" y="7800"/>
                  <a:pt x="5302" y="7842"/>
                </a:cubicBezTo>
                <a:cubicBezTo>
                  <a:pt x="5302" y="7853"/>
                  <a:pt x="5302" y="7863"/>
                  <a:pt x="5302" y="7874"/>
                </a:cubicBezTo>
                <a:cubicBezTo>
                  <a:pt x="5347" y="7889"/>
                  <a:pt x="5334" y="7883"/>
                  <a:pt x="5334" y="7938"/>
                </a:cubicBezTo>
                <a:cubicBezTo>
                  <a:pt x="5421" y="7959"/>
                  <a:pt x="5359" y="8001"/>
                  <a:pt x="5398" y="8033"/>
                </a:cubicBezTo>
                <a:cubicBezTo>
                  <a:pt x="5408" y="8033"/>
                  <a:pt x="5419" y="8033"/>
                  <a:pt x="5429" y="8033"/>
                </a:cubicBezTo>
              </a:path>
              <a:path w="2637" h="2922">
                <a:moveTo>
                  <a:pt x="4096" y="6985"/>
                </a:moveTo>
                <a:cubicBezTo>
                  <a:pt x="4096" y="7051"/>
                  <a:pt x="4080" y="7091"/>
                  <a:pt x="4064" y="7144"/>
                </a:cubicBezTo>
                <a:cubicBezTo>
                  <a:pt x="4062" y="7152"/>
                  <a:pt x="4064" y="7261"/>
                  <a:pt x="4064" y="7176"/>
                </a:cubicBezTo>
              </a:path>
              <a:path w="2637" h="2922">
                <a:moveTo>
                  <a:pt x="3969" y="7302"/>
                </a:moveTo>
                <a:cubicBezTo>
                  <a:pt x="4043" y="7302"/>
                  <a:pt x="4117" y="7302"/>
                  <a:pt x="4191" y="7302"/>
                </a:cubicBezTo>
              </a:path>
              <a:path w="2637" h="2922">
                <a:moveTo>
                  <a:pt x="5461" y="6985"/>
                </a:moveTo>
                <a:cubicBezTo>
                  <a:pt x="5479" y="6980"/>
                  <a:pt x="5566" y="6925"/>
                  <a:pt x="5588" y="6953"/>
                </a:cubicBezTo>
                <a:cubicBezTo>
                  <a:pt x="5588" y="6985"/>
                  <a:pt x="5588" y="6996"/>
                  <a:pt x="5620" y="6985"/>
                </a:cubicBezTo>
                <a:cubicBezTo>
                  <a:pt x="5589" y="7026"/>
                  <a:pt x="5581" y="7074"/>
                  <a:pt x="5556" y="7112"/>
                </a:cubicBezTo>
                <a:cubicBezTo>
                  <a:pt x="5526" y="7157"/>
                  <a:pt x="5531" y="7163"/>
                  <a:pt x="5493" y="7176"/>
                </a:cubicBezTo>
                <a:cubicBezTo>
                  <a:pt x="5546" y="7176"/>
                  <a:pt x="5599" y="7176"/>
                  <a:pt x="5652" y="7176"/>
                </a:cubicBezTo>
              </a:path>
              <a:path w="2637" h="2922">
                <a:moveTo>
                  <a:pt x="5429" y="7271"/>
                </a:moveTo>
                <a:cubicBezTo>
                  <a:pt x="5440" y="7271"/>
                  <a:pt x="5450" y="7271"/>
                  <a:pt x="5461" y="7271"/>
                </a:cubicBezTo>
                <a:cubicBezTo>
                  <a:pt x="5483" y="7205"/>
                  <a:pt x="5497" y="7264"/>
                  <a:pt x="5556" y="7271"/>
                </a:cubicBezTo>
                <a:cubicBezTo>
                  <a:pt x="5626" y="7279"/>
                  <a:pt x="5658" y="7260"/>
                  <a:pt x="5715" y="7302"/>
                </a:cubicBezTo>
              </a:path>
              <a:path w="2637" h="2922">
                <a:moveTo>
                  <a:pt x="4858" y="8096"/>
                </a:moveTo>
                <a:cubicBezTo>
                  <a:pt x="4907" y="8080"/>
                  <a:pt x="4884" y="8064"/>
                  <a:pt x="4953" y="8064"/>
                </a:cubicBezTo>
                <a:cubicBezTo>
                  <a:pt x="4985" y="8064"/>
                  <a:pt x="4995" y="8064"/>
                  <a:pt x="5016" y="8064"/>
                </a:cubicBezTo>
                <a:cubicBezTo>
                  <a:pt x="5016" y="8140"/>
                  <a:pt x="5006" y="8113"/>
                  <a:pt x="4953" y="8160"/>
                </a:cubicBezTo>
                <a:cubicBezTo>
                  <a:pt x="4942" y="8171"/>
                  <a:pt x="4932" y="8181"/>
                  <a:pt x="4921" y="8192"/>
                </a:cubicBezTo>
                <a:cubicBezTo>
                  <a:pt x="4957" y="8165"/>
                  <a:pt x="5015" y="8127"/>
                  <a:pt x="5048" y="8192"/>
                </a:cubicBezTo>
                <a:cubicBezTo>
                  <a:pt x="5075" y="8245"/>
                  <a:pt x="5029" y="8282"/>
                  <a:pt x="4985" y="8287"/>
                </a:cubicBezTo>
                <a:cubicBezTo>
                  <a:pt x="4954" y="8290"/>
                  <a:pt x="4921" y="8287"/>
                  <a:pt x="4890" y="82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Ink 5"/>
          <p:cNvSpPr/>
          <p:nvPr/>
        </p:nvSpPr>
        <p:spPr>
          <a:xfrm>
            <a:off x="3417840" y="1932120"/>
            <a:ext cx="114480" cy="285480"/>
          </a:xfrm>
          <a:custGeom>
            <a:avLst/>
            <a:gdLst/>
            <a:ahLst/>
            <a:rect l="l" t="t" r="r" b="b"/>
            <a:pathLst>
              <a:path w="319" h="795">
                <a:moveTo>
                  <a:pt x="9525" y="5366"/>
                </a:moveTo>
                <a:cubicBezTo>
                  <a:pt x="9492" y="5443"/>
                  <a:pt x="9493" y="5472"/>
                  <a:pt x="9493" y="5556"/>
                </a:cubicBezTo>
                <a:cubicBezTo>
                  <a:pt x="9493" y="5757"/>
                  <a:pt x="9493" y="5959"/>
                  <a:pt x="9493" y="6160"/>
                </a:cubicBezTo>
              </a:path>
              <a:path w="319" h="795">
                <a:moveTo>
                  <a:pt x="9811" y="5969"/>
                </a:moveTo>
                <a:cubicBezTo>
                  <a:pt x="9811" y="5980"/>
                  <a:pt x="9811" y="5990"/>
                  <a:pt x="9811" y="60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Ink 6"/>
          <p:cNvSpPr/>
          <p:nvPr/>
        </p:nvSpPr>
        <p:spPr>
          <a:xfrm>
            <a:off x="3807000" y="1646280"/>
            <a:ext cx="1817640" cy="720720"/>
          </a:xfrm>
          <a:custGeom>
            <a:avLst/>
            <a:gdLst/>
            <a:ahLst/>
            <a:rect l="l" t="t" r="r" b="b"/>
            <a:pathLst>
              <a:path w="5049" h="2001">
                <a:moveTo>
                  <a:pt x="10922" y="5016"/>
                </a:moveTo>
                <a:cubicBezTo>
                  <a:pt x="10872" y="5033"/>
                  <a:pt x="10888" y="5066"/>
                  <a:pt x="10858" y="5112"/>
                </a:cubicBezTo>
                <a:cubicBezTo>
                  <a:pt x="10811" y="5184"/>
                  <a:pt x="10771" y="5256"/>
                  <a:pt x="10732" y="5334"/>
                </a:cubicBezTo>
                <a:cubicBezTo>
                  <a:pt x="10697" y="5405"/>
                  <a:pt x="10652" y="5510"/>
                  <a:pt x="10636" y="5588"/>
                </a:cubicBezTo>
                <a:cubicBezTo>
                  <a:pt x="10617" y="5681"/>
                  <a:pt x="10588" y="5783"/>
                  <a:pt x="10573" y="5874"/>
                </a:cubicBezTo>
                <a:cubicBezTo>
                  <a:pt x="10558" y="5968"/>
                  <a:pt x="10585" y="6043"/>
                  <a:pt x="10604" y="6128"/>
                </a:cubicBezTo>
                <a:cubicBezTo>
                  <a:pt x="10626" y="6226"/>
                  <a:pt x="10635" y="6196"/>
                  <a:pt x="10668" y="6286"/>
                </a:cubicBezTo>
                <a:cubicBezTo>
                  <a:pt x="10680" y="6318"/>
                  <a:pt x="10716" y="6374"/>
                  <a:pt x="10732" y="6382"/>
                </a:cubicBezTo>
                <a:cubicBezTo>
                  <a:pt x="10742" y="6382"/>
                  <a:pt x="10753" y="6382"/>
                  <a:pt x="10763" y="6382"/>
                </a:cubicBezTo>
              </a:path>
              <a:path w="5049" h="2001">
                <a:moveTo>
                  <a:pt x="11112" y="5461"/>
                </a:moveTo>
                <a:cubicBezTo>
                  <a:pt x="11174" y="5482"/>
                  <a:pt x="11128" y="5519"/>
                  <a:pt x="11144" y="5588"/>
                </a:cubicBezTo>
                <a:cubicBezTo>
                  <a:pt x="11168" y="5693"/>
                  <a:pt x="11192" y="5803"/>
                  <a:pt x="11208" y="5906"/>
                </a:cubicBezTo>
                <a:cubicBezTo>
                  <a:pt x="11222" y="5991"/>
                  <a:pt x="11226" y="6079"/>
                  <a:pt x="11240" y="6160"/>
                </a:cubicBezTo>
                <a:cubicBezTo>
                  <a:pt x="11250" y="6221"/>
                  <a:pt x="11219" y="6263"/>
                  <a:pt x="11208" y="6318"/>
                </a:cubicBezTo>
              </a:path>
              <a:path w="5049" h="2001">
                <a:moveTo>
                  <a:pt x="11620" y="6064"/>
                </a:moveTo>
                <a:cubicBezTo>
                  <a:pt x="11661" y="6118"/>
                  <a:pt x="11652" y="6151"/>
                  <a:pt x="11652" y="6223"/>
                </a:cubicBezTo>
                <a:cubicBezTo>
                  <a:pt x="11652" y="6304"/>
                  <a:pt x="11671" y="6352"/>
                  <a:pt x="11684" y="6414"/>
                </a:cubicBezTo>
                <a:cubicBezTo>
                  <a:pt x="11684" y="6467"/>
                  <a:pt x="11684" y="6477"/>
                  <a:pt x="11684" y="6509"/>
                </a:cubicBezTo>
              </a:path>
              <a:path w="5049" h="2001">
                <a:moveTo>
                  <a:pt x="11843" y="5747"/>
                </a:moveTo>
                <a:cubicBezTo>
                  <a:pt x="11909" y="5747"/>
                  <a:pt x="12015" y="5770"/>
                  <a:pt x="12033" y="5715"/>
                </a:cubicBezTo>
              </a:path>
              <a:path w="5049" h="2001">
                <a:moveTo>
                  <a:pt x="12319" y="5620"/>
                </a:moveTo>
                <a:cubicBezTo>
                  <a:pt x="12325" y="5577"/>
                  <a:pt x="12333" y="5485"/>
                  <a:pt x="12382" y="5461"/>
                </a:cubicBezTo>
                <a:cubicBezTo>
                  <a:pt x="12408" y="5448"/>
                  <a:pt x="12480" y="5461"/>
                  <a:pt x="12510" y="5461"/>
                </a:cubicBezTo>
                <a:cubicBezTo>
                  <a:pt x="12510" y="5588"/>
                  <a:pt x="12530" y="5726"/>
                  <a:pt x="12478" y="5842"/>
                </a:cubicBezTo>
                <a:cubicBezTo>
                  <a:pt x="12445" y="5915"/>
                  <a:pt x="12429" y="5995"/>
                  <a:pt x="12382" y="6064"/>
                </a:cubicBezTo>
                <a:cubicBezTo>
                  <a:pt x="12372" y="6075"/>
                  <a:pt x="12361" y="6085"/>
                  <a:pt x="12351" y="6096"/>
                </a:cubicBezTo>
                <a:cubicBezTo>
                  <a:pt x="12399" y="6047"/>
                  <a:pt x="12410" y="6032"/>
                  <a:pt x="12478" y="6032"/>
                </a:cubicBezTo>
                <a:cubicBezTo>
                  <a:pt x="12543" y="6032"/>
                  <a:pt x="12553" y="6046"/>
                  <a:pt x="12605" y="6064"/>
                </a:cubicBezTo>
                <a:cubicBezTo>
                  <a:pt x="12658" y="6082"/>
                  <a:pt x="12720" y="6069"/>
                  <a:pt x="12732" y="6032"/>
                </a:cubicBezTo>
              </a:path>
              <a:path w="5049" h="2001">
                <a:moveTo>
                  <a:pt x="12541" y="5080"/>
                </a:moveTo>
                <a:cubicBezTo>
                  <a:pt x="12604" y="5143"/>
                  <a:pt x="12648" y="5201"/>
                  <a:pt x="12700" y="5270"/>
                </a:cubicBezTo>
                <a:cubicBezTo>
                  <a:pt x="12754" y="5341"/>
                  <a:pt x="12804" y="5394"/>
                  <a:pt x="12859" y="5461"/>
                </a:cubicBezTo>
                <a:cubicBezTo>
                  <a:pt x="12913" y="5526"/>
                  <a:pt x="12972" y="5631"/>
                  <a:pt x="12986" y="5715"/>
                </a:cubicBezTo>
                <a:cubicBezTo>
                  <a:pt x="13010" y="5856"/>
                  <a:pt x="13012" y="6094"/>
                  <a:pt x="12954" y="6223"/>
                </a:cubicBezTo>
                <a:cubicBezTo>
                  <a:pt x="12943" y="6244"/>
                  <a:pt x="12933" y="6265"/>
                  <a:pt x="12922" y="6286"/>
                </a:cubicBezTo>
              </a:path>
              <a:path w="5049" h="2001">
                <a:moveTo>
                  <a:pt x="13843" y="4985"/>
                </a:moveTo>
                <a:cubicBezTo>
                  <a:pt x="13803" y="5037"/>
                  <a:pt x="13756" y="5056"/>
                  <a:pt x="13716" y="5112"/>
                </a:cubicBezTo>
                <a:cubicBezTo>
                  <a:pt x="13660" y="5190"/>
                  <a:pt x="13610" y="5287"/>
                  <a:pt x="13557" y="5366"/>
                </a:cubicBezTo>
                <a:cubicBezTo>
                  <a:pt x="13481" y="5481"/>
                  <a:pt x="13465" y="5594"/>
                  <a:pt x="13430" y="5715"/>
                </a:cubicBezTo>
                <a:cubicBezTo>
                  <a:pt x="13402" y="5814"/>
                  <a:pt x="13398" y="5896"/>
                  <a:pt x="13398" y="6001"/>
                </a:cubicBezTo>
                <a:cubicBezTo>
                  <a:pt x="13398" y="6101"/>
                  <a:pt x="13422" y="6196"/>
                  <a:pt x="13462" y="6286"/>
                </a:cubicBezTo>
                <a:cubicBezTo>
                  <a:pt x="13496" y="6361"/>
                  <a:pt x="13560" y="6438"/>
                  <a:pt x="13589" y="6509"/>
                </a:cubicBezTo>
                <a:cubicBezTo>
                  <a:pt x="13607" y="6552"/>
                  <a:pt x="13629" y="6611"/>
                  <a:pt x="13652" y="6540"/>
                </a:cubicBezTo>
              </a:path>
              <a:path w="5049" h="2001">
                <a:moveTo>
                  <a:pt x="14224" y="5524"/>
                </a:moveTo>
                <a:cubicBezTo>
                  <a:pt x="14173" y="5537"/>
                  <a:pt x="14144" y="5572"/>
                  <a:pt x="14097" y="5588"/>
                </a:cubicBezTo>
                <a:cubicBezTo>
                  <a:pt x="14058" y="5601"/>
                  <a:pt x="14008" y="5616"/>
                  <a:pt x="13970" y="5620"/>
                </a:cubicBezTo>
                <a:cubicBezTo>
                  <a:pt x="13956" y="5622"/>
                  <a:pt x="13828" y="5631"/>
                  <a:pt x="13843" y="5588"/>
                </a:cubicBezTo>
                <a:cubicBezTo>
                  <a:pt x="13854" y="5588"/>
                  <a:pt x="13864" y="5588"/>
                  <a:pt x="13875" y="5588"/>
                </a:cubicBezTo>
                <a:cubicBezTo>
                  <a:pt x="13841" y="5678"/>
                  <a:pt x="13843" y="5745"/>
                  <a:pt x="13843" y="5842"/>
                </a:cubicBezTo>
                <a:cubicBezTo>
                  <a:pt x="13843" y="5884"/>
                  <a:pt x="13843" y="5927"/>
                  <a:pt x="13843" y="5969"/>
                </a:cubicBezTo>
                <a:cubicBezTo>
                  <a:pt x="13855" y="5922"/>
                  <a:pt x="13872" y="5881"/>
                  <a:pt x="13906" y="5842"/>
                </a:cubicBezTo>
                <a:cubicBezTo>
                  <a:pt x="13926" y="5820"/>
                  <a:pt x="14006" y="5743"/>
                  <a:pt x="14034" y="5747"/>
                </a:cubicBezTo>
                <a:cubicBezTo>
                  <a:pt x="14069" y="5752"/>
                  <a:pt x="14167" y="5793"/>
                  <a:pt x="14192" y="5810"/>
                </a:cubicBezTo>
                <a:cubicBezTo>
                  <a:pt x="14227" y="5834"/>
                  <a:pt x="14266" y="5958"/>
                  <a:pt x="14256" y="6001"/>
                </a:cubicBezTo>
                <a:cubicBezTo>
                  <a:pt x="14237" y="6081"/>
                  <a:pt x="14210" y="6156"/>
                  <a:pt x="14160" y="6223"/>
                </a:cubicBezTo>
                <a:cubicBezTo>
                  <a:pt x="14148" y="6239"/>
                  <a:pt x="14047" y="6325"/>
                  <a:pt x="14034" y="6318"/>
                </a:cubicBezTo>
                <a:cubicBezTo>
                  <a:pt x="14022" y="6312"/>
                  <a:pt x="13991" y="6251"/>
                  <a:pt x="13970" y="6223"/>
                </a:cubicBezTo>
              </a:path>
              <a:path w="5049" h="2001">
                <a:moveTo>
                  <a:pt x="14414" y="6001"/>
                </a:moveTo>
                <a:cubicBezTo>
                  <a:pt x="14448" y="6091"/>
                  <a:pt x="14446" y="6158"/>
                  <a:pt x="14446" y="6255"/>
                </a:cubicBezTo>
                <a:cubicBezTo>
                  <a:pt x="14446" y="6318"/>
                  <a:pt x="14446" y="6382"/>
                  <a:pt x="14446" y="6445"/>
                </a:cubicBezTo>
              </a:path>
              <a:path w="5049" h="2001">
                <a:moveTo>
                  <a:pt x="14637" y="5588"/>
                </a:moveTo>
                <a:cubicBezTo>
                  <a:pt x="14713" y="5627"/>
                  <a:pt x="14688" y="5572"/>
                  <a:pt x="14764" y="5556"/>
                </a:cubicBezTo>
                <a:cubicBezTo>
                  <a:pt x="14824" y="5543"/>
                  <a:pt x="14860" y="5524"/>
                  <a:pt x="14922" y="5524"/>
                </a:cubicBezTo>
                <a:cubicBezTo>
                  <a:pt x="14906" y="5590"/>
                  <a:pt x="14849" y="5645"/>
                  <a:pt x="14827" y="5715"/>
                </a:cubicBezTo>
                <a:cubicBezTo>
                  <a:pt x="14811" y="5768"/>
                  <a:pt x="14774" y="5822"/>
                  <a:pt x="14764" y="5842"/>
                </a:cubicBezTo>
                <a:cubicBezTo>
                  <a:pt x="14731" y="5908"/>
                  <a:pt x="14774" y="5907"/>
                  <a:pt x="14796" y="5842"/>
                </a:cubicBezTo>
                <a:cubicBezTo>
                  <a:pt x="14808" y="5805"/>
                  <a:pt x="14839" y="5784"/>
                  <a:pt x="14891" y="5778"/>
                </a:cubicBezTo>
                <a:cubicBezTo>
                  <a:pt x="14955" y="5771"/>
                  <a:pt x="14961" y="5777"/>
                  <a:pt x="14986" y="5810"/>
                </a:cubicBezTo>
                <a:cubicBezTo>
                  <a:pt x="15023" y="5859"/>
                  <a:pt x="15018" y="5875"/>
                  <a:pt x="15018" y="5937"/>
                </a:cubicBezTo>
                <a:cubicBezTo>
                  <a:pt x="15018" y="6009"/>
                  <a:pt x="15023" y="6099"/>
                  <a:pt x="14986" y="6160"/>
                </a:cubicBezTo>
                <a:cubicBezTo>
                  <a:pt x="14961" y="6201"/>
                  <a:pt x="14939" y="6239"/>
                  <a:pt x="14891" y="6255"/>
                </a:cubicBezTo>
                <a:cubicBezTo>
                  <a:pt x="14838" y="6273"/>
                  <a:pt x="14835" y="6223"/>
                  <a:pt x="14827" y="6191"/>
                </a:cubicBezTo>
              </a:path>
              <a:path w="5049" h="2001">
                <a:moveTo>
                  <a:pt x="15081" y="5048"/>
                </a:moveTo>
                <a:cubicBezTo>
                  <a:pt x="15133" y="5117"/>
                  <a:pt x="15118" y="5102"/>
                  <a:pt x="15208" y="5144"/>
                </a:cubicBezTo>
                <a:cubicBezTo>
                  <a:pt x="15299" y="5186"/>
                  <a:pt x="15343" y="5276"/>
                  <a:pt x="15430" y="5334"/>
                </a:cubicBezTo>
                <a:cubicBezTo>
                  <a:pt x="15511" y="5388"/>
                  <a:pt x="15569" y="5452"/>
                  <a:pt x="15589" y="5556"/>
                </a:cubicBezTo>
                <a:cubicBezTo>
                  <a:pt x="15614" y="5685"/>
                  <a:pt x="15595" y="5775"/>
                  <a:pt x="15589" y="5906"/>
                </a:cubicBezTo>
                <a:cubicBezTo>
                  <a:pt x="15584" y="6020"/>
                  <a:pt x="15526" y="6087"/>
                  <a:pt x="15494" y="6191"/>
                </a:cubicBezTo>
                <a:cubicBezTo>
                  <a:pt x="15478" y="6243"/>
                  <a:pt x="15460" y="6323"/>
                  <a:pt x="15399" y="6350"/>
                </a:cubicBezTo>
                <a:cubicBezTo>
                  <a:pt x="15363" y="6350"/>
                  <a:pt x="15349" y="6353"/>
                  <a:pt x="15335" y="6382"/>
                </a:cubicBezTo>
              </a:path>
              <a:path w="5049" h="2001">
                <a:moveTo>
                  <a:pt x="10922" y="4572"/>
                </a:moveTo>
                <a:cubicBezTo>
                  <a:pt x="10922" y="4648"/>
                  <a:pt x="10969" y="4639"/>
                  <a:pt x="10986" y="4699"/>
                </a:cubicBezTo>
                <a:cubicBezTo>
                  <a:pt x="11006" y="4768"/>
                  <a:pt x="11018" y="4860"/>
                  <a:pt x="11049" y="4921"/>
                </a:cubicBezTo>
                <a:cubicBezTo>
                  <a:pt x="11088" y="4999"/>
                  <a:pt x="11137" y="5023"/>
                  <a:pt x="11144" y="5112"/>
                </a:cubicBezTo>
                <a:cubicBezTo>
                  <a:pt x="11144" y="5123"/>
                  <a:pt x="11144" y="5133"/>
                  <a:pt x="11144" y="5144"/>
                </a:cubicBezTo>
              </a:path>
              <a:path w="5049" h="2001">
                <a:moveTo>
                  <a:pt x="11176" y="4604"/>
                </a:moveTo>
                <a:cubicBezTo>
                  <a:pt x="11161" y="4662"/>
                  <a:pt x="11132" y="4733"/>
                  <a:pt x="11112" y="4794"/>
                </a:cubicBezTo>
                <a:cubicBezTo>
                  <a:pt x="11087" y="4870"/>
                  <a:pt x="11039" y="4958"/>
                  <a:pt x="10986" y="5016"/>
                </a:cubicBezTo>
                <a:cubicBezTo>
                  <a:pt x="10947" y="5059"/>
                  <a:pt x="10951" y="5095"/>
                  <a:pt x="10922" y="5144"/>
                </a:cubicBezTo>
              </a:path>
              <a:path w="5049" h="2001">
                <a:moveTo>
                  <a:pt x="11240" y="4890"/>
                </a:moveTo>
                <a:cubicBezTo>
                  <a:pt x="11264" y="4977"/>
                  <a:pt x="11240" y="4963"/>
                  <a:pt x="11240" y="5048"/>
                </a:cubicBezTo>
                <a:cubicBezTo>
                  <a:pt x="11240" y="5106"/>
                  <a:pt x="11235" y="5122"/>
                  <a:pt x="11271" y="5144"/>
                </a:cubicBezTo>
              </a:path>
              <a:path w="5049" h="2001">
                <a:moveTo>
                  <a:pt x="11684" y="4636"/>
                </a:moveTo>
                <a:cubicBezTo>
                  <a:pt x="11665" y="4728"/>
                  <a:pt x="11661" y="4790"/>
                  <a:pt x="11684" y="4890"/>
                </a:cubicBezTo>
                <a:cubicBezTo>
                  <a:pt x="11709" y="4963"/>
                  <a:pt x="11697" y="4995"/>
                  <a:pt x="11748" y="4985"/>
                </a:cubicBezTo>
              </a:path>
              <a:path w="5049" h="2001">
                <a:moveTo>
                  <a:pt x="11843" y="4572"/>
                </a:moveTo>
                <a:cubicBezTo>
                  <a:pt x="11827" y="4637"/>
                  <a:pt x="11811" y="4653"/>
                  <a:pt x="11811" y="4731"/>
                </a:cubicBezTo>
                <a:cubicBezTo>
                  <a:pt x="11811" y="4847"/>
                  <a:pt x="11797" y="4941"/>
                  <a:pt x="11779" y="5048"/>
                </a:cubicBezTo>
                <a:cubicBezTo>
                  <a:pt x="11771" y="5098"/>
                  <a:pt x="11779" y="5156"/>
                  <a:pt x="11779" y="5207"/>
                </a:cubicBezTo>
              </a:path>
              <a:path w="5049" h="2001">
                <a:moveTo>
                  <a:pt x="11970" y="4762"/>
                </a:moveTo>
                <a:cubicBezTo>
                  <a:pt x="11970" y="4857"/>
                  <a:pt x="11943" y="4926"/>
                  <a:pt x="11938" y="5016"/>
                </a:cubicBezTo>
                <a:cubicBezTo>
                  <a:pt x="11934" y="5079"/>
                  <a:pt x="11938" y="5144"/>
                  <a:pt x="11938" y="5207"/>
                </a:cubicBezTo>
              </a:path>
              <a:path w="5049" h="2001">
                <a:moveTo>
                  <a:pt x="13811" y="4731"/>
                </a:moveTo>
                <a:cubicBezTo>
                  <a:pt x="13826" y="4789"/>
                  <a:pt x="13855" y="4860"/>
                  <a:pt x="13875" y="4921"/>
                </a:cubicBezTo>
                <a:cubicBezTo>
                  <a:pt x="13903" y="5008"/>
                  <a:pt x="13943" y="5087"/>
                  <a:pt x="13970" y="5175"/>
                </a:cubicBezTo>
                <a:cubicBezTo>
                  <a:pt x="13970" y="5207"/>
                  <a:pt x="13970" y="5218"/>
                  <a:pt x="14002" y="5207"/>
                </a:cubicBezTo>
              </a:path>
              <a:path w="5049" h="2001">
                <a:moveTo>
                  <a:pt x="14034" y="4699"/>
                </a:moveTo>
                <a:cubicBezTo>
                  <a:pt x="13985" y="4764"/>
                  <a:pt x="13941" y="4874"/>
                  <a:pt x="13906" y="4953"/>
                </a:cubicBezTo>
                <a:cubicBezTo>
                  <a:pt x="13861" y="5055"/>
                  <a:pt x="13867" y="5178"/>
                  <a:pt x="13811" y="5270"/>
                </a:cubicBezTo>
                <a:cubicBezTo>
                  <a:pt x="13801" y="5281"/>
                  <a:pt x="13790" y="5291"/>
                  <a:pt x="13780" y="5302"/>
                </a:cubicBezTo>
              </a:path>
              <a:path w="5049" h="2001">
                <a:moveTo>
                  <a:pt x="14034" y="5016"/>
                </a:moveTo>
                <a:cubicBezTo>
                  <a:pt x="14085" y="5003"/>
                  <a:pt x="14118" y="4985"/>
                  <a:pt x="14160" y="4953"/>
                </a:cubicBezTo>
                <a:cubicBezTo>
                  <a:pt x="14189" y="4991"/>
                  <a:pt x="14215" y="5057"/>
                  <a:pt x="14192" y="5112"/>
                </a:cubicBezTo>
                <a:cubicBezTo>
                  <a:pt x="14167" y="5172"/>
                  <a:pt x="14160" y="5195"/>
                  <a:pt x="14160" y="5270"/>
                </a:cubicBezTo>
                <a:cubicBezTo>
                  <a:pt x="14217" y="5256"/>
                  <a:pt x="14244" y="5219"/>
                  <a:pt x="14288" y="5175"/>
                </a:cubicBezTo>
              </a:path>
              <a:path w="5049" h="2001">
                <a:moveTo>
                  <a:pt x="14573" y="4731"/>
                </a:moveTo>
                <a:cubicBezTo>
                  <a:pt x="14573" y="4784"/>
                  <a:pt x="14586" y="4815"/>
                  <a:pt x="14605" y="4858"/>
                </a:cubicBezTo>
                <a:cubicBezTo>
                  <a:pt x="14635" y="4928"/>
                  <a:pt x="14647" y="4990"/>
                  <a:pt x="14700" y="5048"/>
                </a:cubicBezTo>
                <a:cubicBezTo>
                  <a:pt x="14711" y="5059"/>
                  <a:pt x="14721" y="5069"/>
                  <a:pt x="14732" y="5080"/>
                </a:cubicBezTo>
              </a:path>
              <a:path w="5049" h="2001">
                <a:moveTo>
                  <a:pt x="14764" y="4667"/>
                </a:moveTo>
                <a:cubicBezTo>
                  <a:pt x="14764" y="4831"/>
                  <a:pt x="14776" y="4989"/>
                  <a:pt x="14796" y="5144"/>
                </a:cubicBezTo>
                <a:cubicBezTo>
                  <a:pt x="14805" y="5215"/>
                  <a:pt x="14796" y="5294"/>
                  <a:pt x="14796" y="5366"/>
                </a:cubicBezTo>
              </a:path>
              <a:path w="5049" h="2001">
                <a:moveTo>
                  <a:pt x="14891" y="4985"/>
                </a:moveTo>
                <a:cubicBezTo>
                  <a:pt x="14929" y="4975"/>
                  <a:pt x="14948" y="4962"/>
                  <a:pt x="14986" y="4953"/>
                </a:cubicBezTo>
                <a:cubicBezTo>
                  <a:pt x="14986" y="5059"/>
                  <a:pt x="14986" y="5164"/>
                  <a:pt x="14986" y="5270"/>
                </a:cubicBezTo>
                <a:cubicBezTo>
                  <a:pt x="15027" y="5241"/>
                  <a:pt x="15041" y="5237"/>
                  <a:pt x="15081" y="52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Ink 7"/>
          <p:cNvSpPr/>
          <p:nvPr/>
        </p:nvSpPr>
        <p:spPr>
          <a:xfrm>
            <a:off x="3954600" y="4321080"/>
            <a:ext cx="2355840" cy="422280"/>
          </a:xfrm>
          <a:custGeom>
            <a:avLst/>
            <a:gdLst/>
            <a:ahLst/>
            <a:rect l="l" t="t" r="r" b="b"/>
            <a:pathLst>
              <a:path w="6541" h="1175">
                <a:moveTo>
                  <a:pt x="11398" y="12065"/>
                </a:moveTo>
                <a:cubicBezTo>
                  <a:pt x="11352" y="12100"/>
                  <a:pt x="11316" y="12115"/>
                  <a:pt x="11271" y="12160"/>
                </a:cubicBezTo>
                <a:cubicBezTo>
                  <a:pt x="11187" y="12245"/>
                  <a:pt x="11123" y="12336"/>
                  <a:pt x="11081" y="12446"/>
                </a:cubicBezTo>
                <a:cubicBezTo>
                  <a:pt x="11050" y="12527"/>
                  <a:pt x="10978" y="12676"/>
                  <a:pt x="10986" y="12764"/>
                </a:cubicBezTo>
                <a:cubicBezTo>
                  <a:pt x="10991" y="12812"/>
                  <a:pt x="11025" y="12945"/>
                  <a:pt x="11049" y="12986"/>
                </a:cubicBezTo>
                <a:cubicBezTo>
                  <a:pt x="11094" y="13061"/>
                  <a:pt x="11187" y="13092"/>
                  <a:pt x="11208" y="13176"/>
                </a:cubicBezTo>
              </a:path>
              <a:path w="6541" h="1175">
                <a:moveTo>
                  <a:pt x="11366" y="12319"/>
                </a:moveTo>
                <a:cubicBezTo>
                  <a:pt x="11366" y="12279"/>
                  <a:pt x="11363" y="12319"/>
                  <a:pt x="11430" y="12319"/>
                </a:cubicBezTo>
                <a:cubicBezTo>
                  <a:pt x="11544" y="12319"/>
                  <a:pt x="11791" y="12281"/>
                  <a:pt x="11843" y="12351"/>
                </a:cubicBezTo>
                <a:cubicBezTo>
                  <a:pt x="11875" y="12394"/>
                  <a:pt x="11894" y="12450"/>
                  <a:pt x="11874" y="12510"/>
                </a:cubicBezTo>
                <a:cubicBezTo>
                  <a:pt x="11849" y="12587"/>
                  <a:pt x="11812" y="12657"/>
                  <a:pt x="11779" y="12732"/>
                </a:cubicBezTo>
                <a:cubicBezTo>
                  <a:pt x="11752" y="12794"/>
                  <a:pt x="11691" y="12860"/>
                  <a:pt x="11684" y="12922"/>
                </a:cubicBezTo>
                <a:cubicBezTo>
                  <a:pt x="11684" y="12954"/>
                  <a:pt x="11684" y="12965"/>
                  <a:pt x="11684" y="12986"/>
                </a:cubicBezTo>
              </a:path>
              <a:path w="6541" h="1175">
                <a:moveTo>
                  <a:pt x="12097" y="12605"/>
                </a:moveTo>
                <a:cubicBezTo>
                  <a:pt x="12160" y="12605"/>
                  <a:pt x="12208" y="12583"/>
                  <a:pt x="12256" y="12573"/>
                </a:cubicBezTo>
                <a:cubicBezTo>
                  <a:pt x="12277" y="12573"/>
                  <a:pt x="12298" y="12573"/>
                  <a:pt x="12319" y="12573"/>
                </a:cubicBezTo>
              </a:path>
              <a:path w="6541" h="1175">
                <a:moveTo>
                  <a:pt x="12764" y="12319"/>
                </a:moveTo>
                <a:cubicBezTo>
                  <a:pt x="12833" y="12319"/>
                  <a:pt x="12725" y="12348"/>
                  <a:pt x="12700" y="12351"/>
                </a:cubicBezTo>
                <a:cubicBezTo>
                  <a:pt x="12633" y="12358"/>
                  <a:pt x="12649" y="12334"/>
                  <a:pt x="12605" y="12319"/>
                </a:cubicBezTo>
                <a:cubicBezTo>
                  <a:pt x="12555" y="12336"/>
                  <a:pt x="12571" y="12369"/>
                  <a:pt x="12541" y="12414"/>
                </a:cubicBezTo>
                <a:cubicBezTo>
                  <a:pt x="12511" y="12461"/>
                  <a:pt x="12505" y="12528"/>
                  <a:pt x="12478" y="12573"/>
                </a:cubicBezTo>
                <a:cubicBezTo>
                  <a:pt x="12467" y="12584"/>
                  <a:pt x="12457" y="12594"/>
                  <a:pt x="12446" y="12605"/>
                </a:cubicBezTo>
                <a:cubicBezTo>
                  <a:pt x="12485" y="12592"/>
                  <a:pt x="12489" y="12552"/>
                  <a:pt x="12541" y="12541"/>
                </a:cubicBezTo>
                <a:cubicBezTo>
                  <a:pt x="12629" y="12522"/>
                  <a:pt x="12665" y="12565"/>
                  <a:pt x="12732" y="12605"/>
                </a:cubicBezTo>
                <a:cubicBezTo>
                  <a:pt x="12813" y="12653"/>
                  <a:pt x="12854" y="12702"/>
                  <a:pt x="12859" y="12795"/>
                </a:cubicBezTo>
                <a:cubicBezTo>
                  <a:pt x="12863" y="12866"/>
                  <a:pt x="12871" y="12932"/>
                  <a:pt x="12827" y="12986"/>
                </a:cubicBezTo>
                <a:cubicBezTo>
                  <a:pt x="12777" y="13048"/>
                  <a:pt x="12709" y="13024"/>
                  <a:pt x="12668" y="13018"/>
                </a:cubicBezTo>
                <a:cubicBezTo>
                  <a:pt x="12597" y="13008"/>
                  <a:pt x="12553" y="12989"/>
                  <a:pt x="12510" y="12922"/>
                </a:cubicBezTo>
                <a:cubicBezTo>
                  <a:pt x="12499" y="12901"/>
                  <a:pt x="12489" y="12880"/>
                  <a:pt x="12478" y="12859"/>
                </a:cubicBezTo>
              </a:path>
              <a:path w="6541" h="1175">
                <a:moveTo>
                  <a:pt x="12922" y="12065"/>
                </a:moveTo>
                <a:cubicBezTo>
                  <a:pt x="12958" y="12112"/>
                  <a:pt x="12994" y="12164"/>
                  <a:pt x="13018" y="12224"/>
                </a:cubicBezTo>
                <a:cubicBezTo>
                  <a:pt x="13070" y="12352"/>
                  <a:pt x="13108" y="12466"/>
                  <a:pt x="13113" y="12605"/>
                </a:cubicBezTo>
                <a:cubicBezTo>
                  <a:pt x="13118" y="12731"/>
                  <a:pt x="13099" y="12838"/>
                  <a:pt x="13081" y="12954"/>
                </a:cubicBezTo>
                <a:cubicBezTo>
                  <a:pt x="13072" y="13013"/>
                  <a:pt x="13054" y="13083"/>
                  <a:pt x="12986" y="13113"/>
                </a:cubicBezTo>
                <a:cubicBezTo>
                  <a:pt x="12975" y="13113"/>
                  <a:pt x="12965" y="13113"/>
                  <a:pt x="12954" y="13113"/>
                </a:cubicBezTo>
              </a:path>
              <a:path w="6541" h="1175">
                <a:moveTo>
                  <a:pt x="13303" y="12097"/>
                </a:moveTo>
                <a:cubicBezTo>
                  <a:pt x="13374" y="12097"/>
                  <a:pt x="13347" y="12122"/>
                  <a:pt x="13398" y="12128"/>
                </a:cubicBezTo>
                <a:cubicBezTo>
                  <a:pt x="13431" y="12132"/>
                  <a:pt x="13517" y="12173"/>
                  <a:pt x="13494" y="12224"/>
                </a:cubicBezTo>
                <a:cubicBezTo>
                  <a:pt x="13473" y="12271"/>
                  <a:pt x="13414" y="12294"/>
                  <a:pt x="13398" y="12319"/>
                </a:cubicBezTo>
                <a:cubicBezTo>
                  <a:pt x="13385" y="12339"/>
                  <a:pt x="13341" y="12371"/>
                  <a:pt x="13335" y="12382"/>
                </a:cubicBezTo>
                <a:cubicBezTo>
                  <a:pt x="13335" y="12393"/>
                  <a:pt x="13335" y="12403"/>
                  <a:pt x="13335" y="12414"/>
                </a:cubicBezTo>
                <a:cubicBezTo>
                  <a:pt x="13388" y="12414"/>
                  <a:pt x="13441" y="12414"/>
                  <a:pt x="13494" y="12414"/>
                </a:cubicBezTo>
              </a:path>
              <a:path w="6541" h="1175">
                <a:moveTo>
                  <a:pt x="14129" y="12224"/>
                </a:moveTo>
                <a:cubicBezTo>
                  <a:pt x="14088" y="12238"/>
                  <a:pt x="14079" y="12324"/>
                  <a:pt x="14065" y="12382"/>
                </a:cubicBezTo>
                <a:cubicBezTo>
                  <a:pt x="14048" y="12454"/>
                  <a:pt x="14026" y="12571"/>
                  <a:pt x="14002" y="12636"/>
                </a:cubicBezTo>
                <a:cubicBezTo>
                  <a:pt x="13982" y="12690"/>
                  <a:pt x="13974" y="12748"/>
                  <a:pt x="13938" y="12795"/>
                </a:cubicBezTo>
              </a:path>
              <a:path w="6541" h="1175">
                <a:moveTo>
                  <a:pt x="13843" y="12446"/>
                </a:moveTo>
                <a:cubicBezTo>
                  <a:pt x="13801" y="12467"/>
                  <a:pt x="13859" y="12494"/>
                  <a:pt x="13906" y="12510"/>
                </a:cubicBezTo>
                <a:cubicBezTo>
                  <a:pt x="13992" y="12539"/>
                  <a:pt x="14066" y="12541"/>
                  <a:pt x="14160" y="12541"/>
                </a:cubicBezTo>
                <a:cubicBezTo>
                  <a:pt x="14181" y="12541"/>
                  <a:pt x="14203" y="12541"/>
                  <a:pt x="14224" y="12541"/>
                </a:cubicBezTo>
              </a:path>
              <a:path w="6541" h="1175">
                <a:moveTo>
                  <a:pt x="14954" y="12002"/>
                </a:moveTo>
                <a:cubicBezTo>
                  <a:pt x="14895" y="12016"/>
                  <a:pt x="14855" y="12066"/>
                  <a:pt x="14796" y="12097"/>
                </a:cubicBezTo>
                <a:cubicBezTo>
                  <a:pt x="14671" y="12163"/>
                  <a:pt x="14611" y="12239"/>
                  <a:pt x="14542" y="12351"/>
                </a:cubicBezTo>
                <a:cubicBezTo>
                  <a:pt x="14461" y="12482"/>
                  <a:pt x="14446" y="12549"/>
                  <a:pt x="14446" y="12700"/>
                </a:cubicBezTo>
                <a:cubicBezTo>
                  <a:pt x="14446" y="12787"/>
                  <a:pt x="14463" y="12897"/>
                  <a:pt x="14542" y="12954"/>
                </a:cubicBezTo>
                <a:cubicBezTo>
                  <a:pt x="14597" y="12993"/>
                  <a:pt x="14620" y="12981"/>
                  <a:pt x="14668" y="13018"/>
                </a:cubicBezTo>
              </a:path>
              <a:path w="6541" h="1175">
                <a:moveTo>
                  <a:pt x="14827" y="12478"/>
                </a:moveTo>
                <a:cubicBezTo>
                  <a:pt x="14827" y="12489"/>
                  <a:pt x="14827" y="12499"/>
                  <a:pt x="14827" y="12510"/>
                </a:cubicBezTo>
                <a:cubicBezTo>
                  <a:pt x="14890" y="12510"/>
                  <a:pt x="14938" y="12488"/>
                  <a:pt x="14986" y="12478"/>
                </a:cubicBezTo>
                <a:cubicBezTo>
                  <a:pt x="15007" y="12478"/>
                  <a:pt x="15029" y="12478"/>
                  <a:pt x="15050" y="12478"/>
                </a:cubicBezTo>
              </a:path>
              <a:path w="6541" h="1175">
                <a:moveTo>
                  <a:pt x="15272" y="12351"/>
                </a:moveTo>
                <a:cubicBezTo>
                  <a:pt x="15323" y="12338"/>
                  <a:pt x="15352" y="12303"/>
                  <a:pt x="15399" y="12287"/>
                </a:cubicBezTo>
                <a:cubicBezTo>
                  <a:pt x="15444" y="12272"/>
                  <a:pt x="15515" y="12297"/>
                  <a:pt x="15526" y="12319"/>
                </a:cubicBezTo>
                <a:cubicBezTo>
                  <a:pt x="15555" y="12376"/>
                  <a:pt x="15515" y="12494"/>
                  <a:pt x="15494" y="12541"/>
                </a:cubicBezTo>
                <a:cubicBezTo>
                  <a:pt x="15461" y="12614"/>
                  <a:pt x="15390" y="12670"/>
                  <a:pt x="15335" y="12732"/>
                </a:cubicBezTo>
                <a:cubicBezTo>
                  <a:pt x="15289" y="12784"/>
                  <a:pt x="15272" y="12789"/>
                  <a:pt x="15272" y="12859"/>
                </a:cubicBezTo>
                <a:cubicBezTo>
                  <a:pt x="15322" y="12846"/>
                  <a:pt x="15342" y="12827"/>
                  <a:pt x="15399" y="12827"/>
                </a:cubicBezTo>
                <a:cubicBezTo>
                  <a:pt x="15462" y="12827"/>
                  <a:pt x="15526" y="12827"/>
                  <a:pt x="15589" y="12827"/>
                </a:cubicBezTo>
              </a:path>
              <a:path w="6541" h="1175">
                <a:moveTo>
                  <a:pt x="15875" y="12605"/>
                </a:moveTo>
                <a:cubicBezTo>
                  <a:pt x="15929" y="12564"/>
                  <a:pt x="15962" y="12573"/>
                  <a:pt x="16034" y="12573"/>
                </a:cubicBezTo>
                <a:cubicBezTo>
                  <a:pt x="16045" y="12573"/>
                  <a:pt x="16055" y="12573"/>
                  <a:pt x="16066" y="12573"/>
                </a:cubicBezTo>
              </a:path>
              <a:path w="6541" h="1175">
                <a:moveTo>
                  <a:pt x="16256" y="12351"/>
                </a:moveTo>
                <a:cubicBezTo>
                  <a:pt x="16321" y="12335"/>
                  <a:pt x="16337" y="12319"/>
                  <a:pt x="16415" y="12319"/>
                </a:cubicBezTo>
                <a:cubicBezTo>
                  <a:pt x="16490" y="12319"/>
                  <a:pt x="16513" y="12337"/>
                  <a:pt x="16542" y="12351"/>
                </a:cubicBezTo>
                <a:cubicBezTo>
                  <a:pt x="16574" y="12367"/>
                  <a:pt x="16599" y="12418"/>
                  <a:pt x="16574" y="12478"/>
                </a:cubicBezTo>
                <a:cubicBezTo>
                  <a:pt x="16553" y="12529"/>
                  <a:pt x="16460" y="12594"/>
                  <a:pt x="16415" y="12605"/>
                </a:cubicBezTo>
                <a:cubicBezTo>
                  <a:pt x="16469" y="12564"/>
                  <a:pt x="16502" y="12573"/>
                  <a:pt x="16574" y="12573"/>
                </a:cubicBezTo>
                <a:cubicBezTo>
                  <a:pt x="16643" y="12573"/>
                  <a:pt x="16643" y="12629"/>
                  <a:pt x="16669" y="12668"/>
                </a:cubicBezTo>
                <a:cubicBezTo>
                  <a:pt x="16706" y="12724"/>
                  <a:pt x="16700" y="12754"/>
                  <a:pt x="16700" y="12827"/>
                </a:cubicBezTo>
                <a:cubicBezTo>
                  <a:pt x="16700" y="12882"/>
                  <a:pt x="16655" y="12916"/>
                  <a:pt x="16605" y="12922"/>
                </a:cubicBezTo>
                <a:cubicBezTo>
                  <a:pt x="16549" y="12928"/>
                  <a:pt x="16519" y="12926"/>
                  <a:pt x="16478" y="12890"/>
                </a:cubicBezTo>
                <a:cubicBezTo>
                  <a:pt x="16414" y="12834"/>
                  <a:pt x="16395" y="12812"/>
                  <a:pt x="16383" y="12732"/>
                </a:cubicBezTo>
              </a:path>
              <a:path w="6541" h="1175">
                <a:moveTo>
                  <a:pt x="16796" y="12033"/>
                </a:moveTo>
                <a:cubicBezTo>
                  <a:pt x="16796" y="12110"/>
                  <a:pt x="16831" y="12152"/>
                  <a:pt x="16859" y="12224"/>
                </a:cubicBezTo>
                <a:cubicBezTo>
                  <a:pt x="16911" y="12356"/>
                  <a:pt x="16970" y="12462"/>
                  <a:pt x="16986" y="12605"/>
                </a:cubicBezTo>
                <a:cubicBezTo>
                  <a:pt x="16999" y="12722"/>
                  <a:pt x="16972" y="12816"/>
                  <a:pt x="16954" y="12922"/>
                </a:cubicBezTo>
                <a:cubicBezTo>
                  <a:pt x="16940" y="13004"/>
                  <a:pt x="16947" y="13059"/>
                  <a:pt x="16859" y="13081"/>
                </a:cubicBezTo>
              </a:path>
              <a:path w="6541" h="1175">
                <a:moveTo>
                  <a:pt x="17145" y="12097"/>
                </a:moveTo>
                <a:cubicBezTo>
                  <a:pt x="17155" y="12068"/>
                  <a:pt x="17199" y="12047"/>
                  <a:pt x="17240" y="12033"/>
                </a:cubicBezTo>
                <a:cubicBezTo>
                  <a:pt x="17273" y="12022"/>
                  <a:pt x="17331" y="12033"/>
                  <a:pt x="17367" y="12033"/>
                </a:cubicBezTo>
                <a:cubicBezTo>
                  <a:pt x="17367" y="12098"/>
                  <a:pt x="17345" y="12138"/>
                  <a:pt x="17304" y="12192"/>
                </a:cubicBezTo>
                <a:cubicBezTo>
                  <a:pt x="17274" y="12232"/>
                  <a:pt x="17246" y="12269"/>
                  <a:pt x="17240" y="12319"/>
                </a:cubicBezTo>
                <a:cubicBezTo>
                  <a:pt x="17234" y="12372"/>
                  <a:pt x="17290" y="12411"/>
                  <a:pt x="17336" y="12414"/>
                </a:cubicBezTo>
                <a:cubicBezTo>
                  <a:pt x="17409" y="12419"/>
                  <a:pt x="17448" y="12382"/>
                  <a:pt x="17526" y="123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Ink 8"/>
          <p:cNvSpPr/>
          <p:nvPr/>
        </p:nvSpPr>
        <p:spPr>
          <a:xfrm>
            <a:off x="7007400" y="4183200"/>
            <a:ext cx="261720" cy="230040"/>
          </a:xfrm>
          <a:custGeom>
            <a:avLst/>
            <a:gdLst/>
            <a:ahLst/>
            <a:rect l="l" t="t" r="r" b="b"/>
            <a:pathLst>
              <a:path w="731" h="637">
                <a:moveTo>
                  <a:pt x="19463" y="11748"/>
                </a:moveTo>
                <a:cubicBezTo>
                  <a:pt x="19463" y="11737"/>
                  <a:pt x="19463" y="11727"/>
                  <a:pt x="19463" y="11716"/>
                </a:cubicBezTo>
                <a:cubicBezTo>
                  <a:pt x="19539" y="11716"/>
                  <a:pt x="19590" y="11703"/>
                  <a:pt x="19653" y="11684"/>
                </a:cubicBezTo>
                <a:cubicBezTo>
                  <a:pt x="19729" y="11661"/>
                  <a:pt x="19794" y="11625"/>
                  <a:pt x="19876" y="11620"/>
                </a:cubicBezTo>
                <a:cubicBezTo>
                  <a:pt x="19928" y="11617"/>
                  <a:pt x="19982" y="11620"/>
                  <a:pt x="20034" y="11620"/>
                </a:cubicBezTo>
              </a:path>
              <a:path w="731" h="637">
                <a:moveTo>
                  <a:pt x="19622" y="12256"/>
                </a:moveTo>
                <a:cubicBezTo>
                  <a:pt x="19622" y="12245"/>
                  <a:pt x="19622" y="12235"/>
                  <a:pt x="19622" y="12224"/>
                </a:cubicBezTo>
                <a:cubicBezTo>
                  <a:pt x="19675" y="12224"/>
                  <a:pt x="19705" y="12211"/>
                  <a:pt x="19748" y="12192"/>
                </a:cubicBezTo>
                <a:cubicBezTo>
                  <a:pt x="19831" y="12156"/>
                  <a:pt x="19888" y="12183"/>
                  <a:pt x="19971" y="12160"/>
                </a:cubicBezTo>
                <a:cubicBezTo>
                  <a:pt x="20065" y="12134"/>
                  <a:pt x="20107" y="12108"/>
                  <a:pt x="20193" y="121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Ink 9"/>
          <p:cNvSpPr/>
          <p:nvPr/>
        </p:nvSpPr>
        <p:spPr>
          <a:xfrm>
            <a:off x="7566120" y="2286000"/>
            <a:ext cx="1326960" cy="3828960"/>
          </a:xfrm>
          <a:custGeom>
            <a:avLst/>
            <a:gdLst/>
            <a:ahLst/>
            <a:rect l="l" t="t" r="r" b="b"/>
            <a:pathLst>
              <a:path w="3685" h="10637">
                <a:moveTo>
                  <a:pt x="21590" y="10922"/>
                </a:moveTo>
                <a:cubicBezTo>
                  <a:pt x="21555" y="10969"/>
                  <a:pt x="21540" y="11003"/>
                  <a:pt x="21495" y="11049"/>
                </a:cubicBezTo>
                <a:cubicBezTo>
                  <a:pt x="21442" y="11102"/>
                  <a:pt x="21394" y="11132"/>
                  <a:pt x="21336" y="11176"/>
                </a:cubicBezTo>
                <a:cubicBezTo>
                  <a:pt x="21293" y="11208"/>
                  <a:pt x="21230" y="11234"/>
                  <a:pt x="21177" y="11240"/>
                </a:cubicBezTo>
                <a:cubicBezTo>
                  <a:pt x="21131" y="11245"/>
                  <a:pt x="21104" y="11208"/>
                  <a:pt x="21050" y="11208"/>
                </a:cubicBezTo>
                <a:cubicBezTo>
                  <a:pt x="21050" y="11268"/>
                  <a:pt x="21072" y="11288"/>
                  <a:pt x="21082" y="11335"/>
                </a:cubicBezTo>
                <a:cubicBezTo>
                  <a:pt x="21111" y="11469"/>
                  <a:pt x="21088" y="11665"/>
                  <a:pt x="21050" y="11779"/>
                </a:cubicBezTo>
                <a:cubicBezTo>
                  <a:pt x="21050" y="11811"/>
                  <a:pt x="21050" y="11822"/>
                  <a:pt x="21050" y="11843"/>
                </a:cubicBezTo>
                <a:cubicBezTo>
                  <a:pt x="21085" y="11796"/>
                  <a:pt x="21114" y="11738"/>
                  <a:pt x="21146" y="11684"/>
                </a:cubicBezTo>
                <a:cubicBezTo>
                  <a:pt x="21186" y="11617"/>
                  <a:pt x="21222" y="11564"/>
                  <a:pt x="21272" y="11525"/>
                </a:cubicBezTo>
                <a:cubicBezTo>
                  <a:pt x="21326" y="11483"/>
                  <a:pt x="21378" y="11490"/>
                  <a:pt x="21431" y="11525"/>
                </a:cubicBezTo>
                <a:cubicBezTo>
                  <a:pt x="21510" y="11578"/>
                  <a:pt x="21495" y="11668"/>
                  <a:pt x="21495" y="11748"/>
                </a:cubicBezTo>
                <a:cubicBezTo>
                  <a:pt x="21495" y="11843"/>
                  <a:pt x="21502" y="11915"/>
                  <a:pt x="21463" y="12002"/>
                </a:cubicBezTo>
                <a:cubicBezTo>
                  <a:pt x="21433" y="12068"/>
                  <a:pt x="21397" y="12181"/>
                  <a:pt x="21336" y="12224"/>
                </a:cubicBezTo>
                <a:cubicBezTo>
                  <a:pt x="21263" y="12276"/>
                  <a:pt x="21233" y="12287"/>
                  <a:pt x="21146" y="12287"/>
                </a:cubicBezTo>
                <a:cubicBezTo>
                  <a:pt x="21080" y="12287"/>
                  <a:pt x="21078" y="12293"/>
                  <a:pt x="21050" y="12256"/>
                </a:cubicBezTo>
                <a:cubicBezTo>
                  <a:pt x="21014" y="12220"/>
                  <a:pt x="21003" y="12203"/>
                  <a:pt x="21018" y="12160"/>
                </a:cubicBezTo>
              </a:path>
              <a:path w="3685" h="10637">
                <a:moveTo>
                  <a:pt x="21749" y="11970"/>
                </a:moveTo>
                <a:cubicBezTo>
                  <a:pt x="21749" y="12002"/>
                  <a:pt x="21749" y="12012"/>
                  <a:pt x="21780" y="12002"/>
                </a:cubicBezTo>
              </a:path>
              <a:path w="3685" h="10637">
                <a:moveTo>
                  <a:pt x="22098" y="11112"/>
                </a:moveTo>
                <a:cubicBezTo>
                  <a:pt x="22098" y="11044"/>
                  <a:pt x="22114" y="11035"/>
                  <a:pt x="22162" y="10986"/>
                </a:cubicBezTo>
                <a:cubicBezTo>
                  <a:pt x="22198" y="10949"/>
                  <a:pt x="22243" y="10905"/>
                  <a:pt x="22288" y="10890"/>
                </a:cubicBezTo>
                <a:cubicBezTo>
                  <a:pt x="22325" y="10877"/>
                  <a:pt x="22397" y="10884"/>
                  <a:pt x="22416" y="10922"/>
                </a:cubicBezTo>
                <a:cubicBezTo>
                  <a:pt x="22452" y="10994"/>
                  <a:pt x="22409" y="11174"/>
                  <a:pt x="22384" y="11240"/>
                </a:cubicBezTo>
                <a:cubicBezTo>
                  <a:pt x="22351" y="11327"/>
                  <a:pt x="22301" y="11417"/>
                  <a:pt x="22257" y="11494"/>
                </a:cubicBezTo>
                <a:cubicBezTo>
                  <a:pt x="22234" y="11534"/>
                  <a:pt x="22215" y="11609"/>
                  <a:pt x="22193" y="11620"/>
                </a:cubicBezTo>
                <a:cubicBezTo>
                  <a:pt x="22183" y="11620"/>
                  <a:pt x="22172" y="11620"/>
                  <a:pt x="22162" y="11620"/>
                </a:cubicBezTo>
                <a:cubicBezTo>
                  <a:pt x="22174" y="11583"/>
                  <a:pt x="22188" y="11566"/>
                  <a:pt x="22225" y="11525"/>
                </a:cubicBezTo>
                <a:cubicBezTo>
                  <a:pt x="22258" y="11488"/>
                  <a:pt x="22309" y="11444"/>
                  <a:pt x="22352" y="11430"/>
                </a:cubicBezTo>
                <a:cubicBezTo>
                  <a:pt x="22395" y="11416"/>
                  <a:pt x="22481" y="11444"/>
                  <a:pt x="22511" y="11462"/>
                </a:cubicBezTo>
                <a:cubicBezTo>
                  <a:pt x="22563" y="11494"/>
                  <a:pt x="22580" y="11551"/>
                  <a:pt x="22606" y="11589"/>
                </a:cubicBezTo>
                <a:cubicBezTo>
                  <a:pt x="22629" y="11623"/>
                  <a:pt x="22690" y="11700"/>
                  <a:pt x="22670" y="11748"/>
                </a:cubicBezTo>
                <a:cubicBezTo>
                  <a:pt x="22649" y="11800"/>
                  <a:pt x="22605" y="11854"/>
                  <a:pt x="22574" y="11906"/>
                </a:cubicBezTo>
                <a:cubicBezTo>
                  <a:pt x="22521" y="11994"/>
                  <a:pt x="22496" y="12005"/>
                  <a:pt x="22416" y="12065"/>
                </a:cubicBezTo>
                <a:cubicBezTo>
                  <a:pt x="22359" y="12108"/>
                  <a:pt x="22328" y="12128"/>
                  <a:pt x="22257" y="12128"/>
                </a:cubicBezTo>
                <a:cubicBezTo>
                  <a:pt x="22221" y="12128"/>
                  <a:pt x="22207" y="12125"/>
                  <a:pt x="22193" y="12097"/>
                </a:cubicBezTo>
              </a:path>
              <a:path w="3685" h="10637">
                <a:moveTo>
                  <a:pt x="22828" y="6350"/>
                </a:moveTo>
                <a:cubicBezTo>
                  <a:pt x="22860" y="6413"/>
                  <a:pt x="22892" y="6475"/>
                  <a:pt x="22924" y="6540"/>
                </a:cubicBezTo>
                <a:cubicBezTo>
                  <a:pt x="23096" y="6884"/>
                  <a:pt x="23217" y="7271"/>
                  <a:pt x="23241" y="7652"/>
                </a:cubicBezTo>
                <a:cubicBezTo>
                  <a:pt x="23275" y="8185"/>
                  <a:pt x="23249" y="8742"/>
                  <a:pt x="23209" y="9271"/>
                </a:cubicBezTo>
                <a:cubicBezTo>
                  <a:pt x="23193" y="9484"/>
                  <a:pt x="23170" y="9694"/>
                  <a:pt x="23146" y="9906"/>
                </a:cubicBezTo>
                <a:cubicBezTo>
                  <a:pt x="23128" y="10068"/>
                  <a:pt x="23124" y="10258"/>
                  <a:pt x="23082" y="10414"/>
                </a:cubicBezTo>
                <a:cubicBezTo>
                  <a:pt x="23053" y="10520"/>
                  <a:pt x="23005" y="10635"/>
                  <a:pt x="22955" y="10732"/>
                </a:cubicBezTo>
                <a:cubicBezTo>
                  <a:pt x="22930" y="10780"/>
                  <a:pt x="22888" y="10809"/>
                  <a:pt x="22860" y="10858"/>
                </a:cubicBezTo>
                <a:cubicBezTo>
                  <a:pt x="22882" y="10892"/>
                  <a:pt x="22949" y="10941"/>
                  <a:pt x="22955" y="10954"/>
                </a:cubicBezTo>
                <a:cubicBezTo>
                  <a:pt x="22976" y="10995"/>
                  <a:pt x="23006" y="11061"/>
                  <a:pt x="23019" y="11112"/>
                </a:cubicBezTo>
                <a:cubicBezTo>
                  <a:pt x="23030" y="11154"/>
                  <a:pt x="23044" y="11236"/>
                  <a:pt x="23050" y="11271"/>
                </a:cubicBezTo>
                <a:cubicBezTo>
                  <a:pt x="23063" y="11355"/>
                  <a:pt x="23026" y="11430"/>
                  <a:pt x="23019" y="11494"/>
                </a:cubicBezTo>
                <a:cubicBezTo>
                  <a:pt x="23013" y="11554"/>
                  <a:pt x="22991" y="11639"/>
                  <a:pt x="22987" y="11684"/>
                </a:cubicBezTo>
                <a:cubicBezTo>
                  <a:pt x="22983" y="11726"/>
                  <a:pt x="22961" y="11737"/>
                  <a:pt x="22955" y="11779"/>
                </a:cubicBezTo>
                <a:cubicBezTo>
                  <a:pt x="22949" y="11821"/>
                  <a:pt x="22992" y="11832"/>
                  <a:pt x="22987" y="11874"/>
                </a:cubicBezTo>
                <a:cubicBezTo>
                  <a:pt x="22982" y="11917"/>
                  <a:pt x="22966" y="11957"/>
                  <a:pt x="22955" y="12002"/>
                </a:cubicBezTo>
                <a:cubicBezTo>
                  <a:pt x="22940" y="12061"/>
                  <a:pt x="22943" y="12107"/>
                  <a:pt x="22924" y="12160"/>
                </a:cubicBezTo>
                <a:cubicBezTo>
                  <a:pt x="22900" y="12227"/>
                  <a:pt x="22861" y="12279"/>
                  <a:pt x="22828" y="12351"/>
                </a:cubicBezTo>
                <a:cubicBezTo>
                  <a:pt x="22731" y="12562"/>
                  <a:pt x="22625" y="12787"/>
                  <a:pt x="22511" y="12986"/>
                </a:cubicBezTo>
                <a:cubicBezTo>
                  <a:pt x="22439" y="13112"/>
                  <a:pt x="22341" y="13247"/>
                  <a:pt x="22257" y="13367"/>
                </a:cubicBezTo>
                <a:cubicBezTo>
                  <a:pt x="22223" y="13416"/>
                  <a:pt x="22167" y="13435"/>
                  <a:pt x="22162" y="13494"/>
                </a:cubicBezTo>
                <a:cubicBezTo>
                  <a:pt x="22159" y="13536"/>
                  <a:pt x="22140" y="13478"/>
                  <a:pt x="22162" y="13557"/>
                </a:cubicBezTo>
                <a:cubicBezTo>
                  <a:pt x="22180" y="13624"/>
                  <a:pt x="22318" y="13720"/>
                  <a:pt x="22352" y="13780"/>
                </a:cubicBezTo>
                <a:cubicBezTo>
                  <a:pt x="22397" y="13860"/>
                  <a:pt x="22422" y="13914"/>
                  <a:pt x="22447" y="14002"/>
                </a:cubicBezTo>
                <a:cubicBezTo>
                  <a:pt x="22481" y="14125"/>
                  <a:pt x="22518" y="14257"/>
                  <a:pt x="22542" y="14383"/>
                </a:cubicBezTo>
                <a:cubicBezTo>
                  <a:pt x="22575" y="14558"/>
                  <a:pt x="22572" y="14743"/>
                  <a:pt x="22574" y="14922"/>
                </a:cubicBezTo>
                <a:cubicBezTo>
                  <a:pt x="22576" y="15126"/>
                  <a:pt x="22585" y="15359"/>
                  <a:pt x="22542" y="15558"/>
                </a:cubicBezTo>
                <a:cubicBezTo>
                  <a:pt x="22493" y="15785"/>
                  <a:pt x="22413" y="16001"/>
                  <a:pt x="22352" y="16224"/>
                </a:cubicBezTo>
                <a:cubicBezTo>
                  <a:pt x="22291" y="16446"/>
                  <a:pt x="22226" y="16648"/>
                  <a:pt x="22130" y="16859"/>
                </a:cubicBezTo>
                <a:cubicBezTo>
                  <a:pt x="22109" y="16901"/>
                  <a:pt x="22087" y="16944"/>
                  <a:pt x="22066" y="16986"/>
                </a:cubicBezTo>
              </a:path>
              <a:path w="3685" h="10637">
                <a:moveTo>
                  <a:pt x="23527" y="11144"/>
                </a:moveTo>
                <a:cubicBezTo>
                  <a:pt x="23545" y="11235"/>
                  <a:pt x="23558" y="11299"/>
                  <a:pt x="23558" y="11398"/>
                </a:cubicBezTo>
                <a:cubicBezTo>
                  <a:pt x="23558" y="11533"/>
                  <a:pt x="23544" y="11649"/>
                  <a:pt x="23527" y="11779"/>
                </a:cubicBezTo>
                <a:cubicBezTo>
                  <a:pt x="23513" y="11881"/>
                  <a:pt x="23527" y="11994"/>
                  <a:pt x="23527" y="12097"/>
                </a:cubicBezTo>
              </a:path>
              <a:path w="3685" h="10637">
                <a:moveTo>
                  <a:pt x="23654" y="11112"/>
                </a:moveTo>
                <a:cubicBezTo>
                  <a:pt x="23672" y="11117"/>
                  <a:pt x="23759" y="11172"/>
                  <a:pt x="23781" y="11144"/>
                </a:cubicBezTo>
                <a:cubicBezTo>
                  <a:pt x="23810" y="11108"/>
                  <a:pt x="23859" y="11113"/>
                  <a:pt x="23908" y="11081"/>
                </a:cubicBezTo>
                <a:cubicBezTo>
                  <a:pt x="23956" y="11049"/>
                  <a:pt x="23945" y="11049"/>
                  <a:pt x="24003" y="11049"/>
                </a:cubicBezTo>
                <a:cubicBezTo>
                  <a:pt x="24003" y="11133"/>
                  <a:pt x="23981" y="11195"/>
                  <a:pt x="23971" y="11271"/>
                </a:cubicBezTo>
                <a:cubicBezTo>
                  <a:pt x="23956" y="11385"/>
                  <a:pt x="23939" y="11512"/>
                  <a:pt x="23908" y="11620"/>
                </a:cubicBezTo>
                <a:cubicBezTo>
                  <a:pt x="23882" y="11709"/>
                  <a:pt x="23876" y="11779"/>
                  <a:pt x="23876" y="11874"/>
                </a:cubicBezTo>
                <a:cubicBezTo>
                  <a:pt x="23876" y="11917"/>
                  <a:pt x="23876" y="11959"/>
                  <a:pt x="23876" y="12002"/>
                </a:cubicBezTo>
              </a:path>
              <a:path w="3685" h="10637">
                <a:moveTo>
                  <a:pt x="24162" y="11652"/>
                </a:moveTo>
                <a:cubicBezTo>
                  <a:pt x="24162" y="11694"/>
                  <a:pt x="24162" y="11737"/>
                  <a:pt x="24162" y="11779"/>
                </a:cubicBezTo>
              </a:path>
              <a:path w="3685" h="10637">
                <a:moveTo>
                  <a:pt x="24289" y="11017"/>
                </a:moveTo>
                <a:cubicBezTo>
                  <a:pt x="24331" y="11003"/>
                  <a:pt x="24329" y="10972"/>
                  <a:pt x="24384" y="10954"/>
                </a:cubicBezTo>
                <a:cubicBezTo>
                  <a:pt x="24440" y="10935"/>
                  <a:pt x="24494" y="10902"/>
                  <a:pt x="24543" y="10858"/>
                </a:cubicBezTo>
                <a:cubicBezTo>
                  <a:pt x="24570" y="10834"/>
                  <a:pt x="24629" y="10805"/>
                  <a:pt x="24670" y="10827"/>
                </a:cubicBezTo>
                <a:cubicBezTo>
                  <a:pt x="24725" y="10857"/>
                  <a:pt x="24712" y="11031"/>
                  <a:pt x="24702" y="11081"/>
                </a:cubicBezTo>
                <a:cubicBezTo>
                  <a:pt x="24677" y="11212"/>
                  <a:pt x="24649" y="11334"/>
                  <a:pt x="24606" y="11462"/>
                </a:cubicBezTo>
                <a:cubicBezTo>
                  <a:pt x="24564" y="11588"/>
                  <a:pt x="24571" y="11716"/>
                  <a:pt x="24543" y="11843"/>
                </a:cubicBezTo>
                <a:cubicBezTo>
                  <a:pt x="24512" y="11936"/>
                  <a:pt x="24501" y="11966"/>
                  <a:pt x="24511" y="120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Ink 10"/>
          <p:cNvSpPr/>
          <p:nvPr/>
        </p:nvSpPr>
        <p:spPr>
          <a:xfrm>
            <a:off x="1450800" y="2778120"/>
            <a:ext cx="1224000" cy="376200"/>
          </a:xfrm>
          <a:custGeom>
            <a:avLst/>
            <a:gdLst/>
            <a:ahLst/>
            <a:rect l="l" t="t" r="r" b="b"/>
            <a:pathLst>
              <a:path w="3399" h="1049">
                <a:moveTo>
                  <a:pt x="4128" y="7969"/>
                </a:moveTo>
                <a:cubicBezTo>
                  <a:pt x="4075" y="7943"/>
                  <a:pt x="4054" y="7967"/>
                  <a:pt x="4032" y="8033"/>
                </a:cubicBezTo>
                <a:cubicBezTo>
                  <a:pt x="4032" y="8069"/>
                  <a:pt x="4035" y="8082"/>
                  <a:pt x="4064" y="8096"/>
                </a:cubicBezTo>
                <a:cubicBezTo>
                  <a:pt x="4098" y="8085"/>
                  <a:pt x="4123" y="8072"/>
                  <a:pt x="4128" y="8033"/>
                </a:cubicBezTo>
                <a:cubicBezTo>
                  <a:pt x="4128" y="8001"/>
                  <a:pt x="4128" y="7990"/>
                  <a:pt x="4128" y="7969"/>
                </a:cubicBezTo>
                <a:cubicBezTo>
                  <a:pt x="4065" y="7985"/>
                  <a:pt x="4064" y="7999"/>
                  <a:pt x="4064" y="8064"/>
                </a:cubicBezTo>
                <a:cubicBezTo>
                  <a:pt x="4064" y="8142"/>
                  <a:pt x="4144" y="8067"/>
                  <a:pt x="4159" y="8033"/>
                </a:cubicBezTo>
                <a:cubicBezTo>
                  <a:pt x="4177" y="7991"/>
                  <a:pt x="4149" y="7966"/>
                  <a:pt x="4128" y="7938"/>
                </a:cubicBezTo>
                <a:cubicBezTo>
                  <a:pt x="4079" y="7986"/>
                  <a:pt x="4064" y="7997"/>
                  <a:pt x="4064" y="8064"/>
                </a:cubicBezTo>
                <a:cubicBezTo>
                  <a:pt x="4064" y="8114"/>
                  <a:pt x="4085" y="8096"/>
                  <a:pt x="4128" y="8096"/>
                </a:cubicBezTo>
              </a:path>
              <a:path w="3399" h="1049">
                <a:moveTo>
                  <a:pt x="4508" y="8223"/>
                </a:moveTo>
                <a:cubicBezTo>
                  <a:pt x="4461" y="8235"/>
                  <a:pt x="4411" y="8272"/>
                  <a:pt x="4382" y="8318"/>
                </a:cubicBezTo>
                <a:cubicBezTo>
                  <a:pt x="4344" y="8378"/>
                  <a:pt x="4303" y="8440"/>
                  <a:pt x="4286" y="8509"/>
                </a:cubicBezTo>
                <a:cubicBezTo>
                  <a:pt x="4275" y="8552"/>
                  <a:pt x="4269" y="8675"/>
                  <a:pt x="4318" y="8700"/>
                </a:cubicBezTo>
                <a:cubicBezTo>
                  <a:pt x="4359" y="8720"/>
                  <a:pt x="4351" y="8731"/>
                  <a:pt x="4413" y="8731"/>
                </a:cubicBezTo>
              </a:path>
              <a:path w="3399" h="1049">
                <a:moveTo>
                  <a:pt x="4667" y="8382"/>
                </a:moveTo>
                <a:cubicBezTo>
                  <a:pt x="4667" y="8477"/>
                  <a:pt x="4667" y="8573"/>
                  <a:pt x="4667" y="8668"/>
                </a:cubicBezTo>
              </a:path>
              <a:path w="3399" h="1049">
                <a:moveTo>
                  <a:pt x="4890" y="8572"/>
                </a:moveTo>
                <a:cubicBezTo>
                  <a:pt x="4900" y="8583"/>
                  <a:pt x="4911" y="8593"/>
                  <a:pt x="4921" y="8604"/>
                </a:cubicBezTo>
                <a:cubicBezTo>
                  <a:pt x="4886" y="8652"/>
                  <a:pt x="4890" y="8670"/>
                  <a:pt x="4890" y="8731"/>
                </a:cubicBezTo>
                <a:cubicBezTo>
                  <a:pt x="4890" y="8742"/>
                  <a:pt x="4890" y="8752"/>
                  <a:pt x="4890" y="8763"/>
                </a:cubicBezTo>
              </a:path>
              <a:path w="3399" h="1049">
                <a:moveTo>
                  <a:pt x="5048" y="8446"/>
                </a:moveTo>
                <a:cubicBezTo>
                  <a:pt x="5112" y="8446"/>
                  <a:pt x="5175" y="8446"/>
                  <a:pt x="5239" y="8446"/>
                </a:cubicBezTo>
              </a:path>
              <a:path w="3399" h="1049">
                <a:moveTo>
                  <a:pt x="5398" y="8350"/>
                </a:moveTo>
                <a:cubicBezTo>
                  <a:pt x="5447" y="8337"/>
                  <a:pt x="5467" y="8318"/>
                  <a:pt x="5524" y="8318"/>
                </a:cubicBezTo>
                <a:cubicBezTo>
                  <a:pt x="5535" y="8318"/>
                  <a:pt x="5545" y="8318"/>
                  <a:pt x="5556" y="8318"/>
                </a:cubicBezTo>
                <a:cubicBezTo>
                  <a:pt x="5592" y="8391"/>
                  <a:pt x="5549" y="8373"/>
                  <a:pt x="5524" y="8446"/>
                </a:cubicBezTo>
                <a:cubicBezTo>
                  <a:pt x="5504" y="8504"/>
                  <a:pt x="5450" y="8510"/>
                  <a:pt x="5429" y="8541"/>
                </a:cubicBezTo>
                <a:cubicBezTo>
                  <a:pt x="5408" y="8572"/>
                  <a:pt x="5410" y="8566"/>
                  <a:pt x="5398" y="8604"/>
                </a:cubicBezTo>
                <a:cubicBezTo>
                  <a:pt x="5410" y="8567"/>
                  <a:pt x="5441" y="8547"/>
                  <a:pt x="5493" y="8541"/>
                </a:cubicBezTo>
                <a:cubicBezTo>
                  <a:pt x="5551" y="8535"/>
                  <a:pt x="5570" y="8595"/>
                  <a:pt x="5588" y="8604"/>
                </a:cubicBezTo>
                <a:cubicBezTo>
                  <a:pt x="5599" y="8604"/>
                  <a:pt x="5609" y="8604"/>
                  <a:pt x="5620" y="8604"/>
                </a:cubicBezTo>
              </a:path>
              <a:path w="3399" h="1049">
                <a:moveTo>
                  <a:pt x="5683" y="8160"/>
                </a:moveTo>
                <a:cubicBezTo>
                  <a:pt x="5683" y="8171"/>
                  <a:pt x="5683" y="8181"/>
                  <a:pt x="5683" y="8192"/>
                </a:cubicBezTo>
                <a:cubicBezTo>
                  <a:pt x="5747" y="8208"/>
                  <a:pt x="5754" y="8232"/>
                  <a:pt x="5778" y="8287"/>
                </a:cubicBezTo>
                <a:cubicBezTo>
                  <a:pt x="5816" y="8376"/>
                  <a:pt x="5868" y="8407"/>
                  <a:pt x="5874" y="8509"/>
                </a:cubicBezTo>
                <a:cubicBezTo>
                  <a:pt x="5879" y="8598"/>
                  <a:pt x="5866" y="8659"/>
                  <a:pt x="5842" y="8731"/>
                </a:cubicBezTo>
                <a:cubicBezTo>
                  <a:pt x="5842" y="8742"/>
                  <a:pt x="5842" y="8752"/>
                  <a:pt x="5842" y="8763"/>
                </a:cubicBezTo>
              </a:path>
              <a:path w="3399" h="1049">
                <a:moveTo>
                  <a:pt x="5334" y="8001"/>
                </a:moveTo>
                <a:lnTo>
                  <a:pt x="5334" y="8001"/>
                </a:lnTo>
              </a:path>
              <a:path w="3399" h="1049">
                <a:moveTo>
                  <a:pt x="5334" y="8001"/>
                </a:moveTo>
                <a:lnTo>
                  <a:pt x="5334" y="8001"/>
                </a:lnTo>
              </a:path>
              <a:path w="3399" h="1049">
                <a:moveTo>
                  <a:pt x="5334" y="8033"/>
                </a:moveTo>
                <a:cubicBezTo>
                  <a:pt x="5354" y="8092"/>
                  <a:pt x="5355" y="8047"/>
                  <a:pt x="5398" y="8033"/>
                </a:cubicBezTo>
                <a:cubicBezTo>
                  <a:pt x="5390" y="8008"/>
                  <a:pt x="5361" y="7938"/>
                  <a:pt x="5334" y="8001"/>
                </a:cubicBezTo>
                <a:cubicBezTo>
                  <a:pt x="5315" y="8046"/>
                  <a:pt x="5302" y="8030"/>
                  <a:pt x="5302" y="8096"/>
                </a:cubicBezTo>
                <a:cubicBezTo>
                  <a:pt x="5368" y="8096"/>
                  <a:pt x="5371" y="8078"/>
                  <a:pt x="5398" y="8064"/>
                </a:cubicBezTo>
                <a:cubicBezTo>
                  <a:pt x="5409" y="8059"/>
                  <a:pt x="5468" y="8002"/>
                  <a:pt x="5429" y="7969"/>
                </a:cubicBezTo>
                <a:cubicBezTo>
                  <a:pt x="5400" y="7945"/>
                  <a:pt x="5336" y="7998"/>
                  <a:pt x="5334" y="8001"/>
                </a:cubicBezTo>
                <a:cubicBezTo>
                  <a:pt x="5325" y="8019"/>
                  <a:pt x="5334" y="8075"/>
                  <a:pt x="5334" y="8096"/>
                </a:cubicBezTo>
                <a:cubicBezTo>
                  <a:pt x="5392" y="8096"/>
                  <a:pt x="5422" y="8099"/>
                  <a:pt x="5429" y="8033"/>
                </a:cubicBezTo>
                <a:cubicBezTo>
                  <a:pt x="5429" y="8001"/>
                  <a:pt x="5429" y="7991"/>
                  <a:pt x="5398" y="8001"/>
                </a:cubicBezTo>
              </a:path>
              <a:path w="3399" h="1049">
                <a:moveTo>
                  <a:pt x="6096" y="7715"/>
                </a:moveTo>
                <a:cubicBezTo>
                  <a:pt x="6027" y="7715"/>
                  <a:pt x="6018" y="7730"/>
                  <a:pt x="5969" y="7779"/>
                </a:cubicBezTo>
                <a:cubicBezTo>
                  <a:pt x="5919" y="7828"/>
                  <a:pt x="5879" y="7864"/>
                  <a:pt x="5874" y="7938"/>
                </a:cubicBezTo>
                <a:cubicBezTo>
                  <a:pt x="5867" y="8040"/>
                  <a:pt x="5870" y="8051"/>
                  <a:pt x="5937" y="8096"/>
                </a:cubicBezTo>
                <a:cubicBezTo>
                  <a:pt x="5984" y="8128"/>
                  <a:pt x="5975" y="8128"/>
                  <a:pt x="6032" y="8128"/>
                </a:cubicBezTo>
              </a:path>
              <a:path w="3399" h="1049">
                <a:moveTo>
                  <a:pt x="6160" y="7874"/>
                </a:moveTo>
                <a:cubicBezTo>
                  <a:pt x="6218" y="7874"/>
                  <a:pt x="6235" y="7848"/>
                  <a:pt x="6286" y="7842"/>
                </a:cubicBezTo>
                <a:cubicBezTo>
                  <a:pt x="6327" y="7837"/>
                  <a:pt x="6372" y="7842"/>
                  <a:pt x="6414" y="7842"/>
                </a:cubicBezTo>
                <a:cubicBezTo>
                  <a:pt x="6414" y="7920"/>
                  <a:pt x="6375" y="7926"/>
                  <a:pt x="6350" y="8001"/>
                </a:cubicBezTo>
                <a:cubicBezTo>
                  <a:pt x="6330" y="8061"/>
                  <a:pt x="6326" y="8061"/>
                  <a:pt x="6350" y="8096"/>
                </a:cubicBezTo>
              </a:path>
              <a:path w="3399" h="1049">
                <a:moveTo>
                  <a:pt x="6572" y="7969"/>
                </a:moveTo>
                <a:cubicBezTo>
                  <a:pt x="6572" y="8028"/>
                  <a:pt x="6546" y="8044"/>
                  <a:pt x="6540" y="8096"/>
                </a:cubicBezTo>
                <a:cubicBezTo>
                  <a:pt x="6540" y="8139"/>
                  <a:pt x="6540" y="8160"/>
                  <a:pt x="6540" y="8192"/>
                </a:cubicBezTo>
              </a:path>
              <a:path w="3399" h="1049">
                <a:moveTo>
                  <a:pt x="6731" y="7906"/>
                </a:moveTo>
                <a:cubicBezTo>
                  <a:pt x="6731" y="7853"/>
                  <a:pt x="6781" y="7874"/>
                  <a:pt x="6826" y="7874"/>
                </a:cubicBezTo>
              </a:path>
              <a:path w="3399" h="1049">
                <a:moveTo>
                  <a:pt x="6890" y="7906"/>
                </a:moveTo>
                <a:cubicBezTo>
                  <a:pt x="6941" y="7893"/>
                  <a:pt x="6970" y="7858"/>
                  <a:pt x="7017" y="7842"/>
                </a:cubicBezTo>
                <a:cubicBezTo>
                  <a:pt x="7064" y="7826"/>
                  <a:pt x="7089" y="7810"/>
                  <a:pt x="7144" y="7810"/>
                </a:cubicBezTo>
                <a:cubicBezTo>
                  <a:pt x="7144" y="7869"/>
                  <a:pt x="7152" y="7893"/>
                  <a:pt x="7112" y="7938"/>
                </a:cubicBezTo>
                <a:cubicBezTo>
                  <a:pt x="7091" y="7962"/>
                  <a:pt x="7025" y="8020"/>
                  <a:pt x="7017" y="8033"/>
                </a:cubicBezTo>
                <a:cubicBezTo>
                  <a:pt x="6995" y="8065"/>
                  <a:pt x="6998" y="8057"/>
                  <a:pt x="6985" y="8096"/>
                </a:cubicBezTo>
                <a:cubicBezTo>
                  <a:pt x="7066" y="8096"/>
                  <a:pt x="7109" y="8105"/>
                  <a:pt x="7176" y="8128"/>
                </a:cubicBezTo>
                <a:cubicBezTo>
                  <a:pt x="7200" y="8136"/>
                  <a:pt x="7245" y="8128"/>
                  <a:pt x="7271" y="8128"/>
                </a:cubicBezTo>
              </a:path>
              <a:path w="3399" h="1049">
                <a:moveTo>
                  <a:pt x="7334" y="7715"/>
                </a:moveTo>
                <a:cubicBezTo>
                  <a:pt x="7349" y="7773"/>
                  <a:pt x="7378" y="7846"/>
                  <a:pt x="7398" y="7906"/>
                </a:cubicBezTo>
                <a:cubicBezTo>
                  <a:pt x="7436" y="8019"/>
                  <a:pt x="7424" y="8049"/>
                  <a:pt x="7398" y="8160"/>
                </a:cubicBezTo>
                <a:cubicBezTo>
                  <a:pt x="7383" y="8227"/>
                  <a:pt x="7362" y="8286"/>
                  <a:pt x="7334" y="83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Ink 11"/>
          <p:cNvSpPr/>
          <p:nvPr/>
        </p:nvSpPr>
        <p:spPr>
          <a:xfrm>
            <a:off x="4297320" y="2514600"/>
            <a:ext cx="3943440" cy="617400"/>
          </a:xfrm>
          <a:custGeom>
            <a:avLst/>
            <a:gdLst/>
            <a:ahLst/>
            <a:rect l="l" t="t" r="r" b="b"/>
            <a:pathLst>
              <a:path w="10955" h="1716">
                <a:moveTo>
                  <a:pt x="11970" y="7493"/>
                </a:moveTo>
                <a:cubicBezTo>
                  <a:pt x="11972" y="7539"/>
                  <a:pt x="11960" y="7639"/>
                  <a:pt x="11970" y="7715"/>
                </a:cubicBezTo>
                <a:cubicBezTo>
                  <a:pt x="11987" y="7844"/>
                  <a:pt x="12033" y="7967"/>
                  <a:pt x="12065" y="8096"/>
                </a:cubicBezTo>
                <a:cubicBezTo>
                  <a:pt x="12091" y="8203"/>
                  <a:pt x="12098" y="8307"/>
                  <a:pt x="12128" y="8414"/>
                </a:cubicBezTo>
                <a:cubicBezTo>
                  <a:pt x="12155" y="8511"/>
                  <a:pt x="12190" y="8612"/>
                  <a:pt x="12224" y="8700"/>
                </a:cubicBezTo>
                <a:cubicBezTo>
                  <a:pt x="12225" y="8695"/>
                  <a:pt x="12255" y="8596"/>
                  <a:pt x="12256" y="8541"/>
                </a:cubicBezTo>
                <a:cubicBezTo>
                  <a:pt x="12264" y="8161"/>
                  <a:pt x="12155" y="7626"/>
                  <a:pt x="12287" y="7271"/>
                </a:cubicBezTo>
                <a:cubicBezTo>
                  <a:pt x="12301" y="7234"/>
                  <a:pt x="12331" y="7190"/>
                  <a:pt x="12351" y="7176"/>
                </a:cubicBezTo>
                <a:cubicBezTo>
                  <a:pt x="12402" y="7140"/>
                  <a:pt x="12481" y="7119"/>
                  <a:pt x="12541" y="7112"/>
                </a:cubicBezTo>
                <a:cubicBezTo>
                  <a:pt x="12724" y="7089"/>
                  <a:pt x="12937" y="7091"/>
                  <a:pt x="13113" y="7080"/>
                </a:cubicBezTo>
                <a:cubicBezTo>
                  <a:pt x="13251" y="7071"/>
                  <a:pt x="13393" y="7057"/>
                  <a:pt x="13526" y="7048"/>
                </a:cubicBezTo>
                <a:cubicBezTo>
                  <a:pt x="13635" y="7041"/>
                  <a:pt x="13736" y="7023"/>
                  <a:pt x="13843" y="7017"/>
                </a:cubicBezTo>
                <a:cubicBezTo>
                  <a:pt x="13974" y="7009"/>
                  <a:pt x="14095" y="6992"/>
                  <a:pt x="14224" y="6985"/>
                </a:cubicBezTo>
                <a:cubicBezTo>
                  <a:pt x="14688" y="6959"/>
                  <a:pt x="15165" y="6995"/>
                  <a:pt x="15621" y="7017"/>
                </a:cubicBezTo>
                <a:cubicBezTo>
                  <a:pt x="15916" y="7031"/>
                  <a:pt x="16221" y="7036"/>
                  <a:pt x="16510" y="7048"/>
                </a:cubicBezTo>
                <a:cubicBezTo>
                  <a:pt x="17080" y="7073"/>
                  <a:pt x="17658" y="7053"/>
                  <a:pt x="18224" y="7080"/>
                </a:cubicBezTo>
                <a:cubicBezTo>
                  <a:pt x="18404" y="7088"/>
                  <a:pt x="18590" y="7103"/>
                  <a:pt x="18764" y="7112"/>
                </a:cubicBezTo>
                <a:cubicBezTo>
                  <a:pt x="18890" y="7119"/>
                  <a:pt x="19024" y="7112"/>
                  <a:pt x="19145" y="7144"/>
                </a:cubicBezTo>
                <a:cubicBezTo>
                  <a:pt x="19244" y="7170"/>
                  <a:pt x="19338" y="7206"/>
                  <a:pt x="19431" y="7239"/>
                </a:cubicBezTo>
                <a:cubicBezTo>
                  <a:pt x="19467" y="7239"/>
                  <a:pt x="19481" y="7242"/>
                  <a:pt x="19494" y="7271"/>
                </a:cubicBezTo>
              </a:path>
              <a:path w="10955" h="1716">
                <a:moveTo>
                  <a:pt x="13176" y="7176"/>
                </a:moveTo>
                <a:cubicBezTo>
                  <a:pt x="13106" y="7193"/>
                  <a:pt x="13097" y="7248"/>
                  <a:pt x="13049" y="7302"/>
                </a:cubicBezTo>
                <a:cubicBezTo>
                  <a:pt x="13003" y="7353"/>
                  <a:pt x="12957" y="7403"/>
                  <a:pt x="12922" y="7461"/>
                </a:cubicBezTo>
                <a:cubicBezTo>
                  <a:pt x="12867" y="7551"/>
                  <a:pt x="12836" y="7651"/>
                  <a:pt x="12795" y="7747"/>
                </a:cubicBezTo>
                <a:cubicBezTo>
                  <a:pt x="12750" y="7854"/>
                  <a:pt x="12727" y="7955"/>
                  <a:pt x="12700" y="8064"/>
                </a:cubicBezTo>
                <a:cubicBezTo>
                  <a:pt x="12672" y="8174"/>
                  <a:pt x="12664" y="8243"/>
                  <a:pt x="12700" y="8350"/>
                </a:cubicBezTo>
                <a:cubicBezTo>
                  <a:pt x="12727" y="8430"/>
                  <a:pt x="12801" y="8483"/>
                  <a:pt x="12859" y="8541"/>
                </a:cubicBezTo>
                <a:cubicBezTo>
                  <a:pt x="12891" y="8573"/>
                  <a:pt x="12942" y="8599"/>
                  <a:pt x="12986" y="8604"/>
                </a:cubicBezTo>
                <a:cubicBezTo>
                  <a:pt x="13018" y="8604"/>
                  <a:pt x="13029" y="8604"/>
                  <a:pt x="13018" y="8572"/>
                </a:cubicBezTo>
              </a:path>
              <a:path w="10955" h="1716">
                <a:moveTo>
                  <a:pt x="13494" y="7556"/>
                </a:moveTo>
                <a:cubicBezTo>
                  <a:pt x="13526" y="7556"/>
                  <a:pt x="13536" y="7556"/>
                  <a:pt x="13557" y="7556"/>
                </a:cubicBezTo>
                <a:cubicBezTo>
                  <a:pt x="13554" y="7567"/>
                  <a:pt x="13504" y="7645"/>
                  <a:pt x="13494" y="7652"/>
                </a:cubicBezTo>
                <a:cubicBezTo>
                  <a:pt x="13436" y="7691"/>
                  <a:pt x="13318" y="7628"/>
                  <a:pt x="13303" y="7620"/>
                </a:cubicBezTo>
                <a:cubicBezTo>
                  <a:pt x="13272" y="7620"/>
                  <a:pt x="13261" y="7620"/>
                  <a:pt x="13272" y="7588"/>
                </a:cubicBezTo>
                <a:cubicBezTo>
                  <a:pt x="13272" y="7699"/>
                  <a:pt x="13272" y="8002"/>
                  <a:pt x="13272" y="8001"/>
                </a:cubicBezTo>
                <a:cubicBezTo>
                  <a:pt x="13307" y="7950"/>
                  <a:pt x="13297" y="7874"/>
                  <a:pt x="13367" y="7842"/>
                </a:cubicBezTo>
                <a:cubicBezTo>
                  <a:pt x="13420" y="7818"/>
                  <a:pt x="13457" y="7862"/>
                  <a:pt x="13494" y="7874"/>
                </a:cubicBezTo>
                <a:cubicBezTo>
                  <a:pt x="13566" y="7898"/>
                  <a:pt x="13554" y="7937"/>
                  <a:pt x="13589" y="8001"/>
                </a:cubicBezTo>
                <a:cubicBezTo>
                  <a:pt x="13630" y="8077"/>
                  <a:pt x="13621" y="8139"/>
                  <a:pt x="13621" y="8223"/>
                </a:cubicBezTo>
                <a:cubicBezTo>
                  <a:pt x="13621" y="8288"/>
                  <a:pt x="13596" y="8364"/>
                  <a:pt x="13557" y="8414"/>
                </a:cubicBezTo>
                <a:cubicBezTo>
                  <a:pt x="13521" y="8459"/>
                  <a:pt x="13483" y="8446"/>
                  <a:pt x="13430" y="8446"/>
                </a:cubicBezTo>
                <a:cubicBezTo>
                  <a:pt x="13349" y="8446"/>
                  <a:pt x="13388" y="8338"/>
                  <a:pt x="13398" y="8287"/>
                </a:cubicBezTo>
              </a:path>
              <a:path w="10955" h="1716">
                <a:moveTo>
                  <a:pt x="13748" y="7938"/>
                </a:moveTo>
                <a:cubicBezTo>
                  <a:pt x="13827" y="7938"/>
                  <a:pt x="13864" y="7925"/>
                  <a:pt x="13938" y="7906"/>
                </a:cubicBezTo>
                <a:cubicBezTo>
                  <a:pt x="13974" y="7906"/>
                  <a:pt x="13988" y="7903"/>
                  <a:pt x="14002" y="7874"/>
                </a:cubicBezTo>
              </a:path>
              <a:path w="10955" h="1716">
                <a:moveTo>
                  <a:pt x="14224" y="7556"/>
                </a:moveTo>
                <a:cubicBezTo>
                  <a:pt x="14269" y="7616"/>
                  <a:pt x="14256" y="7668"/>
                  <a:pt x="14256" y="7747"/>
                </a:cubicBezTo>
                <a:cubicBezTo>
                  <a:pt x="14256" y="7892"/>
                  <a:pt x="14247" y="8024"/>
                  <a:pt x="14224" y="8160"/>
                </a:cubicBezTo>
                <a:cubicBezTo>
                  <a:pt x="14217" y="8204"/>
                  <a:pt x="14224" y="8273"/>
                  <a:pt x="14224" y="8318"/>
                </a:cubicBezTo>
              </a:path>
              <a:path w="10955" h="1716">
                <a:moveTo>
                  <a:pt x="14224" y="7366"/>
                </a:moveTo>
                <a:cubicBezTo>
                  <a:pt x="14224" y="7313"/>
                  <a:pt x="14224" y="7303"/>
                  <a:pt x="14224" y="7271"/>
                </a:cubicBezTo>
                <a:cubicBezTo>
                  <a:pt x="14267" y="7302"/>
                  <a:pt x="14347" y="7324"/>
                  <a:pt x="14383" y="7366"/>
                </a:cubicBezTo>
                <a:cubicBezTo>
                  <a:pt x="14444" y="7439"/>
                  <a:pt x="14532" y="7493"/>
                  <a:pt x="14573" y="7588"/>
                </a:cubicBezTo>
                <a:cubicBezTo>
                  <a:pt x="14616" y="7686"/>
                  <a:pt x="14684" y="7832"/>
                  <a:pt x="14700" y="7938"/>
                </a:cubicBezTo>
                <a:cubicBezTo>
                  <a:pt x="14722" y="8079"/>
                  <a:pt x="14690" y="8219"/>
                  <a:pt x="14668" y="8350"/>
                </a:cubicBezTo>
                <a:cubicBezTo>
                  <a:pt x="14655" y="8427"/>
                  <a:pt x="14650" y="8481"/>
                  <a:pt x="14605" y="8541"/>
                </a:cubicBezTo>
              </a:path>
              <a:path w="10955" h="1716">
                <a:moveTo>
                  <a:pt x="14796" y="7461"/>
                </a:moveTo>
                <a:cubicBezTo>
                  <a:pt x="14838" y="7419"/>
                  <a:pt x="14882" y="7393"/>
                  <a:pt x="14922" y="7366"/>
                </a:cubicBezTo>
                <a:cubicBezTo>
                  <a:pt x="14933" y="7355"/>
                  <a:pt x="14943" y="7345"/>
                  <a:pt x="14954" y="7334"/>
                </a:cubicBezTo>
                <a:cubicBezTo>
                  <a:pt x="15003" y="7416"/>
                  <a:pt x="14978" y="7446"/>
                  <a:pt x="14954" y="7525"/>
                </a:cubicBezTo>
                <a:cubicBezTo>
                  <a:pt x="14942" y="7565"/>
                  <a:pt x="14941" y="7649"/>
                  <a:pt x="14922" y="7684"/>
                </a:cubicBezTo>
                <a:cubicBezTo>
                  <a:pt x="14894" y="7712"/>
                  <a:pt x="14883" y="7719"/>
                  <a:pt x="14891" y="7747"/>
                </a:cubicBezTo>
                <a:cubicBezTo>
                  <a:pt x="14941" y="7734"/>
                  <a:pt x="14961" y="7715"/>
                  <a:pt x="15018" y="7715"/>
                </a:cubicBezTo>
                <a:cubicBezTo>
                  <a:pt x="15087" y="7715"/>
                  <a:pt x="15064" y="7731"/>
                  <a:pt x="15113" y="7747"/>
                </a:cubicBezTo>
              </a:path>
              <a:path w="10955" h="1716">
                <a:moveTo>
                  <a:pt x="15621" y="7620"/>
                </a:moveTo>
                <a:cubicBezTo>
                  <a:pt x="15621" y="7714"/>
                  <a:pt x="15678" y="8078"/>
                  <a:pt x="15653" y="8128"/>
                </a:cubicBezTo>
                <a:cubicBezTo>
                  <a:pt x="15644" y="8146"/>
                  <a:pt x="15649" y="8128"/>
                  <a:pt x="15621" y="8128"/>
                </a:cubicBezTo>
              </a:path>
              <a:path w="10955" h="1716">
                <a:moveTo>
                  <a:pt x="15430" y="7906"/>
                </a:moveTo>
                <a:cubicBezTo>
                  <a:pt x="15367" y="7906"/>
                  <a:pt x="15471" y="7882"/>
                  <a:pt x="15494" y="7874"/>
                </a:cubicBezTo>
                <a:cubicBezTo>
                  <a:pt x="15568" y="7849"/>
                  <a:pt x="15672" y="7866"/>
                  <a:pt x="15748" y="7842"/>
                </a:cubicBezTo>
                <a:cubicBezTo>
                  <a:pt x="15769" y="7831"/>
                  <a:pt x="15791" y="7821"/>
                  <a:pt x="15812" y="7810"/>
                </a:cubicBezTo>
              </a:path>
              <a:path w="10955" h="1716">
                <a:moveTo>
                  <a:pt x="16446" y="7112"/>
                </a:moveTo>
                <a:cubicBezTo>
                  <a:pt x="16375" y="7185"/>
                  <a:pt x="16311" y="7249"/>
                  <a:pt x="16256" y="7334"/>
                </a:cubicBezTo>
                <a:cubicBezTo>
                  <a:pt x="16181" y="7449"/>
                  <a:pt x="16140" y="7553"/>
                  <a:pt x="16097" y="7684"/>
                </a:cubicBezTo>
                <a:cubicBezTo>
                  <a:pt x="16057" y="7804"/>
                  <a:pt x="16007" y="7908"/>
                  <a:pt x="16002" y="8033"/>
                </a:cubicBezTo>
                <a:cubicBezTo>
                  <a:pt x="15998" y="8136"/>
                  <a:pt x="15992" y="8225"/>
                  <a:pt x="16034" y="8318"/>
                </a:cubicBezTo>
                <a:cubicBezTo>
                  <a:pt x="16057" y="8368"/>
                  <a:pt x="16070" y="8451"/>
                  <a:pt x="16129" y="8477"/>
                </a:cubicBezTo>
                <a:cubicBezTo>
                  <a:pt x="16173" y="8496"/>
                  <a:pt x="16158" y="8509"/>
                  <a:pt x="16224" y="8509"/>
                </a:cubicBezTo>
              </a:path>
              <a:path w="10955" h="1716">
                <a:moveTo>
                  <a:pt x="16446" y="7747"/>
                </a:moveTo>
                <a:cubicBezTo>
                  <a:pt x="16436" y="7747"/>
                  <a:pt x="16425" y="7747"/>
                  <a:pt x="16415" y="7747"/>
                </a:cubicBezTo>
                <a:cubicBezTo>
                  <a:pt x="16422" y="7726"/>
                  <a:pt x="16444" y="7669"/>
                  <a:pt x="16478" y="7652"/>
                </a:cubicBezTo>
                <a:cubicBezTo>
                  <a:pt x="16527" y="7628"/>
                  <a:pt x="16597" y="7595"/>
                  <a:pt x="16637" y="7652"/>
                </a:cubicBezTo>
                <a:cubicBezTo>
                  <a:pt x="16669" y="7698"/>
                  <a:pt x="16688" y="7786"/>
                  <a:pt x="16669" y="7842"/>
                </a:cubicBezTo>
                <a:cubicBezTo>
                  <a:pt x="16659" y="7873"/>
                  <a:pt x="16530" y="8013"/>
                  <a:pt x="16605" y="7938"/>
                </a:cubicBezTo>
                <a:cubicBezTo>
                  <a:pt x="16676" y="7867"/>
                  <a:pt x="16656" y="7881"/>
                  <a:pt x="16732" y="7906"/>
                </a:cubicBezTo>
                <a:cubicBezTo>
                  <a:pt x="16797" y="7928"/>
                  <a:pt x="16796" y="7951"/>
                  <a:pt x="16828" y="8001"/>
                </a:cubicBezTo>
                <a:cubicBezTo>
                  <a:pt x="16875" y="8073"/>
                  <a:pt x="16810" y="8121"/>
                  <a:pt x="16796" y="8192"/>
                </a:cubicBezTo>
                <a:cubicBezTo>
                  <a:pt x="16777" y="8285"/>
                  <a:pt x="16784" y="8338"/>
                  <a:pt x="16669" y="8350"/>
                </a:cubicBezTo>
                <a:cubicBezTo>
                  <a:pt x="16613" y="8356"/>
                  <a:pt x="16637" y="8265"/>
                  <a:pt x="16637" y="8223"/>
                </a:cubicBezTo>
              </a:path>
              <a:path w="10955" h="1716">
                <a:moveTo>
                  <a:pt x="17113" y="7747"/>
                </a:moveTo>
                <a:cubicBezTo>
                  <a:pt x="17140" y="7693"/>
                  <a:pt x="17172" y="7758"/>
                  <a:pt x="17177" y="7810"/>
                </a:cubicBezTo>
                <a:cubicBezTo>
                  <a:pt x="17183" y="7871"/>
                  <a:pt x="17191" y="7973"/>
                  <a:pt x="17208" y="8033"/>
                </a:cubicBezTo>
                <a:cubicBezTo>
                  <a:pt x="17232" y="8118"/>
                  <a:pt x="17240" y="8102"/>
                  <a:pt x="17240" y="8192"/>
                </a:cubicBezTo>
              </a:path>
              <a:path w="10955" h="1716">
                <a:moveTo>
                  <a:pt x="17082" y="7969"/>
                </a:moveTo>
                <a:cubicBezTo>
                  <a:pt x="17082" y="7980"/>
                  <a:pt x="17082" y="7990"/>
                  <a:pt x="17082" y="8001"/>
                </a:cubicBezTo>
                <a:cubicBezTo>
                  <a:pt x="17159" y="8001"/>
                  <a:pt x="17200" y="7982"/>
                  <a:pt x="17272" y="7969"/>
                </a:cubicBezTo>
                <a:cubicBezTo>
                  <a:pt x="17341" y="7957"/>
                  <a:pt x="17362" y="7948"/>
                  <a:pt x="17431" y="7938"/>
                </a:cubicBezTo>
              </a:path>
              <a:path w="10955" h="1716">
                <a:moveTo>
                  <a:pt x="17590" y="7652"/>
                </a:moveTo>
                <a:cubicBezTo>
                  <a:pt x="17598" y="7618"/>
                  <a:pt x="17616" y="7543"/>
                  <a:pt x="17653" y="7525"/>
                </a:cubicBezTo>
                <a:cubicBezTo>
                  <a:pt x="17694" y="7505"/>
                  <a:pt x="17728" y="7493"/>
                  <a:pt x="17780" y="7493"/>
                </a:cubicBezTo>
                <a:cubicBezTo>
                  <a:pt x="17828" y="7493"/>
                  <a:pt x="17881" y="7570"/>
                  <a:pt x="17875" y="7620"/>
                </a:cubicBezTo>
                <a:cubicBezTo>
                  <a:pt x="17865" y="7710"/>
                  <a:pt x="17799" y="7787"/>
                  <a:pt x="17780" y="7874"/>
                </a:cubicBezTo>
                <a:cubicBezTo>
                  <a:pt x="17761" y="7961"/>
                  <a:pt x="17741" y="8021"/>
                  <a:pt x="17685" y="8096"/>
                </a:cubicBezTo>
                <a:cubicBezTo>
                  <a:pt x="17674" y="8107"/>
                  <a:pt x="17664" y="8117"/>
                  <a:pt x="17653" y="8128"/>
                </a:cubicBezTo>
                <a:cubicBezTo>
                  <a:pt x="17703" y="8115"/>
                  <a:pt x="17723" y="8096"/>
                  <a:pt x="17780" y="8096"/>
                </a:cubicBezTo>
                <a:cubicBezTo>
                  <a:pt x="17858" y="8096"/>
                  <a:pt x="17934" y="8082"/>
                  <a:pt x="18002" y="8128"/>
                </a:cubicBezTo>
                <a:cubicBezTo>
                  <a:pt x="18053" y="8162"/>
                  <a:pt x="18066" y="8160"/>
                  <a:pt x="18129" y="8160"/>
                </a:cubicBezTo>
              </a:path>
              <a:path w="10955" h="1716">
                <a:moveTo>
                  <a:pt x="18034" y="7239"/>
                </a:moveTo>
                <a:cubicBezTo>
                  <a:pt x="18078" y="7314"/>
                  <a:pt x="18121" y="7382"/>
                  <a:pt x="18161" y="7461"/>
                </a:cubicBezTo>
                <a:cubicBezTo>
                  <a:pt x="18213" y="7564"/>
                  <a:pt x="18302" y="7647"/>
                  <a:pt x="18352" y="7747"/>
                </a:cubicBezTo>
                <a:cubicBezTo>
                  <a:pt x="18404" y="7852"/>
                  <a:pt x="18383" y="7983"/>
                  <a:pt x="18383" y="8096"/>
                </a:cubicBezTo>
                <a:cubicBezTo>
                  <a:pt x="18383" y="8179"/>
                  <a:pt x="18354" y="8308"/>
                  <a:pt x="18320" y="8382"/>
                </a:cubicBezTo>
                <a:cubicBezTo>
                  <a:pt x="18295" y="8435"/>
                  <a:pt x="18273" y="8448"/>
                  <a:pt x="18256" y="8414"/>
                </a:cubicBezTo>
              </a:path>
              <a:path w="10955" h="1716">
                <a:moveTo>
                  <a:pt x="18542" y="7366"/>
                </a:moveTo>
                <a:cubicBezTo>
                  <a:pt x="18592" y="7354"/>
                  <a:pt x="18612" y="7334"/>
                  <a:pt x="18669" y="7334"/>
                </a:cubicBezTo>
                <a:cubicBezTo>
                  <a:pt x="18701" y="7334"/>
                  <a:pt x="18711" y="7334"/>
                  <a:pt x="18732" y="7334"/>
                </a:cubicBezTo>
                <a:cubicBezTo>
                  <a:pt x="18732" y="7410"/>
                  <a:pt x="18732" y="7520"/>
                  <a:pt x="18701" y="7588"/>
                </a:cubicBezTo>
                <a:cubicBezTo>
                  <a:pt x="18681" y="7630"/>
                  <a:pt x="18614" y="7699"/>
                  <a:pt x="18606" y="7715"/>
                </a:cubicBezTo>
                <a:cubicBezTo>
                  <a:pt x="18606" y="7726"/>
                  <a:pt x="18606" y="7736"/>
                  <a:pt x="18606" y="7747"/>
                </a:cubicBezTo>
                <a:cubicBezTo>
                  <a:pt x="18655" y="7734"/>
                  <a:pt x="18675" y="7715"/>
                  <a:pt x="18732" y="7715"/>
                </a:cubicBezTo>
                <a:cubicBezTo>
                  <a:pt x="18796" y="7715"/>
                  <a:pt x="18859" y="7715"/>
                  <a:pt x="18923" y="7715"/>
                </a:cubicBezTo>
              </a:path>
              <a:path w="10955" h="1716">
                <a:moveTo>
                  <a:pt x="19748" y="7779"/>
                </a:moveTo>
                <a:cubicBezTo>
                  <a:pt x="19843" y="7779"/>
                  <a:pt x="19923" y="7763"/>
                  <a:pt x="20002" y="7747"/>
                </a:cubicBezTo>
                <a:cubicBezTo>
                  <a:pt x="20087" y="7730"/>
                  <a:pt x="20200" y="7747"/>
                  <a:pt x="20288" y="7747"/>
                </a:cubicBezTo>
              </a:path>
              <a:path w="10955" h="1716">
                <a:moveTo>
                  <a:pt x="19780" y="8128"/>
                </a:moveTo>
                <a:cubicBezTo>
                  <a:pt x="19834" y="8169"/>
                  <a:pt x="19867" y="8160"/>
                  <a:pt x="19939" y="8160"/>
                </a:cubicBezTo>
                <a:cubicBezTo>
                  <a:pt x="20032" y="8160"/>
                  <a:pt x="20106" y="8108"/>
                  <a:pt x="20193" y="8096"/>
                </a:cubicBezTo>
                <a:cubicBezTo>
                  <a:pt x="20293" y="8083"/>
                  <a:pt x="20376" y="8064"/>
                  <a:pt x="20479" y="8064"/>
                </a:cubicBezTo>
                <a:cubicBezTo>
                  <a:pt x="20489" y="8064"/>
                  <a:pt x="20500" y="8064"/>
                  <a:pt x="20510" y="8064"/>
                </a:cubicBezTo>
              </a:path>
              <a:path w="10955" h="1716">
                <a:moveTo>
                  <a:pt x="21526" y="7080"/>
                </a:moveTo>
                <a:cubicBezTo>
                  <a:pt x="21517" y="7109"/>
                  <a:pt x="21514" y="7142"/>
                  <a:pt x="21495" y="7176"/>
                </a:cubicBezTo>
                <a:cubicBezTo>
                  <a:pt x="21465" y="7229"/>
                  <a:pt x="21442" y="7300"/>
                  <a:pt x="21431" y="7366"/>
                </a:cubicBezTo>
                <a:cubicBezTo>
                  <a:pt x="21414" y="7466"/>
                  <a:pt x="21395" y="7586"/>
                  <a:pt x="21368" y="7684"/>
                </a:cubicBezTo>
                <a:cubicBezTo>
                  <a:pt x="21344" y="7772"/>
                  <a:pt x="21284" y="7907"/>
                  <a:pt x="21304" y="8001"/>
                </a:cubicBezTo>
                <a:cubicBezTo>
                  <a:pt x="21318" y="8067"/>
                  <a:pt x="21328" y="8173"/>
                  <a:pt x="21368" y="8223"/>
                </a:cubicBezTo>
                <a:cubicBezTo>
                  <a:pt x="21419" y="8286"/>
                  <a:pt x="21447" y="8287"/>
                  <a:pt x="21526" y="8287"/>
                </a:cubicBezTo>
                <a:cubicBezTo>
                  <a:pt x="21607" y="8287"/>
                  <a:pt x="21662" y="8243"/>
                  <a:pt x="21717" y="8192"/>
                </a:cubicBezTo>
                <a:cubicBezTo>
                  <a:pt x="21770" y="8144"/>
                  <a:pt x="21810" y="8064"/>
                  <a:pt x="21844" y="8001"/>
                </a:cubicBezTo>
                <a:cubicBezTo>
                  <a:pt x="21868" y="7956"/>
                  <a:pt x="21903" y="7863"/>
                  <a:pt x="21876" y="7810"/>
                </a:cubicBezTo>
                <a:cubicBezTo>
                  <a:pt x="21848" y="7755"/>
                  <a:pt x="21826" y="7725"/>
                  <a:pt x="21812" y="7684"/>
                </a:cubicBezTo>
                <a:cubicBezTo>
                  <a:pt x="21765" y="7696"/>
                  <a:pt x="21715" y="7732"/>
                  <a:pt x="21685" y="7779"/>
                </a:cubicBezTo>
                <a:cubicBezTo>
                  <a:pt x="21646" y="7840"/>
                  <a:pt x="21603" y="7964"/>
                  <a:pt x="21590" y="8033"/>
                </a:cubicBezTo>
                <a:cubicBezTo>
                  <a:pt x="21579" y="8090"/>
                  <a:pt x="21590" y="8165"/>
                  <a:pt x="21590" y="8223"/>
                </a:cubicBezTo>
              </a:path>
              <a:path w="10955" h="1716">
                <a:moveTo>
                  <a:pt x="22066" y="8064"/>
                </a:moveTo>
                <a:cubicBezTo>
                  <a:pt x="22066" y="8075"/>
                  <a:pt x="22066" y="8085"/>
                  <a:pt x="22066" y="8096"/>
                </a:cubicBezTo>
              </a:path>
              <a:path w="10955" h="1716">
                <a:moveTo>
                  <a:pt x="22447" y="7048"/>
                </a:moveTo>
                <a:cubicBezTo>
                  <a:pt x="22460" y="7153"/>
                  <a:pt x="22453" y="7198"/>
                  <a:pt x="22447" y="7302"/>
                </a:cubicBezTo>
                <a:cubicBezTo>
                  <a:pt x="22441" y="7406"/>
                  <a:pt x="22476" y="7537"/>
                  <a:pt x="22416" y="7620"/>
                </a:cubicBezTo>
                <a:cubicBezTo>
                  <a:pt x="22532" y="7620"/>
                  <a:pt x="22634" y="7619"/>
                  <a:pt x="22733" y="7652"/>
                </a:cubicBezTo>
                <a:cubicBezTo>
                  <a:pt x="22798" y="7674"/>
                  <a:pt x="22839" y="7631"/>
                  <a:pt x="22860" y="7620"/>
                </a:cubicBezTo>
                <a:cubicBezTo>
                  <a:pt x="22902" y="7599"/>
                  <a:pt x="22892" y="7615"/>
                  <a:pt x="22892" y="7556"/>
                </a:cubicBezTo>
              </a:path>
              <a:path w="10955" h="1716">
                <a:moveTo>
                  <a:pt x="22765" y="6985"/>
                </a:moveTo>
                <a:cubicBezTo>
                  <a:pt x="22765" y="7336"/>
                  <a:pt x="22759" y="7689"/>
                  <a:pt x="22796" y="8033"/>
                </a:cubicBezTo>
                <a:cubicBezTo>
                  <a:pt x="22796" y="8139"/>
                  <a:pt x="22796" y="8181"/>
                  <a:pt x="22796" y="82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Ink 12"/>
          <p:cNvSpPr/>
          <p:nvPr/>
        </p:nvSpPr>
        <p:spPr>
          <a:xfrm>
            <a:off x="3257640" y="3303720"/>
            <a:ext cx="3006720" cy="1349280"/>
          </a:xfrm>
          <a:custGeom>
            <a:avLst/>
            <a:gdLst/>
            <a:ahLst/>
            <a:rect l="l" t="t" r="r" b="b"/>
            <a:pathLst>
              <a:path w="8351" h="3747">
                <a:moveTo>
                  <a:pt x="9112" y="10224"/>
                </a:moveTo>
                <a:cubicBezTo>
                  <a:pt x="9101" y="10224"/>
                  <a:pt x="9091" y="10224"/>
                  <a:pt x="9080" y="10224"/>
                </a:cubicBezTo>
              </a:path>
              <a:path w="8351" h="3747">
                <a:moveTo>
                  <a:pt x="9112" y="10224"/>
                </a:moveTo>
                <a:cubicBezTo>
                  <a:pt x="9091" y="10224"/>
                  <a:pt x="9070" y="10224"/>
                  <a:pt x="9049" y="10224"/>
                </a:cubicBezTo>
              </a:path>
              <a:path w="8351" h="3747">
                <a:moveTo>
                  <a:pt x="9049" y="10224"/>
                </a:moveTo>
                <a:cubicBezTo>
                  <a:pt x="9049" y="10157"/>
                  <a:pt x="9063" y="10144"/>
                  <a:pt x="9112" y="10096"/>
                </a:cubicBezTo>
                <a:cubicBezTo>
                  <a:pt x="9150" y="10058"/>
                  <a:pt x="9182" y="9954"/>
                  <a:pt x="9239" y="9938"/>
                </a:cubicBezTo>
                <a:cubicBezTo>
                  <a:pt x="9294" y="9922"/>
                  <a:pt x="9339" y="9906"/>
                  <a:pt x="9398" y="9906"/>
                </a:cubicBezTo>
                <a:cubicBezTo>
                  <a:pt x="9436" y="9906"/>
                  <a:pt x="9459" y="9959"/>
                  <a:pt x="9462" y="10001"/>
                </a:cubicBezTo>
                <a:cubicBezTo>
                  <a:pt x="9468" y="10082"/>
                  <a:pt x="9448" y="10179"/>
                  <a:pt x="9430" y="10255"/>
                </a:cubicBezTo>
                <a:cubicBezTo>
                  <a:pt x="9403" y="10370"/>
                  <a:pt x="9373" y="10495"/>
                  <a:pt x="9334" y="10604"/>
                </a:cubicBezTo>
                <a:cubicBezTo>
                  <a:pt x="9302" y="10692"/>
                  <a:pt x="9275" y="10811"/>
                  <a:pt x="9239" y="10890"/>
                </a:cubicBezTo>
                <a:cubicBezTo>
                  <a:pt x="9218" y="10937"/>
                  <a:pt x="9176" y="10955"/>
                  <a:pt x="9176" y="10922"/>
                </a:cubicBezTo>
                <a:cubicBezTo>
                  <a:pt x="9176" y="10846"/>
                  <a:pt x="9188" y="10821"/>
                  <a:pt x="9208" y="10763"/>
                </a:cubicBezTo>
                <a:cubicBezTo>
                  <a:pt x="9208" y="10727"/>
                  <a:pt x="9211" y="10714"/>
                  <a:pt x="9239" y="10700"/>
                </a:cubicBezTo>
                <a:cubicBezTo>
                  <a:pt x="9323" y="10721"/>
                  <a:pt x="9273" y="10739"/>
                  <a:pt x="9303" y="10795"/>
                </a:cubicBezTo>
                <a:cubicBezTo>
                  <a:pt x="9340" y="10864"/>
                  <a:pt x="9337" y="10882"/>
                  <a:pt x="9398" y="10922"/>
                </a:cubicBezTo>
                <a:cubicBezTo>
                  <a:pt x="9449" y="10956"/>
                  <a:pt x="9462" y="10954"/>
                  <a:pt x="9525" y="10954"/>
                </a:cubicBezTo>
                <a:cubicBezTo>
                  <a:pt x="9557" y="10954"/>
                  <a:pt x="9567" y="10954"/>
                  <a:pt x="9588" y="10954"/>
                </a:cubicBezTo>
              </a:path>
              <a:path w="8351" h="3747">
                <a:moveTo>
                  <a:pt x="9842" y="10795"/>
                </a:moveTo>
                <a:lnTo>
                  <a:pt x="9842" y="10795"/>
                </a:lnTo>
              </a:path>
              <a:path w="8351" h="3747">
                <a:moveTo>
                  <a:pt x="11112" y="9684"/>
                </a:moveTo>
                <a:cubicBezTo>
                  <a:pt x="11009" y="9705"/>
                  <a:pt x="11008" y="9764"/>
                  <a:pt x="10922" y="9811"/>
                </a:cubicBezTo>
                <a:cubicBezTo>
                  <a:pt x="10771" y="9893"/>
                  <a:pt x="10753" y="9967"/>
                  <a:pt x="10636" y="10096"/>
                </a:cubicBezTo>
                <a:cubicBezTo>
                  <a:pt x="10547" y="10194"/>
                  <a:pt x="10475" y="10346"/>
                  <a:pt x="10446" y="10478"/>
                </a:cubicBezTo>
                <a:cubicBezTo>
                  <a:pt x="10423" y="10585"/>
                  <a:pt x="10459" y="10649"/>
                  <a:pt x="10509" y="10732"/>
                </a:cubicBezTo>
                <a:cubicBezTo>
                  <a:pt x="10556" y="10811"/>
                  <a:pt x="10611" y="10814"/>
                  <a:pt x="10700" y="10827"/>
                </a:cubicBezTo>
              </a:path>
              <a:path w="8351" h="3747">
                <a:moveTo>
                  <a:pt x="11335" y="10033"/>
                </a:moveTo>
                <a:cubicBezTo>
                  <a:pt x="11388" y="10033"/>
                  <a:pt x="11441" y="10033"/>
                  <a:pt x="11494" y="10033"/>
                </a:cubicBezTo>
                <a:cubicBezTo>
                  <a:pt x="11476" y="10087"/>
                  <a:pt x="11432" y="10065"/>
                  <a:pt x="11366" y="10065"/>
                </a:cubicBezTo>
                <a:cubicBezTo>
                  <a:pt x="11286" y="10065"/>
                  <a:pt x="11242" y="10053"/>
                  <a:pt x="11176" y="10033"/>
                </a:cubicBezTo>
                <a:cubicBezTo>
                  <a:pt x="11151" y="10025"/>
                  <a:pt x="11108" y="10033"/>
                  <a:pt x="11081" y="10033"/>
                </a:cubicBezTo>
                <a:cubicBezTo>
                  <a:pt x="11081" y="10097"/>
                  <a:pt x="11066" y="10108"/>
                  <a:pt x="11049" y="10160"/>
                </a:cubicBezTo>
                <a:cubicBezTo>
                  <a:pt x="11036" y="10200"/>
                  <a:pt x="11041" y="10290"/>
                  <a:pt x="11017" y="10319"/>
                </a:cubicBezTo>
                <a:cubicBezTo>
                  <a:pt x="10986" y="10319"/>
                  <a:pt x="10976" y="10319"/>
                  <a:pt x="10986" y="10350"/>
                </a:cubicBezTo>
                <a:cubicBezTo>
                  <a:pt x="11044" y="10350"/>
                  <a:pt x="11068" y="10358"/>
                  <a:pt x="11112" y="10319"/>
                </a:cubicBezTo>
                <a:cubicBezTo>
                  <a:pt x="11185" y="10254"/>
                  <a:pt x="11225" y="10194"/>
                  <a:pt x="11335" y="10224"/>
                </a:cubicBezTo>
                <a:cubicBezTo>
                  <a:pt x="11395" y="10240"/>
                  <a:pt x="11455" y="10291"/>
                  <a:pt x="11462" y="10350"/>
                </a:cubicBezTo>
                <a:cubicBezTo>
                  <a:pt x="11471" y="10426"/>
                  <a:pt x="11471" y="10507"/>
                  <a:pt x="11430" y="10573"/>
                </a:cubicBezTo>
                <a:cubicBezTo>
                  <a:pt x="11400" y="10620"/>
                  <a:pt x="11339" y="10682"/>
                  <a:pt x="11303" y="10700"/>
                </a:cubicBezTo>
                <a:cubicBezTo>
                  <a:pt x="11257" y="10723"/>
                  <a:pt x="11165" y="10759"/>
                  <a:pt x="11112" y="10732"/>
                </a:cubicBezTo>
                <a:cubicBezTo>
                  <a:pt x="11052" y="10702"/>
                  <a:pt x="11057" y="10659"/>
                  <a:pt x="11049" y="10604"/>
                </a:cubicBezTo>
              </a:path>
              <a:path w="8351" h="3747">
                <a:moveTo>
                  <a:pt x="11748" y="10541"/>
                </a:moveTo>
                <a:cubicBezTo>
                  <a:pt x="11748" y="10606"/>
                  <a:pt x="11739" y="10647"/>
                  <a:pt x="11716" y="10700"/>
                </a:cubicBezTo>
                <a:cubicBezTo>
                  <a:pt x="11684" y="10773"/>
                  <a:pt x="11658" y="10814"/>
                  <a:pt x="11652" y="10890"/>
                </a:cubicBezTo>
                <a:cubicBezTo>
                  <a:pt x="11652" y="10926"/>
                  <a:pt x="11655" y="10934"/>
                  <a:pt x="11684" y="10890"/>
                </a:cubicBezTo>
              </a:path>
              <a:path w="8351" h="3747">
                <a:moveTo>
                  <a:pt x="11970" y="10128"/>
                </a:moveTo>
                <a:cubicBezTo>
                  <a:pt x="11982" y="10091"/>
                  <a:pt x="12013" y="10071"/>
                  <a:pt x="12065" y="10065"/>
                </a:cubicBezTo>
                <a:cubicBezTo>
                  <a:pt x="12136" y="10057"/>
                  <a:pt x="12180" y="10033"/>
                  <a:pt x="12256" y="10033"/>
                </a:cubicBezTo>
                <a:cubicBezTo>
                  <a:pt x="12333" y="10033"/>
                  <a:pt x="12387" y="10021"/>
                  <a:pt x="12446" y="10065"/>
                </a:cubicBezTo>
                <a:cubicBezTo>
                  <a:pt x="12409" y="10130"/>
                  <a:pt x="12372" y="10172"/>
                  <a:pt x="12319" y="10224"/>
                </a:cubicBezTo>
                <a:cubicBezTo>
                  <a:pt x="12268" y="10274"/>
                  <a:pt x="12226" y="10334"/>
                  <a:pt x="12160" y="10350"/>
                </a:cubicBezTo>
                <a:cubicBezTo>
                  <a:pt x="12177" y="10301"/>
                  <a:pt x="12221" y="10291"/>
                  <a:pt x="12287" y="10287"/>
                </a:cubicBezTo>
                <a:cubicBezTo>
                  <a:pt x="12359" y="10283"/>
                  <a:pt x="12423" y="10276"/>
                  <a:pt x="12478" y="10319"/>
                </a:cubicBezTo>
                <a:cubicBezTo>
                  <a:pt x="12533" y="10362"/>
                  <a:pt x="12541" y="10414"/>
                  <a:pt x="12541" y="10478"/>
                </a:cubicBezTo>
                <a:cubicBezTo>
                  <a:pt x="12541" y="10564"/>
                  <a:pt x="12530" y="10587"/>
                  <a:pt x="12510" y="10668"/>
                </a:cubicBezTo>
                <a:cubicBezTo>
                  <a:pt x="12497" y="10721"/>
                  <a:pt x="12473" y="10757"/>
                  <a:pt x="12414" y="10763"/>
                </a:cubicBezTo>
                <a:cubicBezTo>
                  <a:pt x="12346" y="10770"/>
                  <a:pt x="12309" y="10762"/>
                  <a:pt x="12256" y="10732"/>
                </a:cubicBezTo>
                <a:cubicBezTo>
                  <a:pt x="12191" y="10695"/>
                  <a:pt x="12152" y="10707"/>
                  <a:pt x="12128" y="10636"/>
                </a:cubicBezTo>
                <a:cubicBezTo>
                  <a:pt x="12128" y="10625"/>
                  <a:pt x="12128" y="10615"/>
                  <a:pt x="12128" y="10604"/>
                </a:cubicBezTo>
              </a:path>
              <a:path w="8351" h="3747">
                <a:moveTo>
                  <a:pt x="12636" y="9652"/>
                </a:moveTo>
                <a:cubicBezTo>
                  <a:pt x="12654" y="9741"/>
                  <a:pt x="12715" y="9798"/>
                  <a:pt x="12764" y="9874"/>
                </a:cubicBezTo>
                <a:cubicBezTo>
                  <a:pt x="12847" y="10002"/>
                  <a:pt x="12933" y="10167"/>
                  <a:pt x="12954" y="10319"/>
                </a:cubicBezTo>
                <a:cubicBezTo>
                  <a:pt x="12972" y="10446"/>
                  <a:pt x="12966" y="10612"/>
                  <a:pt x="12922" y="10732"/>
                </a:cubicBezTo>
                <a:cubicBezTo>
                  <a:pt x="12894" y="10809"/>
                  <a:pt x="12848" y="10894"/>
                  <a:pt x="12795" y="10954"/>
                </a:cubicBezTo>
                <a:cubicBezTo>
                  <a:pt x="12764" y="10989"/>
                  <a:pt x="12679" y="11061"/>
                  <a:pt x="12636" y="11081"/>
                </a:cubicBezTo>
                <a:cubicBezTo>
                  <a:pt x="12626" y="11081"/>
                  <a:pt x="12615" y="11081"/>
                  <a:pt x="12605" y="11081"/>
                </a:cubicBezTo>
              </a:path>
              <a:path w="8351" h="3747">
                <a:moveTo>
                  <a:pt x="14034" y="9747"/>
                </a:moveTo>
                <a:cubicBezTo>
                  <a:pt x="13963" y="9695"/>
                  <a:pt x="13953" y="9738"/>
                  <a:pt x="13875" y="9779"/>
                </a:cubicBezTo>
                <a:cubicBezTo>
                  <a:pt x="13771" y="9834"/>
                  <a:pt x="13718" y="9966"/>
                  <a:pt x="13652" y="10065"/>
                </a:cubicBezTo>
                <a:cubicBezTo>
                  <a:pt x="13560" y="10202"/>
                  <a:pt x="13513" y="10353"/>
                  <a:pt x="13462" y="10509"/>
                </a:cubicBezTo>
                <a:cubicBezTo>
                  <a:pt x="13418" y="10646"/>
                  <a:pt x="13426" y="10707"/>
                  <a:pt x="13494" y="10827"/>
                </a:cubicBezTo>
                <a:cubicBezTo>
                  <a:pt x="13557" y="10938"/>
                  <a:pt x="13618" y="10876"/>
                  <a:pt x="13716" y="10827"/>
                </a:cubicBezTo>
                <a:cubicBezTo>
                  <a:pt x="13737" y="10816"/>
                  <a:pt x="13759" y="10806"/>
                  <a:pt x="13780" y="10795"/>
                </a:cubicBezTo>
              </a:path>
              <a:path w="8351" h="3747">
                <a:moveTo>
                  <a:pt x="13970" y="10096"/>
                </a:moveTo>
                <a:cubicBezTo>
                  <a:pt x="13898" y="10096"/>
                  <a:pt x="14010" y="10126"/>
                  <a:pt x="14034" y="10128"/>
                </a:cubicBezTo>
                <a:cubicBezTo>
                  <a:pt x="14114" y="10134"/>
                  <a:pt x="14139" y="10160"/>
                  <a:pt x="14224" y="10160"/>
                </a:cubicBezTo>
                <a:cubicBezTo>
                  <a:pt x="14281" y="10160"/>
                  <a:pt x="14303" y="10112"/>
                  <a:pt x="14351" y="10096"/>
                </a:cubicBezTo>
                <a:cubicBezTo>
                  <a:pt x="14425" y="10071"/>
                  <a:pt x="14409" y="10078"/>
                  <a:pt x="14446" y="10096"/>
                </a:cubicBezTo>
                <a:cubicBezTo>
                  <a:pt x="14478" y="10096"/>
                  <a:pt x="14489" y="10096"/>
                  <a:pt x="14478" y="10128"/>
                </a:cubicBezTo>
                <a:cubicBezTo>
                  <a:pt x="14465" y="10167"/>
                  <a:pt x="14425" y="10171"/>
                  <a:pt x="14414" y="10224"/>
                </a:cubicBezTo>
                <a:cubicBezTo>
                  <a:pt x="14397" y="10302"/>
                  <a:pt x="14370" y="10364"/>
                  <a:pt x="14351" y="10446"/>
                </a:cubicBezTo>
                <a:cubicBezTo>
                  <a:pt x="14336" y="10511"/>
                  <a:pt x="14335" y="10571"/>
                  <a:pt x="14319" y="10636"/>
                </a:cubicBezTo>
                <a:cubicBezTo>
                  <a:pt x="14304" y="10697"/>
                  <a:pt x="14260" y="10852"/>
                  <a:pt x="14288" y="10795"/>
                </a:cubicBezTo>
                <a:cubicBezTo>
                  <a:pt x="14298" y="10784"/>
                  <a:pt x="14309" y="10774"/>
                  <a:pt x="14319" y="10763"/>
                </a:cubicBezTo>
              </a:path>
              <a:path w="8351" h="3747">
                <a:moveTo>
                  <a:pt x="14732" y="10604"/>
                </a:moveTo>
                <a:cubicBezTo>
                  <a:pt x="14789" y="10679"/>
                  <a:pt x="14747" y="10661"/>
                  <a:pt x="14732" y="10732"/>
                </a:cubicBezTo>
                <a:cubicBezTo>
                  <a:pt x="14715" y="10809"/>
                  <a:pt x="14732" y="10906"/>
                  <a:pt x="14732" y="10986"/>
                </a:cubicBezTo>
              </a:path>
              <a:path w="8351" h="3747">
                <a:moveTo>
                  <a:pt x="15018" y="10287"/>
                </a:moveTo>
                <a:cubicBezTo>
                  <a:pt x="15085" y="10273"/>
                  <a:pt x="15135" y="10255"/>
                  <a:pt x="15208" y="10255"/>
                </a:cubicBezTo>
                <a:cubicBezTo>
                  <a:pt x="15261" y="10255"/>
                  <a:pt x="15272" y="10255"/>
                  <a:pt x="15304" y="10255"/>
                </a:cubicBezTo>
              </a:path>
              <a:path w="8351" h="3747">
                <a:moveTo>
                  <a:pt x="15494" y="10224"/>
                </a:moveTo>
                <a:cubicBezTo>
                  <a:pt x="15532" y="10211"/>
                  <a:pt x="15547" y="10197"/>
                  <a:pt x="15589" y="10160"/>
                </a:cubicBezTo>
                <a:cubicBezTo>
                  <a:pt x="15633" y="10120"/>
                  <a:pt x="15748" y="10084"/>
                  <a:pt x="15812" y="10065"/>
                </a:cubicBezTo>
                <a:cubicBezTo>
                  <a:pt x="15857" y="10051"/>
                  <a:pt x="15927" y="10074"/>
                  <a:pt x="15938" y="10096"/>
                </a:cubicBezTo>
                <a:cubicBezTo>
                  <a:pt x="15963" y="10147"/>
                  <a:pt x="15927" y="10218"/>
                  <a:pt x="15907" y="10255"/>
                </a:cubicBezTo>
                <a:cubicBezTo>
                  <a:pt x="15863" y="10338"/>
                  <a:pt x="15796" y="10399"/>
                  <a:pt x="15748" y="10478"/>
                </a:cubicBezTo>
                <a:cubicBezTo>
                  <a:pt x="15701" y="10555"/>
                  <a:pt x="15639" y="10611"/>
                  <a:pt x="15621" y="10700"/>
                </a:cubicBezTo>
                <a:cubicBezTo>
                  <a:pt x="15677" y="10686"/>
                  <a:pt x="15717" y="10652"/>
                  <a:pt x="15780" y="10636"/>
                </a:cubicBezTo>
                <a:cubicBezTo>
                  <a:pt x="15844" y="10620"/>
                  <a:pt x="15894" y="10660"/>
                  <a:pt x="15938" y="10700"/>
                </a:cubicBezTo>
                <a:cubicBezTo>
                  <a:pt x="15989" y="10747"/>
                  <a:pt x="15996" y="10763"/>
                  <a:pt x="16066" y="10763"/>
                </a:cubicBezTo>
              </a:path>
              <a:path w="8351" h="3747">
                <a:moveTo>
                  <a:pt x="16129" y="9684"/>
                </a:moveTo>
                <a:cubicBezTo>
                  <a:pt x="16184" y="9752"/>
                  <a:pt x="16210" y="9831"/>
                  <a:pt x="16256" y="9906"/>
                </a:cubicBezTo>
                <a:cubicBezTo>
                  <a:pt x="16343" y="10048"/>
                  <a:pt x="16369" y="10184"/>
                  <a:pt x="16383" y="10350"/>
                </a:cubicBezTo>
                <a:cubicBezTo>
                  <a:pt x="16396" y="10499"/>
                  <a:pt x="16422" y="10647"/>
                  <a:pt x="16383" y="10795"/>
                </a:cubicBezTo>
                <a:cubicBezTo>
                  <a:pt x="16359" y="10885"/>
                  <a:pt x="16294" y="11021"/>
                  <a:pt x="16224" y="11081"/>
                </a:cubicBezTo>
                <a:cubicBezTo>
                  <a:pt x="16203" y="11091"/>
                  <a:pt x="16182" y="11102"/>
                  <a:pt x="16161" y="11112"/>
                </a:cubicBezTo>
              </a:path>
              <a:path w="8351" h="3747">
                <a:moveTo>
                  <a:pt x="11271" y="9271"/>
                </a:moveTo>
                <a:cubicBezTo>
                  <a:pt x="11271" y="9260"/>
                  <a:pt x="11271" y="9250"/>
                  <a:pt x="11271" y="9239"/>
                </a:cubicBezTo>
                <a:cubicBezTo>
                  <a:pt x="11343" y="9239"/>
                  <a:pt x="11340" y="9244"/>
                  <a:pt x="11366" y="9303"/>
                </a:cubicBezTo>
                <a:cubicBezTo>
                  <a:pt x="11392" y="9355"/>
                  <a:pt x="11390" y="9376"/>
                  <a:pt x="11430" y="9366"/>
                </a:cubicBezTo>
                <a:cubicBezTo>
                  <a:pt x="11445" y="9453"/>
                  <a:pt x="11464" y="9496"/>
                  <a:pt x="11525" y="9557"/>
                </a:cubicBezTo>
                <a:cubicBezTo>
                  <a:pt x="11554" y="9585"/>
                  <a:pt x="11560" y="9595"/>
                  <a:pt x="11589" y="9588"/>
                </a:cubicBezTo>
              </a:path>
              <a:path w="8351" h="3747">
                <a:moveTo>
                  <a:pt x="11525" y="9208"/>
                </a:moveTo>
                <a:cubicBezTo>
                  <a:pt x="11515" y="9197"/>
                  <a:pt x="11504" y="9187"/>
                  <a:pt x="11494" y="9176"/>
                </a:cubicBezTo>
                <a:cubicBezTo>
                  <a:pt x="11482" y="9226"/>
                  <a:pt x="11432" y="9289"/>
                  <a:pt x="11398" y="9334"/>
                </a:cubicBezTo>
                <a:cubicBezTo>
                  <a:pt x="11358" y="9386"/>
                  <a:pt x="11315" y="9484"/>
                  <a:pt x="11271" y="9525"/>
                </a:cubicBezTo>
                <a:cubicBezTo>
                  <a:pt x="11216" y="9553"/>
                  <a:pt x="11201" y="9558"/>
                  <a:pt x="11176" y="9588"/>
                </a:cubicBezTo>
              </a:path>
              <a:path w="8351" h="3747">
                <a:moveTo>
                  <a:pt x="11652" y="9462"/>
                </a:moveTo>
                <a:cubicBezTo>
                  <a:pt x="11673" y="9490"/>
                  <a:pt x="11708" y="9545"/>
                  <a:pt x="11684" y="9588"/>
                </a:cubicBezTo>
                <a:cubicBezTo>
                  <a:pt x="11675" y="9604"/>
                  <a:pt x="11618" y="9688"/>
                  <a:pt x="11652" y="9716"/>
                </a:cubicBezTo>
                <a:cubicBezTo>
                  <a:pt x="11663" y="9716"/>
                  <a:pt x="11673" y="9716"/>
                  <a:pt x="11684" y="9716"/>
                </a:cubicBezTo>
              </a:path>
              <a:path w="8351" h="3747">
                <a:moveTo>
                  <a:pt x="12224" y="9271"/>
                </a:moveTo>
                <a:cubicBezTo>
                  <a:pt x="12224" y="9364"/>
                  <a:pt x="12208" y="9449"/>
                  <a:pt x="12192" y="9525"/>
                </a:cubicBezTo>
                <a:cubicBezTo>
                  <a:pt x="12192" y="9582"/>
                  <a:pt x="12188" y="9599"/>
                  <a:pt x="12224" y="9620"/>
                </a:cubicBezTo>
                <a:cubicBezTo>
                  <a:pt x="12255" y="9581"/>
                  <a:pt x="12309" y="9507"/>
                  <a:pt x="12319" y="9462"/>
                </a:cubicBezTo>
                <a:cubicBezTo>
                  <a:pt x="12333" y="9396"/>
                  <a:pt x="12326" y="9353"/>
                  <a:pt x="12382" y="9334"/>
                </a:cubicBezTo>
                <a:cubicBezTo>
                  <a:pt x="12365" y="9386"/>
                  <a:pt x="12351" y="9437"/>
                  <a:pt x="12351" y="9525"/>
                </a:cubicBezTo>
                <a:cubicBezTo>
                  <a:pt x="12351" y="9620"/>
                  <a:pt x="12340" y="9663"/>
                  <a:pt x="12319" y="9747"/>
                </a:cubicBezTo>
                <a:cubicBezTo>
                  <a:pt x="12310" y="9784"/>
                  <a:pt x="12319" y="9836"/>
                  <a:pt x="12319" y="9874"/>
                </a:cubicBezTo>
              </a:path>
              <a:path w="8351" h="3747">
                <a:moveTo>
                  <a:pt x="12478" y="9525"/>
                </a:moveTo>
                <a:cubicBezTo>
                  <a:pt x="12490" y="9572"/>
                  <a:pt x="12473" y="9630"/>
                  <a:pt x="12478" y="9652"/>
                </a:cubicBezTo>
                <a:cubicBezTo>
                  <a:pt x="12489" y="9663"/>
                  <a:pt x="12499" y="9673"/>
                  <a:pt x="12510" y="9684"/>
                </a:cubicBezTo>
              </a:path>
              <a:path w="8351" h="3747">
                <a:moveTo>
                  <a:pt x="14129" y="9271"/>
                </a:moveTo>
                <a:cubicBezTo>
                  <a:pt x="14129" y="9353"/>
                  <a:pt x="14136" y="9449"/>
                  <a:pt x="14160" y="9525"/>
                </a:cubicBezTo>
                <a:cubicBezTo>
                  <a:pt x="14177" y="9577"/>
                  <a:pt x="14204" y="9687"/>
                  <a:pt x="14256" y="9716"/>
                </a:cubicBezTo>
                <a:cubicBezTo>
                  <a:pt x="14267" y="9716"/>
                  <a:pt x="14277" y="9716"/>
                  <a:pt x="14288" y="9716"/>
                </a:cubicBezTo>
              </a:path>
              <a:path w="8351" h="3747">
                <a:moveTo>
                  <a:pt x="14351" y="9271"/>
                </a:moveTo>
                <a:cubicBezTo>
                  <a:pt x="14336" y="9331"/>
                  <a:pt x="14272" y="9337"/>
                  <a:pt x="14256" y="9366"/>
                </a:cubicBezTo>
                <a:cubicBezTo>
                  <a:pt x="14215" y="9439"/>
                  <a:pt x="14197" y="9562"/>
                  <a:pt x="14129" y="9620"/>
                </a:cubicBezTo>
                <a:cubicBezTo>
                  <a:pt x="14059" y="9680"/>
                  <a:pt x="14082" y="9650"/>
                  <a:pt x="14034" y="9716"/>
                </a:cubicBezTo>
              </a:path>
              <a:path w="8351" h="3747">
                <a:moveTo>
                  <a:pt x="14446" y="9557"/>
                </a:moveTo>
                <a:cubicBezTo>
                  <a:pt x="14515" y="9557"/>
                  <a:pt x="14494" y="9541"/>
                  <a:pt x="14542" y="9525"/>
                </a:cubicBezTo>
                <a:cubicBezTo>
                  <a:pt x="14581" y="9578"/>
                  <a:pt x="14588" y="9599"/>
                  <a:pt x="14542" y="9652"/>
                </a:cubicBezTo>
                <a:cubicBezTo>
                  <a:pt x="14503" y="9696"/>
                  <a:pt x="14453" y="9720"/>
                  <a:pt x="14446" y="9779"/>
                </a:cubicBezTo>
                <a:cubicBezTo>
                  <a:pt x="14446" y="9790"/>
                  <a:pt x="14446" y="9800"/>
                  <a:pt x="14446" y="9811"/>
                </a:cubicBezTo>
                <a:cubicBezTo>
                  <a:pt x="14499" y="9811"/>
                  <a:pt x="14552" y="9811"/>
                  <a:pt x="14605" y="9811"/>
                </a:cubicBezTo>
              </a:path>
              <a:path w="8351" h="3747">
                <a:moveTo>
                  <a:pt x="15176" y="9366"/>
                </a:moveTo>
                <a:cubicBezTo>
                  <a:pt x="15176" y="9442"/>
                  <a:pt x="15196" y="9498"/>
                  <a:pt x="15208" y="9557"/>
                </a:cubicBezTo>
                <a:cubicBezTo>
                  <a:pt x="15214" y="9587"/>
                  <a:pt x="15230" y="9718"/>
                  <a:pt x="15304" y="9684"/>
                </a:cubicBezTo>
                <a:cubicBezTo>
                  <a:pt x="15348" y="9664"/>
                  <a:pt x="15417" y="9608"/>
                  <a:pt x="15430" y="9557"/>
                </a:cubicBezTo>
                <a:cubicBezTo>
                  <a:pt x="15449" y="9483"/>
                  <a:pt x="15454" y="9433"/>
                  <a:pt x="15494" y="9366"/>
                </a:cubicBezTo>
                <a:cubicBezTo>
                  <a:pt x="15494" y="9434"/>
                  <a:pt x="15466" y="9469"/>
                  <a:pt x="15462" y="9525"/>
                </a:cubicBezTo>
                <a:cubicBezTo>
                  <a:pt x="15456" y="9606"/>
                  <a:pt x="15463" y="9706"/>
                  <a:pt x="15430" y="9779"/>
                </a:cubicBezTo>
                <a:cubicBezTo>
                  <a:pt x="15413" y="9817"/>
                  <a:pt x="15412" y="9916"/>
                  <a:pt x="15367" y="9938"/>
                </a:cubicBezTo>
                <a:cubicBezTo>
                  <a:pt x="15356" y="9938"/>
                  <a:pt x="15346" y="9938"/>
                  <a:pt x="15335" y="9938"/>
                </a:cubicBezTo>
              </a:path>
              <a:path w="8351" h="3747">
                <a:moveTo>
                  <a:pt x="15589" y="9652"/>
                </a:moveTo>
                <a:cubicBezTo>
                  <a:pt x="15637" y="9652"/>
                  <a:pt x="15722" y="9632"/>
                  <a:pt x="15748" y="9684"/>
                </a:cubicBezTo>
                <a:cubicBezTo>
                  <a:pt x="15748" y="9716"/>
                  <a:pt x="15748" y="9726"/>
                  <a:pt x="15748" y="9747"/>
                </a:cubicBezTo>
                <a:cubicBezTo>
                  <a:pt x="15725" y="9755"/>
                  <a:pt x="15670" y="9802"/>
                  <a:pt x="15653" y="9842"/>
                </a:cubicBezTo>
                <a:cubicBezTo>
                  <a:pt x="15653" y="9874"/>
                  <a:pt x="15653" y="9885"/>
                  <a:pt x="15653" y="9906"/>
                </a:cubicBezTo>
                <a:cubicBezTo>
                  <a:pt x="15690" y="9914"/>
                  <a:pt x="15780" y="9920"/>
                  <a:pt x="15812" y="9938"/>
                </a:cubicBezTo>
                <a:cubicBezTo>
                  <a:pt x="15822" y="9949"/>
                  <a:pt x="15833" y="9959"/>
                  <a:pt x="15843" y="9970"/>
                </a:cubicBezTo>
              </a:path>
              <a:path w="8351" h="3747">
                <a:moveTo>
                  <a:pt x="10224" y="12160"/>
                </a:moveTo>
                <a:cubicBezTo>
                  <a:pt x="10224" y="12353"/>
                  <a:pt x="10200" y="12582"/>
                  <a:pt x="10255" y="12764"/>
                </a:cubicBezTo>
                <a:cubicBezTo>
                  <a:pt x="10269" y="12812"/>
                  <a:pt x="10297" y="12884"/>
                  <a:pt x="10319" y="12922"/>
                </a:cubicBezTo>
                <a:cubicBezTo>
                  <a:pt x="10329" y="12922"/>
                  <a:pt x="10340" y="12922"/>
                  <a:pt x="10350" y="12922"/>
                </a:cubicBezTo>
                <a:cubicBezTo>
                  <a:pt x="10383" y="12852"/>
                  <a:pt x="10422" y="12784"/>
                  <a:pt x="10446" y="12700"/>
                </a:cubicBezTo>
                <a:cubicBezTo>
                  <a:pt x="10477" y="12594"/>
                  <a:pt x="10511" y="12493"/>
                  <a:pt x="10541" y="12382"/>
                </a:cubicBezTo>
                <a:cubicBezTo>
                  <a:pt x="10565" y="12292"/>
                  <a:pt x="10595" y="12156"/>
                  <a:pt x="10604" y="12065"/>
                </a:cubicBezTo>
                <a:cubicBezTo>
                  <a:pt x="10612" y="11987"/>
                  <a:pt x="10617" y="11941"/>
                  <a:pt x="10636" y="11874"/>
                </a:cubicBezTo>
                <a:cubicBezTo>
                  <a:pt x="10648" y="11834"/>
                  <a:pt x="10639" y="11794"/>
                  <a:pt x="10668" y="11779"/>
                </a:cubicBezTo>
                <a:cubicBezTo>
                  <a:pt x="10736" y="11742"/>
                  <a:pt x="10841" y="11809"/>
                  <a:pt x="10890" y="11811"/>
                </a:cubicBezTo>
                <a:cubicBezTo>
                  <a:pt x="11282" y="11831"/>
                  <a:pt x="11684" y="11805"/>
                  <a:pt x="12065" y="11779"/>
                </a:cubicBezTo>
                <a:cubicBezTo>
                  <a:pt x="12338" y="11761"/>
                  <a:pt x="12622" y="11763"/>
                  <a:pt x="12890" y="11748"/>
                </a:cubicBezTo>
                <a:cubicBezTo>
                  <a:pt x="13302" y="11726"/>
                  <a:pt x="13722" y="11742"/>
                  <a:pt x="14129" y="11716"/>
                </a:cubicBezTo>
                <a:cubicBezTo>
                  <a:pt x="14593" y="11686"/>
                  <a:pt x="15066" y="11711"/>
                  <a:pt x="15526" y="11684"/>
                </a:cubicBezTo>
                <a:cubicBezTo>
                  <a:pt x="16115" y="11649"/>
                  <a:pt x="16833" y="11615"/>
                  <a:pt x="17399" y="117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Ink 13"/>
          <p:cNvSpPr/>
          <p:nvPr/>
        </p:nvSpPr>
        <p:spPr>
          <a:xfrm>
            <a:off x="7693200" y="3268800"/>
            <a:ext cx="193680" cy="377640"/>
          </a:xfrm>
          <a:custGeom>
            <a:avLst/>
            <a:gdLst/>
            <a:ahLst/>
            <a:rect l="l" t="t" r="r" b="b"/>
            <a:pathLst>
              <a:path w="541" h="1049">
                <a:moveTo>
                  <a:pt x="21622" y="9080"/>
                </a:moveTo>
                <a:cubicBezTo>
                  <a:pt x="21592" y="9080"/>
                  <a:pt x="21622" y="9122"/>
                  <a:pt x="21622" y="9208"/>
                </a:cubicBezTo>
                <a:cubicBezTo>
                  <a:pt x="21622" y="9330"/>
                  <a:pt x="21650" y="9405"/>
                  <a:pt x="21654" y="9525"/>
                </a:cubicBezTo>
                <a:cubicBezTo>
                  <a:pt x="21659" y="9657"/>
                  <a:pt x="21679" y="9776"/>
                  <a:pt x="21685" y="9906"/>
                </a:cubicBezTo>
                <a:cubicBezTo>
                  <a:pt x="21688" y="9973"/>
                  <a:pt x="21709" y="10109"/>
                  <a:pt x="21654" y="10128"/>
                </a:cubicBezTo>
              </a:path>
              <a:path w="541" h="1049">
                <a:moveTo>
                  <a:pt x="21368" y="9716"/>
                </a:moveTo>
                <a:cubicBezTo>
                  <a:pt x="21437" y="9716"/>
                  <a:pt x="21498" y="9705"/>
                  <a:pt x="21558" y="9684"/>
                </a:cubicBezTo>
                <a:cubicBezTo>
                  <a:pt x="21649" y="9652"/>
                  <a:pt x="21747" y="9625"/>
                  <a:pt x="21844" y="9620"/>
                </a:cubicBezTo>
                <a:cubicBezTo>
                  <a:pt x="21865" y="9620"/>
                  <a:pt x="21887" y="9620"/>
                  <a:pt x="21908" y="96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Ink 14"/>
          <p:cNvSpPr/>
          <p:nvPr/>
        </p:nvSpPr>
        <p:spPr>
          <a:xfrm>
            <a:off x="3954600" y="4892760"/>
            <a:ext cx="126720" cy="160200"/>
          </a:xfrm>
          <a:custGeom>
            <a:avLst/>
            <a:gdLst/>
            <a:ahLst/>
            <a:rect l="l" t="t" r="r" b="b"/>
            <a:pathLst>
              <a:path w="350" h="446">
                <a:moveTo>
                  <a:pt x="11049" y="13589"/>
                </a:moveTo>
                <a:cubicBezTo>
                  <a:pt x="11049" y="13636"/>
                  <a:pt x="11058" y="13681"/>
                  <a:pt x="11081" y="13716"/>
                </a:cubicBezTo>
                <a:cubicBezTo>
                  <a:pt x="11104" y="13751"/>
                  <a:pt x="11146" y="13782"/>
                  <a:pt x="11176" y="13811"/>
                </a:cubicBezTo>
              </a:path>
              <a:path w="350" h="446">
                <a:moveTo>
                  <a:pt x="11240" y="13621"/>
                </a:moveTo>
                <a:cubicBezTo>
                  <a:pt x="11208" y="13621"/>
                  <a:pt x="11197" y="13621"/>
                  <a:pt x="11176" y="13621"/>
                </a:cubicBezTo>
                <a:cubicBezTo>
                  <a:pt x="11164" y="13669"/>
                  <a:pt x="11114" y="13736"/>
                  <a:pt x="11081" y="13780"/>
                </a:cubicBezTo>
                <a:cubicBezTo>
                  <a:pt x="11055" y="13814"/>
                  <a:pt x="11016" y="13844"/>
                  <a:pt x="10986" y="13875"/>
                </a:cubicBezTo>
              </a:path>
              <a:path w="350" h="446">
                <a:moveTo>
                  <a:pt x="11335" y="13843"/>
                </a:moveTo>
                <a:cubicBezTo>
                  <a:pt x="11335" y="13894"/>
                  <a:pt x="11327" y="13962"/>
                  <a:pt x="11303" y="14002"/>
                </a:cubicBezTo>
                <a:cubicBezTo>
                  <a:pt x="11292" y="14013"/>
                  <a:pt x="11282" y="14023"/>
                  <a:pt x="11271" y="140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nk 15"/>
          <p:cNvSpPr/>
          <p:nvPr/>
        </p:nvSpPr>
        <p:spPr>
          <a:xfrm>
            <a:off x="4229280" y="4925880"/>
            <a:ext cx="102960" cy="127080"/>
          </a:xfrm>
          <a:custGeom>
            <a:avLst/>
            <a:gdLst/>
            <a:ahLst/>
            <a:rect l="l" t="t" r="r" b="b"/>
            <a:pathLst>
              <a:path w="286" h="351">
                <a:moveTo>
                  <a:pt x="11748" y="13684"/>
                </a:moveTo>
                <a:cubicBezTo>
                  <a:pt x="11758" y="13684"/>
                  <a:pt x="11769" y="13684"/>
                  <a:pt x="11779" y="13684"/>
                </a:cubicBezTo>
                <a:cubicBezTo>
                  <a:pt x="11779" y="13762"/>
                  <a:pt x="11818" y="13768"/>
                  <a:pt x="11843" y="13843"/>
                </a:cubicBezTo>
                <a:cubicBezTo>
                  <a:pt x="11858" y="13888"/>
                  <a:pt x="11868" y="13900"/>
                  <a:pt x="11906" y="13938"/>
                </a:cubicBezTo>
              </a:path>
              <a:path w="286" h="351">
                <a:moveTo>
                  <a:pt x="12002" y="13716"/>
                </a:moveTo>
                <a:cubicBezTo>
                  <a:pt x="11991" y="13716"/>
                  <a:pt x="11981" y="13716"/>
                  <a:pt x="11970" y="13716"/>
                </a:cubicBezTo>
                <a:cubicBezTo>
                  <a:pt x="11970" y="13794"/>
                  <a:pt x="11934" y="13780"/>
                  <a:pt x="11906" y="13843"/>
                </a:cubicBezTo>
                <a:cubicBezTo>
                  <a:pt x="11883" y="13896"/>
                  <a:pt x="11834" y="13951"/>
                  <a:pt x="11811" y="14002"/>
                </a:cubicBezTo>
                <a:cubicBezTo>
                  <a:pt x="11811" y="14013"/>
                  <a:pt x="11811" y="14023"/>
                  <a:pt x="11811" y="14034"/>
                </a:cubicBezTo>
              </a:path>
              <a:path w="286" h="351">
                <a:moveTo>
                  <a:pt x="12033" y="13875"/>
                </a:moveTo>
                <a:cubicBezTo>
                  <a:pt x="12033" y="13928"/>
                  <a:pt x="12033" y="13981"/>
                  <a:pt x="12033" y="140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Ink 16"/>
          <p:cNvSpPr/>
          <p:nvPr/>
        </p:nvSpPr>
        <p:spPr>
          <a:xfrm>
            <a:off x="4800600" y="4811760"/>
            <a:ext cx="492120" cy="263520"/>
          </a:xfrm>
          <a:custGeom>
            <a:avLst/>
            <a:gdLst/>
            <a:ahLst/>
            <a:rect l="l" t="t" r="r" b="b"/>
            <a:pathLst>
              <a:path w="1366" h="731">
                <a:moveTo>
                  <a:pt x="13335" y="13367"/>
                </a:moveTo>
                <a:cubicBezTo>
                  <a:pt x="13372" y="13431"/>
                  <a:pt x="13412" y="13486"/>
                  <a:pt x="13430" y="13557"/>
                </a:cubicBezTo>
                <a:cubicBezTo>
                  <a:pt x="13448" y="13629"/>
                  <a:pt x="13473" y="13663"/>
                  <a:pt x="13526" y="13716"/>
                </a:cubicBezTo>
              </a:path>
              <a:path w="1366" h="731">
                <a:moveTo>
                  <a:pt x="13589" y="13494"/>
                </a:moveTo>
                <a:cubicBezTo>
                  <a:pt x="13589" y="13505"/>
                  <a:pt x="13589" y="13515"/>
                  <a:pt x="13589" y="13526"/>
                </a:cubicBezTo>
                <a:cubicBezTo>
                  <a:pt x="13533" y="13540"/>
                  <a:pt x="13506" y="13578"/>
                  <a:pt x="13462" y="13621"/>
                </a:cubicBezTo>
                <a:cubicBezTo>
                  <a:pt x="13433" y="13649"/>
                  <a:pt x="13422" y="13655"/>
                  <a:pt x="13430" y="13684"/>
                </a:cubicBezTo>
                <a:cubicBezTo>
                  <a:pt x="13383" y="13696"/>
                  <a:pt x="13372" y="13710"/>
                  <a:pt x="13335" y="13748"/>
                </a:cubicBezTo>
              </a:path>
              <a:path w="1366" h="731">
                <a:moveTo>
                  <a:pt x="13589" y="13684"/>
                </a:moveTo>
                <a:cubicBezTo>
                  <a:pt x="13639" y="13671"/>
                  <a:pt x="13659" y="13652"/>
                  <a:pt x="13716" y="13652"/>
                </a:cubicBezTo>
                <a:cubicBezTo>
                  <a:pt x="13706" y="13690"/>
                  <a:pt x="13694" y="13710"/>
                  <a:pt x="13684" y="13748"/>
                </a:cubicBezTo>
                <a:cubicBezTo>
                  <a:pt x="13639" y="13763"/>
                  <a:pt x="13656" y="13797"/>
                  <a:pt x="13684" y="13811"/>
                </a:cubicBezTo>
                <a:cubicBezTo>
                  <a:pt x="13732" y="13834"/>
                  <a:pt x="13780" y="13827"/>
                  <a:pt x="13811" y="13811"/>
                </a:cubicBezTo>
              </a:path>
              <a:path w="1366" h="731">
                <a:moveTo>
                  <a:pt x="14065" y="13494"/>
                </a:moveTo>
                <a:cubicBezTo>
                  <a:pt x="14065" y="13569"/>
                  <a:pt x="14078" y="13594"/>
                  <a:pt x="14097" y="13652"/>
                </a:cubicBezTo>
                <a:cubicBezTo>
                  <a:pt x="14116" y="13708"/>
                  <a:pt x="14132" y="13733"/>
                  <a:pt x="14192" y="13748"/>
                </a:cubicBezTo>
              </a:path>
              <a:path w="1366" h="731">
                <a:moveTo>
                  <a:pt x="14319" y="13557"/>
                </a:moveTo>
                <a:cubicBezTo>
                  <a:pt x="14319" y="13547"/>
                  <a:pt x="14319" y="13536"/>
                  <a:pt x="14319" y="13526"/>
                </a:cubicBezTo>
                <a:cubicBezTo>
                  <a:pt x="14319" y="13659"/>
                  <a:pt x="14326" y="13791"/>
                  <a:pt x="14288" y="13906"/>
                </a:cubicBezTo>
                <a:cubicBezTo>
                  <a:pt x="14274" y="13949"/>
                  <a:pt x="14267" y="13992"/>
                  <a:pt x="14256" y="14034"/>
                </a:cubicBezTo>
              </a:path>
              <a:path w="1366" h="731">
                <a:moveTo>
                  <a:pt x="14478" y="13811"/>
                </a:moveTo>
                <a:cubicBezTo>
                  <a:pt x="14489" y="13811"/>
                  <a:pt x="14499" y="13811"/>
                  <a:pt x="14510" y="13811"/>
                </a:cubicBezTo>
                <a:cubicBezTo>
                  <a:pt x="14524" y="13852"/>
                  <a:pt x="14553" y="13862"/>
                  <a:pt x="14605" y="13875"/>
                </a:cubicBezTo>
                <a:cubicBezTo>
                  <a:pt x="14592" y="13926"/>
                  <a:pt x="14593" y="13925"/>
                  <a:pt x="14542" y="13938"/>
                </a:cubicBezTo>
                <a:cubicBezTo>
                  <a:pt x="14542" y="13994"/>
                  <a:pt x="14561" y="14016"/>
                  <a:pt x="14573" y="14065"/>
                </a:cubicBezTo>
                <a:cubicBezTo>
                  <a:pt x="14623" y="14077"/>
                  <a:pt x="14643" y="14097"/>
                  <a:pt x="14700" y="140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Ink 17"/>
          <p:cNvSpPr/>
          <p:nvPr/>
        </p:nvSpPr>
        <p:spPr>
          <a:xfrm>
            <a:off x="7578720" y="4651200"/>
            <a:ext cx="217440" cy="470160"/>
          </a:xfrm>
          <a:custGeom>
            <a:avLst/>
            <a:gdLst/>
            <a:ahLst/>
            <a:rect l="l" t="t" r="r" b="b"/>
            <a:pathLst>
              <a:path w="605" h="1303">
                <a:moveTo>
                  <a:pt x="21146" y="12922"/>
                </a:moveTo>
                <a:cubicBezTo>
                  <a:pt x="21146" y="13003"/>
                  <a:pt x="21168" y="13065"/>
                  <a:pt x="21177" y="13144"/>
                </a:cubicBezTo>
                <a:cubicBezTo>
                  <a:pt x="21197" y="13322"/>
                  <a:pt x="21217" y="13506"/>
                  <a:pt x="21241" y="13684"/>
                </a:cubicBezTo>
                <a:cubicBezTo>
                  <a:pt x="21264" y="13851"/>
                  <a:pt x="21304" y="13990"/>
                  <a:pt x="21304" y="14160"/>
                </a:cubicBezTo>
                <a:cubicBezTo>
                  <a:pt x="21304" y="14181"/>
                  <a:pt x="21304" y="14203"/>
                  <a:pt x="21304" y="14224"/>
                </a:cubicBezTo>
              </a:path>
              <a:path w="605" h="1303">
                <a:moveTo>
                  <a:pt x="21050" y="13589"/>
                </a:moveTo>
                <a:cubicBezTo>
                  <a:pt x="21111" y="13543"/>
                  <a:pt x="21170" y="13550"/>
                  <a:pt x="21241" y="13526"/>
                </a:cubicBezTo>
                <a:cubicBezTo>
                  <a:pt x="21364" y="13485"/>
                  <a:pt x="21477" y="13428"/>
                  <a:pt x="21590" y="13367"/>
                </a:cubicBezTo>
                <a:cubicBezTo>
                  <a:pt x="21611" y="13356"/>
                  <a:pt x="21633" y="13346"/>
                  <a:pt x="21654" y="133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Ink 18"/>
          <p:cNvSpPr/>
          <p:nvPr/>
        </p:nvSpPr>
        <p:spPr>
          <a:xfrm>
            <a:off x="3235320" y="4983120"/>
            <a:ext cx="274680" cy="399960"/>
          </a:xfrm>
          <a:custGeom>
            <a:avLst/>
            <a:gdLst/>
            <a:ahLst/>
            <a:rect l="l" t="t" r="r" b="b"/>
            <a:pathLst>
              <a:path w="763" h="1112">
                <a:moveTo>
                  <a:pt x="8985" y="13843"/>
                </a:moveTo>
                <a:cubicBezTo>
                  <a:pt x="9000" y="13889"/>
                  <a:pt x="9030" y="13885"/>
                  <a:pt x="9080" y="13906"/>
                </a:cubicBezTo>
                <a:cubicBezTo>
                  <a:pt x="9162" y="13941"/>
                  <a:pt x="9212" y="13938"/>
                  <a:pt x="9303" y="13938"/>
                </a:cubicBezTo>
                <a:cubicBezTo>
                  <a:pt x="9387" y="13938"/>
                  <a:pt x="9396" y="13948"/>
                  <a:pt x="9462" y="13970"/>
                </a:cubicBezTo>
                <a:cubicBezTo>
                  <a:pt x="9506" y="13985"/>
                  <a:pt x="9493" y="13980"/>
                  <a:pt x="9493" y="14034"/>
                </a:cubicBezTo>
                <a:cubicBezTo>
                  <a:pt x="9426" y="14034"/>
                  <a:pt x="9414" y="14049"/>
                  <a:pt x="9366" y="14097"/>
                </a:cubicBezTo>
                <a:cubicBezTo>
                  <a:pt x="9322" y="14141"/>
                  <a:pt x="9273" y="14148"/>
                  <a:pt x="9239" y="14192"/>
                </a:cubicBezTo>
                <a:cubicBezTo>
                  <a:pt x="9197" y="14246"/>
                  <a:pt x="9163" y="14213"/>
                  <a:pt x="9144" y="14288"/>
                </a:cubicBezTo>
                <a:cubicBezTo>
                  <a:pt x="9202" y="14274"/>
                  <a:pt x="9234" y="14256"/>
                  <a:pt x="9303" y="14256"/>
                </a:cubicBezTo>
                <a:cubicBezTo>
                  <a:pt x="9406" y="14256"/>
                  <a:pt x="9403" y="14305"/>
                  <a:pt x="9462" y="14351"/>
                </a:cubicBezTo>
                <a:cubicBezTo>
                  <a:pt x="9551" y="14421"/>
                  <a:pt x="9511" y="14441"/>
                  <a:pt x="9557" y="14542"/>
                </a:cubicBezTo>
                <a:cubicBezTo>
                  <a:pt x="9590" y="14613"/>
                  <a:pt x="9589" y="14652"/>
                  <a:pt x="9557" y="14732"/>
                </a:cubicBezTo>
                <a:cubicBezTo>
                  <a:pt x="9539" y="14778"/>
                  <a:pt x="9480" y="14869"/>
                  <a:pt x="9430" y="14891"/>
                </a:cubicBezTo>
                <a:cubicBezTo>
                  <a:pt x="9363" y="14921"/>
                  <a:pt x="9266" y="14874"/>
                  <a:pt x="9208" y="14859"/>
                </a:cubicBezTo>
                <a:cubicBezTo>
                  <a:pt x="9189" y="14854"/>
                  <a:pt x="9128" y="14828"/>
                  <a:pt x="9112" y="14796"/>
                </a:cubicBezTo>
                <a:cubicBezTo>
                  <a:pt x="9112" y="14785"/>
                  <a:pt x="9112" y="14775"/>
                  <a:pt x="9112" y="14764"/>
                </a:cubicBezTo>
              </a:path>
              <a:path w="763" h="1112">
                <a:moveTo>
                  <a:pt x="9747" y="14891"/>
                </a:moveTo>
                <a:cubicBezTo>
                  <a:pt x="9747" y="14927"/>
                  <a:pt x="9744" y="14940"/>
                  <a:pt x="9716" y="149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Ink 19"/>
          <p:cNvSpPr/>
          <p:nvPr/>
        </p:nvSpPr>
        <p:spPr>
          <a:xfrm>
            <a:off x="3736800" y="4983120"/>
            <a:ext cx="1773360" cy="469800"/>
          </a:xfrm>
          <a:custGeom>
            <a:avLst/>
            <a:gdLst/>
            <a:ahLst/>
            <a:rect l="l" t="t" r="r" b="b"/>
            <a:pathLst>
              <a:path w="4923" h="1303">
                <a:moveTo>
                  <a:pt x="10922" y="13938"/>
                </a:moveTo>
                <a:cubicBezTo>
                  <a:pt x="10838" y="13938"/>
                  <a:pt x="10778" y="13935"/>
                  <a:pt x="10700" y="13970"/>
                </a:cubicBezTo>
                <a:cubicBezTo>
                  <a:pt x="10567" y="14030"/>
                  <a:pt x="10547" y="14072"/>
                  <a:pt x="10478" y="14192"/>
                </a:cubicBezTo>
                <a:cubicBezTo>
                  <a:pt x="10402" y="14324"/>
                  <a:pt x="10353" y="14409"/>
                  <a:pt x="10382" y="14573"/>
                </a:cubicBezTo>
                <a:cubicBezTo>
                  <a:pt x="10405" y="14699"/>
                  <a:pt x="10459" y="14829"/>
                  <a:pt x="10541" y="14922"/>
                </a:cubicBezTo>
                <a:cubicBezTo>
                  <a:pt x="10557" y="14940"/>
                  <a:pt x="10667" y="15057"/>
                  <a:pt x="10700" y="15050"/>
                </a:cubicBezTo>
                <a:cubicBezTo>
                  <a:pt x="10732" y="15018"/>
                  <a:pt x="10742" y="15008"/>
                  <a:pt x="10763" y="14986"/>
                </a:cubicBezTo>
              </a:path>
              <a:path w="4923" h="1303">
                <a:moveTo>
                  <a:pt x="10795" y="14383"/>
                </a:moveTo>
                <a:cubicBezTo>
                  <a:pt x="10922" y="14383"/>
                  <a:pt x="11049" y="14383"/>
                  <a:pt x="11176" y="14383"/>
                </a:cubicBezTo>
                <a:cubicBezTo>
                  <a:pt x="11163" y="14433"/>
                  <a:pt x="11144" y="14453"/>
                  <a:pt x="11144" y="14510"/>
                </a:cubicBezTo>
                <a:cubicBezTo>
                  <a:pt x="11144" y="14576"/>
                  <a:pt x="11092" y="14617"/>
                  <a:pt x="11081" y="14668"/>
                </a:cubicBezTo>
                <a:cubicBezTo>
                  <a:pt x="11070" y="14720"/>
                  <a:pt x="11070" y="14809"/>
                  <a:pt x="11049" y="14859"/>
                </a:cubicBezTo>
                <a:cubicBezTo>
                  <a:pt x="11028" y="14909"/>
                  <a:pt x="10982" y="14932"/>
                  <a:pt x="11049" y="14954"/>
                </a:cubicBezTo>
              </a:path>
              <a:path w="4923" h="1303">
                <a:moveTo>
                  <a:pt x="11335" y="14891"/>
                </a:moveTo>
                <a:cubicBezTo>
                  <a:pt x="11335" y="14972"/>
                  <a:pt x="11325" y="15015"/>
                  <a:pt x="11303" y="15081"/>
                </a:cubicBezTo>
                <a:cubicBezTo>
                  <a:pt x="11303" y="15113"/>
                  <a:pt x="11303" y="15124"/>
                  <a:pt x="11303" y="15145"/>
                </a:cubicBezTo>
              </a:path>
              <a:path w="4923" h="1303">
                <a:moveTo>
                  <a:pt x="11620" y="14414"/>
                </a:moveTo>
                <a:cubicBezTo>
                  <a:pt x="11684" y="14414"/>
                  <a:pt x="11747" y="14414"/>
                  <a:pt x="11811" y="14414"/>
                </a:cubicBezTo>
              </a:path>
              <a:path w="4923" h="1303">
                <a:moveTo>
                  <a:pt x="11970" y="14160"/>
                </a:moveTo>
                <a:cubicBezTo>
                  <a:pt x="12018" y="14125"/>
                  <a:pt x="12036" y="14129"/>
                  <a:pt x="12097" y="14129"/>
                </a:cubicBezTo>
                <a:cubicBezTo>
                  <a:pt x="12173" y="14129"/>
                  <a:pt x="12158" y="14141"/>
                  <a:pt x="12192" y="14192"/>
                </a:cubicBezTo>
                <a:cubicBezTo>
                  <a:pt x="12226" y="14243"/>
                  <a:pt x="12223" y="14290"/>
                  <a:pt x="12192" y="14351"/>
                </a:cubicBezTo>
                <a:cubicBezTo>
                  <a:pt x="12163" y="14408"/>
                  <a:pt x="12111" y="14464"/>
                  <a:pt x="12065" y="14510"/>
                </a:cubicBezTo>
                <a:cubicBezTo>
                  <a:pt x="12040" y="14535"/>
                  <a:pt x="11985" y="14603"/>
                  <a:pt x="11970" y="14637"/>
                </a:cubicBezTo>
                <a:cubicBezTo>
                  <a:pt x="11970" y="14647"/>
                  <a:pt x="11970" y="14658"/>
                  <a:pt x="11970" y="14668"/>
                </a:cubicBezTo>
                <a:cubicBezTo>
                  <a:pt x="12041" y="14668"/>
                  <a:pt x="12107" y="14653"/>
                  <a:pt x="12160" y="14700"/>
                </a:cubicBezTo>
                <a:cubicBezTo>
                  <a:pt x="12198" y="14734"/>
                  <a:pt x="12207" y="14813"/>
                  <a:pt x="12256" y="14796"/>
                </a:cubicBezTo>
                <a:cubicBezTo>
                  <a:pt x="12266" y="14785"/>
                  <a:pt x="12277" y="14775"/>
                  <a:pt x="12287" y="14764"/>
                </a:cubicBezTo>
              </a:path>
              <a:path w="4923" h="1303">
                <a:moveTo>
                  <a:pt x="12446" y="13843"/>
                </a:moveTo>
                <a:cubicBezTo>
                  <a:pt x="12478" y="13897"/>
                  <a:pt x="12501" y="13999"/>
                  <a:pt x="12510" y="14065"/>
                </a:cubicBezTo>
                <a:cubicBezTo>
                  <a:pt x="12532" y="14229"/>
                  <a:pt x="12573" y="14374"/>
                  <a:pt x="12573" y="14542"/>
                </a:cubicBezTo>
                <a:cubicBezTo>
                  <a:pt x="12573" y="14654"/>
                  <a:pt x="12534" y="14705"/>
                  <a:pt x="12510" y="14796"/>
                </a:cubicBezTo>
                <a:cubicBezTo>
                  <a:pt x="12491" y="14868"/>
                  <a:pt x="12431" y="14925"/>
                  <a:pt x="12414" y="14986"/>
                </a:cubicBezTo>
                <a:cubicBezTo>
                  <a:pt x="12394" y="15056"/>
                  <a:pt x="12382" y="15042"/>
                  <a:pt x="12382" y="15113"/>
                </a:cubicBezTo>
              </a:path>
              <a:path w="4923" h="1303">
                <a:moveTo>
                  <a:pt x="13526" y="13970"/>
                </a:moveTo>
                <a:cubicBezTo>
                  <a:pt x="13526" y="13959"/>
                  <a:pt x="13526" y="13949"/>
                  <a:pt x="13526" y="13938"/>
                </a:cubicBezTo>
                <a:cubicBezTo>
                  <a:pt x="13472" y="13952"/>
                  <a:pt x="13423" y="13975"/>
                  <a:pt x="13367" y="14002"/>
                </a:cubicBezTo>
                <a:cubicBezTo>
                  <a:pt x="13276" y="14045"/>
                  <a:pt x="13160" y="14128"/>
                  <a:pt x="13081" y="14192"/>
                </a:cubicBezTo>
                <a:cubicBezTo>
                  <a:pt x="12978" y="14276"/>
                  <a:pt x="12944" y="14362"/>
                  <a:pt x="12890" y="14478"/>
                </a:cubicBezTo>
                <a:cubicBezTo>
                  <a:pt x="12852" y="14560"/>
                  <a:pt x="12840" y="14673"/>
                  <a:pt x="12859" y="14764"/>
                </a:cubicBezTo>
                <a:cubicBezTo>
                  <a:pt x="12881" y="14871"/>
                  <a:pt x="12945" y="14912"/>
                  <a:pt x="13018" y="14986"/>
                </a:cubicBezTo>
                <a:cubicBezTo>
                  <a:pt x="13066" y="15035"/>
                  <a:pt x="13076" y="15050"/>
                  <a:pt x="13144" y="15050"/>
                </a:cubicBezTo>
              </a:path>
              <a:path w="4923" h="1303">
                <a:moveTo>
                  <a:pt x="13494" y="14192"/>
                </a:moveTo>
                <a:cubicBezTo>
                  <a:pt x="13494" y="14228"/>
                  <a:pt x="13497" y="14242"/>
                  <a:pt x="13526" y="14256"/>
                </a:cubicBezTo>
                <a:cubicBezTo>
                  <a:pt x="13492" y="14312"/>
                  <a:pt x="13474" y="14409"/>
                  <a:pt x="13462" y="14478"/>
                </a:cubicBezTo>
                <a:cubicBezTo>
                  <a:pt x="13452" y="14539"/>
                  <a:pt x="13434" y="14610"/>
                  <a:pt x="13430" y="14668"/>
                </a:cubicBezTo>
                <a:cubicBezTo>
                  <a:pt x="13430" y="14721"/>
                  <a:pt x="13419" y="14743"/>
                  <a:pt x="13462" y="14732"/>
                </a:cubicBezTo>
              </a:path>
              <a:path w="4923" h="1303">
                <a:moveTo>
                  <a:pt x="13748" y="14732"/>
                </a:moveTo>
                <a:cubicBezTo>
                  <a:pt x="13748" y="14805"/>
                  <a:pt x="13736" y="14832"/>
                  <a:pt x="13716" y="14891"/>
                </a:cubicBezTo>
                <a:cubicBezTo>
                  <a:pt x="13705" y="14924"/>
                  <a:pt x="13716" y="14983"/>
                  <a:pt x="13716" y="15018"/>
                </a:cubicBezTo>
              </a:path>
              <a:path w="4923" h="1303">
                <a:moveTo>
                  <a:pt x="14002" y="14446"/>
                </a:moveTo>
                <a:cubicBezTo>
                  <a:pt x="14082" y="14446"/>
                  <a:pt x="14081" y="14455"/>
                  <a:pt x="14160" y="14446"/>
                </a:cubicBezTo>
                <a:cubicBezTo>
                  <a:pt x="14181" y="14446"/>
                  <a:pt x="14203" y="14446"/>
                  <a:pt x="14224" y="14446"/>
                </a:cubicBezTo>
              </a:path>
              <a:path w="4923" h="1303">
                <a:moveTo>
                  <a:pt x="14414" y="14288"/>
                </a:moveTo>
                <a:cubicBezTo>
                  <a:pt x="14436" y="14222"/>
                  <a:pt x="14480" y="14255"/>
                  <a:pt x="14542" y="14224"/>
                </a:cubicBezTo>
                <a:cubicBezTo>
                  <a:pt x="14622" y="14183"/>
                  <a:pt x="14590" y="14198"/>
                  <a:pt x="14668" y="14224"/>
                </a:cubicBezTo>
                <a:cubicBezTo>
                  <a:pt x="14744" y="14249"/>
                  <a:pt x="14732" y="14267"/>
                  <a:pt x="14732" y="14351"/>
                </a:cubicBezTo>
                <a:cubicBezTo>
                  <a:pt x="14732" y="14388"/>
                  <a:pt x="14690" y="14477"/>
                  <a:pt x="14668" y="14510"/>
                </a:cubicBezTo>
                <a:cubicBezTo>
                  <a:pt x="14630" y="14568"/>
                  <a:pt x="14592" y="14529"/>
                  <a:pt x="14573" y="14605"/>
                </a:cubicBezTo>
                <a:cubicBezTo>
                  <a:pt x="14646" y="14605"/>
                  <a:pt x="14697" y="14626"/>
                  <a:pt x="14764" y="14637"/>
                </a:cubicBezTo>
                <a:cubicBezTo>
                  <a:pt x="14841" y="14650"/>
                  <a:pt x="14854" y="14649"/>
                  <a:pt x="14891" y="14668"/>
                </a:cubicBezTo>
                <a:cubicBezTo>
                  <a:pt x="14910" y="14677"/>
                  <a:pt x="14965" y="14668"/>
                  <a:pt x="14986" y="14668"/>
                </a:cubicBezTo>
              </a:path>
              <a:path w="4923" h="1303">
                <a:moveTo>
                  <a:pt x="15050" y="13938"/>
                </a:moveTo>
                <a:cubicBezTo>
                  <a:pt x="15050" y="14005"/>
                  <a:pt x="15079" y="14069"/>
                  <a:pt x="15113" y="14129"/>
                </a:cubicBezTo>
                <a:cubicBezTo>
                  <a:pt x="15183" y="14254"/>
                  <a:pt x="15226" y="14373"/>
                  <a:pt x="15272" y="14510"/>
                </a:cubicBezTo>
                <a:cubicBezTo>
                  <a:pt x="15311" y="14625"/>
                  <a:pt x="15321" y="14717"/>
                  <a:pt x="15272" y="14827"/>
                </a:cubicBezTo>
                <a:cubicBezTo>
                  <a:pt x="15229" y="14924"/>
                  <a:pt x="15198" y="14985"/>
                  <a:pt x="15145" y="15081"/>
                </a:cubicBezTo>
                <a:cubicBezTo>
                  <a:pt x="15134" y="15102"/>
                  <a:pt x="15124" y="15124"/>
                  <a:pt x="15113" y="151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Ink 20"/>
          <p:cNvSpPr/>
          <p:nvPr/>
        </p:nvSpPr>
        <p:spPr>
          <a:xfrm>
            <a:off x="3954600" y="5680080"/>
            <a:ext cx="2035080" cy="527040"/>
          </a:xfrm>
          <a:custGeom>
            <a:avLst/>
            <a:gdLst/>
            <a:ahLst/>
            <a:rect l="l" t="t" r="r" b="b"/>
            <a:pathLst>
              <a:path w="5652" h="1461">
                <a:moveTo>
                  <a:pt x="11398" y="15780"/>
                </a:moveTo>
                <a:cubicBezTo>
                  <a:pt x="11369" y="15825"/>
                  <a:pt x="11291" y="15816"/>
                  <a:pt x="11240" y="15875"/>
                </a:cubicBezTo>
                <a:cubicBezTo>
                  <a:pt x="11176" y="15949"/>
                  <a:pt x="11128" y="16003"/>
                  <a:pt x="11081" y="16097"/>
                </a:cubicBezTo>
                <a:cubicBezTo>
                  <a:pt x="11038" y="16184"/>
                  <a:pt x="10991" y="16254"/>
                  <a:pt x="10986" y="16351"/>
                </a:cubicBezTo>
                <a:cubicBezTo>
                  <a:pt x="10981" y="16443"/>
                  <a:pt x="11010" y="16491"/>
                  <a:pt x="11017" y="16574"/>
                </a:cubicBezTo>
                <a:cubicBezTo>
                  <a:pt x="11022" y="16631"/>
                  <a:pt x="11070" y="16648"/>
                  <a:pt x="11081" y="16669"/>
                </a:cubicBezTo>
                <a:cubicBezTo>
                  <a:pt x="11113" y="16731"/>
                  <a:pt x="11122" y="16835"/>
                  <a:pt x="11144" y="16700"/>
                </a:cubicBezTo>
              </a:path>
              <a:path w="5652" h="1461">
                <a:moveTo>
                  <a:pt x="11557" y="16066"/>
                </a:moveTo>
                <a:cubicBezTo>
                  <a:pt x="11557" y="16137"/>
                  <a:pt x="11534" y="16191"/>
                  <a:pt x="11525" y="16256"/>
                </a:cubicBezTo>
                <a:cubicBezTo>
                  <a:pt x="11513" y="16344"/>
                  <a:pt x="11499" y="16463"/>
                  <a:pt x="11462" y="16542"/>
                </a:cubicBezTo>
                <a:cubicBezTo>
                  <a:pt x="11436" y="16598"/>
                  <a:pt x="11430" y="16632"/>
                  <a:pt x="11430" y="16700"/>
                </a:cubicBezTo>
              </a:path>
              <a:path w="5652" h="1461">
                <a:moveTo>
                  <a:pt x="11779" y="16383"/>
                </a:moveTo>
                <a:cubicBezTo>
                  <a:pt x="11844" y="16399"/>
                  <a:pt x="11860" y="16415"/>
                  <a:pt x="11938" y="16415"/>
                </a:cubicBezTo>
              </a:path>
              <a:path w="5652" h="1461">
                <a:moveTo>
                  <a:pt x="12160" y="16161"/>
                </a:moveTo>
                <a:cubicBezTo>
                  <a:pt x="12216" y="16119"/>
                  <a:pt x="12245" y="16129"/>
                  <a:pt x="12319" y="16129"/>
                </a:cubicBezTo>
                <a:cubicBezTo>
                  <a:pt x="12384" y="16129"/>
                  <a:pt x="12387" y="16148"/>
                  <a:pt x="12414" y="16161"/>
                </a:cubicBezTo>
                <a:cubicBezTo>
                  <a:pt x="12445" y="16177"/>
                  <a:pt x="12459" y="16214"/>
                  <a:pt x="12478" y="16224"/>
                </a:cubicBezTo>
                <a:cubicBezTo>
                  <a:pt x="12501" y="16236"/>
                  <a:pt x="12537" y="16272"/>
                  <a:pt x="12510" y="16320"/>
                </a:cubicBezTo>
                <a:cubicBezTo>
                  <a:pt x="12475" y="16382"/>
                  <a:pt x="12439" y="16421"/>
                  <a:pt x="12382" y="16478"/>
                </a:cubicBezTo>
                <a:cubicBezTo>
                  <a:pt x="12348" y="16512"/>
                  <a:pt x="12299" y="16647"/>
                  <a:pt x="12287" y="16700"/>
                </a:cubicBezTo>
                <a:cubicBezTo>
                  <a:pt x="12277" y="16745"/>
                  <a:pt x="12287" y="16811"/>
                  <a:pt x="12287" y="16859"/>
                </a:cubicBezTo>
              </a:path>
              <a:path w="5652" h="1461">
                <a:moveTo>
                  <a:pt x="12636" y="15875"/>
                </a:moveTo>
                <a:cubicBezTo>
                  <a:pt x="12636" y="15946"/>
                  <a:pt x="12669" y="15997"/>
                  <a:pt x="12700" y="16066"/>
                </a:cubicBezTo>
                <a:cubicBezTo>
                  <a:pt x="12747" y="16169"/>
                  <a:pt x="12760" y="16300"/>
                  <a:pt x="12764" y="16415"/>
                </a:cubicBezTo>
                <a:cubicBezTo>
                  <a:pt x="12768" y="16547"/>
                  <a:pt x="12764" y="16703"/>
                  <a:pt x="12732" y="16828"/>
                </a:cubicBezTo>
                <a:cubicBezTo>
                  <a:pt x="12717" y="16889"/>
                  <a:pt x="12646" y="16973"/>
                  <a:pt x="12605" y="17018"/>
                </a:cubicBezTo>
                <a:cubicBezTo>
                  <a:pt x="12594" y="17029"/>
                  <a:pt x="12584" y="17039"/>
                  <a:pt x="12573" y="17050"/>
                </a:cubicBezTo>
              </a:path>
              <a:path w="5652" h="1461">
                <a:moveTo>
                  <a:pt x="12986" y="15875"/>
                </a:moveTo>
                <a:cubicBezTo>
                  <a:pt x="13065" y="15875"/>
                  <a:pt x="13102" y="15888"/>
                  <a:pt x="13176" y="15907"/>
                </a:cubicBezTo>
                <a:cubicBezTo>
                  <a:pt x="13208" y="15907"/>
                  <a:pt x="13219" y="15907"/>
                  <a:pt x="13240" y="15907"/>
                </a:cubicBezTo>
                <a:cubicBezTo>
                  <a:pt x="13204" y="15933"/>
                  <a:pt x="13153" y="15984"/>
                  <a:pt x="13113" y="16002"/>
                </a:cubicBezTo>
                <a:cubicBezTo>
                  <a:pt x="13055" y="16028"/>
                  <a:pt x="13049" y="16026"/>
                  <a:pt x="13049" y="16097"/>
                </a:cubicBezTo>
                <a:cubicBezTo>
                  <a:pt x="13049" y="16132"/>
                  <a:pt x="13081" y="16157"/>
                  <a:pt x="13113" y="16161"/>
                </a:cubicBezTo>
                <a:cubicBezTo>
                  <a:pt x="13154" y="16166"/>
                  <a:pt x="13199" y="16161"/>
                  <a:pt x="13240" y="16161"/>
                </a:cubicBezTo>
              </a:path>
              <a:path w="5652" h="1461">
                <a:moveTo>
                  <a:pt x="13684" y="16129"/>
                </a:moveTo>
                <a:cubicBezTo>
                  <a:pt x="13684" y="16197"/>
                  <a:pt x="13669" y="16289"/>
                  <a:pt x="13652" y="16351"/>
                </a:cubicBezTo>
                <a:cubicBezTo>
                  <a:pt x="13624" y="16449"/>
                  <a:pt x="13621" y="16532"/>
                  <a:pt x="13621" y="16637"/>
                </a:cubicBezTo>
                <a:cubicBezTo>
                  <a:pt x="13621" y="16658"/>
                  <a:pt x="13621" y="16679"/>
                  <a:pt x="13621" y="16700"/>
                </a:cubicBezTo>
              </a:path>
              <a:path w="5652" h="1461">
                <a:moveTo>
                  <a:pt x="13494" y="16383"/>
                </a:moveTo>
                <a:cubicBezTo>
                  <a:pt x="13553" y="16442"/>
                  <a:pt x="13609" y="16472"/>
                  <a:pt x="13684" y="16510"/>
                </a:cubicBezTo>
                <a:cubicBezTo>
                  <a:pt x="13705" y="16521"/>
                  <a:pt x="13727" y="16531"/>
                  <a:pt x="13748" y="16542"/>
                </a:cubicBezTo>
              </a:path>
              <a:path w="5652" h="1461">
                <a:moveTo>
                  <a:pt x="14414" y="15907"/>
                </a:moveTo>
                <a:cubicBezTo>
                  <a:pt x="14395" y="15984"/>
                  <a:pt x="14314" y="16039"/>
                  <a:pt x="14256" y="16097"/>
                </a:cubicBezTo>
                <a:cubicBezTo>
                  <a:pt x="14160" y="16193"/>
                  <a:pt x="14062" y="16291"/>
                  <a:pt x="14002" y="16415"/>
                </a:cubicBezTo>
                <a:cubicBezTo>
                  <a:pt x="13943" y="16537"/>
                  <a:pt x="13970" y="16697"/>
                  <a:pt x="13970" y="16828"/>
                </a:cubicBezTo>
                <a:cubicBezTo>
                  <a:pt x="13970" y="16928"/>
                  <a:pt x="14033" y="16967"/>
                  <a:pt x="14065" y="17050"/>
                </a:cubicBezTo>
                <a:cubicBezTo>
                  <a:pt x="14085" y="17101"/>
                  <a:pt x="14079" y="17087"/>
                  <a:pt x="14129" y="17050"/>
                </a:cubicBezTo>
              </a:path>
              <a:path w="5652" h="1461">
                <a:moveTo>
                  <a:pt x="14224" y="16446"/>
                </a:moveTo>
                <a:cubicBezTo>
                  <a:pt x="14300" y="16446"/>
                  <a:pt x="14291" y="16493"/>
                  <a:pt x="14351" y="16510"/>
                </a:cubicBezTo>
                <a:cubicBezTo>
                  <a:pt x="14382" y="16519"/>
                  <a:pt x="14443" y="16510"/>
                  <a:pt x="14478" y="16510"/>
                </a:cubicBezTo>
              </a:path>
              <a:path w="5652" h="1461">
                <a:moveTo>
                  <a:pt x="14573" y="16256"/>
                </a:moveTo>
                <a:cubicBezTo>
                  <a:pt x="14625" y="16245"/>
                  <a:pt x="14748" y="16185"/>
                  <a:pt x="14796" y="16192"/>
                </a:cubicBezTo>
                <a:cubicBezTo>
                  <a:pt x="14832" y="16198"/>
                  <a:pt x="14869" y="16224"/>
                  <a:pt x="14922" y="16224"/>
                </a:cubicBezTo>
                <a:cubicBezTo>
                  <a:pt x="14922" y="16292"/>
                  <a:pt x="14908" y="16303"/>
                  <a:pt x="14859" y="16351"/>
                </a:cubicBezTo>
                <a:cubicBezTo>
                  <a:pt x="14796" y="16414"/>
                  <a:pt x="14772" y="16456"/>
                  <a:pt x="14700" y="16510"/>
                </a:cubicBezTo>
                <a:cubicBezTo>
                  <a:pt x="14669" y="16533"/>
                  <a:pt x="14610" y="16628"/>
                  <a:pt x="14605" y="16637"/>
                </a:cubicBezTo>
                <a:cubicBezTo>
                  <a:pt x="14605" y="16648"/>
                  <a:pt x="14605" y="16658"/>
                  <a:pt x="14605" y="16669"/>
                </a:cubicBezTo>
                <a:cubicBezTo>
                  <a:pt x="14621" y="16716"/>
                  <a:pt x="14644" y="16700"/>
                  <a:pt x="14700" y="16700"/>
                </a:cubicBezTo>
                <a:cubicBezTo>
                  <a:pt x="14836" y="16700"/>
                  <a:pt x="14802" y="16704"/>
                  <a:pt x="14891" y="16764"/>
                </a:cubicBezTo>
                <a:cubicBezTo>
                  <a:pt x="14949" y="16803"/>
                  <a:pt x="14965" y="16714"/>
                  <a:pt x="14986" y="16700"/>
                </a:cubicBezTo>
              </a:path>
              <a:path w="5652" h="1461">
                <a:moveTo>
                  <a:pt x="15304" y="16351"/>
                </a:moveTo>
                <a:cubicBezTo>
                  <a:pt x="15304" y="16453"/>
                  <a:pt x="15282" y="16545"/>
                  <a:pt x="15272" y="16637"/>
                </a:cubicBezTo>
                <a:cubicBezTo>
                  <a:pt x="15272" y="16737"/>
                  <a:pt x="15291" y="16760"/>
                  <a:pt x="15240" y="16796"/>
                </a:cubicBezTo>
              </a:path>
              <a:path w="5652" h="1461">
                <a:moveTo>
                  <a:pt x="15145" y="16542"/>
                </a:moveTo>
                <a:cubicBezTo>
                  <a:pt x="15145" y="16553"/>
                  <a:pt x="15145" y="16563"/>
                  <a:pt x="15145" y="16574"/>
                </a:cubicBezTo>
                <a:cubicBezTo>
                  <a:pt x="15194" y="16586"/>
                  <a:pt x="15254" y="16588"/>
                  <a:pt x="15304" y="16605"/>
                </a:cubicBezTo>
                <a:cubicBezTo>
                  <a:pt x="15387" y="16633"/>
                  <a:pt x="15392" y="16658"/>
                  <a:pt x="15462" y="16605"/>
                </a:cubicBezTo>
              </a:path>
              <a:path w="5652" h="1461">
                <a:moveTo>
                  <a:pt x="15558" y="16320"/>
                </a:moveTo>
                <a:cubicBezTo>
                  <a:pt x="15616" y="16320"/>
                  <a:pt x="15633" y="16292"/>
                  <a:pt x="15684" y="16288"/>
                </a:cubicBezTo>
                <a:cubicBezTo>
                  <a:pt x="15731" y="16285"/>
                  <a:pt x="15798" y="16304"/>
                  <a:pt x="15843" y="16320"/>
                </a:cubicBezTo>
                <a:cubicBezTo>
                  <a:pt x="15927" y="16349"/>
                  <a:pt x="15907" y="16373"/>
                  <a:pt x="15907" y="16446"/>
                </a:cubicBezTo>
                <a:cubicBezTo>
                  <a:pt x="15907" y="16478"/>
                  <a:pt x="15836" y="16585"/>
                  <a:pt x="15812" y="16605"/>
                </a:cubicBezTo>
                <a:cubicBezTo>
                  <a:pt x="15717" y="16687"/>
                  <a:pt x="15732" y="16722"/>
                  <a:pt x="15684" y="16828"/>
                </a:cubicBezTo>
                <a:cubicBezTo>
                  <a:pt x="15640" y="16924"/>
                  <a:pt x="15675" y="16862"/>
                  <a:pt x="15716" y="16923"/>
                </a:cubicBezTo>
                <a:cubicBezTo>
                  <a:pt x="15740" y="16958"/>
                  <a:pt x="15775" y="16979"/>
                  <a:pt x="15843" y="16986"/>
                </a:cubicBezTo>
                <a:cubicBezTo>
                  <a:pt x="15874" y="16989"/>
                  <a:pt x="15907" y="16986"/>
                  <a:pt x="15938" y="16986"/>
                </a:cubicBezTo>
              </a:path>
              <a:path w="5652" h="1461">
                <a:moveTo>
                  <a:pt x="15970" y="16034"/>
                </a:moveTo>
                <a:cubicBezTo>
                  <a:pt x="15989" y="16108"/>
                  <a:pt x="16052" y="16169"/>
                  <a:pt x="16066" y="16256"/>
                </a:cubicBezTo>
                <a:cubicBezTo>
                  <a:pt x="16084" y="16372"/>
                  <a:pt x="16097" y="16486"/>
                  <a:pt x="16097" y="16605"/>
                </a:cubicBezTo>
                <a:cubicBezTo>
                  <a:pt x="16097" y="16733"/>
                  <a:pt x="16057" y="16802"/>
                  <a:pt x="16034" y="16923"/>
                </a:cubicBezTo>
                <a:cubicBezTo>
                  <a:pt x="16016" y="17015"/>
                  <a:pt x="15971" y="17064"/>
                  <a:pt x="15938" y="17145"/>
                </a:cubicBezTo>
                <a:cubicBezTo>
                  <a:pt x="15921" y="17188"/>
                  <a:pt x="15913" y="17202"/>
                  <a:pt x="15875" y="17240"/>
                </a:cubicBezTo>
              </a:path>
              <a:path w="5652" h="1461">
                <a:moveTo>
                  <a:pt x="16288" y="16192"/>
                </a:moveTo>
                <a:cubicBezTo>
                  <a:pt x="16338" y="16180"/>
                  <a:pt x="16358" y="16161"/>
                  <a:pt x="16415" y="16161"/>
                </a:cubicBezTo>
                <a:cubicBezTo>
                  <a:pt x="16425" y="16161"/>
                  <a:pt x="16436" y="16161"/>
                  <a:pt x="16446" y="16161"/>
                </a:cubicBezTo>
                <a:cubicBezTo>
                  <a:pt x="16461" y="16205"/>
                  <a:pt x="16456" y="16192"/>
                  <a:pt x="16510" y="16192"/>
                </a:cubicBezTo>
                <a:cubicBezTo>
                  <a:pt x="16497" y="16244"/>
                  <a:pt x="16451" y="16310"/>
                  <a:pt x="16415" y="16351"/>
                </a:cubicBezTo>
                <a:cubicBezTo>
                  <a:pt x="16375" y="16396"/>
                  <a:pt x="16383" y="16419"/>
                  <a:pt x="16383" y="16478"/>
                </a:cubicBezTo>
                <a:cubicBezTo>
                  <a:pt x="16460" y="16478"/>
                  <a:pt x="16548" y="16459"/>
                  <a:pt x="16605" y="16510"/>
                </a:cubicBezTo>
                <a:cubicBezTo>
                  <a:pt x="16616" y="16521"/>
                  <a:pt x="16626" y="16531"/>
                  <a:pt x="16637" y="165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Ink 21"/>
          <p:cNvSpPr/>
          <p:nvPr/>
        </p:nvSpPr>
        <p:spPr>
          <a:xfrm>
            <a:off x="6961320" y="5565600"/>
            <a:ext cx="160200" cy="184320"/>
          </a:xfrm>
          <a:custGeom>
            <a:avLst/>
            <a:gdLst/>
            <a:ahLst/>
            <a:rect l="l" t="t" r="r" b="b"/>
            <a:pathLst>
              <a:path w="445" h="509">
                <a:moveTo>
                  <a:pt x="19336" y="15462"/>
                </a:moveTo>
                <a:cubicBezTo>
                  <a:pt x="19412" y="15462"/>
                  <a:pt x="19463" y="15475"/>
                  <a:pt x="19526" y="15494"/>
                </a:cubicBezTo>
                <a:cubicBezTo>
                  <a:pt x="19580" y="15510"/>
                  <a:pt x="19635" y="15509"/>
                  <a:pt x="19685" y="15526"/>
                </a:cubicBezTo>
                <a:cubicBezTo>
                  <a:pt x="19740" y="15544"/>
                  <a:pt x="19727" y="15518"/>
                  <a:pt x="19780" y="15558"/>
                </a:cubicBezTo>
              </a:path>
              <a:path w="445" h="509">
                <a:moveTo>
                  <a:pt x="19558" y="15970"/>
                </a:moveTo>
                <a:cubicBezTo>
                  <a:pt x="19547" y="15970"/>
                  <a:pt x="19537" y="15970"/>
                  <a:pt x="19526" y="15970"/>
                </a:cubicBezTo>
                <a:cubicBezTo>
                  <a:pt x="19584" y="15970"/>
                  <a:pt x="19601" y="15944"/>
                  <a:pt x="19653" y="15938"/>
                </a:cubicBezTo>
                <a:cubicBezTo>
                  <a:pt x="19695" y="15933"/>
                  <a:pt x="19738" y="15938"/>
                  <a:pt x="19780" y="159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Ink 22"/>
          <p:cNvSpPr/>
          <p:nvPr/>
        </p:nvSpPr>
        <p:spPr>
          <a:xfrm>
            <a:off x="7383600" y="5372280"/>
            <a:ext cx="252360" cy="549000"/>
          </a:xfrm>
          <a:custGeom>
            <a:avLst/>
            <a:gdLst/>
            <a:ahLst/>
            <a:rect l="l" t="t" r="r" b="b"/>
            <a:pathLst>
              <a:path w="700" h="1525">
                <a:moveTo>
                  <a:pt x="20574" y="14922"/>
                </a:moveTo>
                <a:cubicBezTo>
                  <a:pt x="20553" y="14977"/>
                  <a:pt x="20545" y="15015"/>
                  <a:pt x="20542" y="15081"/>
                </a:cubicBezTo>
                <a:cubicBezTo>
                  <a:pt x="20536" y="15195"/>
                  <a:pt x="20524" y="15293"/>
                  <a:pt x="20510" y="15399"/>
                </a:cubicBezTo>
                <a:cubicBezTo>
                  <a:pt x="20493" y="15532"/>
                  <a:pt x="20537" y="15650"/>
                  <a:pt x="20542" y="15780"/>
                </a:cubicBezTo>
                <a:cubicBezTo>
                  <a:pt x="20546" y="15887"/>
                  <a:pt x="20564" y="15999"/>
                  <a:pt x="20606" y="16097"/>
                </a:cubicBezTo>
                <a:cubicBezTo>
                  <a:pt x="20626" y="16145"/>
                  <a:pt x="20672" y="16270"/>
                  <a:pt x="20733" y="16288"/>
                </a:cubicBezTo>
                <a:cubicBezTo>
                  <a:pt x="20789" y="16304"/>
                  <a:pt x="20851" y="16289"/>
                  <a:pt x="20892" y="16256"/>
                </a:cubicBezTo>
                <a:cubicBezTo>
                  <a:pt x="20958" y="16202"/>
                  <a:pt x="21011" y="16140"/>
                  <a:pt x="21050" y="16066"/>
                </a:cubicBezTo>
                <a:cubicBezTo>
                  <a:pt x="21107" y="15959"/>
                  <a:pt x="21141" y="15856"/>
                  <a:pt x="21177" y="15748"/>
                </a:cubicBezTo>
                <a:cubicBezTo>
                  <a:pt x="21204" y="15666"/>
                  <a:pt x="21209" y="15614"/>
                  <a:pt x="21209" y="15526"/>
                </a:cubicBezTo>
                <a:cubicBezTo>
                  <a:pt x="21209" y="15515"/>
                  <a:pt x="21209" y="15505"/>
                  <a:pt x="21209" y="15494"/>
                </a:cubicBezTo>
                <a:cubicBezTo>
                  <a:pt x="21155" y="15501"/>
                  <a:pt x="21121" y="15476"/>
                  <a:pt x="21082" y="15526"/>
                </a:cubicBezTo>
                <a:cubicBezTo>
                  <a:pt x="21069" y="15542"/>
                  <a:pt x="20997" y="15630"/>
                  <a:pt x="20987" y="15684"/>
                </a:cubicBezTo>
                <a:cubicBezTo>
                  <a:pt x="20964" y="15810"/>
                  <a:pt x="20955" y="15935"/>
                  <a:pt x="20955" y="16066"/>
                </a:cubicBezTo>
                <a:cubicBezTo>
                  <a:pt x="20955" y="16197"/>
                  <a:pt x="20991" y="16295"/>
                  <a:pt x="21018" y="16415"/>
                </a:cubicBezTo>
                <a:cubicBezTo>
                  <a:pt x="21018" y="16425"/>
                  <a:pt x="21018" y="16436"/>
                  <a:pt x="21018" y="164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Ink 23"/>
          <p:cNvSpPr/>
          <p:nvPr/>
        </p:nvSpPr>
        <p:spPr>
          <a:xfrm>
            <a:off x="3657600" y="5554800"/>
            <a:ext cx="2538360" cy="399960"/>
          </a:xfrm>
          <a:custGeom>
            <a:avLst/>
            <a:gdLst/>
            <a:ahLst/>
            <a:rect l="l" t="t" r="r" b="b"/>
            <a:pathLst>
              <a:path w="7049" h="1113">
                <a:moveTo>
                  <a:pt x="10192" y="15843"/>
                </a:moveTo>
                <a:cubicBezTo>
                  <a:pt x="10181" y="15910"/>
                  <a:pt x="10150" y="15979"/>
                  <a:pt x="10160" y="16066"/>
                </a:cubicBezTo>
                <a:cubicBezTo>
                  <a:pt x="10170" y="16156"/>
                  <a:pt x="10189" y="16226"/>
                  <a:pt x="10192" y="16320"/>
                </a:cubicBezTo>
                <a:cubicBezTo>
                  <a:pt x="10194" y="16382"/>
                  <a:pt x="10219" y="16435"/>
                  <a:pt x="10224" y="16478"/>
                </a:cubicBezTo>
                <a:cubicBezTo>
                  <a:pt x="10224" y="16510"/>
                  <a:pt x="10224" y="16521"/>
                  <a:pt x="10224" y="16542"/>
                </a:cubicBezTo>
                <a:cubicBezTo>
                  <a:pt x="10289" y="16526"/>
                  <a:pt x="10322" y="16548"/>
                  <a:pt x="10382" y="16510"/>
                </a:cubicBezTo>
                <a:cubicBezTo>
                  <a:pt x="10444" y="16471"/>
                  <a:pt x="10534" y="16359"/>
                  <a:pt x="10573" y="16288"/>
                </a:cubicBezTo>
                <a:cubicBezTo>
                  <a:pt x="10621" y="16201"/>
                  <a:pt x="10672" y="16066"/>
                  <a:pt x="10700" y="15970"/>
                </a:cubicBezTo>
                <a:cubicBezTo>
                  <a:pt x="10724" y="15886"/>
                  <a:pt x="10734" y="15798"/>
                  <a:pt x="10763" y="15716"/>
                </a:cubicBezTo>
                <a:cubicBezTo>
                  <a:pt x="10774" y="15686"/>
                  <a:pt x="10808" y="15576"/>
                  <a:pt x="10827" y="15558"/>
                </a:cubicBezTo>
                <a:cubicBezTo>
                  <a:pt x="10856" y="15530"/>
                  <a:pt x="10913" y="15536"/>
                  <a:pt x="10954" y="15526"/>
                </a:cubicBezTo>
                <a:cubicBezTo>
                  <a:pt x="11130" y="15485"/>
                  <a:pt x="11382" y="15508"/>
                  <a:pt x="11557" y="15494"/>
                </a:cubicBezTo>
                <a:cubicBezTo>
                  <a:pt x="11651" y="15486"/>
                  <a:pt x="11757" y="15468"/>
                  <a:pt x="11843" y="15462"/>
                </a:cubicBezTo>
                <a:cubicBezTo>
                  <a:pt x="11952" y="15454"/>
                  <a:pt x="12053" y="15436"/>
                  <a:pt x="12160" y="15430"/>
                </a:cubicBezTo>
                <a:cubicBezTo>
                  <a:pt x="12468" y="15411"/>
                  <a:pt x="12781" y="15440"/>
                  <a:pt x="13081" y="15462"/>
                </a:cubicBezTo>
                <a:cubicBezTo>
                  <a:pt x="13238" y="15473"/>
                  <a:pt x="13404" y="15484"/>
                  <a:pt x="13557" y="15494"/>
                </a:cubicBezTo>
                <a:cubicBezTo>
                  <a:pt x="13729" y="15506"/>
                  <a:pt x="13891" y="15526"/>
                  <a:pt x="14065" y="15526"/>
                </a:cubicBezTo>
                <a:cubicBezTo>
                  <a:pt x="14237" y="15526"/>
                  <a:pt x="14399" y="15558"/>
                  <a:pt x="14573" y="15558"/>
                </a:cubicBezTo>
                <a:cubicBezTo>
                  <a:pt x="14744" y="15558"/>
                  <a:pt x="14907" y="15589"/>
                  <a:pt x="15081" y="15589"/>
                </a:cubicBezTo>
                <a:cubicBezTo>
                  <a:pt x="15790" y="15589"/>
                  <a:pt x="16499" y="15589"/>
                  <a:pt x="17208" y="155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609480" y="380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for 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 - 3y = 16                    ½ x + y  =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Ink 3"/>
          <p:cNvSpPr/>
          <p:nvPr/>
        </p:nvSpPr>
        <p:spPr>
          <a:xfrm>
            <a:off x="514440" y="2092320"/>
            <a:ext cx="366480" cy="274680"/>
          </a:xfrm>
          <a:custGeom>
            <a:avLst/>
            <a:gdLst/>
            <a:ahLst/>
            <a:rect l="l" t="t" r="r" b="b"/>
            <a:pathLst>
              <a:path w="1017" h="763">
                <a:moveTo>
                  <a:pt x="1429" y="6064"/>
                </a:moveTo>
                <a:cubicBezTo>
                  <a:pt x="1457" y="6093"/>
                  <a:pt x="1467" y="6099"/>
                  <a:pt x="1460" y="6128"/>
                </a:cubicBezTo>
                <a:cubicBezTo>
                  <a:pt x="1519" y="6128"/>
                  <a:pt x="1536" y="6102"/>
                  <a:pt x="1588" y="6096"/>
                </a:cubicBezTo>
                <a:cubicBezTo>
                  <a:pt x="1639" y="6090"/>
                  <a:pt x="1694" y="6096"/>
                  <a:pt x="1746" y="6096"/>
                </a:cubicBezTo>
              </a:path>
              <a:path w="1017" h="763">
                <a:moveTo>
                  <a:pt x="2000" y="6001"/>
                </a:moveTo>
                <a:cubicBezTo>
                  <a:pt x="2007" y="5980"/>
                  <a:pt x="2029" y="5923"/>
                  <a:pt x="2064" y="5906"/>
                </a:cubicBezTo>
                <a:cubicBezTo>
                  <a:pt x="2086" y="5895"/>
                  <a:pt x="2203" y="5806"/>
                  <a:pt x="2222" y="5810"/>
                </a:cubicBezTo>
                <a:cubicBezTo>
                  <a:pt x="2290" y="5825"/>
                  <a:pt x="2313" y="5872"/>
                  <a:pt x="2318" y="5937"/>
                </a:cubicBezTo>
                <a:cubicBezTo>
                  <a:pt x="2325" y="6021"/>
                  <a:pt x="2320" y="6085"/>
                  <a:pt x="2286" y="6160"/>
                </a:cubicBezTo>
                <a:cubicBezTo>
                  <a:pt x="2253" y="6234"/>
                  <a:pt x="2220" y="6311"/>
                  <a:pt x="2191" y="6382"/>
                </a:cubicBezTo>
                <a:cubicBezTo>
                  <a:pt x="2166" y="6444"/>
                  <a:pt x="2103" y="6478"/>
                  <a:pt x="2096" y="6540"/>
                </a:cubicBezTo>
                <a:cubicBezTo>
                  <a:pt x="2090" y="6595"/>
                  <a:pt x="2063" y="6585"/>
                  <a:pt x="2096" y="6540"/>
                </a:cubicBezTo>
                <a:cubicBezTo>
                  <a:pt x="2111" y="6520"/>
                  <a:pt x="2171" y="6455"/>
                  <a:pt x="2191" y="6445"/>
                </a:cubicBezTo>
                <a:cubicBezTo>
                  <a:pt x="2231" y="6425"/>
                  <a:pt x="2270" y="6465"/>
                  <a:pt x="2286" y="6477"/>
                </a:cubicBezTo>
                <a:cubicBezTo>
                  <a:pt x="2342" y="6519"/>
                  <a:pt x="2341" y="6540"/>
                  <a:pt x="2413" y="6540"/>
                </a:cubicBezTo>
                <a:cubicBezTo>
                  <a:pt x="2424" y="6540"/>
                  <a:pt x="2434" y="6540"/>
                  <a:pt x="2445" y="65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Ink 4"/>
          <p:cNvSpPr/>
          <p:nvPr/>
        </p:nvSpPr>
        <p:spPr>
          <a:xfrm>
            <a:off x="2193840" y="2114640"/>
            <a:ext cx="584280" cy="309600"/>
          </a:xfrm>
          <a:custGeom>
            <a:avLst/>
            <a:gdLst/>
            <a:ahLst/>
            <a:rect l="l" t="t" r="r" b="b"/>
            <a:pathLst>
              <a:path w="1620" h="858">
                <a:moveTo>
                  <a:pt x="6096" y="6096"/>
                </a:moveTo>
                <a:cubicBezTo>
                  <a:pt x="6212" y="6096"/>
                  <a:pt x="6329" y="6096"/>
                  <a:pt x="6445" y="6096"/>
                </a:cubicBezTo>
              </a:path>
              <a:path w="1620" h="858">
                <a:moveTo>
                  <a:pt x="6731" y="6064"/>
                </a:moveTo>
                <a:cubicBezTo>
                  <a:pt x="6745" y="6009"/>
                  <a:pt x="6783" y="5980"/>
                  <a:pt x="6826" y="5937"/>
                </a:cubicBezTo>
                <a:cubicBezTo>
                  <a:pt x="6858" y="5906"/>
                  <a:pt x="6910" y="5879"/>
                  <a:pt x="6953" y="5874"/>
                </a:cubicBezTo>
                <a:cubicBezTo>
                  <a:pt x="7003" y="5868"/>
                  <a:pt x="7037" y="5885"/>
                  <a:pt x="7048" y="5937"/>
                </a:cubicBezTo>
                <a:cubicBezTo>
                  <a:pt x="7063" y="6010"/>
                  <a:pt x="6985" y="6095"/>
                  <a:pt x="6953" y="6160"/>
                </a:cubicBezTo>
                <a:cubicBezTo>
                  <a:pt x="6906" y="6254"/>
                  <a:pt x="6844" y="6324"/>
                  <a:pt x="6794" y="6414"/>
                </a:cubicBezTo>
                <a:cubicBezTo>
                  <a:pt x="6773" y="6452"/>
                  <a:pt x="6727" y="6585"/>
                  <a:pt x="6699" y="6604"/>
                </a:cubicBezTo>
                <a:cubicBezTo>
                  <a:pt x="6689" y="6604"/>
                  <a:pt x="6678" y="6604"/>
                  <a:pt x="6668" y="6604"/>
                </a:cubicBezTo>
                <a:cubicBezTo>
                  <a:pt x="6710" y="6572"/>
                  <a:pt x="6725" y="6545"/>
                  <a:pt x="6763" y="6540"/>
                </a:cubicBezTo>
                <a:cubicBezTo>
                  <a:pt x="6831" y="6531"/>
                  <a:pt x="6863" y="6537"/>
                  <a:pt x="6890" y="6572"/>
                </a:cubicBezTo>
                <a:cubicBezTo>
                  <a:pt x="6899" y="6584"/>
                  <a:pt x="6985" y="6668"/>
                  <a:pt x="6985" y="6668"/>
                </a:cubicBezTo>
                <a:cubicBezTo>
                  <a:pt x="7022" y="6693"/>
                  <a:pt x="7082" y="6644"/>
                  <a:pt x="7112" y="6636"/>
                </a:cubicBezTo>
              </a:path>
              <a:path w="1620" h="858">
                <a:moveTo>
                  <a:pt x="7334" y="6160"/>
                </a:moveTo>
                <a:cubicBezTo>
                  <a:pt x="7383" y="6208"/>
                  <a:pt x="7427" y="6260"/>
                  <a:pt x="7461" y="6318"/>
                </a:cubicBezTo>
                <a:cubicBezTo>
                  <a:pt x="7504" y="6391"/>
                  <a:pt x="7545" y="6469"/>
                  <a:pt x="7588" y="6540"/>
                </a:cubicBezTo>
                <a:cubicBezTo>
                  <a:pt x="7622" y="6596"/>
                  <a:pt x="7671" y="6630"/>
                  <a:pt x="7684" y="6668"/>
                </a:cubicBezTo>
              </a:path>
              <a:path w="1620" h="858">
                <a:moveTo>
                  <a:pt x="7715" y="6286"/>
                </a:moveTo>
                <a:cubicBezTo>
                  <a:pt x="7695" y="6370"/>
                  <a:pt x="7608" y="6406"/>
                  <a:pt x="7556" y="6477"/>
                </a:cubicBezTo>
                <a:cubicBezTo>
                  <a:pt x="7493" y="6564"/>
                  <a:pt x="7438" y="6649"/>
                  <a:pt x="7366" y="67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Ink 5"/>
          <p:cNvSpPr/>
          <p:nvPr/>
        </p:nvSpPr>
        <p:spPr>
          <a:xfrm>
            <a:off x="1074600" y="2857680"/>
            <a:ext cx="114480" cy="10800"/>
          </a:xfrm>
          <a:custGeom>
            <a:avLst/>
            <a:gdLst/>
            <a:ahLst/>
            <a:rect l="l" t="t" r="r" b="b"/>
            <a:pathLst>
              <a:path w="319" h="32">
                <a:moveTo>
                  <a:pt x="2984" y="7938"/>
                </a:moveTo>
                <a:cubicBezTo>
                  <a:pt x="3033" y="7973"/>
                  <a:pt x="3051" y="7969"/>
                  <a:pt x="3112" y="7969"/>
                </a:cubicBezTo>
                <a:cubicBezTo>
                  <a:pt x="3193" y="7969"/>
                  <a:pt x="3228" y="7969"/>
                  <a:pt x="3302" y="79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Ink 6"/>
          <p:cNvSpPr/>
          <p:nvPr/>
        </p:nvSpPr>
        <p:spPr>
          <a:xfrm>
            <a:off x="1336680" y="2754360"/>
            <a:ext cx="378000" cy="685800"/>
          </a:xfrm>
          <a:custGeom>
            <a:avLst/>
            <a:gdLst/>
            <a:ahLst/>
            <a:rect l="l" t="t" r="r" b="b"/>
            <a:pathLst>
              <a:path w="1048" h="1906">
                <a:moveTo>
                  <a:pt x="3746" y="7842"/>
                </a:moveTo>
                <a:cubicBezTo>
                  <a:pt x="3699" y="7826"/>
                  <a:pt x="3715" y="7803"/>
                  <a:pt x="3715" y="7747"/>
                </a:cubicBezTo>
                <a:cubicBezTo>
                  <a:pt x="3715" y="7692"/>
                  <a:pt x="3760" y="7658"/>
                  <a:pt x="3810" y="7652"/>
                </a:cubicBezTo>
                <a:cubicBezTo>
                  <a:pt x="3852" y="7647"/>
                  <a:pt x="3914" y="7639"/>
                  <a:pt x="3937" y="7684"/>
                </a:cubicBezTo>
                <a:cubicBezTo>
                  <a:pt x="3970" y="7750"/>
                  <a:pt x="3944" y="7848"/>
                  <a:pt x="3937" y="7906"/>
                </a:cubicBezTo>
                <a:cubicBezTo>
                  <a:pt x="3929" y="7973"/>
                  <a:pt x="3918" y="8014"/>
                  <a:pt x="3874" y="8064"/>
                </a:cubicBezTo>
                <a:cubicBezTo>
                  <a:pt x="3839" y="8103"/>
                  <a:pt x="3824" y="8117"/>
                  <a:pt x="3778" y="8128"/>
                </a:cubicBezTo>
                <a:cubicBezTo>
                  <a:pt x="3790" y="8093"/>
                  <a:pt x="3802" y="8069"/>
                  <a:pt x="3842" y="8064"/>
                </a:cubicBezTo>
                <a:cubicBezTo>
                  <a:pt x="3897" y="8057"/>
                  <a:pt x="3929" y="8060"/>
                  <a:pt x="3969" y="8096"/>
                </a:cubicBezTo>
                <a:cubicBezTo>
                  <a:pt x="4026" y="8147"/>
                  <a:pt x="4051" y="8213"/>
                  <a:pt x="4064" y="8287"/>
                </a:cubicBezTo>
                <a:cubicBezTo>
                  <a:pt x="4078" y="8367"/>
                  <a:pt x="4066" y="8439"/>
                  <a:pt x="4032" y="8509"/>
                </a:cubicBezTo>
                <a:cubicBezTo>
                  <a:pt x="4020" y="8534"/>
                  <a:pt x="3965" y="8659"/>
                  <a:pt x="3937" y="8668"/>
                </a:cubicBezTo>
                <a:cubicBezTo>
                  <a:pt x="3881" y="8685"/>
                  <a:pt x="3817" y="8670"/>
                  <a:pt x="3778" y="8636"/>
                </a:cubicBezTo>
                <a:cubicBezTo>
                  <a:pt x="3720" y="8584"/>
                  <a:pt x="3747" y="8561"/>
                  <a:pt x="3778" y="8509"/>
                </a:cubicBezTo>
              </a:path>
              <a:path w="1048" h="1906">
                <a:moveTo>
                  <a:pt x="4350" y="8096"/>
                </a:moveTo>
                <a:cubicBezTo>
                  <a:pt x="4350" y="8297"/>
                  <a:pt x="4327" y="8521"/>
                  <a:pt x="4382" y="8700"/>
                </a:cubicBezTo>
                <a:cubicBezTo>
                  <a:pt x="4382" y="8710"/>
                  <a:pt x="4382" y="8721"/>
                  <a:pt x="4382" y="8731"/>
                </a:cubicBezTo>
                <a:cubicBezTo>
                  <a:pt x="4451" y="8731"/>
                  <a:pt x="4487" y="8715"/>
                  <a:pt x="4540" y="8668"/>
                </a:cubicBezTo>
                <a:cubicBezTo>
                  <a:pt x="4628" y="8588"/>
                  <a:pt x="4659" y="8483"/>
                  <a:pt x="4699" y="8382"/>
                </a:cubicBezTo>
                <a:cubicBezTo>
                  <a:pt x="4724" y="8321"/>
                  <a:pt x="4731" y="8126"/>
                  <a:pt x="4731" y="8192"/>
                </a:cubicBezTo>
                <a:cubicBezTo>
                  <a:pt x="4731" y="8202"/>
                  <a:pt x="4731" y="8213"/>
                  <a:pt x="4731" y="8223"/>
                </a:cubicBezTo>
                <a:cubicBezTo>
                  <a:pt x="4731" y="8357"/>
                  <a:pt x="4748" y="8475"/>
                  <a:pt x="4762" y="8604"/>
                </a:cubicBezTo>
                <a:cubicBezTo>
                  <a:pt x="4776" y="8738"/>
                  <a:pt x="4736" y="8855"/>
                  <a:pt x="4731" y="8985"/>
                </a:cubicBezTo>
                <a:cubicBezTo>
                  <a:pt x="4726" y="9113"/>
                  <a:pt x="4700" y="9252"/>
                  <a:pt x="4636" y="9366"/>
                </a:cubicBezTo>
                <a:cubicBezTo>
                  <a:pt x="4584" y="9458"/>
                  <a:pt x="4557" y="9522"/>
                  <a:pt x="4445" y="9557"/>
                </a:cubicBezTo>
                <a:cubicBezTo>
                  <a:pt x="4400" y="9571"/>
                  <a:pt x="4286" y="9519"/>
                  <a:pt x="4254" y="9493"/>
                </a:cubicBezTo>
                <a:cubicBezTo>
                  <a:pt x="4176" y="9431"/>
                  <a:pt x="4191" y="9326"/>
                  <a:pt x="4191" y="92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Ink 7"/>
          <p:cNvSpPr/>
          <p:nvPr/>
        </p:nvSpPr>
        <p:spPr>
          <a:xfrm>
            <a:off x="1874880" y="2766960"/>
            <a:ext cx="1589040" cy="422280"/>
          </a:xfrm>
          <a:custGeom>
            <a:avLst/>
            <a:gdLst/>
            <a:ahLst/>
            <a:rect l="l" t="t" r="r" b="b"/>
            <a:pathLst>
              <a:path w="4414" h="1175">
                <a:moveTo>
                  <a:pt x="5207" y="8382"/>
                </a:moveTo>
                <a:cubicBezTo>
                  <a:pt x="5257" y="8369"/>
                  <a:pt x="5277" y="8350"/>
                  <a:pt x="5334" y="8350"/>
                </a:cubicBezTo>
                <a:cubicBezTo>
                  <a:pt x="5376" y="8350"/>
                  <a:pt x="5419" y="8350"/>
                  <a:pt x="5461" y="8350"/>
                </a:cubicBezTo>
              </a:path>
              <a:path w="4414" h="1175">
                <a:moveTo>
                  <a:pt x="5207" y="8604"/>
                </a:moveTo>
                <a:cubicBezTo>
                  <a:pt x="5290" y="8604"/>
                  <a:pt x="5352" y="8585"/>
                  <a:pt x="5429" y="8572"/>
                </a:cubicBezTo>
                <a:cubicBezTo>
                  <a:pt x="5450" y="8572"/>
                  <a:pt x="5472" y="8572"/>
                  <a:pt x="5493" y="8572"/>
                </a:cubicBezTo>
              </a:path>
              <a:path w="4414" h="1175">
                <a:moveTo>
                  <a:pt x="5778" y="8287"/>
                </a:moveTo>
                <a:cubicBezTo>
                  <a:pt x="5827" y="8250"/>
                  <a:pt x="5844" y="8255"/>
                  <a:pt x="5906" y="8255"/>
                </a:cubicBezTo>
                <a:cubicBezTo>
                  <a:pt x="5969" y="8255"/>
                  <a:pt x="6033" y="8255"/>
                  <a:pt x="6096" y="8255"/>
                </a:cubicBezTo>
              </a:path>
              <a:path w="4414" h="1175">
                <a:moveTo>
                  <a:pt x="6382" y="7969"/>
                </a:moveTo>
                <a:cubicBezTo>
                  <a:pt x="6352" y="7899"/>
                  <a:pt x="6341" y="7870"/>
                  <a:pt x="6382" y="7810"/>
                </a:cubicBezTo>
                <a:cubicBezTo>
                  <a:pt x="6417" y="7759"/>
                  <a:pt x="6422" y="7746"/>
                  <a:pt x="6477" y="7715"/>
                </a:cubicBezTo>
                <a:cubicBezTo>
                  <a:pt x="6527" y="7687"/>
                  <a:pt x="6595" y="7656"/>
                  <a:pt x="6636" y="7715"/>
                </a:cubicBezTo>
                <a:cubicBezTo>
                  <a:pt x="6674" y="7769"/>
                  <a:pt x="6686" y="7874"/>
                  <a:pt x="6668" y="7938"/>
                </a:cubicBezTo>
                <a:cubicBezTo>
                  <a:pt x="6641" y="8034"/>
                  <a:pt x="6609" y="8127"/>
                  <a:pt x="6572" y="8223"/>
                </a:cubicBezTo>
                <a:cubicBezTo>
                  <a:pt x="6528" y="8339"/>
                  <a:pt x="6471" y="8432"/>
                  <a:pt x="6414" y="8541"/>
                </a:cubicBezTo>
                <a:cubicBezTo>
                  <a:pt x="6373" y="8618"/>
                  <a:pt x="6316" y="8670"/>
                  <a:pt x="6255" y="8731"/>
                </a:cubicBezTo>
                <a:cubicBezTo>
                  <a:pt x="6226" y="8760"/>
                  <a:pt x="6215" y="8766"/>
                  <a:pt x="6223" y="8795"/>
                </a:cubicBezTo>
                <a:cubicBezTo>
                  <a:pt x="6263" y="8765"/>
                  <a:pt x="6300" y="8737"/>
                  <a:pt x="6350" y="8731"/>
                </a:cubicBezTo>
                <a:cubicBezTo>
                  <a:pt x="6421" y="8723"/>
                  <a:pt x="6407" y="8723"/>
                  <a:pt x="6477" y="8731"/>
                </a:cubicBezTo>
                <a:cubicBezTo>
                  <a:pt x="6524" y="8736"/>
                  <a:pt x="6568" y="8739"/>
                  <a:pt x="6604" y="8763"/>
                </a:cubicBezTo>
                <a:cubicBezTo>
                  <a:pt x="6649" y="8793"/>
                  <a:pt x="6660" y="8821"/>
                  <a:pt x="6699" y="8826"/>
                </a:cubicBezTo>
                <a:cubicBezTo>
                  <a:pt x="6759" y="8833"/>
                  <a:pt x="6814" y="8834"/>
                  <a:pt x="6858" y="8795"/>
                </a:cubicBezTo>
                <a:cubicBezTo>
                  <a:pt x="6869" y="8784"/>
                  <a:pt x="6879" y="8774"/>
                  <a:pt x="6890" y="8763"/>
                </a:cubicBezTo>
              </a:path>
              <a:path w="4414" h="1175">
                <a:moveTo>
                  <a:pt x="7017" y="8096"/>
                </a:moveTo>
                <a:cubicBezTo>
                  <a:pt x="7060" y="8162"/>
                  <a:pt x="7113" y="8242"/>
                  <a:pt x="7144" y="8318"/>
                </a:cubicBezTo>
                <a:cubicBezTo>
                  <a:pt x="7192" y="8435"/>
                  <a:pt x="7234" y="8502"/>
                  <a:pt x="7302" y="8604"/>
                </a:cubicBezTo>
                <a:cubicBezTo>
                  <a:pt x="7344" y="8667"/>
                  <a:pt x="7389" y="8759"/>
                  <a:pt x="7461" y="8795"/>
                </a:cubicBezTo>
                <a:cubicBezTo>
                  <a:pt x="7503" y="8816"/>
                  <a:pt x="7480" y="8811"/>
                  <a:pt x="7525" y="8826"/>
                </a:cubicBezTo>
              </a:path>
              <a:path w="4414" h="1175">
                <a:moveTo>
                  <a:pt x="7461" y="8192"/>
                </a:moveTo>
                <a:cubicBezTo>
                  <a:pt x="7400" y="8216"/>
                  <a:pt x="7314" y="8289"/>
                  <a:pt x="7271" y="8350"/>
                </a:cubicBezTo>
                <a:cubicBezTo>
                  <a:pt x="7211" y="8436"/>
                  <a:pt x="7138" y="8517"/>
                  <a:pt x="7080" y="8604"/>
                </a:cubicBezTo>
                <a:cubicBezTo>
                  <a:pt x="7043" y="8659"/>
                  <a:pt x="7017" y="8789"/>
                  <a:pt x="6985" y="8826"/>
                </a:cubicBezTo>
                <a:cubicBezTo>
                  <a:pt x="6953" y="8826"/>
                  <a:pt x="6942" y="8826"/>
                  <a:pt x="6953" y="8858"/>
                </a:cubicBezTo>
              </a:path>
              <a:path w="4414" h="1175">
                <a:moveTo>
                  <a:pt x="8160" y="8064"/>
                </a:moveTo>
                <a:cubicBezTo>
                  <a:pt x="8149" y="8163"/>
                  <a:pt x="8128" y="8249"/>
                  <a:pt x="8128" y="8350"/>
                </a:cubicBezTo>
                <a:cubicBezTo>
                  <a:pt x="8128" y="8451"/>
                  <a:pt x="8114" y="8516"/>
                  <a:pt x="8128" y="8604"/>
                </a:cubicBezTo>
                <a:cubicBezTo>
                  <a:pt x="8133" y="8634"/>
                  <a:pt x="8128" y="8670"/>
                  <a:pt x="8128" y="8700"/>
                </a:cubicBezTo>
              </a:path>
              <a:path w="4414" h="1175">
                <a:moveTo>
                  <a:pt x="7906" y="8350"/>
                </a:moveTo>
                <a:cubicBezTo>
                  <a:pt x="7967" y="8350"/>
                  <a:pt x="8020" y="8375"/>
                  <a:pt x="8064" y="8382"/>
                </a:cubicBezTo>
                <a:cubicBezTo>
                  <a:pt x="8186" y="8400"/>
                  <a:pt x="8335" y="8387"/>
                  <a:pt x="8446" y="8350"/>
                </a:cubicBezTo>
              </a:path>
              <a:path w="4414" h="1175">
                <a:moveTo>
                  <a:pt x="8858" y="7715"/>
                </a:moveTo>
                <a:cubicBezTo>
                  <a:pt x="8858" y="7792"/>
                  <a:pt x="8845" y="7865"/>
                  <a:pt x="8826" y="7938"/>
                </a:cubicBezTo>
                <a:cubicBezTo>
                  <a:pt x="8790" y="8077"/>
                  <a:pt x="8746" y="8209"/>
                  <a:pt x="8731" y="8350"/>
                </a:cubicBezTo>
                <a:cubicBezTo>
                  <a:pt x="8724" y="8411"/>
                  <a:pt x="8756" y="8805"/>
                  <a:pt x="8763" y="8795"/>
                </a:cubicBezTo>
                <a:cubicBezTo>
                  <a:pt x="8763" y="8784"/>
                  <a:pt x="8763" y="8774"/>
                  <a:pt x="8763" y="8763"/>
                </a:cubicBezTo>
              </a:path>
              <a:path w="4414" h="1175">
                <a:moveTo>
                  <a:pt x="9144" y="7810"/>
                </a:moveTo>
                <a:cubicBezTo>
                  <a:pt x="9128" y="7892"/>
                  <a:pt x="9100" y="7982"/>
                  <a:pt x="9080" y="8064"/>
                </a:cubicBezTo>
                <a:cubicBezTo>
                  <a:pt x="9043" y="8213"/>
                  <a:pt x="9017" y="8320"/>
                  <a:pt x="9017" y="8477"/>
                </a:cubicBezTo>
                <a:cubicBezTo>
                  <a:pt x="9017" y="8575"/>
                  <a:pt x="9049" y="8683"/>
                  <a:pt x="9112" y="8763"/>
                </a:cubicBezTo>
                <a:cubicBezTo>
                  <a:pt x="9167" y="8833"/>
                  <a:pt x="9275" y="8875"/>
                  <a:pt x="9366" y="8858"/>
                </a:cubicBezTo>
                <a:cubicBezTo>
                  <a:pt x="9459" y="8840"/>
                  <a:pt x="9536" y="8730"/>
                  <a:pt x="9588" y="8668"/>
                </a:cubicBezTo>
                <a:cubicBezTo>
                  <a:pt x="9637" y="8609"/>
                  <a:pt x="9636" y="8537"/>
                  <a:pt x="9588" y="8477"/>
                </a:cubicBezTo>
                <a:cubicBezTo>
                  <a:pt x="9567" y="8451"/>
                  <a:pt x="9501" y="8364"/>
                  <a:pt x="9462" y="8382"/>
                </a:cubicBezTo>
                <a:cubicBezTo>
                  <a:pt x="9400" y="8410"/>
                  <a:pt x="9331" y="8479"/>
                  <a:pt x="9303" y="8541"/>
                </a:cubicBezTo>
                <a:cubicBezTo>
                  <a:pt x="9275" y="8604"/>
                  <a:pt x="9223" y="8729"/>
                  <a:pt x="9208" y="8795"/>
                </a:cubicBezTo>
                <a:cubicBezTo>
                  <a:pt x="9208" y="8816"/>
                  <a:pt x="9208" y="8837"/>
                  <a:pt x="9208" y="88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Ink 8"/>
          <p:cNvSpPr/>
          <p:nvPr/>
        </p:nvSpPr>
        <p:spPr>
          <a:xfrm>
            <a:off x="1177920" y="3886200"/>
            <a:ext cx="2033640" cy="995400"/>
          </a:xfrm>
          <a:custGeom>
            <a:avLst/>
            <a:gdLst/>
            <a:ahLst/>
            <a:rect l="l" t="t" r="r" b="b"/>
            <a:pathLst>
              <a:path w="5653" h="2763">
                <a:moveTo>
                  <a:pt x="3683" y="10954"/>
                </a:moveTo>
                <a:cubicBezTo>
                  <a:pt x="3674" y="11021"/>
                  <a:pt x="3655" y="11075"/>
                  <a:pt x="3651" y="11144"/>
                </a:cubicBezTo>
                <a:cubicBezTo>
                  <a:pt x="3645" y="11255"/>
                  <a:pt x="3601" y="11354"/>
                  <a:pt x="3588" y="11462"/>
                </a:cubicBezTo>
                <a:cubicBezTo>
                  <a:pt x="3572" y="11601"/>
                  <a:pt x="3556" y="11733"/>
                  <a:pt x="3556" y="11874"/>
                </a:cubicBezTo>
                <a:cubicBezTo>
                  <a:pt x="3556" y="11967"/>
                  <a:pt x="3550" y="12027"/>
                  <a:pt x="3620" y="12097"/>
                </a:cubicBezTo>
                <a:cubicBezTo>
                  <a:pt x="3680" y="12156"/>
                  <a:pt x="3716" y="12118"/>
                  <a:pt x="3778" y="12097"/>
                </a:cubicBezTo>
                <a:cubicBezTo>
                  <a:pt x="3881" y="12063"/>
                  <a:pt x="3916" y="11929"/>
                  <a:pt x="3969" y="11843"/>
                </a:cubicBezTo>
                <a:cubicBezTo>
                  <a:pt x="4028" y="11748"/>
                  <a:pt x="4104" y="11636"/>
                  <a:pt x="4128" y="11525"/>
                </a:cubicBezTo>
                <a:cubicBezTo>
                  <a:pt x="4141" y="11465"/>
                  <a:pt x="4145" y="11425"/>
                  <a:pt x="4159" y="11366"/>
                </a:cubicBezTo>
                <a:cubicBezTo>
                  <a:pt x="4159" y="11377"/>
                  <a:pt x="4159" y="11387"/>
                  <a:pt x="4159" y="11398"/>
                </a:cubicBezTo>
                <a:cubicBezTo>
                  <a:pt x="4159" y="11491"/>
                  <a:pt x="4138" y="11562"/>
                  <a:pt x="4128" y="11652"/>
                </a:cubicBezTo>
                <a:cubicBezTo>
                  <a:pt x="4112" y="11797"/>
                  <a:pt x="4108" y="11953"/>
                  <a:pt x="4096" y="12097"/>
                </a:cubicBezTo>
                <a:cubicBezTo>
                  <a:pt x="4081" y="12278"/>
                  <a:pt x="4071" y="12457"/>
                  <a:pt x="4032" y="12636"/>
                </a:cubicBezTo>
                <a:cubicBezTo>
                  <a:pt x="3998" y="12794"/>
                  <a:pt x="3971" y="12902"/>
                  <a:pt x="3905" y="13049"/>
                </a:cubicBezTo>
                <a:cubicBezTo>
                  <a:pt x="3863" y="13143"/>
                  <a:pt x="3811" y="13185"/>
                  <a:pt x="3715" y="13208"/>
                </a:cubicBezTo>
                <a:cubicBezTo>
                  <a:pt x="3638" y="13226"/>
                  <a:pt x="3528" y="13214"/>
                  <a:pt x="3461" y="13176"/>
                </a:cubicBezTo>
                <a:cubicBezTo>
                  <a:pt x="3407" y="13146"/>
                  <a:pt x="3342" y="13100"/>
                  <a:pt x="3302" y="13049"/>
                </a:cubicBezTo>
                <a:cubicBezTo>
                  <a:pt x="3244" y="12973"/>
                  <a:pt x="3272" y="12905"/>
                  <a:pt x="3302" y="12827"/>
                </a:cubicBezTo>
              </a:path>
              <a:path w="5653" h="2763">
                <a:moveTo>
                  <a:pt x="4540" y="11525"/>
                </a:moveTo>
                <a:cubicBezTo>
                  <a:pt x="4685" y="11525"/>
                  <a:pt x="4817" y="11525"/>
                  <a:pt x="4953" y="11557"/>
                </a:cubicBezTo>
                <a:cubicBezTo>
                  <a:pt x="4964" y="11557"/>
                  <a:pt x="4974" y="11557"/>
                  <a:pt x="4985" y="11557"/>
                </a:cubicBezTo>
              </a:path>
              <a:path w="5653" h="2763">
                <a:moveTo>
                  <a:pt x="4540" y="11970"/>
                </a:moveTo>
                <a:cubicBezTo>
                  <a:pt x="4596" y="12012"/>
                  <a:pt x="4625" y="12002"/>
                  <a:pt x="4699" y="12002"/>
                </a:cubicBezTo>
                <a:cubicBezTo>
                  <a:pt x="4773" y="12002"/>
                  <a:pt x="4811" y="12033"/>
                  <a:pt x="4890" y="12033"/>
                </a:cubicBezTo>
              </a:path>
              <a:path w="5653" h="2763">
                <a:moveTo>
                  <a:pt x="5302" y="10922"/>
                </a:moveTo>
                <a:cubicBezTo>
                  <a:pt x="5314" y="10876"/>
                  <a:pt x="5323" y="10832"/>
                  <a:pt x="5366" y="10827"/>
                </a:cubicBezTo>
                <a:cubicBezTo>
                  <a:pt x="5444" y="10817"/>
                  <a:pt x="5445" y="10803"/>
                  <a:pt x="5524" y="10827"/>
                </a:cubicBezTo>
                <a:cubicBezTo>
                  <a:pt x="5552" y="10835"/>
                  <a:pt x="5641" y="10854"/>
                  <a:pt x="5652" y="10890"/>
                </a:cubicBezTo>
                <a:cubicBezTo>
                  <a:pt x="5666" y="10934"/>
                  <a:pt x="5614" y="11043"/>
                  <a:pt x="5588" y="11081"/>
                </a:cubicBezTo>
                <a:cubicBezTo>
                  <a:pt x="5534" y="11160"/>
                  <a:pt x="5446" y="11230"/>
                  <a:pt x="5398" y="11303"/>
                </a:cubicBezTo>
                <a:cubicBezTo>
                  <a:pt x="5366" y="11335"/>
                  <a:pt x="5356" y="11345"/>
                  <a:pt x="5334" y="11366"/>
                </a:cubicBezTo>
                <a:cubicBezTo>
                  <a:pt x="5405" y="11366"/>
                  <a:pt x="5378" y="11341"/>
                  <a:pt x="5429" y="11335"/>
                </a:cubicBezTo>
                <a:cubicBezTo>
                  <a:pt x="5536" y="11322"/>
                  <a:pt x="5687" y="11336"/>
                  <a:pt x="5747" y="11366"/>
                </a:cubicBezTo>
                <a:cubicBezTo>
                  <a:pt x="5774" y="11380"/>
                  <a:pt x="5783" y="11344"/>
                  <a:pt x="5810" y="11335"/>
                </a:cubicBezTo>
              </a:path>
              <a:path w="5653" h="2763">
                <a:moveTo>
                  <a:pt x="5207" y="11589"/>
                </a:moveTo>
                <a:cubicBezTo>
                  <a:pt x="5122" y="11589"/>
                  <a:pt x="5255" y="11589"/>
                  <a:pt x="5270" y="11589"/>
                </a:cubicBezTo>
                <a:cubicBezTo>
                  <a:pt x="5355" y="11589"/>
                  <a:pt x="5383" y="11571"/>
                  <a:pt x="5461" y="11557"/>
                </a:cubicBezTo>
                <a:cubicBezTo>
                  <a:pt x="5554" y="11540"/>
                  <a:pt x="5626" y="11584"/>
                  <a:pt x="5715" y="11589"/>
                </a:cubicBezTo>
                <a:cubicBezTo>
                  <a:pt x="5788" y="11593"/>
                  <a:pt x="5863" y="11589"/>
                  <a:pt x="5937" y="11589"/>
                </a:cubicBezTo>
              </a:path>
              <a:path w="5653" h="2763">
                <a:moveTo>
                  <a:pt x="5461" y="11906"/>
                </a:moveTo>
                <a:cubicBezTo>
                  <a:pt x="5461" y="11852"/>
                  <a:pt x="5468" y="11830"/>
                  <a:pt x="5524" y="11811"/>
                </a:cubicBezTo>
                <a:cubicBezTo>
                  <a:pt x="5590" y="11789"/>
                  <a:pt x="5636" y="11833"/>
                  <a:pt x="5683" y="11843"/>
                </a:cubicBezTo>
                <a:cubicBezTo>
                  <a:pt x="5748" y="11857"/>
                  <a:pt x="5769" y="11857"/>
                  <a:pt x="5778" y="11938"/>
                </a:cubicBezTo>
                <a:cubicBezTo>
                  <a:pt x="5784" y="11992"/>
                  <a:pt x="5768" y="12016"/>
                  <a:pt x="5715" y="12033"/>
                </a:cubicBezTo>
                <a:cubicBezTo>
                  <a:pt x="5671" y="12047"/>
                  <a:pt x="5555" y="12032"/>
                  <a:pt x="5588" y="12065"/>
                </a:cubicBezTo>
                <a:cubicBezTo>
                  <a:pt x="5605" y="12082"/>
                  <a:pt x="5687" y="12112"/>
                  <a:pt x="5715" y="12128"/>
                </a:cubicBezTo>
                <a:cubicBezTo>
                  <a:pt x="5782" y="12167"/>
                  <a:pt x="5848" y="12240"/>
                  <a:pt x="5874" y="12319"/>
                </a:cubicBezTo>
                <a:cubicBezTo>
                  <a:pt x="5889" y="12365"/>
                  <a:pt x="5929" y="12456"/>
                  <a:pt x="5906" y="12510"/>
                </a:cubicBezTo>
                <a:cubicBezTo>
                  <a:pt x="5882" y="12567"/>
                  <a:pt x="5853" y="12577"/>
                  <a:pt x="5810" y="12605"/>
                </a:cubicBezTo>
                <a:cubicBezTo>
                  <a:pt x="5744" y="12648"/>
                  <a:pt x="5722" y="12642"/>
                  <a:pt x="5652" y="12605"/>
                </a:cubicBezTo>
                <a:cubicBezTo>
                  <a:pt x="5580" y="12567"/>
                  <a:pt x="5551" y="12568"/>
                  <a:pt x="5493" y="12510"/>
                </a:cubicBezTo>
                <a:cubicBezTo>
                  <a:pt x="5443" y="12460"/>
                  <a:pt x="5482" y="12457"/>
                  <a:pt x="5524" y="12414"/>
                </a:cubicBezTo>
              </a:path>
              <a:path w="5653" h="2763">
                <a:moveTo>
                  <a:pt x="6191" y="11494"/>
                </a:moveTo>
                <a:cubicBezTo>
                  <a:pt x="6229" y="11543"/>
                  <a:pt x="6254" y="11591"/>
                  <a:pt x="6286" y="11652"/>
                </a:cubicBezTo>
                <a:cubicBezTo>
                  <a:pt x="6341" y="11757"/>
                  <a:pt x="6386" y="11869"/>
                  <a:pt x="6445" y="11970"/>
                </a:cubicBezTo>
                <a:cubicBezTo>
                  <a:pt x="6511" y="12082"/>
                  <a:pt x="6541" y="12208"/>
                  <a:pt x="6604" y="12319"/>
                </a:cubicBezTo>
                <a:cubicBezTo>
                  <a:pt x="6627" y="12360"/>
                  <a:pt x="6668" y="12475"/>
                  <a:pt x="6668" y="12414"/>
                </a:cubicBezTo>
              </a:path>
              <a:path w="5653" h="2763">
                <a:moveTo>
                  <a:pt x="6731" y="11620"/>
                </a:moveTo>
                <a:cubicBezTo>
                  <a:pt x="6689" y="11676"/>
                  <a:pt x="6683" y="11752"/>
                  <a:pt x="6636" y="11811"/>
                </a:cubicBezTo>
                <a:cubicBezTo>
                  <a:pt x="6556" y="11913"/>
                  <a:pt x="6490" y="12017"/>
                  <a:pt x="6414" y="12128"/>
                </a:cubicBezTo>
                <a:cubicBezTo>
                  <a:pt x="6341" y="12234"/>
                  <a:pt x="6262" y="12341"/>
                  <a:pt x="6191" y="12446"/>
                </a:cubicBezTo>
                <a:cubicBezTo>
                  <a:pt x="6160" y="12510"/>
                  <a:pt x="6150" y="12531"/>
                  <a:pt x="6128" y="12573"/>
                </a:cubicBezTo>
              </a:path>
              <a:path w="5653" h="2763">
                <a:moveTo>
                  <a:pt x="7017" y="12097"/>
                </a:moveTo>
                <a:cubicBezTo>
                  <a:pt x="7122" y="12097"/>
                  <a:pt x="7213" y="12111"/>
                  <a:pt x="7302" y="12128"/>
                </a:cubicBezTo>
                <a:cubicBezTo>
                  <a:pt x="7389" y="12145"/>
                  <a:pt x="7668" y="12128"/>
                  <a:pt x="7652" y="12128"/>
                </a:cubicBezTo>
              </a:path>
              <a:path w="5653" h="2763">
                <a:moveTo>
                  <a:pt x="8192" y="11303"/>
                </a:moveTo>
                <a:cubicBezTo>
                  <a:pt x="8165" y="11383"/>
                  <a:pt x="8162" y="11309"/>
                  <a:pt x="8192" y="11430"/>
                </a:cubicBezTo>
                <a:cubicBezTo>
                  <a:pt x="8216" y="11526"/>
                  <a:pt x="8173" y="11626"/>
                  <a:pt x="8160" y="11716"/>
                </a:cubicBezTo>
                <a:cubicBezTo>
                  <a:pt x="8145" y="11817"/>
                  <a:pt x="8160" y="11931"/>
                  <a:pt x="8160" y="12033"/>
                </a:cubicBezTo>
              </a:path>
              <a:path w="5653" h="2763">
                <a:moveTo>
                  <a:pt x="8477" y="11366"/>
                </a:moveTo>
                <a:cubicBezTo>
                  <a:pt x="8464" y="11421"/>
                  <a:pt x="8425" y="11465"/>
                  <a:pt x="8414" y="11525"/>
                </a:cubicBezTo>
                <a:cubicBezTo>
                  <a:pt x="8395" y="11633"/>
                  <a:pt x="8403" y="11776"/>
                  <a:pt x="8446" y="11874"/>
                </a:cubicBezTo>
                <a:cubicBezTo>
                  <a:pt x="8478" y="11946"/>
                  <a:pt x="8526" y="12007"/>
                  <a:pt x="8604" y="12033"/>
                </a:cubicBezTo>
                <a:cubicBezTo>
                  <a:pt x="8649" y="12048"/>
                  <a:pt x="8739" y="12002"/>
                  <a:pt x="8763" y="11970"/>
                </a:cubicBezTo>
                <a:cubicBezTo>
                  <a:pt x="8784" y="11942"/>
                  <a:pt x="8815" y="11852"/>
                  <a:pt x="8795" y="11811"/>
                </a:cubicBezTo>
                <a:cubicBezTo>
                  <a:pt x="8771" y="11762"/>
                  <a:pt x="8712" y="11779"/>
                  <a:pt x="8668" y="11779"/>
                </a:cubicBezTo>
                <a:cubicBezTo>
                  <a:pt x="8618" y="11779"/>
                  <a:pt x="8525" y="11859"/>
                  <a:pt x="8509" y="11906"/>
                </a:cubicBezTo>
                <a:cubicBezTo>
                  <a:pt x="8494" y="11950"/>
                  <a:pt x="8488" y="11990"/>
                  <a:pt x="8477" y="12033"/>
                </a:cubicBezTo>
              </a:path>
              <a:path w="5653" h="2763">
                <a:moveTo>
                  <a:pt x="7969" y="12319"/>
                </a:moveTo>
                <a:cubicBezTo>
                  <a:pt x="8029" y="12319"/>
                  <a:pt x="8049" y="12297"/>
                  <a:pt x="8096" y="12287"/>
                </a:cubicBezTo>
                <a:cubicBezTo>
                  <a:pt x="8161" y="12273"/>
                  <a:pt x="8241" y="12319"/>
                  <a:pt x="8318" y="12319"/>
                </a:cubicBezTo>
                <a:cubicBezTo>
                  <a:pt x="8498" y="12319"/>
                  <a:pt x="8700" y="12340"/>
                  <a:pt x="8858" y="12287"/>
                </a:cubicBezTo>
                <a:cubicBezTo>
                  <a:pt x="8890" y="12287"/>
                  <a:pt x="8901" y="12287"/>
                  <a:pt x="8922" y="12287"/>
                </a:cubicBezTo>
              </a:path>
              <a:path w="5653" h="2763">
                <a:moveTo>
                  <a:pt x="8414" y="12732"/>
                </a:moveTo>
                <a:cubicBezTo>
                  <a:pt x="8382" y="12732"/>
                  <a:pt x="8371" y="12732"/>
                  <a:pt x="8382" y="12700"/>
                </a:cubicBezTo>
                <a:cubicBezTo>
                  <a:pt x="8441" y="12700"/>
                  <a:pt x="8457" y="12674"/>
                  <a:pt x="8509" y="12668"/>
                </a:cubicBezTo>
                <a:cubicBezTo>
                  <a:pt x="8576" y="12661"/>
                  <a:pt x="8652" y="12656"/>
                  <a:pt x="8700" y="12700"/>
                </a:cubicBezTo>
                <a:cubicBezTo>
                  <a:pt x="8752" y="12747"/>
                  <a:pt x="8763" y="12720"/>
                  <a:pt x="8763" y="12795"/>
                </a:cubicBezTo>
                <a:cubicBezTo>
                  <a:pt x="8763" y="12854"/>
                  <a:pt x="8694" y="12903"/>
                  <a:pt x="8668" y="12922"/>
                </a:cubicBezTo>
                <a:cubicBezTo>
                  <a:pt x="8620" y="12958"/>
                  <a:pt x="8585" y="12984"/>
                  <a:pt x="8541" y="13018"/>
                </a:cubicBezTo>
                <a:cubicBezTo>
                  <a:pt x="8605" y="13018"/>
                  <a:pt x="8652" y="13006"/>
                  <a:pt x="8700" y="13049"/>
                </a:cubicBezTo>
                <a:cubicBezTo>
                  <a:pt x="8732" y="13077"/>
                  <a:pt x="8760" y="13117"/>
                  <a:pt x="8763" y="13144"/>
                </a:cubicBezTo>
                <a:cubicBezTo>
                  <a:pt x="8772" y="13213"/>
                  <a:pt x="8747" y="13239"/>
                  <a:pt x="8731" y="13303"/>
                </a:cubicBezTo>
                <a:cubicBezTo>
                  <a:pt x="8717" y="13358"/>
                  <a:pt x="8705" y="13416"/>
                  <a:pt x="8668" y="13462"/>
                </a:cubicBezTo>
                <a:cubicBezTo>
                  <a:pt x="8633" y="13505"/>
                  <a:pt x="8629" y="13538"/>
                  <a:pt x="8572" y="13557"/>
                </a:cubicBezTo>
                <a:cubicBezTo>
                  <a:pt x="8530" y="13571"/>
                  <a:pt x="8444" y="13544"/>
                  <a:pt x="8414" y="13526"/>
                </a:cubicBezTo>
                <a:cubicBezTo>
                  <a:pt x="8395" y="13515"/>
                  <a:pt x="8292" y="13446"/>
                  <a:pt x="8287" y="13430"/>
                </a:cubicBezTo>
                <a:cubicBezTo>
                  <a:pt x="8287" y="13378"/>
                  <a:pt x="8276" y="13357"/>
                  <a:pt x="8318" y="13367"/>
                </a:cubicBezTo>
                <a:cubicBezTo>
                  <a:pt x="8364" y="13390"/>
                  <a:pt x="8421" y="13425"/>
                  <a:pt x="8477" y="13462"/>
                </a:cubicBezTo>
                <a:cubicBezTo>
                  <a:pt x="8526" y="13495"/>
                  <a:pt x="8557" y="13490"/>
                  <a:pt x="8604" y="135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Ink 9"/>
          <p:cNvSpPr/>
          <p:nvPr/>
        </p:nvSpPr>
        <p:spPr>
          <a:xfrm>
            <a:off x="1235160" y="3224160"/>
            <a:ext cx="2251080" cy="457200"/>
          </a:xfrm>
          <a:custGeom>
            <a:avLst/>
            <a:gdLst/>
            <a:ahLst/>
            <a:rect l="l" t="t" r="r" b="b"/>
            <a:pathLst>
              <a:path w="6256" h="1271">
                <a:moveTo>
                  <a:pt x="3461" y="8954"/>
                </a:moveTo>
                <a:cubicBezTo>
                  <a:pt x="3404" y="8954"/>
                  <a:pt x="3469" y="8983"/>
                  <a:pt x="3492" y="8985"/>
                </a:cubicBezTo>
                <a:cubicBezTo>
                  <a:pt x="3593" y="8993"/>
                  <a:pt x="3671" y="9017"/>
                  <a:pt x="3778" y="9017"/>
                </a:cubicBezTo>
                <a:cubicBezTo>
                  <a:pt x="4212" y="9017"/>
                  <a:pt x="4646" y="9017"/>
                  <a:pt x="5080" y="9017"/>
                </a:cubicBezTo>
              </a:path>
              <a:path w="6256" h="1271">
                <a:moveTo>
                  <a:pt x="3556" y="9779"/>
                </a:moveTo>
                <a:cubicBezTo>
                  <a:pt x="3606" y="9767"/>
                  <a:pt x="3626" y="9747"/>
                  <a:pt x="3683" y="9747"/>
                </a:cubicBezTo>
                <a:cubicBezTo>
                  <a:pt x="3750" y="9747"/>
                  <a:pt x="3774" y="9722"/>
                  <a:pt x="3842" y="9716"/>
                </a:cubicBezTo>
                <a:cubicBezTo>
                  <a:pt x="3853" y="9716"/>
                  <a:pt x="3863" y="9716"/>
                  <a:pt x="3874" y="9716"/>
                </a:cubicBezTo>
              </a:path>
              <a:path w="6256" h="1271">
                <a:moveTo>
                  <a:pt x="4223" y="9620"/>
                </a:moveTo>
                <a:cubicBezTo>
                  <a:pt x="4226" y="9609"/>
                  <a:pt x="4276" y="9532"/>
                  <a:pt x="4286" y="9525"/>
                </a:cubicBezTo>
                <a:cubicBezTo>
                  <a:pt x="4309" y="9509"/>
                  <a:pt x="4384" y="9471"/>
                  <a:pt x="4413" y="9462"/>
                </a:cubicBezTo>
                <a:cubicBezTo>
                  <a:pt x="4470" y="9444"/>
                  <a:pt x="4513" y="9473"/>
                  <a:pt x="4540" y="9493"/>
                </a:cubicBezTo>
                <a:cubicBezTo>
                  <a:pt x="4578" y="9521"/>
                  <a:pt x="4594" y="9609"/>
                  <a:pt x="4572" y="9652"/>
                </a:cubicBezTo>
                <a:cubicBezTo>
                  <a:pt x="4541" y="9714"/>
                  <a:pt x="4458" y="9749"/>
                  <a:pt x="4413" y="9779"/>
                </a:cubicBezTo>
                <a:cubicBezTo>
                  <a:pt x="4385" y="9808"/>
                  <a:pt x="4379" y="9819"/>
                  <a:pt x="4350" y="9811"/>
                </a:cubicBezTo>
                <a:cubicBezTo>
                  <a:pt x="4424" y="9755"/>
                  <a:pt x="4420" y="9764"/>
                  <a:pt x="4508" y="9779"/>
                </a:cubicBezTo>
                <a:cubicBezTo>
                  <a:pt x="4566" y="9789"/>
                  <a:pt x="4598" y="9782"/>
                  <a:pt x="4636" y="9842"/>
                </a:cubicBezTo>
                <a:cubicBezTo>
                  <a:pt x="4685" y="9919"/>
                  <a:pt x="4699" y="9943"/>
                  <a:pt x="4699" y="10033"/>
                </a:cubicBezTo>
                <a:cubicBezTo>
                  <a:pt x="4699" y="10076"/>
                  <a:pt x="4664" y="10128"/>
                  <a:pt x="4636" y="10160"/>
                </a:cubicBezTo>
                <a:cubicBezTo>
                  <a:pt x="4605" y="10195"/>
                  <a:pt x="4521" y="10221"/>
                  <a:pt x="4477" y="10224"/>
                </a:cubicBezTo>
                <a:cubicBezTo>
                  <a:pt x="4435" y="10227"/>
                  <a:pt x="4340" y="10204"/>
                  <a:pt x="4318" y="10160"/>
                </a:cubicBezTo>
                <a:cubicBezTo>
                  <a:pt x="4318" y="10124"/>
                  <a:pt x="4321" y="10110"/>
                  <a:pt x="4350" y="10096"/>
                </a:cubicBezTo>
              </a:path>
              <a:path w="6256" h="1271">
                <a:moveTo>
                  <a:pt x="5874" y="9080"/>
                </a:moveTo>
                <a:cubicBezTo>
                  <a:pt x="6414" y="9080"/>
                  <a:pt x="6953" y="9080"/>
                  <a:pt x="7493" y="9080"/>
                </a:cubicBezTo>
              </a:path>
              <a:path w="6256" h="1271">
                <a:moveTo>
                  <a:pt x="6318" y="9684"/>
                </a:moveTo>
                <a:cubicBezTo>
                  <a:pt x="6368" y="9672"/>
                  <a:pt x="6388" y="9652"/>
                  <a:pt x="6445" y="9652"/>
                </a:cubicBezTo>
                <a:cubicBezTo>
                  <a:pt x="6509" y="9652"/>
                  <a:pt x="6572" y="9652"/>
                  <a:pt x="6636" y="9652"/>
                </a:cubicBezTo>
              </a:path>
              <a:path w="6256" h="1271">
                <a:moveTo>
                  <a:pt x="6858" y="9525"/>
                </a:moveTo>
                <a:cubicBezTo>
                  <a:pt x="6871" y="9475"/>
                  <a:pt x="6900" y="9439"/>
                  <a:pt x="6922" y="9398"/>
                </a:cubicBezTo>
                <a:cubicBezTo>
                  <a:pt x="6951" y="9343"/>
                  <a:pt x="7028" y="9366"/>
                  <a:pt x="7080" y="9366"/>
                </a:cubicBezTo>
                <a:cubicBezTo>
                  <a:pt x="7163" y="9366"/>
                  <a:pt x="7171" y="9375"/>
                  <a:pt x="7176" y="9462"/>
                </a:cubicBezTo>
                <a:cubicBezTo>
                  <a:pt x="7179" y="9521"/>
                  <a:pt x="7173" y="9577"/>
                  <a:pt x="7144" y="9620"/>
                </a:cubicBezTo>
                <a:cubicBezTo>
                  <a:pt x="7110" y="9671"/>
                  <a:pt x="7057" y="9690"/>
                  <a:pt x="7017" y="9716"/>
                </a:cubicBezTo>
                <a:cubicBezTo>
                  <a:pt x="6988" y="9744"/>
                  <a:pt x="6982" y="9754"/>
                  <a:pt x="6953" y="9747"/>
                </a:cubicBezTo>
                <a:cubicBezTo>
                  <a:pt x="6997" y="9733"/>
                  <a:pt x="6993" y="9703"/>
                  <a:pt x="7048" y="9684"/>
                </a:cubicBezTo>
                <a:cubicBezTo>
                  <a:pt x="7122" y="9659"/>
                  <a:pt x="7160" y="9700"/>
                  <a:pt x="7207" y="9747"/>
                </a:cubicBezTo>
                <a:cubicBezTo>
                  <a:pt x="7240" y="9780"/>
                  <a:pt x="7293" y="9832"/>
                  <a:pt x="7302" y="9874"/>
                </a:cubicBezTo>
                <a:cubicBezTo>
                  <a:pt x="7324" y="9977"/>
                  <a:pt x="7272" y="9959"/>
                  <a:pt x="7239" y="10033"/>
                </a:cubicBezTo>
                <a:cubicBezTo>
                  <a:pt x="7215" y="10088"/>
                  <a:pt x="7174" y="10115"/>
                  <a:pt x="7112" y="10128"/>
                </a:cubicBezTo>
                <a:cubicBezTo>
                  <a:pt x="7040" y="10142"/>
                  <a:pt x="6977" y="10125"/>
                  <a:pt x="6922" y="10096"/>
                </a:cubicBezTo>
                <a:cubicBezTo>
                  <a:pt x="6880" y="10074"/>
                  <a:pt x="6798" y="10007"/>
                  <a:pt x="6826" y="9938"/>
                </a:cubicBezTo>
                <a:cubicBezTo>
                  <a:pt x="6837" y="9927"/>
                  <a:pt x="6847" y="9917"/>
                  <a:pt x="6858" y="9906"/>
                </a:cubicBezTo>
              </a:path>
              <a:path w="6256" h="1271">
                <a:moveTo>
                  <a:pt x="8287" y="9049"/>
                </a:moveTo>
                <a:cubicBezTo>
                  <a:pt x="8358" y="9091"/>
                  <a:pt x="8420" y="9080"/>
                  <a:pt x="8509" y="9080"/>
                </a:cubicBezTo>
                <a:cubicBezTo>
                  <a:pt x="8865" y="9080"/>
                  <a:pt x="9345" y="9002"/>
                  <a:pt x="9652" y="9144"/>
                </a:cubicBezTo>
                <a:cubicBezTo>
                  <a:pt x="9663" y="9144"/>
                  <a:pt x="9673" y="9144"/>
                  <a:pt x="9684" y="9144"/>
                </a:cubicBezTo>
              </a:path>
              <a:path w="6256" h="1271">
                <a:moveTo>
                  <a:pt x="8668" y="9525"/>
                </a:moveTo>
                <a:cubicBezTo>
                  <a:pt x="8657" y="9525"/>
                  <a:pt x="8647" y="9525"/>
                  <a:pt x="8636" y="9525"/>
                </a:cubicBezTo>
                <a:cubicBezTo>
                  <a:pt x="8693" y="9514"/>
                  <a:pt x="8735" y="9493"/>
                  <a:pt x="8795" y="9493"/>
                </a:cubicBezTo>
                <a:cubicBezTo>
                  <a:pt x="8849" y="9493"/>
                  <a:pt x="8899" y="9469"/>
                  <a:pt x="8954" y="9462"/>
                </a:cubicBezTo>
              </a:path>
              <a:path w="6256" h="1271">
                <a:moveTo>
                  <a:pt x="9239" y="9366"/>
                </a:moveTo>
                <a:cubicBezTo>
                  <a:pt x="9304" y="9366"/>
                  <a:pt x="9314" y="9352"/>
                  <a:pt x="9366" y="9334"/>
                </a:cubicBezTo>
                <a:cubicBezTo>
                  <a:pt x="9407" y="9320"/>
                  <a:pt x="9502" y="9320"/>
                  <a:pt x="9525" y="9366"/>
                </a:cubicBezTo>
                <a:cubicBezTo>
                  <a:pt x="9576" y="9469"/>
                  <a:pt x="9555" y="9505"/>
                  <a:pt x="9493" y="9588"/>
                </a:cubicBezTo>
                <a:cubicBezTo>
                  <a:pt x="9475" y="9613"/>
                  <a:pt x="9402" y="9682"/>
                  <a:pt x="9398" y="9684"/>
                </a:cubicBezTo>
                <a:cubicBezTo>
                  <a:pt x="9332" y="9717"/>
                  <a:pt x="9333" y="9674"/>
                  <a:pt x="9398" y="9652"/>
                </a:cubicBezTo>
                <a:cubicBezTo>
                  <a:pt x="9446" y="9636"/>
                  <a:pt x="9519" y="9659"/>
                  <a:pt x="9557" y="9684"/>
                </a:cubicBezTo>
                <a:cubicBezTo>
                  <a:pt x="9608" y="9718"/>
                  <a:pt x="9626" y="9772"/>
                  <a:pt x="9652" y="9811"/>
                </a:cubicBezTo>
                <a:cubicBezTo>
                  <a:pt x="9694" y="9872"/>
                  <a:pt x="9684" y="9924"/>
                  <a:pt x="9684" y="10001"/>
                </a:cubicBezTo>
                <a:cubicBezTo>
                  <a:pt x="9684" y="10073"/>
                  <a:pt x="9666" y="10106"/>
                  <a:pt x="9620" y="10128"/>
                </a:cubicBezTo>
                <a:cubicBezTo>
                  <a:pt x="9517" y="10176"/>
                  <a:pt x="9532" y="10154"/>
                  <a:pt x="9430" y="10128"/>
                </a:cubicBezTo>
                <a:cubicBezTo>
                  <a:pt x="9358" y="10110"/>
                  <a:pt x="9324" y="10086"/>
                  <a:pt x="9271" y="10033"/>
                </a:cubicBezTo>
                <a:cubicBezTo>
                  <a:pt x="9242" y="10004"/>
                  <a:pt x="9236" y="9994"/>
                  <a:pt x="9208" y="100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Ink 10"/>
          <p:cNvSpPr/>
          <p:nvPr/>
        </p:nvSpPr>
        <p:spPr>
          <a:xfrm>
            <a:off x="5029200" y="2228760"/>
            <a:ext cx="743040" cy="731880"/>
          </a:xfrm>
          <a:custGeom>
            <a:avLst/>
            <a:gdLst/>
            <a:ahLst/>
            <a:rect l="l" t="t" r="r" b="b"/>
            <a:pathLst>
              <a:path w="2065" h="2033">
                <a:moveTo>
                  <a:pt x="13970" y="6922"/>
                </a:moveTo>
                <a:cubicBezTo>
                  <a:pt x="14041" y="6868"/>
                  <a:pt x="14028" y="6899"/>
                  <a:pt x="14097" y="6922"/>
                </a:cubicBezTo>
                <a:cubicBezTo>
                  <a:pt x="14189" y="6953"/>
                  <a:pt x="14349" y="6922"/>
                  <a:pt x="14446" y="6922"/>
                </a:cubicBezTo>
              </a:path>
              <a:path w="2065" h="2033">
                <a:moveTo>
                  <a:pt x="14922" y="6191"/>
                </a:moveTo>
                <a:cubicBezTo>
                  <a:pt x="14922" y="6295"/>
                  <a:pt x="14941" y="6382"/>
                  <a:pt x="14954" y="6477"/>
                </a:cubicBezTo>
                <a:cubicBezTo>
                  <a:pt x="14971" y="6609"/>
                  <a:pt x="14954" y="6756"/>
                  <a:pt x="14954" y="6890"/>
                </a:cubicBezTo>
              </a:path>
              <a:path w="2065" h="2033">
                <a:moveTo>
                  <a:pt x="14637" y="7144"/>
                </a:moveTo>
                <a:cubicBezTo>
                  <a:pt x="14649" y="7108"/>
                  <a:pt x="14719" y="7089"/>
                  <a:pt x="14764" y="7080"/>
                </a:cubicBezTo>
                <a:cubicBezTo>
                  <a:pt x="14853" y="7062"/>
                  <a:pt x="14963" y="7072"/>
                  <a:pt x="15050" y="7048"/>
                </a:cubicBezTo>
                <a:cubicBezTo>
                  <a:pt x="15131" y="7026"/>
                  <a:pt x="15185" y="7017"/>
                  <a:pt x="15272" y="7017"/>
                </a:cubicBezTo>
                <a:cubicBezTo>
                  <a:pt x="15304" y="7017"/>
                  <a:pt x="15314" y="7017"/>
                  <a:pt x="15304" y="7048"/>
                </a:cubicBezTo>
              </a:path>
              <a:path w="2065" h="2033">
                <a:moveTo>
                  <a:pt x="14796" y="7525"/>
                </a:moveTo>
                <a:cubicBezTo>
                  <a:pt x="14848" y="7472"/>
                  <a:pt x="14896" y="7442"/>
                  <a:pt x="14954" y="7398"/>
                </a:cubicBezTo>
                <a:cubicBezTo>
                  <a:pt x="15021" y="7347"/>
                  <a:pt x="15022" y="7334"/>
                  <a:pt x="15113" y="7334"/>
                </a:cubicBezTo>
                <a:cubicBezTo>
                  <a:pt x="15124" y="7334"/>
                  <a:pt x="15134" y="7334"/>
                  <a:pt x="15145" y="7334"/>
                </a:cubicBezTo>
                <a:cubicBezTo>
                  <a:pt x="15145" y="7422"/>
                  <a:pt x="15141" y="7475"/>
                  <a:pt x="15113" y="7556"/>
                </a:cubicBezTo>
                <a:cubicBezTo>
                  <a:pt x="15072" y="7674"/>
                  <a:pt x="15040" y="7793"/>
                  <a:pt x="14986" y="7906"/>
                </a:cubicBezTo>
                <a:cubicBezTo>
                  <a:pt x="14955" y="7971"/>
                  <a:pt x="14938" y="8034"/>
                  <a:pt x="14922" y="8096"/>
                </a:cubicBezTo>
                <a:cubicBezTo>
                  <a:pt x="14978" y="8082"/>
                  <a:pt x="15018" y="8048"/>
                  <a:pt x="15081" y="8033"/>
                </a:cubicBezTo>
                <a:cubicBezTo>
                  <a:pt x="15129" y="8021"/>
                  <a:pt x="15228" y="8019"/>
                  <a:pt x="15272" y="8001"/>
                </a:cubicBezTo>
                <a:cubicBezTo>
                  <a:pt x="15317" y="7982"/>
                  <a:pt x="15355" y="7963"/>
                  <a:pt x="15399" y="7938"/>
                </a:cubicBezTo>
              </a:path>
              <a:path w="2065" h="2033">
                <a:moveTo>
                  <a:pt x="15526" y="7080"/>
                </a:moveTo>
                <a:cubicBezTo>
                  <a:pt x="15565" y="7093"/>
                  <a:pt x="15598" y="7151"/>
                  <a:pt x="15621" y="7207"/>
                </a:cubicBezTo>
                <a:cubicBezTo>
                  <a:pt x="15672" y="7330"/>
                  <a:pt x="15709" y="7442"/>
                  <a:pt x="15780" y="7556"/>
                </a:cubicBezTo>
                <a:cubicBezTo>
                  <a:pt x="15847" y="7662"/>
                  <a:pt x="15914" y="7762"/>
                  <a:pt x="15970" y="7874"/>
                </a:cubicBezTo>
                <a:cubicBezTo>
                  <a:pt x="15997" y="7928"/>
                  <a:pt x="16034" y="8093"/>
                  <a:pt x="16034" y="8033"/>
                </a:cubicBezTo>
                <a:cubicBezTo>
                  <a:pt x="16034" y="8022"/>
                  <a:pt x="16034" y="8012"/>
                  <a:pt x="16034" y="8001"/>
                </a:cubicBezTo>
              </a:path>
              <a:path w="2065" h="2033">
                <a:moveTo>
                  <a:pt x="15938" y="7080"/>
                </a:moveTo>
                <a:cubicBezTo>
                  <a:pt x="15894" y="7156"/>
                  <a:pt x="15869" y="7272"/>
                  <a:pt x="15843" y="7366"/>
                </a:cubicBezTo>
                <a:cubicBezTo>
                  <a:pt x="15793" y="7544"/>
                  <a:pt x="15761" y="7727"/>
                  <a:pt x="15716" y="7906"/>
                </a:cubicBezTo>
                <a:cubicBezTo>
                  <a:pt x="15687" y="8019"/>
                  <a:pt x="15662" y="8109"/>
                  <a:pt x="15653" y="82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Ink 11"/>
          <p:cNvSpPr/>
          <p:nvPr/>
        </p:nvSpPr>
        <p:spPr>
          <a:xfrm>
            <a:off x="6675480" y="2136600"/>
            <a:ext cx="834840" cy="766800"/>
          </a:xfrm>
          <a:custGeom>
            <a:avLst/>
            <a:gdLst/>
            <a:ahLst/>
            <a:rect l="l" t="t" r="r" b="b"/>
            <a:pathLst>
              <a:path w="2319" h="2128">
                <a:moveTo>
                  <a:pt x="18542" y="6540"/>
                </a:moveTo>
                <a:cubicBezTo>
                  <a:pt x="18696" y="6540"/>
                  <a:pt x="18837" y="6530"/>
                  <a:pt x="18986" y="6509"/>
                </a:cubicBezTo>
                <a:cubicBezTo>
                  <a:pt x="19087" y="6495"/>
                  <a:pt x="19202" y="6509"/>
                  <a:pt x="19304" y="6509"/>
                </a:cubicBezTo>
              </a:path>
              <a:path w="2319" h="2128">
                <a:moveTo>
                  <a:pt x="19653" y="5937"/>
                </a:moveTo>
                <a:cubicBezTo>
                  <a:pt x="19653" y="6153"/>
                  <a:pt x="19651" y="6367"/>
                  <a:pt x="19685" y="6572"/>
                </a:cubicBezTo>
                <a:cubicBezTo>
                  <a:pt x="19693" y="6620"/>
                  <a:pt x="19685" y="6681"/>
                  <a:pt x="19685" y="6731"/>
                </a:cubicBezTo>
              </a:path>
              <a:path w="2319" h="2128">
                <a:moveTo>
                  <a:pt x="19431" y="6922"/>
                </a:moveTo>
                <a:cubicBezTo>
                  <a:pt x="19399" y="6922"/>
                  <a:pt x="19389" y="6922"/>
                  <a:pt x="19399" y="6953"/>
                </a:cubicBezTo>
                <a:cubicBezTo>
                  <a:pt x="19447" y="6953"/>
                  <a:pt x="19489" y="6995"/>
                  <a:pt x="19526" y="6985"/>
                </a:cubicBezTo>
                <a:cubicBezTo>
                  <a:pt x="19597" y="6965"/>
                  <a:pt x="19676" y="6934"/>
                  <a:pt x="19748" y="6922"/>
                </a:cubicBezTo>
                <a:cubicBezTo>
                  <a:pt x="19798" y="6913"/>
                  <a:pt x="19856" y="6922"/>
                  <a:pt x="19907" y="6922"/>
                </a:cubicBezTo>
              </a:path>
              <a:path w="2319" h="2128">
                <a:moveTo>
                  <a:pt x="19558" y="7398"/>
                </a:moveTo>
                <a:cubicBezTo>
                  <a:pt x="19619" y="7383"/>
                  <a:pt x="19659" y="7315"/>
                  <a:pt x="19717" y="7302"/>
                </a:cubicBezTo>
                <a:cubicBezTo>
                  <a:pt x="19782" y="7288"/>
                  <a:pt x="19839" y="7297"/>
                  <a:pt x="19844" y="7366"/>
                </a:cubicBezTo>
                <a:cubicBezTo>
                  <a:pt x="19851" y="7463"/>
                  <a:pt x="19779" y="7561"/>
                  <a:pt x="19748" y="7652"/>
                </a:cubicBezTo>
                <a:cubicBezTo>
                  <a:pt x="19712" y="7757"/>
                  <a:pt x="19685" y="7870"/>
                  <a:pt x="19653" y="7969"/>
                </a:cubicBezTo>
                <a:cubicBezTo>
                  <a:pt x="19628" y="8021"/>
                  <a:pt x="19617" y="8029"/>
                  <a:pt x="19622" y="8064"/>
                </a:cubicBezTo>
                <a:cubicBezTo>
                  <a:pt x="19678" y="8050"/>
                  <a:pt x="19705" y="8012"/>
                  <a:pt x="19748" y="7969"/>
                </a:cubicBezTo>
                <a:cubicBezTo>
                  <a:pt x="19795" y="7923"/>
                  <a:pt x="19842" y="7938"/>
                  <a:pt x="19907" y="7938"/>
                </a:cubicBezTo>
                <a:cubicBezTo>
                  <a:pt x="19947" y="7938"/>
                  <a:pt x="19964" y="7960"/>
                  <a:pt x="20002" y="7969"/>
                </a:cubicBezTo>
              </a:path>
              <a:path w="2319" h="2128">
                <a:moveTo>
                  <a:pt x="20256" y="6636"/>
                </a:moveTo>
                <a:cubicBezTo>
                  <a:pt x="20272" y="6700"/>
                  <a:pt x="20325" y="6758"/>
                  <a:pt x="20352" y="6826"/>
                </a:cubicBezTo>
                <a:cubicBezTo>
                  <a:pt x="20403" y="6955"/>
                  <a:pt x="20443" y="7087"/>
                  <a:pt x="20510" y="7207"/>
                </a:cubicBezTo>
                <a:cubicBezTo>
                  <a:pt x="20578" y="7329"/>
                  <a:pt x="20662" y="7443"/>
                  <a:pt x="20733" y="7556"/>
                </a:cubicBezTo>
                <a:cubicBezTo>
                  <a:pt x="20757" y="7595"/>
                  <a:pt x="20798" y="7727"/>
                  <a:pt x="20828" y="7747"/>
                </a:cubicBezTo>
                <a:cubicBezTo>
                  <a:pt x="20839" y="7747"/>
                  <a:pt x="20849" y="7747"/>
                  <a:pt x="20860" y="7747"/>
                </a:cubicBezTo>
              </a:path>
              <a:path w="2319" h="2128">
                <a:moveTo>
                  <a:pt x="20764" y="6636"/>
                </a:moveTo>
                <a:cubicBezTo>
                  <a:pt x="20745" y="6731"/>
                  <a:pt x="20696" y="6825"/>
                  <a:pt x="20669" y="6922"/>
                </a:cubicBezTo>
                <a:cubicBezTo>
                  <a:pt x="20607" y="7143"/>
                  <a:pt x="20486" y="7340"/>
                  <a:pt x="20415" y="7556"/>
                </a:cubicBezTo>
                <a:cubicBezTo>
                  <a:pt x="20380" y="7661"/>
                  <a:pt x="20355" y="7769"/>
                  <a:pt x="20320" y="78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Ink 12"/>
          <p:cNvSpPr/>
          <p:nvPr/>
        </p:nvSpPr>
        <p:spPr>
          <a:xfrm>
            <a:off x="5715000" y="3121200"/>
            <a:ext cx="743040" cy="1222200"/>
          </a:xfrm>
          <a:custGeom>
            <a:avLst/>
            <a:gdLst/>
            <a:ahLst/>
            <a:rect l="l" t="t" r="r" b="b"/>
            <a:pathLst>
              <a:path w="2065" h="3398">
                <a:moveTo>
                  <a:pt x="15875" y="8668"/>
                </a:moveTo>
                <a:cubicBezTo>
                  <a:pt x="15875" y="9082"/>
                  <a:pt x="15863" y="9500"/>
                  <a:pt x="15907" y="9906"/>
                </a:cubicBezTo>
                <a:cubicBezTo>
                  <a:pt x="15920" y="10024"/>
                  <a:pt x="15927" y="10143"/>
                  <a:pt x="15970" y="10255"/>
                </a:cubicBezTo>
                <a:cubicBezTo>
                  <a:pt x="15996" y="10322"/>
                  <a:pt x="16056" y="10394"/>
                  <a:pt x="16129" y="10414"/>
                </a:cubicBezTo>
                <a:cubicBezTo>
                  <a:pt x="16191" y="10431"/>
                  <a:pt x="16247" y="10391"/>
                  <a:pt x="16288" y="10350"/>
                </a:cubicBezTo>
                <a:cubicBezTo>
                  <a:pt x="16349" y="10290"/>
                  <a:pt x="16405" y="10112"/>
                  <a:pt x="16415" y="10033"/>
                </a:cubicBezTo>
                <a:cubicBezTo>
                  <a:pt x="16436" y="9870"/>
                  <a:pt x="16442" y="9689"/>
                  <a:pt x="16446" y="9525"/>
                </a:cubicBezTo>
                <a:cubicBezTo>
                  <a:pt x="16452" y="9282"/>
                  <a:pt x="16446" y="9038"/>
                  <a:pt x="16446" y="8795"/>
                </a:cubicBezTo>
                <a:cubicBezTo>
                  <a:pt x="16479" y="8835"/>
                  <a:pt x="16490" y="8877"/>
                  <a:pt x="16510" y="8954"/>
                </a:cubicBezTo>
                <a:cubicBezTo>
                  <a:pt x="16564" y="9161"/>
                  <a:pt x="16544" y="9377"/>
                  <a:pt x="16574" y="9588"/>
                </a:cubicBezTo>
                <a:cubicBezTo>
                  <a:pt x="16604" y="9796"/>
                  <a:pt x="16625" y="10014"/>
                  <a:pt x="16637" y="10224"/>
                </a:cubicBezTo>
                <a:cubicBezTo>
                  <a:pt x="16650" y="10446"/>
                  <a:pt x="16665" y="10669"/>
                  <a:pt x="16669" y="10890"/>
                </a:cubicBezTo>
                <a:cubicBezTo>
                  <a:pt x="16673" y="11094"/>
                  <a:pt x="16682" y="11295"/>
                  <a:pt x="16637" y="11494"/>
                </a:cubicBezTo>
                <a:cubicBezTo>
                  <a:pt x="16602" y="11651"/>
                  <a:pt x="16577" y="11760"/>
                  <a:pt x="16510" y="11906"/>
                </a:cubicBezTo>
                <a:cubicBezTo>
                  <a:pt x="16455" y="12027"/>
                  <a:pt x="16333" y="12062"/>
                  <a:pt x="16224" y="12033"/>
                </a:cubicBezTo>
                <a:cubicBezTo>
                  <a:pt x="16113" y="12003"/>
                  <a:pt x="16021" y="11911"/>
                  <a:pt x="15970" y="11811"/>
                </a:cubicBezTo>
                <a:cubicBezTo>
                  <a:pt x="15918" y="11707"/>
                  <a:pt x="15858" y="11515"/>
                  <a:pt x="15875" y="11398"/>
                </a:cubicBezTo>
                <a:cubicBezTo>
                  <a:pt x="15890" y="11300"/>
                  <a:pt x="15916" y="11133"/>
                  <a:pt x="15970" y="11049"/>
                </a:cubicBezTo>
                <a:cubicBezTo>
                  <a:pt x="16020" y="10971"/>
                  <a:pt x="16113" y="10903"/>
                  <a:pt x="16192" y="10858"/>
                </a:cubicBezTo>
                <a:cubicBezTo>
                  <a:pt x="16213" y="10848"/>
                  <a:pt x="16235" y="10837"/>
                  <a:pt x="16256" y="10827"/>
                </a:cubicBezTo>
              </a:path>
              <a:path w="2065" h="3398">
                <a:moveTo>
                  <a:pt x="17082" y="9620"/>
                </a:moveTo>
                <a:cubicBezTo>
                  <a:pt x="17137" y="9578"/>
                  <a:pt x="17166" y="9588"/>
                  <a:pt x="17240" y="9588"/>
                </a:cubicBezTo>
                <a:cubicBezTo>
                  <a:pt x="17344" y="9588"/>
                  <a:pt x="17430" y="9607"/>
                  <a:pt x="17526" y="9620"/>
                </a:cubicBezTo>
                <a:cubicBezTo>
                  <a:pt x="17641" y="9635"/>
                  <a:pt x="17734" y="9624"/>
                  <a:pt x="17844" y="9652"/>
                </a:cubicBezTo>
                <a:cubicBezTo>
                  <a:pt x="17880" y="9652"/>
                  <a:pt x="17887" y="9655"/>
                  <a:pt x="17844" y="9684"/>
                </a:cubicBezTo>
              </a:path>
              <a:path w="2065" h="3398">
                <a:moveTo>
                  <a:pt x="17431" y="9970"/>
                </a:moveTo>
                <a:cubicBezTo>
                  <a:pt x="17420" y="9980"/>
                  <a:pt x="17410" y="9991"/>
                  <a:pt x="17399" y="10001"/>
                </a:cubicBezTo>
                <a:cubicBezTo>
                  <a:pt x="17504" y="10001"/>
                  <a:pt x="17587" y="9994"/>
                  <a:pt x="17685" y="9970"/>
                </a:cubicBezTo>
                <a:cubicBezTo>
                  <a:pt x="17756" y="9952"/>
                  <a:pt x="17836" y="9955"/>
                  <a:pt x="17907" y="9938"/>
                </a:cubicBezTo>
                <a:cubicBezTo>
                  <a:pt x="17918" y="9938"/>
                  <a:pt x="17928" y="9938"/>
                  <a:pt x="17939" y="99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Ink 13"/>
          <p:cNvSpPr/>
          <p:nvPr/>
        </p:nvSpPr>
        <p:spPr>
          <a:xfrm>
            <a:off x="6721560" y="3143160"/>
            <a:ext cx="1279440" cy="743040"/>
          </a:xfrm>
          <a:custGeom>
            <a:avLst/>
            <a:gdLst/>
            <a:ahLst/>
            <a:rect l="l" t="t" r="r" b="b"/>
            <a:pathLst>
              <a:path w="3557" h="2065">
                <a:moveTo>
                  <a:pt x="18701" y="9462"/>
                </a:moveTo>
                <a:cubicBezTo>
                  <a:pt x="18690" y="9462"/>
                  <a:pt x="18680" y="9462"/>
                  <a:pt x="18669" y="9462"/>
                </a:cubicBezTo>
                <a:cubicBezTo>
                  <a:pt x="18724" y="9379"/>
                  <a:pt x="18725" y="9398"/>
                  <a:pt x="18828" y="9398"/>
                </a:cubicBezTo>
                <a:cubicBezTo>
                  <a:pt x="18896" y="9398"/>
                  <a:pt x="18930" y="9370"/>
                  <a:pt x="18986" y="9366"/>
                </a:cubicBezTo>
                <a:cubicBezTo>
                  <a:pt x="19007" y="9366"/>
                  <a:pt x="19029" y="9366"/>
                  <a:pt x="19050" y="9366"/>
                </a:cubicBezTo>
              </a:path>
              <a:path w="3557" h="2065">
                <a:moveTo>
                  <a:pt x="19431" y="8731"/>
                </a:moveTo>
                <a:cubicBezTo>
                  <a:pt x="19431" y="8854"/>
                  <a:pt x="19412" y="8959"/>
                  <a:pt x="19399" y="9080"/>
                </a:cubicBezTo>
                <a:cubicBezTo>
                  <a:pt x="19389" y="9172"/>
                  <a:pt x="19389" y="9276"/>
                  <a:pt x="19368" y="9366"/>
                </a:cubicBezTo>
                <a:cubicBezTo>
                  <a:pt x="19343" y="9440"/>
                  <a:pt x="19333" y="9448"/>
                  <a:pt x="19336" y="9493"/>
                </a:cubicBezTo>
              </a:path>
              <a:path w="3557" h="2065">
                <a:moveTo>
                  <a:pt x="19050" y="9716"/>
                </a:moveTo>
                <a:cubicBezTo>
                  <a:pt x="19119" y="9716"/>
                  <a:pt x="19138" y="9688"/>
                  <a:pt x="19209" y="9684"/>
                </a:cubicBezTo>
                <a:cubicBezTo>
                  <a:pt x="19324" y="9677"/>
                  <a:pt x="19442" y="9684"/>
                  <a:pt x="19558" y="9684"/>
                </a:cubicBezTo>
              </a:path>
              <a:path w="3557" h="2065">
                <a:moveTo>
                  <a:pt x="19050" y="10033"/>
                </a:moveTo>
                <a:cubicBezTo>
                  <a:pt x="19100" y="10021"/>
                  <a:pt x="19120" y="10001"/>
                  <a:pt x="19177" y="10001"/>
                </a:cubicBezTo>
                <a:cubicBezTo>
                  <a:pt x="19257" y="10001"/>
                  <a:pt x="19225" y="9976"/>
                  <a:pt x="19304" y="10001"/>
                </a:cubicBezTo>
                <a:cubicBezTo>
                  <a:pt x="19353" y="10017"/>
                  <a:pt x="19342" y="10029"/>
                  <a:pt x="19368" y="10065"/>
                </a:cubicBezTo>
                <a:cubicBezTo>
                  <a:pt x="19390" y="10095"/>
                  <a:pt x="19384" y="10198"/>
                  <a:pt x="19368" y="10255"/>
                </a:cubicBezTo>
                <a:cubicBezTo>
                  <a:pt x="19344" y="10341"/>
                  <a:pt x="19334" y="10461"/>
                  <a:pt x="19304" y="10541"/>
                </a:cubicBezTo>
                <a:cubicBezTo>
                  <a:pt x="19291" y="10576"/>
                  <a:pt x="19200" y="10748"/>
                  <a:pt x="19177" y="10763"/>
                </a:cubicBezTo>
                <a:cubicBezTo>
                  <a:pt x="19144" y="10784"/>
                  <a:pt x="19152" y="10782"/>
                  <a:pt x="19114" y="10795"/>
                </a:cubicBezTo>
                <a:cubicBezTo>
                  <a:pt x="19114" y="10720"/>
                  <a:pt x="19124" y="10747"/>
                  <a:pt x="19177" y="10700"/>
                </a:cubicBezTo>
                <a:cubicBezTo>
                  <a:pt x="19229" y="10653"/>
                  <a:pt x="19233" y="10636"/>
                  <a:pt x="19304" y="10636"/>
                </a:cubicBezTo>
                <a:cubicBezTo>
                  <a:pt x="19369" y="10636"/>
                  <a:pt x="19379" y="10650"/>
                  <a:pt x="19431" y="10668"/>
                </a:cubicBezTo>
                <a:cubicBezTo>
                  <a:pt x="19502" y="10692"/>
                  <a:pt x="19519" y="10763"/>
                  <a:pt x="19590" y="10700"/>
                </a:cubicBezTo>
                <a:cubicBezTo>
                  <a:pt x="19601" y="10689"/>
                  <a:pt x="19611" y="10679"/>
                  <a:pt x="19622" y="10668"/>
                </a:cubicBezTo>
              </a:path>
              <a:path w="3557" h="2065">
                <a:moveTo>
                  <a:pt x="19876" y="9462"/>
                </a:moveTo>
                <a:cubicBezTo>
                  <a:pt x="19913" y="9511"/>
                  <a:pt x="19940" y="9560"/>
                  <a:pt x="19971" y="9620"/>
                </a:cubicBezTo>
                <a:cubicBezTo>
                  <a:pt x="20024" y="9721"/>
                  <a:pt x="20045" y="9839"/>
                  <a:pt x="20098" y="9938"/>
                </a:cubicBezTo>
                <a:cubicBezTo>
                  <a:pt x="20163" y="10058"/>
                  <a:pt x="20240" y="10158"/>
                  <a:pt x="20288" y="10287"/>
                </a:cubicBezTo>
                <a:cubicBezTo>
                  <a:pt x="20323" y="10380"/>
                  <a:pt x="20357" y="10490"/>
                  <a:pt x="20415" y="10573"/>
                </a:cubicBezTo>
                <a:cubicBezTo>
                  <a:pt x="20447" y="10604"/>
                  <a:pt x="20458" y="10615"/>
                  <a:pt x="20479" y="10636"/>
                </a:cubicBezTo>
              </a:path>
              <a:path w="3557" h="2065">
                <a:moveTo>
                  <a:pt x="20384" y="9366"/>
                </a:moveTo>
                <a:cubicBezTo>
                  <a:pt x="20384" y="9494"/>
                  <a:pt x="20352" y="9592"/>
                  <a:pt x="20320" y="9716"/>
                </a:cubicBezTo>
                <a:cubicBezTo>
                  <a:pt x="20273" y="9899"/>
                  <a:pt x="20210" y="10073"/>
                  <a:pt x="20161" y="10255"/>
                </a:cubicBezTo>
                <a:cubicBezTo>
                  <a:pt x="20118" y="10414"/>
                  <a:pt x="20083" y="10574"/>
                  <a:pt x="20034" y="10732"/>
                </a:cubicBezTo>
              </a:path>
              <a:path w="3557" h="2065">
                <a:moveTo>
                  <a:pt x="21050" y="9493"/>
                </a:moveTo>
                <a:cubicBezTo>
                  <a:pt x="21050" y="9637"/>
                  <a:pt x="21066" y="9768"/>
                  <a:pt x="21082" y="9906"/>
                </a:cubicBezTo>
                <a:cubicBezTo>
                  <a:pt x="21095" y="10023"/>
                  <a:pt x="21108" y="10223"/>
                  <a:pt x="21050" y="10319"/>
                </a:cubicBezTo>
              </a:path>
              <a:path w="3557" h="2065">
                <a:moveTo>
                  <a:pt x="20892" y="9906"/>
                </a:moveTo>
                <a:cubicBezTo>
                  <a:pt x="20950" y="9906"/>
                  <a:pt x="20967" y="9934"/>
                  <a:pt x="21018" y="9938"/>
                </a:cubicBezTo>
                <a:cubicBezTo>
                  <a:pt x="21111" y="9945"/>
                  <a:pt x="21134" y="9920"/>
                  <a:pt x="21209" y="9874"/>
                </a:cubicBezTo>
                <a:cubicBezTo>
                  <a:pt x="21278" y="9839"/>
                  <a:pt x="21303" y="9824"/>
                  <a:pt x="21336" y="9779"/>
                </a:cubicBezTo>
              </a:path>
              <a:path w="3557" h="2065">
                <a:moveTo>
                  <a:pt x="21749" y="8985"/>
                </a:moveTo>
                <a:cubicBezTo>
                  <a:pt x="21769" y="9089"/>
                  <a:pt x="21780" y="9156"/>
                  <a:pt x="21780" y="9271"/>
                </a:cubicBezTo>
                <a:cubicBezTo>
                  <a:pt x="21780" y="9451"/>
                  <a:pt x="21749" y="9628"/>
                  <a:pt x="21749" y="9811"/>
                </a:cubicBezTo>
                <a:cubicBezTo>
                  <a:pt x="21749" y="10065"/>
                  <a:pt x="21749" y="10319"/>
                  <a:pt x="21749" y="10573"/>
                </a:cubicBezTo>
              </a:path>
              <a:path w="3557" h="2065">
                <a:moveTo>
                  <a:pt x="22162" y="8922"/>
                </a:moveTo>
                <a:cubicBezTo>
                  <a:pt x="22209" y="8986"/>
                  <a:pt x="22235" y="9057"/>
                  <a:pt x="22225" y="9144"/>
                </a:cubicBezTo>
                <a:cubicBezTo>
                  <a:pt x="22206" y="9318"/>
                  <a:pt x="22194" y="9514"/>
                  <a:pt x="22162" y="9684"/>
                </a:cubicBezTo>
                <a:cubicBezTo>
                  <a:pt x="22132" y="9844"/>
                  <a:pt x="22130" y="9994"/>
                  <a:pt x="22130" y="10160"/>
                </a:cubicBezTo>
                <a:cubicBezTo>
                  <a:pt x="22130" y="10331"/>
                  <a:pt x="22098" y="10494"/>
                  <a:pt x="22098" y="106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ny two points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and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anc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w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Ink 3"/>
          <p:cNvSpPr/>
          <p:nvPr/>
        </p:nvSpPr>
        <p:spPr>
          <a:xfrm>
            <a:off x="2389320" y="2378160"/>
            <a:ext cx="4011480" cy="1314360"/>
          </a:xfrm>
          <a:custGeom>
            <a:avLst/>
            <a:gdLst/>
            <a:ahLst/>
            <a:rect l="l" t="t" r="r" b="b"/>
            <a:pathLst>
              <a:path w="11145" h="3652">
                <a:moveTo>
                  <a:pt x="6636" y="7874"/>
                </a:moveTo>
                <a:cubicBezTo>
                  <a:pt x="6661" y="7940"/>
                  <a:pt x="6636" y="7932"/>
                  <a:pt x="6636" y="7969"/>
                </a:cubicBezTo>
                <a:cubicBezTo>
                  <a:pt x="6636" y="8020"/>
                  <a:pt x="6653" y="8090"/>
                  <a:pt x="6668" y="8160"/>
                </a:cubicBezTo>
                <a:cubicBezTo>
                  <a:pt x="6690" y="8265"/>
                  <a:pt x="6706" y="8371"/>
                  <a:pt x="6731" y="8477"/>
                </a:cubicBezTo>
                <a:cubicBezTo>
                  <a:pt x="6761" y="8605"/>
                  <a:pt x="6829" y="8730"/>
                  <a:pt x="6858" y="8858"/>
                </a:cubicBezTo>
                <a:cubicBezTo>
                  <a:pt x="6886" y="8979"/>
                  <a:pt x="6915" y="9089"/>
                  <a:pt x="6953" y="9208"/>
                </a:cubicBezTo>
                <a:cubicBezTo>
                  <a:pt x="6971" y="9265"/>
                  <a:pt x="6995" y="9310"/>
                  <a:pt x="7017" y="9366"/>
                </a:cubicBezTo>
                <a:cubicBezTo>
                  <a:pt x="7020" y="9353"/>
                  <a:pt x="7038" y="9261"/>
                  <a:pt x="7048" y="9208"/>
                </a:cubicBezTo>
                <a:cubicBezTo>
                  <a:pt x="7081" y="9027"/>
                  <a:pt x="7081" y="8847"/>
                  <a:pt x="7112" y="8668"/>
                </a:cubicBezTo>
                <a:cubicBezTo>
                  <a:pt x="7141" y="8498"/>
                  <a:pt x="7171" y="8333"/>
                  <a:pt x="7176" y="8160"/>
                </a:cubicBezTo>
                <a:cubicBezTo>
                  <a:pt x="7180" y="8008"/>
                  <a:pt x="7207" y="7870"/>
                  <a:pt x="7207" y="7715"/>
                </a:cubicBezTo>
                <a:cubicBezTo>
                  <a:pt x="7207" y="7585"/>
                  <a:pt x="7176" y="7467"/>
                  <a:pt x="7176" y="7334"/>
                </a:cubicBezTo>
                <a:cubicBezTo>
                  <a:pt x="7176" y="7242"/>
                  <a:pt x="7192" y="7140"/>
                  <a:pt x="7207" y="7048"/>
                </a:cubicBezTo>
                <a:cubicBezTo>
                  <a:pt x="7215" y="7000"/>
                  <a:pt x="7248" y="6864"/>
                  <a:pt x="7271" y="6826"/>
                </a:cubicBezTo>
                <a:cubicBezTo>
                  <a:pt x="7291" y="6794"/>
                  <a:pt x="7354" y="6741"/>
                  <a:pt x="7366" y="6731"/>
                </a:cubicBezTo>
                <a:cubicBezTo>
                  <a:pt x="7405" y="6699"/>
                  <a:pt x="7471" y="6701"/>
                  <a:pt x="7525" y="6699"/>
                </a:cubicBezTo>
                <a:cubicBezTo>
                  <a:pt x="7685" y="6693"/>
                  <a:pt x="7850" y="6678"/>
                  <a:pt x="8001" y="6668"/>
                </a:cubicBezTo>
                <a:cubicBezTo>
                  <a:pt x="8108" y="6661"/>
                  <a:pt x="8219" y="6645"/>
                  <a:pt x="8318" y="6636"/>
                </a:cubicBezTo>
                <a:cubicBezTo>
                  <a:pt x="8426" y="6626"/>
                  <a:pt x="8531" y="6615"/>
                  <a:pt x="8636" y="6604"/>
                </a:cubicBezTo>
                <a:cubicBezTo>
                  <a:pt x="8698" y="6597"/>
                  <a:pt x="8764" y="6604"/>
                  <a:pt x="8826" y="6604"/>
                </a:cubicBezTo>
              </a:path>
              <a:path w="11145" h="3652">
                <a:moveTo>
                  <a:pt x="8287" y="6953"/>
                </a:moveTo>
                <a:cubicBezTo>
                  <a:pt x="8274" y="7012"/>
                  <a:pt x="8275" y="7063"/>
                  <a:pt x="8223" y="7112"/>
                </a:cubicBezTo>
                <a:cubicBezTo>
                  <a:pt x="8132" y="7198"/>
                  <a:pt x="8075" y="7261"/>
                  <a:pt x="8001" y="7366"/>
                </a:cubicBezTo>
                <a:cubicBezTo>
                  <a:pt x="7913" y="7491"/>
                  <a:pt x="7803" y="7638"/>
                  <a:pt x="7747" y="7779"/>
                </a:cubicBezTo>
                <a:cubicBezTo>
                  <a:pt x="7685" y="7935"/>
                  <a:pt x="7657" y="8122"/>
                  <a:pt x="7652" y="8287"/>
                </a:cubicBezTo>
                <a:cubicBezTo>
                  <a:pt x="7647" y="8462"/>
                  <a:pt x="7669" y="8596"/>
                  <a:pt x="7715" y="8763"/>
                </a:cubicBezTo>
                <a:cubicBezTo>
                  <a:pt x="7758" y="8921"/>
                  <a:pt x="7800" y="9047"/>
                  <a:pt x="7906" y="9176"/>
                </a:cubicBezTo>
                <a:cubicBezTo>
                  <a:pt x="7965" y="9249"/>
                  <a:pt x="8013" y="9333"/>
                  <a:pt x="8096" y="9366"/>
                </a:cubicBezTo>
                <a:cubicBezTo>
                  <a:pt x="8187" y="9402"/>
                  <a:pt x="8179" y="9347"/>
                  <a:pt x="8223" y="9303"/>
                </a:cubicBezTo>
              </a:path>
              <a:path w="11145" h="3652">
                <a:moveTo>
                  <a:pt x="8287" y="7842"/>
                </a:moveTo>
                <a:cubicBezTo>
                  <a:pt x="8318" y="7928"/>
                  <a:pt x="8368" y="8036"/>
                  <a:pt x="8382" y="8128"/>
                </a:cubicBezTo>
                <a:cubicBezTo>
                  <a:pt x="8406" y="8284"/>
                  <a:pt x="8418" y="8453"/>
                  <a:pt x="8477" y="8604"/>
                </a:cubicBezTo>
                <a:cubicBezTo>
                  <a:pt x="8530" y="8740"/>
                  <a:pt x="8580" y="8882"/>
                  <a:pt x="8636" y="9017"/>
                </a:cubicBezTo>
                <a:cubicBezTo>
                  <a:pt x="8648" y="9045"/>
                  <a:pt x="8724" y="9228"/>
                  <a:pt x="8731" y="9144"/>
                </a:cubicBezTo>
                <a:cubicBezTo>
                  <a:pt x="8731" y="9123"/>
                  <a:pt x="8731" y="9101"/>
                  <a:pt x="8731" y="9080"/>
                </a:cubicBezTo>
              </a:path>
              <a:path w="11145" h="3652">
                <a:moveTo>
                  <a:pt x="8700" y="7938"/>
                </a:moveTo>
                <a:cubicBezTo>
                  <a:pt x="8644" y="8049"/>
                  <a:pt x="8581" y="8170"/>
                  <a:pt x="8541" y="8287"/>
                </a:cubicBezTo>
                <a:cubicBezTo>
                  <a:pt x="8487" y="8443"/>
                  <a:pt x="8447" y="8610"/>
                  <a:pt x="8382" y="8763"/>
                </a:cubicBezTo>
                <a:cubicBezTo>
                  <a:pt x="8326" y="8895"/>
                  <a:pt x="8249" y="9033"/>
                  <a:pt x="8223" y="9176"/>
                </a:cubicBezTo>
                <a:cubicBezTo>
                  <a:pt x="8212" y="9233"/>
                  <a:pt x="8204" y="9252"/>
                  <a:pt x="8192" y="9303"/>
                </a:cubicBezTo>
              </a:path>
              <a:path w="11145" h="3652">
                <a:moveTo>
                  <a:pt x="8826" y="8826"/>
                </a:moveTo>
                <a:cubicBezTo>
                  <a:pt x="8840" y="8770"/>
                  <a:pt x="8879" y="8743"/>
                  <a:pt x="8922" y="8700"/>
                </a:cubicBezTo>
                <a:cubicBezTo>
                  <a:pt x="8955" y="8667"/>
                  <a:pt x="9004" y="8641"/>
                  <a:pt x="9049" y="8636"/>
                </a:cubicBezTo>
                <a:cubicBezTo>
                  <a:pt x="9119" y="8628"/>
                  <a:pt x="9130" y="8711"/>
                  <a:pt x="9112" y="8763"/>
                </a:cubicBezTo>
                <a:cubicBezTo>
                  <a:pt x="9087" y="8838"/>
                  <a:pt x="9047" y="8952"/>
                  <a:pt x="9017" y="9017"/>
                </a:cubicBezTo>
                <a:cubicBezTo>
                  <a:pt x="8994" y="9065"/>
                  <a:pt x="8926" y="9136"/>
                  <a:pt x="8890" y="9176"/>
                </a:cubicBezTo>
                <a:cubicBezTo>
                  <a:pt x="8848" y="9223"/>
                  <a:pt x="8874" y="9224"/>
                  <a:pt x="8826" y="9239"/>
                </a:cubicBezTo>
                <a:cubicBezTo>
                  <a:pt x="8875" y="9191"/>
                  <a:pt x="8886" y="9176"/>
                  <a:pt x="8954" y="9176"/>
                </a:cubicBezTo>
                <a:cubicBezTo>
                  <a:pt x="9018" y="9176"/>
                  <a:pt x="9029" y="9191"/>
                  <a:pt x="9080" y="9208"/>
                </a:cubicBezTo>
                <a:cubicBezTo>
                  <a:pt x="9127" y="9224"/>
                  <a:pt x="9153" y="9239"/>
                  <a:pt x="9208" y="9239"/>
                </a:cubicBezTo>
                <a:cubicBezTo>
                  <a:pt x="9263" y="9239"/>
                  <a:pt x="9258" y="9240"/>
                  <a:pt x="9303" y="9208"/>
                </a:cubicBezTo>
              </a:path>
              <a:path w="11145" h="3652">
                <a:moveTo>
                  <a:pt x="9525" y="8572"/>
                </a:moveTo>
                <a:cubicBezTo>
                  <a:pt x="9525" y="8562"/>
                  <a:pt x="9525" y="8551"/>
                  <a:pt x="9525" y="8541"/>
                </a:cubicBezTo>
                <a:cubicBezTo>
                  <a:pt x="9600" y="8541"/>
                  <a:pt x="9622" y="8514"/>
                  <a:pt x="9684" y="8509"/>
                </a:cubicBezTo>
                <a:cubicBezTo>
                  <a:pt x="9766" y="8503"/>
                  <a:pt x="9822" y="8477"/>
                  <a:pt x="9906" y="8477"/>
                </a:cubicBezTo>
                <a:cubicBezTo>
                  <a:pt x="9942" y="8477"/>
                  <a:pt x="9956" y="8474"/>
                  <a:pt x="9970" y="8446"/>
                </a:cubicBezTo>
              </a:path>
              <a:path w="11145" h="3652">
                <a:moveTo>
                  <a:pt x="10160" y="7938"/>
                </a:moveTo>
                <a:cubicBezTo>
                  <a:pt x="10160" y="8042"/>
                  <a:pt x="10180" y="8123"/>
                  <a:pt x="10192" y="8223"/>
                </a:cubicBezTo>
                <a:cubicBezTo>
                  <a:pt x="10209" y="8366"/>
                  <a:pt x="10225" y="8534"/>
                  <a:pt x="10287" y="8668"/>
                </a:cubicBezTo>
                <a:cubicBezTo>
                  <a:pt x="10344" y="8791"/>
                  <a:pt x="10410" y="8933"/>
                  <a:pt x="10478" y="9049"/>
                </a:cubicBezTo>
                <a:cubicBezTo>
                  <a:pt x="10512" y="9107"/>
                  <a:pt x="10591" y="9176"/>
                  <a:pt x="10604" y="9208"/>
                </a:cubicBezTo>
                <a:cubicBezTo>
                  <a:pt x="10604" y="9239"/>
                  <a:pt x="10604" y="9249"/>
                  <a:pt x="10604" y="9208"/>
                </a:cubicBezTo>
              </a:path>
              <a:path w="11145" h="3652">
                <a:moveTo>
                  <a:pt x="10604" y="8064"/>
                </a:moveTo>
                <a:cubicBezTo>
                  <a:pt x="10561" y="8138"/>
                  <a:pt x="10548" y="8231"/>
                  <a:pt x="10509" y="8318"/>
                </a:cubicBezTo>
                <a:cubicBezTo>
                  <a:pt x="10436" y="8480"/>
                  <a:pt x="10362" y="8634"/>
                  <a:pt x="10287" y="8795"/>
                </a:cubicBezTo>
                <a:cubicBezTo>
                  <a:pt x="10216" y="8947"/>
                  <a:pt x="10127" y="9059"/>
                  <a:pt x="10065" y="9208"/>
                </a:cubicBezTo>
                <a:cubicBezTo>
                  <a:pt x="10036" y="9279"/>
                  <a:pt x="10016" y="9321"/>
                  <a:pt x="10001" y="9366"/>
                </a:cubicBezTo>
              </a:path>
              <a:path w="11145" h="3652">
                <a:moveTo>
                  <a:pt x="10763" y="8985"/>
                </a:moveTo>
                <a:cubicBezTo>
                  <a:pt x="10763" y="9105"/>
                  <a:pt x="10775" y="9220"/>
                  <a:pt x="10732" y="9334"/>
                </a:cubicBezTo>
                <a:cubicBezTo>
                  <a:pt x="10699" y="9422"/>
                  <a:pt x="10700" y="9493"/>
                  <a:pt x="10700" y="9588"/>
                </a:cubicBezTo>
                <a:cubicBezTo>
                  <a:pt x="10700" y="9620"/>
                  <a:pt x="10700" y="9631"/>
                  <a:pt x="10700" y="9652"/>
                </a:cubicBezTo>
              </a:path>
              <a:path w="11145" h="3652">
                <a:moveTo>
                  <a:pt x="10954" y="7430"/>
                </a:moveTo>
                <a:cubicBezTo>
                  <a:pt x="10978" y="7454"/>
                  <a:pt x="11037" y="7490"/>
                  <a:pt x="11049" y="7556"/>
                </a:cubicBezTo>
                <a:cubicBezTo>
                  <a:pt x="11075" y="7699"/>
                  <a:pt x="11128" y="7855"/>
                  <a:pt x="11144" y="8001"/>
                </a:cubicBezTo>
                <a:cubicBezTo>
                  <a:pt x="11166" y="8196"/>
                  <a:pt x="11201" y="8379"/>
                  <a:pt x="11240" y="8572"/>
                </a:cubicBezTo>
                <a:cubicBezTo>
                  <a:pt x="11280" y="8770"/>
                  <a:pt x="11283" y="8950"/>
                  <a:pt x="11271" y="9144"/>
                </a:cubicBezTo>
                <a:cubicBezTo>
                  <a:pt x="11264" y="9252"/>
                  <a:pt x="11261" y="9424"/>
                  <a:pt x="11208" y="9525"/>
                </a:cubicBezTo>
                <a:cubicBezTo>
                  <a:pt x="11188" y="9564"/>
                  <a:pt x="11065" y="9688"/>
                  <a:pt x="11017" y="9684"/>
                </a:cubicBezTo>
                <a:cubicBezTo>
                  <a:pt x="10986" y="9684"/>
                  <a:pt x="10975" y="9684"/>
                  <a:pt x="10986" y="9652"/>
                </a:cubicBezTo>
              </a:path>
              <a:path w="11145" h="3652">
                <a:moveTo>
                  <a:pt x="11430" y="7430"/>
                </a:moveTo>
                <a:cubicBezTo>
                  <a:pt x="11440" y="7390"/>
                  <a:pt x="11479" y="7323"/>
                  <a:pt x="11525" y="7302"/>
                </a:cubicBezTo>
                <a:cubicBezTo>
                  <a:pt x="11575" y="7280"/>
                  <a:pt x="11720" y="7287"/>
                  <a:pt x="11716" y="7366"/>
                </a:cubicBezTo>
                <a:cubicBezTo>
                  <a:pt x="11711" y="7464"/>
                  <a:pt x="11624" y="7563"/>
                  <a:pt x="11589" y="7652"/>
                </a:cubicBezTo>
                <a:cubicBezTo>
                  <a:pt x="11564" y="7717"/>
                  <a:pt x="11528" y="7818"/>
                  <a:pt x="11494" y="7874"/>
                </a:cubicBezTo>
                <a:cubicBezTo>
                  <a:pt x="11459" y="7932"/>
                  <a:pt x="11427" y="7938"/>
                  <a:pt x="11462" y="7874"/>
                </a:cubicBezTo>
                <a:cubicBezTo>
                  <a:pt x="11493" y="7818"/>
                  <a:pt x="11493" y="7810"/>
                  <a:pt x="11557" y="7810"/>
                </a:cubicBezTo>
                <a:cubicBezTo>
                  <a:pt x="11623" y="7810"/>
                  <a:pt x="11616" y="7865"/>
                  <a:pt x="11652" y="7906"/>
                </a:cubicBezTo>
                <a:cubicBezTo>
                  <a:pt x="11703" y="7964"/>
                  <a:pt x="11729" y="7941"/>
                  <a:pt x="11779" y="7969"/>
                </a:cubicBezTo>
                <a:cubicBezTo>
                  <a:pt x="11834" y="8000"/>
                  <a:pt x="11850" y="7979"/>
                  <a:pt x="11906" y="7938"/>
                </a:cubicBezTo>
              </a:path>
              <a:path w="11145" h="3652">
                <a:moveTo>
                  <a:pt x="12478" y="7938"/>
                </a:moveTo>
                <a:cubicBezTo>
                  <a:pt x="12452" y="7980"/>
                  <a:pt x="12422" y="8073"/>
                  <a:pt x="12414" y="8128"/>
                </a:cubicBezTo>
                <a:cubicBezTo>
                  <a:pt x="12398" y="8248"/>
                  <a:pt x="12382" y="8352"/>
                  <a:pt x="12382" y="8477"/>
                </a:cubicBezTo>
                <a:cubicBezTo>
                  <a:pt x="12382" y="8599"/>
                  <a:pt x="12354" y="8758"/>
                  <a:pt x="12414" y="8858"/>
                </a:cubicBezTo>
              </a:path>
              <a:path w="11145" h="3652">
                <a:moveTo>
                  <a:pt x="12097" y="8414"/>
                </a:moveTo>
                <a:cubicBezTo>
                  <a:pt x="12015" y="8414"/>
                  <a:pt x="12185" y="8445"/>
                  <a:pt x="12192" y="8446"/>
                </a:cubicBezTo>
                <a:cubicBezTo>
                  <a:pt x="12294" y="8464"/>
                  <a:pt x="12407" y="8472"/>
                  <a:pt x="12510" y="8477"/>
                </a:cubicBezTo>
                <a:cubicBezTo>
                  <a:pt x="12594" y="8481"/>
                  <a:pt x="12680" y="8477"/>
                  <a:pt x="12764" y="8477"/>
                </a:cubicBezTo>
              </a:path>
              <a:path w="11145" h="3652">
                <a:moveTo>
                  <a:pt x="13780" y="7430"/>
                </a:moveTo>
                <a:cubicBezTo>
                  <a:pt x="13740" y="7493"/>
                  <a:pt x="13672" y="7531"/>
                  <a:pt x="13621" y="7588"/>
                </a:cubicBezTo>
                <a:cubicBezTo>
                  <a:pt x="13517" y="7704"/>
                  <a:pt x="13459" y="7848"/>
                  <a:pt x="13367" y="7969"/>
                </a:cubicBezTo>
                <a:cubicBezTo>
                  <a:pt x="13257" y="8113"/>
                  <a:pt x="13189" y="8262"/>
                  <a:pt x="13144" y="8446"/>
                </a:cubicBezTo>
                <a:cubicBezTo>
                  <a:pt x="13103" y="8615"/>
                  <a:pt x="13113" y="8781"/>
                  <a:pt x="13113" y="8954"/>
                </a:cubicBezTo>
                <a:cubicBezTo>
                  <a:pt x="13113" y="9059"/>
                  <a:pt x="13124" y="9251"/>
                  <a:pt x="13208" y="9334"/>
                </a:cubicBezTo>
                <a:cubicBezTo>
                  <a:pt x="13243" y="9368"/>
                  <a:pt x="13357" y="9481"/>
                  <a:pt x="13398" y="9462"/>
                </a:cubicBezTo>
                <a:cubicBezTo>
                  <a:pt x="13441" y="9442"/>
                  <a:pt x="13459" y="9410"/>
                  <a:pt x="13494" y="9366"/>
                </a:cubicBezTo>
              </a:path>
              <a:path w="11145" h="3652">
                <a:moveTo>
                  <a:pt x="13906" y="8318"/>
                </a:moveTo>
                <a:cubicBezTo>
                  <a:pt x="13906" y="8392"/>
                  <a:pt x="13921" y="8405"/>
                  <a:pt x="13906" y="8477"/>
                </a:cubicBezTo>
                <a:cubicBezTo>
                  <a:pt x="13874" y="8626"/>
                  <a:pt x="13886" y="8710"/>
                  <a:pt x="13906" y="8858"/>
                </a:cubicBezTo>
                <a:cubicBezTo>
                  <a:pt x="13920" y="8964"/>
                  <a:pt x="13962" y="9017"/>
                  <a:pt x="14002" y="9080"/>
                </a:cubicBezTo>
                <a:cubicBezTo>
                  <a:pt x="14013" y="9101"/>
                  <a:pt x="14023" y="9123"/>
                  <a:pt x="14034" y="9144"/>
                </a:cubicBezTo>
                <a:cubicBezTo>
                  <a:pt x="14098" y="9128"/>
                  <a:pt x="14155" y="9123"/>
                  <a:pt x="14192" y="9049"/>
                </a:cubicBezTo>
                <a:cubicBezTo>
                  <a:pt x="14250" y="8935"/>
                  <a:pt x="14332" y="8798"/>
                  <a:pt x="14351" y="8668"/>
                </a:cubicBezTo>
                <a:cubicBezTo>
                  <a:pt x="14363" y="8588"/>
                  <a:pt x="14355" y="8458"/>
                  <a:pt x="14383" y="8382"/>
                </a:cubicBezTo>
                <a:cubicBezTo>
                  <a:pt x="14393" y="8371"/>
                  <a:pt x="14404" y="8361"/>
                  <a:pt x="14414" y="8350"/>
                </a:cubicBezTo>
                <a:cubicBezTo>
                  <a:pt x="14414" y="8463"/>
                  <a:pt x="14387" y="8558"/>
                  <a:pt x="14383" y="8668"/>
                </a:cubicBezTo>
                <a:cubicBezTo>
                  <a:pt x="14376" y="8874"/>
                  <a:pt x="14398" y="9070"/>
                  <a:pt x="14414" y="9271"/>
                </a:cubicBezTo>
                <a:cubicBezTo>
                  <a:pt x="14432" y="9496"/>
                  <a:pt x="14447" y="9784"/>
                  <a:pt x="14383" y="10001"/>
                </a:cubicBezTo>
                <a:cubicBezTo>
                  <a:pt x="14360" y="10079"/>
                  <a:pt x="14330" y="10177"/>
                  <a:pt x="14256" y="10224"/>
                </a:cubicBezTo>
                <a:cubicBezTo>
                  <a:pt x="14181" y="10272"/>
                  <a:pt x="14133" y="10261"/>
                  <a:pt x="14065" y="10224"/>
                </a:cubicBezTo>
                <a:cubicBezTo>
                  <a:pt x="14002" y="10190"/>
                  <a:pt x="13889" y="10142"/>
                  <a:pt x="13875" y="10065"/>
                </a:cubicBezTo>
                <a:cubicBezTo>
                  <a:pt x="13864" y="10005"/>
                  <a:pt x="13875" y="9935"/>
                  <a:pt x="13875" y="9874"/>
                </a:cubicBezTo>
              </a:path>
              <a:path w="11145" h="3652">
                <a:moveTo>
                  <a:pt x="14668" y="8954"/>
                </a:moveTo>
                <a:cubicBezTo>
                  <a:pt x="14681" y="8916"/>
                  <a:pt x="14722" y="8900"/>
                  <a:pt x="14764" y="8858"/>
                </a:cubicBezTo>
                <a:cubicBezTo>
                  <a:pt x="14813" y="8809"/>
                  <a:pt x="14851" y="8820"/>
                  <a:pt x="14859" y="8890"/>
                </a:cubicBezTo>
                <a:cubicBezTo>
                  <a:pt x="14865" y="8948"/>
                  <a:pt x="14816" y="9026"/>
                  <a:pt x="14796" y="9080"/>
                </a:cubicBezTo>
                <a:cubicBezTo>
                  <a:pt x="14775" y="9138"/>
                  <a:pt x="14763" y="9252"/>
                  <a:pt x="14732" y="9303"/>
                </a:cubicBezTo>
                <a:cubicBezTo>
                  <a:pt x="14689" y="9374"/>
                  <a:pt x="14658" y="9323"/>
                  <a:pt x="14700" y="9303"/>
                </a:cubicBezTo>
                <a:cubicBezTo>
                  <a:pt x="14743" y="9282"/>
                  <a:pt x="14718" y="9286"/>
                  <a:pt x="14764" y="9271"/>
                </a:cubicBezTo>
                <a:cubicBezTo>
                  <a:pt x="14804" y="9301"/>
                  <a:pt x="14841" y="9329"/>
                  <a:pt x="14891" y="9334"/>
                </a:cubicBezTo>
                <a:cubicBezTo>
                  <a:pt x="14962" y="9342"/>
                  <a:pt x="14952" y="9392"/>
                  <a:pt x="15018" y="9334"/>
                </a:cubicBezTo>
                <a:cubicBezTo>
                  <a:pt x="15047" y="9306"/>
                  <a:pt x="15058" y="9300"/>
                  <a:pt x="15050" y="9271"/>
                </a:cubicBezTo>
              </a:path>
              <a:path w="11145" h="3652">
                <a:moveTo>
                  <a:pt x="15208" y="8826"/>
                </a:moveTo>
                <a:cubicBezTo>
                  <a:pt x="15295" y="8826"/>
                  <a:pt x="15318" y="8815"/>
                  <a:pt x="15399" y="8795"/>
                </a:cubicBezTo>
                <a:cubicBezTo>
                  <a:pt x="15482" y="8775"/>
                  <a:pt x="15493" y="8796"/>
                  <a:pt x="15558" y="8731"/>
                </a:cubicBezTo>
              </a:path>
              <a:path w="11145" h="3652">
                <a:moveTo>
                  <a:pt x="15748" y="8350"/>
                </a:moveTo>
                <a:cubicBezTo>
                  <a:pt x="15737" y="8438"/>
                  <a:pt x="15695" y="8519"/>
                  <a:pt x="15684" y="8604"/>
                </a:cubicBezTo>
                <a:cubicBezTo>
                  <a:pt x="15665" y="8749"/>
                  <a:pt x="15679" y="8914"/>
                  <a:pt x="15716" y="9049"/>
                </a:cubicBezTo>
                <a:cubicBezTo>
                  <a:pt x="15740" y="9136"/>
                  <a:pt x="15749" y="9176"/>
                  <a:pt x="15812" y="9239"/>
                </a:cubicBezTo>
                <a:cubicBezTo>
                  <a:pt x="15822" y="9250"/>
                  <a:pt x="15833" y="9260"/>
                  <a:pt x="15843" y="9271"/>
                </a:cubicBezTo>
                <a:cubicBezTo>
                  <a:pt x="15956" y="9207"/>
                  <a:pt x="15961" y="9178"/>
                  <a:pt x="16034" y="9080"/>
                </a:cubicBezTo>
                <a:cubicBezTo>
                  <a:pt x="16124" y="8960"/>
                  <a:pt x="16167" y="8872"/>
                  <a:pt x="16224" y="8731"/>
                </a:cubicBezTo>
                <a:cubicBezTo>
                  <a:pt x="16263" y="8635"/>
                  <a:pt x="16256" y="8550"/>
                  <a:pt x="16256" y="8446"/>
                </a:cubicBezTo>
                <a:cubicBezTo>
                  <a:pt x="16256" y="8435"/>
                  <a:pt x="16256" y="8425"/>
                  <a:pt x="16256" y="8414"/>
                </a:cubicBezTo>
                <a:cubicBezTo>
                  <a:pt x="16218" y="8513"/>
                  <a:pt x="16224" y="8591"/>
                  <a:pt x="16224" y="8700"/>
                </a:cubicBezTo>
                <a:cubicBezTo>
                  <a:pt x="16224" y="8849"/>
                  <a:pt x="16231" y="8999"/>
                  <a:pt x="16256" y="9144"/>
                </a:cubicBezTo>
                <a:cubicBezTo>
                  <a:pt x="16283" y="9299"/>
                  <a:pt x="16312" y="9460"/>
                  <a:pt x="16288" y="9620"/>
                </a:cubicBezTo>
                <a:cubicBezTo>
                  <a:pt x="16275" y="9707"/>
                  <a:pt x="16260" y="9902"/>
                  <a:pt x="16192" y="9970"/>
                </a:cubicBezTo>
                <a:cubicBezTo>
                  <a:pt x="16146" y="10016"/>
                  <a:pt x="16068" y="10048"/>
                  <a:pt x="16002" y="10033"/>
                </a:cubicBezTo>
                <a:cubicBezTo>
                  <a:pt x="15945" y="10020"/>
                  <a:pt x="15889" y="9980"/>
                  <a:pt x="15843" y="9938"/>
                </a:cubicBezTo>
                <a:cubicBezTo>
                  <a:pt x="15799" y="9898"/>
                  <a:pt x="15819" y="9893"/>
                  <a:pt x="15812" y="9842"/>
                </a:cubicBezTo>
              </a:path>
              <a:path w="11145" h="3652">
                <a:moveTo>
                  <a:pt x="16542" y="9208"/>
                </a:moveTo>
                <a:cubicBezTo>
                  <a:pt x="16542" y="9276"/>
                  <a:pt x="16571" y="9296"/>
                  <a:pt x="16574" y="9366"/>
                </a:cubicBezTo>
                <a:cubicBezTo>
                  <a:pt x="16577" y="9432"/>
                  <a:pt x="16549" y="9538"/>
                  <a:pt x="16605" y="9557"/>
                </a:cubicBezTo>
              </a:path>
              <a:path w="11145" h="3652">
                <a:moveTo>
                  <a:pt x="16574" y="7525"/>
                </a:moveTo>
                <a:cubicBezTo>
                  <a:pt x="16605" y="7587"/>
                  <a:pt x="16667" y="7652"/>
                  <a:pt x="16700" y="7715"/>
                </a:cubicBezTo>
                <a:cubicBezTo>
                  <a:pt x="16772" y="7852"/>
                  <a:pt x="16800" y="8019"/>
                  <a:pt x="16859" y="8160"/>
                </a:cubicBezTo>
                <a:cubicBezTo>
                  <a:pt x="16936" y="8344"/>
                  <a:pt x="16985" y="8506"/>
                  <a:pt x="17018" y="8700"/>
                </a:cubicBezTo>
                <a:cubicBezTo>
                  <a:pt x="17051" y="8898"/>
                  <a:pt x="17082" y="9070"/>
                  <a:pt x="17082" y="9271"/>
                </a:cubicBezTo>
                <a:cubicBezTo>
                  <a:pt x="17082" y="9446"/>
                  <a:pt x="17068" y="9610"/>
                  <a:pt x="17050" y="9779"/>
                </a:cubicBezTo>
                <a:cubicBezTo>
                  <a:pt x="17036" y="9906"/>
                  <a:pt x="17007" y="9985"/>
                  <a:pt x="16954" y="10096"/>
                </a:cubicBezTo>
                <a:cubicBezTo>
                  <a:pt x="16925" y="10157"/>
                  <a:pt x="16901" y="10176"/>
                  <a:pt x="16859" y="10224"/>
                </a:cubicBezTo>
              </a:path>
              <a:path w="11145" h="3652">
                <a:moveTo>
                  <a:pt x="17208" y="7652"/>
                </a:moveTo>
                <a:cubicBezTo>
                  <a:pt x="17220" y="7617"/>
                  <a:pt x="17232" y="7593"/>
                  <a:pt x="17272" y="7588"/>
                </a:cubicBezTo>
                <a:cubicBezTo>
                  <a:pt x="17327" y="7581"/>
                  <a:pt x="17350" y="7541"/>
                  <a:pt x="17399" y="7525"/>
                </a:cubicBezTo>
                <a:cubicBezTo>
                  <a:pt x="17435" y="7513"/>
                  <a:pt x="17488" y="7543"/>
                  <a:pt x="17494" y="7556"/>
                </a:cubicBezTo>
                <a:cubicBezTo>
                  <a:pt x="17508" y="7585"/>
                  <a:pt x="17471" y="7697"/>
                  <a:pt x="17462" y="7715"/>
                </a:cubicBezTo>
                <a:cubicBezTo>
                  <a:pt x="17432" y="7776"/>
                  <a:pt x="17428" y="7848"/>
                  <a:pt x="17399" y="7906"/>
                </a:cubicBezTo>
                <a:cubicBezTo>
                  <a:pt x="17374" y="7955"/>
                  <a:pt x="17342" y="8008"/>
                  <a:pt x="17336" y="8064"/>
                </a:cubicBezTo>
                <a:cubicBezTo>
                  <a:pt x="17329" y="8133"/>
                  <a:pt x="17291" y="8090"/>
                  <a:pt x="17367" y="8064"/>
                </a:cubicBezTo>
                <a:cubicBezTo>
                  <a:pt x="17437" y="8040"/>
                  <a:pt x="17505" y="8078"/>
                  <a:pt x="17558" y="8096"/>
                </a:cubicBezTo>
                <a:cubicBezTo>
                  <a:pt x="17611" y="8114"/>
                  <a:pt x="17680" y="8096"/>
                  <a:pt x="17716" y="8064"/>
                </a:cubicBezTo>
                <a:cubicBezTo>
                  <a:pt x="17752" y="8032"/>
                  <a:pt x="17751" y="8007"/>
                  <a:pt x="17780" y="79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Ink 4"/>
          <p:cNvSpPr/>
          <p:nvPr/>
        </p:nvSpPr>
        <p:spPr>
          <a:xfrm>
            <a:off x="2754360" y="3794040"/>
            <a:ext cx="663480" cy="538200"/>
          </a:xfrm>
          <a:custGeom>
            <a:avLst/>
            <a:gdLst/>
            <a:ahLst/>
            <a:rect l="l" t="t" r="r" b="b"/>
            <a:pathLst>
              <a:path w="1842" h="1493">
                <a:moveTo>
                  <a:pt x="8509" y="10541"/>
                </a:moveTo>
                <a:cubicBezTo>
                  <a:pt x="8488" y="10577"/>
                  <a:pt x="8467" y="10615"/>
                  <a:pt x="8446" y="10636"/>
                </a:cubicBezTo>
                <a:cubicBezTo>
                  <a:pt x="8388" y="10695"/>
                  <a:pt x="8348" y="10744"/>
                  <a:pt x="8287" y="10795"/>
                </a:cubicBezTo>
                <a:cubicBezTo>
                  <a:pt x="8224" y="10848"/>
                  <a:pt x="8168" y="10946"/>
                  <a:pt x="8128" y="11017"/>
                </a:cubicBezTo>
                <a:cubicBezTo>
                  <a:pt x="8076" y="11110"/>
                  <a:pt x="8046" y="11208"/>
                  <a:pt x="8001" y="11303"/>
                </a:cubicBezTo>
                <a:cubicBezTo>
                  <a:pt x="7955" y="11398"/>
                  <a:pt x="7937" y="11496"/>
                  <a:pt x="7906" y="11589"/>
                </a:cubicBezTo>
                <a:cubicBezTo>
                  <a:pt x="7883" y="11656"/>
                  <a:pt x="7853" y="11741"/>
                  <a:pt x="7842" y="11811"/>
                </a:cubicBezTo>
                <a:cubicBezTo>
                  <a:pt x="7831" y="11880"/>
                  <a:pt x="7842" y="11962"/>
                  <a:pt x="7842" y="12033"/>
                </a:cubicBezTo>
              </a:path>
              <a:path w="1842" h="1493">
                <a:moveTo>
                  <a:pt x="7652" y="11366"/>
                </a:moveTo>
                <a:cubicBezTo>
                  <a:pt x="7719" y="11366"/>
                  <a:pt x="7747" y="11346"/>
                  <a:pt x="7810" y="11335"/>
                </a:cubicBezTo>
                <a:cubicBezTo>
                  <a:pt x="7880" y="11323"/>
                  <a:pt x="7966" y="11308"/>
                  <a:pt x="8033" y="11303"/>
                </a:cubicBezTo>
                <a:cubicBezTo>
                  <a:pt x="8054" y="11303"/>
                  <a:pt x="8075" y="11303"/>
                  <a:pt x="8096" y="11303"/>
                </a:cubicBezTo>
              </a:path>
              <a:path w="1842" h="1493">
                <a:moveTo>
                  <a:pt x="8668" y="11398"/>
                </a:moveTo>
                <a:cubicBezTo>
                  <a:pt x="8681" y="11348"/>
                  <a:pt x="8716" y="11318"/>
                  <a:pt x="8731" y="11271"/>
                </a:cubicBezTo>
                <a:cubicBezTo>
                  <a:pt x="8748" y="11221"/>
                  <a:pt x="8726" y="11180"/>
                  <a:pt x="8700" y="11144"/>
                </a:cubicBezTo>
                <a:cubicBezTo>
                  <a:pt x="8638" y="11179"/>
                  <a:pt x="8545" y="11237"/>
                  <a:pt x="8509" y="11303"/>
                </a:cubicBezTo>
                <a:cubicBezTo>
                  <a:pt x="8448" y="11414"/>
                  <a:pt x="8373" y="11556"/>
                  <a:pt x="8350" y="11684"/>
                </a:cubicBezTo>
                <a:cubicBezTo>
                  <a:pt x="8337" y="11754"/>
                  <a:pt x="8376" y="11825"/>
                  <a:pt x="8414" y="11874"/>
                </a:cubicBezTo>
                <a:cubicBezTo>
                  <a:pt x="8497" y="11862"/>
                  <a:pt x="8550" y="11825"/>
                  <a:pt x="8604" y="11748"/>
                </a:cubicBezTo>
                <a:cubicBezTo>
                  <a:pt x="8660" y="11668"/>
                  <a:pt x="8708" y="11525"/>
                  <a:pt x="8731" y="11430"/>
                </a:cubicBezTo>
                <a:cubicBezTo>
                  <a:pt x="8731" y="11385"/>
                  <a:pt x="8737" y="11363"/>
                  <a:pt x="8763" y="11335"/>
                </a:cubicBezTo>
                <a:cubicBezTo>
                  <a:pt x="8763" y="11425"/>
                  <a:pt x="8744" y="11469"/>
                  <a:pt x="8731" y="11557"/>
                </a:cubicBezTo>
                <a:cubicBezTo>
                  <a:pt x="8718" y="11640"/>
                  <a:pt x="8712" y="11781"/>
                  <a:pt x="8763" y="11843"/>
                </a:cubicBezTo>
                <a:cubicBezTo>
                  <a:pt x="8792" y="11871"/>
                  <a:pt x="8798" y="11881"/>
                  <a:pt x="8826" y="11874"/>
                </a:cubicBezTo>
              </a:path>
              <a:path w="1842" h="1493">
                <a:moveTo>
                  <a:pt x="9080" y="11366"/>
                </a:moveTo>
                <a:cubicBezTo>
                  <a:pt x="9080" y="11355"/>
                  <a:pt x="9080" y="11250"/>
                  <a:pt x="9080" y="11335"/>
                </a:cubicBezTo>
                <a:cubicBezTo>
                  <a:pt x="9132" y="11420"/>
                  <a:pt x="9085" y="11485"/>
                  <a:pt x="9080" y="11589"/>
                </a:cubicBezTo>
                <a:cubicBezTo>
                  <a:pt x="9075" y="11684"/>
                  <a:pt x="9080" y="11779"/>
                  <a:pt x="9080" y="11874"/>
                </a:cubicBezTo>
                <a:cubicBezTo>
                  <a:pt x="9080" y="11969"/>
                  <a:pt x="9080" y="11717"/>
                  <a:pt x="9080" y="11716"/>
                </a:cubicBezTo>
                <a:cubicBezTo>
                  <a:pt x="9110" y="11592"/>
                  <a:pt x="9122" y="11499"/>
                  <a:pt x="9208" y="11398"/>
                </a:cubicBezTo>
                <a:cubicBezTo>
                  <a:pt x="9233" y="11368"/>
                  <a:pt x="9289" y="11265"/>
                  <a:pt x="9334" y="11271"/>
                </a:cubicBezTo>
                <a:cubicBezTo>
                  <a:pt x="9373" y="11277"/>
                  <a:pt x="9457" y="11319"/>
                  <a:pt x="9493" y="113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Ink 5"/>
          <p:cNvSpPr/>
          <p:nvPr/>
        </p:nvSpPr>
        <p:spPr>
          <a:xfrm>
            <a:off x="3554280" y="3851280"/>
            <a:ext cx="1657440" cy="709560"/>
          </a:xfrm>
          <a:custGeom>
            <a:avLst/>
            <a:gdLst/>
            <a:ahLst/>
            <a:rect l="l" t="t" r="r" b="b"/>
            <a:pathLst>
              <a:path w="4605" h="1969">
                <a:moveTo>
                  <a:pt x="10287" y="11589"/>
                </a:moveTo>
                <a:cubicBezTo>
                  <a:pt x="10296" y="11520"/>
                  <a:pt x="10340" y="11438"/>
                  <a:pt x="10319" y="11366"/>
                </a:cubicBezTo>
                <a:cubicBezTo>
                  <a:pt x="10302" y="11307"/>
                  <a:pt x="10273" y="11257"/>
                  <a:pt x="10224" y="11208"/>
                </a:cubicBezTo>
                <a:cubicBezTo>
                  <a:pt x="10130" y="11221"/>
                  <a:pt x="10061" y="11282"/>
                  <a:pt x="10001" y="11366"/>
                </a:cubicBezTo>
                <a:cubicBezTo>
                  <a:pt x="9921" y="11478"/>
                  <a:pt x="9879" y="11580"/>
                  <a:pt x="9874" y="11716"/>
                </a:cubicBezTo>
                <a:cubicBezTo>
                  <a:pt x="9870" y="11814"/>
                  <a:pt x="9930" y="11978"/>
                  <a:pt x="10065" y="11970"/>
                </a:cubicBezTo>
                <a:cubicBezTo>
                  <a:pt x="10145" y="11966"/>
                  <a:pt x="10229" y="11839"/>
                  <a:pt x="10255" y="11779"/>
                </a:cubicBezTo>
                <a:cubicBezTo>
                  <a:pt x="10302" y="11671"/>
                  <a:pt x="10319" y="11577"/>
                  <a:pt x="10319" y="11462"/>
                </a:cubicBezTo>
                <a:cubicBezTo>
                  <a:pt x="10319" y="11391"/>
                  <a:pt x="10319" y="11332"/>
                  <a:pt x="10319" y="11430"/>
                </a:cubicBezTo>
                <a:cubicBezTo>
                  <a:pt x="10284" y="11523"/>
                  <a:pt x="10264" y="11646"/>
                  <a:pt x="10287" y="11748"/>
                </a:cubicBezTo>
                <a:cubicBezTo>
                  <a:pt x="10305" y="11826"/>
                  <a:pt x="10327" y="11908"/>
                  <a:pt x="10382" y="11970"/>
                </a:cubicBezTo>
                <a:cubicBezTo>
                  <a:pt x="10393" y="11981"/>
                  <a:pt x="10403" y="11991"/>
                  <a:pt x="10414" y="12002"/>
                </a:cubicBezTo>
                <a:cubicBezTo>
                  <a:pt x="10474" y="11959"/>
                  <a:pt x="10507" y="11930"/>
                  <a:pt x="10541" y="11843"/>
                </a:cubicBezTo>
                <a:cubicBezTo>
                  <a:pt x="10582" y="11738"/>
                  <a:pt x="10645" y="11603"/>
                  <a:pt x="10668" y="11494"/>
                </a:cubicBezTo>
                <a:cubicBezTo>
                  <a:pt x="10679" y="11440"/>
                  <a:pt x="10685" y="11388"/>
                  <a:pt x="10700" y="11335"/>
                </a:cubicBezTo>
                <a:cubicBezTo>
                  <a:pt x="10700" y="11457"/>
                  <a:pt x="10680" y="11565"/>
                  <a:pt x="10668" y="11684"/>
                </a:cubicBezTo>
                <a:cubicBezTo>
                  <a:pt x="10652" y="11840"/>
                  <a:pt x="10658" y="12005"/>
                  <a:pt x="10636" y="12160"/>
                </a:cubicBezTo>
                <a:cubicBezTo>
                  <a:pt x="10617" y="12298"/>
                  <a:pt x="10594" y="12440"/>
                  <a:pt x="10573" y="12573"/>
                </a:cubicBezTo>
                <a:cubicBezTo>
                  <a:pt x="10573" y="12630"/>
                  <a:pt x="10577" y="12647"/>
                  <a:pt x="10541" y="12668"/>
                </a:cubicBezTo>
                <a:cubicBezTo>
                  <a:pt x="10541" y="12432"/>
                  <a:pt x="10554" y="12202"/>
                  <a:pt x="10573" y="11970"/>
                </a:cubicBezTo>
                <a:cubicBezTo>
                  <a:pt x="10587" y="11808"/>
                  <a:pt x="10612" y="11678"/>
                  <a:pt x="10668" y="11525"/>
                </a:cubicBezTo>
                <a:cubicBezTo>
                  <a:pt x="10707" y="11417"/>
                  <a:pt x="10738" y="11348"/>
                  <a:pt x="10858" y="11335"/>
                </a:cubicBezTo>
                <a:cubicBezTo>
                  <a:pt x="10960" y="11324"/>
                  <a:pt x="11034" y="11381"/>
                  <a:pt x="11081" y="11462"/>
                </a:cubicBezTo>
                <a:cubicBezTo>
                  <a:pt x="11142" y="11566"/>
                  <a:pt x="11097" y="11647"/>
                  <a:pt x="11049" y="11748"/>
                </a:cubicBezTo>
                <a:cubicBezTo>
                  <a:pt x="11007" y="11836"/>
                  <a:pt x="10926" y="11916"/>
                  <a:pt x="10827" y="11938"/>
                </a:cubicBezTo>
                <a:cubicBezTo>
                  <a:pt x="10756" y="11954"/>
                  <a:pt x="10657" y="11949"/>
                  <a:pt x="10604" y="11906"/>
                </a:cubicBezTo>
                <a:cubicBezTo>
                  <a:pt x="10537" y="11851"/>
                  <a:pt x="10594" y="11799"/>
                  <a:pt x="10636" y="11748"/>
                </a:cubicBezTo>
              </a:path>
              <a:path w="4605" h="1969">
                <a:moveTo>
                  <a:pt x="11430" y="11525"/>
                </a:moveTo>
                <a:cubicBezTo>
                  <a:pt x="11438" y="11486"/>
                  <a:pt x="11487" y="11409"/>
                  <a:pt x="11462" y="11366"/>
                </a:cubicBezTo>
                <a:cubicBezTo>
                  <a:pt x="11451" y="11356"/>
                  <a:pt x="11441" y="11345"/>
                  <a:pt x="11430" y="11335"/>
                </a:cubicBezTo>
                <a:cubicBezTo>
                  <a:pt x="11392" y="11344"/>
                  <a:pt x="11297" y="11399"/>
                  <a:pt x="11271" y="11430"/>
                </a:cubicBezTo>
                <a:cubicBezTo>
                  <a:pt x="11215" y="11497"/>
                  <a:pt x="11167" y="11634"/>
                  <a:pt x="11144" y="11716"/>
                </a:cubicBezTo>
                <a:cubicBezTo>
                  <a:pt x="11144" y="11748"/>
                  <a:pt x="11144" y="11758"/>
                  <a:pt x="11144" y="11779"/>
                </a:cubicBezTo>
                <a:cubicBezTo>
                  <a:pt x="11179" y="11805"/>
                  <a:pt x="11221" y="11829"/>
                  <a:pt x="11271" y="11811"/>
                </a:cubicBezTo>
                <a:cubicBezTo>
                  <a:pt x="11358" y="11780"/>
                  <a:pt x="11397" y="11671"/>
                  <a:pt x="11430" y="11589"/>
                </a:cubicBezTo>
                <a:cubicBezTo>
                  <a:pt x="11460" y="11513"/>
                  <a:pt x="11494" y="11446"/>
                  <a:pt x="11494" y="11366"/>
                </a:cubicBezTo>
                <a:cubicBezTo>
                  <a:pt x="11494" y="11283"/>
                  <a:pt x="11464" y="11483"/>
                  <a:pt x="11462" y="11494"/>
                </a:cubicBezTo>
                <a:cubicBezTo>
                  <a:pt x="11450" y="11559"/>
                  <a:pt x="11463" y="11662"/>
                  <a:pt x="11494" y="11716"/>
                </a:cubicBezTo>
                <a:cubicBezTo>
                  <a:pt x="11531" y="11779"/>
                  <a:pt x="11543" y="11770"/>
                  <a:pt x="11589" y="11748"/>
                </a:cubicBezTo>
              </a:path>
              <a:path w="4605" h="1969">
                <a:moveTo>
                  <a:pt x="11684" y="11557"/>
                </a:moveTo>
                <a:cubicBezTo>
                  <a:pt x="11712" y="11502"/>
                  <a:pt x="11736" y="11456"/>
                  <a:pt x="11748" y="11398"/>
                </a:cubicBezTo>
                <a:cubicBezTo>
                  <a:pt x="11803" y="11493"/>
                  <a:pt x="11764" y="11512"/>
                  <a:pt x="11748" y="11620"/>
                </a:cubicBezTo>
                <a:cubicBezTo>
                  <a:pt x="11740" y="11677"/>
                  <a:pt x="11748" y="11957"/>
                  <a:pt x="11748" y="11906"/>
                </a:cubicBezTo>
                <a:cubicBezTo>
                  <a:pt x="11748" y="11798"/>
                  <a:pt x="11747" y="11723"/>
                  <a:pt x="11779" y="11620"/>
                </a:cubicBezTo>
                <a:cubicBezTo>
                  <a:pt x="11807" y="11528"/>
                  <a:pt x="11850" y="11415"/>
                  <a:pt x="11906" y="11335"/>
                </a:cubicBezTo>
                <a:cubicBezTo>
                  <a:pt x="11942" y="11283"/>
                  <a:pt x="12038" y="11274"/>
                  <a:pt x="12097" y="11271"/>
                </a:cubicBezTo>
                <a:cubicBezTo>
                  <a:pt x="12184" y="11266"/>
                  <a:pt x="12247" y="11282"/>
                  <a:pt x="12319" y="11240"/>
                </a:cubicBezTo>
              </a:path>
              <a:path w="4605" h="1969">
                <a:moveTo>
                  <a:pt x="12351" y="10858"/>
                </a:moveTo>
                <a:cubicBezTo>
                  <a:pt x="12351" y="10951"/>
                  <a:pt x="12378" y="11018"/>
                  <a:pt x="12382" y="11112"/>
                </a:cubicBezTo>
                <a:cubicBezTo>
                  <a:pt x="12387" y="11241"/>
                  <a:pt x="12351" y="11362"/>
                  <a:pt x="12351" y="11494"/>
                </a:cubicBezTo>
                <a:cubicBezTo>
                  <a:pt x="12351" y="11610"/>
                  <a:pt x="12364" y="11704"/>
                  <a:pt x="12382" y="11811"/>
                </a:cubicBezTo>
                <a:cubicBezTo>
                  <a:pt x="12393" y="11878"/>
                  <a:pt x="12401" y="11968"/>
                  <a:pt x="12478" y="12002"/>
                </a:cubicBezTo>
                <a:cubicBezTo>
                  <a:pt x="12534" y="12027"/>
                  <a:pt x="12572" y="11971"/>
                  <a:pt x="12605" y="11938"/>
                </a:cubicBezTo>
                <a:cubicBezTo>
                  <a:pt x="12615" y="11927"/>
                  <a:pt x="12626" y="11917"/>
                  <a:pt x="12636" y="11906"/>
                </a:cubicBezTo>
              </a:path>
              <a:path w="4605" h="1969">
                <a:moveTo>
                  <a:pt x="12319" y="11398"/>
                </a:moveTo>
                <a:cubicBezTo>
                  <a:pt x="12234" y="11398"/>
                  <a:pt x="12367" y="11398"/>
                  <a:pt x="12382" y="11398"/>
                </a:cubicBezTo>
                <a:cubicBezTo>
                  <a:pt x="12479" y="11398"/>
                  <a:pt x="12546" y="11400"/>
                  <a:pt x="12636" y="11366"/>
                </a:cubicBezTo>
              </a:path>
              <a:path w="4605" h="1969">
                <a:moveTo>
                  <a:pt x="12890" y="11843"/>
                </a:moveTo>
                <a:cubicBezTo>
                  <a:pt x="12890" y="11905"/>
                  <a:pt x="12868" y="11954"/>
                  <a:pt x="12859" y="12002"/>
                </a:cubicBezTo>
                <a:cubicBezTo>
                  <a:pt x="12845" y="12074"/>
                  <a:pt x="12831" y="12153"/>
                  <a:pt x="12827" y="12224"/>
                </a:cubicBezTo>
                <a:cubicBezTo>
                  <a:pt x="12822" y="12312"/>
                  <a:pt x="12795" y="12287"/>
                  <a:pt x="12827" y="12351"/>
                </a:cubicBezTo>
              </a:path>
              <a:path w="4605" h="1969">
                <a:moveTo>
                  <a:pt x="13811" y="10922"/>
                </a:moveTo>
                <a:cubicBezTo>
                  <a:pt x="13799" y="10838"/>
                  <a:pt x="13764" y="10785"/>
                  <a:pt x="13684" y="10732"/>
                </a:cubicBezTo>
                <a:cubicBezTo>
                  <a:pt x="13604" y="10679"/>
                  <a:pt x="13534" y="10694"/>
                  <a:pt x="13462" y="10732"/>
                </a:cubicBezTo>
                <a:cubicBezTo>
                  <a:pt x="13352" y="10790"/>
                  <a:pt x="13370" y="10816"/>
                  <a:pt x="13335" y="10922"/>
                </a:cubicBezTo>
                <a:cubicBezTo>
                  <a:pt x="13300" y="11028"/>
                  <a:pt x="13285" y="11155"/>
                  <a:pt x="13303" y="11271"/>
                </a:cubicBezTo>
                <a:cubicBezTo>
                  <a:pt x="13329" y="11435"/>
                  <a:pt x="13321" y="11525"/>
                  <a:pt x="13303" y="11684"/>
                </a:cubicBezTo>
                <a:cubicBezTo>
                  <a:pt x="13290" y="11797"/>
                  <a:pt x="13303" y="11919"/>
                  <a:pt x="13303" y="12033"/>
                </a:cubicBezTo>
              </a:path>
              <a:path w="4605" h="1969">
                <a:moveTo>
                  <a:pt x="13113" y="11494"/>
                </a:moveTo>
                <a:cubicBezTo>
                  <a:pt x="13206" y="11494"/>
                  <a:pt x="13274" y="11521"/>
                  <a:pt x="13367" y="11525"/>
                </a:cubicBezTo>
                <a:cubicBezTo>
                  <a:pt x="13443" y="11525"/>
                  <a:pt x="13476" y="11529"/>
                  <a:pt x="13526" y="11557"/>
                </a:cubicBezTo>
              </a:path>
              <a:path w="4605" h="1969">
                <a:moveTo>
                  <a:pt x="13906" y="11462"/>
                </a:moveTo>
                <a:cubicBezTo>
                  <a:pt x="13906" y="11394"/>
                  <a:pt x="13890" y="11414"/>
                  <a:pt x="13875" y="11366"/>
                </a:cubicBezTo>
                <a:cubicBezTo>
                  <a:pt x="13822" y="11419"/>
                  <a:pt x="13783" y="11458"/>
                  <a:pt x="13748" y="11525"/>
                </a:cubicBezTo>
                <a:cubicBezTo>
                  <a:pt x="13701" y="11614"/>
                  <a:pt x="13658" y="11713"/>
                  <a:pt x="13652" y="11811"/>
                </a:cubicBezTo>
                <a:cubicBezTo>
                  <a:pt x="13649" y="11856"/>
                  <a:pt x="13678" y="11958"/>
                  <a:pt x="13748" y="11938"/>
                </a:cubicBezTo>
                <a:cubicBezTo>
                  <a:pt x="13845" y="11910"/>
                  <a:pt x="13842" y="11894"/>
                  <a:pt x="13875" y="11811"/>
                </a:cubicBezTo>
                <a:cubicBezTo>
                  <a:pt x="13905" y="11736"/>
                  <a:pt x="13928" y="11699"/>
                  <a:pt x="13938" y="11620"/>
                </a:cubicBezTo>
                <a:cubicBezTo>
                  <a:pt x="13938" y="11542"/>
                  <a:pt x="13938" y="11690"/>
                  <a:pt x="13938" y="11716"/>
                </a:cubicBezTo>
                <a:cubicBezTo>
                  <a:pt x="13938" y="11755"/>
                  <a:pt x="13938" y="11853"/>
                  <a:pt x="13970" y="11874"/>
                </a:cubicBezTo>
                <a:cubicBezTo>
                  <a:pt x="13981" y="11874"/>
                  <a:pt x="13991" y="11874"/>
                  <a:pt x="14002" y="11874"/>
                </a:cubicBezTo>
              </a:path>
              <a:path w="4605" h="1969">
                <a:moveTo>
                  <a:pt x="14160" y="11462"/>
                </a:moveTo>
                <a:cubicBezTo>
                  <a:pt x="14149" y="11544"/>
                  <a:pt x="14129" y="11594"/>
                  <a:pt x="14129" y="11684"/>
                </a:cubicBezTo>
                <a:cubicBezTo>
                  <a:pt x="14129" y="11760"/>
                  <a:pt x="14160" y="11982"/>
                  <a:pt x="14160" y="11906"/>
                </a:cubicBezTo>
                <a:cubicBezTo>
                  <a:pt x="14160" y="11833"/>
                  <a:pt x="14170" y="11751"/>
                  <a:pt x="14192" y="11684"/>
                </a:cubicBezTo>
                <a:cubicBezTo>
                  <a:pt x="14211" y="11628"/>
                  <a:pt x="14265" y="11492"/>
                  <a:pt x="14319" y="11462"/>
                </a:cubicBezTo>
                <a:cubicBezTo>
                  <a:pt x="14366" y="11436"/>
                  <a:pt x="14446" y="11470"/>
                  <a:pt x="14478" y="114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Ink 6"/>
          <p:cNvSpPr/>
          <p:nvPr/>
        </p:nvSpPr>
        <p:spPr>
          <a:xfrm>
            <a:off x="5383080" y="4114800"/>
            <a:ext cx="949320" cy="480960"/>
          </a:xfrm>
          <a:custGeom>
            <a:avLst/>
            <a:gdLst/>
            <a:ahLst/>
            <a:rect l="l" t="t" r="r" b="b"/>
            <a:pathLst>
              <a:path w="2637" h="1335">
                <a:moveTo>
                  <a:pt x="15272" y="11748"/>
                </a:moveTo>
                <a:cubicBezTo>
                  <a:pt x="15285" y="11698"/>
                  <a:pt x="15304" y="11677"/>
                  <a:pt x="15304" y="11620"/>
                </a:cubicBezTo>
                <a:cubicBezTo>
                  <a:pt x="15304" y="11531"/>
                  <a:pt x="15302" y="11524"/>
                  <a:pt x="15240" y="11462"/>
                </a:cubicBezTo>
                <a:cubicBezTo>
                  <a:pt x="15192" y="11414"/>
                  <a:pt x="15127" y="11440"/>
                  <a:pt x="15081" y="11494"/>
                </a:cubicBezTo>
                <a:cubicBezTo>
                  <a:pt x="15019" y="11567"/>
                  <a:pt x="14971" y="11721"/>
                  <a:pt x="14954" y="11811"/>
                </a:cubicBezTo>
                <a:cubicBezTo>
                  <a:pt x="14942" y="11876"/>
                  <a:pt x="14986" y="11973"/>
                  <a:pt x="15050" y="12002"/>
                </a:cubicBezTo>
                <a:cubicBezTo>
                  <a:pt x="15102" y="12025"/>
                  <a:pt x="15180" y="11978"/>
                  <a:pt x="15208" y="11938"/>
                </a:cubicBezTo>
                <a:cubicBezTo>
                  <a:pt x="15259" y="11867"/>
                  <a:pt x="15285" y="11765"/>
                  <a:pt x="15304" y="11684"/>
                </a:cubicBezTo>
                <a:cubicBezTo>
                  <a:pt x="15304" y="11673"/>
                  <a:pt x="15304" y="11663"/>
                  <a:pt x="15304" y="11652"/>
                </a:cubicBezTo>
                <a:cubicBezTo>
                  <a:pt x="15289" y="11714"/>
                  <a:pt x="15252" y="11775"/>
                  <a:pt x="15240" y="11843"/>
                </a:cubicBezTo>
                <a:cubicBezTo>
                  <a:pt x="15223" y="11943"/>
                  <a:pt x="15241" y="11960"/>
                  <a:pt x="15304" y="12002"/>
                </a:cubicBezTo>
                <a:cubicBezTo>
                  <a:pt x="15314" y="12012"/>
                  <a:pt x="15325" y="12023"/>
                  <a:pt x="15335" y="12033"/>
                </a:cubicBezTo>
                <a:cubicBezTo>
                  <a:pt x="15388" y="11981"/>
                  <a:pt x="15417" y="11928"/>
                  <a:pt x="15462" y="11874"/>
                </a:cubicBezTo>
                <a:cubicBezTo>
                  <a:pt x="15529" y="11794"/>
                  <a:pt x="15562" y="11711"/>
                  <a:pt x="15589" y="11620"/>
                </a:cubicBezTo>
                <a:cubicBezTo>
                  <a:pt x="15589" y="11610"/>
                  <a:pt x="15589" y="11599"/>
                  <a:pt x="15589" y="11589"/>
                </a:cubicBezTo>
                <a:cubicBezTo>
                  <a:pt x="15589" y="11674"/>
                  <a:pt x="15571" y="11733"/>
                  <a:pt x="15558" y="11811"/>
                </a:cubicBezTo>
                <a:cubicBezTo>
                  <a:pt x="15551" y="11856"/>
                  <a:pt x="15582" y="12000"/>
                  <a:pt x="15621" y="12033"/>
                </a:cubicBezTo>
                <a:cubicBezTo>
                  <a:pt x="15663" y="12069"/>
                  <a:pt x="15705" y="12071"/>
                  <a:pt x="15748" y="12033"/>
                </a:cubicBezTo>
                <a:cubicBezTo>
                  <a:pt x="15803" y="11985"/>
                  <a:pt x="15854" y="11880"/>
                  <a:pt x="15875" y="11811"/>
                </a:cubicBezTo>
                <a:cubicBezTo>
                  <a:pt x="15875" y="11766"/>
                  <a:pt x="15881" y="11744"/>
                  <a:pt x="15907" y="11716"/>
                </a:cubicBezTo>
                <a:cubicBezTo>
                  <a:pt x="15907" y="11814"/>
                  <a:pt x="15878" y="11958"/>
                  <a:pt x="15938" y="12033"/>
                </a:cubicBezTo>
                <a:cubicBezTo>
                  <a:pt x="15983" y="12090"/>
                  <a:pt x="16054" y="12126"/>
                  <a:pt x="16129" y="12097"/>
                </a:cubicBezTo>
                <a:cubicBezTo>
                  <a:pt x="16233" y="12057"/>
                  <a:pt x="16227" y="11992"/>
                  <a:pt x="16256" y="11906"/>
                </a:cubicBezTo>
                <a:cubicBezTo>
                  <a:pt x="16279" y="11838"/>
                  <a:pt x="16317" y="11728"/>
                  <a:pt x="16288" y="11652"/>
                </a:cubicBezTo>
                <a:cubicBezTo>
                  <a:pt x="16281" y="11633"/>
                  <a:pt x="16227" y="11546"/>
                  <a:pt x="16192" y="11589"/>
                </a:cubicBezTo>
                <a:cubicBezTo>
                  <a:pt x="16192" y="11620"/>
                  <a:pt x="16192" y="11631"/>
                  <a:pt x="16192" y="11652"/>
                </a:cubicBezTo>
              </a:path>
              <a:path w="2637" h="1335">
                <a:moveTo>
                  <a:pt x="16732" y="11843"/>
                </a:moveTo>
                <a:cubicBezTo>
                  <a:pt x="16763" y="11792"/>
                  <a:pt x="16785" y="11719"/>
                  <a:pt x="16764" y="11652"/>
                </a:cubicBezTo>
                <a:cubicBezTo>
                  <a:pt x="16732" y="11620"/>
                  <a:pt x="16722" y="11610"/>
                  <a:pt x="16700" y="11589"/>
                </a:cubicBezTo>
                <a:cubicBezTo>
                  <a:pt x="16657" y="11613"/>
                  <a:pt x="16607" y="11632"/>
                  <a:pt x="16574" y="11684"/>
                </a:cubicBezTo>
                <a:cubicBezTo>
                  <a:pt x="16545" y="11730"/>
                  <a:pt x="16442" y="11916"/>
                  <a:pt x="16446" y="11970"/>
                </a:cubicBezTo>
                <a:cubicBezTo>
                  <a:pt x="16475" y="11999"/>
                  <a:pt x="16485" y="12005"/>
                  <a:pt x="16478" y="12033"/>
                </a:cubicBezTo>
                <a:cubicBezTo>
                  <a:pt x="16595" y="12014"/>
                  <a:pt x="16568" y="12050"/>
                  <a:pt x="16669" y="11970"/>
                </a:cubicBezTo>
                <a:cubicBezTo>
                  <a:pt x="16722" y="11928"/>
                  <a:pt x="16764" y="11838"/>
                  <a:pt x="16796" y="11779"/>
                </a:cubicBezTo>
                <a:cubicBezTo>
                  <a:pt x="16819" y="11736"/>
                  <a:pt x="16835" y="11682"/>
                  <a:pt x="16796" y="11748"/>
                </a:cubicBezTo>
                <a:cubicBezTo>
                  <a:pt x="16778" y="11778"/>
                  <a:pt x="16728" y="11903"/>
                  <a:pt x="16732" y="11938"/>
                </a:cubicBezTo>
                <a:cubicBezTo>
                  <a:pt x="16734" y="11956"/>
                  <a:pt x="16768" y="12065"/>
                  <a:pt x="16796" y="12065"/>
                </a:cubicBezTo>
                <a:cubicBezTo>
                  <a:pt x="16844" y="12065"/>
                  <a:pt x="16954" y="12007"/>
                  <a:pt x="16986" y="11970"/>
                </a:cubicBezTo>
                <a:cubicBezTo>
                  <a:pt x="17063" y="11880"/>
                  <a:pt x="17070" y="11746"/>
                  <a:pt x="17113" y="11652"/>
                </a:cubicBezTo>
                <a:cubicBezTo>
                  <a:pt x="17124" y="11641"/>
                  <a:pt x="17134" y="11631"/>
                  <a:pt x="17145" y="11620"/>
                </a:cubicBezTo>
                <a:cubicBezTo>
                  <a:pt x="17139" y="11693"/>
                  <a:pt x="17124" y="11744"/>
                  <a:pt x="17113" y="11811"/>
                </a:cubicBezTo>
                <a:cubicBezTo>
                  <a:pt x="17098" y="11902"/>
                  <a:pt x="17117" y="11966"/>
                  <a:pt x="17177" y="12033"/>
                </a:cubicBezTo>
                <a:cubicBezTo>
                  <a:pt x="17187" y="12044"/>
                  <a:pt x="17198" y="12054"/>
                  <a:pt x="17208" y="12065"/>
                </a:cubicBezTo>
                <a:cubicBezTo>
                  <a:pt x="17246" y="12043"/>
                  <a:pt x="17334" y="12008"/>
                  <a:pt x="17367" y="11970"/>
                </a:cubicBezTo>
                <a:cubicBezTo>
                  <a:pt x="17433" y="11892"/>
                  <a:pt x="17480" y="11776"/>
                  <a:pt x="17526" y="11684"/>
                </a:cubicBezTo>
                <a:cubicBezTo>
                  <a:pt x="17554" y="11628"/>
                  <a:pt x="17558" y="11613"/>
                  <a:pt x="17590" y="11589"/>
                </a:cubicBezTo>
                <a:cubicBezTo>
                  <a:pt x="17590" y="11670"/>
                  <a:pt x="17567" y="11732"/>
                  <a:pt x="17558" y="11811"/>
                </a:cubicBezTo>
                <a:cubicBezTo>
                  <a:pt x="17542" y="11948"/>
                  <a:pt x="17531" y="12088"/>
                  <a:pt x="17526" y="12224"/>
                </a:cubicBezTo>
                <a:cubicBezTo>
                  <a:pt x="17521" y="12360"/>
                  <a:pt x="17489" y="12446"/>
                  <a:pt x="17462" y="12573"/>
                </a:cubicBezTo>
                <a:cubicBezTo>
                  <a:pt x="17440" y="12674"/>
                  <a:pt x="17403" y="12680"/>
                  <a:pt x="17336" y="12732"/>
                </a:cubicBezTo>
                <a:cubicBezTo>
                  <a:pt x="17325" y="12743"/>
                  <a:pt x="17315" y="12753"/>
                  <a:pt x="17304" y="127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Ink 7"/>
          <p:cNvSpPr/>
          <p:nvPr/>
        </p:nvSpPr>
        <p:spPr>
          <a:xfrm>
            <a:off x="2732040" y="4525920"/>
            <a:ext cx="1336680" cy="469800"/>
          </a:xfrm>
          <a:custGeom>
            <a:avLst/>
            <a:gdLst/>
            <a:ahLst/>
            <a:rect l="l" t="t" r="r" b="b"/>
            <a:pathLst>
              <a:path w="3716" h="1303">
                <a:moveTo>
                  <a:pt x="8064" y="12573"/>
                </a:moveTo>
                <a:cubicBezTo>
                  <a:pt x="8114" y="12640"/>
                  <a:pt x="8065" y="12658"/>
                  <a:pt x="8096" y="12732"/>
                </a:cubicBezTo>
                <a:cubicBezTo>
                  <a:pt x="8131" y="12816"/>
                  <a:pt x="8128" y="12884"/>
                  <a:pt x="8128" y="12986"/>
                </a:cubicBezTo>
                <a:cubicBezTo>
                  <a:pt x="8128" y="13126"/>
                  <a:pt x="8100" y="13233"/>
                  <a:pt x="8064" y="13367"/>
                </a:cubicBezTo>
                <a:cubicBezTo>
                  <a:pt x="8031" y="13489"/>
                  <a:pt x="8010" y="13624"/>
                  <a:pt x="8001" y="13748"/>
                </a:cubicBezTo>
                <a:cubicBezTo>
                  <a:pt x="7996" y="13816"/>
                  <a:pt x="8001" y="13818"/>
                  <a:pt x="8001" y="13748"/>
                </a:cubicBezTo>
                <a:cubicBezTo>
                  <a:pt x="8001" y="13647"/>
                  <a:pt x="7979" y="13554"/>
                  <a:pt x="7969" y="13462"/>
                </a:cubicBezTo>
                <a:cubicBezTo>
                  <a:pt x="7958" y="13358"/>
                  <a:pt x="7964" y="13237"/>
                  <a:pt x="7906" y="13144"/>
                </a:cubicBezTo>
                <a:cubicBezTo>
                  <a:pt x="7881" y="13104"/>
                  <a:pt x="7786" y="13094"/>
                  <a:pt x="7747" y="13113"/>
                </a:cubicBezTo>
                <a:cubicBezTo>
                  <a:pt x="7672" y="13149"/>
                  <a:pt x="7640" y="13266"/>
                  <a:pt x="7620" y="13335"/>
                </a:cubicBezTo>
                <a:cubicBezTo>
                  <a:pt x="7580" y="13473"/>
                  <a:pt x="7576" y="13584"/>
                  <a:pt x="7620" y="13716"/>
                </a:cubicBezTo>
                <a:cubicBezTo>
                  <a:pt x="7666" y="13852"/>
                  <a:pt x="7737" y="13870"/>
                  <a:pt x="7874" y="13875"/>
                </a:cubicBezTo>
                <a:cubicBezTo>
                  <a:pt x="7984" y="13879"/>
                  <a:pt x="8008" y="13835"/>
                  <a:pt x="8096" y="13780"/>
                </a:cubicBezTo>
              </a:path>
              <a:path w="3716" h="1303">
                <a:moveTo>
                  <a:pt x="8318" y="12986"/>
                </a:moveTo>
                <a:cubicBezTo>
                  <a:pt x="8318" y="13067"/>
                  <a:pt x="8347" y="13124"/>
                  <a:pt x="8350" y="13208"/>
                </a:cubicBezTo>
                <a:cubicBezTo>
                  <a:pt x="8357" y="13398"/>
                  <a:pt x="8350" y="13590"/>
                  <a:pt x="8350" y="13780"/>
                </a:cubicBezTo>
              </a:path>
              <a:path w="3716" h="1303">
                <a:moveTo>
                  <a:pt x="8826" y="13081"/>
                </a:moveTo>
                <a:cubicBezTo>
                  <a:pt x="8826" y="13049"/>
                  <a:pt x="8826" y="13018"/>
                  <a:pt x="8826" y="12986"/>
                </a:cubicBezTo>
                <a:cubicBezTo>
                  <a:pt x="8763" y="12986"/>
                  <a:pt x="8725" y="12980"/>
                  <a:pt x="8668" y="13018"/>
                </a:cubicBezTo>
                <a:cubicBezTo>
                  <a:pt x="8625" y="13046"/>
                  <a:pt x="8577" y="13096"/>
                  <a:pt x="8572" y="13144"/>
                </a:cubicBezTo>
                <a:cubicBezTo>
                  <a:pt x="8560" y="13247"/>
                  <a:pt x="8583" y="13285"/>
                  <a:pt x="8668" y="13335"/>
                </a:cubicBezTo>
                <a:cubicBezTo>
                  <a:pt x="8730" y="13371"/>
                  <a:pt x="8807" y="13484"/>
                  <a:pt x="8826" y="13557"/>
                </a:cubicBezTo>
                <a:cubicBezTo>
                  <a:pt x="8842" y="13620"/>
                  <a:pt x="8835" y="13702"/>
                  <a:pt x="8795" y="13748"/>
                </a:cubicBezTo>
                <a:cubicBezTo>
                  <a:pt x="8756" y="13792"/>
                  <a:pt x="8722" y="13780"/>
                  <a:pt x="8668" y="13780"/>
                </a:cubicBezTo>
                <a:cubicBezTo>
                  <a:pt x="8600" y="13780"/>
                  <a:pt x="8546" y="13758"/>
                  <a:pt x="8541" y="13684"/>
                </a:cubicBezTo>
                <a:cubicBezTo>
                  <a:pt x="8541" y="13627"/>
                  <a:pt x="8537" y="13611"/>
                  <a:pt x="8572" y="13589"/>
                </a:cubicBezTo>
              </a:path>
              <a:path w="3716" h="1303">
                <a:moveTo>
                  <a:pt x="9176" y="12859"/>
                </a:moveTo>
                <a:cubicBezTo>
                  <a:pt x="9176" y="12940"/>
                  <a:pt x="9199" y="13002"/>
                  <a:pt x="9208" y="13081"/>
                </a:cubicBezTo>
                <a:cubicBezTo>
                  <a:pt x="9237" y="13328"/>
                  <a:pt x="9208" y="13594"/>
                  <a:pt x="9208" y="13843"/>
                </a:cubicBezTo>
              </a:path>
              <a:path w="3716" h="1303">
                <a:moveTo>
                  <a:pt x="9017" y="13272"/>
                </a:moveTo>
                <a:cubicBezTo>
                  <a:pt x="9088" y="13328"/>
                  <a:pt x="9148" y="13364"/>
                  <a:pt x="9239" y="13367"/>
                </a:cubicBezTo>
                <a:cubicBezTo>
                  <a:pt x="9356" y="13367"/>
                  <a:pt x="9388" y="13367"/>
                  <a:pt x="9462" y="13367"/>
                </a:cubicBezTo>
              </a:path>
              <a:path w="3716" h="1303">
                <a:moveTo>
                  <a:pt x="9779" y="13272"/>
                </a:moveTo>
                <a:cubicBezTo>
                  <a:pt x="9792" y="13222"/>
                  <a:pt x="9811" y="13201"/>
                  <a:pt x="9811" y="13144"/>
                </a:cubicBezTo>
                <a:cubicBezTo>
                  <a:pt x="9748" y="13144"/>
                  <a:pt x="9703" y="13166"/>
                  <a:pt x="9652" y="13208"/>
                </a:cubicBezTo>
                <a:cubicBezTo>
                  <a:pt x="9574" y="13272"/>
                  <a:pt x="9514" y="13397"/>
                  <a:pt x="9493" y="13494"/>
                </a:cubicBezTo>
                <a:cubicBezTo>
                  <a:pt x="9486" y="13528"/>
                  <a:pt x="9537" y="13655"/>
                  <a:pt x="9588" y="13652"/>
                </a:cubicBezTo>
                <a:cubicBezTo>
                  <a:pt x="9638" y="13649"/>
                  <a:pt x="9792" y="13534"/>
                  <a:pt x="9811" y="13494"/>
                </a:cubicBezTo>
                <a:cubicBezTo>
                  <a:pt x="9832" y="13451"/>
                  <a:pt x="9900" y="13291"/>
                  <a:pt x="9906" y="13240"/>
                </a:cubicBezTo>
                <a:cubicBezTo>
                  <a:pt x="9906" y="13208"/>
                  <a:pt x="9906" y="13197"/>
                  <a:pt x="9906" y="13240"/>
                </a:cubicBezTo>
                <a:cubicBezTo>
                  <a:pt x="9906" y="13332"/>
                  <a:pt x="9884" y="13411"/>
                  <a:pt x="9874" y="13494"/>
                </a:cubicBezTo>
                <a:cubicBezTo>
                  <a:pt x="9862" y="13592"/>
                  <a:pt x="9859" y="13733"/>
                  <a:pt x="9906" y="13811"/>
                </a:cubicBezTo>
              </a:path>
              <a:path w="3716" h="1303">
                <a:moveTo>
                  <a:pt x="10128" y="13176"/>
                </a:moveTo>
                <a:cubicBezTo>
                  <a:pt x="10081" y="13255"/>
                  <a:pt x="10096" y="13330"/>
                  <a:pt x="10096" y="13430"/>
                </a:cubicBezTo>
                <a:cubicBezTo>
                  <a:pt x="10096" y="13557"/>
                  <a:pt x="10096" y="13684"/>
                  <a:pt x="10096" y="13811"/>
                </a:cubicBezTo>
                <a:cubicBezTo>
                  <a:pt x="10026" y="13788"/>
                  <a:pt x="10086" y="13722"/>
                  <a:pt x="10096" y="13652"/>
                </a:cubicBezTo>
                <a:cubicBezTo>
                  <a:pt x="10116" y="13516"/>
                  <a:pt x="10139" y="13387"/>
                  <a:pt x="10224" y="13272"/>
                </a:cubicBezTo>
                <a:cubicBezTo>
                  <a:pt x="10270" y="13210"/>
                  <a:pt x="10353" y="13105"/>
                  <a:pt x="10446" y="13144"/>
                </a:cubicBezTo>
                <a:cubicBezTo>
                  <a:pt x="10491" y="13163"/>
                  <a:pt x="10565" y="13322"/>
                  <a:pt x="10573" y="13367"/>
                </a:cubicBezTo>
                <a:cubicBezTo>
                  <a:pt x="10589" y="13461"/>
                  <a:pt x="10568" y="13598"/>
                  <a:pt x="10541" y="13684"/>
                </a:cubicBezTo>
                <a:cubicBezTo>
                  <a:pt x="10515" y="13736"/>
                  <a:pt x="10504" y="13744"/>
                  <a:pt x="10509" y="13780"/>
                </a:cubicBezTo>
              </a:path>
              <a:path w="3716" h="1303">
                <a:moveTo>
                  <a:pt x="10986" y="13208"/>
                </a:moveTo>
                <a:cubicBezTo>
                  <a:pt x="10986" y="13152"/>
                  <a:pt x="10988" y="13157"/>
                  <a:pt x="10954" y="13113"/>
                </a:cubicBezTo>
                <a:cubicBezTo>
                  <a:pt x="10873" y="13133"/>
                  <a:pt x="10848" y="13180"/>
                  <a:pt x="10795" y="13240"/>
                </a:cubicBezTo>
                <a:cubicBezTo>
                  <a:pt x="10719" y="13327"/>
                  <a:pt x="10642" y="13428"/>
                  <a:pt x="10668" y="13557"/>
                </a:cubicBezTo>
                <a:cubicBezTo>
                  <a:pt x="10685" y="13643"/>
                  <a:pt x="10717" y="13728"/>
                  <a:pt x="10795" y="13780"/>
                </a:cubicBezTo>
                <a:cubicBezTo>
                  <a:pt x="10878" y="13835"/>
                  <a:pt x="10946" y="13806"/>
                  <a:pt x="11017" y="13748"/>
                </a:cubicBezTo>
                <a:cubicBezTo>
                  <a:pt x="11083" y="13693"/>
                  <a:pt x="11179" y="13574"/>
                  <a:pt x="11208" y="13494"/>
                </a:cubicBezTo>
                <a:cubicBezTo>
                  <a:pt x="11245" y="13391"/>
                  <a:pt x="11263" y="13252"/>
                  <a:pt x="11271" y="13144"/>
                </a:cubicBezTo>
                <a:cubicBezTo>
                  <a:pt x="11271" y="13134"/>
                  <a:pt x="11271" y="13123"/>
                  <a:pt x="11271" y="13113"/>
                </a:cubicBezTo>
                <a:cubicBezTo>
                  <a:pt x="11196" y="13113"/>
                  <a:pt x="11203" y="13142"/>
                  <a:pt x="11176" y="13208"/>
                </a:cubicBezTo>
                <a:cubicBezTo>
                  <a:pt x="11125" y="13335"/>
                  <a:pt x="11112" y="13419"/>
                  <a:pt x="11112" y="13557"/>
                </a:cubicBezTo>
                <a:cubicBezTo>
                  <a:pt x="11112" y="13645"/>
                  <a:pt x="11149" y="13716"/>
                  <a:pt x="11208" y="13780"/>
                </a:cubicBezTo>
                <a:cubicBezTo>
                  <a:pt x="11244" y="13815"/>
                  <a:pt x="11261" y="13826"/>
                  <a:pt x="11303" y="138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Ink 8"/>
          <p:cNvSpPr/>
          <p:nvPr/>
        </p:nvSpPr>
        <p:spPr>
          <a:xfrm>
            <a:off x="4365720" y="4572000"/>
            <a:ext cx="1555560" cy="595440"/>
          </a:xfrm>
          <a:custGeom>
            <a:avLst/>
            <a:gdLst/>
            <a:ahLst/>
            <a:rect l="l" t="t" r="r" b="b"/>
            <a:pathLst>
              <a:path w="4319" h="1652">
                <a:moveTo>
                  <a:pt x="12319" y="12700"/>
                </a:moveTo>
                <a:cubicBezTo>
                  <a:pt x="12267" y="12786"/>
                  <a:pt x="12278" y="12885"/>
                  <a:pt x="12256" y="12986"/>
                </a:cubicBezTo>
                <a:cubicBezTo>
                  <a:pt x="12218" y="13156"/>
                  <a:pt x="12200" y="13325"/>
                  <a:pt x="12160" y="13494"/>
                </a:cubicBezTo>
                <a:cubicBezTo>
                  <a:pt x="12133" y="13606"/>
                  <a:pt x="12128" y="13694"/>
                  <a:pt x="12128" y="13811"/>
                </a:cubicBezTo>
                <a:cubicBezTo>
                  <a:pt x="12128" y="13822"/>
                  <a:pt x="12128" y="13832"/>
                  <a:pt x="12128" y="13843"/>
                </a:cubicBezTo>
                <a:cubicBezTo>
                  <a:pt x="12128" y="13743"/>
                  <a:pt x="12128" y="13680"/>
                  <a:pt x="12160" y="13589"/>
                </a:cubicBezTo>
                <a:cubicBezTo>
                  <a:pt x="12202" y="13470"/>
                  <a:pt x="12238" y="13367"/>
                  <a:pt x="12319" y="13272"/>
                </a:cubicBezTo>
                <a:cubicBezTo>
                  <a:pt x="12389" y="13190"/>
                  <a:pt x="12453" y="13201"/>
                  <a:pt x="12541" y="13240"/>
                </a:cubicBezTo>
                <a:cubicBezTo>
                  <a:pt x="12665" y="13295"/>
                  <a:pt x="12671" y="13413"/>
                  <a:pt x="12700" y="13526"/>
                </a:cubicBezTo>
                <a:cubicBezTo>
                  <a:pt x="12719" y="13598"/>
                  <a:pt x="12740" y="13725"/>
                  <a:pt x="12668" y="13780"/>
                </a:cubicBezTo>
                <a:cubicBezTo>
                  <a:pt x="12577" y="13850"/>
                  <a:pt x="12564" y="13828"/>
                  <a:pt x="12478" y="13811"/>
                </a:cubicBezTo>
                <a:cubicBezTo>
                  <a:pt x="12413" y="13798"/>
                  <a:pt x="12373" y="13779"/>
                  <a:pt x="12319" y="13748"/>
                </a:cubicBezTo>
                <a:cubicBezTo>
                  <a:pt x="12383" y="13748"/>
                  <a:pt x="12382" y="13748"/>
                  <a:pt x="12446" y="13748"/>
                </a:cubicBezTo>
                <a:cubicBezTo>
                  <a:pt x="12559" y="13748"/>
                  <a:pt x="12627" y="13724"/>
                  <a:pt x="12732" y="13684"/>
                </a:cubicBezTo>
                <a:cubicBezTo>
                  <a:pt x="12861" y="13635"/>
                  <a:pt x="12920" y="13592"/>
                  <a:pt x="13018" y="13494"/>
                </a:cubicBezTo>
                <a:cubicBezTo>
                  <a:pt x="13083" y="13429"/>
                  <a:pt x="13155" y="13302"/>
                  <a:pt x="13176" y="13208"/>
                </a:cubicBezTo>
                <a:cubicBezTo>
                  <a:pt x="13189" y="13149"/>
                  <a:pt x="13149" y="13159"/>
                  <a:pt x="13144" y="13144"/>
                </a:cubicBezTo>
                <a:cubicBezTo>
                  <a:pt x="13050" y="13192"/>
                  <a:pt x="13038" y="13199"/>
                  <a:pt x="12986" y="13303"/>
                </a:cubicBezTo>
                <a:cubicBezTo>
                  <a:pt x="12949" y="13376"/>
                  <a:pt x="12871" y="13504"/>
                  <a:pt x="12890" y="13589"/>
                </a:cubicBezTo>
                <a:cubicBezTo>
                  <a:pt x="12915" y="13698"/>
                  <a:pt x="12977" y="13743"/>
                  <a:pt x="13081" y="13748"/>
                </a:cubicBezTo>
                <a:cubicBezTo>
                  <a:pt x="13168" y="13748"/>
                  <a:pt x="13193" y="13751"/>
                  <a:pt x="13240" y="13716"/>
                </a:cubicBezTo>
              </a:path>
              <a:path w="4319" h="1652">
                <a:moveTo>
                  <a:pt x="13621" y="12954"/>
                </a:moveTo>
                <a:cubicBezTo>
                  <a:pt x="13548" y="12978"/>
                  <a:pt x="13578" y="13069"/>
                  <a:pt x="13557" y="13144"/>
                </a:cubicBezTo>
                <a:cubicBezTo>
                  <a:pt x="13523" y="13266"/>
                  <a:pt x="13499" y="13396"/>
                  <a:pt x="13494" y="13526"/>
                </a:cubicBezTo>
                <a:cubicBezTo>
                  <a:pt x="13490" y="13621"/>
                  <a:pt x="13494" y="13716"/>
                  <a:pt x="13494" y="13811"/>
                </a:cubicBezTo>
              </a:path>
              <a:path w="4319" h="1652">
                <a:moveTo>
                  <a:pt x="13335" y="13272"/>
                </a:moveTo>
                <a:cubicBezTo>
                  <a:pt x="13263" y="13272"/>
                  <a:pt x="13374" y="13301"/>
                  <a:pt x="13398" y="13303"/>
                </a:cubicBezTo>
                <a:cubicBezTo>
                  <a:pt x="13528" y="13312"/>
                  <a:pt x="13660" y="13311"/>
                  <a:pt x="13780" y="13272"/>
                </a:cubicBezTo>
              </a:path>
              <a:path w="4319" h="1652">
                <a:moveTo>
                  <a:pt x="13906" y="13176"/>
                </a:moveTo>
                <a:cubicBezTo>
                  <a:pt x="13876" y="13215"/>
                  <a:pt x="13863" y="13260"/>
                  <a:pt x="13843" y="13335"/>
                </a:cubicBezTo>
                <a:cubicBezTo>
                  <a:pt x="13829" y="13387"/>
                  <a:pt x="13775" y="13539"/>
                  <a:pt x="13780" y="13589"/>
                </a:cubicBezTo>
                <a:cubicBezTo>
                  <a:pt x="13787" y="13654"/>
                  <a:pt x="13831" y="13704"/>
                  <a:pt x="13875" y="13748"/>
                </a:cubicBezTo>
                <a:cubicBezTo>
                  <a:pt x="13923" y="13724"/>
                  <a:pt x="13996" y="13705"/>
                  <a:pt x="14034" y="13652"/>
                </a:cubicBezTo>
                <a:cubicBezTo>
                  <a:pt x="14077" y="13592"/>
                  <a:pt x="14192" y="13405"/>
                  <a:pt x="14192" y="13335"/>
                </a:cubicBezTo>
                <a:cubicBezTo>
                  <a:pt x="14192" y="13290"/>
                  <a:pt x="14186" y="13291"/>
                  <a:pt x="14160" y="13367"/>
                </a:cubicBezTo>
                <a:cubicBezTo>
                  <a:pt x="14160" y="13470"/>
                  <a:pt x="14153" y="13530"/>
                  <a:pt x="14192" y="13621"/>
                </a:cubicBezTo>
                <a:cubicBezTo>
                  <a:pt x="14218" y="13682"/>
                  <a:pt x="14246" y="13733"/>
                  <a:pt x="14319" y="13716"/>
                </a:cubicBezTo>
                <a:cubicBezTo>
                  <a:pt x="14397" y="13698"/>
                  <a:pt x="14398" y="13651"/>
                  <a:pt x="14446" y="13589"/>
                </a:cubicBezTo>
                <a:cubicBezTo>
                  <a:pt x="14511" y="13505"/>
                  <a:pt x="14546" y="13457"/>
                  <a:pt x="14573" y="13367"/>
                </a:cubicBezTo>
                <a:cubicBezTo>
                  <a:pt x="14573" y="13424"/>
                  <a:pt x="14569" y="13417"/>
                  <a:pt x="14605" y="13462"/>
                </a:cubicBezTo>
                <a:cubicBezTo>
                  <a:pt x="14652" y="13520"/>
                  <a:pt x="14688" y="13537"/>
                  <a:pt x="14764" y="13526"/>
                </a:cubicBezTo>
                <a:cubicBezTo>
                  <a:pt x="14800" y="13521"/>
                  <a:pt x="14898" y="13458"/>
                  <a:pt x="14922" y="13430"/>
                </a:cubicBezTo>
                <a:cubicBezTo>
                  <a:pt x="14958" y="13388"/>
                  <a:pt x="14966" y="13316"/>
                  <a:pt x="14986" y="13272"/>
                </a:cubicBezTo>
                <a:cubicBezTo>
                  <a:pt x="14936" y="13222"/>
                  <a:pt x="14919" y="13198"/>
                  <a:pt x="14859" y="13240"/>
                </a:cubicBezTo>
                <a:cubicBezTo>
                  <a:pt x="14766" y="13306"/>
                  <a:pt x="14737" y="13385"/>
                  <a:pt x="14732" y="13494"/>
                </a:cubicBezTo>
                <a:cubicBezTo>
                  <a:pt x="14729" y="13567"/>
                  <a:pt x="14719" y="13628"/>
                  <a:pt x="14764" y="13684"/>
                </a:cubicBezTo>
                <a:cubicBezTo>
                  <a:pt x="14813" y="13745"/>
                  <a:pt x="14874" y="13770"/>
                  <a:pt x="14954" y="13748"/>
                </a:cubicBezTo>
                <a:cubicBezTo>
                  <a:pt x="15053" y="13720"/>
                  <a:pt x="15123" y="13675"/>
                  <a:pt x="15208" y="13621"/>
                </a:cubicBezTo>
                <a:cubicBezTo>
                  <a:pt x="15269" y="13582"/>
                  <a:pt x="15352" y="13546"/>
                  <a:pt x="15367" y="13462"/>
                </a:cubicBezTo>
                <a:cubicBezTo>
                  <a:pt x="15382" y="13377"/>
                  <a:pt x="15361" y="13334"/>
                  <a:pt x="15335" y="13272"/>
                </a:cubicBezTo>
                <a:cubicBezTo>
                  <a:pt x="15302" y="13192"/>
                  <a:pt x="15276" y="13203"/>
                  <a:pt x="15208" y="13240"/>
                </a:cubicBezTo>
                <a:cubicBezTo>
                  <a:pt x="15138" y="13278"/>
                  <a:pt x="15127" y="13331"/>
                  <a:pt x="15113" y="13430"/>
                </a:cubicBezTo>
                <a:cubicBezTo>
                  <a:pt x="15102" y="13508"/>
                  <a:pt x="15150" y="13590"/>
                  <a:pt x="15176" y="13652"/>
                </a:cubicBezTo>
                <a:cubicBezTo>
                  <a:pt x="15206" y="13722"/>
                  <a:pt x="15261" y="13737"/>
                  <a:pt x="15335" y="13716"/>
                </a:cubicBezTo>
                <a:cubicBezTo>
                  <a:pt x="15394" y="13700"/>
                  <a:pt x="15519" y="13577"/>
                  <a:pt x="15558" y="13526"/>
                </a:cubicBezTo>
                <a:cubicBezTo>
                  <a:pt x="15604" y="13465"/>
                  <a:pt x="15625" y="13376"/>
                  <a:pt x="15653" y="13335"/>
                </a:cubicBezTo>
                <a:cubicBezTo>
                  <a:pt x="15646" y="13409"/>
                  <a:pt x="15640" y="13458"/>
                  <a:pt x="15621" y="13526"/>
                </a:cubicBezTo>
                <a:cubicBezTo>
                  <a:pt x="15603" y="13593"/>
                  <a:pt x="15583" y="13680"/>
                  <a:pt x="15558" y="13748"/>
                </a:cubicBezTo>
                <a:cubicBezTo>
                  <a:pt x="15573" y="13678"/>
                  <a:pt x="15585" y="13661"/>
                  <a:pt x="15621" y="13589"/>
                </a:cubicBezTo>
                <a:cubicBezTo>
                  <a:pt x="15662" y="13509"/>
                  <a:pt x="15687" y="13364"/>
                  <a:pt x="15748" y="13303"/>
                </a:cubicBezTo>
                <a:cubicBezTo>
                  <a:pt x="15788" y="13263"/>
                  <a:pt x="15835" y="13262"/>
                  <a:pt x="15875" y="13240"/>
                </a:cubicBezTo>
                <a:cubicBezTo>
                  <a:pt x="15905" y="13277"/>
                  <a:pt x="15961" y="13322"/>
                  <a:pt x="15970" y="13367"/>
                </a:cubicBezTo>
                <a:cubicBezTo>
                  <a:pt x="16000" y="13519"/>
                  <a:pt x="15940" y="13665"/>
                  <a:pt x="16002" y="13811"/>
                </a:cubicBezTo>
                <a:cubicBezTo>
                  <a:pt x="16030" y="13867"/>
                  <a:pt x="16034" y="13882"/>
                  <a:pt x="16066" y="13906"/>
                </a:cubicBezTo>
              </a:path>
              <a:path w="4319" h="1652">
                <a:moveTo>
                  <a:pt x="16383" y="13716"/>
                </a:moveTo>
                <a:cubicBezTo>
                  <a:pt x="16438" y="13812"/>
                  <a:pt x="16446" y="13855"/>
                  <a:pt x="16446" y="13970"/>
                </a:cubicBezTo>
                <a:cubicBezTo>
                  <a:pt x="16446" y="14083"/>
                  <a:pt x="16398" y="14187"/>
                  <a:pt x="16351" y="14288"/>
                </a:cubicBezTo>
                <a:cubicBezTo>
                  <a:pt x="16341" y="14309"/>
                  <a:pt x="16330" y="14330"/>
                  <a:pt x="16320" y="143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Ink 9"/>
          <p:cNvSpPr/>
          <p:nvPr/>
        </p:nvSpPr>
        <p:spPr>
          <a:xfrm>
            <a:off x="6093000" y="4675320"/>
            <a:ext cx="1039680" cy="503280"/>
          </a:xfrm>
          <a:custGeom>
            <a:avLst/>
            <a:gdLst/>
            <a:ahLst/>
            <a:rect l="l" t="t" r="r" b="b"/>
            <a:pathLst>
              <a:path w="2890" h="1398">
                <a:moveTo>
                  <a:pt x="17018" y="12986"/>
                </a:moveTo>
                <a:cubicBezTo>
                  <a:pt x="17018" y="13074"/>
                  <a:pt x="16989" y="13150"/>
                  <a:pt x="16986" y="13240"/>
                </a:cubicBezTo>
                <a:cubicBezTo>
                  <a:pt x="16981" y="13369"/>
                  <a:pt x="16977" y="13524"/>
                  <a:pt x="16954" y="13652"/>
                </a:cubicBezTo>
                <a:cubicBezTo>
                  <a:pt x="16940" y="13728"/>
                  <a:pt x="16923" y="13767"/>
                  <a:pt x="16923" y="13843"/>
                </a:cubicBezTo>
              </a:path>
              <a:path w="2890" h="1398">
                <a:moveTo>
                  <a:pt x="17208" y="13462"/>
                </a:moveTo>
                <a:cubicBezTo>
                  <a:pt x="17272" y="13424"/>
                  <a:pt x="17320" y="13430"/>
                  <a:pt x="17399" y="13430"/>
                </a:cubicBezTo>
                <a:cubicBezTo>
                  <a:pt x="17522" y="13430"/>
                  <a:pt x="17513" y="13422"/>
                  <a:pt x="17590" y="13335"/>
                </a:cubicBezTo>
                <a:cubicBezTo>
                  <a:pt x="17621" y="13303"/>
                  <a:pt x="17631" y="13292"/>
                  <a:pt x="17653" y="13272"/>
                </a:cubicBezTo>
                <a:cubicBezTo>
                  <a:pt x="17647" y="13254"/>
                  <a:pt x="17621" y="13192"/>
                  <a:pt x="17590" y="13208"/>
                </a:cubicBezTo>
                <a:cubicBezTo>
                  <a:pt x="17526" y="13241"/>
                  <a:pt x="17460" y="13248"/>
                  <a:pt x="17399" y="13303"/>
                </a:cubicBezTo>
                <a:cubicBezTo>
                  <a:pt x="17346" y="13350"/>
                  <a:pt x="17315" y="13454"/>
                  <a:pt x="17336" y="13526"/>
                </a:cubicBezTo>
                <a:cubicBezTo>
                  <a:pt x="17366" y="13631"/>
                  <a:pt x="17445" y="13653"/>
                  <a:pt x="17526" y="13684"/>
                </a:cubicBezTo>
                <a:cubicBezTo>
                  <a:pt x="17587" y="13715"/>
                  <a:pt x="17606" y="13725"/>
                  <a:pt x="17653" y="13716"/>
                </a:cubicBezTo>
              </a:path>
              <a:path w="2890" h="1398">
                <a:moveTo>
                  <a:pt x="17907" y="13208"/>
                </a:moveTo>
                <a:cubicBezTo>
                  <a:pt x="17907" y="13155"/>
                  <a:pt x="17907" y="13145"/>
                  <a:pt x="17907" y="13113"/>
                </a:cubicBezTo>
                <a:cubicBezTo>
                  <a:pt x="17907" y="13237"/>
                  <a:pt x="17890" y="13340"/>
                  <a:pt x="17875" y="13462"/>
                </a:cubicBezTo>
                <a:cubicBezTo>
                  <a:pt x="17865" y="13544"/>
                  <a:pt x="17875" y="13633"/>
                  <a:pt x="17875" y="13716"/>
                </a:cubicBezTo>
                <a:cubicBezTo>
                  <a:pt x="17875" y="13800"/>
                  <a:pt x="17902" y="13543"/>
                  <a:pt x="17907" y="13526"/>
                </a:cubicBezTo>
                <a:cubicBezTo>
                  <a:pt x="17940" y="13411"/>
                  <a:pt x="17982" y="13342"/>
                  <a:pt x="18066" y="13272"/>
                </a:cubicBezTo>
                <a:cubicBezTo>
                  <a:pt x="18118" y="13229"/>
                  <a:pt x="18141" y="13226"/>
                  <a:pt x="18193" y="13272"/>
                </a:cubicBezTo>
                <a:cubicBezTo>
                  <a:pt x="18258" y="13329"/>
                  <a:pt x="18283" y="13412"/>
                  <a:pt x="18288" y="13494"/>
                </a:cubicBezTo>
                <a:cubicBezTo>
                  <a:pt x="18294" y="13600"/>
                  <a:pt x="18247" y="13631"/>
                  <a:pt x="18224" y="13716"/>
                </a:cubicBezTo>
                <a:cubicBezTo>
                  <a:pt x="18216" y="13748"/>
                  <a:pt x="18224" y="13807"/>
                  <a:pt x="18224" y="13843"/>
                </a:cubicBezTo>
              </a:path>
              <a:path w="2890" h="1398">
                <a:moveTo>
                  <a:pt x="18606" y="13494"/>
                </a:moveTo>
                <a:cubicBezTo>
                  <a:pt x="18614" y="13426"/>
                  <a:pt x="18637" y="13372"/>
                  <a:pt x="18637" y="13303"/>
                </a:cubicBezTo>
                <a:cubicBezTo>
                  <a:pt x="18582" y="13276"/>
                  <a:pt x="18530" y="13297"/>
                  <a:pt x="18478" y="13367"/>
                </a:cubicBezTo>
                <a:cubicBezTo>
                  <a:pt x="18425" y="13438"/>
                  <a:pt x="18415" y="13505"/>
                  <a:pt x="18415" y="13589"/>
                </a:cubicBezTo>
                <a:cubicBezTo>
                  <a:pt x="18415" y="13701"/>
                  <a:pt x="18466" y="13699"/>
                  <a:pt x="18542" y="13684"/>
                </a:cubicBezTo>
                <a:cubicBezTo>
                  <a:pt x="18609" y="13670"/>
                  <a:pt x="18650" y="13608"/>
                  <a:pt x="18701" y="13557"/>
                </a:cubicBezTo>
                <a:cubicBezTo>
                  <a:pt x="18746" y="13512"/>
                  <a:pt x="18789" y="13443"/>
                  <a:pt x="18828" y="13430"/>
                </a:cubicBezTo>
                <a:cubicBezTo>
                  <a:pt x="18828" y="13485"/>
                  <a:pt x="18814" y="13540"/>
                  <a:pt x="18796" y="13589"/>
                </a:cubicBezTo>
                <a:cubicBezTo>
                  <a:pt x="18763" y="13682"/>
                  <a:pt x="18744" y="13805"/>
                  <a:pt x="18732" y="13906"/>
                </a:cubicBezTo>
                <a:cubicBezTo>
                  <a:pt x="18719" y="14014"/>
                  <a:pt x="18701" y="14114"/>
                  <a:pt x="18701" y="14224"/>
                </a:cubicBezTo>
                <a:cubicBezTo>
                  <a:pt x="18701" y="14277"/>
                  <a:pt x="18701" y="14330"/>
                  <a:pt x="18701" y="14383"/>
                </a:cubicBezTo>
              </a:path>
              <a:path w="2890" h="1398">
                <a:moveTo>
                  <a:pt x="19082" y="13144"/>
                </a:moveTo>
                <a:cubicBezTo>
                  <a:pt x="19101" y="13089"/>
                  <a:pt x="19134" y="13125"/>
                  <a:pt x="19145" y="13176"/>
                </a:cubicBezTo>
                <a:cubicBezTo>
                  <a:pt x="19169" y="13292"/>
                  <a:pt x="19177" y="13402"/>
                  <a:pt x="19177" y="13526"/>
                </a:cubicBezTo>
                <a:cubicBezTo>
                  <a:pt x="19177" y="13634"/>
                  <a:pt x="19129" y="13717"/>
                  <a:pt x="19082" y="13811"/>
                </a:cubicBezTo>
                <a:cubicBezTo>
                  <a:pt x="19051" y="13872"/>
                  <a:pt x="19050" y="13878"/>
                  <a:pt x="19050" y="13938"/>
                </a:cubicBezTo>
                <a:cubicBezTo>
                  <a:pt x="19114" y="13858"/>
                  <a:pt x="19136" y="13778"/>
                  <a:pt x="19177" y="13684"/>
                </a:cubicBezTo>
                <a:cubicBezTo>
                  <a:pt x="19202" y="13626"/>
                  <a:pt x="19273" y="13522"/>
                  <a:pt x="19336" y="13494"/>
                </a:cubicBezTo>
                <a:cubicBezTo>
                  <a:pt x="19347" y="13494"/>
                  <a:pt x="19357" y="13494"/>
                  <a:pt x="19368" y="13494"/>
                </a:cubicBezTo>
                <a:cubicBezTo>
                  <a:pt x="19408" y="13549"/>
                  <a:pt x="19430" y="13618"/>
                  <a:pt x="19463" y="13684"/>
                </a:cubicBezTo>
                <a:cubicBezTo>
                  <a:pt x="19520" y="13799"/>
                  <a:pt x="19514" y="13843"/>
                  <a:pt x="19590" y="13938"/>
                </a:cubicBezTo>
                <a:cubicBezTo>
                  <a:pt x="19627" y="13984"/>
                  <a:pt x="19642" y="14022"/>
                  <a:pt x="19685" y="14065"/>
                </a:cubicBezTo>
                <a:cubicBezTo>
                  <a:pt x="19756" y="13995"/>
                  <a:pt x="19777" y="13938"/>
                  <a:pt x="19812" y="13843"/>
                </a:cubicBezTo>
              </a:path>
              <a:path w="2890" h="1398">
                <a:moveTo>
                  <a:pt x="19018" y="13144"/>
                </a:moveTo>
                <a:cubicBezTo>
                  <a:pt x="19018" y="13213"/>
                  <a:pt x="18990" y="13233"/>
                  <a:pt x="18986" y="13303"/>
                </a:cubicBezTo>
                <a:cubicBezTo>
                  <a:pt x="18977" y="13450"/>
                  <a:pt x="18996" y="13580"/>
                  <a:pt x="19018" y="13716"/>
                </a:cubicBezTo>
                <a:cubicBezTo>
                  <a:pt x="19024" y="13754"/>
                  <a:pt x="19018" y="13803"/>
                  <a:pt x="19018" y="13843"/>
                </a:cubicBezTo>
              </a:path>
              <a:path w="2890" h="1398">
                <a:moveTo>
                  <a:pt x="18860" y="13240"/>
                </a:moveTo>
                <a:cubicBezTo>
                  <a:pt x="18888" y="13297"/>
                  <a:pt x="18954" y="13330"/>
                  <a:pt x="19018" y="133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Ink 10"/>
          <p:cNvSpPr/>
          <p:nvPr/>
        </p:nvSpPr>
        <p:spPr>
          <a:xfrm>
            <a:off x="1771560" y="5235480"/>
            <a:ext cx="1681200" cy="811440"/>
          </a:xfrm>
          <a:custGeom>
            <a:avLst/>
            <a:gdLst/>
            <a:ahLst/>
            <a:rect l="l" t="t" r="r" b="b"/>
            <a:pathLst>
              <a:path w="4668" h="2255">
                <a:moveTo>
                  <a:pt x="5048" y="14700"/>
                </a:moveTo>
                <a:cubicBezTo>
                  <a:pt x="5100" y="14752"/>
                  <a:pt x="5130" y="14805"/>
                  <a:pt x="5175" y="14859"/>
                </a:cubicBezTo>
                <a:cubicBezTo>
                  <a:pt x="5274" y="14978"/>
                  <a:pt x="5321" y="15071"/>
                  <a:pt x="5398" y="15208"/>
                </a:cubicBezTo>
                <a:cubicBezTo>
                  <a:pt x="5477" y="15349"/>
                  <a:pt x="5562" y="15486"/>
                  <a:pt x="5652" y="15621"/>
                </a:cubicBezTo>
                <a:cubicBezTo>
                  <a:pt x="5704" y="15699"/>
                  <a:pt x="5745" y="15824"/>
                  <a:pt x="5842" y="15843"/>
                </a:cubicBezTo>
                <a:cubicBezTo>
                  <a:pt x="5853" y="15843"/>
                  <a:pt x="5863" y="15843"/>
                  <a:pt x="5874" y="15843"/>
                </a:cubicBezTo>
              </a:path>
              <a:path w="4668" h="2255">
                <a:moveTo>
                  <a:pt x="5747" y="14605"/>
                </a:moveTo>
                <a:cubicBezTo>
                  <a:pt x="5700" y="14709"/>
                  <a:pt x="5667" y="14819"/>
                  <a:pt x="5620" y="14922"/>
                </a:cubicBezTo>
                <a:cubicBezTo>
                  <a:pt x="5544" y="15091"/>
                  <a:pt x="5457" y="15269"/>
                  <a:pt x="5366" y="15430"/>
                </a:cubicBezTo>
                <a:cubicBezTo>
                  <a:pt x="5287" y="15571"/>
                  <a:pt x="5202" y="15708"/>
                  <a:pt x="5112" y="15843"/>
                </a:cubicBezTo>
                <a:cubicBezTo>
                  <a:pt x="5049" y="15937"/>
                  <a:pt x="5019" y="16027"/>
                  <a:pt x="4985" y="16129"/>
                </a:cubicBezTo>
              </a:path>
              <a:path w="4668" h="2255">
                <a:moveTo>
                  <a:pt x="5683" y="14764"/>
                </a:moveTo>
                <a:cubicBezTo>
                  <a:pt x="5683" y="14711"/>
                  <a:pt x="5672" y="14689"/>
                  <a:pt x="5715" y="14700"/>
                </a:cubicBezTo>
                <a:cubicBezTo>
                  <a:pt x="5697" y="14789"/>
                  <a:pt x="5693" y="14901"/>
                  <a:pt x="5652" y="14986"/>
                </a:cubicBezTo>
                <a:cubicBezTo>
                  <a:pt x="5577" y="15141"/>
                  <a:pt x="5496" y="15299"/>
                  <a:pt x="5429" y="15462"/>
                </a:cubicBezTo>
                <a:cubicBezTo>
                  <a:pt x="5374" y="15594"/>
                  <a:pt x="5336" y="15748"/>
                  <a:pt x="5270" y="15875"/>
                </a:cubicBezTo>
                <a:cubicBezTo>
                  <a:pt x="5249" y="15907"/>
                  <a:pt x="5228" y="15938"/>
                  <a:pt x="5207" y="15970"/>
                </a:cubicBezTo>
              </a:path>
              <a:path w="4668" h="2255">
                <a:moveTo>
                  <a:pt x="4921" y="15335"/>
                </a:moveTo>
                <a:cubicBezTo>
                  <a:pt x="5084" y="15335"/>
                  <a:pt x="5239" y="15315"/>
                  <a:pt x="5398" y="15304"/>
                </a:cubicBezTo>
                <a:cubicBezTo>
                  <a:pt x="5553" y="15293"/>
                  <a:pt x="5696" y="15263"/>
                  <a:pt x="5842" y="15240"/>
                </a:cubicBezTo>
                <a:cubicBezTo>
                  <a:pt x="5900" y="15240"/>
                  <a:pt x="5916" y="15245"/>
                  <a:pt x="5937" y="15208"/>
                </a:cubicBezTo>
              </a:path>
              <a:path w="4668" h="2255">
                <a:moveTo>
                  <a:pt x="6858" y="14954"/>
                </a:moveTo>
                <a:cubicBezTo>
                  <a:pt x="6905" y="14873"/>
                  <a:pt x="6948" y="14828"/>
                  <a:pt x="6953" y="14732"/>
                </a:cubicBezTo>
                <a:cubicBezTo>
                  <a:pt x="6956" y="14668"/>
                  <a:pt x="6930" y="14618"/>
                  <a:pt x="6890" y="14573"/>
                </a:cubicBezTo>
                <a:cubicBezTo>
                  <a:pt x="6854" y="14533"/>
                  <a:pt x="6798" y="14523"/>
                  <a:pt x="6763" y="14573"/>
                </a:cubicBezTo>
                <a:cubicBezTo>
                  <a:pt x="6679" y="14695"/>
                  <a:pt x="6666" y="14819"/>
                  <a:pt x="6636" y="14954"/>
                </a:cubicBezTo>
                <a:cubicBezTo>
                  <a:pt x="6602" y="15107"/>
                  <a:pt x="6588" y="15273"/>
                  <a:pt x="6572" y="15430"/>
                </a:cubicBezTo>
                <a:cubicBezTo>
                  <a:pt x="6552" y="15625"/>
                  <a:pt x="6580" y="15814"/>
                  <a:pt x="6540" y="16002"/>
                </a:cubicBezTo>
                <a:cubicBezTo>
                  <a:pt x="6540" y="16013"/>
                  <a:pt x="6540" y="16023"/>
                  <a:pt x="6540" y="16034"/>
                </a:cubicBezTo>
              </a:path>
              <a:path w="4668" h="2255">
                <a:moveTo>
                  <a:pt x="6350" y="15335"/>
                </a:moveTo>
                <a:cubicBezTo>
                  <a:pt x="6430" y="15335"/>
                  <a:pt x="6465" y="15364"/>
                  <a:pt x="6540" y="15367"/>
                </a:cubicBezTo>
                <a:cubicBezTo>
                  <a:pt x="6651" y="15372"/>
                  <a:pt x="6750" y="15393"/>
                  <a:pt x="6858" y="15399"/>
                </a:cubicBezTo>
                <a:cubicBezTo>
                  <a:pt x="6879" y="15399"/>
                  <a:pt x="6901" y="15399"/>
                  <a:pt x="6922" y="15399"/>
                </a:cubicBezTo>
              </a:path>
              <a:path w="4668" h="2255">
                <a:moveTo>
                  <a:pt x="7017" y="15335"/>
                </a:moveTo>
                <a:cubicBezTo>
                  <a:pt x="7017" y="15259"/>
                  <a:pt x="7000" y="15406"/>
                  <a:pt x="6985" y="15430"/>
                </a:cubicBezTo>
                <a:cubicBezTo>
                  <a:pt x="6937" y="15510"/>
                  <a:pt x="6918" y="15569"/>
                  <a:pt x="6890" y="15653"/>
                </a:cubicBezTo>
                <a:cubicBezTo>
                  <a:pt x="6873" y="15704"/>
                  <a:pt x="6828" y="15784"/>
                  <a:pt x="6858" y="15843"/>
                </a:cubicBezTo>
                <a:cubicBezTo>
                  <a:pt x="6896" y="15918"/>
                  <a:pt x="6954" y="15918"/>
                  <a:pt x="7017" y="15875"/>
                </a:cubicBezTo>
                <a:cubicBezTo>
                  <a:pt x="7093" y="15824"/>
                  <a:pt x="7155" y="15762"/>
                  <a:pt x="7207" y="15684"/>
                </a:cubicBezTo>
                <a:cubicBezTo>
                  <a:pt x="7242" y="15631"/>
                  <a:pt x="7263" y="15576"/>
                  <a:pt x="7302" y="15526"/>
                </a:cubicBezTo>
                <a:cubicBezTo>
                  <a:pt x="7285" y="15594"/>
                  <a:pt x="7260" y="15676"/>
                  <a:pt x="7239" y="15748"/>
                </a:cubicBezTo>
                <a:cubicBezTo>
                  <a:pt x="7211" y="15847"/>
                  <a:pt x="7207" y="15928"/>
                  <a:pt x="7207" y="16034"/>
                </a:cubicBezTo>
              </a:path>
              <a:path w="4668" h="2255">
                <a:moveTo>
                  <a:pt x="7493" y="15589"/>
                </a:moveTo>
                <a:cubicBezTo>
                  <a:pt x="7465" y="15635"/>
                  <a:pt x="7440" y="15721"/>
                  <a:pt x="7430" y="15780"/>
                </a:cubicBezTo>
                <a:cubicBezTo>
                  <a:pt x="7417" y="15855"/>
                  <a:pt x="7383" y="15904"/>
                  <a:pt x="7366" y="15970"/>
                </a:cubicBezTo>
                <a:cubicBezTo>
                  <a:pt x="7382" y="15907"/>
                  <a:pt x="7401" y="15846"/>
                  <a:pt x="7430" y="15780"/>
                </a:cubicBezTo>
                <a:cubicBezTo>
                  <a:pt x="7478" y="15669"/>
                  <a:pt x="7506" y="15583"/>
                  <a:pt x="7588" y="15494"/>
                </a:cubicBezTo>
                <a:cubicBezTo>
                  <a:pt x="7625" y="15454"/>
                  <a:pt x="7661" y="15403"/>
                  <a:pt x="7715" y="15399"/>
                </a:cubicBezTo>
                <a:cubicBezTo>
                  <a:pt x="7768" y="15399"/>
                  <a:pt x="7778" y="15399"/>
                  <a:pt x="7810" y="15399"/>
                </a:cubicBezTo>
              </a:path>
              <a:path w="4668" h="2255">
                <a:moveTo>
                  <a:pt x="8064" y="14986"/>
                </a:moveTo>
                <a:cubicBezTo>
                  <a:pt x="8064" y="15213"/>
                  <a:pt x="8056" y="15432"/>
                  <a:pt x="8033" y="15653"/>
                </a:cubicBezTo>
                <a:cubicBezTo>
                  <a:pt x="8020" y="15775"/>
                  <a:pt x="7994" y="15886"/>
                  <a:pt x="7969" y="16002"/>
                </a:cubicBezTo>
                <a:cubicBezTo>
                  <a:pt x="7969" y="16013"/>
                  <a:pt x="7969" y="16023"/>
                  <a:pt x="7969" y="16034"/>
                </a:cubicBezTo>
              </a:path>
              <a:path w="4668" h="2255">
                <a:moveTo>
                  <a:pt x="7842" y="15494"/>
                </a:moveTo>
                <a:cubicBezTo>
                  <a:pt x="7887" y="15467"/>
                  <a:pt x="7981" y="15413"/>
                  <a:pt x="8033" y="15399"/>
                </a:cubicBezTo>
                <a:cubicBezTo>
                  <a:pt x="8124" y="15375"/>
                  <a:pt x="8198" y="15348"/>
                  <a:pt x="8287" y="15304"/>
                </a:cubicBezTo>
              </a:path>
              <a:path w="4668" h="2255">
                <a:moveTo>
                  <a:pt x="8446" y="15050"/>
                </a:moveTo>
                <a:cubicBezTo>
                  <a:pt x="8480" y="15038"/>
                  <a:pt x="8502" y="15008"/>
                  <a:pt x="8477" y="15081"/>
                </a:cubicBezTo>
                <a:cubicBezTo>
                  <a:pt x="8437" y="15197"/>
                  <a:pt x="8389" y="15313"/>
                  <a:pt x="8350" y="15430"/>
                </a:cubicBezTo>
                <a:cubicBezTo>
                  <a:pt x="8318" y="15527"/>
                  <a:pt x="8295" y="15662"/>
                  <a:pt x="8255" y="15748"/>
                </a:cubicBezTo>
                <a:cubicBezTo>
                  <a:pt x="8235" y="15792"/>
                  <a:pt x="8204" y="15795"/>
                  <a:pt x="8192" y="15843"/>
                </a:cubicBezTo>
                <a:cubicBezTo>
                  <a:pt x="8206" y="15788"/>
                  <a:pt x="8249" y="15702"/>
                  <a:pt x="8287" y="15653"/>
                </a:cubicBezTo>
                <a:cubicBezTo>
                  <a:pt x="8358" y="15562"/>
                  <a:pt x="8419" y="15499"/>
                  <a:pt x="8509" y="15430"/>
                </a:cubicBezTo>
                <a:cubicBezTo>
                  <a:pt x="8551" y="15398"/>
                  <a:pt x="8555" y="15379"/>
                  <a:pt x="8604" y="15367"/>
                </a:cubicBezTo>
                <a:cubicBezTo>
                  <a:pt x="8666" y="15408"/>
                  <a:pt x="8609" y="15474"/>
                  <a:pt x="8604" y="15558"/>
                </a:cubicBezTo>
                <a:cubicBezTo>
                  <a:pt x="8598" y="15659"/>
                  <a:pt x="8597" y="15751"/>
                  <a:pt x="8636" y="15843"/>
                </a:cubicBezTo>
                <a:cubicBezTo>
                  <a:pt x="8664" y="15909"/>
                  <a:pt x="8671" y="15923"/>
                  <a:pt x="8731" y="15938"/>
                </a:cubicBezTo>
                <a:cubicBezTo>
                  <a:pt x="8813" y="15918"/>
                  <a:pt x="8815" y="15851"/>
                  <a:pt x="8858" y="15780"/>
                </a:cubicBezTo>
                <a:cubicBezTo>
                  <a:pt x="8920" y="15679"/>
                  <a:pt x="8984" y="15577"/>
                  <a:pt x="9017" y="15462"/>
                </a:cubicBezTo>
                <a:cubicBezTo>
                  <a:pt x="9024" y="15436"/>
                  <a:pt x="9017" y="15394"/>
                  <a:pt x="9017" y="15367"/>
                </a:cubicBezTo>
                <a:cubicBezTo>
                  <a:pt x="8952" y="15432"/>
                  <a:pt x="8908" y="15494"/>
                  <a:pt x="8890" y="15589"/>
                </a:cubicBezTo>
                <a:cubicBezTo>
                  <a:pt x="8868" y="15704"/>
                  <a:pt x="8858" y="15822"/>
                  <a:pt x="8890" y="15938"/>
                </a:cubicBezTo>
                <a:cubicBezTo>
                  <a:pt x="8901" y="15959"/>
                  <a:pt x="8911" y="15981"/>
                  <a:pt x="8922" y="16002"/>
                </a:cubicBezTo>
              </a:path>
              <a:path w="4668" h="2255">
                <a:moveTo>
                  <a:pt x="9271" y="15589"/>
                </a:moveTo>
                <a:cubicBezTo>
                  <a:pt x="9229" y="15658"/>
                  <a:pt x="9234" y="15734"/>
                  <a:pt x="9208" y="15812"/>
                </a:cubicBezTo>
                <a:cubicBezTo>
                  <a:pt x="9180" y="15894"/>
                  <a:pt x="9176" y="15883"/>
                  <a:pt x="9176" y="15970"/>
                </a:cubicBezTo>
                <a:cubicBezTo>
                  <a:pt x="9176" y="15886"/>
                  <a:pt x="9210" y="15825"/>
                  <a:pt x="9239" y="15748"/>
                </a:cubicBezTo>
                <a:cubicBezTo>
                  <a:pt x="9277" y="15646"/>
                  <a:pt x="9307" y="15521"/>
                  <a:pt x="9366" y="15430"/>
                </a:cubicBezTo>
                <a:cubicBezTo>
                  <a:pt x="9393" y="15388"/>
                  <a:pt x="9447" y="15340"/>
                  <a:pt x="9493" y="15335"/>
                </a:cubicBezTo>
                <a:cubicBezTo>
                  <a:pt x="9504" y="15335"/>
                  <a:pt x="9514" y="15335"/>
                  <a:pt x="9525" y="15335"/>
                </a:cubicBezTo>
              </a:path>
              <a:path w="4668" h="2255">
                <a:moveTo>
                  <a:pt x="9588" y="16066"/>
                </a:moveTo>
                <a:cubicBezTo>
                  <a:pt x="9588" y="16167"/>
                  <a:pt x="9566" y="16255"/>
                  <a:pt x="9557" y="16351"/>
                </a:cubicBezTo>
                <a:cubicBezTo>
                  <a:pt x="9541" y="16529"/>
                  <a:pt x="9473" y="16557"/>
                  <a:pt x="9398" y="16700"/>
                </a:cubicBezTo>
                <a:cubicBezTo>
                  <a:pt x="9387" y="16732"/>
                  <a:pt x="9377" y="16764"/>
                  <a:pt x="9366" y="16796"/>
                </a:cubicBezTo>
              </a:path>
              <a:path w="4668" h="2255">
                <a:moveTo>
                  <a:pt x="7112" y="15716"/>
                </a:moveTo>
                <a:cubicBezTo>
                  <a:pt x="7112" y="15705"/>
                  <a:pt x="7112" y="15695"/>
                  <a:pt x="7112" y="15684"/>
                </a:cubicBezTo>
                <a:cubicBezTo>
                  <a:pt x="7149" y="15672"/>
                  <a:pt x="7170" y="15641"/>
                  <a:pt x="7176" y="15589"/>
                </a:cubicBezTo>
                <a:cubicBezTo>
                  <a:pt x="7185" y="15509"/>
                  <a:pt x="7165" y="15462"/>
                  <a:pt x="7144" y="15399"/>
                </a:cubicBezTo>
                <a:cubicBezTo>
                  <a:pt x="7144" y="15388"/>
                  <a:pt x="7144" y="15378"/>
                  <a:pt x="7144" y="15367"/>
                </a:cubicBezTo>
                <a:cubicBezTo>
                  <a:pt x="7089" y="15367"/>
                  <a:pt x="7095" y="15380"/>
                  <a:pt x="7080" y="15335"/>
                </a:cubicBezTo>
                <a:cubicBezTo>
                  <a:pt x="7023" y="15335"/>
                  <a:pt x="7001" y="15319"/>
                  <a:pt x="6985" y="15367"/>
                </a:cubicBezTo>
                <a:cubicBezTo>
                  <a:pt x="6937" y="15383"/>
                  <a:pt x="6948" y="15395"/>
                  <a:pt x="6922" y="15430"/>
                </a:cubicBezTo>
                <a:cubicBezTo>
                  <a:pt x="6886" y="15477"/>
                  <a:pt x="6869" y="15476"/>
                  <a:pt x="6922" y="154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Ink 11"/>
          <p:cNvSpPr/>
          <p:nvPr/>
        </p:nvSpPr>
        <p:spPr>
          <a:xfrm>
            <a:off x="3657600" y="5372280"/>
            <a:ext cx="995400" cy="412560"/>
          </a:xfrm>
          <a:custGeom>
            <a:avLst/>
            <a:gdLst/>
            <a:ahLst/>
            <a:rect l="l" t="t" r="r" b="b"/>
            <a:pathLst>
              <a:path w="2763" h="1145">
                <a:moveTo>
                  <a:pt x="10478" y="15335"/>
                </a:moveTo>
                <a:cubicBezTo>
                  <a:pt x="10478" y="15304"/>
                  <a:pt x="10478" y="15293"/>
                  <a:pt x="10478" y="15272"/>
                </a:cubicBezTo>
                <a:cubicBezTo>
                  <a:pt x="10425" y="15272"/>
                  <a:pt x="10360" y="15259"/>
                  <a:pt x="10319" y="15304"/>
                </a:cubicBezTo>
                <a:cubicBezTo>
                  <a:pt x="10249" y="15379"/>
                  <a:pt x="10182" y="15445"/>
                  <a:pt x="10160" y="15558"/>
                </a:cubicBezTo>
                <a:cubicBezTo>
                  <a:pt x="10139" y="15667"/>
                  <a:pt x="10155" y="15805"/>
                  <a:pt x="10192" y="15907"/>
                </a:cubicBezTo>
                <a:cubicBezTo>
                  <a:pt x="10227" y="16002"/>
                  <a:pt x="10267" y="16013"/>
                  <a:pt x="10350" y="16034"/>
                </a:cubicBezTo>
              </a:path>
              <a:path w="2763" h="1145">
                <a:moveTo>
                  <a:pt x="10795" y="14986"/>
                </a:moveTo>
                <a:cubicBezTo>
                  <a:pt x="10806" y="14965"/>
                  <a:pt x="10816" y="14943"/>
                  <a:pt x="10827" y="14922"/>
                </a:cubicBezTo>
                <a:cubicBezTo>
                  <a:pt x="10827" y="15045"/>
                  <a:pt x="10807" y="15151"/>
                  <a:pt x="10795" y="15272"/>
                </a:cubicBezTo>
                <a:cubicBezTo>
                  <a:pt x="10781" y="15410"/>
                  <a:pt x="10778" y="15549"/>
                  <a:pt x="10763" y="15684"/>
                </a:cubicBezTo>
                <a:cubicBezTo>
                  <a:pt x="10753" y="15777"/>
                  <a:pt x="10763" y="15876"/>
                  <a:pt x="10763" y="15970"/>
                </a:cubicBezTo>
              </a:path>
              <a:path w="2763" h="1145">
                <a:moveTo>
                  <a:pt x="11240" y="15304"/>
                </a:moveTo>
                <a:cubicBezTo>
                  <a:pt x="11200" y="15277"/>
                  <a:pt x="11186" y="15303"/>
                  <a:pt x="11144" y="15367"/>
                </a:cubicBezTo>
                <a:cubicBezTo>
                  <a:pt x="11094" y="15444"/>
                  <a:pt x="11036" y="15565"/>
                  <a:pt x="11017" y="15653"/>
                </a:cubicBezTo>
                <a:cubicBezTo>
                  <a:pt x="11005" y="15707"/>
                  <a:pt x="10997" y="15843"/>
                  <a:pt x="11049" y="15875"/>
                </a:cubicBezTo>
                <a:cubicBezTo>
                  <a:pt x="11121" y="15920"/>
                  <a:pt x="11181" y="15861"/>
                  <a:pt x="11208" y="15812"/>
                </a:cubicBezTo>
                <a:cubicBezTo>
                  <a:pt x="11255" y="15729"/>
                  <a:pt x="11316" y="15617"/>
                  <a:pt x="11335" y="15526"/>
                </a:cubicBezTo>
                <a:cubicBezTo>
                  <a:pt x="11352" y="15447"/>
                  <a:pt x="11323" y="15426"/>
                  <a:pt x="11303" y="15367"/>
                </a:cubicBezTo>
                <a:cubicBezTo>
                  <a:pt x="11303" y="15335"/>
                  <a:pt x="11303" y="15324"/>
                  <a:pt x="11271" y="15335"/>
                </a:cubicBezTo>
              </a:path>
              <a:path w="2763" h="1145">
                <a:moveTo>
                  <a:pt x="11684" y="15462"/>
                </a:moveTo>
                <a:cubicBezTo>
                  <a:pt x="11684" y="15387"/>
                  <a:pt x="11671" y="15362"/>
                  <a:pt x="11652" y="15304"/>
                </a:cubicBezTo>
                <a:cubicBezTo>
                  <a:pt x="11638" y="15261"/>
                  <a:pt x="11635" y="15275"/>
                  <a:pt x="11589" y="15240"/>
                </a:cubicBezTo>
                <a:cubicBezTo>
                  <a:pt x="11572" y="15292"/>
                  <a:pt x="11530" y="15311"/>
                  <a:pt x="11525" y="15399"/>
                </a:cubicBezTo>
                <a:cubicBezTo>
                  <a:pt x="11520" y="15495"/>
                  <a:pt x="11579" y="15598"/>
                  <a:pt x="11620" y="15684"/>
                </a:cubicBezTo>
                <a:cubicBezTo>
                  <a:pt x="11649" y="15745"/>
                  <a:pt x="11709" y="15814"/>
                  <a:pt x="11716" y="15875"/>
                </a:cubicBezTo>
                <a:cubicBezTo>
                  <a:pt x="11716" y="15886"/>
                  <a:pt x="11716" y="15896"/>
                  <a:pt x="11716" y="15907"/>
                </a:cubicBezTo>
                <a:cubicBezTo>
                  <a:pt x="11651" y="15907"/>
                  <a:pt x="11641" y="15892"/>
                  <a:pt x="11589" y="15875"/>
                </a:cubicBezTo>
                <a:cubicBezTo>
                  <a:pt x="11541" y="15859"/>
                  <a:pt x="11559" y="15803"/>
                  <a:pt x="11525" y="15780"/>
                </a:cubicBezTo>
                <a:cubicBezTo>
                  <a:pt x="11515" y="15780"/>
                  <a:pt x="11504" y="15780"/>
                  <a:pt x="11494" y="15780"/>
                </a:cubicBezTo>
                <a:cubicBezTo>
                  <a:pt x="11524" y="15750"/>
                  <a:pt x="11584" y="15781"/>
                  <a:pt x="11652" y="15812"/>
                </a:cubicBezTo>
                <a:cubicBezTo>
                  <a:pt x="11749" y="15857"/>
                  <a:pt x="11871" y="15861"/>
                  <a:pt x="11970" y="15812"/>
                </a:cubicBezTo>
                <a:cubicBezTo>
                  <a:pt x="12024" y="15785"/>
                  <a:pt x="12153" y="15665"/>
                  <a:pt x="12192" y="15621"/>
                </a:cubicBezTo>
                <a:cubicBezTo>
                  <a:pt x="12238" y="15569"/>
                  <a:pt x="12256" y="15497"/>
                  <a:pt x="12256" y="15430"/>
                </a:cubicBezTo>
                <a:cubicBezTo>
                  <a:pt x="12256" y="15399"/>
                  <a:pt x="12256" y="15388"/>
                  <a:pt x="12256" y="15367"/>
                </a:cubicBezTo>
                <a:cubicBezTo>
                  <a:pt x="12210" y="15413"/>
                  <a:pt x="12144" y="15459"/>
                  <a:pt x="12128" y="15526"/>
                </a:cubicBezTo>
                <a:cubicBezTo>
                  <a:pt x="12108" y="15609"/>
                  <a:pt x="12074" y="15724"/>
                  <a:pt x="12097" y="15812"/>
                </a:cubicBezTo>
                <a:cubicBezTo>
                  <a:pt x="12108" y="15854"/>
                  <a:pt x="12122" y="15990"/>
                  <a:pt x="12192" y="15970"/>
                </a:cubicBezTo>
                <a:cubicBezTo>
                  <a:pt x="12248" y="15942"/>
                  <a:pt x="12263" y="15938"/>
                  <a:pt x="12287" y="15907"/>
                </a:cubicBezTo>
              </a:path>
              <a:path w="2763" h="1145">
                <a:moveTo>
                  <a:pt x="12541" y="15684"/>
                </a:moveTo>
                <a:cubicBezTo>
                  <a:pt x="12552" y="15674"/>
                  <a:pt x="12562" y="15663"/>
                  <a:pt x="12573" y="15653"/>
                </a:cubicBezTo>
                <a:cubicBezTo>
                  <a:pt x="12557" y="15714"/>
                  <a:pt x="12521" y="15775"/>
                  <a:pt x="12510" y="15843"/>
                </a:cubicBezTo>
                <a:cubicBezTo>
                  <a:pt x="12499" y="15910"/>
                  <a:pt x="12478" y="15966"/>
                  <a:pt x="12478" y="16034"/>
                </a:cubicBezTo>
                <a:cubicBezTo>
                  <a:pt x="12478" y="16104"/>
                  <a:pt x="12501" y="15963"/>
                  <a:pt x="12510" y="15938"/>
                </a:cubicBezTo>
                <a:cubicBezTo>
                  <a:pt x="12548" y="15833"/>
                  <a:pt x="12585" y="15699"/>
                  <a:pt x="12605" y="15589"/>
                </a:cubicBezTo>
                <a:cubicBezTo>
                  <a:pt x="12617" y="15524"/>
                  <a:pt x="12618" y="15468"/>
                  <a:pt x="12700" y="15462"/>
                </a:cubicBezTo>
                <a:cubicBezTo>
                  <a:pt x="12803" y="15455"/>
                  <a:pt x="12836" y="15476"/>
                  <a:pt x="12922" y="155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Ink 12"/>
          <p:cNvSpPr/>
          <p:nvPr/>
        </p:nvSpPr>
        <p:spPr>
          <a:xfrm>
            <a:off x="3121200" y="2309760"/>
            <a:ext cx="2993760" cy="68400"/>
          </a:xfrm>
          <a:custGeom>
            <a:avLst/>
            <a:gdLst/>
            <a:ahLst/>
            <a:rect l="l" t="t" r="r" b="b"/>
            <a:pathLst>
              <a:path w="8319" h="191">
                <a:moveTo>
                  <a:pt x="8668" y="6572"/>
                </a:moveTo>
                <a:cubicBezTo>
                  <a:pt x="8689" y="6572"/>
                  <a:pt x="8774" y="6572"/>
                  <a:pt x="8795" y="6572"/>
                </a:cubicBezTo>
                <a:cubicBezTo>
                  <a:pt x="9151" y="6572"/>
                  <a:pt x="9492" y="6548"/>
                  <a:pt x="9842" y="6540"/>
                </a:cubicBezTo>
                <a:cubicBezTo>
                  <a:pt x="10235" y="6531"/>
                  <a:pt x="10635" y="6534"/>
                  <a:pt x="11017" y="6509"/>
                </a:cubicBezTo>
                <a:cubicBezTo>
                  <a:pt x="11122" y="6502"/>
                  <a:pt x="11239" y="6483"/>
                  <a:pt x="11335" y="6477"/>
                </a:cubicBezTo>
                <a:cubicBezTo>
                  <a:pt x="11514" y="6465"/>
                  <a:pt x="11700" y="6456"/>
                  <a:pt x="11874" y="6445"/>
                </a:cubicBezTo>
                <a:cubicBezTo>
                  <a:pt x="12368" y="6414"/>
                  <a:pt x="12878" y="6437"/>
                  <a:pt x="13367" y="6414"/>
                </a:cubicBezTo>
                <a:cubicBezTo>
                  <a:pt x="13853" y="6391"/>
                  <a:pt x="14347" y="6419"/>
                  <a:pt x="14827" y="6445"/>
                </a:cubicBezTo>
                <a:cubicBezTo>
                  <a:pt x="15069" y="6458"/>
                  <a:pt x="15322" y="6465"/>
                  <a:pt x="15558" y="6477"/>
                </a:cubicBezTo>
                <a:cubicBezTo>
                  <a:pt x="15780" y="6488"/>
                  <a:pt x="16008" y="6497"/>
                  <a:pt x="16224" y="6509"/>
                </a:cubicBezTo>
                <a:cubicBezTo>
                  <a:pt x="16476" y="6523"/>
                  <a:pt x="16733" y="6509"/>
                  <a:pt x="16986" y="65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poi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w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Ink 3"/>
          <p:cNvSpPr/>
          <p:nvPr/>
        </p:nvSpPr>
        <p:spPr>
          <a:xfrm>
            <a:off x="3132000" y="1154160"/>
            <a:ext cx="3143520" cy="1646280"/>
          </a:xfrm>
          <a:custGeom>
            <a:avLst/>
            <a:gdLst/>
            <a:ahLst/>
            <a:rect l="l" t="t" r="r" b="b"/>
            <a:pathLst>
              <a:path w="8732" h="4573">
                <a:moveTo>
                  <a:pt x="9652" y="3238"/>
                </a:moveTo>
                <a:cubicBezTo>
                  <a:pt x="9663" y="3238"/>
                  <a:pt x="9673" y="3238"/>
                  <a:pt x="9684" y="3238"/>
                </a:cubicBezTo>
                <a:cubicBezTo>
                  <a:pt x="9638" y="3250"/>
                  <a:pt x="9619" y="3229"/>
                  <a:pt x="9557" y="3302"/>
                </a:cubicBezTo>
                <a:cubicBezTo>
                  <a:pt x="9504" y="3363"/>
                  <a:pt x="9449" y="3428"/>
                  <a:pt x="9398" y="3492"/>
                </a:cubicBezTo>
                <a:cubicBezTo>
                  <a:pt x="9332" y="3575"/>
                  <a:pt x="9254" y="3686"/>
                  <a:pt x="9208" y="3778"/>
                </a:cubicBezTo>
                <a:cubicBezTo>
                  <a:pt x="9135" y="3925"/>
                  <a:pt x="9108" y="4071"/>
                  <a:pt x="9049" y="4223"/>
                </a:cubicBezTo>
                <a:cubicBezTo>
                  <a:pt x="8983" y="4393"/>
                  <a:pt x="8907" y="4554"/>
                  <a:pt x="8858" y="4731"/>
                </a:cubicBezTo>
                <a:cubicBezTo>
                  <a:pt x="8807" y="4915"/>
                  <a:pt x="8791" y="5086"/>
                  <a:pt x="8763" y="5270"/>
                </a:cubicBezTo>
                <a:cubicBezTo>
                  <a:pt x="8737" y="5437"/>
                  <a:pt x="8683" y="5607"/>
                  <a:pt x="8700" y="5778"/>
                </a:cubicBezTo>
                <a:cubicBezTo>
                  <a:pt x="8718" y="5956"/>
                  <a:pt x="8730" y="6144"/>
                  <a:pt x="8763" y="6318"/>
                </a:cubicBezTo>
                <a:cubicBezTo>
                  <a:pt x="8786" y="6441"/>
                  <a:pt x="8840" y="6555"/>
                  <a:pt x="8890" y="6668"/>
                </a:cubicBezTo>
                <a:cubicBezTo>
                  <a:pt x="8923" y="6742"/>
                  <a:pt x="8968" y="6827"/>
                  <a:pt x="9017" y="6890"/>
                </a:cubicBezTo>
                <a:cubicBezTo>
                  <a:pt x="9053" y="6936"/>
                  <a:pt x="9103" y="6976"/>
                  <a:pt x="9144" y="7017"/>
                </a:cubicBezTo>
              </a:path>
              <a:path w="8732" h="4573">
                <a:moveTo>
                  <a:pt x="9906" y="3620"/>
                </a:moveTo>
                <a:cubicBezTo>
                  <a:pt x="9906" y="3630"/>
                  <a:pt x="9906" y="3641"/>
                  <a:pt x="9906" y="3651"/>
                </a:cubicBezTo>
                <a:cubicBezTo>
                  <a:pt x="9948" y="3679"/>
                  <a:pt x="9938" y="3728"/>
                  <a:pt x="9970" y="3778"/>
                </a:cubicBezTo>
                <a:cubicBezTo>
                  <a:pt x="10020" y="3855"/>
                  <a:pt x="10028" y="3917"/>
                  <a:pt x="10065" y="4000"/>
                </a:cubicBezTo>
                <a:cubicBezTo>
                  <a:pt x="10123" y="4133"/>
                  <a:pt x="10191" y="4307"/>
                  <a:pt x="10287" y="4413"/>
                </a:cubicBezTo>
                <a:cubicBezTo>
                  <a:pt x="10321" y="4451"/>
                  <a:pt x="10320" y="4468"/>
                  <a:pt x="10350" y="4508"/>
                </a:cubicBezTo>
              </a:path>
              <a:path w="8732" h="4573">
                <a:moveTo>
                  <a:pt x="10350" y="3556"/>
                </a:moveTo>
                <a:cubicBezTo>
                  <a:pt x="10336" y="3674"/>
                  <a:pt x="10294" y="3716"/>
                  <a:pt x="10224" y="3810"/>
                </a:cubicBezTo>
                <a:cubicBezTo>
                  <a:pt x="10089" y="3992"/>
                  <a:pt x="9981" y="4188"/>
                  <a:pt x="9874" y="4382"/>
                </a:cubicBezTo>
                <a:cubicBezTo>
                  <a:pt x="9820" y="4480"/>
                  <a:pt x="9789" y="4574"/>
                  <a:pt x="9747" y="4667"/>
                </a:cubicBezTo>
                <a:cubicBezTo>
                  <a:pt x="9710" y="4705"/>
                  <a:pt x="9703" y="4723"/>
                  <a:pt x="9747" y="4762"/>
                </a:cubicBezTo>
              </a:path>
              <a:path w="8732" h="4573">
                <a:moveTo>
                  <a:pt x="10541" y="4191"/>
                </a:moveTo>
                <a:cubicBezTo>
                  <a:pt x="10541" y="4283"/>
                  <a:pt x="10523" y="4370"/>
                  <a:pt x="10509" y="4445"/>
                </a:cubicBezTo>
                <a:cubicBezTo>
                  <a:pt x="10494" y="4523"/>
                  <a:pt x="10488" y="4624"/>
                  <a:pt x="10478" y="4699"/>
                </a:cubicBezTo>
                <a:cubicBezTo>
                  <a:pt x="10478" y="4773"/>
                  <a:pt x="10478" y="4784"/>
                  <a:pt x="10478" y="4826"/>
                </a:cubicBezTo>
              </a:path>
              <a:path w="8732" h="4573">
                <a:moveTo>
                  <a:pt x="11144" y="3842"/>
                </a:moveTo>
                <a:cubicBezTo>
                  <a:pt x="11144" y="3954"/>
                  <a:pt x="11125" y="4056"/>
                  <a:pt x="11112" y="4159"/>
                </a:cubicBezTo>
                <a:cubicBezTo>
                  <a:pt x="11098" y="4268"/>
                  <a:pt x="11127" y="4347"/>
                  <a:pt x="11144" y="4445"/>
                </a:cubicBezTo>
                <a:cubicBezTo>
                  <a:pt x="11157" y="4522"/>
                  <a:pt x="11120" y="4567"/>
                  <a:pt x="11176" y="4604"/>
                </a:cubicBezTo>
              </a:path>
              <a:path w="8732" h="4573">
                <a:moveTo>
                  <a:pt x="10890" y="4286"/>
                </a:moveTo>
                <a:cubicBezTo>
                  <a:pt x="10954" y="4270"/>
                  <a:pt x="10972" y="4254"/>
                  <a:pt x="11049" y="4254"/>
                </a:cubicBezTo>
                <a:cubicBezTo>
                  <a:pt x="11144" y="4254"/>
                  <a:pt x="11215" y="4237"/>
                  <a:pt x="11303" y="4223"/>
                </a:cubicBezTo>
                <a:cubicBezTo>
                  <a:pt x="11356" y="4223"/>
                  <a:pt x="11366" y="4223"/>
                  <a:pt x="11398" y="4223"/>
                </a:cubicBezTo>
              </a:path>
              <a:path w="8732" h="4573">
                <a:moveTo>
                  <a:pt x="11716" y="3715"/>
                </a:moveTo>
                <a:cubicBezTo>
                  <a:pt x="11716" y="3786"/>
                  <a:pt x="11739" y="3840"/>
                  <a:pt x="11748" y="3905"/>
                </a:cubicBezTo>
                <a:cubicBezTo>
                  <a:pt x="11765" y="4033"/>
                  <a:pt x="11766" y="4163"/>
                  <a:pt x="11811" y="4286"/>
                </a:cubicBezTo>
                <a:cubicBezTo>
                  <a:pt x="11848" y="4388"/>
                  <a:pt x="11854" y="4514"/>
                  <a:pt x="11906" y="4604"/>
                </a:cubicBezTo>
                <a:cubicBezTo>
                  <a:pt x="11942" y="4668"/>
                  <a:pt x="11982" y="4691"/>
                  <a:pt x="12033" y="4731"/>
                </a:cubicBezTo>
              </a:path>
              <a:path w="8732" h="4573">
                <a:moveTo>
                  <a:pt x="12097" y="3778"/>
                </a:moveTo>
                <a:cubicBezTo>
                  <a:pt x="12036" y="3839"/>
                  <a:pt x="11998" y="3906"/>
                  <a:pt x="11938" y="3969"/>
                </a:cubicBezTo>
                <a:cubicBezTo>
                  <a:pt x="11837" y="4075"/>
                  <a:pt x="11777" y="4205"/>
                  <a:pt x="11684" y="4318"/>
                </a:cubicBezTo>
                <a:cubicBezTo>
                  <a:pt x="11592" y="4431"/>
                  <a:pt x="11549" y="4554"/>
                  <a:pt x="11462" y="4667"/>
                </a:cubicBezTo>
                <a:cubicBezTo>
                  <a:pt x="11423" y="4717"/>
                  <a:pt x="11357" y="4860"/>
                  <a:pt x="11303" y="4890"/>
                </a:cubicBezTo>
                <a:cubicBezTo>
                  <a:pt x="11271" y="4890"/>
                  <a:pt x="11260" y="4890"/>
                  <a:pt x="11271" y="4858"/>
                </a:cubicBezTo>
              </a:path>
              <a:path w="8732" h="4573">
                <a:moveTo>
                  <a:pt x="12033" y="4508"/>
                </a:moveTo>
                <a:cubicBezTo>
                  <a:pt x="12055" y="4470"/>
                  <a:pt x="12109" y="4364"/>
                  <a:pt x="12160" y="4350"/>
                </a:cubicBezTo>
                <a:cubicBezTo>
                  <a:pt x="12213" y="4350"/>
                  <a:pt x="12224" y="4350"/>
                  <a:pt x="12256" y="4350"/>
                </a:cubicBezTo>
                <a:cubicBezTo>
                  <a:pt x="12256" y="4410"/>
                  <a:pt x="12249" y="4490"/>
                  <a:pt x="12224" y="4540"/>
                </a:cubicBezTo>
                <a:cubicBezTo>
                  <a:pt x="12193" y="4601"/>
                  <a:pt x="12141" y="4669"/>
                  <a:pt x="12128" y="4731"/>
                </a:cubicBezTo>
                <a:cubicBezTo>
                  <a:pt x="12109" y="4824"/>
                  <a:pt x="12107" y="4773"/>
                  <a:pt x="12128" y="4858"/>
                </a:cubicBezTo>
                <a:cubicBezTo>
                  <a:pt x="12169" y="4828"/>
                  <a:pt x="12238" y="4800"/>
                  <a:pt x="12287" y="4794"/>
                </a:cubicBezTo>
                <a:cubicBezTo>
                  <a:pt x="12363" y="4786"/>
                  <a:pt x="12417" y="4808"/>
                  <a:pt x="12478" y="4826"/>
                </a:cubicBezTo>
                <a:cubicBezTo>
                  <a:pt x="12489" y="4826"/>
                  <a:pt x="12499" y="4826"/>
                  <a:pt x="12510" y="4826"/>
                </a:cubicBezTo>
              </a:path>
              <a:path w="8732" h="4573">
                <a:moveTo>
                  <a:pt x="9430" y="5366"/>
                </a:moveTo>
                <a:cubicBezTo>
                  <a:pt x="9483" y="5384"/>
                  <a:pt x="9520" y="5413"/>
                  <a:pt x="9588" y="5398"/>
                </a:cubicBezTo>
                <a:cubicBezTo>
                  <a:pt x="9693" y="5375"/>
                  <a:pt x="9799" y="5386"/>
                  <a:pt x="9906" y="5366"/>
                </a:cubicBezTo>
                <a:cubicBezTo>
                  <a:pt x="10060" y="5337"/>
                  <a:pt x="10225" y="5315"/>
                  <a:pt x="10382" y="5302"/>
                </a:cubicBezTo>
                <a:cubicBezTo>
                  <a:pt x="10719" y="5274"/>
                  <a:pt x="11065" y="5308"/>
                  <a:pt x="11398" y="5334"/>
                </a:cubicBezTo>
                <a:cubicBezTo>
                  <a:pt x="11580" y="5348"/>
                  <a:pt x="11755" y="5366"/>
                  <a:pt x="11938" y="5366"/>
                </a:cubicBezTo>
                <a:cubicBezTo>
                  <a:pt x="12076" y="5366"/>
                  <a:pt x="12213" y="5366"/>
                  <a:pt x="12351" y="5366"/>
                </a:cubicBezTo>
              </a:path>
              <a:path w="8732" h="4573">
                <a:moveTo>
                  <a:pt x="10446" y="5969"/>
                </a:moveTo>
                <a:cubicBezTo>
                  <a:pt x="10479" y="5928"/>
                  <a:pt x="10483" y="5881"/>
                  <a:pt x="10509" y="5842"/>
                </a:cubicBezTo>
                <a:cubicBezTo>
                  <a:pt x="10532" y="5807"/>
                  <a:pt x="10599" y="5757"/>
                  <a:pt x="10636" y="5747"/>
                </a:cubicBezTo>
                <a:cubicBezTo>
                  <a:pt x="10695" y="5732"/>
                  <a:pt x="10753" y="5744"/>
                  <a:pt x="10795" y="5778"/>
                </a:cubicBezTo>
                <a:cubicBezTo>
                  <a:pt x="10830" y="5806"/>
                  <a:pt x="10869" y="5923"/>
                  <a:pt x="10858" y="5969"/>
                </a:cubicBezTo>
                <a:cubicBezTo>
                  <a:pt x="10836" y="6066"/>
                  <a:pt x="10799" y="6159"/>
                  <a:pt x="10763" y="6255"/>
                </a:cubicBezTo>
                <a:cubicBezTo>
                  <a:pt x="10720" y="6371"/>
                  <a:pt x="10661" y="6462"/>
                  <a:pt x="10604" y="6572"/>
                </a:cubicBezTo>
                <a:cubicBezTo>
                  <a:pt x="10554" y="6668"/>
                  <a:pt x="10518" y="6778"/>
                  <a:pt x="10446" y="6858"/>
                </a:cubicBezTo>
                <a:cubicBezTo>
                  <a:pt x="10414" y="6890"/>
                  <a:pt x="10403" y="6901"/>
                  <a:pt x="10382" y="6922"/>
                </a:cubicBezTo>
                <a:cubicBezTo>
                  <a:pt x="10414" y="6848"/>
                  <a:pt x="10422" y="6820"/>
                  <a:pt x="10478" y="6763"/>
                </a:cubicBezTo>
                <a:cubicBezTo>
                  <a:pt x="10514" y="6727"/>
                  <a:pt x="10506" y="6675"/>
                  <a:pt x="10573" y="6699"/>
                </a:cubicBezTo>
                <a:cubicBezTo>
                  <a:pt x="10637" y="6722"/>
                  <a:pt x="10634" y="6749"/>
                  <a:pt x="10668" y="6794"/>
                </a:cubicBezTo>
                <a:cubicBezTo>
                  <a:pt x="10697" y="6832"/>
                  <a:pt x="10742" y="6938"/>
                  <a:pt x="10795" y="6953"/>
                </a:cubicBezTo>
                <a:cubicBezTo>
                  <a:pt x="10851" y="6969"/>
                  <a:pt x="10953" y="7010"/>
                  <a:pt x="11017" y="6985"/>
                </a:cubicBezTo>
                <a:cubicBezTo>
                  <a:pt x="11070" y="6965"/>
                  <a:pt x="11160" y="6894"/>
                  <a:pt x="11208" y="6858"/>
                </a:cubicBezTo>
                <a:cubicBezTo>
                  <a:pt x="11240" y="6826"/>
                  <a:pt x="11250" y="6816"/>
                  <a:pt x="11271" y="6794"/>
                </a:cubicBezTo>
              </a:path>
              <a:path w="8732" h="4573">
                <a:moveTo>
                  <a:pt x="12732" y="6668"/>
                </a:moveTo>
                <a:cubicBezTo>
                  <a:pt x="12748" y="6748"/>
                  <a:pt x="12790" y="6806"/>
                  <a:pt x="12795" y="6890"/>
                </a:cubicBezTo>
                <a:cubicBezTo>
                  <a:pt x="12802" y="7010"/>
                  <a:pt x="12801" y="7128"/>
                  <a:pt x="12764" y="7239"/>
                </a:cubicBezTo>
                <a:cubicBezTo>
                  <a:pt x="12727" y="7350"/>
                  <a:pt x="12675" y="7435"/>
                  <a:pt x="12605" y="7525"/>
                </a:cubicBezTo>
                <a:cubicBezTo>
                  <a:pt x="12594" y="7535"/>
                  <a:pt x="12584" y="7546"/>
                  <a:pt x="12573" y="7556"/>
                </a:cubicBezTo>
              </a:path>
              <a:path w="8732" h="4573">
                <a:moveTo>
                  <a:pt x="13938" y="4000"/>
                </a:moveTo>
                <a:cubicBezTo>
                  <a:pt x="13975" y="4037"/>
                  <a:pt x="14019" y="4066"/>
                  <a:pt x="14034" y="4159"/>
                </a:cubicBezTo>
                <a:cubicBezTo>
                  <a:pt x="14054" y="4281"/>
                  <a:pt x="14015" y="4393"/>
                  <a:pt x="14002" y="4508"/>
                </a:cubicBezTo>
                <a:cubicBezTo>
                  <a:pt x="13990" y="4615"/>
                  <a:pt x="13976" y="4723"/>
                  <a:pt x="13970" y="4826"/>
                </a:cubicBezTo>
                <a:cubicBezTo>
                  <a:pt x="13965" y="4913"/>
                  <a:pt x="14003" y="4912"/>
                  <a:pt x="14034" y="4953"/>
                </a:cubicBezTo>
                <a:cubicBezTo>
                  <a:pt x="14105" y="4881"/>
                  <a:pt x="14107" y="4811"/>
                  <a:pt x="14160" y="4731"/>
                </a:cubicBezTo>
                <a:cubicBezTo>
                  <a:pt x="14237" y="4616"/>
                  <a:pt x="14266" y="4513"/>
                  <a:pt x="14319" y="4382"/>
                </a:cubicBezTo>
                <a:cubicBezTo>
                  <a:pt x="14355" y="4295"/>
                  <a:pt x="14378" y="4253"/>
                  <a:pt x="14383" y="4159"/>
                </a:cubicBezTo>
                <a:cubicBezTo>
                  <a:pt x="14383" y="4106"/>
                  <a:pt x="14383" y="4075"/>
                  <a:pt x="14383" y="4128"/>
                </a:cubicBezTo>
                <a:cubicBezTo>
                  <a:pt x="14383" y="4540"/>
                  <a:pt x="14406" y="4963"/>
                  <a:pt x="14351" y="5366"/>
                </a:cubicBezTo>
                <a:cubicBezTo>
                  <a:pt x="14339" y="5451"/>
                  <a:pt x="14299" y="5511"/>
                  <a:pt x="14256" y="5588"/>
                </a:cubicBezTo>
                <a:cubicBezTo>
                  <a:pt x="14220" y="5651"/>
                  <a:pt x="14188" y="5718"/>
                  <a:pt x="14097" y="5683"/>
                </a:cubicBezTo>
                <a:cubicBezTo>
                  <a:pt x="14018" y="5652"/>
                  <a:pt x="13979" y="5601"/>
                  <a:pt x="13938" y="5524"/>
                </a:cubicBezTo>
                <a:cubicBezTo>
                  <a:pt x="13907" y="5463"/>
                  <a:pt x="13896" y="5445"/>
                  <a:pt x="13906" y="5398"/>
                </a:cubicBezTo>
              </a:path>
              <a:path w="8732" h="4573">
                <a:moveTo>
                  <a:pt x="14732" y="4826"/>
                </a:moveTo>
                <a:cubicBezTo>
                  <a:pt x="14732" y="4837"/>
                  <a:pt x="14732" y="4847"/>
                  <a:pt x="14732" y="4858"/>
                </a:cubicBezTo>
                <a:cubicBezTo>
                  <a:pt x="14789" y="4877"/>
                  <a:pt x="14764" y="4948"/>
                  <a:pt x="14764" y="5016"/>
                </a:cubicBezTo>
                <a:cubicBezTo>
                  <a:pt x="14764" y="5069"/>
                  <a:pt x="14764" y="5122"/>
                  <a:pt x="14764" y="5175"/>
                </a:cubicBezTo>
              </a:path>
              <a:path w="8732" h="4573">
                <a:moveTo>
                  <a:pt x="15430" y="4350"/>
                </a:moveTo>
                <a:cubicBezTo>
                  <a:pt x="15430" y="4444"/>
                  <a:pt x="15404" y="4514"/>
                  <a:pt x="15399" y="4604"/>
                </a:cubicBezTo>
                <a:cubicBezTo>
                  <a:pt x="15393" y="4719"/>
                  <a:pt x="15394" y="4822"/>
                  <a:pt x="15367" y="4921"/>
                </a:cubicBezTo>
                <a:cubicBezTo>
                  <a:pt x="15367" y="4953"/>
                  <a:pt x="15367" y="4964"/>
                  <a:pt x="15367" y="4985"/>
                </a:cubicBezTo>
              </a:path>
              <a:path w="8732" h="4573">
                <a:moveTo>
                  <a:pt x="15208" y="4636"/>
                </a:moveTo>
                <a:cubicBezTo>
                  <a:pt x="15273" y="4623"/>
                  <a:pt x="15335" y="4583"/>
                  <a:pt x="15399" y="4572"/>
                </a:cubicBezTo>
                <a:cubicBezTo>
                  <a:pt x="15489" y="4556"/>
                  <a:pt x="15567" y="4541"/>
                  <a:pt x="15653" y="4508"/>
                </a:cubicBezTo>
              </a:path>
              <a:path w="8732" h="4573">
                <a:moveTo>
                  <a:pt x="15907" y="4254"/>
                </a:moveTo>
                <a:cubicBezTo>
                  <a:pt x="15895" y="4336"/>
                  <a:pt x="15875" y="4385"/>
                  <a:pt x="15875" y="4477"/>
                </a:cubicBezTo>
                <a:cubicBezTo>
                  <a:pt x="15875" y="4613"/>
                  <a:pt x="15878" y="4731"/>
                  <a:pt x="15907" y="4858"/>
                </a:cubicBezTo>
                <a:cubicBezTo>
                  <a:pt x="15907" y="4894"/>
                  <a:pt x="15910" y="4907"/>
                  <a:pt x="15938" y="4921"/>
                </a:cubicBezTo>
                <a:cubicBezTo>
                  <a:pt x="15996" y="4921"/>
                  <a:pt x="16031" y="4913"/>
                  <a:pt x="16066" y="4858"/>
                </a:cubicBezTo>
                <a:cubicBezTo>
                  <a:pt x="16132" y="4754"/>
                  <a:pt x="16201" y="4567"/>
                  <a:pt x="16224" y="4445"/>
                </a:cubicBezTo>
                <a:cubicBezTo>
                  <a:pt x="16238" y="4370"/>
                  <a:pt x="16196" y="4370"/>
                  <a:pt x="16256" y="4350"/>
                </a:cubicBezTo>
                <a:cubicBezTo>
                  <a:pt x="16256" y="4456"/>
                  <a:pt x="16239" y="4534"/>
                  <a:pt x="16224" y="4636"/>
                </a:cubicBezTo>
                <a:cubicBezTo>
                  <a:pt x="16208" y="4750"/>
                  <a:pt x="16196" y="4871"/>
                  <a:pt x="16192" y="4985"/>
                </a:cubicBezTo>
                <a:cubicBezTo>
                  <a:pt x="16187" y="5117"/>
                  <a:pt x="16167" y="5236"/>
                  <a:pt x="16161" y="5366"/>
                </a:cubicBezTo>
                <a:cubicBezTo>
                  <a:pt x="16158" y="5424"/>
                  <a:pt x="16126" y="5506"/>
                  <a:pt x="16097" y="5556"/>
                </a:cubicBezTo>
                <a:cubicBezTo>
                  <a:pt x="16066" y="5588"/>
                  <a:pt x="16055" y="5599"/>
                  <a:pt x="16034" y="5556"/>
                </a:cubicBezTo>
              </a:path>
              <a:path w="8732" h="4573">
                <a:moveTo>
                  <a:pt x="16320" y="4826"/>
                </a:moveTo>
                <a:cubicBezTo>
                  <a:pt x="16364" y="4790"/>
                  <a:pt x="16428" y="4747"/>
                  <a:pt x="16478" y="4731"/>
                </a:cubicBezTo>
                <a:cubicBezTo>
                  <a:pt x="16514" y="4719"/>
                  <a:pt x="16537" y="4708"/>
                  <a:pt x="16574" y="4699"/>
                </a:cubicBezTo>
                <a:cubicBezTo>
                  <a:pt x="16618" y="4744"/>
                  <a:pt x="16619" y="4808"/>
                  <a:pt x="16542" y="4858"/>
                </a:cubicBezTo>
                <a:cubicBezTo>
                  <a:pt x="16491" y="4891"/>
                  <a:pt x="16410" y="4955"/>
                  <a:pt x="16383" y="5016"/>
                </a:cubicBezTo>
                <a:cubicBezTo>
                  <a:pt x="16383" y="5048"/>
                  <a:pt x="16383" y="5059"/>
                  <a:pt x="16351" y="5048"/>
                </a:cubicBezTo>
                <a:cubicBezTo>
                  <a:pt x="16407" y="5090"/>
                  <a:pt x="16435" y="5080"/>
                  <a:pt x="16510" y="5080"/>
                </a:cubicBezTo>
                <a:cubicBezTo>
                  <a:pt x="16561" y="5080"/>
                  <a:pt x="16580" y="5112"/>
                  <a:pt x="16637" y="5112"/>
                </a:cubicBezTo>
                <a:cubicBezTo>
                  <a:pt x="16669" y="5112"/>
                  <a:pt x="16679" y="5112"/>
                  <a:pt x="16700" y="5112"/>
                </a:cubicBezTo>
              </a:path>
              <a:path w="8732" h="4573">
                <a:moveTo>
                  <a:pt x="14034" y="5874"/>
                </a:moveTo>
                <a:cubicBezTo>
                  <a:pt x="14137" y="5874"/>
                  <a:pt x="14219" y="5856"/>
                  <a:pt x="14319" y="5842"/>
                </a:cubicBezTo>
                <a:cubicBezTo>
                  <a:pt x="14445" y="5825"/>
                  <a:pt x="14575" y="5789"/>
                  <a:pt x="14700" y="5778"/>
                </a:cubicBezTo>
                <a:cubicBezTo>
                  <a:pt x="14889" y="5761"/>
                  <a:pt x="15084" y="5769"/>
                  <a:pt x="15272" y="5747"/>
                </a:cubicBezTo>
                <a:cubicBezTo>
                  <a:pt x="15457" y="5726"/>
                  <a:pt x="15654" y="5689"/>
                  <a:pt x="15843" y="5715"/>
                </a:cubicBezTo>
                <a:cubicBezTo>
                  <a:pt x="15965" y="5732"/>
                  <a:pt x="16068" y="5747"/>
                  <a:pt x="16192" y="5747"/>
                </a:cubicBezTo>
                <a:cubicBezTo>
                  <a:pt x="16224" y="5747"/>
                  <a:pt x="16235" y="5747"/>
                  <a:pt x="16192" y="5747"/>
                </a:cubicBezTo>
              </a:path>
              <a:path w="8732" h="4573">
                <a:moveTo>
                  <a:pt x="15018" y="6286"/>
                </a:moveTo>
                <a:cubicBezTo>
                  <a:pt x="15027" y="6259"/>
                  <a:pt x="15073" y="6236"/>
                  <a:pt x="15113" y="6223"/>
                </a:cubicBezTo>
                <a:cubicBezTo>
                  <a:pt x="15166" y="6205"/>
                  <a:pt x="15243" y="6173"/>
                  <a:pt x="15304" y="6191"/>
                </a:cubicBezTo>
                <a:cubicBezTo>
                  <a:pt x="15367" y="6210"/>
                  <a:pt x="15440" y="6274"/>
                  <a:pt x="15462" y="6318"/>
                </a:cubicBezTo>
                <a:cubicBezTo>
                  <a:pt x="15511" y="6416"/>
                  <a:pt x="15492" y="6481"/>
                  <a:pt x="15430" y="6572"/>
                </a:cubicBezTo>
                <a:cubicBezTo>
                  <a:pt x="15374" y="6654"/>
                  <a:pt x="15312" y="6722"/>
                  <a:pt x="15240" y="6794"/>
                </a:cubicBezTo>
                <a:cubicBezTo>
                  <a:pt x="15189" y="6844"/>
                  <a:pt x="15136" y="6878"/>
                  <a:pt x="15081" y="6922"/>
                </a:cubicBezTo>
                <a:cubicBezTo>
                  <a:pt x="15146" y="6906"/>
                  <a:pt x="15162" y="6890"/>
                  <a:pt x="15240" y="6890"/>
                </a:cubicBezTo>
                <a:cubicBezTo>
                  <a:pt x="15333" y="6890"/>
                  <a:pt x="15377" y="6901"/>
                  <a:pt x="15462" y="6922"/>
                </a:cubicBezTo>
                <a:cubicBezTo>
                  <a:pt x="15520" y="6937"/>
                  <a:pt x="15567" y="6979"/>
                  <a:pt x="15621" y="6985"/>
                </a:cubicBezTo>
                <a:cubicBezTo>
                  <a:pt x="15652" y="6988"/>
                  <a:pt x="15685" y="6985"/>
                  <a:pt x="15716" y="6985"/>
                </a:cubicBezTo>
              </a:path>
              <a:path w="8732" h="4573">
                <a:moveTo>
                  <a:pt x="16478" y="3207"/>
                </a:moveTo>
                <a:cubicBezTo>
                  <a:pt x="16511" y="3248"/>
                  <a:pt x="16561" y="3339"/>
                  <a:pt x="16605" y="3397"/>
                </a:cubicBezTo>
                <a:cubicBezTo>
                  <a:pt x="16694" y="3515"/>
                  <a:pt x="16750" y="3647"/>
                  <a:pt x="16828" y="3778"/>
                </a:cubicBezTo>
                <a:cubicBezTo>
                  <a:pt x="16966" y="4009"/>
                  <a:pt x="17074" y="4259"/>
                  <a:pt x="17177" y="4508"/>
                </a:cubicBezTo>
                <a:cubicBezTo>
                  <a:pt x="17270" y="4734"/>
                  <a:pt x="17352" y="4967"/>
                  <a:pt x="17399" y="5207"/>
                </a:cubicBezTo>
                <a:cubicBezTo>
                  <a:pt x="17445" y="5439"/>
                  <a:pt x="17431" y="5670"/>
                  <a:pt x="17431" y="5906"/>
                </a:cubicBezTo>
                <a:cubicBezTo>
                  <a:pt x="17431" y="6117"/>
                  <a:pt x="17403" y="6332"/>
                  <a:pt x="17367" y="6540"/>
                </a:cubicBezTo>
                <a:cubicBezTo>
                  <a:pt x="17335" y="6720"/>
                  <a:pt x="17265" y="6919"/>
                  <a:pt x="17177" y="7080"/>
                </a:cubicBezTo>
                <a:cubicBezTo>
                  <a:pt x="17110" y="7202"/>
                  <a:pt x="17038" y="7352"/>
                  <a:pt x="16954" y="7461"/>
                </a:cubicBezTo>
                <a:cubicBezTo>
                  <a:pt x="16891" y="7543"/>
                  <a:pt x="16830" y="7637"/>
                  <a:pt x="16764" y="7715"/>
                </a:cubicBezTo>
                <a:cubicBezTo>
                  <a:pt x="16732" y="7747"/>
                  <a:pt x="16721" y="7758"/>
                  <a:pt x="16700" y="77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Ink 4"/>
          <p:cNvSpPr/>
          <p:nvPr/>
        </p:nvSpPr>
        <p:spPr>
          <a:xfrm>
            <a:off x="1828800" y="3336840"/>
            <a:ext cx="1749600" cy="1052640"/>
          </a:xfrm>
          <a:custGeom>
            <a:avLst/>
            <a:gdLst/>
            <a:ahLst/>
            <a:rect l="l" t="t" r="r" b="b"/>
            <a:pathLst>
              <a:path w="4859" h="2922">
                <a:moveTo>
                  <a:pt x="5080" y="9271"/>
                </a:moveTo>
                <a:cubicBezTo>
                  <a:pt x="5171" y="9336"/>
                  <a:pt x="5146" y="9338"/>
                  <a:pt x="5175" y="9462"/>
                </a:cubicBezTo>
                <a:cubicBezTo>
                  <a:pt x="5210" y="9613"/>
                  <a:pt x="5227" y="9780"/>
                  <a:pt x="5207" y="9938"/>
                </a:cubicBezTo>
                <a:cubicBezTo>
                  <a:pt x="5181" y="10137"/>
                  <a:pt x="5159" y="10340"/>
                  <a:pt x="5144" y="10541"/>
                </a:cubicBezTo>
                <a:cubicBezTo>
                  <a:pt x="5132" y="10700"/>
                  <a:pt x="5118" y="10859"/>
                  <a:pt x="5112" y="11017"/>
                </a:cubicBezTo>
                <a:cubicBezTo>
                  <a:pt x="5110" y="11078"/>
                  <a:pt x="5112" y="11154"/>
                  <a:pt x="5112" y="11049"/>
                </a:cubicBezTo>
                <a:cubicBezTo>
                  <a:pt x="5112" y="10901"/>
                  <a:pt x="5120" y="10749"/>
                  <a:pt x="5144" y="10604"/>
                </a:cubicBezTo>
                <a:cubicBezTo>
                  <a:pt x="5170" y="10448"/>
                  <a:pt x="5203" y="10240"/>
                  <a:pt x="5270" y="10096"/>
                </a:cubicBezTo>
                <a:cubicBezTo>
                  <a:pt x="5302" y="10027"/>
                  <a:pt x="5381" y="9896"/>
                  <a:pt x="5461" y="9874"/>
                </a:cubicBezTo>
                <a:cubicBezTo>
                  <a:pt x="5539" y="9853"/>
                  <a:pt x="5647" y="9936"/>
                  <a:pt x="5683" y="10001"/>
                </a:cubicBezTo>
                <a:cubicBezTo>
                  <a:pt x="5753" y="10128"/>
                  <a:pt x="5715" y="10339"/>
                  <a:pt x="5715" y="10478"/>
                </a:cubicBezTo>
                <a:cubicBezTo>
                  <a:pt x="5715" y="10630"/>
                  <a:pt x="5659" y="10808"/>
                  <a:pt x="5683" y="10954"/>
                </a:cubicBezTo>
                <a:cubicBezTo>
                  <a:pt x="5696" y="11032"/>
                  <a:pt x="5724" y="11089"/>
                  <a:pt x="5778" y="11144"/>
                </a:cubicBezTo>
              </a:path>
              <a:path w="4859" h="2922">
                <a:moveTo>
                  <a:pt x="6477" y="10541"/>
                </a:moveTo>
                <a:cubicBezTo>
                  <a:pt x="6477" y="10446"/>
                  <a:pt x="6484" y="10366"/>
                  <a:pt x="6445" y="10287"/>
                </a:cubicBezTo>
                <a:cubicBezTo>
                  <a:pt x="6407" y="10210"/>
                  <a:pt x="6399" y="10192"/>
                  <a:pt x="6318" y="10192"/>
                </a:cubicBezTo>
                <a:cubicBezTo>
                  <a:pt x="6191" y="10192"/>
                  <a:pt x="6183" y="10287"/>
                  <a:pt x="6128" y="10382"/>
                </a:cubicBezTo>
                <a:cubicBezTo>
                  <a:pt x="6042" y="10531"/>
                  <a:pt x="6008" y="10656"/>
                  <a:pt x="6001" y="10827"/>
                </a:cubicBezTo>
                <a:cubicBezTo>
                  <a:pt x="5998" y="10903"/>
                  <a:pt x="6020" y="10930"/>
                  <a:pt x="6064" y="10986"/>
                </a:cubicBezTo>
                <a:cubicBezTo>
                  <a:pt x="6151" y="10986"/>
                  <a:pt x="6185" y="10975"/>
                  <a:pt x="6223" y="10890"/>
                </a:cubicBezTo>
                <a:cubicBezTo>
                  <a:pt x="6284" y="10754"/>
                  <a:pt x="6318" y="10650"/>
                  <a:pt x="6350" y="10509"/>
                </a:cubicBezTo>
                <a:cubicBezTo>
                  <a:pt x="6364" y="10445"/>
                  <a:pt x="6382" y="10254"/>
                  <a:pt x="6382" y="10319"/>
                </a:cubicBezTo>
                <a:cubicBezTo>
                  <a:pt x="6382" y="10524"/>
                  <a:pt x="6392" y="10723"/>
                  <a:pt x="6414" y="10922"/>
                </a:cubicBezTo>
                <a:cubicBezTo>
                  <a:pt x="6422" y="10989"/>
                  <a:pt x="6413" y="11145"/>
                  <a:pt x="6540" y="11112"/>
                </a:cubicBezTo>
                <a:cubicBezTo>
                  <a:pt x="6604" y="11081"/>
                  <a:pt x="6626" y="11070"/>
                  <a:pt x="6636" y="11017"/>
                </a:cubicBezTo>
              </a:path>
              <a:path w="4859" h="2922">
                <a:moveTo>
                  <a:pt x="6794" y="9716"/>
                </a:moveTo>
                <a:cubicBezTo>
                  <a:pt x="6814" y="9814"/>
                  <a:pt x="6826" y="9895"/>
                  <a:pt x="6826" y="10001"/>
                </a:cubicBezTo>
                <a:cubicBezTo>
                  <a:pt x="6826" y="10354"/>
                  <a:pt x="6735" y="10848"/>
                  <a:pt x="6858" y="11176"/>
                </a:cubicBezTo>
              </a:path>
              <a:path w="4859" h="2922">
                <a:moveTo>
                  <a:pt x="7556" y="9842"/>
                </a:moveTo>
                <a:cubicBezTo>
                  <a:pt x="7556" y="9768"/>
                  <a:pt x="7579" y="9671"/>
                  <a:pt x="7493" y="9652"/>
                </a:cubicBezTo>
                <a:cubicBezTo>
                  <a:pt x="7437" y="9640"/>
                  <a:pt x="7338" y="9677"/>
                  <a:pt x="7302" y="9716"/>
                </a:cubicBezTo>
                <a:cubicBezTo>
                  <a:pt x="7250" y="9772"/>
                  <a:pt x="7188" y="9930"/>
                  <a:pt x="7176" y="10001"/>
                </a:cubicBezTo>
                <a:cubicBezTo>
                  <a:pt x="7151" y="10152"/>
                  <a:pt x="7160" y="10265"/>
                  <a:pt x="7176" y="10414"/>
                </a:cubicBezTo>
                <a:cubicBezTo>
                  <a:pt x="7191" y="10550"/>
                  <a:pt x="7202" y="10691"/>
                  <a:pt x="7207" y="10827"/>
                </a:cubicBezTo>
                <a:cubicBezTo>
                  <a:pt x="7211" y="10951"/>
                  <a:pt x="7182" y="11056"/>
                  <a:pt x="7176" y="11176"/>
                </a:cubicBezTo>
                <a:cubicBezTo>
                  <a:pt x="7176" y="11229"/>
                  <a:pt x="7187" y="11251"/>
                  <a:pt x="7144" y="11240"/>
                </a:cubicBezTo>
              </a:path>
              <a:path w="4859" h="2922">
                <a:moveTo>
                  <a:pt x="6985" y="10668"/>
                </a:moveTo>
                <a:cubicBezTo>
                  <a:pt x="7038" y="10668"/>
                  <a:pt x="7027" y="10668"/>
                  <a:pt x="7080" y="10668"/>
                </a:cubicBezTo>
                <a:cubicBezTo>
                  <a:pt x="7191" y="10668"/>
                  <a:pt x="7262" y="10648"/>
                  <a:pt x="7366" y="10604"/>
                </a:cubicBezTo>
                <a:cubicBezTo>
                  <a:pt x="7462" y="10564"/>
                  <a:pt x="7508" y="10536"/>
                  <a:pt x="7556" y="10446"/>
                </a:cubicBezTo>
                <a:cubicBezTo>
                  <a:pt x="7578" y="10404"/>
                  <a:pt x="7581" y="10371"/>
                  <a:pt x="7588" y="10319"/>
                </a:cubicBezTo>
                <a:cubicBezTo>
                  <a:pt x="7588" y="10471"/>
                  <a:pt x="7547" y="10654"/>
                  <a:pt x="7556" y="10795"/>
                </a:cubicBezTo>
                <a:cubicBezTo>
                  <a:pt x="7562" y="10893"/>
                  <a:pt x="7548" y="11051"/>
                  <a:pt x="7588" y="11144"/>
                </a:cubicBezTo>
                <a:cubicBezTo>
                  <a:pt x="7617" y="11173"/>
                  <a:pt x="7628" y="11179"/>
                  <a:pt x="7620" y="11208"/>
                </a:cubicBezTo>
                <a:cubicBezTo>
                  <a:pt x="7702" y="11161"/>
                  <a:pt x="7707" y="11159"/>
                  <a:pt x="7747" y="11049"/>
                </a:cubicBezTo>
                <a:cubicBezTo>
                  <a:pt x="7796" y="10913"/>
                  <a:pt x="7805" y="10769"/>
                  <a:pt x="7842" y="10636"/>
                </a:cubicBezTo>
                <a:cubicBezTo>
                  <a:pt x="7861" y="10565"/>
                  <a:pt x="7874" y="10521"/>
                  <a:pt x="7874" y="10446"/>
                </a:cubicBezTo>
                <a:cubicBezTo>
                  <a:pt x="7927" y="10533"/>
                  <a:pt x="7877" y="10595"/>
                  <a:pt x="7874" y="10700"/>
                </a:cubicBezTo>
                <a:cubicBezTo>
                  <a:pt x="7871" y="10808"/>
                  <a:pt x="7858" y="11016"/>
                  <a:pt x="7906" y="11112"/>
                </a:cubicBezTo>
                <a:cubicBezTo>
                  <a:pt x="7939" y="11179"/>
                  <a:pt x="8021" y="11231"/>
                  <a:pt x="8096" y="11208"/>
                </a:cubicBezTo>
                <a:cubicBezTo>
                  <a:pt x="8181" y="11182"/>
                  <a:pt x="8260" y="10988"/>
                  <a:pt x="8287" y="10922"/>
                </a:cubicBezTo>
                <a:cubicBezTo>
                  <a:pt x="8333" y="10810"/>
                  <a:pt x="8376" y="10663"/>
                  <a:pt x="8350" y="10541"/>
                </a:cubicBezTo>
                <a:cubicBezTo>
                  <a:pt x="8338" y="10484"/>
                  <a:pt x="8299" y="10376"/>
                  <a:pt x="8223" y="10382"/>
                </a:cubicBezTo>
                <a:cubicBezTo>
                  <a:pt x="8192" y="10382"/>
                  <a:pt x="8181" y="10382"/>
                  <a:pt x="8192" y="10414"/>
                </a:cubicBezTo>
              </a:path>
              <a:path w="4859" h="2922">
                <a:moveTo>
                  <a:pt x="8731" y="10954"/>
                </a:moveTo>
                <a:cubicBezTo>
                  <a:pt x="8780" y="10893"/>
                  <a:pt x="8809" y="10897"/>
                  <a:pt x="8826" y="10795"/>
                </a:cubicBezTo>
                <a:cubicBezTo>
                  <a:pt x="8839" y="10714"/>
                  <a:pt x="8828" y="10612"/>
                  <a:pt x="8795" y="10541"/>
                </a:cubicBezTo>
                <a:cubicBezTo>
                  <a:pt x="8775" y="10498"/>
                  <a:pt x="8649" y="10445"/>
                  <a:pt x="8604" y="10478"/>
                </a:cubicBezTo>
                <a:cubicBezTo>
                  <a:pt x="8515" y="10543"/>
                  <a:pt x="8530" y="10642"/>
                  <a:pt x="8509" y="10732"/>
                </a:cubicBezTo>
                <a:cubicBezTo>
                  <a:pt x="8485" y="10836"/>
                  <a:pt x="8438" y="11004"/>
                  <a:pt x="8477" y="11112"/>
                </a:cubicBezTo>
                <a:cubicBezTo>
                  <a:pt x="8488" y="11123"/>
                  <a:pt x="8498" y="11133"/>
                  <a:pt x="8509" y="11144"/>
                </a:cubicBezTo>
                <a:cubicBezTo>
                  <a:pt x="8595" y="11133"/>
                  <a:pt x="8607" y="11151"/>
                  <a:pt x="8668" y="11081"/>
                </a:cubicBezTo>
                <a:cubicBezTo>
                  <a:pt x="8728" y="11013"/>
                  <a:pt x="8751" y="10849"/>
                  <a:pt x="8763" y="10763"/>
                </a:cubicBezTo>
                <a:cubicBezTo>
                  <a:pt x="8771" y="10711"/>
                  <a:pt x="8763" y="10721"/>
                  <a:pt x="8763" y="10668"/>
                </a:cubicBezTo>
                <a:cubicBezTo>
                  <a:pt x="8763" y="10812"/>
                  <a:pt x="8773" y="10945"/>
                  <a:pt x="8795" y="11081"/>
                </a:cubicBezTo>
                <a:cubicBezTo>
                  <a:pt x="8811" y="11183"/>
                  <a:pt x="8820" y="11190"/>
                  <a:pt x="8890" y="11240"/>
                </a:cubicBezTo>
                <a:cubicBezTo>
                  <a:pt x="8963" y="11176"/>
                  <a:pt x="8970" y="11203"/>
                  <a:pt x="9017" y="11081"/>
                </a:cubicBezTo>
                <a:cubicBezTo>
                  <a:pt x="9066" y="10954"/>
                  <a:pt x="9078" y="10825"/>
                  <a:pt x="9112" y="10700"/>
                </a:cubicBezTo>
                <a:cubicBezTo>
                  <a:pt x="9127" y="10647"/>
                  <a:pt x="9133" y="10658"/>
                  <a:pt x="9144" y="10604"/>
                </a:cubicBezTo>
                <a:cubicBezTo>
                  <a:pt x="9114" y="10685"/>
                  <a:pt x="9065" y="10801"/>
                  <a:pt x="9080" y="10890"/>
                </a:cubicBezTo>
                <a:cubicBezTo>
                  <a:pt x="9092" y="10964"/>
                  <a:pt x="9108" y="11095"/>
                  <a:pt x="9176" y="11144"/>
                </a:cubicBezTo>
                <a:cubicBezTo>
                  <a:pt x="9285" y="11222"/>
                  <a:pt x="9320" y="11150"/>
                  <a:pt x="9398" y="11081"/>
                </a:cubicBezTo>
                <a:cubicBezTo>
                  <a:pt x="9520" y="10972"/>
                  <a:pt x="9540" y="10849"/>
                  <a:pt x="9588" y="10700"/>
                </a:cubicBezTo>
                <a:cubicBezTo>
                  <a:pt x="9616" y="10613"/>
                  <a:pt x="9675" y="10510"/>
                  <a:pt x="9652" y="10414"/>
                </a:cubicBezTo>
                <a:cubicBezTo>
                  <a:pt x="9641" y="10403"/>
                  <a:pt x="9631" y="10393"/>
                  <a:pt x="9620" y="10382"/>
                </a:cubicBezTo>
                <a:cubicBezTo>
                  <a:pt x="9620" y="10556"/>
                  <a:pt x="9601" y="10720"/>
                  <a:pt x="9588" y="10890"/>
                </a:cubicBezTo>
                <a:cubicBezTo>
                  <a:pt x="9573" y="11090"/>
                  <a:pt x="9571" y="11296"/>
                  <a:pt x="9557" y="11494"/>
                </a:cubicBezTo>
                <a:cubicBezTo>
                  <a:pt x="9545" y="11660"/>
                  <a:pt x="9585" y="11850"/>
                  <a:pt x="9493" y="12002"/>
                </a:cubicBezTo>
                <a:cubicBezTo>
                  <a:pt x="9447" y="12077"/>
                  <a:pt x="9327" y="12172"/>
                  <a:pt x="9239" y="12192"/>
                </a:cubicBezTo>
                <a:cubicBezTo>
                  <a:pt x="9195" y="12202"/>
                  <a:pt x="9043" y="12182"/>
                  <a:pt x="9017" y="12160"/>
                </a:cubicBezTo>
                <a:cubicBezTo>
                  <a:pt x="8966" y="12117"/>
                  <a:pt x="8930" y="12028"/>
                  <a:pt x="8922" y="11970"/>
                </a:cubicBezTo>
              </a:path>
              <a:path w="4859" h="2922">
                <a:moveTo>
                  <a:pt x="9938" y="11144"/>
                </a:moveTo>
                <a:cubicBezTo>
                  <a:pt x="9938" y="11251"/>
                  <a:pt x="9931" y="11330"/>
                  <a:pt x="9906" y="11430"/>
                </a:cubicBezTo>
                <a:cubicBezTo>
                  <a:pt x="9906" y="11441"/>
                  <a:pt x="9906" y="11451"/>
                  <a:pt x="9906" y="114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Ink 5"/>
          <p:cNvSpPr/>
          <p:nvPr/>
        </p:nvSpPr>
        <p:spPr>
          <a:xfrm>
            <a:off x="3772080" y="3611520"/>
            <a:ext cx="1439640" cy="743040"/>
          </a:xfrm>
          <a:custGeom>
            <a:avLst/>
            <a:gdLst/>
            <a:ahLst/>
            <a:rect l="l" t="t" r="r" b="b"/>
            <a:pathLst>
              <a:path w="4001" h="2065">
                <a:moveTo>
                  <a:pt x="10636" y="10414"/>
                </a:moveTo>
                <a:cubicBezTo>
                  <a:pt x="10636" y="10578"/>
                  <a:pt x="10620" y="10729"/>
                  <a:pt x="10604" y="10890"/>
                </a:cubicBezTo>
                <a:cubicBezTo>
                  <a:pt x="10584" y="11088"/>
                  <a:pt x="10558" y="11301"/>
                  <a:pt x="10509" y="11494"/>
                </a:cubicBezTo>
                <a:cubicBezTo>
                  <a:pt x="10505" y="11511"/>
                  <a:pt x="10478" y="11733"/>
                  <a:pt x="10478" y="11652"/>
                </a:cubicBezTo>
                <a:cubicBezTo>
                  <a:pt x="10478" y="11497"/>
                  <a:pt x="10480" y="11360"/>
                  <a:pt x="10509" y="11208"/>
                </a:cubicBezTo>
                <a:cubicBezTo>
                  <a:pt x="10544" y="11026"/>
                  <a:pt x="10589" y="10847"/>
                  <a:pt x="10636" y="10668"/>
                </a:cubicBezTo>
                <a:cubicBezTo>
                  <a:pt x="10664" y="10562"/>
                  <a:pt x="10699" y="10443"/>
                  <a:pt x="10763" y="10350"/>
                </a:cubicBezTo>
                <a:cubicBezTo>
                  <a:pt x="10792" y="10322"/>
                  <a:pt x="10798" y="10312"/>
                  <a:pt x="10827" y="10319"/>
                </a:cubicBezTo>
                <a:cubicBezTo>
                  <a:pt x="10867" y="10429"/>
                  <a:pt x="10886" y="10515"/>
                  <a:pt x="10890" y="10636"/>
                </a:cubicBezTo>
                <a:cubicBezTo>
                  <a:pt x="10895" y="10784"/>
                  <a:pt x="10858" y="10929"/>
                  <a:pt x="10858" y="11081"/>
                </a:cubicBezTo>
                <a:cubicBezTo>
                  <a:pt x="10858" y="11197"/>
                  <a:pt x="10861" y="11271"/>
                  <a:pt x="10890" y="11366"/>
                </a:cubicBezTo>
                <a:cubicBezTo>
                  <a:pt x="10890" y="11377"/>
                  <a:pt x="10890" y="11387"/>
                  <a:pt x="10890" y="11398"/>
                </a:cubicBezTo>
                <a:cubicBezTo>
                  <a:pt x="10933" y="11356"/>
                  <a:pt x="10931" y="11354"/>
                  <a:pt x="10954" y="11271"/>
                </a:cubicBezTo>
                <a:cubicBezTo>
                  <a:pt x="10997" y="11116"/>
                  <a:pt x="11060" y="10955"/>
                  <a:pt x="11081" y="10795"/>
                </a:cubicBezTo>
                <a:cubicBezTo>
                  <a:pt x="11097" y="10668"/>
                  <a:pt x="11137" y="10540"/>
                  <a:pt x="11144" y="10414"/>
                </a:cubicBezTo>
                <a:cubicBezTo>
                  <a:pt x="11147" y="10353"/>
                  <a:pt x="11157" y="10337"/>
                  <a:pt x="11176" y="10287"/>
                </a:cubicBezTo>
                <a:cubicBezTo>
                  <a:pt x="11216" y="10347"/>
                  <a:pt x="11259" y="10431"/>
                  <a:pt x="11271" y="10509"/>
                </a:cubicBezTo>
                <a:cubicBezTo>
                  <a:pt x="11292" y="10645"/>
                  <a:pt x="11276" y="10787"/>
                  <a:pt x="11303" y="10922"/>
                </a:cubicBezTo>
                <a:cubicBezTo>
                  <a:pt x="11328" y="11048"/>
                  <a:pt x="11347" y="11180"/>
                  <a:pt x="11366" y="11303"/>
                </a:cubicBezTo>
                <a:cubicBezTo>
                  <a:pt x="11372" y="11340"/>
                  <a:pt x="11376" y="11443"/>
                  <a:pt x="11430" y="11430"/>
                </a:cubicBezTo>
                <a:cubicBezTo>
                  <a:pt x="11476" y="11419"/>
                  <a:pt x="11492" y="11166"/>
                  <a:pt x="11494" y="11144"/>
                </a:cubicBezTo>
              </a:path>
              <a:path w="4001" h="2065">
                <a:moveTo>
                  <a:pt x="11684" y="10446"/>
                </a:moveTo>
                <a:cubicBezTo>
                  <a:pt x="11684" y="10756"/>
                  <a:pt x="11679" y="11062"/>
                  <a:pt x="11716" y="11366"/>
                </a:cubicBezTo>
                <a:cubicBezTo>
                  <a:pt x="11725" y="11442"/>
                  <a:pt x="11709" y="11444"/>
                  <a:pt x="11779" y="11462"/>
                </a:cubicBezTo>
              </a:path>
              <a:path w="4001" h="2065">
                <a:moveTo>
                  <a:pt x="12287" y="10033"/>
                </a:moveTo>
                <a:cubicBezTo>
                  <a:pt x="12287" y="10102"/>
                  <a:pt x="12316" y="10121"/>
                  <a:pt x="12319" y="10192"/>
                </a:cubicBezTo>
                <a:cubicBezTo>
                  <a:pt x="12326" y="10351"/>
                  <a:pt x="12374" y="10506"/>
                  <a:pt x="12351" y="10668"/>
                </a:cubicBezTo>
                <a:cubicBezTo>
                  <a:pt x="12325" y="10850"/>
                  <a:pt x="12319" y="11022"/>
                  <a:pt x="12319" y="11208"/>
                </a:cubicBezTo>
                <a:cubicBezTo>
                  <a:pt x="12319" y="11290"/>
                  <a:pt x="12336" y="11325"/>
                  <a:pt x="12351" y="11398"/>
                </a:cubicBezTo>
                <a:cubicBezTo>
                  <a:pt x="12351" y="11488"/>
                  <a:pt x="12355" y="11228"/>
                  <a:pt x="12351" y="11208"/>
                </a:cubicBezTo>
                <a:cubicBezTo>
                  <a:pt x="12326" y="11071"/>
                  <a:pt x="12308" y="10927"/>
                  <a:pt x="12256" y="10795"/>
                </a:cubicBezTo>
                <a:cubicBezTo>
                  <a:pt x="12226" y="10718"/>
                  <a:pt x="12180" y="10676"/>
                  <a:pt x="12097" y="10668"/>
                </a:cubicBezTo>
                <a:cubicBezTo>
                  <a:pt x="12043" y="10663"/>
                  <a:pt x="11979" y="10746"/>
                  <a:pt x="11970" y="10795"/>
                </a:cubicBezTo>
                <a:cubicBezTo>
                  <a:pt x="11942" y="10949"/>
                  <a:pt x="11929" y="11086"/>
                  <a:pt x="11970" y="11240"/>
                </a:cubicBezTo>
                <a:cubicBezTo>
                  <a:pt x="12003" y="11361"/>
                  <a:pt x="12065" y="11419"/>
                  <a:pt x="12192" y="11430"/>
                </a:cubicBezTo>
                <a:cubicBezTo>
                  <a:pt x="12315" y="11440"/>
                  <a:pt x="12356" y="11404"/>
                  <a:pt x="12446" y="11335"/>
                </a:cubicBezTo>
              </a:path>
              <a:path w="4001" h="2065">
                <a:moveTo>
                  <a:pt x="12827" y="10033"/>
                </a:moveTo>
                <a:cubicBezTo>
                  <a:pt x="12827" y="10127"/>
                  <a:pt x="12856" y="10193"/>
                  <a:pt x="12859" y="10287"/>
                </a:cubicBezTo>
                <a:cubicBezTo>
                  <a:pt x="12870" y="10639"/>
                  <a:pt x="12851" y="10987"/>
                  <a:pt x="12890" y="11335"/>
                </a:cubicBezTo>
                <a:cubicBezTo>
                  <a:pt x="12898" y="11407"/>
                  <a:pt x="12890" y="11485"/>
                  <a:pt x="12890" y="11557"/>
                </a:cubicBezTo>
                <a:cubicBezTo>
                  <a:pt x="12907" y="11489"/>
                  <a:pt x="12922" y="11448"/>
                  <a:pt x="12922" y="11366"/>
                </a:cubicBezTo>
                <a:cubicBezTo>
                  <a:pt x="12922" y="11235"/>
                  <a:pt x="12940" y="11106"/>
                  <a:pt x="12890" y="10986"/>
                </a:cubicBezTo>
                <a:cubicBezTo>
                  <a:pt x="12854" y="10899"/>
                  <a:pt x="12816" y="10841"/>
                  <a:pt x="12732" y="10827"/>
                </a:cubicBezTo>
                <a:cubicBezTo>
                  <a:pt x="12721" y="10827"/>
                  <a:pt x="12711" y="10827"/>
                  <a:pt x="12700" y="10827"/>
                </a:cubicBezTo>
                <a:cubicBezTo>
                  <a:pt x="12629" y="10897"/>
                  <a:pt x="12607" y="10953"/>
                  <a:pt x="12573" y="11049"/>
                </a:cubicBezTo>
                <a:cubicBezTo>
                  <a:pt x="12528" y="11178"/>
                  <a:pt x="12526" y="11301"/>
                  <a:pt x="12573" y="11430"/>
                </a:cubicBezTo>
                <a:cubicBezTo>
                  <a:pt x="12611" y="11533"/>
                  <a:pt x="12683" y="11598"/>
                  <a:pt x="12795" y="11589"/>
                </a:cubicBezTo>
                <a:cubicBezTo>
                  <a:pt x="12901" y="11580"/>
                  <a:pt x="13019" y="11509"/>
                  <a:pt x="13113" y="11462"/>
                </a:cubicBezTo>
              </a:path>
              <a:path w="4001" h="2065">
                <a:moveTo>
                  <a:pt x="13335" y="10096"/>
                </a:moveTo>
                <a:cubicBezTo>
                  <a:pt x="13335" y="10294"/>
                  <a:pt x="13277" y="11609"/>
                  <a:pt x="13367" y="11620"/>
                </a:cubicBezTo>
                <a:cubicBezTo>
                  <a:pt x="13377" y="11620"/>
                  <a:pt x="13388" y="11620"/>
                  <a:pt x="13398" y="11620"/>
                </a:cubicBezTo>
              </a:path>
              <a:path w="4001" h="2065">
                <a:moveTo>
                  <a:pt x="13589" y="11303"/>
                </a:moveTo>
                <a:cubicBezTo>
                  <a:pt x="13639" y="11265"/>
                  <a:pt x="13693" y="11264"/>
                  <a:pt x="13748" y="11240"/>
                </a:cubicBezTo>
                <a:cubicBezTo>
                  <a:pt x="13816" y="11211"/>
                  <a:pt x="13877" y="11202"/>
                  <a:pt x="13938" y="11176"/>
                </a:cubicBezTo>
                <a:cubicBezTo>
                  <a:pt x="14048" y="11129"/>
                  <a:pt x="14022" y="11084"/>
                  <a:pt x="14065" y="10986"/>
                </a:cubicBezTo>
                <a:cubicBezTo>
                  <a:pt x="14099" y="10910"/>
                  <a:pt x="14121" y="10786"/>
                  <a:pt x="14097" y="10700"/>
                </a:cubicBezTo>
                <a:cubicBezTo>
                  <a:pt x="14067" y="10591"/>
                  <a:pt x="14008" y="10595"/>
                  <a:pt x="13938" y="10604"/>
                </a:cubicBezTo>
                <a:cubicBezTo>
                  <a:pt x="13841" y="10617"/>
                  <a:pt x="13752" y="10694"/>
                  <a:pt x="13716" y="10795"/>
                </a:cubicBezTo>
                <a:cubicBezTo>
                  <a:pt x="13656" y="10961"/>
                  <a:pt x="13642" y="11108"/>
                  <a:pt x="13652" y="11271"/>
                </a:cubicBezTo>
                <a:cubicBezTo>
                  <a:pt x="13657" y="11355"/>
                  <a:pt x="13678" y="11548"/>
                  <a:pt x="13780" y="11589"/>
                </a:cubicBezTo>
                <a:cubicBezTo>
                  <a:pt x="13864" y="11589"/>
                  <a:pt x="13885" y="11589"/>
                  <a:pt x="13938" y="11589"/>
                </a:cubicBezTo>
              </a:path>
              <a:path w="4001" h="2065">
                <a:moveTo>
                  <a:pt x="14414" y="11335"/>
                </a:moveTo>
                <a:cubicBezTo>
                  <a:pt x="14428" y="11431"/>
                  <a:pt x="14473" y="11481"/>
                  <a:pt x="14478" y="11589"/>
                </a:cubicBezTo>
                <a:cubicBezTo>
                  <a:pt x="14485" y="11730"/>
                  <a:pt x="14503" y="11905"/>
                  <a:pt x="14446" y="12033"/>
                </a:cubicBezTo>
                <a:cubicBezTo>
                  <a:pt x="14435" y="12054"/>
                  <a:pt x="14425" y="12076"/>
                  <a:pt x="14414" y="120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Ink 6"/>
          <p:cNvSpPr/>
          <p:nvPr/>
        </p:nvSpPr>
        <p:spPr>
          <a:xfrm>
            <a:off x="5418000" y="3703680"/>
            <a:ext cx="1371600" cy="514440"/>
          </a:xfrm>
          <a:custGeom>
            <a:avLst/>
            <a:gdLst/>
            <a:ahLst/>
            <a:rect l="l" t="t" r="r" b="b"/>
            <a:pathLst>
              <a:path w="3811" h="1430">
                <a:moveTo>
                  <a:pt x="15494" y="10604"/>
                </a:moveTo>
                <a:cubicBezTo>
                  <a:pt x="15494" y="10690"/>
                  <a:pt x="15475" y="10749"/>
                  <a:pt x="15462" y="10827"/>
                </a:cubicBezTo>
                <a:cubicBezTo>
                  <a:pt x="15449" y="10907"/>
                  <a:pt x="15462" y="10999"/>
                  <a:pt x="15462" y="11081"/>
                </a:cubicBezTo>
                <a:cubicBezTo>
                  <a:pt x="15519" y="11062"/>
                  <a:pt x="15494" y="10990"/>
                  <a:pt x="15494" y="10922"/>
                </a:cubicBezTo>
                <a:cubicBezTo>
                  <a:pt x="15494" y="10842"/>
                  <a:pt x="15489" y="10678"/>
                  <a:pt x="15462" y="10604"/>
                </a:cubicBezTo>
                <a:cubicBezTo>
                  <a:pt x="15438" y="10539"/>
                  <a:pt x="15441" y="10509"/>
                  <a:pt x="15367" y="10509"/>
                </a:cubicBezTo>
                <a:cubicBezTo>
                  <a:pt x="15251" y="10543"/>
                  <a:pt x="15239" y="10622"/>
                  <a:pt x="15176" y="10732"/>
                </a:cubicBezTo>
                <a:cubicBezTo>
                  <a:pt x="15086" y="10888"/>
                  <a:pt x="15056" y="11027"/>
                  <a:pt x="15050" y="11208"/>
                </a:cubicBezTo>
                <a:cubicBezTo>
                  <a:pt x="15046" y="11346"/>
                  <a:pt x="15086" y="11427"/>
                  <a:pt x="15176" y="11525"/>
                </a:cubicBezTo>
                <a:cubicBezTo>
                  <a:pt x="15228" y="11582"/>
                  <a:pt x="15338" y="11569"/>
                  <a:pt x="15399" y="11525"/>
                </a:cubicBezTo>
                <a:cubicBezTo>
                  <a:pt x="15420" y="11504"/>
                  <a:pt x="15441" y="11483"/>
                  <a:pt x="15462" y="11462"/>
                </a:cubicBezTo>
              </a:path>
              <a:path w="3811" h="1430">
                <a:moveTo>
                  <a:pt x="15748" y="10986"/>
                </a:moveTo>
                <a:cubicBezTo>
                  <a:pt x="15804" y="11027"/>
                  <a:pt x="15835" y="11043"/>
                  <a:pt x="15907" y="11049"/>
                </a:cubicBezTo>
                <a:cubicBezTo>
                  <a:pt x="15989" y="11056"/>
                  <a:pt x="16011" y="11042"/>
                  <a:pt x="16066" y="10986"/>
                </a:cubicBezTo>
                <a:cubicBezTo>
                  <a:pt x="16115" y="10936"/>
                  <a:pt x="16177" y="10832"/>
                  <a:pt x="16192" y="10763"/>
                </a:cubicBezTo>
                <a:cubicBezTo>
                  <a:pt x="16208" y="10692"/>
                  <a:pt x="16175" y="10662"/>
                  <a:pt x="16161" y="10604"/>
                </a:cubicBezTo>
                <a:cubicBezTo>
                  <a:pt x="16093" y="10621"/>
                  <a:pt x="16018" y="10673"/>
                  <a:pt x="15970" y="10732"/>
                </a:cubicBezTo>
                <a:cubicBezTo>
                  <a:pt x="15872" y="10853"/>
                  <a:pt x="15821" y="11029"/>
                  <a:pt x="15780" y="11176"/>
                </a:cubicBezTo>
                <a:cubicBezTo>
                  <a:pt x="15737" y="11330"/>
                  <a:pt x="15745" y="11389"/>
                  <a:pt x="15812" y="11525"/>
                </a:cubicBezTo>
                <a:cubicBezTo>
                  <a:pt x="15842" y="11585"/>
                  <a:pt x="15924" y="11632"/>
                  <a:pt x="16002" y="11589"/>
                </a:cubicBezTo>
                <a:cubicBezTo>
                  <a:pt x="16066" y="11525"/>
                  <a:pt x="16087" y="11504"/>
                  <a:pt x="16129" y="11462"/>
                </a:cubicBezTo>
              </a:path>
              <a:path w="3811" h="1430">
                <a:moveTo>
                  <a:pt x="16446" y="10795"/>
                </a:moveTo>
                <a:cubicBezTo>
                  <a:pt x="16446" y="10753"/>
                  <a:pt x="16446" y="10690"/>
                  <a:pt x="16446" y="10732"/>
                </a:cubicBezTo>
                <a:cubicBezTo>
                  <a:pt x="16471" y="10842"/>
                  <a:pt x="16446" y="10956"/>
                  <a:pt x="16446" y="11081"/>
                </a:cubicBezTo>
                <a:cubicBezTo>
                  <a:pt x="16446" y="11225"/>
                  <a:pt x="16421" y="11354"/>
                  <a:pt x="16415" y="11494"/>
                </a:cubicBezTo>
                <a:cubicBezTo>
                  <a:pt x="16413" y="11536"/>
                  <a:pt x="16415" y="11578"/>
                  <a:pt x="16415" y="11620"/>
                </a:cubicBezTo>
                <a:cubicBezTo>
                  <a:pt x="16415" y="11524"/>
                  <a:pt x="16417" y="11459"/>
                  <a:pt x="16446" y="11366"/>
                </a:cubicBezTo>
                <a:cubicBezTo>
                  <a:pt x="16492" y="11216"/>
                  <a:pt x="16531" y="11090"/>
                  <a:pt x="16605" y="10954"/>
                </a:cubicBezTo>
                <a:cubicBezTo>
                  <a:pt x="16650" y="10871"/>
                  <a:pt x="16666" y="10796"/>
                  <a:pt x="16764" y="10763"/>
                </a:cubicBezTo>
                <a:cubicBezTo>
                  <a:pt x="16824" y="10743"/>
                  <a:pt x="16845" y="10826"/>
                  <a:pt x="16859" y="10858"/>
                </a:cubicBezTo>
                <a:cubicBezTo>
                  <a:pt x="16907" y="10970"/>
                  <a:pt x="16891" y="11085"/>
                  <a:pt x="16891" y="11208"/>
                </a:cubicBezTo>
                <a:cubicBezTo>
                  <a:pt x="16891" y="11330"/>
                  <a:pt x="16822" y="11466"/>
                  <a:pt x="16859" y="11589"/>
                </a:cubicBezTo>
                <a:cubicBezTo>
                  <a:pt x="16875" y="11643"/>
                  <a:pt x="16935" y="11703"/>
                  <a:pt x="16986" y="11716"/>
                </a:cubicBezTo>
                <a:cubicBezTo>
                  <a:pt x="17101" y="11644"/>
                  <a:pt x="17186" y="11567"/>
                  <a:pt x="17272" y="11462"/>
                </a:cubicBezTo>
              </a:path>
              <a:path w="3811" h="1430">
                <a:moveTo>
                  <a:pt x="17367" y="10287"/>
                </a:moveTo>
                <a:cubicBezTo>
                  <a:pt x="17367" y="10420"/>
                  <a:pt x="17384" y="10540"/>
                  <a:pt x="17399" y="10668"/>
                </a:cubicBezTo>
                <a:cubicBezTo>
                  <a:pt x="17416" y="10811"/>
                  <a:pt x="17382" y="10945"/>
                  <a:pt x="17367" y="11081"/>
                </a:cubicBezTo>
                <a:cubicBezTo>
                  <a:pt x="17357" y="11178"/>
                  <a:pt x="17345" y="11274"/>
                  <a:pt x="17336" y="11366"/>
                </a:cubicBezTo>
                <a:cubicBezTo>
                  <a:pt x="17335" y="11376"/>
                  <a:pt x="17336" y="11484"/>
                  <a:pt x="17336" y="11398"/>
                </a:cubicBezTo>
              </a:path>
              <a:path w="3811" h="1430">
                <a:moveTo>
                  <a:pt x="17145" y="10858"/>
                </a:moveTo>
                <a:cubicBezTo>
                  <a:pt x="17217" y="10866"/>
                  <a:pt x="17300" y="10869"/>
                  <a:pt x="17367" y="10890"/>
                </a:cubicBezTo>
                <a:cubicBezTo>
                  <a:pt x="17475" y="10924"/>
                  <a:pt x="17569" y="10922"/>
                  <a:pt x="17685" y="10922"/>
                </a:cubicBezTo>
                <a:cubicBezTo>
                  <a:pt x="17798" y="10922"/>
                  <a:pt x="17801" y="10931"/>
                  <a:pt x="17875" y="10858"/>
                </a:cubicBezTo>
                <a:cubicBezTo>
                  <a:pt x="17940" y="10794"/>
                  <a:pt x="17935" y="10769"/>
                  <a:pt x="17970" y="10700"/>
                </a:cubicBezTo>
                <a:cubicBezTo>
                  <a:pt x="18007" y="10627"/>
                  <a:pt x="18028" y="10635"/>
                  <a:pt x="18034" y="10541"/>
                </a:cubicBezTo>
                <a:cubicBezTo>
                  <a:pt x="18034" y="10530"/>
                  <a:pt x="18034" y="10520"/>
                  <a:pt x="18034" y="10509"/>
                </a:cubicBezTo>
                <a:cubicBezTo>
                  <a:pt x="17957" y="10531"/>
                  <a:pt x="17930" y="10553"/>
                  <a:pt x="17875" y="10636"/>
                </a:cubicBezTo>
                <a:cubicBezTo>
                  <a:pt x="17798" y="10753"/>
                  <a:pt x="17753" y="10846"/>
                  <a:pt x="17748" y="10986"/>
                </a:cubicBezTo>
                <a:cubicBezTo>
                  <a:pt x="17746" y="11049"/>
                  <a:pt x="17777" y="11233"/>
                  <a:pt x="17844" y="11271"/>
                </a:cubicBezTo>
                <a:cubicBezTo>
                  <a:pt x="17895" y="11300"/>
                  <a:pt x="18054" y="11272"/>
                  <a:pt x="18098" y="11240"/>
                </a:cubicBezTo>
                <a:cubicBezTo>
                  <a:pt x="18173" y="11186"/>
                  <a:pt x="18244" y="11065"/>
                  <a:pt x="18288" y="10986"/>
                </a:cubicBezTo>
                <a:cubicBezTo>
                  <a:pt x="18328" y="10914"/>
                  <a:pt x="18364" y="10840"/>
                  <a:pt x="18383" y="10763"/>
                </a:cubicBezTo>
                <a:cubicBezTo>
                  <a:pt x="18383" y="10753"/>
                  <a:pt x="18383" y="10742"/>
                  <a:pt x="18383" y="10732"/>
                </a:cubicBezTo>
                <a:cubicBezTo>
                  <a:pt x="18422" y="10795"/>
                  <a:pt x="18443" y="10873"/>
                  <a:pt x="18447" y="10954"/>
                </a:cubicBezTo>
                <a:cubicBezTo>
                  <a:pt x="18452" y="11078"/>
                  <a:pt x="18421" y="11181"/>
                  <a:pt x="18415" y="11303"/>
                </a:cubicBezTo>
                <a:cubicBezTo>
                  <a:pt x="18413" y="11356"/>
                  <a:pt x="18415" y="11409"/>
                  <a:pt x="18415" y="11462"/>
                </a:cubicBezTo>
                <a:cubicBezTo>
                  <a:pt x="18395" y="11423"/>
                  <a:pt x="18383" y="11422"/>
                  <a:pt x="18383" y="11335"/>
                </a:cubicBezTo>
                <a:cubicBezTo>
                  <a:pt x="18383" y="11182"/>
                  <a:pt x="18432" y="11040"/>
                  <a:pt x="18447" y="10890"/>
                </a:cubicBezTo>
                <a:cubicBezTo>
                  <a:pt x="18454" y="10819"/>
                  <a:pt x="18464" y="10627"/>
                  <a:pt x="18510" y="10573"/>
                </a:cubicBezTo>
                <a:cubicBezTo>
                  <a:pt x="18548" y="10529"/>
                  <a:pt x="18683" y="10527"/>
                  <a:pt x="18732" y="10541"/>
                </a:cubicBezTo>
                <a:cubicBezTo>
                  <a:pt x="18796" y="10573"/>
                  <a:pt x="18817" y="10584"/>
                  <a:pt x="18860" y="106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nielle is 6 miles east and 14 miles south of the library.  Ashley is 8 miles north and 12 miles west.  Which girl is closer to the library, and by how many mi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Ink 3"/>
          <p:cNvSpPr/>
          <p:nvPr/>
        </p:nvSpPr>
        <p:spPr>
          <a:xfrm>
            <a:off x="217440" y="2468520"/>
            <a:ext cx="2206800" cy="2971800"/>
          </a:xfrm>
          <a:custGeom>
            <a:avLst/>
            <a:gdLst/>
            <a:ahLst/>
            <a:rect l="l" t="t" r="r" b="b"/>
            <a:pathLst>
              <a:path w="6129" h="8256">
                <a:moveTo>
                  <a:pt x="3810" y="9874"/>
                </a:moveTo>
                <a:cubicBezTo>
                  <a:pt x="3830" y="9847"/>
                  <a:pt x="3870" y="9786"/>
                  <a:pt x="3874" y="9779"/>
                </a:cubicBezTo>
                <a:cubicBezTo>
                  <a:pt x="3898" y="9732"/>
                  <a:pt x="3948" y="9668"/>
                  <a:pt x="3969" y="9620"/>
                </a:cubicBezTo>
                <a:cubicBezTo>
                  <a:pt x="3982" y="9590"/>
                  <a:pt x="4016" y="9533"/>
                  <a:pt x="4032" y="9525"/>
                </a:cubicBezTo>
                <a:cubicBezTo>
                  <a:pt x="4043" y="9525"/>
                  <a:pt x="4053" y="9525"/>
                  <a:pt x="4064" y="9525"/>
                </a:cubicBezTo>
                <a:cubicBezTo>
                  <a:pt x="4112" y="9541"/>
                  <a:pt x="4096" y="9563"/>
                  <a:pt x="4096" y="9620"/>
                </a:cubicBezTo>
                <a:cubicBezTo>
                  <a:pt x="4096" y="9707"/>
                  <a:pt x="4114" y="9772"/>
                  <a:pt x="4128" y="9842"/>
                </a:cubicBezTo>
                <a:cubicBezTo>
                  <a:pt x="4143" y="9918"/>
                  <a:pt x="4162" y="9994"/>
                  <a:pt x="4191" y="10065"/>
                </a:cubicBezTo>
                <a:cubicBezTo>
                  <a:pt x="4226" y="10151"/>
                  <a:pt x="4273" y="10201"/>
                  <a:pt x="4286" y="10287"/>
                </a:cubicBezTo>
              </a:path>
              <a:path w="6129" h="8256">
                <a:moveTo>
                  <a:pt x="4032" y="14573"/>
                </a:moveTo>
                <a:cubicBezTo>
                  <a:pt x="4047" y="14633"/>
                  <a:pt x="4116" y="14674"/>
                  <a:pt x="4128" y="14732"/>
                </a:cubicBezTo>
                <a:cubicBezTo>
                  <a:pt x="4142" y="14798"/>
                  <a:pt x="4179" y="14864"/>
                  <a:pt x="4191" y="14922"/>
                </a:cubicBezTo>
                <a:cubicBezTo>
                  <a:pt x="4205" y="14990"/>
                  <a:pt x="4207" y="15028"/>
                  <a:pt x="4254" y="15081"/>
                </a:cubicBezTo>
                <a:cubicBezTo>
                  <a:pt x="4265" y="15092"/>
                  <a:pt x="4275" y="15102"/>
                  <a:pt x="4286" y="15113"/>
                </a:cubicBezTo>
                <a:cubicBezTo>
                  <a:pt x="4286" y="15047"/>
                  <a:pt x="4302" y="15007"/>
                  <a:pt x="4318" y="14954"/>
                </a:cubicBezTo>
                <a:cubicBezTo>
                  <a:pt x="4334" y="14902"/>
                  <a:pt x="4341" y="14809"/>
                  <a:pt x="4350" y="14764"/>
                </a:cubicBezTo>
                <a:cubicBezTo>
                  <a:pt x="4371" y="14661"/>
                  <a:pt x="4389" y="14634"/>
                  <a:pt x="4445" y="14542"/>
                </a:cubicBezTo>
                <a:cubicBezTo>
                  <a:pt x="4456" y="14521"/>
                  <a:pt x="4466" y="14499"/>
                  <a:pt x="4477" y="14478"/>
                </a:cubicBezTo>
              </a:path>
              <a:path w="6129" h="8256">
                <a:moveTo>
                  <a:pt x="6477" y="11589"/>
                </a:moveTo>
                <a:cubicBezTo>
                  <a:pt x="6477" y="11599"/>
                  <a:pt x="6477" y="11610"/>
                  <a:pt x="6477" y="11620"/>
                </a:cubicBezTo>
                <a:cubicBezTo>
                  <a:pt x="6515" y="11633"/>
                  <a:pt x="6530" y="11647"/>
                  <a:pt x="6572" y="11684"/>
                </a:cubicBezTo>
                <a:cubicBezTo>
                  <a:pt x="6612" y="11720"/>
                  <a:pt x="6619" y="11736"/>
                  <a:pt x="6668" y="11748"/>
                </a:cubicBezTo>
                <a:cubicBezTo>
                  <a:pt x="6685" y="11798"/>
                  <a:pt x="6682" y="11760"/>
                  <a:pt x="6699" y="11811"/>
                </a:cubicBezTo>
                <a:cubicBezTo>
                  <a:pt x="6768" y="11834"/>
                  <a:pt x="6717" y="11843"/>
                  <a:pt x="6668" y="11843"/>
                </a:cubicBezTo>
                <a:cubicBezTo>
                  <a:pt x="6659" y="11871"/>
                  <a:pt x="6612" y="11893"/>
                  <a:pt x="6572" y="11906"/>
                </a:cubicBezTo>
                <a:cubicBezTo>
                  <a:pt x="6519" y="11924"/>
                  <a:pt x="6457" y="11964"/>
                  <a:pt x="6414" y="12002"/>
                </a:cubicBezTo>
                <a:cubicBezTo>
                  <a:pt x="6363" y="12047"/>
                  <a:pt x="6336" y="12104"/>
                  <a:pt x="6286" y="12128"/>
                </a:cubicBezTo>
              </a:path>
              <a:path w="6129" h="8256">
                <a:moveTo>
                  <a:pt x="1968" y="11684"/>
                </a:moveTo>
                <a:cubicBezTo>
                  <a:pt x="1968" y="11695"/>
                  <a:pt x="1968" y="11705"/>
                  <a:pt x="1968" y="11716"/>
                </a:cubicBezTo>
                <a:cubicBezTo>
                  <a:pt x="1919" y="11733"/>
                  <a:pt x="1934" y="11767"/>
                  <a:pt x="1905" y="11811"/>
                </a:cubicBezTo>
                <a:cubicBezTo>
                  <a:pt x="1874" y="11857"/>
                  <a:pt x="1827" y="11888"/>
                  <a:pt x="1810" y="11938"/>
                </a:cubicBezTo>
                <a:cubicBezTo>
                  <a:pt x="1799" y="11970"/>
                  <a:pt x="1762" y="12025"/>
                  <a:pt x="1746" y="12033"/>
                </a:cubicBezTo>
                <a:cubicBezTo>
                  <a:pt x="1735" y="12033"/>
                  <a:pt x="1725" y="12033"/>
                  <a:pt x="1714" y="12033"/>
                </a:cubicBezTo>
                <a:cubicBezTo>
                  <a:pt x="1725" y="12033"/>
                  <a:pt x="1735" y="12033"/>
                  <a:pt x="1746" y="12033"/>
                </a:cubicBezTo>
                <a:cubicBezTo>
                  <a:pt x="1761" y="12077"/>
                  <a:pt x="1791" y="12072"/>
                  <a:pt x="1810" y="12128"/>
                </a:cubicBezTo>
                <a:cubicBezTo>
                  <a:pt x="1829" y="12184"/>
                  <a:pt x="1861" y="12238"/>
                  <a:pt x="1905" y="12287"/>
                </a:cubicBezTo>
                <a:cubicBezTo>
                  <a:pt x="1970" y="12359"/>
                  <a:pt x="1987" y="12368"/>
                  <a:pt x="2064" y="12414"/>
                </a:cubicBezTo>
              </a:path>
              <a:path w="6129" h="8256">
                <a:moveTo>
                  <a:pt x="3905" y="8985"/>
                </a:moveTo>
                <a:cubicBezTo>
                  <a:pt x="3953" y="9001"/>
                  <a:pt x="3937" y="9023"/>
                  <a:pt x="3937" y="9080"/>
                </a:cubicBezTo>
                <a:cubicBezTo>
                  <a:pt x="3937" y="9207"/>
                  <a:pt x="3937" y="9335"/>
                  <a:pt x="3937" y="9462"/>
                </a:cubicBezTo>
                <a:cubicBezTo>
                  <a:pt x="3937" y="9282"/>
                  <a:pt x="3937" y="9102"/>
                  <a:pt x="3937" y="8922"/>
                </a:cubicBezTo>
                <a:cubicBezTo>
                  <a:pt x="3988" y="8939"/>
                  <a:pt x="3957" y="8968"/>
                  <a:pt x="4000" y="9017"/>
                </a:cubicBezTo>
                <a:cubicBezTo>
                  <a:pt x="4040" y="9063"/>
                  <a:pt x="4035" y="9127"/>
                  <a:pt x="4064" y="9176"/>
                </a:cubicBezTo>
                <a:cubicBezTo>
                  <a:pt x="4098" y="9233"/>
                  <a:pt x="4143" y="9286"/>
                  <a:pt x="4191" y="9334"/>
                </a:cubicBezTo>
                <a:cubicBezTo>
                  <a:pt x="4238" y="9381"/>
                  <a:pt x="4270" y="9438"/>
                  <a:pt x="4318" y="9462"/>
                </a:cubicBezTo>
                <a:cubicBezTo>
                  <a:pt x="4318" y="9374"/>
                  <a:pt x="4307" y="9353"/>
                  <a:pt x="4286" y="9271"/>
                </a:cubicBezTo>
                <a:cubicBezTo>
                  <a:pt x="4269" y="9205"/>
                  <a:pt x="4315" y="9092"/>
                  <a:pt x="4318" y="9080"/>
                </a:cubicBezTo>
                <a:cubicBezTo>
                  <a:pt x="4335" y="9009"/>
                  <a:pt x="4329" y="8952"/>
                  <a:pt x="4350" y="8890"/>
                </a:cubicBezTo>
                <a:cubicBezTo>
                  <a:pt x="4350" y="8879"/>
                  <a:pt x="4350" y="8869"/>
                  <a:pt x="4350" y="8858"/>
                </a:cubicBezTo>
              </a:path>
              <a:path w="6129" h="8256">
                <a:moveTo>
                  <a:pt x="984" y="11620"/>
                </a:moveTo>
                <a:cubicBezTo>
                  <a:pt x="997" y="11670"/>
                  <a:pt x="1016" y="11691"/>
                  <a:pt x="1016" y="11748"/>
                </a:cubicBezTo>
                <a:cubicBezTo>
                  <a:pt x="1016" y="11833"/>
                  <a:pt x="1065" y="11856"/>
                  <a:pt x="1080" y="11938"/>
                </a:cubicBezTo>
                <a:cubicBezTo>
                  <a:pt x="1091" y="11999"/>
                  <a:pt x="1091" y="12068"/>
                  <a:pt x="1111" y="12128"/>
                </a:cubicBezTo>
                <a:cubicBezTo>
                  <a:pt x="1137" y="12180"/>
                  <a:pt x="1148" y="12188"/>
                  <a:pt x="1143" y="12224"/>
                </a:cubicBezTo>
                <a:cubicBezTo>
                  <a:pt x="1143" y="12289"/>
                  <a:pt x="1167" y="12184"/>
                  <a:pt x="1175" y="12160"/>
                </a:cubicBezTo>
                <a:cubicBezTo>
                  <a:pt x="1191" y="12112"/>
                  <a:pt x="1203" y="12020"/>
                  <a:pt x="1206" y="11970"/>
                </a:cubicBezTo>
                <a:cubicBezTo>
                  <a:pt x="1211" y="11887"/>
                  <a:pt x="1247" y="11878"/>
                  <a:pt x="1270" y="11811"/>
                </a:cubicBezTo>
                <a:cubicBezTo>
                  <a:pt x="1270" y="11779"/>
                  <a:pt x="1270" y="11768"/>
                  <a:pt x="1302" y="11779"/>
                </a:cubicBezTo>
                <a:cubicBezTo>
                  <a:pt x="1335" y="11823"/>
                  <a:pt x="1344" y="11858"/>
                  <a:pt x="1365" y="11906"/>
                </a:cubicBezTo>
                <a:cubicBezTo>
                  <a:pt x="1397" y="11980"/>
                  <a:pt x="1401" y="12055"/>
                  <a:pt x="1429" y="12128"/>
                </a:cubicBezTo>
                <a:cubicBezTo>
                  <a:pt x="1453" y="12190"/>
                  <a:pt x="1455" y="12238"/>
                  <a:pt x="1492" y="12287"/>
                </a:cubicBezTo>
                <a:cubicBezTo>
                  <a:pt x="1555" y="12267"/>
                  <a:pt x="1503" y="12250"/>
                  <a:pt x="1524" y="12192"/>
                </a:cubicBezTo>
                <a:cubicBezTo>
                  <a:pt x="1555" y="12105"/>
                  <a:pt x="1566" y="12025"/>
                  <a:pt x="1588" y="11938"/>
                </a:cubicBezTo>
                <a:cubicBezTo>
                  <a:pt x="1619" y="11843"/>
                  <a:pt x="1629" y="11811"/>
                  <a:pt x="1651" y="11748"/>
                </a:cubicBezTo>
              </a:path>
              <a:path w="6129" h="8256">
                <a:moveTo>
                  <a:pt x="1619" y="10224"/>
                </a:moveTo>
                <a:cubicBezTo>
                  <a:pt x="1619" y="10296"/>
                  <a:pt x="1635" y="10318"/>
                  <a:pt x="1651" y="10350"/>
                </a:cubicBezTo>
                <a:cubicBezTo>
                  <a:pt x="1651" y="10382"/>
                  <a:pt x="1651" y="10393"/>
                  <a:pt x="1683" y="10382"/>
                </a:cubicBezTo>
                <a:cubicBezTo>
                  <a:pt x="1695" y="10366"/>
                  <a:pt x="1746" y="10281"/>
                  <a:pt x="1714" y="10255"/>
                </a:cubicBezTo>
                <a:cubicBezTo>
                  <a:pt x="1709" y="10251"/>
                  <a:pt x="1642" y="10196"/>
                  <a:pt x="1619" y="10224"/>
                </a:cubicBezTo>
                <a:cubicBezTo>
                  <a:pt x="1596" y="10252"/>
                  <a:pt x="1588" y="10308"/>
                  <a:pt x="1588" y="10350"/>
                </a:cubicBezTo>
                <a:cubicBezTo>
                  <a:pt x="1588" y="10382"/>
                  <a:pt x="1588" y="10392"/>
                  <a:pt x="1619" y="10382"/>
                </a:cubicBezTo>
                <a:cubicBezTo>
                  <a:pt x="1682" y="10366"/>
                  <a:pt x="1683" y="10352"/>
                  <a:pt x="1683" y="10287"/>
                </a:cubicBezTo>
                <a:cubicBezTo>
                  <a:pt x="1683" y="10255"/>
                  <a:pt x="1683" y="10245"/>
                  <a:pt x="1683" y="10224"/>
                </a:cubicBezTo>
                <a:cubicBezTo>
                  <a:pt x="1634" y="10240"/>
                  <a:pt x="1645" y="10251"/>
                  <a:pt x="1619" y="10287"/>
                </a:cubicBezTo>
                <a:cubicBezTo>
                  <a:pt x="1614" y="10294"/>
                  <a:pt x="1545" y="10419"/>
                  <a:pt x="1619" y="10382"/>
                </a:cubicBezTo>
                <a:cubicBezTo>
                  <a:pt x="1665" y="10359"/>
                  <a:pt x="1708" y="10341"/>
                  <a:pt x="1714" y="10287"/>
                </a:cubicBezTo>
                <a:cubicBezTo>
                  <a:pt x="1714" y="10255"/>
                  <a:pt x="1714" y="10245"/>
                  <a:pt x="1714" y="10224"/>
                </a:cubicBezTo>
                <a:cubicBezTo>
                  <a:pt x="1656" y="10224"/>
                  <a:pt x="1626" y="10221"/>
                  <a:pt x="1619" y="10287"/>
                </a:cubicBezTo>
                <a:cubicBezTo>
                  <a:pt x="1616" y="10316"/>
                  <a:pt x="1640" y="10402"/>
                  <a:pt x="1683" y="10350"/>
                </a:cubicBezTo>
                <a:cubicBezTo>
                  <a:pt x="1703" y="10326"/>
                  <a:pt x="1703" y="10320"/>
                  <a:pt x="1714" y="10287"/>
                </a:cubicBezTo>
              </a:path>
              <a:path w="6129" h="8256">
                <a:moveTo>
                  <a:pt x="984" y="10858"/>
                </a:moveTo>
                <a:cubicBezTo>
                  <a:pt x="1012" y="10822"/>
                  <a:pt x="1069" y="10742"/>
                  <a:pt x="1080" y="10700"/>
                </a:cubicBezTo>
                <a:cubicBezTo>
                  <a:pt x="1096" y="10641"/>
                  <a:pt x="1110" y="10563"/>
                  <a:pt x="1143" y="10509"/>
                </a:cubicBezTo>
                <a:cubicBezTo>
                  <a:pt x="1175" y="10478"/>
                  <a:pt x="1186" y="10468"/>
                  <a:pt x="1206" y="10446"/>
                </a:cubicBezTo>
                <a:cubicBezTo>
                  <a:pt x="1206" y="10609"/>
                  <a:pt x="1183" y="10844"/>
                  <a:pt x="1238" y="10954"/>
                </a:cubicBezTo>
                <a:cubicBezTo>
                  <a:pt x="1257" y="10992"/>
                  <a:pt x="1252" y="11007"/>
                  <a:pt x="1270" y="10954"/>
                </a:cubicBezTo>
              </a:path>
              <a:path w="6129" h="8256">
                <a:moveTo>
                  <a:pt x="984" y="10732"/>
                </a:moveTo>
                <a:cubicBezTo>
                  <a:pt x="1069" y="10732"/>
                  <a:pt x="1153" y="10732"/>
                  <a:pt x="1238" y="10732"/>
                </a:cubicBezTo>
              </a:path>
              <a:path w="6129" h="8256">
                <a:moveTo>
                  <a:pt x="1460" y="10636"/>
                </a:moveTo>
                <a:cubicBezTo>
                  <a:pt x="1460" y="10604"/>
                  <a:pt x="1460" y="10594"/>
                  <a:pt x="1460" y="10573"/>
                </a:cubicBezTo>
                <a:cubicBezTo>
                  <a:pt x="1421" y="10573"/>
                  <a:pt x="1376" y="10583"/>
                  <a:pt x="1365" y="10604"/>
                </a:cubicBezTo>
                <a:cubicBezTo>
                  <a:pt x="1344" y="10646"/>
                  <a:pt x="1349" y="10623"/>
                  <a:pt x="1334" y="10668"/>
                </a:cubicBezTo>
                <a:cubicBezTo>
                  <a:pt x="1376" y="10683"/>
                  <a:pt x="1373" y="10713"/>
                  <a:pt x="1429" y="10732"/>
                </a:cubicBezTo>
                <a:cubicBezTo>
                  <a:pt x="1491" y="10753"/>
                  <a:pt x="1485" y="10776"/>
                  <a:pt x="1524" y="10827"/>
                </a:cubicBezTo>
                <a:cubicBezTo>
                  <a:pt x="1483" y="10881"/>
                  <a:pt x="1500" y="10890"/>
                  <a:pt x="1429" y="10890"/>
                </a:cubicBezTo>
                <a:cubicBezTo>
                  <a:pt x="1363" y="10890"/>
                  <a:pt x="1365" y="10894"/>
                  <a:pt x="1365" y="10827"/>
                </a:cubicBezTo>
              </a:path>
              <a:path w="6129" h="8256">
                <a:moveTo>
                  <a:pt x="1588" y="10478"/>
                </a:moveTo>
                <a:cubicBezTo>
                  <a:pt x="1588" y="10557"/>
                  <a:pt x="1575" y="10593"/>
                  <a:pt x="1556" y="10668"/>
                </a:cubicBezTo>
                <a:cubicBezTo>
                  <a:pt x="1538" y="10741"/>
                  <a:pt x="1582" y="10790"/>
                  <a:pt x="1588" y="10858"/>
                </a:cubicBezTo>
                <a:cubicBezTo>
                  <a:pt x="1595" y="10943"/>
                  <a:pt x="1583" y="10810"/>
                  <a:pt x="1588" y="10795"/>
                </a:cubicBezTo>
                <a:cubicBezTo>
                  <a:pt x="1608" y="10739"/>
                  <a:pt x="1614" y="10678"/>
                  <a:pt x="1651" y="10636"/>
                </a:cubicBezTo>
                <a:cubicBezTo>
                  <a:pt x="1680" y="10607"/>
                  <a:pt x="1686" y="10597"/>
                  <a:pt x="1714" y="10604"/>
                </a:cubicBezTo>
                <a:cubicBezTo>
                  <a:pt x="1744" y="10644"/>
                  <a:pt x="1772" y="10682"/>
                  <a:pt x="1778" y="10732"/>
                </a:cubicBezTo>
                <a:cubicBezTo>
                  <a:pt x="1786" y="10804"/>
                  <a:pt x="1746" y="10965"/>
                  <a:pt x="1810" y="10986"/>
                </a:cubicBezTo>
              </a:path>
              <a:path w="6129" h="8256">
                <a:moveTo>
                  <a:pt x="1968" y="10382"/>
                </a:moveTo>
                <a:cubicBezTo>
                  <a:pt x="1980" y="10432"/>
                  <a:pt x="2000" y="10452"/>
                  <a:pt x="2000" y="10509"/>
                </a:cubicBezTo>
                <a:cubicBezTo>
                  <a:pt x="2000" y="10635"/>
                  <a:pt x="1996" y="10740"/>
                  <a:pt x="1968" y="10858"/>
                </a:cubicBezTo>
                <a:cubicBezTo>
                  <a:pt x="1956" y="10911"/>
                  <a:pt x="1961" y="10941"/>
                  <a:pt x="2000" y="10954"/>
                </a:cubicBezTo>
              </a:path>
              <a:path w="6129" h="8256">
                <a:moveTo>
                  <a:pt x="2096" y="10763"/>
                </a:moveTo>
                <a:cubicBezTo>
                  <a:pt x="2141" y="10763"/>
                  <a:pt x="2188" y="10755"/>
                  <a:pt x="2222" y="10732"/>
                </a:cubicBezTo>
                <a:cubicBezTo>
                  <a:pt x="2278" y="10694"/>
                  <a:pt x="2286" y="10705"/>
                  <a:pt x="2286" y="10636"/>
                </a:cubicBezTo>
                <a:cubicBezTo>
                  <a:pt x="2286" y="10625"/>
                  <a:pt x="2286" y="10615"/>
                  <a:pt x="2286" y="10604"/>
                </a:cubicBezTo>
                <a:cubicBezTo>
                  <a:pt x="2209" y="10604"/>
                  <a:pt x="2238" y="10614"/>
                  <a:pt x="2191" y="10668"/>
                </a:cubicBezTo>
                <a:cubicBezTo>
                  <a:pt x="2159" y="10705"/>
                  <a:pt x="2140" y="10777"/>
                  <a:pt x="2127" y="10827"/>
                </a:cubicBezTo>
                <a:cubicBezTo>
                  <a:pt x="2116" y="10870"/>
                  <a:pt x="2164" y="10919"/>
                  <a:pt x="2191" y="10922"/>
                </a:cubicBezTo>
                <a:cubicBezTo>
                  <a:pt x="2255" y="10930"/>
                  <a:pt x="2268" y="10907"/>
                  <a:pt x="2318" y="10890"/>
                </a:cubicBezTo>
                <a:cubicBezTo>
                  <a:pt x="2329" y="10890"/>
                  <a:pt x="2339" y="10890"/>
                  <a:pt x="2350" y="10890"/>
                </a:cubicBezTo>
              </a:path>
              <a:path w="6129" h="8256">
                <a:moveTo>
                  <a:pt x="2445" y="10668"/>
                </a:moveTo>
                <a:cubicBezTo>
                  <a:pt x="2445" y="10766"/>
                  <a:pt x="2449" y="10839"/>
                  <a:pt x="2476" y="10922"/>
                </a:cubicBezTo>
                <a:cubicBezTo>
                  <a:pt x="2476" y="10933"/>
                  <a:pt x="2476" y="10943"/>
                  <a:pt x="2476" y="10954"/>
                </a:cubicBezTo>
                <a:cubicBezTo>
                  <a:pt x="2514" y="10941"/>
                  <a:pt x="2530" y="10927"/>
                  <a:pt x="2572" y="10890"/>
                </a:cubicBezTo>
                <a:cubicBezTo>
                  <a:pt x="2612" y="10854"/>
                  <a:pt x="2630" y="10785"/>
                  <a:pt x="2635" y="10732"/>
                </a:cubicBezTo>
                <a:cubicBezTo>
                  <a:pt x="2635" y="10696"/>
                  <a:pt x="2638" y="10682"/>
                  <a:pt x="2667" y="10668"/>
                </a:cubicBezTo>
                <a:cubicBezTo>
                  <a:pt x="2667" y="10787"/>
                  <a:pt x="2732" y="11274"/>
                  <a:pt x="2635" y="11335"/>
                </a:cubicBezTo>
                <a:cubicBezTo>
                  <a:pt x="2587" y="11366"/>
                  <a:pt x="2555" y="11376"/>
                  <a:pt x="2508" y="11335"/>
                </a:cubicBezTo>
                <a:cubicBezTo>
                  <a:pt x="2497" y="11324"/>
                  <a:pt x="2487" y="11314"/>
                  <a:pt x="2476" y="11303"/>
                </a:cubicBezTo>
              </a:path>
              <a:path w="6129" h="8256">
                <a:moveTo>
                  <a:pt x="889" y="8572"/>
                </a:moveTo>
                <a:cubicBezTo>
                  <a:pt x="833" y="8586"/>
                  <a:pt x="805" y="8625"/>
                  <a:pt x="762" y="8668"/>
                </a:cubicBezTo>
                <a:cubicBezTo>
                  <a:pt x="705" y="8725"/>
                  <a:pt x="699" y="8789"/>
                  <a:pt x="667" y="8858"/>
                </a:cubicBezTo>
                <a:cubicBezTo>
                  <a:pt x="641" y="8914"/>
                  <a:pt x="596" y="9085"/>
                  <a:pt x="603" y="9144"/>
                </a:cubicBezTo>
                <a:cubicBezTo>
                  <a:pt x="611" y="9215"/>
                  <a:pt x="649" y="9305"/>
                  <a:pt x="667" y="9366"/>
                </a:cubicBezTo>
                <a:cubicBezTo>
                  <a:pt x="683" y="9419"/>
                  <a:pt x="699" y="9497"/>
                  <a:pt x="762" y="9525"/>
                </a:cubicBezTo>
                <a:cubicBezTo>
                  <a:pt x="834" y="9557"/>
                  <a:pt x="822" y="9542"/>
                  <a:pt x="857" y="9525"/>
                </a:cubicBezTo>
                <a:cubicBezTo>
                  <a:pt x="868" y="9525"/>
                  <a:pt x="878" y="9525"/>
                  <a:pt x="889" y="9525"/>
                </a:cubicBezTo>
              </a:path>
              <a:path w="6129" h="8256">
                <a:moveTo>
                  <a:pt x="952" y="9017"/>
                </a:moveTo>
                <a:cubicBezTo>
                  <a:pt x="1026" y="9017"/>
                  <a:pt x="1101" y="9017"/>
                  <a:pt x="1175" y="9017"/>
                </a:cubicBezTo>
              </a:path>
              <a:path w="6129" h="8256">
                <a:moveTo>
                  <a:pt x="1238" y="8826"/>
                </a:moveTo>
                <a:cubicBezTo>
                  <a:pt x="1238" y="9006"/>
                  <a:pt x="1238" y="9186"/>
                  <a:pt x="1238" y="9366"/>
                </a:cubicBezTo>
              </a:path>
              <a:path w="6129" h="8256">
                <a:moveTo>
                  <a:pt x="1397" y="8890"/>
                </a:moveTo>
                <a:cubicBezTo>
                  <a:pt x="1409" y="8843"/>
                  <a:pt x="1443" y="8811"/>
                  <a:pt x="1492" y="8795"/>
                </a:cubicBezTo>
                <a:cubicBezTo>
                  <a:pt x="1534" y="8781"/>
                  <a:pt x="1586" y="8831"/>
                  <a:pt x="1588" y="8858"/>
                </a:cubicBezTo>
                <a:cubicBezTo>
                  <a:pt x="1595" y="8945"/>
                  <a:pt x="1570" y="9010"/>
                  <a:pt x="1556" y="9080"/>
                </a:cubicBezTo>
                <a:cubicBezTo>
                  <a:pt x="1537" y="9172"/>
                  <a:pt x="1495" y="9162"/>
                  <a:pt x="1460" y="9239"/>
                </a:cubicBezTo>
                <a:cubicBezTo>
                  <a:pt x="1444" y="9274"/>
                  <a:pt x="1413" y="9342"/>
                  <a:pt x="1429" y="9303"/>
                </a:cubicBezTo>
                <a:cubicBezTo>
                  <a:pt x="1448" y="9256"/>
                  <a:pt x="1464" y="9271"/>
                  <a:pt x="1524" y="9271"/>
                </a:cubicBezTo>
                <a:cubicBezTo>
                  <a:pt x="1615" y="9271"/>
                  <a:pt x="1589" y="9333"/>
                  <a:pt x="1651" y="9303"/>
                </a:cubicBezTo>
                <a:cubicBezTo>
                  <a:pt x="1662" y="9303"/>
                  <a:pt x="1672" y="9303"/>
                  <a:pt x="1683" y="9303"/>
                </a:cubicBezTo>
              </a:path>
              <a:path w="6129" h="8256">
                <a:moveTo>
                  <a:pt x="1842" y="9144"/>
                </a:moveTo>
                <a:cubicBezTo>
                  <a:pt x="1842" y="9212"/>
                  <a:pt x="1867" y="9234"/>
                  <a:pt x="1873" y="9303"/>
                </a:cubicBezTo>
                <a:cubicBezTo>
                  <a:pt x="1880" y="9385"/>
                  <a:pt x="1860" y="9458"/>
                  <a:pt x="1842" y="9525"/>
                </a:cubicBezTo>
                <a:cubicBezTo>
                  <a:pt x="1842" y="9557"/>
                  <a:pt x="1842" y="9567"/>
                  <a:pt x="1842" y="9588"/>
                </a:cubicBezTo>
              </a:path>
              <a:path w="6129" h="8256">
                <a:moveTo>
                  <a:pt x="2350" y="8954"/>
                </a:moveTo>
                <a:cubicBezTo>
                  <a:pt x="2401" y="8883"/>
                  <a:pt x="2372" y="8894"/>
                  <a:pt x="2350" y="8826"/>
                </a:cubicBezTo>
                <a:cubicBezTo>
                  <a:pt x="2333" y="8773"/>
                  <a:pt x="2252" y="8795"/>
                  <a:pt x="2191" y="8795"/>
                </a:cubicBezTo>
                <a:cubicBezTo>
                  <a:pt x="2148" y="8795"/>
                  <a:pt x="2055" y="8849"/>
                  <a:pt x="2032" y="8890"/>
                </a:cubicBezTo>
                <a:cubicBezTo>
                  <a:pt x="2003" y="8942"/>
                  <a:pt x="2046" y="8971"/>
                  <a:pt x="2064" y="8985"/>
                </a:cubicBezTo>
                <a:cubicBezTo>
                  <a:pt x="2118" y="9026"/>
                  <a:pt x="2150" y="9017"/>
                  <a:pt x="2222" y="9017"/>
                </a:cubicBezTo>
                <a:cubicBezTo>
                  <a:pt x="2276" y="9017"/>
                  <a:pt x="2312" y="8972"/>
                  <a:pt x="2318" y="8922"/>
                </a:cubicBezTo>
                <a:cubicBezTo>
                  <a:pt x="2323" y="8877"/>
                  <a:pt x="2286" y="8830"/>
                  <a:pt x="2254" y="8826"/>
                </a:cubicBezTo>
                <a:cubicBezTo>
                  <a:pt x="2243" y="8826"/>
                  <a:pt x="2233" y="8826"/>
                  <a:pt x="2222" y="8826"/>
                </a:cubicBezTo>
              </a:path>
              <a:path w="6129" h="8256">
                <a:moveTo>
                  <a:pt x="2254" y="9080"/>
                </a:moveTo>
                <a:cubicBezTo>
                  <a:pt x="2254" y="9049"/>
                  <a:pt x="2254" y="9038"/>
                  <a:pt x="2254" y="9017"/>
                </a:cubicBezTo>
                <a:cubicBezTo>
                  <a:pt x="2187" y="9017"/>
                  <a:pt x="2188" y="9012"/>
                  <a:pt x="2159" y="9049"/>
                </a:cubicBezTo>
                <a:cubicBezTo>
                  <a:pt x="2106" y="9118"/>
                  <a:pt x="2071" y="9092"/>
                  <a:pt x="2064" y="9208"/>
                </a:cubicBezTo>
                <a:cubicBezTo>
                  <a:pt x="2060" y="9273"/>
                  <a:pt x="2050" y="9329"/>
                  <a:pt x="2127" y="9334"/>
                </a:cubicBezTo>
                <a:cubicBezTo>
                  <a:pt x="2197" y="9339"/>
                  <a:pt x="2265" y="9345"/>
                  <a:pt x="2318" y="9303"/>
                </a:cubicBezTo>
                <a:cubicBezTo>
                  <a:pt x="2377" y="9256"/>
                  <a:pt x="2350" y="9146"/>
                  <a:pt x="2350" y="9080"/>
                </a:cubicBezTo>
                <a:cubicBezTo>
                  <a:pt x="2350" y="9004"/>
                  <a:pt x="2332" y="8979"/>
                  <a:pt x="2286" y="8922"/>
                </a:cubicBezTo>
              </a:path>
              <a:path w="6129" h="8256">
                <a:moveTo>
                  <a:pt x="2445" y="8446"/>
                </a:moveTo>
                <a:cubicBezTo>
                  <a:pt x="2488" y="8460"/>
                  <a:pt x="2510" y="8516"/>
                  <a:pt x="2540" y="8572"/>
                </a:cubicBezTo>
                <a:cubicBezTo>
                  <a:pt x="2592" y="8670"/>
                  <a:pt x="2609" y="8755"/>
                  <a:pt x="2635" y="8858"/>
                </a:cubicBezTo>
                <a:cubicBezTo>
                  <a:pt x="2664" y="8972"/>
                  <a:pt x="2694" y="9090"/>
                  <a:pt x="2699" y="9208"/>
                </a:cubicBezTo>
                <a:cubicBezTo>
                  <a:pt x="2702" y="9290"/>
                  <a:pt x="2675" y="9418"/>
                  <a:pt x="2635" y="9493"/>
                </a:cubicBezTo>
                <a:cubicBezTo>
                  <a:pt x="2604" y="9551"/>
                  <a:pt x="2555" y="9605"/>
                  <a:pt x="2508" y="9652"/>
                </a:cubicBezTo>
                <a:cubicBezTo>
                  <a:pt x="2497" y="9663"/>
                  <a:pt x="2487" y="9673"/>
                  <a:pt x="2476" y="9684"/>
                </a:cubicBezTo>
              </a:path>
              <a:path w="6129" h="8256">
                <a:moveTo>
                  <a:pt x="3429" y="8001"/>
                </a:moveTo>
                <a:cubicBezTo>
                  <a:pt x="3551" y="8001"/>
                  <a:pt x="3664" y="7981"/>
                  <a:pt x="3778" y="7969"/>
                </a:cubicBezTo>
                <a:cubicBezTo>
                  <a:pt x="3867" y="7960"/>
                  <a:pt x="3945" y="7945"/>
                  <a:pt x="4032" y="7938"/>
                </a:cubicBezTo>
                <a:cubicBezTo>
                  <a:pt x="4176" y="7926"/>
                  <a:pt x="4311" y="7953"/>
                  <a:pt x="4445" y="7969"/>
                </a:cubicBezTo>
                <a:cubicBezTo>
                  <a:pt x="4706" y="8000"/>
                  <a:pt x="4985" y="7961"/>
                  <a:pt x="5239" y="7938"/>
                </a:cubicBezTo>
                <a:cubicBezTo>
                  <a:pt x="5377" y="7925"/>
                  <a:pt x="5521" y="7921"/>
                  <a:pt x="5652" y="7906"/>
                </a:cubicBezTo>
                <a:cubicBezTo>
                  <a:pt x="5796" y="7889"/>
                  <a:pt x="5951" y="7906"/>
                  <a:pt x="6096" y="7906"/>
                </a:cubicBezTo>
                <a:cubicBezTo>
                  <a:pt x="6096" y="7827"/>
                  <a:pt x="6070" y="7744"/>
                  <a:pt x="6064" y="7684"/>
                </a:cubicBezTo>
                <a:cubicBezTo>
                  <a:pt x="6050" y="7534"/>
                  <a:pt x="6050" y="7382"/>
                  <a:pt x="6032" y="7239"/>
                </a:cubicBezTo>
                <a:cubicBezTo>
                  <a:pt x="6020" y="7144"/>
                  <a:pt x="6066" y="7027"/>
                  <a:pt x="6001" y="6953"/>
                </a:cubicBezTo>
                <a:cubicBezTo>
                  <a:pt x="5979" y="6928"/>
                  <a:pt x="5911" y="6927"/>
                  <a:pt x="5874" y="6922"/>
                </a:cubicBezTo>
                <a:cubicBezTo>
                  <a:pt x="5626" y="6890"/>
                  <a:pt x="5358" y="6913"/>
                  <a:pt x="5112" y="6890"/>
                </a:cubicBezTo>
                <a:cubicBezTo>
                  <a:pt x="4995" y="6879"/>
                  <a:pt x="4875" y="6868"/>
                  <a:pt x="4762" y="6858"/>
                </a:cubicBezTo>
                <a:cubicBezTo>
                  <a:pt x="4206" y="6807"/>
                  <a:pt x="3560" y="6821"/>
                  <a:pt x="3016" y="6890"/>
                </a:cubicBezTo>
                <a:cubicBezTo>
                  <a:pt x="2952" y="6898"/>
                  <a:pt x="2944" y="6897"/>
                  <a:pt x="2889" y="6922"/>
                </a:cubicBezTo>
                <a:cubicBezTo>
                  <a:pt x="2855" y="6937"/>
                  <a:pt x="2806" y="6924"/>
                  <a:pt x="2794" y="6953"/>
                </a:cubicBezTo>
                <a:cubicBezTo>
                  <a:pt x="2760" y="7032"/>
                  <a:pt x="2818" y="7148"/>
                  <a:pt x="2826" y="7207"/>
                </a:cubicBezTo>
                <a:cubicBezTo>
                  <a:pt x="2837" y="7295"/>
                  <a:pt x="2841" y="7374"/>
                  <a:pt x="2858" y="7461"/>
                </a:cubicBezTo>
                <a:cubicBezTo>
                  <a:pt x="2873" y="7542"/>
                  <a:pt x="2869" y="7635"/>
                  <a:pt x="2889" y="7715"/>
                </a:cubicBezTo>
                <a:cubicBezTo>
                  <a:pt x="2905" y="7780"/>
                  <a:pt x="2906" y="7840"/>
                  <a:pt x="2921" y="7906"/>
                </a:cubicBezTo>
                <a:cubicBezTo>
                  <a:pt x="2935" y="7969"/>
                  <a:pt x="2958" y="8012"/>
                  <a:pt x="2984" y="80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Ink 4"/>
          <p:cNvSpPr/>
          <p:nvPr/>
        </p:nvSpPr>
        <p:spPr>
          <a:xfrm>
            <a:off x="7932600" y="2606760"/>
            <a:ext cx="446400" cy="353880"/>
          </a:xfrm>
          <a:custGeom>
            <a:avLst/>
            <a:gdLst/>
            <a:ahLst/>
            <a:rect l="l" t="t" r="r" b="b"/>
            <a:pathLst>
              <a:path w="1240" h="985">
                <a:moveTo>
                  <a:pt x="22034" y="7334"/>
                </a:moveTo>
                <a:cubicBezTo>
                  <a:pt x="22047" y="7398"/>
                  <a:pt x="22087" y="7470"/>
                  <a:pt x="22098" y="7525"/>
                </a:cubicBezTo>
                <a:cubicBezTo>
                  <a:pt x="22117" y="7619"/>
                  <a:pt x="22148" y="7690"/>
                  <a:pt x="22193" y="7779"/>
                </a:cubicBezTo>
                <a:cubicBezTo>
                  <a:pt x="22209" y="7812"/>
                  <a:pt x="22255" y="7921"/>
                  <a:pt x="22288" y="7938"/>
                </a:cubicBezTo>
                <a:cubicBezTo>
                  <a:pt x="22320" y="7938"/>
                  <a:pt x="22330" y="7938"/>
                  <a:pt x="22320" y="7969"/>
                </a:cubicBezTo>
              </a:path>
              <a:path w="1240" h="985">
                <a:moveTo>
                  <a:pt x="22320" y="7271"/>
                </a:moveTo>
                <a:cubicBezTo>
                  <a:pt x="22320" y="7386"/>
                  <a:pt x="22294" y="7448"/>
                  <a:pt x="22257" y="7556"/>
                </a:cubicBezTo>
                <a:cubicBezTo>
                  <a:pt x="22207" y="7703"/>
                  <a:pt x="22140" y="7854"/>
                  <a:pt x="22098" y="8001"/>
                </a:cubicBezTo>
                <a:cubicBezTo>
                  <a:pt x="22087" y="8038"/>
                  <a:pt x="22075" y="8058"/>
                  <a:pt x="22066" y="8096"/>
                </a:cubicBezTo>
              </a:path>
              <a:path w="1240" h="985">
                <a:moveTo>
                  <a:pt x="22542" y="7715"/>
                </a:moveTo>
                <a:cubicBezTo>
                  <a:pt x="22542" y="7820"/>
                  <a:pt x="22556" y="7913"/>
                  <a:pt x="22574" y="8001"/>
                </a:cubicBezTo>
                <a:cubicBezTo>
                  <a:pt x="22574" y="8022"/>
                  <a:pt x="22574" y="8043"/>
                  <a:pt x="22574" y="8064"/>
                </a:cubicBezTo>
              </a:path>
              <a:path w="1240" h="985">
                <a:moveTo>
                  <a:pt x="22892" y="7239"/>
                </a:moveTo>
                <a:cubicBezTo>
                  <a:pt x="22892" y="7308"/>
                  <a:pt x="22920" y="7328"/>
                  <a:pt x="22924" y="7398"/>
                </a:cubicBezTo>
                <a:cubicBezTo>
                  <a:pt x="22930" y="7492"/>
                  <a:pt x="22927" y="7595"/>
                  <a:pt x="22955" y="7684"/>
                </a:cubicBezTo>
                <a:cubicBezTo>
                  <a:pt x="22975" y="7746"/>
                  <a:pt x="22985" y="7788"/>
                  <a:pt x="23019" y="7810"/>
                </a:cubicBezTo>
                <a:cubicBezTo>
                  <a:pt x="23081" y="7789"/>
                  <a:pt x="23060" y="7717"/>
                  <a:pt x="23082" y="7652"/>
                </a:cubicBezTo>
                <a:cubicBezTo>
                  <a:pt x="23115" y="7554"/>
                  <a:pt x="23114" y="7471"/>
                  <a:pt x="23114" y="7366"/>
                </a:cubicBezTo>
                <a:cubicBezTo>
                  <a:pt x="23114" y="7355"/>
                  <a:pt x="23114" y="7345"/>
                  <a:pt x="23114" y="7334"/>
                </a:cubicBezTo>
                <a:cubicBezTo>
                  <a:pt x="23057" y="7353"/>
                  <a:pt x="23082" y="7425"/>
                  <a:pt x="23082" y="7493"/>
                </a:cubicBezTo>
                <a:cubicBezTo>
                  <a:pt x="23082" y="7613"/>
                  <a:pt x="23114" y="7720"/>
                  <a:pt x="23114" y="7842"/>
                </a:cubicBezTo>
                <a:cubicBezTo>
                  <a:pt x="23114" y="7946"/>
                  <a:pt x="23146" y="8023"/>
                  <a:pt x="23146" y="8128"/>
                </a:cubicBezTo>
                <a:cubicBezTo>
                  <a:pt x="23146" y="8186"/>
                  <a:pt x="23151" y="8202"/>
                  <a:pt x="23114" y="8223"/>
                </a:cubicBezTo>
              </a:path>
              <a:path w="1240" h="985">
                <a:moveTo>
                  <a:pt x="23241" y="7684"/>
                </a:moveTo>
                <a:cubicBezTo>
                  <a:pt x="23255" y="7751"/>
                  <a:pt x="23273" y="7801"/>
                  <a:pt x="23273" y="7874"/>
                </a:cubicBezTo>
                <a:cubicBezTo>
                  <a:pt x="23273" y="7938"/>
                  <a:pt x="23273" y="7959"/>
                  <a:pt x="23273" y="80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Ink 5"/>
          <p:cNvSpPr/>
          <p:nvPr/>
        </p:nvSpPr>
        <p:spPr>
          <a:xfrm>
            <a:off x="8640720" y="2674800"/>
            <a:ext cx="389160" cy="389160"/>
          </a:xfrm>
          <a:custGeom>
            <a:avLst/>
            <a:gdLst/>
            <a:ahLst/>
            <a:rect l="l" t="t" r="r" b="b"/>
            <a:pathLst>
              <a:path w="1080" h="1080">
                <a:moveTo>
                  <a:pt x="24003" y="7525"/>
                </a:moveTo>
                <a:cubicBezTo>
                  <a:pt x="24003" y="7598"/>
                  <a:pt x="24030" y="7624"/>
                  <a:pt x="24066" y="7684"/>
                </a:cubicBezTo>
                <a:cubicBezTo>
                  <a:pt x="24118" y="7770"/>
                  <a:pt x="24123" y="7851"/>
                  <a:pt x="24162" y="7938"/>
                </a:cubicBezTo>
                <a:cubicBezTo>
                  <a:pt x="24190" y="8000"/>
                  <a:pt x="24233" y="8069"/>
                  <a:pt x="24257" y="8128"/>
                </a:cubicBezTo>
                <a:cubicBezTo>
                  <a:pt x="24257" y="8139"/>
                  <a:pt x="24257" y="8149"/>
                  <a:pt x="24257" y="8160"/>
                </a:cubicBezTo>
              </a:path>
              <a:path w="1080" h="1080">
                <a:moveTo>
                  <a:pt x="24289" y="7430"/>
                </a:moveTo>
                <a:cubicBezTo>
                  <a:pt x="24289" y="7535"/>
                  <a:pt x="24258" y="7615"/>
                  <a:pt x="24225" y="7715"/>
                </a:cubicBezTo>
                <a:cubicBezTo>
                  <a:pt x="24186" y="7833"/>
                  <a:pt x="24176" y="7955"/>
                  <a:pt x="24130" y="8064"/>
                </a:cubicBezTo>
                <a:cubicBezTo>
                  <a:pt x="24098" y="8128"/>
                  <a:pt x="24087" y="8149"/>
                  <a:pt x="24066" y="8192"/>
                </a:cubicBezTo>
              </a:path>
              <a:path w="1080" h="1080">
                <a:moveTo>
                  <a:pt x="24320" y="7874"/>
                </a:moveTo>
                <a:cubicBezTo>
                  <a:pt x="24361" y="7833"/>
                  <a:pt x="24391" y="7785"/>
                  <a:pt x="24448" y="7779"/>
                </a:cubicBezTo>
                <a:cubicBezTo>
                  <a:pt x="24479" y="7779"/>
                  <a:pt x="24490" y="7779"/>
                  <a:pt x="24511" y="7779"/>
                </a:cubicBezTo>
                <a:cubicBezTo>
                  <a:pt x="24511" y="7847"/>
                  <a:pt x="24501" y="7882"/>
                  <a:pt x="24479" y="7938"/>
                </a:cubicBezTo>
                <a:cubicBezTo>
                  <a:pt x="24451" y="8010"/>
                  <a:pt x="24448" y="8031"/>
                  <a:pt x="24448" y="8096"/>
                </a:cubicBezTo>
                <a:cubicBezTo>
                  <a:pt x="24494" y="8061"/>
                  <a:pt x="24511" y="8057"/>
                  <a:pt x="24543" y="8033"/>
                </a:cubicBezTo>
                <a:cubicBezTo>
                  <a:pt x="24571" y="8004"/>
                  <a:pt x="24577" y="7993"/>
                  <a:pt x="24606" y="8001"/>
                </a:cubicBezTo>
              </a:path>
              <a:path w="1080" h="1080">
                <a:moveTo>
                  <a:pt x="24733" y="7525"/>
                </a:moveTo>
                <a:cubicBezTo>
                  <a:pt x="24733" y="7605"/>
                  <a:pt x="24706" y="7664"/>
                  <a:pt x="24702" y="7747"/>
                </a:cubicBezTo>
                <a:cubicBezTo>
                  <a:pt x="24698" y="7841"/>
                  <a:pt x="24722" y="7912"/>
                  <a:pt x="24733" y="8001"/>
                </a:cubicBezTo>
                <a:cubicBezTo>
                  <a:pt x="24808" y="7982"/>
                  <a:pt x="24816" y="7908"/>
                  <a:pt x="24828" y="7842"/>
                </a:cubicBezTo>
                <a:cubicBezTo>
                  <a:pt x="24844" y="7754"/>
                  <a:pt x="24840" y="7674"/>
                  <a:pt x="24860" y="7588"/>
                </a:cubicBezTo>
                <a:cubicBezTo>
                  <a:pt x="24860" y="7577"/>
                  <a:pt x="24860" y="7567"/>
                  <a:pt x="24860" y="7556"/>
                </a:cubicBezTo>
                <a:cubicBezTo>
                  <a:pt x="24860" y="7637"/>
                  <a:pt x="24832" y="7695"/>
                  <a:pt x="24828" y="7779"/>
                </a:cubicBezTo>
                <a:cubicBezTo>
                  <a:pt x="24822" y="7904"/>
                  <a:pt x="24841" y="8013"/>
                  <a:pt x="24860" y="8128"/>
                </a:cubicBezTo>
                <a:cubicBezTo>
                  <a:pt x="24876" y="8224"/>
                  <a:pt x="24843" y="8307"/>
                  <a:pt x="24828" y="8382"/>
                </a:cubicBezTo>
                <a:cubicBezTo>
                  <a:pt x="24817" y="8438"/>
                  <a:pt x="24805" y="8550"/>
                  <a:pt x="24765" y="8509"/>
                </a:cubicBezTo>
                <a:cubicBezTo>
                  <a:pt x="24765" y="8477"/>
                  <a:pt x="24765" y="8467"/>
                  <a:pt x="24765" y="8446"/>
                </a:cubicBezTo>
              </a:path>
              <a:path w="1080" h="1080">
                <a:moveTo>
                  <a:pt x="24956" y="7874"/>
                </a:moveTo>
                <a:cubicBezTo>
                  <a:pt x="25011" y="7860"/>
                  <a:pt x="25031" y="7813"/>
                  <a:pt x="25051" y="7874"/>
                </a:cubicBezTo>
                <a:cubicBezTo>
                  <a:pt x="23932" y="7874"/>
                  <a:pt x="24894" y="7783"/>
                  <a:pt x="25082" y="7969"/>
                </a:cubicBezTo>
                <a:cubicBezTo>
                  <a:pt x="25126" y="8012"/>
                  <a:pt x="25053" y="8077"/>
                  <a:pt x="25019" y="8128"/>
                </a:cubicBezTo>
                <a:cubicBezTo>
                  <a:pt x="25008" y="8139"/>
                  <a:pt x="24998" y="8149"/>
                  <a:pt x="24987" y="8160"/>
                </a:cubicBezTo>
                <a:cubicBezTo>
                  <a:pt x="24987" y="8200"/>
                  <a:pt x="24984" y="8160"/>
                  <a:pt x="25051" y="8160"/>
                </a:cubicBezTo>
                <a:cubicBezTo>
                  <a:pt x="25061" y="8160"/>
                  <a:pt x="25072" y="8160"/>
                  <a:pt x="25082" y="81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Ink 6"/>
          <p:cNvSpPr/>
          <p:nvPr/>
        </p:nvSpPr>
        <p:spPr>
          <a:xfrm>
            <a:off x="3132000" y="2994120"/>
            <a:ext cx="1063800" cy="595080"/>
          </a:xfrm>
          <a:custGeom>
            <a:avLst/>
            <a:gdLst/>
            <a:ahLst/>
            <a:rect l="l" t="t" r="r" b="b"/>
            <a:pathLst>
              <a:path w="2953" h="1653">
                <a:moveTo>
                  <a:pt x="8700" y="8636"/>
                </a:moveTo>
                <a:cubicBezTo>
                  <a:pt x="8700" y="8692"/>
                  <a:pt x="8711" y="8746"/>
                  <a:pt x="8731" y="8795"/>
                </a:cubicBezTo>
                <a:cubicBezTo>
                  <a:pt x="8766" y="8883"/>
                  <a:pt x="8791" y="8985"/>
                  <a:pt x="8795" y="9080"/>
                </a:cubicBezTo>
                <a:cubicBezTo>
                  <a:pt x="8800" y="9191"/>
                  <a:pt x="8826" y="9286"/>
                  <a:pt x="8826" y="9398"/>
                </a:cubicBezTo>
                <a:cubicBezTo>
                  <a:pt x="8826" y="9411"/>
                  <a:pt x="8826" y="9675"/>
                  <a:pt x="8826" y="9588"/>
                </a:cubicBezTo>
                <a:cubicBezTo>
                  <a:pt x="8808" y="9515"/>
                  <a:pt x="8811" y="9449"/>
                  <a:pt x="8795" y="9366"/>
                </a:cubicBezTo>
                <a:cubicBezTo>
                  <a:pt x="8773" y="9252"/>
                  <a:pt x="8745" y="9128"/>
                  <a:pt x="8731" y="9017"/>
                </a:cubicBezTo>
                <a:cubicBezTo>
                  <a:pt x="8713" y="8876"/>
                  <a:pt x="8687" y="8569"/>
                  <a:pt x="8763" y="8446"/>
                </a:cubicBezTo>
                <a:cubicBezTo>
                  <a:pt x="8794" y="8396"/>
                  <a:pt x="8800" y="8365"/>
                  <a:pt x="8858" y="8350"/>
                </a:cubicBezTo>
                <a:cubicBezTo>
                  <a:pt x="8921" y="8397"/>
                  <a:pt x="8942" y="8396"/>
                  <a:pt x="8985" y="8477"/>
                </a:cubicBezTo>
                <a:cubicBezTo>
                  <a:pt x="9043" y="8588"/>
                  <a:pt x="9038" y="8680"/>
                  <a:pt x="9080" y="8795"/>
                </a:cubicBezTo>
                <a:cubicBezTo>
                  <a:pt x="9125" y="8918"/>
                  <a:pt x="9110" y="9051"/>
                  <a:pt x="9144" y="9176"/>
                </a:cubicBezTo>
                <a:cubicBezTo>
                  <a:pt x="9165" y="9254"/>
                  <a:pt x="9176" y="9315"/>
                  <a:pt x="9176" y="9398"/>
                </a:cubicBezTo>
                <a:cubicBezTo>
                  <a:pt x="9176" y="9463"/>
                  <a:pt x="9215" y="9515"/>
                  <a:pt x="9176" y="9398"/>
                </a:cubicBezTo>
              </a:path>
              <a:path w="2953" h="1653">
                <a:moveTo>
                  <a:pt x="8731" y="9144"/>
                </a:moveTo>
                <a:cubicBezTo>
                  <a:pt x="8731" y="9123"/>
                  <a:pt x="8731" y="9101"/>
                  <a:pt x="8731" y="9080"/>
                </a:cubicBezTo>
                <a:cubicBezTo>
                  <a:pt x="8795" y="9080"/>
                  <a:pt x="8806" y="9079"/>
                  <a:pt x="8858" y="9049"/>
                </a:cubicBezTo>
                <a:cubicBezTo>
                  <a:pt x="8929" y="9009"/>
                  <a:pt x="9007" y="9013"/>
                  <a:pt x="9080" y="8985"/>
                </a:cubicBezTo>
                <a:cubicBezTo>
                  <a:pt x="9142" y="8955"/>
                  <a:pt x="9161" y="8945"/>
                  <a:pt x="9208" y="8954"/>
                </a:cubicBezTo>
              </a:path>
              <a:path w="2953" h="1653">
                <a:moveTo>
                  <a:pt x="9588" y="8668"/>
                </a:moveTo>
                <a:cubicBezTo>
                  <a:pt x="9579" y="8640"/>
                  <a:pt x="9538" y="8610"/>
                  <a:pt x="9493" y="8636"/>
                </a:cubicBezTo>
                <a:cubicBezTo>
                  <a:pt x="9414" y="8680"/>
                  <a:pt x="9397" y="8719"/>
                  <a:pt x="9366" y="8795"/>
                </a:cubicBezTo>
                <a:cubicBezTo>
                  <a:pt x="9348" y="8840"/>
                  <a:pt x="9296" y="8919"/>
                  <a:pt x="9366" y="8954"/>
                </a:cubicBezTo>
                <a:cubicBezTo>
                  <a:pt x="9463" y="9002"/>
                  <a:pt x="9677" y="8884"/>
                  <a:pt x="9747" y="8985"/>
                </a:cubicBezTo>
                <a:cubicBezTo>
                  <a:pt x="9794" y="9054"/>
                  <a:pt x="9779" y="9129"/>
                  <a:pt x="9779" y="9208"/>
                </a:cubicBezTo>
                <a:cubicBezTo>
                  <a:pt x="9779" y="9260"/>
                  <a:pt x="9737" y="9343"/>
                  <a:pt x="9684" y="9366"/>
                </a:cubicBezTo>
                <a:cubicBezTo>
                  <a:pt x="9658" y="9378"/>
                  <a:pt x="9593" y="9418"/>
                  <a:pt x="9557" y="9398"/>
                </a:cubicBezTo>
                <a:cubicBezTo>
                  <a:pt x="9480" y="9355"/>
                  <a:pt x="9493" y="9334"/>
                  <a:pt x="9493" y="9239"/>
                </a:cubicBezTo>
              </a:path>
              <a:path w="2953" h="1653">
                <a:moveTo>
                  <a:pt x="9779" y="8477"/>
                </a:moveTo>
                <a:cubicBezTo>
                  <a:pt x="9825" y="8538"/>
                  <a:pt x="9823" y="8594"/>
                  <a:pt x="9842" y="8668"/>
                </a:cubicBezTo>
                <a:cubicBezTo>
                  <a:pt x="9876" y="8798"/>
                  <a:pt x="9915" y="8918"/>
                  <a:pt x="9938" y="9049"/>
                </a:cubicBezTo>
                <a:cubicBezTo>
                  <a:pt x="9953" y="9130"/>
                  <a:pt x="9962" y="9223"/>
                  <a:pt x="9970" y="9303"/>
                </a:cubicBezTo>
                <a:cubicBezTo>
                  <a:pt x="9970" y="9334"/>
                  <a:pt x="9970" y="9344"/>
                  <a:pt x="9970" y="9303"/>
                </a:cubicBezTo>
                <a:cubicBezTo>
                  <a:pt x="9955" y="9184"/>
                  <a:pt x="9965" y="9110"/>
                  <a:pt x="9970" y="8985"/>
                </a:cubicBezTo>
                <a:cubicBezTo>
                  <a:pt x="9973" y="8900"/>
                  <a:pt x="9980" y="8795"/>
                  <a:pt x="10033" y="8731"/>
                </a:cubicBezTo>
                <a:cubicBezTo>
                  <a:pt x="10044" y="8721"/>
                  <a:pt x="10054" y="8710"/>
                  <a:pt x="10065" y="8700"/>
                </a:cubicBezTo>
                <a:cubicBezTo>
                  <a:pt x="10104" y="8749"/>
                  <a:pt x="10151" y="8826"/>
                  <a:pt x="10160" y="8890"/>
                </a:cubicBezTo>
                <a:cubicBezTo>
                  <a:pt x="10173" y="8987"/>
                  <a:pt x="10177" y="9080"/>
                  <a:pt x="10192" y="9176"/>
                </a:cubicBezTo>
                <a:cubicBezTo>
                  <a:pt x="10196" y="9201"/>
                  <a:pt x="10192" y="9410"/>
                  <a:pt x="10192" y="9334"/>
                </a:cubicBezTo>
              </a:path>
              <a:path w="2953" h="1653">
                <a:moveTo>
                  <a:pt x="10382" y="8318"/>
                </a:moveTo>
                <a:cubicBezTo>
                  <a:pt x="10382" y="8414"/>
                  <a:pt x="10403" y="8486"/>
                  <a:pt x="10414" y="8572"/>
                </a:cubicBezTo>
                <a:cubicBezTo>
                  <a:pt x="10429" y="8685"/>
                  <a:pt x="10442" y="8782"/>
                  <a:pt x="10478" y="8890"/>
                </a:cubicBezTo>
                <a:cubicBezTo>
                  <a:pt x="10506" y="8974"/>
                  <a:pt x="10520" y="9061"/>
                  <a:pt x="10541" y="9144"/>
                </a:cubicBezTo>
                <a:cubicBezTo>
                  <a:pt x="10544" y="9156"/>
                  <a:pt x="10541" y="9293"/>
                  <a:pt x="10541" y="9208"/>
                </a:cubicBezTo>
              </a:path>
              <a:path w="2953" h="1653">
                <a:moveTo>
                  <a:pt x="10604" y="8826"/>
                </a:moveTo>
                <a:cubicBezTo>
                  <a:pt x="10644" y="8794"/>
                  <a:pt x="10695" y="8789"/>
                  <a:pt x="10732" y="8763"/>
                </a:cubicBezTo>
                <a:cubicBezTo>
                  <a:pt x="10760" y="8744"/>
                  <a:pt x="10791" y="8713"/>
                  <a:pt x="10858" y="8700"/>
                </a:cubicBezTo>
                <a:cubicBezTo>
                  <a:pt x="10920" y="8688"/>
                  <a:pt x="10923" y="8686"/>
                  <a:pt x="10954" y="8668"/>
                </a:cubicBezTo>
                <a:cubicBezTo>
                  <a:pt x="10943" y="8662"/>
                  <a:pt x="10833" y="8603"/>
                  <a:pt x="10827" y="8604"/>
                </a:cubicBezTo>
                <a:cubicBezTo>
                  <a:pt x="10768" y="8610"/>
                  <a:pt x="10778" y="8644"/>
                  <a:pt x="10763" y="8700"/>
                </a:cubicBezTo>
                <a:cubicBezTo>
                  <a:pt x="10745" y="8767"/>
                  <a:pt x="10712" y="8848"/>
                  <a:pt x="10732" y="8922"/>
                </a:cubicBezTo>
                <a:cubicBezTo>
                  <a:pt x="10749" y="8984"/>
                  <a:pt x="10772" y="9100"/>
                  <a:pt x="10827" y="9144"/>
                </a:cubicBezTo>
                <a:cubicBezTo>
                  <a:pt x="10837" y="9144"/>
                  <a:pt x="10848" y="9144"/>
                  <a:pt x="10858" y="9144"/>
                </a:cubicBezTo>
                <a:cubicBezTo>
                  <a:pt x="10919" y="9126"/>
                  <a:pt x="10941" y="9118"/>
                  <a:pt x="10986" y="9080"/>
                </a:cubicBezTo>
                <a:cubicBezTo>
                  <a:pt x="11041" y="9034"/>
                  <a:pt x="11097" y="8961"/>
                  <a:pt x="11112" y="8890"/>
                </a:cubicBezTo>
                <a:cubicBezTo>
                  <a:pt x="11130" y="8807"/>
                  <a:pt x="11100" y="8734"/>
                  <a:pt x="11081" y="8668"/>
                </a:cubicBezTo>
                <a:cubicBezTo>
                  <a:pt x="11081" y="8657"/>
                  <a:pt x="11081" y="8647"/>
                  <a:pt x="11081" y="8636"/>
                </a:cubicBezTo>
                <a:cubicBezTo>
                  <a:pt x="11046" y="8693"/>
                  <a:pt x="11066" y="8689"/>
                  <a:pt x="11081" y="8763"/>
                </a:cubicBezTo>
                <a:cubicBezTo>
                  <a:pt x="11099" y="8852"/>
                  <a:pt x="11100" y="8896"/>
                  <a:pt x="11144" y="8985"/>
                </a:cubicBezTo>
                <a:cubicBezTo>
                  <a:pt x="11169" y="9035"/>
                  <a:pt x="11222" y="9148"/>
                  <a:pt x="11271" y="9176"/>
                </a:cubicBezTo>
                <a:cubicBezTo>
                  <a:pt x="11282" y="9176"/>
                  <a:pt x="11292" y="9176"/>
                  <a:pt x="11303" y="9176"/>
                </a:cubicBezTo>
                <a:cubicBezTo>
                  <a:pt x="11343" y="9109"/>
                  <a:pt x="11341" y="9056"/>
                  <a:pt x="11366" y="8985"/>
                </a:cubicBezTo>
                <a:cubicBezTo>
                  <a:pt x="11407" y="8870"/>
                  <a:pt x="11398" y="8761"/>
                  <a:pt x="11398" y="8636"/>
                </a:cubicBezTo>
                <a:cubicBezTo>
                  <a:pt x="11398" y="8625"/>
                  <a:pt x="11398" y="8615"/>
                  <a:pt x="11398" y="8604"/>
                </a:cubicBezTo>
                <a:cubicBezTo>
                  <a:pt x="11419" y="8646"/>
                  <a:pt x="11421" y="8622"/>
                  <a:pt x="11430" y="8668"/>
                </a:cubicBezTo>
                <a:cubicBezTo>
                  <a:pt x="11451" y="8773"/>
                  <a:pt x="11483" y="8881"/>
                  <a:pt x="11525" y="8985"/>
                </a:cubicBezTo>
                <a:cubicBezTo>
                  <a:pt x="11572" y="9101"/>
                  <a:pt x="11569" y="9224"/>
                  <a:pt x="11620" y="9334"/>
                </a:cubicBezTo>
                <a:cubicBezTo>
                  <a:pt x="11656" y="9411"/>
                  <a:pt x="11671" y="9555"/>
                  <a:pt x="11652" y="9652"/>
                </a:cubicBezTo>
                <a:cubicBezTo>
                  <a:pt x="11630" y="9768"/>
                  <a:pt x="11572" y="9827"/>
                  <a:pt x="11494" y="9906"/>
                </a:cubicBezTo>
                <a:cubicBezTo>
                  <a:pt x="11438" y="9962"/>
                  <a:pt x="11366" y="9964"/>
                  <a:pt x="11303" y="9938"/>
                </a:cubicBezTo>
                <a:cubicBezTo>
                  <a:pt x="11224" y="9905"/>
                  <a:pt x="11107" y="9867"/>
                  <a:pt x="11081" y="9779"/>
                </a:cubicBezTo>
                <a:cubicBezTo>
                  <a:pt x="11081" y="9726"/>
                  <a:pt x="11081" y="9716"/>
                  <a:pt x="11081" y="96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Ink 7"/>
          <p:cNvSpPr/>
          <p:nvPr/>
        </p:nvSpPr>
        <p:spPr>
          <a:xfrm>
            <a:off x="4492800" y="2800440"/>
            <a:ext cx="1028520" cy="880920"/>
          </a:xfrm>
          <a:custGeom>
            <a:avLst/>
            <a:gdLst/>
            <a:ahLst/>
            <a:rect l="l" t="t" r="r" b="b"/>
            <a:pathLst>
              <a:path w="2858" h="2446">
                <a:moveTo>
                  <a:pt x="12859" y="8192"/>
                </a:moveTo>
                <a:cubicBezTo>
                  <a:pt x="12775" y="8274"/>
                  <a:pt x="12705" y="8354"/>
                  <a:pt x="12636" y="8446"/>
                </a:cubicBezTo>
                <a:cubicBezTo>
                  <a:pt x="12588" y="8510"/>
                  <a:pt x="12574" y="8565"/>
                  <a:pt x="12541" y="8636"/>
                </a:cubicBezTo>
                <a:cubicBezTo>
                  <a:pt x="12499" y="8727"/>
                  <a:pt x="12483" y="8822"/>
                  <a:pt x="12478" y="8922"/>
                </a:cubicBezTo>
                <a:cubicBezTo>
                  <a:pt x="12470" y="9090"/>
                  <a:pt x="12447" y="9303"/>
                  <a:pt x="12510" y="9462"/>
                </a:cubicBezTo>
                <a:cubicBezTo>
                  <a:pt x="12543" y="9546"/>
                  <a:pt x="12543" y="9614"/>
                  <a:pt x="12605" y="9684"/>
                </a:cubicBezTo>
                <a:cubicBezTo>
                  <a:pt x="12668" y="9756"/>
                  <a:pt x="12818" y="9844"/>
                  <a:pt x="12859" y="9906"/>
                </a:cubicBezTo>
                <a:cubicBezTo>
                  <a:pt x="12859" y="9917"/>
                  <a:pt x="12859" y="9927"/>
                  <a:pt x="12859" y="9938"/>
                </a:cubicBezTo>
              </a:path>
              <a:path w="2858" h="2446">
                <a:moveTo>
                  <a:pt x="12827" y="9334"/>
                </a:moveTo>
                <a:cubicBezTo>
                  <a:pt x="12816" y="9334"/>
                  <a:pt x="12806" y="9334"/>
                  <a:pt x="12795" y="9334"/>
                </a:cubicBezTo>
                <a:cubicBezTo>
                  <a:pt x="12877" y="9334"/>
                  <a:pt x="13061" y="9293"/>
                  <a:pt x="13113" y="9303"/>
                </a:cubicBezTo>
                <a:cubicBezTo>
                  <a:pt x="13123" y="9313"/>
                  <a:pt x="13134" y="9324"/>
                  <a:pt x="13144" y="9334"/>
                </a:cubicBezTo>
              </a:path>
              <a:path w="2858" h="2446">
                <a:moveTo>
                  <a:pt x="13303" y="8700"/>
                </a:moveTo>
                <a:cubicBezTo>
                  <a:pt x="13345" y="8755"/>
                  <a:pt x="13335" y="8784"/>
                  <a:pt x="13335" y="8858"/>
                </a:cubicBezTo>
                <a:cubicBezTo>
                  <a:pt x="13335" y="9002"/>
                  <a:pt x="13362" y="9128"/>
                  <a:pt x="13367" y="9271"/>
                </a:cubicBezTo>
                <a:cubicBezTo>
                  <a:pt x="13372" y="9424"/>
                  <a:pt x="13393" y="9565"/>
                  <a:pt x="13398" y="9716"/>
                </a:cubicBezTo>
                <a:cubicBezTo>
                  <a:pt x="13399" y="9744"/>
                  <a:pt x="13398" y="10078"/>
                  <a:pt x="13398" y="9906"/>
                </a:cubicBezTo>
              </a:path>
              <a:path w="2858" h="2446">
                <a:moveTo>
                  <a:pt x="13526" y="9049"/>
                </a:moveTo>
                <a:cubicBezTo>
                  <a:pt x="13538" y="8998"/>
                  <a:pt x="13573" y="8969"/>
                  <a:pt x="13589" y="8922"/>
                </a:cubicBezTo>
                <a:cubicBezTo>
                  <a:pt x="13604" y="8876"/>
                  <a:pt x="13634" y="8791"/>
                  <a:pt x="13684" y="8763"/>
                </a:cubicBezTo>
                <a:cubicBezTo>
                  <a:pt x="13720" y="8763"/>
                  <a:pt x="13734" y="8760"/>
                  <a:pt x="13748" y="8731"/>
                </a:cubicBezTo>
                <a:cubicBezTo>
                  <a:pt x="13789" y="8785"/>
                  <a:pt x="13808" y="8818"/>
                  <a:pt x="13811" y="8890"/>
                </a:cubicBezTo>
                <a:cubicBezTo>
                  <a:pt x="13816" y="9012"/>
                  <a:pt x="13804" y="9154"/>
                  <a:pt x="13780" y="9271"/>
                </a:cubicBezTo>
                <a:cubicBezTo>
                  <a:pt x="13756" y="9393"/>
                  <a:pt x="13726" y="9537"/>
                  <a:pt x="13684" y="9652"/>
                </a:cubicBezTo>
                <a:cubicBezTo>
                  <a:pt x="13663" y="9710"/>
                  <a:pt x="13645" y="9754"/>
                  <a:pt x="13621" y="9811"/>
                </a:cubicBezTo>
                <a:cubicBezTo>
                  <a:pt x="13633" y="9760"/>
                  <a:pt x="13668" y="9731"/>
                  <a:pt x="13684" y="9684"/>
                </a:cubicBezTo>
                <a:cubicBezTo>
                  <a:pt x="13688" y="9672"/>
                  <a:pt x="13756" y="9615"/>
                  <a:pt x="13780" y="9620"/>
                </a:cubicBezTo>
                <a:cubicBezTo>
                  <a:pt x="13801" y="9625"/>
                  <a:pt x="13889" y="9672"/>
                  <a:pt x="13906" y="9684"/>
                </a:cubicBezTo>
                <a:cubicBezTo>
                  <a:pt x="13926" y="9698"/>
                  <a:pt x="14027" y="9737"/>
                  <a:pt x="14034" y="9747"/>
                </a:cubicBezTo>
                <a:cubicBezTo>
                  <a:pt x="14034" y="9779"/>
                  <a:pt x="14034" y="9789"/>
                  <a:pt x="14065" y="9779"/>
                </a:cubicBezTo>
              </a:path>
              <a:path w="2858" h="2446">
                <a:moveTo>
                  <a:pt x="14288" y="9557"/>
                </a:moveTo>
                <a:cubicBezTo>
                  <a:pt x="14288" y="9742"/>
                  <a:pt x="14292" y="9920"/>
                  <a:pt x="14319" y="10096"/>
                </a:cubicBezTo>
                <a:cubicBezTo>
                  <a:pt x="14319" y="10160"/>
                  <a:pt x="14319" y="10181"/>
                  <a:pt x="14319" y="10224"/>
                </a:cubicBezTo>
              </a:path>
              <a:path w="2858" h="2446">
                <a:moveTo>
                  <a:pt x="14859" y="8954"/>
                </a:moveTo>
                <a:cubicBezTo>
                  <a:pt x="14893" y="8886"/>
                  <a:pt x="14922" y="8838"/>
                  <a:pt x="14922" y="8763"/>
                </a:cubicBezTo>
                <a:cubicBezTo>
                  <a:pt x="14922" y="8718"/>
                  <a:pt x="14895" y="8671"/>
                  <a:pt x="14859" y="8668"/>
                </a:cubicBezTo>
                <a:cubicBezTo>
                  <a:pt x="14735" y="8658"/>
                  <a:pt x="14712" y="8736"/>
                  <a:pt x="14637" y="8795"/>
                </a:cubicBezTo>
                <a:cubicBezTo>
                  <a:pt x="14575" y="8844"/>
                  <a:pt x="14511" y="8873"/>
                  <a:pt x="14478" y="8954"/>
                </a:cubicBezTo>
                <a:cubicBezTo>
                  <a:pt x="14453" y="9016"/>
                  <a:pt x="14507" y="9018"/>
                  <a:pt x="14542" y="9049"/>
                </a:cubicBezTo>
                <a:cubicBezTo>
                  <a:pt x="14604" y="9104"/>
                  <a:pt x="14662" y="9115"/>
                  <a:pt x="14732" y="9176"/>
                </a:cubicBezTo>
                <a:cubicBezTo>
                  <a:pt x="14793" y="9229"/>
                  <a:pt x="14822" y="9279"/>
                  <a:pt x="14859" y="9334"/>
                </a:cubicBezTo>
                <a:cubicBezTo>
                  <a:pt x="14904" y="9401"/>
                  <a:pt x="14894" y="9513"/>
                  <a:pt x="14859" y="9588"/>
                </a:cubicBezTo>
                <a:cubicBezTo>
                  <a:pt x="14833" y="9645"/>
                  <a:pt x="14785" y="9652"/>
                  <a:pt x="14732" y="9652"/>
                </a:cubicBezTo>
                <a:cubicBezTo>
                  <a:pt x="14713" y="9652"/>
                  <a:pt x="14646" y="9589"/>
                  <a:pt x="14637" y="9557"/>
                </a:cubicBezTo>
                <a:cubicBezTo>
                  <a:pt x="14604" y="9439"/>
                  <a:pt x="14620" y="9385"/>
                  <a:pt x="14637" y="9271"/>
                </a:cubicBezTo>
                <a:cubicBezTo>
                  <a:pt x="14651" y="9182"/>
                  <a:pt x="14677" y="9095"/>
                  <a:pt x="14732" y="9017"/>
                </a:cubicBezTo>
                <a:cubicBezTo>
                  <a:pt x="14762" y="8974"/>
                  <a:pt x="14794" y="8932"/>
                  <a:pt x="14827" y="8890"/>
                </a:cubicBezTo>
              </a:path>
              <a:path w="2858" h="2446">
                <a:moveTo>
                  <a:pt x="14922" y="8350"/>
                </a:moveTo>
                <a:cubicBezTo>
                  <a:pt x="15007" y="8371"/>
                  <a:pt x="14967" y="8417"/>
                  <a:pt x="15018" y="8477"/>
                </a:cubicBezTo>
                <a:cubicBezTo>
                  <a:pt x="15092" y="8563"/>
                  <a:pt x="15163" y="8656"/>
                  <a:pt x="15208" y="8763"/>
                </a:cubicBezTo>
                <a:cubicBezTo>
                  <a:pt x="15259" y="8885"/>
                  <a:pt x="15320" y="9044"/>
                  <a:pt x="15335" y="9176"/>
                </a:cubicBezTo>
                <a:cubicBezTo>
                  <a:pt x="15351" y="9314"/>
                  <a:pt x="15331" y="9487"/>
                  <a:pt x="15304" y="9620"/>
                </a:cubicBezTo>
                <a:cubicBezTo>
                  <a:pt x="15282" y="9725"/>
                  <a:pt x="15198" y="9806"/>
                  <a:pt x="15176" y="9906"/>
                </a:cubicBezTo>
                <a:cubicBezTo>
                  <a:pt x="15164" y="9962"/>
                  <a:pt x="15139" y="10084"/>
                  <a:pt x="15113" y="10033"/>
                </a:cubicBezTo>
                <a:cubicBezTo>
                  <a:pt x="15113" y="10022"/>
                  <a:pt x="15113" y="10012"/>
                  <a:pt x="15113" y="10001"/>
                </a:cubicBezTo>
              </a:path>
              <a:path w="2858" h="2446">
                <a:moveTo>
                  <a:pt x="13303" y="7842"/>
                </a:moveTo>
                <a:cubicBezTo>
                  <a:pt x="13337" y="7921"/>
                  <a:pt x="13382" y="8010"/>
                  <a:pt x="13398" y="8096"/>
                </a:cubicBezTo>
                <a:cubicBezTo>
                  <a:pt x="13415" y="8185"/>
                  <a:pt x="13439" y="8314"/>
                  <a:pt x="13494" y="8382"/>
                </a:cubicBezTo>
                <a:cubicBezTo>
                  <a:pt x="13521" y="8416"/>
                  <a:pt x="13526" y="8501"/>
                  <a:pt x="13526" y="8446"/>
                </a:cubicBezTo>
              </a:path>
              <a:path w="2858" h="2446">
                <a:moveTo>
                  <a:pt x="13589" y="7810"/>
                </a:moveTo>
                <a:cubicBezTo>
                  <a:pt x="13524" y="7892"/>
                  <a:pt x="13525" y="7964"/>
                  <a:pt x="13494" y="8064"/>
                </a:cubicBezTo>
                <a:cubicBezTo>
                  <a:pt x="13461" y="8172"/>
                  <a:pt x="13415" y="8280"/>
                  <a:pt x="13367" y="8382"/>
                </a:cubicBezTo>
                <a:cubicBezTo>
                  <a:pt x="13340" y="8440"/>
                  <a:pt x="13315" y="8465"/>
                  <a:pt x="13272" y="8509"/>
                </a:cubicBezTo>
              </a:path>
              <a:path w="2858" h="2446">
                <a:moveTo>
                  <a:pt x="13748" y="8128"/>
                </a:moveTo>
                <a:cubicBezTo>
                  <a:pt x="13748" y="8234"/>
                  <a:pt x="13748" y="8340"/>
                  <a:pt x="13748" y="8446"/>
                </a:cubicBezTo>
              </a:path>
              <a:path w="2858" h="2446">
                <a:moveTo>
                  <a:pt x="14288" y="7810"/>
                </a:moveTo>
                <a:cubicBezTo>
                  <a:pt x="14301" y="7903"/>
                  <a:pt x="14319" y="7959"/>
                  <a:pt x="14319" y="8064"/>
                </a:cubicBezTo>
                <a:cubicBezTo>
                  <a:pt x="14319" y="8166"/>
                  <a:pt x="14326" y="8234"/>
                  <a:pt x="14351" y="8318"/>
                </a:cubicBezTo>
                <a:cubicBezTo>
                  <a:pt x="14367" y="8372"/>
                  <a:pt x="14369" y="8353"/>
                  <a:pt x="14414" y="8318"/>
                </a:cubicBezTo>
              </a:path>
              <a:path w="2858" h="2446">
                <a:moveTo>
                  <a:pt x="14542" y="7779"/>
                </a:moveTo>
                <a:cubicBezTo>
                  <a:pt x="14542" y="7890"/>
                  <a:pt x="14522" y="7989"/>
                  <a:pt x="14510" y="8096"/>
                </a:cubicBezTo>
                <a:cubicBezTo>
                  <a:pt x="14497" y="8211"/>
                  <a:pt x="14483" y="8333"/>
                  <a:pt x="14478" y="8446"/>
                </a:cubicBezTo>
                <a:cubicBezTo>
                  <a:pt x="14474" y="8551"/>
                  <a:pt x="14454" y="8632"/>
                  <a:pt x="14446" y="8731"/>
                </a:cubicBezTo>
                <a:cubicBezTo>
                  <a:pt x="14446" y="8742"/>
                  <a:pt x="14446" y="8752"/>
                  <a:pt x="14446" y="8763"/>
                </a:cubicBezTo>
              </a:path>
              <a:path w="2858" h="2446">
                <a:moveTo>
                  <a:pt x="14732" y="8128"/>
                </a:moveTo>
                <a:cubicBezTo>
                  <a:pt x="14732" y="8297"/>
                  <a:pt x="14732" y="8467"/>
                  <a:pt x="14732" y="86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Ink 8"/>
          <p:cNvSpPr/>
          <p:nvPr/>
        </p:nvSpPr>
        <p:spPr>
          <a:xfrm>
            <a:off x="5657760" y="2857680"/>
            <a:ext cx="617760" cy="788760"/>
          </a:xfrm>
          <a:custGeom>
            <a:avLst/>
            <a:gdLst/>
            <a:ahLst/>
            <a:rect l="l" t="t" r="r" b="b"/>
            <a:pathLst>
              <a:path w="1716" h="2191">
                <a:moveTo>
                  <a:pt x="16066" y="8255"/>
                </a:moveTo>
                <a:cubicBezTo>
                  <a:pt x="16003" y="8224"/>
                  <a:pt x="15978" y="8245"/>
                  <a:pt x="15938" y="8318"/>
                </a:cubicBezTo>
                <a:cubicBezTo>
                  <a:pt x="15880" y="8422"/>
                  <a:pt x="15868" y="8495"/>
                  <a:pt x="15843" y="8604"/>
                </a:cubicBezTo>
                <a:cubicBezTo>
                  <a:pt x="15809" y="8756"/>
                  <a:pt x="15774" y="8898"/>
                  <a:pt x="15748" y="9049"/>
                </a:cubicBezTo>
                <a:cubicBezTo>
                  <a:pt x="15720" y="9212"/>
                  <a:pt x="15716" y="9359"/>
                  <a:pt x="15716" y="9525"/>
                </a:cubicBezTo>
                <a:cubicBezTo>
                  <a:pt x="15716" y="9622"/>
                  <a:pt x="15728" y="9758"/>
                  <a:pt x="15780" y="9842"/>
                </a:cubicBezTo>
                <a:cubicBezTo>
                  <a:pt x="15815" y="9898"/>
                  <a:pt x="15809" y="9906"/>
                  <a:pt x="15875" y="9906"/>
                </a:cubicBezTo>
                <a:cubicBezTo>
                  <a:pt x="15911" y="9906"/>
                  <a:pt x="15925" y="9903"/>
                  <a:pt x="15938" y="9874"/>
                </a:cubicBezTo>
              </a:path>
              <a:path w="1716" h="2191">
                <a:moveTo>
                  <a:pt x="16256" y="8954"/>
                </a:moveTo>
                <a:cubicBezTo>
                  <a:pt x="16200" y="8912"/>
                  <a:pt x="16172" y="8918"/>
                  <a:pt x="16129" y="8985"/>
                </a:cubicBezTo>
                <a:cubicBezTo>
                  <a:pt x="16072" y="9074"/>
                  <a:pt x="16046" y="9169"/>
                  <a:pt x="16034" y="9271"/>
                </a:cubicBezTo>
                <a:cubicBezTo>
                  <a:pt x="16020" y="9383"/>
                  <a:pt x="16040" y="9495"/>
                  <a:pt x="16066" y="9588"/>
                </a:cubicBezTo>
                <a:cubicBezTo>
                  <a:pt x="16080" y="9639"/>
                  <a:pt x="16076" y="9639"/>
                  <a:pt x="16129" y="9652"/>
                </a:cubicBezTo>
                <a:cubicBezTo>
                  <a:pt x="16180" y="9601"/>
                  <a:pt x="16228" y="9561"/>
                  <a:pt x="16256" y="9493"/>
                </a:cubicBezTo>
                <a:cubicBezTo>
                  <a:pt x="16300" y="9387"/>
                  <a:pt x="16288" y="9289"/>
                  <a:pt x="16288" y="9176"/>
                </a:cubicBezTo>
                <a:cubicBezTo>
                  <a:pt x="16288" y="9070"/>
                  <a:pt x="16251" y="9035"/>
                  <a:pt x="16224" y="8954"/>
                </a:cubicBezTo>
                <a:cubicBezTo>
                  <a:pt x="16224" y="8918"/>
                  <a:pt x="16221" y="8910"/>
                  <a:pt x="16192" y="8954"/>
                </a:cubicBezTo>
              </a:path>
              <a:path w="1716" h="2191">
                <a:moveTo>
                  <a:pt x="16542" y="9462"/>
                </a:moveTo>
                <a:cubicBezTo>
                  <a:pt x="16542" y="9617"/>
                  <a:pt x="16534" y="9760"/>
                  <a:pt x="16510" y="9906"/>
                </a:cubicBezTo>
                <a:cubicBezTo>
                  <a:pt x="16500" y="9966"/>
                  <a:pt x="16510" y="10035"/>
                  <a:pt x="16510" y="10096"/>
                </a:cubicBezTo>
              </a:path>
              <a:path w="1716" h="2191">
                <a:moveTo>
                  <a:pt x="16828" y="8826"/>
                </a:moveTo>
                <a:cubicBezTo>
                  <a:pt x="16809" y="8904"/>
                  <a:pt x="16774" y="8991"/>
                  <a:pt x="16764" y="9080"/>
                </a:cubicBezTo>
                <a:cubicBezTo>
                  <a:pt x="16752" y="9192"/>
                  <a:pt x="16698" y="9349"/>
                  <a:pt x="16732" y="9462"/>
                </a:cubicBezTo>
                <a:cubicBezTo>
                  <a:pt x="16745" y="9505"/>
                  <a:pt x="16771" y="9541"/>
                  <a:pt x="16796" y="9557"/>
                </a:cubicBezTo>
                <a:cubicBezTo>
                  <a:pt x="16849" y="9557"/>
                  <a:pt x="16897" y="9549"/>
                  <a:pt x="16923" y="9493"/>
                </a:cubicBezTo>
                <a:cubicBezTo>
                  <a:pt x="16957" y="9421"/>
                  <a:pt x="17023" y="9284"/>
                  <a:pt x="17018" y="9208"/>
                </a:cubicBezTo>
                <a:cubicBezTo>
                  <a:pt x="17011" y="9101"/>
                  <a:pt x="16990" y="9052"/>
                  <a:pt x="16923" y="8985"/>
                </a:cubicBezTo>
                <a:cubicBezTo>
                  <a:pt x="16888" y="8950"/>
                  <a:pt x="16867" y="8952"/>
                  <a:pt x="16828" y="8922"/>
                </a:cubicBezTo>
              </a:path>
              <a:path w="1716" h="2191">
                <a:moveTo>
                  <a:pt x="17082" y="8160"/>
                </a:moveTo>
                <a:cubicBezTo>
                  <a:pt x="17118" y="8234"/>
                  <a:pt x="17125" y="8297"/>
                  <a:pt x="17145" y="8382"/>
                </a:cubicBezTo>
                <a:cubicBezTo>
                  <a:pt x="17179" y="8529"/>
                  <a:pt x="17254" y="8660"/>
                  <a:pt x="17304" y="8795"/>
                </a:cubicBezTo>
                <a:cubicBezTo>
                  <a:pt x="17360" y="8949"/>
                  <a:pt x="17365" y="9116"/>
                  <a:pt x="17399" y="9271"/>
                </a:cubicBezTo>
                <a:cubicBezTo>
                  <a:pt x="17431" y="9421"/>
                  <a:pt x="17411" y="9567"/>
                  <a:pt x="17367" y="9716"/>
                </a:cubicBezTo>
                <a:cubicBezTo>
                  <a:pt x="17332" y="9837"/>
                  <a:pt x="17279" y="9966"/>
                  <a:pt x="17208" y="10065"/>
                </a:cubicBezTo>
                <a:cubicBezTo>
                  <a:pt x="17187" y="10086"/>
                  <a:pt x="17166" y="10107"/>
                  <a:pt x="17145" y="10128"/>
                </a:cubicBezTo>
              </a:path>
              <a:path w="1716" h="2191">
                <a:moveTo>
                  <a:pt x="16161" y="7969"/>
                </a:moveTo>
                <a:cubicBezTo>
                  <a:pt x="16161" y="8042"/>
                  <a:pt x="16181" y="8093"/>
                  <a:pt x="16192" y="8160"/>
                </a:cubicBezTo>
                <a:cubicBezTo>
                  <a:pt x="16206" y="8249"/>
                  <a:pt x="16219" y="8331"/>
                  <a:pt x="16256" y="8414"/>
                </a:cubicBezTo>
                <a:cubicBezTo>
                  <a:pt x="16279" y="8465"/>
                  <a:pt x="16304" y="8526"/>
                  <a:pt x="16320" y="8572"/>
                </a:cubicBezTo>
                <a:cubicBezTo>
                  <a:pt x="16320" y="8583"/>
                  <a:pt x="16320" y="8593"/>
                  <a:pt x="16320" y="8604"/>
                </a:cubicBezTo>
              </a:path>
              <a:path w="1716" h="2191">
                <a:moveTo>
                  <a:pt x="16383" y="7938"/>
                </a:moveTo>
                <a:cubicBezTo>
                  <a:pt x="16347" y="8032"/>
                  <a:pt x="16322" y="8124"/>
                  <a:pt x="16288" y="8223"/>
                </a:cubicBezTo>
                <a:cubicBezTo>
                  <a:pt x="16250" y="8333"/>
                  <a:pt x="16184" y="8460"/>
                  <a:pt x="16161" y="8572"/>
                </a:cubicBezTo>
                <a:cubicBezTo>
                  <a:pt x="16149" y="8629"/>
                  <a:pt x="16142" y="8649"/>
                  <a:pt x="16129" y="8700"/>
                </a:cubicBezTo>
              </a:path>
              <a:path w="1716" h="2191">
                <a:moveTo>
                  <a:pt x="16415" y="8350"/>
                </a:moveTo>
                <a:cubicBezTo>
                  <a:pt x="16463" y="8301"/>
                  <a:pt x="16474" y="8287"/>
                  <a:pt x="16542" y="8287"/>
                </a:cubicBezTo>
                <a:cubicBezTo>
                  <a:pt x="16542" y="8347"/>
                  <a:pt x="16535" y="8427"/>
                  <a:pt x="16510" y="8477"/>
                </a:cubicBezTo>
                <a:cubicBezTo>
                  <a:pt x="16483" y="8530"/>
                  <a:pt x="16461" y="8578"/>
                  <a:pt x="16446" y="8636"/>
                </a:cubicBezTo>
                <a:cubicBezTo>
                  <a:pt x="16450" y="8635"/>
                  <a:pt x="16538" y="8608"/>
                  <a:pt x="16542" y="8604"/>
                </a:cubicBezTo>
                <a:cubicBezTo>
                  <a:pt x="16569" y="8570"/>
                  <a:pt x="16541" y="8572"/>
                  <a:pt x="16605" y="8572"/>
                </a:cubicBezTo>
              </a:path>
              <a:path w="1716" h="2191">
                <a:moveTo>
                  <a:pt x="16764" y="8001"/>
                </a:moveTo>
                <a:cubicBezTo>
                  <a:pt x="16764" y="8136"/>
                  <a:pt x="16775" y="8256"/>
                  <a:pt x="16796" y="8382"/>
                </a:cubicBezTo>
                <a:cubicBezTo>
                  <a:pt x="16796" y="8435"/>
                  <a:pt x="16785" y="8457"/>
                  <a:pt x="16828" y="8446"/>
                </a:cubicBezTo>
                <a:cubicBezTo>
                  <a:pt x="16859" y="8435"/>
                  <a:pt x="16882" y="8368"/>
                  <a:pt x="16891" y="8318"/>
                </a:cubicBezTo>
                <a:cubicBezTo>
                  <a:pt x="16891" y="8255"/>
                  <a:pt x="16891" y="8234"/>
                  <a:pt x="16891" y="8192"/>
                </a:cubicBezTo>
              </a:path>
              <a:path w="1716" h="2191">
                <a:moveTo>
                  <a:pt x="16923" y="7969"/>
                </a:moveTo>
                <a:cubicBezTo>
                  <a:pt x="16923" y="8216"/>
                  <a:pt x="16925" y="8463"/>
                  <a:pt x="16954" y="8700"/>
                </a:cubicBezTo>
                <a:cubicBezTo>
                  <a:pt x="16966" y="8797"/>
                  <a:pt x="16947" y="8862"/>
                  <a:pt x="16923" y="89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Ink 9"/>
          <p:cNvSpPr/>
          <p:nvPr/>
        </p:nvSpPr>
        <p:spPr>
          <a:xfrm>
            <a:off x="6651720" y="2925720"/>
            <a:ext cx="2413080" cy="685800"/>
          </a:xfrm>
          <a:custGeom>
            <a:avLst/>
            <a:gdLst/>
            <a:ahLst/>
            <a:rect l="l" t="t" r="r" b="b"/>
            <a:pathLst>
              <a:path w="6701" h="1906">
                <a:moveTo>
                  <a:pt x="18574" y="8731"/>
                </a:moveTo>
                <a:lnTo>
                  <a:pt x="18574" y="8731"/>
                </a:lnTo>
              </a:path>
              <a:path w="6701" h="1906">
                <a:moveTo>
                  <a:pt x="18574" y="8731"/>
                </a:moveTo>
                <a:lnTo>
                  <a:pt x="18574" y="8731"/>
                </a:lnTo>
              </a:path>
              <a:path w="6701" h="1906">
                <a:moveTo>
                  <a:pt x="18606" y="8795"/>
                </a:moveTo>
                <a:cubicBezTo>
                  <a:pt x="18606" y="8908"/>
                  <a:pt x="18632" y="8972"/>
                  <a:pt x="18669" y="9080"/>
                </a:cubicBezTo>
                <a:cubicBezTo>
                  <a:pt x="18717" y="9217"/>
                  <a:pt x="18719" y="9358"/>
                  <a:pt x="18764" y="9493"/>
                </a:cubicBezTo>
                <a:cubicBezTo>
                  <a:pt x="18790" y="9570"/>
                  <a:pt x="18909" y="9716"/>
                  <a:pt x="18828" y="9716"/>
                </a:cubicBezTo>
                <a:cubicBezTo>
                  <a:pt x="18799" y="9687"/>
                  <a:pt x="18788" y="9681"/>
                  <a:pt x="18796" y="9652"/>
                </a:cubicBezTo>
              </a:path>
              <a:path w="6701" h="1906">
                <a:moveTo>
                  <a:pt x="18510" y="8826"/>
                </a:moveTo>
                <a:cubicBezTo>
                  <a:pt x="18438" y="8826"/>
                  <a:pt x="18550" y="8797"/>
                  <a:pt x="18574" y="8795"/>
                </a:cubicBezTo>
                <a:cubicBezTo>
                  <a:pt x="18674" y="8788"/>
                  <a:pt x="18769" y="8788"/>
                  <a:pt x="18860" y="8826"/>
                </a:cubicBezTo>
                <a:cubicBezTo>
                  <a:pt x="18951" y="8864"/>
                  <a:pt x="19000" y="8985"/>
                  <a:pt x="19018" y="9080"/>
                </a:cubicBezTo>
                <a:cubicBezTo>
                  <a:pt x="19041" y="9199"/>
                  <a:pt x="18995" y="9291"/>
                  <a:pt x="18955" y="9398"/>
                </a:cubicBezTo>
                <a:cubicBezTo>
                  <a:pt x="18919" y="9493"/>
                  <a:pt x="18899" y="9549"/>
                  <a:pt x="18828" y="9620"/>
                </a:cubicBezTo>
                <a:cubicBezTo>
                  <a:pt x="18752" y="9696"/>
                  <a:pt x="18764" y="9574"/>
                  <a:pt x="18764" y="9525"/>
                </a:cubicBezTo>
              </a:path>
              <a:path w="6701" h="1906">
                <a:moveTo>
                  <a:pt x="19209" y="8858"/>
                </a:moveTo>
                <a:cubicBezTo>
                  <a:pt x="19209" y="8822"/>
                  <a:pt x="19206" y="8808"/>
                  <a:pt x="19177" y="8795"/>
                </a:cubicBezTo>
                <a:cubicBezTo>
                  <a:pt x="19111" y="8811"/>
                  <a:pt x="19066" y="8882"/>
                  <a:pt x="19050" y="8954"/>
                </a:cubicBezTo>
                <a:cubicBezTo>
                  <a:pt x="19022" y="9079"/>
                  <a:pt x="19047" y="9248"/>
                  <a:pt x="19082" y="9366"/>
                </a:cubicBezTo>
                <a:cubicBezTo>
                  <a:pt x="19103" y="9436"/>
                  <a:pt x="19126" y="9508"/>
                  <a:pt x="19177" y="9525"/>
                </a:cubicBezTo>
                <a:cubicBezTo>
                  <a:pt x="19250" y="9507"/>
                  <a:pt x="19260" y="9430"/>
                  <a:pt x="19272" y="9366"/>
                </a:cubicBezTo>
                <a:cubicBezTo>
                  <a:pt x="19296" y="9238"/>
                  <a:pt x="19285" y="9072"/>
                  <a:pt x="19240" y="8954"/>
                </a:cubicBezTo>
                <a:cubicBezTo>
                  <a:pt x="19273" y="9041"/>
                  <a:pt x="19317" y="9148"/>
                  <a:pt x="19336" y="9239"/>
                </a:cubicBezTo>
                <a:cubicBezTo>
                  <a:pt x="19337" y="9244"/>
                  <a:pt x="19373" y="9425"/>
                  <a:pt x="19431" y="9366"/>
                </a:cubicBezTo>
                <a:cubicBezTo>
                  <a:pt x="19431" y="9355"/>
                  <a:pt x="19431" y="9345"/>
                  <a:pt x="19431" y="9334"/>
                </a:cubicBezTo>
              </a:path>
              <a:path w="6701" h="1906">
                <a:moveTo>
                  <a:pt x="19399" y="8826"/>
                </a:moveTo>
                <a:cubicBezTo>
                  <a:pt x="19399" y="8888"/>
                  <a:pt x="19412" y="8962"/>
                  <a:pt x="19431" y="9017"/>
                </a:cubicBezTo>
                <a:cubicBezTo>
                  <a:pt x="19461" y="9106"/>
                  <a:pt x="19505" y="9181"/>
                  <a:pt x="19526" y="9271"/>
                </a:cubicBezTo>
                <a:cubicBezTo>
                  <a:pt x="19526" y="9282"/>
                  <a:pt x="19526" y="9292"/>
                  <a:pt x="19526" y="9303"/>
                </a:cubicBezTo>
                <a:cubicBezTo>
                  <a:pt x="19526" y="9224"/>
                  <a:pt x="19497" y="9159"/>
                  <a:pt x="19494" y="9080"/>
                </a:cubicBezTo>
                <a:cubicBezTo>
                  <a:pt x="19489" y="8972"/>
                  <a:pt x="19499" y="8884"/>
                  <a:pt x="19526" y="8795"/>
                </a:cubicBezTo>
                <a:cubicBezTo>
                  <a:pt x="19526" y="8784"/>
                  <a:pt x="19526" y="8774"/>
                  <a:pt x="19526" y="8763"/>
                </a:cubicBezTo>
                <a:cubicBezTo>
                  <a:pt x="19619" y="8786"/>
                  <a:pt x="19586" y="8791"/>
                  <a:pt x="19622" y="8858"/>
                </a:cubicBezTo>
                <a:cubicBezTo>
                  <a:pt x="19667" y="8943"/>
                  <a:pt x="19729" y="9044"/>
                  <a:pt x="19748" y="9144"/>
                </a:cubicBezTo>
                <a:cubicBezTo>
                  <a:pt x="19753" y="9169"/>
                  <a:pt x="19762" y="9320"/>
                  <a:pt x="19780" y="9334"/>
                </a:cubicBezTo>
                <a:cubicBezTo>
                  <a:pt x="19827" y="9371"/>
                  <a:pt x="19812" y="9284"/>
                  <a:pt x="19812" y="9271"/>
                </a:cubicBezTo>
              </a:path>
              <a:path w="6701" h="1906">
                <a:moveTo>
                  <a:pt x="19844" y="8700"/>
                </a:moveTo>
                <a:cubicBezTo>
                  <a:pt x="19885" y="8753"/>
                  <a:pt x="19897" y="8852"/>
                  <a:pt x="19907" y="8922"/>
                </a:cubicBezTo>
                <a:cubicBezTo>
                  <a:pt x="19923" y="9040"/>
                  <a:pt x="19938" y="9125"/>
                  <a:pt x="19971" y="9239"/>
                </a:cubicBezTo>
                <a:cubicBezTo>
                  <a:pt x="19971" y="9271"/>
                  <a:pt x="19971" y="9281"/>
                  <a:pt x="20002" y="9271"/>
                </a:cubicBezTo>
              </a:path>
              <a:path w="6701" h="1906">
                <a:moveTo>
                  <a:pt x="20066" y="8954"/>
                </a:moveTo>
                <a:cubicBezTo>
                  <a:pt x="20089" y="8924"/>
                  <a:pt x="20150" y="8874"/>
                  <a:pt x="20161" y="8858"/>
                </a:cubicBezTo>
                <a:cubicBezTo>
                  <a:pt x="20180" y="8829"/>
                  <a:pt x="20240" y="8767"/>
                  <a:pt x="20256" y="8731"/>
                </a:cubicBezTo>
                <a:cubicBezTo>
                  <a:pt x="20282" y="8673"/>
                  <a:pt x="20250" y="8591"/>
                  <a:pt x="20225" y="8572"/>
                </a:cubicBezTo>
                <a:cubicBezTo>
                  <a:pt x="20214" y="8562"/>
                  <a:pt x="20204" y="8551"/>
                  <a:pt x="20193" y="8541"/>
                </a:cubicBezTo>
                <a:cubicBezTo>
                  <a:pt x="20174" y="8615"/>
                  <a:pt x="20114" y="8677"/>
                  <a:pt x="20098" y="8763"/>
                </a:cubicBezTo>
                <a:cubicBezTo>
                  <a:pt x="20078" y="8869"/>
                  <a:pt x="20096" y="8993"/>
                  <a:pt x="20130" y="9080"/>
                </a:cubicBezTo>
                <a:cubicBezTo>
                  <a:pt x="20180" y="9206"/>
                  <a:pt x="20175" y="9195"/>
                  <a:pt x="20288" y="9176"/>
                </a:cubicBezTo>
                <a:cubicBezTo>
                  <a:pt x="20358" y="9164"/>
                  <a:pt x="20373" y="9085"/>
                  <a:pt x="20384" y="9017"/>
                </a:cubicBezTo>
                <a:cubicBezTo>
                  <a:pt x="20384" y="8996"/>
                  <a:pt x="20384" y="8975"/>
                  <a:pt x="20384" y="8954"/>
                </a:cubicBezTo>
              </a:path>
              <a:path w="6701" h="1906">
                <a:moveTo>
                  <a:pt x="20384" y="8287"/>
                </a:moveTo>
                <a:cubicBezTo>
                  <a:pt x="20384" y="8367"/>
                  <a:pt x="20412" y="8425"/>
                  <a:pt x="20415" y="8509"/>
                </a:cubicBezTo>
                <a:cubicBezTo>
                  <a:pt x="20421" y="8656"/>
                  <a:pt x="20464" y="8783"/>
                  <a:pt x="20510" y="8922"/>
                </a:cubicBezTo>
                <a:cubicBezTo>
                  <a:pt x="20537" y="9004"/>
                  <a:pt x="20598" y="9092"/>
                  <a:pt x="20606" y="9176"/>
                </a:cubicBezTo>
                <a:cubicBezTo>
                  <a:pt x="20614" y="9255"/>
                  <a:pt x="20638" y="9185"/>
                  <a:pt x="20638" y="9144"/>
                </a:cubicBezTo>
              </a:path>
              <a:path w="6701" h="1906">
                <a:moveTo>
                  <a:pt x="20638" y="8192"/>
                </a:moveTo>
                <a:cubicBezTo>
                  <a:pt x="20657" y="8290"/>
                  <a:pt x="20669" y="8371"/>
                  <a:pt x="20669" y="8477"/>
                </a:cubicBezTo>
                <a:cubicBezTo>
                  <a:pt x="20669" y="8620"/>
                  <a:pt x="20686" y="8787"/>
                  <a:pt x="20733" y="8922"/>
                </a:cubicBezTo>
                <a:cubicBezTo>
                  <a:pt x="20759" y="8998"/>
                  <a:pt x="20749" y="9061"/>
                  <a:pt x="20828" y="9080"/>
                </a:cubicBezTo>
              </a:path>
              <a:path w="6701" h="1906">
                <a:moveTo>
                  <a:pt x="20923" y="8668"/>
                </a:moveTo>
                <a:cubicBezTo>
                  <a:pt x="20939" y="8619"/>
                  <a:pt x="20952" y="8631"/>
                  <a:pt x="20987" y="8604"/>
                </a:cubicBezTo>
                <a:cubicBezTo>
                  <a:pt x="21033" y="8569"/>
                  <a:pt x="21049" y="8565"/>
                  <a:pt x="21082" y="8541"/>
                </a:cubicBezTo>
                <a:cubicBezTo>
                  <a:pt x="21101" y="8527"/>
                  <a:pt x="21187" y="8446"/>
                  <a:pt x="21146" y="8414"/>
                </a:cubicBezTo>
                <a:cubicBezTo>
                  <a:pt x="21121" y="8394"/>
                  <a:pt x="21099" y="8355"/>
                  <a:pt x="21050" y="8350"/>
                </a:cubicBezTo>
                <a:cubicBezTo>
                  <a:pt x="20969" y="8341"/>
                  <a:pt x="20987" y="8459"/>
                  <a:pt x="20987" y="8509"/>
                </a:cubicBezTo>
                <a:cubicBezTo>
                  <a:pt x="20987" y="8620"/>
                  <a:pt x="20973" y="8725"/>
                  <a:pt x="21018" y="8826"/>
                </a:cubicBezTo>
                <a:cubicBezTo>
                  <a:pt x="21036" y="8868"/>
                  <a:pt x="21080" y="8959"/>
                  <a:pt x="21146" y="8922"/>
                </a:cubicBezTo>
                <a:cubicBezTo>
                  <a:pt x="21195" y="8895"/>
                  <a:pt x="21229" y="8869"/>
                  <a:pt x="21272" y="8826"/>
                </a:cubicBezTo>
                <a:cubicBezTo>
                  <a:pt x="21283" y="8816"/>
                  <a:pt x="21293" y="8805"/>
                  <a:pt x="21304" y="8795"/>
                </a:cubicBezTo>
              </a:path>
              <a:path w="6701" h="1906">
                <a:moveTo>
                  <a:pt x="22003" y="8192"/>
                </a:moveTo>
                <a:cubicBezTo>
                  <a:pt x="21964" y="8205"/>
                  <a:pt x="21950" y="8245"/>
                  <a:pt x="21908" y="8287"/>
                </a:cubicBezTo>
                <a:cubicBezTo>
                  <a:pt x="21844" y="8350"/>
                  <a:pt x="21834" y="8440"/>
                  <a:pt x="21780" y="8509"/>
                </a:cubicBezTo>
                <a:cubicBezTo>
                  <a:pt x="21698" y="8615"/>
                  <a:pt x="21665" y="8696"/>
                  <a:pt x="21622" y="8826"/>
                </a:cubicBezTo>
                <a:cubicBezTo>
                  <a:pt x="21584" y="8939"/>
                  <a:pt x="21563" y="9059"/>
                  <a:pt x="21558" y="9176"/>
                </a:cubicBezTo>
                <a:cubicBezTo>
                  <a:pt x="21554" y="9275"/>
                  <a:pt x="21555" y="9406"/>
                  <a:pt x="21590" y="9493"/>
                </a:cubicBezTo>
                <a:cubicBezTo>
                  <a:pt x="21616" y="9557"/>
                  <a:pt x="21672" y="9590"/>
                  <a:pt x="21717" y="9620"/>
                </a:cubicBezTo>
                <a:cubicBezTo>
                  <a:pt x="21770" y="9655"/>
                  <a:pt x="21744" y="9693"/>
                  <a:pt x="21812" y="9716"/>
                </a:cubicBezTo>
                <a:cubicBezTo>
                  <a:pt x="21864" y="9733"/>
                  <a:pt x="21844" y="9758"/>
                  <a:pt x="21844" y="9684"/>
                </a:cubicBezTo>
              </a:path>
              <a:path w="6701" h="1906">
                <a:moveTo>
                  <a:pt x="22066" y="8572"/>
                </a:moveTo>
                <a:cubicBezTo>
                  <a:pt x="22054" y="8622"/>
                  <a:pt x="22051" y="8679"/>
                  <a:pt x="22034" y="8731"/>
                </a:cubicBezTo>
                <a:cubicBezTo>
                  <a:pt x="22005" y="8821"/>
                  <a:pt x="22023" y="8895"/>
                  <a:pt x="22003" y="8985"/>
                </a:cubicBezTo>
                <a:cubicBezTo>
                  <a:pt x="21975" y="9114"/>
                  <a:pt x="21996" y="9148"/>
                  <a:pt x="22003" y="9271"/>
                </a:cubicBezTo>
                <a:cubicBezTo>
                  <a:pt x="22010" y="9401"/>
                  <a:pt x="22039" y="9311"/>
                  <a:pt x="22066" y="9398"/>
                </a:cubicBezTo>
                <a:cubicBezTo>
                  <a:pt x="22091" y="9479"/>
                  <a:pt x="22067" y="9493"/>
                  <a:pt x="22162" y="9493"/>
                </a:cubicBezTo>
                <a:cubicBezTo>
                  <a:pt x="22253" y="9493"/>
                  <a:pt x="22235" y="9469"/>
                  <a:pt x="22288" y="9398"/>
                </a:cubicBezTo>
                <a:cubicBezTo>
                  <a:pt x="22335" y="9335"/>
                  <a:pt x="22365" y="9375"/>
                  <a:pt x="22384" y="9271"/>
                </a:cubicBezTo>
                <a:cubicBezTo>
                  <a:pt x="22398" y="9191"/>
                  <a:pt x="22359" y="9126"/>
                  <a:pt x="22352" y="9049"/>
                </a:cubicBezTo>
                <a:cubicBezTo>
                  <a:pt x="22352" y="9017"/>
                  <a:pt x="22352" y="9006"/>
                  <a:pt x="22320" y="9017"/>
                </a:cubicBezTo>
                <a:cubicBezTo>
                  <a:pt x="22276" y="9032"/>
                  <a:pt x="22241" y="9036"/>
                  <a:pt x="22225" y="9080"/>
                </a:cubicBezTo>
                <a:cubicBezTo>
                  <a:pt x="22204" y="9139"/>
                  <a:pt x="22173" y="9248"/>
                  <a:pt x="22162" y="9303"/>
                </a:cubicBezTo>
                <a:cubicBezTo>
                  <a:pt x="22151" y="9360"/>
                  <a:pt x="22162" y="9435"/>
                  <a:pt x="22162" y="9493"/>
                </a:cubicBezTo>
              </a:path>
              <a:path w="6701" h="1906">
                <a:moveTo>
                  <a:pt x="22638" y="9398"/>
                </a:moveTo>
                <a:cubicBezTo>
                  <a:pt x="22638" y="9532"/>
                  <a:pt x="22646" y="9662"/>
                  <a:pt x="22670" y="9779"/>
                </a:cubicBezTo>
                <a:cubicBezTo>
                  <a:pt x="22685" y="9855"/>
                  <a:pt x="22670" y="9955"/>
                  <a:pt x="22670" y="10033"/>
                </a:cubicBezTo>
              </a:path>
              <a:path w="6701" h="1906">
                <a:moveTo>
                  <a:pt x="22733" y="8890"/>
                </a:moveTo>
                <a:cubicBezTo>
                  <a:pt x="22733" y="8879"/>
                  <a:pt x="22733" y="8869"/>
                  <a:pt x="22733" y="8858"/>
                </a:cubicBezTo>
                <a:cubicBezTo>
                  <a:pt x="22786" y="8858"/>
                  <a:pt x="22816" y="8844"/>
                  <a:pt x="22860" y="8826"/>
                </a:cubicBezTo>
                <a:cubicBezTo>
                  <a:pt x="22912" y="8801"/>
                  <a:pt x="22920" y="8790"/>
                  <a:pt x="22955" y="8795"/>
                </a:cubicBezTo>
              </a:path>
              <a:path w="6701" h="1906">
                <a:moveTo>
                  <a:pt x="23146" y="8477"/>
                </a:moveTo>
                <a:cubicBezTo>
                  <a:pt x="23163" y="8545"/>
                  <a:pt x="23178" y="8586"/>
                  <a:pt x="23178" y="8668"/>
                </a:cubicBezTo>
                <a:cubicBezTo>
                  <a:pt x="23178" y="8933"/>
                  <a:pt x="23178" y="9197"/>
                  <a:pt x="23178" y="9462"/>
                </a:cubicBezTo>
              </a:path>
              <a:path w="6701" h="1906">
                <a:moveTo>
                  <a:pt x="23368" y="8541"/>
                </a:moveTo>
                <a:cubicBezTo>
                  <a:pt x="23356" y="8623"/>
                  <a:pt x="23336" y="8672"/>
                  <a:pt x="23336" y="8763"/>
                </a:cubicBezTo>
                <a:cubicBezTo>
                  <a:pt x="23336" y="8814"/>
                  <a:pt x="23304" y="8832"/>
                  <a:pt x="23304" y="8890"/>
                </a:cubicBezTo>
                <a:cubicBezTo>
                  <a:pt x="23304" y="8942"/>
                  <a:pt x="23320" y="8906"/>
                  <a:pt x="23336" y="8954"/>
                </a:cubicBezTo>
                <a:cubicBezTo>
                  <a:pt x="23347" y="8943"/>
                  <a:pt x="23357" y="8933"/>
                  <a:pt x="23368" y="8922"/>
                </a:cubicBezTo>
                <a:cubicBezTo>
                  <a:pt x="23384" y="8970"/>
                  <a:pt x="23406" y="8954"/>
                  <a:pt x="23463" y="8954"/>
                </a:cubicBezTo>
                <a:cubicBezTo>
                  <a:pt x="23488" y="8954"/>
                  <a:pt x="23565" y="9016"/>
                  <a:pt x="23590" y="8985"/>
                </a:cubicBezTo>
                <a:cubicBezTo>
                  <a:pt x="23590" y="8975"/>
                  <a:pt x="23590" y="8964"/>
                  <a:pt x="23590" y="8954"/>
                </a:cubicBezTo>
              </a:path>
              <a:path w="6701" h="1906">
                <a:moveTo>
                  <a:pt x="23622" y="8446"/>
                </a:moveTo>
                <a:cubicBezTo>
                  <a:pt x="23576" y="8505"/>
                  <a:pt x="23590" y="8557"/>
                  <a:pt x="23590" y="8636"/>
                </a:cubicBezTo>
                <a:cubicBezTo>
                  <a:pt x="23590" y="8759"/>
                  <a:pt x="23616" y="8864"/>
                  <a:pt x="23622" y="8985"/>
                </a:cubicBezTo>
                <a:cubicBezTo>
                  <a:pt x="23627" y="9094"/>
                  <a:pt x="23654" y="9191"/>
                  <a:pt x="23654" y="9303"/>
                </a:cubicBezTo>
                <a:cubicBezTo>
                  <a:pt x="23654" y="9377"/>
                  <a:pt x="23654" y="9451"/>
                  <a:pt x="23654" y="9525"/>
                </a:cubicBezTo>
              </a:path>
              <a:path w="6701" h="1906">
                <a:moveTo>
                  <a:pt x="23654" y="8128"/>
                </a:moveTo>
                <a:cubicBezTo>
                  <a:pt x="23706" y="8232"/>
                  <a:pt x="23771" y="8307"/>
                  <a:pt x="23812" y="8414"/>
                </a:cubicBezTo>
                <a:cubicBezTo>
                  <a:pt x="23861" y="8541"/>
                  <a:pt x="23921" y="8693"/>
                  <a:pt x="23940" y="8826"/>
                </a:cubicBezTo>
                <a:cubicBezTo>
                  <a:pt x="23961" y="8970"/>
                  <a:pt x="23947" y="9134"/>
                  <a:pt x="23908" y="9271"/>
                </a:cubicBezTo>
                <a:cubicBezTo>
                  <a:pt x="23873" y="9393"/>
                  <a:pt x="23844" y="9540"/>
                  <a:pt x="23781" y="9652"/>
                </a:cubicBezTo>
                <a:cubicBezTo>
                  <a:pt x="23759" y="9692"/>
                  <a:pt x="23712" y="9738"/>
                  <a:pt x="23686" y="9747"/>
                </a:cubicBezTo>
              </a:path>
              <a:path w="6701" h="1906">
                <a:moveTo>
                  <a:pt x="24289" y="8192"/>
                </a:moveTo>
                <a:cubicBezTo>
                  <a:pt x="24273" y="8253"/>
                  <a:pt x="24220" y="8285"/>
                  <a:pt x="24194" y="8350"/>
                </a:cubicBezTo>
                <a:cubicBezTo>
                  <a:pt x="24127" y="8514"/>
                  <a:pt x="24072" y="8683"/>
                  <a:pt x="24066" y="8858"/>
                </a:cubicBezTo>
                <a:cubicBezTo>
                  <a:pt x="24061" y="9014"/>
                  <a:pt x="24064" y="9158"/>
                  <a:pt x="24098" y="9303"/>
                </a:cubicBezTo>
                <a:cubicBezTo>
                  <a:pt x="24110" y="9354"/>
                  <a:pt x="24188" y="9382"/>
                  <a:pt x="24194" y="9398"/>
                </a:cubicBezTo>
                <a:cubicBezTo>
                  <a:pt x="24194" y="9451"/>
                  <a:pt x="24183" y="9472"/>
                  <a:pt x="24225" y="9462"/>
                </a:cubicBezTo>
              </a:path>
              <a:path w="6701" h="1906">
                <a:moveTo>
                  <a:pt x="24384" y="8731"/>
                </a:moveTo>
                <a:cubicBezTo>
                  <a:pt x="24371" y="8770"/>
                  <a:pt x="24331" y="8774"/>
                  <a:pt x="24320" y="8826"/>
                </a:cubicBezTo>
                <a:cubicBezTo>
                  <a:pt x="24301" y="8912"/>
                  <a:pt x="24289" y="8983"/>
                  <a:pt x="24289" y="9080"/>
                </a:cubicBezTo>
                <a:cubicBezTo>
                  <a:pt x="24289" y="9174"/>
                  <a:pt x="24302" y="9205"/>
                  <a:pt x="24352" y="9271"/>
                </a:cubicBezTo>
                <a:cubicBezTo>
                  <a:pt x="24443" y="9271"/>
                  <a:pt x="24426" y="9247"/>
                  <a:pt x="24479" y="9176"/>
                </a:cubicBezTo>
                <a:cubicBezTo>
                  <a:pt x="24539" y="9095"/>
                  <a:pt x="24543" y="9055"/>
                  <a:pt x="24543" y="8954"/>
                </a:cubicBezTo>
                <a:cubicBezTo>
                  <a:pt x="24543" y="8844"/>
                  <a:pt x="24521" y="8787"/>
                  <a:pt x="24448" y="8731"/>
                </a:cubicBezTo>
                <a:cubicBezTo>
                  <a:pt x="24416" y="8700"/>
                  <a:pt x="24405" y="8690"/>
                  <a:pt x="24384" y="8731"/>
                </a:cubicBezTo>
              </a:path>
              <a:path w="6701" h="1906">
                <a:moveTo>
                  <a:pt x="24702" y="9080"/>
                </a:moveTo>
                <a:cubicBezTo>
                  <a:pt x="24702" y="9251"/>
                  <a:pt x="24689" y="9437"/>
                  <a:pt x="24733" y="9588"/>
                </a:cubicBezTo>
                <a:cubicBezTo>
                  <a:pt x="24733" y="9599"/>
                  <a:pt x="24733" y="9609"/>
                  <a:pt x="24733" y="9620"/>
                </a:cubicBezTo>
              </a:path>
              <a:path w="6701" h="1906">
                <a:moveTo>
                  <a:pt x="24892" y="8668"/>
                </a:moveTo>
                <a:cubicBezTo>
                  <a:pt x="24816" y="8744"/>
                  <a:pt x="24854" y="8762"/>
                  <a:pt x="24828" y="8858"/>
                </a:cubicBezTo>
                <a:cubicBezTo>
                  <a:pt x="24802" y="8954"/>
                  <a:pt x="24781" y="8992"/>
                  <a:pt x="24828" y="9080"/>
                </a:cubicBezTo>
                <a:cubicBezTo>
                  <a:pt x="24854" y="9132"/>
                  <a:pt x="24852" y="9154"/>
                  <a:pt x="24892" y="9144"/>
                </a:cubicBezTo>
                <a:cubicBezTo>
                  <a:pt x="24915" y="9133"/>
                  <a:pt x="25002" y="9082"/>
                  <a:pt x="25019" y="9049"/>
                </a:cubicBezTo>
                <a:cubicBezTo>
                  <a:pt x="25047" y="8992"/>
                  <a:pt x="25045" y="8954"/>
                  <a:pt x="25019" y="8890"/>
                </a:cubicBezTo>
                <a:cubicBezTo>
                  <a:pt x="24984" y="8804"/>
                  <a:pt x="24955" y="8772"/>
                  <a:pt x="24892" y="8731"/>
                </a:cubicBezTo>
                <a:cubicBezTo>
                  <a:pt x="24863" y="8703"/>
                  <a:pt x="24857" y="8693"/>
                  <a:pt x="24828" y="8700"/>
                </a:cubicBezTo>
              </a:path>
              <a:path w="6701" h="1906">
                <a:moveTo>
                  <a:pt x="24987" y="8287"/>
                </a:moveTo>
                <a:cubicBezTo>
                  <a:pt x="24961" y="8353"/>
                  <a:pt x="24983" y="8401"/>
                  <a:pt x="25019" y="8477"/>
                </a:cubicBezTo>
                <a:cubicBezTo>
                  <a:pt x="25064" y="8571"/>
                  <a:pt x="25109" y="8666"/>
                  <a:pt x="25146" y="8763"/>
                </a:cubicBezTo>
                <a:cubicBezTo>
                  <a:pt x="25196" y="8896"/>
                  <a:pt x="25159" y="8959"/>
                  <a:pt x="25146" y="9080"/>
                </a:cubicBezTo>
                <a:cubicBezTo>
                  <a:pt x="25133" y="9201"/>
                  <a:pt x="25123" y="9295"/>
                  <a:pt x="25082" y="9398"/>
                </a:cubicBezTo>
                <a:cubicBezTo>
                  <a:pt x="25051" y="9476"/>
                  <a:pt x="25025" y="9545"/>
                  <a:pt x="24987" y="96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Ink 10"/>
          <p:cNvSpPr/>
          <p:nvPr/>
        </p:nvSpPr>
        <p:spPr>
          <a:xfrm>
            <a:off x="663480" y="3475080"/>
            <a:ext cx="8205840" cy="1817640"/>
          </a:xfrm>
          <a:custGeom>
            <a:avLst/>
            <a:gdLst/>
            <a:ahLst/>
            <a:rect l="l" t="t" r="r" b="b"/>
            <a:pathLst>
              <a:path w="22797" h="5049">
                <a:moveTo>
                  <a:pt x="4191" y="9652"/>
                </a:moveTo>
                <a:cubicBezTo>
                  <a:pt x="4191" y="9899"/>
                  <a:pt x="4179" y="10146"/>
                  <a:pt x="4159" y="10382"/>
                </a:cubicBezTo>
                <a:cubicBezTo>
                  <a:pt x="4130" y="10715"/>
                  <a:pt x="4157" y="11073"/>
                  <a:pt x="4191" y="11398"/>
                </a:cubicBezTo>
                <a:cubicBezTo>
                  <a:pt x="4203" y="11515"/>
                  <a:pt x="4211" y="11634"/>
                  <a:pt x="4223" y="11748"/>
                </a:cubicBezTo>
                <a:cubicBezTo>
                  <a:pt x="4281" y="12303"/>
                  <a:pt x="4200" y="12876"/>
                  <a:pt x="4254" y="13430"/>
                </a:cubicBezTo>
                <a:cubicBezTo>
                  <a:pt x="4265" y="13547"/>
                  <a:pt x="4274" y="13666"/>
                  <a:pt x="4286" y="13780"/>
                </a:cubicBezTo>
                <a:cubicBezTo>
                  <a:pt x="4300" y="13912"/>
                  <a:pt x="4307" y="14077"/>
                  <a:pt x="4318" y="14192"/>
                </a:cubicBezTo>
                <a:cubicBezTo>
                  <a:pt x="4335" y="14371"/>
                  <a:pt x="4318" y="14848"/>
                  <a:pt x="4318" y="14668"/>
                </a:cubicBezTo>
                <a:cubicBezTo>
                  <a:pt x="4318" y="14626"/>
                  <a:pt x="4318" y="14605"/>
                  <a:pt x="4318" y="14573"/>
                </a:cubicBezTo>
              </a:path>
              <a:path w="22797" h="5049">
                <a:moveTo>
                  <a:pt x="1842" y="12097"/>
                </a:moveTo>
                <a:cubicBezTo>
                  <a:pt x="1880" y="12078"/>
                  <a:pt x="1890" y="12087"/>
                  <a:pt x="1937" y="12065"/>
                </a:cubicBezTo>
                <a:cubicBezTo>
                  <a:pt x="1959" y="12054"/>
                  <a:pt x="1979" y="12045"/>
                  <a:pt x="2032" y="12033"/>
                </a:cubicBezTo>
                <a:cubicBezTo>
                  <a:pt x="2087" y="12020"/>
                  <a:pt x="2133" y="12008"/>
                  <a:pt x="2191" y="12002"/>
                </a:cubicBezTo>
                <a:cubicBezTo>
                  <a:pt x="2248" y="11996"/>
                  <a:pt x="2309" y="11975"/>
                  <a:pt x="2350" y="11970"/>
                </a:cubicBezTo>
                <a:cubicBezTo>
                  <a:pt x="2491" y="11952"/>
                  <a:pt x="2668" y="11950"/>
                  <a:pt x="2794" y="11938"/>
                </a:cubicBezTo>
                <a:cubicBezTo>
                  <a:pt x="2868" y="11931"/>
                  <a:pt x="2948" y="11912"/>
                  <a:pt x="3016" y="11906"/>
                </a:cubicBezTo>
                <a:cubicBezTo>
                  <a:pt x="3106" y="11898"/>
                  <a:pt x="3183" y="11881"/>
                  <a:pt x="3270" y="11874"/>
                </a:cubicBezTo>
                <a:cubicBezTo>
                  <a:pt x="3360" y="11866"/>
                  <a:pt x="3436" y="11850"/>
                  <a:pt x="3524" y="11843"/>
                </a:cubicBezTo>
                <a:cubicBezTo>
                  <a:pt x="3615" y="11836"/>
                  <a:pt x="3690" y="11820"/>
                  <a:pt x="3778" y="11811"/>
                </a:cubicBezTo>
                <a:cubicBezTo>
                  <a:pt x="4321" y="11758"/>
                  <a:pt x="4929" y="11797"/>
                  <a:pt x="5461" y="11843"/>
                </a:cubicBezTo>
                <a:cubicBezTo>
                  <a:pt x="5550" y="11851"/>
                  <a:pt x="5647" y="11817"/>
                  <a:pt x="5715" y="11811"/>
                </a:cubicBezTo>
                <a:cubicBezTo>
                  <a:pt x="5827" y="11802"/>
                  <a:pt x="5940" y="11834"/>
                  <a:pt x="6032" y="11843"/>
                </a:cubicBezTo>
                <a:cubicBezTo>
                  <a:pt x="6158" y="11855"/>
                  <a:pt x="6303" y="11862"/>
                  <a:pt x="6414" y="11874"/>
                </a:cubicBezTo>
                <a:cubicBezTo>
                  <a:pt x="6486" y="11882"/>
                  <a:pt x="6563" y="11874"/>
                  <a:pt x="6636" y="11874"/>
                </a:cubicBezTo>
              </a:path>
              <a:path w="22797" h="5049">
                <a:moveTo>
                  <a:pt x="9970" y="11874"/>
                </a:moveTo>
                <a:cubicBezTo>
                  <a:pt x="10016" y="11863"/>
                  <a:pt x="10037" y="11845"/>
                  <a:pt x="10096" y="11843"/>
                </a:cubicBezTo>
                <a:cubicBezTo>
                  <a:pt x="10151" y="11841"/>
                  <a:pt x="10185" y="11870"/>
                  <a:pt x="10224" y="11874"/>
                </a:cubicBezTo>
                <a:cubicBezTo>
                  <a:pt x="10281" y="11880"/>
                  <a:pt x="10339" y="11900"/>
                  <a:pt x="10382" y="11906"/>
                </a:cubicBezTo>
                <a:cubicBezTo>
                  <a:pt x="10482" y="11921"/>
                  <a:pt x="10614" y="11928"/>
                  <a:pt x="10700" y="11938"/>
                </a:cubicBezTo>
                <a:cubicBezTo>
                  <a:pt x="10866" y="11957"/>
                  <a:pt x="11058" y="11953"/>
                  <a:pt x="11208" y="11970"/>
                </a:cubicBezTo>
                <a:cubicBezTo>
                  <a:pt x="11551" y="12008"/>
                  <a:pt x="11920" y="11973"/>
                  <a:pt x="12256" y="12002"/>
                </a:cubicBezTo>
                <a:cubicBezTo>
                  <a:pt x="12466" y="12020"/>
                  <a:pt x="12683" y="12015"/>
                  <a:pt x="12890" y="12033"/>
                </a:cubicBezTo>
                <a:cubicBezTo>
                  <a:pt x="12974" y="12040"/>
                  <a:pt x="13067" y="12059"/>
                  <a:pt x="13144" y="12065"/>
                </a:cubicBezTo>
                <a:cubicBezTo>
                  <a:pt x="13250" y="12074"/>
                  <a:pt x="13364" y="12089"/>
                  <a:pt x="13462" y="12097"/>
                </a:cubicBezTo>
                <a:cubicBezTo>
                  <a:pt x="13552" y="12105"/>
                  <a:pt x="13629" y="12122"/>
                  <a:pt x="13716" y="12128"/>
                </a:cubicBezTo>
                <a:cubicBezTo>
                  <a:pt x="13818" y="12135"/>
                  <a:pt x="13905" y="12140"/>
                  <a:pt x="14002" y="12160"/>
                </a:cubicBezTo>
                <a:cubicBezTo>
                  <a:pt x="14098" y="12179"/>
                  <a:pt x="14189" y="12190"/>
                  <a:pt x="14288" y="12192"/>
                </a:cubicBezTo>
                <a:cubicBezTo>
                  <a:pt x="14391" y="12195"/>
                  <a:pt x="14475" y="12216"/>
                  <a:pt x="14573" y="12224"/>
                </a:cubicBezTo>
                <a:cubicBezTo>
                  <a:pt x="14657" y="12231"/>
                  <a:pt x="14750" y="12250"/>
                  <a:pt x="14827" y="12256"/>
                </a:cubicBezTo>
                <a:cubicBezTo>
                  <a:pt x="14923" y="12264"/>
                  <a:pt x="14990" y="12264"/>
                  <a:pt x="15081" y="12287"/>
                </a:cubicBezTo>
                <a:cubicBezTo>
                  <a:pt x="15147" y="12304"/>
                  <a:pt x="15205" y="12300"/>
                  <a:pt x="15272" y="12319"/>
                </a:cubicBezTo>
                <a:cubicBezTo>
                  <a:pt x="15327" y="12334"/>
                  <a:pt x="15349" y="12291"/>
                  <a:pt x="15399" y="12319"/>
                </a:cubicBezTo>
                <a:cubicBezTo>
                  <a:pt x="15399" y="12330"/>
                  <a:pt x="15399" y="12340"/>
                  <a:pt x="15399" y="12351"/>
                </a:cubicBezTo>
              </a:path>
              <a:path w="22797" h="5049">
                <a:moveTo>
                  <a:pt x="18701" y="12224"/>
                </a:moveTo>
                <a:cubicBezTo>
                  <a:pt x="18713" y="12281"/>
                  <a:pt x="18728" y="12277"/>
                  <a:pt x="18732" y="12319"/>
                </a:cubicBezTo>
                <a:cubicBezTo>
                  <a:pt x="18745" y="12465"/>
                  <a:pt x="18732" y="12617"/>
                  <a:pt x="18732" y="12764"/>
                </a:cubicBezTo>
                <a:cubicBezTo>
                  <a:pt x="18855" y="12764"/>
                  <a:pt x="18968" y="12742"/>
                  <a:pt x="19082" y="12732"/>
                </a:cubicBezTo>
                <a:cubicBezTo>
                  <a:pt x="19249" y="12717"/>
                  <a:pt x="19431" y="12713"/>
                  <a:pt x="19590" y="12700"/>
                </a:cubicBezTo>
                <a:cubicBezTo>
                  <a:pt x="19758" y="12687"/>
                  <a:pt x="19938" y="12681"/>
                  <a:pt x="20098" y="12668"/>
                </a:cubicBezTo>
                <a:cubicBezTo>
                  <a:pt x="20296" y="12651"/>
                  <a:pt x="20511" y="12649"/>
                  <a:pt x="20701" y="12636"/>
                </a:cubicBezTo>
                <a:cubicBezTo>
                  <a:pt x="20817" y="12628"/>
                  <a:pt x="20942" y="12613"/>
                  <a:pt x="21050" y="12605"/>
                </a:cubicBezTo>
                <a:cubicBezTo>
                  <a:pt x="21155" y="12598"/>
                  <a:pt x="21272" y="12579"/>
                  <a:pt x="21368" y="12573"/>
                </a:cubicBezTo>
                <a:cubicBezTo>
                  <a:pt x="21477" y="12566"/>
                  <a:pt x="21578" y="12547"/>
                  <a:pt x="21685" y="12541"/>
                </a:cubicBezTo>
                <a:cubicBezTo>
                  <a:pt x="21821" y="12533"/>
                  <a:pt x="21970" y="12517"/>
                  <a:pt x="22098" y="12510"/>
                </a:cubicBezTo>
                <a:cubicBezTo>
                  <a:pt x="22625" y="12479"/>
                  <a:pt x="23168" y="12513"/>
                  <a:pt x="23686" y="12478"/>
                </a:cubicBezTo>
                <a:cubicBezTo>
                  <a:pt x="23800" y="12470"/>
                  <a:pt x="23892" y="12454"/>
                  <a:pt x="24003" y="12446"/>
                </a:cubicBezTo>
                <a:cubicBezTo>
                  <a:pt x="24136" y="12436"/>
                  <a:pt x="24272" y="12468"/>
                  <a:pt x="24384" y="12478"/>
                </a:cubicBezTo>
                <a:cubicBezTo>
                  <a:pt x="24447" y="12484"/>
                  <a:pt x="24511" y="12474"/>
                  <a:pt x="24574" y="12478"/>
                </a:cubicBezTo>
                <a:cubicBezTo>
                  <a:pt x="24579" y="12404"/>
                  <a:pt x="24601" y="12313"/>
                  <a:pt x="24606" y="12256"/>
                </a:cubicBezTo>
                <a:cubicBezTo>
                  <a:pt x="24611" y="12198"/>
                  <a:pt x="24633" y="12138"/>
                  <a:pt x="24638" y="12097"/>
                </a:cubicBezTo>
                <a:cubicBezTo>
                  <a:pt x="24638" y="12055"/>
                  <a:pt x="24638" y="12034"/>
                  <a:pt x="24638" y="120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Ink 11"/>
          <p:cNvSpPr/>
          <p:nvPr/>
        </p:nvSpPr>
        <p:spPr>
          <a:xfrm>
            <a:off x="1463760" y="4114800"/>
            <a:ext cx="1222200" cy="1771560"/>
          </a:xfrm>
          <a:custGeom>
            <a:avLst/>
            <a:gdLst/>
            <a:ahLst/>
            <a:rect l="l" t="t" r="r" b="b"/>
            <a:pathLst>
              <a:path w="3398" h="4922">
                <a:moveTo>
                  <a:pt x="7112" y="11430"/>
                </a:moveTo>
                <a:cubicBezTo>
                  <a:pt x="7095" y="11482"/>
                  <a:pt x="7050" y="11462"/>
                  <a:pt x="6985" y="11462"/>
                </a:cubicBezTo>
                <a:cubicBezTo>
                  <a:pt x="6921" y="11462"/>
                  <a:pt x="6858" y="11462"/>
                  <a:pt x="6794" y="11462"/>
                </a:cubicBezTo>
                <a:cubicBezTo>
                  <a:pt x="6794" y="11533"/>
                  <a:pt x="6782" y="11562"/>
                  <a:pt x="6763" y="11620"/>
                </a:cubicBezTo>
                <a:cubicBezTo>
                  <a:pt x="6737" y="11701"/>
                  <a:pt x="6773" y="11810"/>
                  <a:pt x="6794" y="11874"/>
                </a:cubicBezTo>
                <a:cubicBezTo>
                  <a:pt x="6810" y="11925"/>
                  <a:pt x="6790" y="11972"/>
                  <a:pt x="6858" y="12002"/>
                </a:cubicBezTo>
                <a:cubicBezTo>
                  <a:pt x="6892" y="12017"/>
                  <a:pt x="6954" y="12016"/>
                  <a:pt x="6985" y="12033"/>
                </a:cubicBezTo>
                <a:cubicBezTo>
                  <a:pt x="7039" y="12063"/>
                  <a:pt x="7055" y="12070"/>
                  <a:pt x="7112" y="12033"/>
                </a:cubicBezTo>
                <a:cubicBezTo>
                  <a:pt x="7141" y="12005"/>
                  <a:pt x="7152" y="11999"/>
                  <a:pt x="7144" y="11970"/>
                </a:cubicBezTo>
              </a:path>
              <a:path w="3398" h="4922">
                <a:moveTo>
                  <a:pt x="6731" y="11684"/>
                </a:moveTo>
                <a:cubicBezTo>
                  <a:pt x="6826" y="11684"/>
                  <a:pt x="6905" y="11700"/>
                  <a:pt x="6985" y="11716"/>
                </a:cubicBezTo>
                <a:cubicBezTo>
                  <a:pt x="7006" y="11716"/>
                  <a:pt x="7027" y="11716"/>
                  <a:pt x="7048" y="11716"/>
                </a:cubicBezTo>
              </a:path>
              <a:path w="3398" h="4922">
                <a:moveTo>
                  <a:pt x="4477" y="15589"/>
                </a:moveTo>
                <a:cubicBezTo>
                  <a:pt x="4477" y="15503"/>
                  <a:pt x="4492" y="15557"/>
                  <a:pt x="4477" y="15494"/>
                </a:cubicBezTo>
                <a:cubicBezTo>
                  <a:pt x="4464" y="15442"/>
                  <a:pt x="4441" y="15405"/>
                  <a:pt x="4382" y="15399"/>
                </a:cubicBezTo>
                <a:cubicBezTo>
                  <a:pt x="4351" y="15396"/>
                  <a:pt x="4317" y="15399"/>
                  <a:pt x="4286" y="15399"/>
                </a:cubicBezTo>
                <a:cubicBezTo>
                  <a:pt x="4286" y="15493"/>
                  <a:pt x="4302" y="15566"/>
                  <a:pt x="4318" y="15653"/>
                </a:cubicBezTo>
                <a:cubicBezTo>
                  <a:pt x="4336" y="15751"/>
                  <a:pt x="4396" y="15851"/>
                  <a:pt x="4413" y="15938"/>
                </a:cubicBezTo>
                <a:cubicBezTo>
                  <a:pt x="4420" y="15974"/>
                  <a:pt x="4413" y="16027"/>
                  <a:pt x="4413" y="16066"/>
                </a:cubicBezTo>
                <a:cubicBezTo>
                  <a:pt x="4348" y="16066"/>
                  <a:pt x="4303" y="16078"/>
                  <a:pt x="4254" y="16034"/>
                </a:cubicBezTo>
                <a:cubicBezTo>
                  <a:pt x="4213" y="15997"/>
                  <a:pt x="4202" y="15951"/>
                  <a:pt x="4159" y="15907"/>
                </a:cubicBezTo>
                <a:cubicBezTo>
                  <a:pt x="4113" y="15861"/>
                  <a:pt x="4082" y="15881"/>
                  <a:pt x="4064" y="15812"/>
                </a:cubicBezTo>
              </a:path>
              <a:path w="3398" h="4922">
                <a:moveTo>
                  <a:pt x="6032" y="15113"/>
                </a:moveTo>
                <a:cubicBezTo>
                  <a:pt x="5977" y="15127"/>
                  <a:pt x="5936" y="15174"/>
                  <a:pt x="5969" y="15240"/>
                </a:cubicBezTo>
                <a:cubicBezTo>
                  <a:pt x="6005" y="15313"/>
                  <a:pt x="6069" y="15250"/>
                  <a:pt x="6096" y="15208"/>
                </a:cubicBezTo>
                <a:cubicBezTo>
                  <a:pt x="6142" y="15137"/>
                  <a:pt x="6137" y="15136"/>
                  <a:pt x="6096" y="15081"/>
                </a:cubicBezTo>
                <a:cubicBezTo>
                  <a:pt x="6039" y="15081"/>
                  <a:pt x="6006" y="15078"/>
                  <a:pt x="6001" y="15145"/>
                </a:cubicBezTo>
                <a:cubicBezTo>
                  <a:pt x="6001" y="15202"/>
                  <a:pt x="5997" y="15218"/>
                  <a:pt x="6032" y="15240"/>
                </a:cubicBezTo>
                <a:cubicBezTo>
                  <a:pt x="6109" y="15221"/>
                  <a:pt x="6096" y="15190"/>
                  <a:pt x="6096" y="15113"/>
                </a:cubicBezTo>
                <a:cubicBezTo>
                  <a:pt x="6096" y="15102"/>
                  <a:pt x="6096" y="15092"/>
                  <a:pt x="6096" y="15081"/>
                </a:cubicBezTo>
                <a:cubicBezTo>
                  <a:pt x="6050" y="15081"/>
                  <a:pt x="5985" y="15088"/>
                  <a:pt x="5969" y="15145"/>
                </a:cubicBezTo>
                <a:cubicBezTo>
                  <a:pt x="5959" y="15179"/>
                  <a:pt x="5997" y="15258"/>
                  <a:pt x="6032" y="15240"/>
                </a:cubicBezTo>
                <a:cubicBezTo>
                  <a:pt x="6067" y="15222"/>
                  <a:pt x="6146" y="15162"/>
                  <a:pt x="6096" y="15113"/>
                </a:cubicBezTo>
                <a:cubicBezTo>
                  <a:pt x="6078" y="15095"/>
                  <a:pt x="5988" y="15101"/>
                  <a:pt x="6001" y="15145"/>
                </a:cubicBezTo>
                <a:cubicBezTo>
                  <a:pt x="6034" y="15254"/>
                  <a:pt x="6084" y="15216"/>
                  <a:pt x="6096" y="15145"/>
                </a:cubicBezTo>
                <a:cubicBezTo>
                  <a:pt x="6173" y="15119"/>
                  <a:pt x="6105" y="15131"/>
                  <a:pt x="6064" y="15145"/>
                </a:cubicBezTo>
                <a:cubicBezTo>
                  <a:pt x="6032" y="15145"/>
                  <a:pt x="6021" y="15145"/>
                  <a:pt x="6064" y="15145"/>
                </a:cubicBezTo>
              </a:path>
              <a:path w="3398" h="4922">
                <a:moveTo>
                  <a:pt x="5493" y="15494"/>
                </a:moveTo>
                <a:cubicBezTo>
                  <a:pt x="5493" y="15668"/>
                  <a:pt x="5484" y="15838"/>
                  <a:pt x="5524" y="16002"/>
                </a:cubicBezTo>
                <a:cubicBezTo>
                  <a:pt x="5524" y="16013"/>
                  <a:pt x="5524" y="16023"/>
                  <a:pt x="5524" y="16034"/>
                </a:cubicBezTo>
              </a:path>
              <a:path w="3398" h="4922">
                <a:moveTo>
                  <a:pt x="5461" y="15430"/>
                </a:moveTo>
                <a:cubicBezTo>
                  <a:pt x="5491" y="15440"/>
                  <a:pt x="5559" y="15516"/>
                  <a:pt x="5588" y="15558"/>
                </a:cubicBezTo>
                <a:cubicBezTo>
                  <a:pt x="5637" y="15627"/>
                  <a:pt x="5676" y="15703"/>
                  <a:pt x="5715" y="15780"/>
                </a:cubicBezTo>
                <a:cubicBezTo>
                  <a:pt x="5746" y="15841"/>
                  <a:pt x="5775" y="15900"/>
                  <a:pt x="5683" y="15907"/>
                </a:cubicBezTo>
                <a:cubicBezTo>
                  <a:pt x="5602" y="15913"/>
                  <a:pt x="5570" y="15862"/>
                  <a:pt x="5493" y="15843"/>
                </a:cubicBezTo>
                <a:cubicBezTo>
                  <a:pt x="5461" y="15843"/>
                  <a:pt x="5450" y="15843"/>
                  <a:pt x="5429" y="15843"/>
                </a:cubicBezTo>
              </a:path>
              <a:path w="3398" h="4922">
                <a:moveTo>
                  <a:pt x="6001" y="15907"/>
                </a:moveTo>
                <a:cubicBezTo>
                  <a:pt x="6016" y="15843"/>
                  <a:pt x="6053" y="15839"/>
                  <a:pt x="6001" y="15780"/>
                </a:cubicBezTo>
                <a:cubicBezTo>
                  <a:pt x="5956" y="15729"/>
                  <a:pt x="5919" y="15740"/>
                  <a:pt x="5874" y="15780"/>
                </a:cubicBezTo>
                <a:cubicBezTo>
                  <a:pt x="5815" y="15833"/>
                  <a:pt x="5784" y="15898"/>
                  <a:pt x="5778" y="15970"/>
                </a:cubicBezTo>
                <a:cubicBezTo>
                  <a:pt x="5773" y="16024"/>
                  <a:pt x="5779" y="16024"/>
                  <a:pt x="5810" y="16066"/>
                </a:cubicBezTo>
                <a:cubicBezTo>
                  <a:pt x="5838" y="16059"/>
                  <a:pt x="5926" y="16037"/>
                  <a:pt x="5937" y="16002"/>
                </a:cubicBezTo>
                <a:cubicBezTo>
                  <a:pt x="5954" y="15947"/>
                  <a:pt x="5969" y="15785"/>
                  <a:pt x="5969" y="15843"/>
                </a:cubicBezTo>
                <a:cubicBezTo>
                  <a:pt x="5969" y="15894"/>
                  <a:pt x="5937" y="15913"/>
                  <a:pt x="5937" y="15970"/>
                </a:cubicBezTo>
                <a:cubicBezTo>
                  <a:pt x="5937" y="15981"/>
                  <a:pt x="5937" y="15991"/>
                  <a:pt x="5937" y="16002"/>
                </a:cubicBezTo>
              </a:path>
              <a:path w="3398" h="4922">
                <a:moveTo>
                  <a:pt x="6128" y="15748"/>
                </a:moveTo>
                <a:cubicBezTo>
                  <a:pt x="6128" y="15853"/>
                  <a:pt x="6121" y="15935"/>
                  <a:pt x="6096" y="16034"/>
                </a:cubicBezTo>
                <a:cubicBezTo>
                  <a:pt x="6077" y="16112"/>
                  <a:pt x="6119" y="15960"/>
                  <a:pt x="6128" y="15938"/>
                </a:cubicBezTo>
                <a:cubicBezTo>
                  <a:pt x="6148" y="15889"/>
                  <a:pt x="6167" y="15805"/>
                  <a:pt x="6223" y="15780"/>
                </a:cubicBezTo>
                <a:cubicBezTo>
                  <a:pt x="6269" y="15760"/>
                  <a:pt x="6310" y="15805"/>
                  <a:pt x="6318" y="15843"/>
                </a:cubicBezTo>
                <a:cubicBezTo>
                  <a:pt x="6332" y="15907"/>
                  <a:pt x="6286" y="15962"/>
                  <a:pt x="6286" y="16034"/>
                </a:cubicBezTo>
                <a:cubicBezTo>
                  <a:pt x="6286" y="16045"/>
                  <a:pt x="6286" y="16055"/>
                  <a:pt x="6286" y="16066"/>
                </a:cubicBezTo>
              </a:path>
              <a:path w="3398" h="4922">
                <a:moveTo>
                  <a:pt x="6509" y="15684"/>
                </a:moveTo>
                <a:cubicBezTo>
                  <a:pt x="6509" y="15728"/>
                  <a:pt x="6475" y="15828"/>
                  <a:pt x="6477" y="15843"/>
                </a:cubicBezTo>
                <a:cubicBezTo>
                  <a:pt x="6486" y="15913"/>
                  <a:pt x="6509" y="15956"/>
                  <a:pt x="6509" y="16034"/>
                </a:cubicBezTo>
                <a:cubicBezTo>
                  <a:pt x="6509" y="16066"/>
                  <a:pt x="6509" y="16076"/>
                  <a:pt x="6509" y="16097"/>
                </a:cubicBezTo>
              </a:path>
              <a:path w="3398" h="4922">
                <a:moveTo>
                  <a:pt x="6604" y="15970"/>
                </a:moveTo>
                <a:cubicBezTo>
                  <a:pt x="6637" y="15945"/>
                  <a:pt x="6745" y="15934"/>
                  <a:pt x="6763" y="15907"/>
                </a:cubicBezTo>
                <a:cubicBezTo>
                  <a:pt x="6779" y="15883"/>
                  <a:pt x="6812" y="15853"/>
                  <a:pt x="6826" y="15812"/>
                </a:cubicBezTo>
                <a:cubicBezTo>
                  <a:pt x="6826" y="15801"/>
                  <a:pt x="6826" y="15791"/>
                  <a:pt x="6826" y="15780"/>
                </a:cubicBezTo>
                <a:cubicBezTo>
                  <a:pt x="6791" y="15789"/>
                  <a:pt x="6712" y="15831"/>
                  <a:pt x="6699" y="15875"/>
                </a:cubicBezTo>
                <a:cubicBezTo>
                  <a:pt x="6680" y="15940"/>
                  <a:pt x="6668" y="15994"/>
                  <a:pt x="6668" y="16066"/>
                </a:cubicBezTo>
                <a:cubicBezTo>
                  <a:pt x="6668" y="16076"/>
                  <a:pt x="6668" y="16087"/>
                  <a:pt x="6668" y="16097"/>
                </a:cubicBezTo>
                <a:cubicBezTo>
                  <a:pt x="6732" y="16097"/>
                  <a:pt x="6777" y="16109"/>
                  <a:pt x="6826" y="16066"/>
                </a:cubicBezTo>
                <a:cubicBezTo>
                  <a:pt x="6837" y="16055"/>
                  <a:pt x="6847" y="16045"/>
                  <a:pt x="6858" y="16034"/>
                </a:cubicBezTo>
              </a:path>
              <a:path w="3398" h="4922">
                <a:moveTo>
                  <a:pt x="7017" y="15653"/>
                </a:moveTo>
                <a:cubicBezTo>
                  <a:pt x="7002" y="15710"/>
                  <a:pt x="6985" y="15743"/>
                  <a:pt x="6985" y="15812"/>
                </a:cubicBezTo>
                <a:cubicBezTo>
                  <a:pt x="6985" y="15906"/>
                  <a:pt x="6960" y="15976"/>
                  <a:pt x="6953" y="16066"/>
                </a:cubicBezTo>
                <a:cubicBezTo>
                  <a:pt x="6952" y="16079"/>
                  <a:pt x="6949" y="16239"/>
                  <a:pt x="6985" y="16192"/>
                </a:cubicBezTo>
                <a:cubicBezTo>
                  <a:pt x="6985" y="16182"/>
                  <a:pt x="6985" y="16171"/>
                  <a:pt x="6985" y="16161"/>
                </a:cubicBezTo>
              </a:path>
              <a:path w="3398" h="4922">
                <a:moveTo>
                  <a:pt x="7176" y="15653"/>
                </a:moveTo>
                <a:cubicBezTo>
                  <a:pt x="7176" y="15714"/>
                  <a:pt x="7148" y="15754"/>
                  <a:pt x="7144" y="15812"/>
                </a:cubicBezTo>
                <a:cubicBezTo>
                  <a:pt x="7139" y="15881"/>
                  <a:pt x="7101" y="16186"/>
                  <a:pt x="7176" y="16224"/>
                </a:cubicBezTo>
                <a:cubicBezTo>
                  <a:pt x="7218" y="16245"/>
                  <a:pt x="7307" y="16226"/>
                  <a:pt x="7334" y="16192"/>
                </a:cubicBezTo>
                <a:cubicBezTo>
                  <a:pt x="7370" y="16145"/>
                  <a:pt x="7440" y="16055"/>
                  <a:pt x="7461" y="16002"/>
                </a:cubicBezTo>
                <a:cubicBezTo>
                  <a:pt x="7484" y="15944"/>
                  <a:pt x="7438" y="15923"/>
                  <a:pt x="7430" y="15907"/>
                </a:cubicBezTo>
                <a:cubicBezTo>
                  <a:pt x="7430" y="15896"/>
                  <a:pt x="7430" y="15886"/>
                  <a:pt x="7430" y="15875"/>
                </a:cubicBezTo>
                <a:cubicBezTo>
                  <a:pt x="7377" y="15941"/>
                  <a:pt x="7339" y="15984"/>
                  <a:pt x="7334" y="16066"/>
                </a:cubicBezTo>
                <a:cubicBezTo>
                  <a:pt x="7329" y="16145"/>
                  <a:pt x="7318" y="16228"/>
                  <a:pt x="7366" y="16288"/>
                </a:cubicBezTo>
                <a:cubicBezTo>
                  <a:pt x="7398" y="16320"/>
                  <a:pt x="7408" y="16330"/>
                  <a:pt x="7430" y="16351"/>
                </a:cubicBezTo>
              </a:path>
              <a:path w="3398" h="4922">
                <a:moveTo>
                  <a:pt x="5715" y="13621"/>
                </a:moveTo>
                <a:cubicBezTo>
                  <a:pt x="5648" y="13621"/>
                  <a:pt x="5636" y="13636"/>
                  <a:pt x="5588" y="13684"/>
                </a:cubicBezTo>
                <a:cubicBezTo>
                  <a:pt x="5530" y="13741"/>
                  <a:pt x="5527" y="13770"/>
                  <a:pt x="5493" y="13843"/>
                </a:cubicBezTo>
                <a:cubicBezTo>
                  <a:pt x="5446" y="13943"/>
                  <a:pt x="5450" y="14002"/>
                  <a:pt x="5461" y="14097"/>
                </a:cubicBezTo>
                <a:cubicBezTo>
                  <a:pt x="5470" y="14177"/>
                  <a:pt x="5481" y="14280"/>
                  <a:pt x="5524" y="14351"/>
                </a:cubicBezTo>
                <a:cubicBezTo>
                  <a:pt x="5553" y="14398"/>
                  <a:pt x="5607" y="14421"/>
                  <a:pt x="5652" y="14446"/>
                </a:cubicBezTo>
              </a:path>
              <a:path w="3398" h="4922">
                <a:moveTo>
                  <a:pt x="6953" y="13938"/>
                </a:moveTo>
                <a:cubicBezTo>
                  <a:pt x="6964" y="13984"/>
                  <a:pt x="7008" y="14024"/>
                  <a:pt x="7017" y="14065"/>
                </a:cubicBezTo>
                <a:cubicBezTo>
                  <a:pt x="7033" y="14141"/>
                  <a:pt x="7067" y="14209"/>
                  <a:pt x="7080" y="14288"/>
                </a:cubicBezTo>
                <a:cubicBezTo>
                  <a:pt x="7093" y="14366"/>
                  <a:pt x="7071" y="14472"/>
                  <a:pt x="7048" y="14542"/>
                </a:cubicBezTo>
                <a:cubicBezTo>
                  <a:pt x="7024" y="14615"/>
                  <a:pt x="6967" y="14703"/>
                  <a:pt x="6922" y="14764"/>
                </a:cubicBezTo>
                <a:cubicBezTo>
                  <a:pt x="6880" y="14821"/>
                  <a:pt x="6882" y="14817"/>
                  <a:pt x="6826" y="14859"/>
                </a:cubicBezTo>
              </a:path>
              <a:path w="3398" h="4922">
                <a:moveTo>
                  <a:pt x="6350" y="14605"/>
                </a:moveTo>
                <a:cubicBezTo>
                  <a:pt x="6339" y="14662"/>
                  <a:pt x="6318" y="14704"/>
                  <a:pt x="6318" y="14764"/>
                </a:cubicBezTo>
                <a:cubicBezTo>
                  <a:pt x="6318" y="14840"/>
                  <a:pt x="6305" y="14840"/>
                  <a:pt x="6255" y="14891"/>
                </a:cubicBezTo>
              </a:path>
              <a:path w="3398" h="4922">
                <a:moveTo>
                  <a:pt x="5874" y="13811"/>
                </a:moveTo>
                <a:cubicBezTo>
                  <a:pt x="5831" y="13854"/>
                  <a:pt x="5805" y="13896"/>
                  <a:pt x="5778" y="13938"/>
                </a:cubicBezTo>
                <a:cubicBezTo>
                  <a:pt x="5747" y="13986"/>
                  <a:pt x="5738" y="14024"/>
                  <a:pt x="5715" y="14065"/>
                </a:cubicBezTo>
                <a:cubicBezTo>
                  <a:pt x="5671" y="14143"/>
                  <a:pt x="5706" y="14111"/>
                  <a:pt x="5715" y="14192"/>
                </a:cubicBezTo>
                <a:cubicBezTo>
                  <a:pt x="5721" y="14247"/>
                  <a:pt x="5762" y="14271"/>
                  <a:pt x="5778" y="14319"/>
                </a:cubicBezTo>
                <a:cubicBezTo>
                  <a:pt x="5791" y="14360"/>
                  <a:pt x="5802" y="14370"/>
                  <a:pt x="5842" y="14383"/>
                </a:cubicBezTo>
                <a:cubicBezTo>
                  <a:pt x="5879" y="14355"/>
                  <a:pt x="5947" y="14338"/>
                  <a:pt x="5969" y="14288"/>
                </a:cubicBezTo>
                <a:cubicBezTo>
                  <a:pt x="5989" y="14244"/>
                  <a:pt x="6001" y="14258"/>
                  <a:pt x="6001" y="14192"/>
                </a:cubicBezTo>
                <a:cubicBezTo>
                  <a:pt x="6001" y="14160"/>
                  <a:pt x="6001" y="14150"/>
                  <a:pt x="6001" y="14129"/>
                </a:cubicBezTo>
                <a:cubicBezTo>
                  <a:pt x="5931" y="14129"/>
                  <a:pt x="5905" y="14145"/>
                  <a:pt x="5874" y="14160"/>
                </a:cubicBezTo>
                <a:cubicBezTo>
                  <a:pt x="5830" y="14181"/>
                  <a:pt x="5796" y="14201"/>
                  <a:pt x="5778" y="14256"/>
                </a:cubicBezTo>
                <a:cubicBezTo>
                  <a:pt x="5778" y="14267"/>
                  <a:pt x="5778" y="14277"/>
                  <a:pt x="5778" y="14288"/>
                </a:cubicBezTo>
              </a:path>
              <a:path w="3398" h="4922">
                <a:moveTo>
                  <a:pt x="6286" y="14034"/>
                </a:moveTo>
                <a:cubicBezTo>
                  <a:pt x="6297" y="14034"/>
                  <a:pt x="6307" y="14034"/>
                  <a:pt x="6318" y="14034"/>
                </a:cubicBezTo>
                <a:cubicBezTo>
                  <a:pt x="6328" y="14062"/>
                  <a:pt x="6374" y="14083"/>
                  <a:pt x="6414" y="14097"/>
                </a:cubicBezTo>
                <a:cubicBezTo>
                  <a:pt x="6445" y="14097"/>
                  <a:pt x="6456" y="14097"/>
                  <a:pt x="6477" y="14097"/>
                </a:cubicBezTo>
              </a:path>
              <a:path w="3398" h="4922">
                <a:moveTo>
                  <a:pt x="6604" y="13906"/>
                </a:moveTo>
                <a:cubicBezTo>
                  <a:pt x="6594" y="13945"/>
                  <a:pt x="6588" y="14027"/>
                  <a:pt x="6572" y="14065"/>
                </a:cubicBezTo>
                <a:cubicBezTo>
                  <a:pt x="6552" y="14112"/>
                  <a:pt x="6518" y="14175"/>
                  <a:pt x="6509" y="14224"/>
                </a:cubicBezTo>
                <a:cubicBezTo>
                  <a:pt x="6497" y="14287"/>
                  <a:pt x="6477" y="14319"/>
                  <a:pt x="6477" y="14383"/>
                </a:cubicBezTo>
                <a:cubicBezTo>
                  <a:pt x="6477" y="14450"/>
                  <a:pt x="6459" y="14455"/>
                  <a:pt x="6445" y="14510"/>
                </a:cubicBezTo>
              </a:path>
              <a:path w="3398" h="4922">
                <a:moveTo>
                  <a:pt x="6699" y="14034"/>
                </a:moveTo>
                <a:cubicBezTo>
                  <a:pt x="6710" y="14034"/>
                  <a:pt x="6720" y="14034"/>
                  <a:pt x="6731" y="14034"/>
                </a:cubicBezTo>
                <a:cubicBezTo>
                  <a:pt x="6715" y="14081"/>
                  <a:pt x="6699" y="14060"/>
                  <a:pt x="6699" y="14129"/>
                </a:cubicBezTo>
                <a:cubicBezTo>
                  <a:pt x="6699" y="14179"/>
                  <a:pt x="6668" y="14199"/>
                  <a:pt x="6668" y="14256"/>
                </a:cubicBezTo>
                <a:cubicBezTo>
                  <a:pt x="6668" y="14288"/>
                  <a:pt x="6668" y="14298"/>
                  <a:pt x="6668" y="14319"/>
                </a:cubicBezTo>
                <a:cubicBezTo>
                  <a:pt x="6726" y="14319"/>
                  <a:pt x="6743" y="14345"/>
                  <a:pt x="6794" y="14351"/>
                </a:cubicBezTo>
                <a:cubicBezTo>
                  <a:pt x="6830" y="14351"/>
                  <a:pt x="6844" y="14348"/>
                  <a:pt x="6858" y="14319"/>
                </a:cubicBezTo>
              </a:path>
              <a:path w="3398" h="4922">
                <a:moveTo>
                  <a:pt x="6826" y="13970"/>
                </a:moveTo>
                <a:cubicBezTo>
                  <a:pt x="6826" y="14033"/>
                  <a:pt x="6804" y="14080"/>
                  <a:pt x="6794" y="14129"/>
                </a:cubicBezTo>
                <a:cubicBezTo>
                  <a:pt x="6778" y="14208"/>
                  <a:pt x="6766" y="14304"/>
                  <a:pt x="6763" y="14383"/>
                </a:cubicBezTo>
                <a:cubicBezTo>
                  <a:pt x="6758" y="14496"/>
                  <a:pt x="6731" y="14583"/>
                  <a:pt x="6731" y="14700"/>
                </a:cubicBezTo>
                <a:cubicBezTo>
                  <a:pt x="6731" y="14721"/>
                  <a:pt x="6731" y="14743"/>
                  <a:pt x="6731" y="147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Ink 12"/>
          <p:cNvSpPr/>
          <p:nvPr/>
        </p:nvSpPr>
        <p:spPr>
          <a:xfrm>
            <a:off x="3132000" y="3668760"/>
            <a:ext cx="2411640" cy="571320"/>
          </a:xfrm>
          <a:custGeom>
            <a:avLst/>
            <a:gdLst/>
            <a:ahLst/>
            <a:rect l="l" t="t" r="r" b="b"/>
            <a:pathLst>
              <a:path w="6700" h="1588">
                <a:moveTo>
                  <a:pt x="8700" y="11017"/>
                </a:moveTo>
                <a:cubicBezTo>
                  <a:pt x="8730" y="10996"/>
                  <a:pt x="8719" y="10973"/>
                  <a:pt x="8763" y="10954"/>
                </a:cubicBezTo>
                <a:cubicBezTo>
                  <a:pt x="8801" y="10938"/>
                  <a:pt x="8888" y="10892"/>
                  <a:pt x="8922" y="10890"/>
                </a:cubicBezTo>
                <a:cubicBezTo>
                  <a:pt x="8957" y="10888"/>
                  <a:pt x="9031" y="10900"/>
                  <a:pt x="9049" y="10922"/>
                </a:cubicBezTo>
                <a:cubicBezTo>
                  <a:pt x="9070" y="10948"/>
                  <a:pt x="9077" y="11114"/>
                  <a:pt x="9080" y="11144"/>
                </a:cubicBezTo>
                <a:cubicBezTo>
                  <a:pt x="9088" y="11236"/>
                  <a:pt x="9107" y="11357"/>
                  <a:pt x="9112" y="11430"/>
                </a:cubicBezTo>
                <a:cubicBezTo>
                  <a:pt x="9119" y="11536"/>
                  <a:pt x="9126" y="11562"/>
                  <a:pt x="9176" y="11652"/>
                </a:cubicBezTo>
                <a:cubicBezTo>
                  <a:pt x="9201" y="11698"/>
                  <a:pt x="9222" y="11739"/>
                  <a:pt x="9271" y="11779"/>
                </a:cubicBezTo>
                <a:cubicBezTo>
                  <a:pt x="9282" y="11779"/>
                  <a:pt x="9292" y="11779"/>
                  <a:pt x="9303" y="11779"/>
                </a:cubicBezTo>
                <a:cubicBezTo>
                  <a:pt x="9333" y="11705"/>
                  <a:pt x="9371" y="11637"/>
                  <a:pt x="9398" y="11557"/>
                </a:cubicBezTo>
                <a:cubicBezTo>
                  <a:pt x="9442" y="11426"/>
                  <a:pt x="9466" y="11307"/>
                  <a:pt x="9493" y="11176"/>
                </a:cubicBezTo>
                <a:cubicBezTo>
                  <a:pt x="9516" y="11061"/>
                  <a:pt x="9563" y="10916"/>
                  <a:pt x="9557" y="10795"/>
                </a:cubicBezTo>
                <a:cubicBezTo>
                  <a:pt x="9552" y="10704"/>
                  <a:pt x="9516" y="10637"/>
                  <a:pt x="9525" y="10541"/>
                </a:cubicBezTo>
                <a:cubicBezTo>
                  <a:pt x="9531" y="10477"/>
                  <a:pt x="9524" y="10406"/>
                  <a:pt x="9557" y="10350"/>
                </a:cubicBezTo>
                <a:cubicBezTo>
                  <a:pt x="9589" y="10295"/>
                  <a:pt x="9598" y="10287"/>
                  <a:pt x="9652" y="10255"/>
                </a:cubicBezTo>
                <a:cubicBezTo>
                  <a:pt x="9691" y="10231"/>
                  <a:pt x="9734" y="10236"/>
                  <a:pt x="9779" y="10224"/>
                </a:cubicBezTo>
                <a:cubicBezTo>
                  <a:pt x="9863" y="10201"/>
                  <a:pt x="9909" y="10195"/>
                  <a:pt x="10001" y="10192"/>
                </a:cubicBezTo>
                <a:cubicBezTo>
                  <a:pt x="10645" y="10174"/>
                  <a:pt x="11302" y="10186"/>
                  <a:pt x="11938" y="10224"/>
                </a:cubicBezTo>
                <a:cubicBezTo>
                  <a:pt x="12159" y="10237"/>
                  <a:pt x="12390" y="10244"/>
                  <a:pt x="12605" y="10255"/>
                </a:cubicBezTo>
                <a:cubicBezTo>
                  <a:pt x="12806" y="10265"/>
                  <a:pt x="13013" y="10276"/>
                  <a:pt x="13208" y="10287"/>
                </a:cubicBezTo>
                <a:cubicBezTo>
                  <a:pt x="13345" y="10295"/>
                  <a:pt x="13490" y="10312"/>
                  <a:pt x="13621" y="10319"/>
                </a:cubicBezTo>
                <a:cubicBezTo>
                  <a:pt x="13752" y="10326"/>
                  <a:pt x="13873" y="10343"/>
                  <a:pt x="14002" y="10350"/>
                </a:cubicBezTo>
                <a:cubicBezTo>
                  <a:pt x="14414" y="10372"/>
                  <a:pt x="14838" y="10352"/>
                  <a:pt x="15240" y="10382"/>
                </a:cubicBezTo>
                <a:cubicBezTo>
                  <a:pt x="15297" y="10386"/>
                  <a:pt x="15363" y="10351"/>
                  <a:pt x="15367" y="10350"/>
                </a:cubicBezTo>
                <a:cubicBezTo>
                  <a:pt x="15399" y="10350"/>
                  <a:pt x="15410" y="10350"/>
                  <a:pt x="15367" y="103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Ink 13"/>
          <p:cNvSpPr/>
          <p:nvPr/>
        </p:nvSpPr>
        <p:spPr>
          <a:xfrm>
            <a:off x="1474920" y="3703680"/>
            <a:ext cx="949320" cy="639720"/>
          </a:xfrm>
          <a:custGeom>
            <a:avLst/>
            <a:gdLst/>
            <a:ahLst/>
            <a:rect l="l" t="t" r="r" b="b"/>
            <a:pathLst>
              <a:path w="2636" h="1779">
                <a:moveTo>
                  <a:pt x="4096" y="11811"/>
                </a:moveTo>
                <a:cubicBezTo>
                  <a:pt x="4096" y="11797"/>
                  <a:pt x="4096" y="11662"/>
                  <a:pt x="4096" y="11748"/>
                </a:cubicBezTo>
                <a:cubicBezTo>
                  <a:pt x="4107" y="11793"/>
                  <a:pt x="4117" y="11838"/>
                  <a:pt x="4159" y="11843"/>
                </a:cubicBezTo>
                <a:cubicBezTo>
                  <a:pt x="4193" y="11847"/>
                  <a:pt x="4219" y="11807"/>
                  <a:pt x="4223" y="11779"/>
                </a:cubicBezTo>
                <a:cubicBezTo>
                  <a:pt x="4230" y="11728"/>
                  <a:pt x="4254" y="11710"/>
                  <a:pt x="4254" y="11652"/>
                </a:cubicBezTo>
                <a:cubicBezTo>
                  <a:pt x="4254" y="11641"/>
                  <a:pt x="4254" y="11631"/>
                  <a:pt x="4254" y="11620"/>
                </a:cubicBezTo>
                <a:cubicBezTo>
                  <a:pt x="4218" y="11632"/>
                  <a:pt x="4197" y="11665"/>
                  <a:pt x="4191" y="11716"/>
                </a:cubicBezTo>
                <a:cubicBezTo>
                  <a:pt x="4186" y="11758"/>
                  <a:pt x="4178" y="11820"/>
                  <a:pt x="4223" y="11843"/>
                </a:cubicBezTo>
                <a:cubicBezTo>
                  <a:pt x="4233" y="11843"/>
                  <a:pt x="4244" y="11843"/>
                  <a:pt x="4254" y="11843"/>
                </a:cubicBezTo>
                <a:cubicBezTo>
                  <a:pt x="4254" y="11800"/>
                  <a:pt x="4271" y="11740"/>
                  <a:pt x="4223" y="11716"/>
                </a:cubicBezTo>
                <a:cubicBezTo>
                  <a:pt x="4171" y="11690"/>
                  <a:pt x="4191" y="11786"/>
                  <a:pt x="4191" y="11811"/>
                </a:cubicBezTo>
                <a:cubicBezTo>
                  <a:pt x="4191" y="11867"/>
                  <a:pt x="4189" y="11861"/>
                  <a:pt x="4223" y="11906"/>
                </a:cubicBezTo>
                <a:cubicBezTo>
                  <a:pt x="4275" y="11853"/>
                  <a:pt x="4258" y="11829"/>
                  <a:pt x="4286" y="11779"/>
                </a:cubicBezTo>
                <a:cubicBezTo>
                  <a:pt x="4330" y="11701"/>
                  <a:pt x="4312" y="11729"/>
                  <a:pt x="4286" y="11652"/>
                </a:cubicBezTo>
                <a:cubicBezTo>
                  <a:pt x="4286" y="11620"/>
                  <a:pt x="4286" y="11609"/>
                  <a:pt x="4254" y="11620"/>
                </a:cubicBezTo>
                <a:cubicBezTo>
                  <a:pt x="4244" y="11660"/>
                  <a:pt x="4238" y="11708"/>
                  <a:pt x="4223" y="11748"/>
                </a:cubicBezTo>
                <a:cubicBezTo>
                  <a:pt x="4193" y="11831"/>
                  <a:pt x="4179" y="11858"/>
                  <a:pt x="4223" y="11843"/>
                </a:cubicBezTo>
                <a:cubicBezTo>
                  <a:pt x="4233" y="11843"/>
                  <a:pt x="4244" y="11843"/>
                  <a:pt x="4254" y="11843"/>
                </a:cubicBezTo>
              </a:path>
              <a:path w="2636" h="1779">
                <a:moveTo>
                  <a:pt x="4826" y="10287"/>
                </a:moveTo>
                <a:cubicBezTo>
                  <a:pt x="4826" y="10358"/>
                  <a:pt x="4798" y="10407"/>
                  <a:pt x="4794" y="10478"/>
                </a:cubicBezTo>
                <a:cubicBezTo>
                  <a:pt x="4785" y="10632"/>
                  <a:pt x="4786" y="10776"/>
                  <a:pt x="4762" y="10922"/>
                </a:cubicBezTo>
                <a:cubicBezTo>
                  <a:pt x="4762" y="10975"/>
                  <a:pt x="4762" y="10985"/>
                  <a:pt x="4762" y="11017"/>
                </a:cubicBezTo>
                <a:cubicBezTo>
                  <a:pt x="4734" y="11008"/>
                  <a:pt x="4707" y="10967"/>
                  <a:pt x="4731" y="10922"/>
                </a:cubicBezTo>
                <a:cubicBezTo>
                  <a:pt x="4769" y="10851"/>
                  <a:pt x="4809" y="10900"/>
                  <a:pt x="4826" y="10922"/>
                </a:cubicBezTo>
                <a:cubicBezTo>
                  <a:pt x="4850" y="10954"/>
                  <a:pt x="4897" y="10983"/>
                  <a:pt x="4921" y="10986"/>
                </a:cubicBezTo>
                <a:cubicBezTo>
                  <a:pt x="4973" y="10993"/>
                  <a:pt x="4946" y="11017"/>
                  <a:pt x="5016" y="11017"/>
                </a:cubicBezTo>
                <a:cubicBezTo>
                  <a:pt x="5016" y="10960"/>
                  <a:pt x="5036" y="10940"/>
                  <a:pt x="5048" y="10890"/>
                </a:cubicBezTo>
              </a:path>
              <a:path w="2636" h="1779">
                <a:moveTo>
                  <a:pt x="5144" y="10573"/>
                </a:moveTo>
                <a:cubicBezTo>
                  <a:pt x="5144" y="10681"/>
                  <a:pt x="5106" y="10970"/>
                  <a:pt x="5175" y="11017"/>
                </a:cubicBezTo>
              </a:path>
              <a:path w="2636" h="1779">
                <a:moveTo>
                  <a:pt x="5302" y="10287"/>
                </a:moveTo>
                <a:cubicBezTo>
                  <a:pt x="5302" y="10482"/>
                  <a:pt x="5304" y="10672"/>
                  <a:pt x="5334" y="10858"/>
                </a:cubicBezTo>
                <a:cubicBezTo>
                  <a:pt x="5342" y="10907"/>
                  <a:pt x="5334" y="10967"/>
                  <a:pt x="5334" y="11017"/>
                </a:cubicBezTo>
                <a:cubicBezTo>
                  <a:pt x="5334" y="10882"/>
                  <a:pt x="5345" y="10762"/>
                  <a:pt x="5366" y="10636"/>
                </a:cubicBezTo>
                <a:cubicBezTo>
                  <a:pt x="5379" y="10561"/>
                  <a:pt x="5358" y="10559"/>
                  <a:pt x="5429" y="10541"/>
                </a:cubicBezTo>
                <a:cubicBezTo>
                  <a:pt x="5479" y="10541"/>
                  <a:pt x="5512" y="10548"/>
                  <a:pt x="5524" y="10604"/>
                </a:cubicBezTo>
                <a:cubicBezTo>
                  <a:pt x="5545" y="10705"/>
                  <a:pt x="5536" y="10872"/>
                  <a:pt x="5493" y="10954"/>
                </a:cubicBezTo>
                <a:cubicBezTo>
                  <a:pt x="5481" y="10977"/>
                  <a:pt x="5406" y="11119"/>
                  <a:pt x="5398" y="11017"/>
                </a:cubicBezTo>
                <a:cubicBezTo>
                  <a:pt x="5398" y="10996"/>
                  <a:pt x="5398" y="10975"/>
                  <a:pt x="5398" y="10954"/>
                </a:cubicBezTo>
              </a:path>
              <a:path w="2636" h="1779">
                <a:moveTo>
                  <a:pt x="5652" y="10573"/>
                </a:moveTo>
                <a:lnTo>
                  <a:pt x="5652" y="10573"/>
                </a:lnTo>
              </a:path>
              <a:path w="2636" h="1779">
                <a:moveTo>
                  <a:pt x="5652" y="10573"/>
                </a:moveTo>
                <a:cubicBezTo>
                  <a:pt x="5652" y="10583"/>
                  <a:pt x="5652" y="10594"/>
                  <a:pt x="5652" y="10604"/>
                </a:cubicBezTo>
              </a:path>
              <a:path w="2636" h="1779">
                <a:moveTo>
                  <a:pt x="5652" y="10604"/>
                </a:moveTo>
                <a:cubicBezTo>
                  <a:pt x="5652" y="10674"/>
                  <a:pt x="5679" y="10724"/>
                  <a:pt x="5683" y="10795"/>
                </a:cubicBezTo>
                <a:cubicBezTo>
                  <a:pt x="5687" y="10866"/>
                  <a:pt x="5715" y="10915"/>
                  <a:pt x="5715" y="10986"/>
                </a:cubicBezTo>
                <a:cubicBezTo>
                  <a:pt x="5740" y="10974"/>
                  <a:pt x="5715" y="10902"/>
                  <a:pt x="5715" y="10827"/>
                </a:cubicBezTo>
                <a:cubicBezTo>
                  <a:pt x="5715" y="10727"/>
                  <a:pt x="5720" y="10654"/>
                  <a:pt x="5747" y="10573"/>
                </a:cubicBezTo>
                <a:cubicBezTo>
                  <a:pt x="5762" y="10528"/>
                  <a:pt x="5755" y="10541"/>
                  <a:pt x="5810" y="10541"/>
                </a:cubicBezTo>
              </a:path>
              <a:path w="2636" h="1779">
                <a:moveTo>
                  <a:pt x="6096" y="10541"/>
                </a:moveTo>
                <a:cubicBezTo>
                  <a:pt x="6064" y="10509"/>
                  <a:pt x="6054" y="10499"/>
                  <a:pt x="6032" y="10478"/>
                </a:cubicBezTo>
                <a:cubicBezTo>
                  <a:pt x="5988" y="10537"/>
                  <a:pt x="5993" y="10569"/>
                  <a:pt x="5969" y="10636"/>
                </a:cubicBezTo>
                <a:cubicBezTo>
                  <a:pt x="5950" y="10690"/>
                  <a:pt x="5900" y="10831"/>
                  <a:pt x="5937" y="10890"/>
                </a:cubicBezTo>
                <a:cubicBezTo>
                  <a:pt x="5944" y="10901"/>
                  <a:pt x="5983" y="10916"/>
                  <a:pt x="6001" y="10922"/>
                </a:cubicBezTo>
                <a:cubicBezTo>
                  <a:pt x="6014" y="10883"/>
                  <a:pt x="6053" y="10878"/>
                  <a:pt x="6064" y="10827"/>
                </a:cubicBezTo>
                <a:cubicBezTo>
                  <a:pt x="6079" y="10757"/>
                  <a:pt x="6096" y="10713"/>
                  <a:pt x="6096" y="10636"/>
                </a:cubicBezTo>
                <a:cubicBezTo>
                  <a:pt x="6096" y="10625"/>
                  <a:pt x="6096" y="10615"/>
                  <a:pt x="6096" y="10604"/>
                </a:cubicBezTo>
                <a:cubicBezTo>
                  <a:pt x="6096" y="10683"/>
                  <a:pt x="6109" y="10725"/>
                  <a:pt x="6128" y="10763"/>
                </a:cubicBezTo>
                <a:cubicBezTo>
                  <a:pt x="6147" y="10801"/>
                  <a:pt x="6102" y="10782"/>
                  <a:pt x="6160" y="10763"/>
                </a:cubicBezTo>
              </a:path>
              <a:path w="2636" h="1779">
                <a:moveTo>
                  <a:pt x="6223" y="10478"/>
                </a:moveTo>
                <a:cubicBezTo>
                  <a:pt x="6223" y="10590"/>
                  <a:pt x="6200" y="10736"/>
                  <a:pt x="6255" y="10827"/>
                </a:cubicBezTo>
                <a:cubicBezTo>
                  <a:pt x="6255" y="10703"/>
                  <a:pt x="6255" y="10585"/>
                  <a:pt x="6286" y="10478"/>
                </a:cubicBezTo>
                <a:cubicBezTo>
                  <a:pt x="6300" y="10429"/>
                  <a:pt x="6326" y="10446"/>
                  <a:pt x="6382" y="10446"/>
                </a:cubicBezTo>
              </a:path>
              <a:path w="2636" h="1779">
                <a:moveTo>
                  <a:pt x="6477" y="10446"/>
                </a:moveTo>
                <a:cubicBezTo>
                  <a:pt x="6477" y="10506"/>
                  <a:pt x="6505" y="10546"/>
                  <a:pt x="6509" y="10604"/>
                </a:cubicBezTo>
                <a:cubicBezTo>
                  <a:pt x="6512" y="10656"/>
                  <a:pt x="6507" y="10715"/>
                  <a:pt x="6540" y="10732"/>
                </a:cubicBezTo>
                <a:cubicBezTo>
                  <a:pt x="6551" y="10732"/>
                  <a:pt x="6561" y="10732"/>
                  <a:pt x="6572" y="10732"/>
                </a:cubicBezTo>
                <a:cubicBezTo>
                  <a:pt x="6618" y="10686"/>
                  <a:pt x="6657" y="10629"/>
                  <a:pt x="6668" y="10573"/>
                </a:cubicBezTo>
                <a:cubicBezTo>
                  <a:pt x="6680" y="10514"/>
                  <a:pt x="6693" y="10439"/>
                  <a:pt x="6699" y="10382"/>
                </a:cubicBezTo>
                <a:cubicBezTo>
                  <a:pt x="6707" y="10298"/>
                  <a:pt x="6699" y="10430"/>
                  <a:pt x="6699" y="10446"/>
                </a:cubicBezTo>
                <a:cubicBezTo>
                  <a:pt x="6699" y="10571"/>
                  <a:pt x="6704" y="10678"/>
                  <a:pt x="6731" y="10795"/>
                </a:cubicBezTo>
                <a:cubicBezTo>
                  <a:pt x="6739" y="10830"/>
                  <a:pt x="6691" y="10956"/>
                  <a:pt x="6668" y="10986"/>
                </a:cubicBezTo>
                <a:cubicBezTo>
                  <a:pt x="6609" y="11045"/>
                  <a:pt x="6590" y="11060"/>
                  <a:pt x="6572" y="11112"/>
                </a:cubicBezTo>
              </a:path>
              <a:path w="2636" h="1779">
                <a:moveTo>
                  <a:pt x="5016" y="11176"/>
                </a:moveTo>
                <a:cubicBezTo>
                  <a:pt x="5001" y="11239"/>
                  <a:pt x="4982" y="11300"/>
                  <a:pt x="4953" y="11366"/>
                </a:cubicBezTo>
                <a:cubicBezTo>
                  <a:pt x="4915" y="11451"/>
                  <a:pt x="4846" y="11526"/>
                  <a:pt x="4826" y="11620"/>
                </a:cubicBezTo>
                <a:cubicBezTo>
                  <a:pt x="4805" y="11717"/>
                  <a:pt x="4810" y="11762"/>
                  <a:pt x="4826" y="11843"/>
                </a:cubicBezTo>
                <a:cubicBezTo>
                  <a:pt x="4840" y="11912"/>
                  <a:pt x="4833" y="11919"/>
                  <a:pt x="4890" y="11938"/>
                </a:cubicBezTo>
                <a:cubicBezTo>
                  <a:pt x="4931" y="11924"/>
                  <a:pt x="4919" y="11920"/>
                  <a:pt x="4953" y="11874"/>
                </a:cubicBezTo>
              </a:path>
              <a:path w="2636" h="1779">
                <a:moveTo>
                  <a:pt x="5270" y="11430"/>
                </a:moveTo>
                <a:cubicBezTo>
                  <a:pt x="5195" y="11430"/>
                  <a:pt x="5222" y="11441"/>
                  <a:pt x="5175" y="11494"/>
                </a:cubicBezTo>
                <a:cubicBezTo>
                  <a:pt x="5123" y="11552"/>
                  <a:pt x="5144" y="11639"/>
                  <a:pt x="5144" y="11716"/>
                </a:cubicBezTo>
                <a:cubicBezTo>
                  <a:pt x="5144" y="11773"/>
                  <a:pt x="5140" y="11789"/>
                  <a:pt x="5175" y="11811"/>
                </a:cubicBezTo>
                <a:cubicBezTo>
                  <a:pt x="5240" y="11762"/>
                  <a:pt x="5248" y="11757"/>
                  <a:pt x="5302" y="11684"/>
                </a:cubicBezTo>
                <a:cubicBezTo>
                  <a:pt x="5342" y="11631"/>
                  <a:pt x="5334" y="11591"/>
                  <a:pt x="5334" y="11525"/>
                </a:cubicBezTo>
                <a:cubicBezTo>
                  <a:pt x="5334" y="11452"/>
                  <a:pt x="5342" y="11422"/>
                  <a:pt x="5270" y="11398"/>
                </a:cubicBezTo>
                <a:cubicBezTo>
                  <a:pt x="5260" y="11398"/>
                  <a:pt x="5249" y="11398"/>
                  <a:pt x="5239" y="11398"/>
                </a:cubicBezTo>
              </a:path>
              <a:path w="2636" h="1779">
                <a:moveTo>
                  <a:pt x="5524" y="11652"/>
                </a:moveTo>
                <a:cubicBezTo>
                  <a:pt x="5524" y="11710"/>
                  <a:pt x="5550" y="11727"/>
                  <a:pt x="5556" y="11779"/>
                </a:cubicBezTo>
                <a:cubicBezTo>
                  <a:pt x="5566" y="11872"/>
                  <a:pt x="5556" y="11971"/>
                  <a:pt x="5556" y="12065"/>
                </a:cubicBezTo>
              </a:path>
              <a:path w="2636" h="1779">
                <a:moveTo>
                  <a:pt x="5778" y="11366"/>
                </a:moveTo>
                <a:cubicBezTo>
                  <a:pt x="5743" y="11378"/>
                  <a:pt x="5719" y="11411"/>
                  <a:pt x="5715" y="11462"/>
                </a:cubicBezTo>
                <a:cubicBezTo>
                  <a:pt x="5710" y="11527"/>
                  <a:pt x="5679" y="11745"/>
                  <a:pt x="5747" y="11779"/>
                </a:cubicBezTo>
                <a:cubicBezTo>
                  <a:pt x="5788" y="11799"/>
                  <a:pt x="5863" y="11755"/>
                  <a:pt x="5874" y="11716"/>
                </a:cubicBezTo>
                <a:cubicBezTo>
                  <a:pt x="5893" y="11651"/>
                  <a:pt x="5906" y="11597"/>
                  <a:pt x="5906" y="11525"/>
                </a:cubicBezTo>
                <a:cubicBezTo>
                  <a:pt x="5906" y="11479"/>
                  <a:pt x="5869" y="11482"/>
                  <a:pt x="5842" y="11462"/>
                </a:cubicBezTo>
                <a:cubicBezTo>
                  <a:pt x="5795" y="11427"/>
                  <a:pt x="5792" y="11441"/>
                  <a:pt x="5778" y="11398"/>
                </a:cubicBezTo>
              </a:path>
              <a:path w="2636" h="1779">
                <a:moveTo>
                  <a:pt x="5937" y="11049"/>
                </a:moveTo>
                <a:cubicBezTo>
                  <a:pt x="5995" y="11093"/>
                  <a:pt x="5985" y="11090"/>
                  <a:pt x="6032" y="11144"/>
                </a:cubicBezTo>
                <a:cubicBezTo>
                  <a:pt x="6098" y="11219"/>
                  <a:pt x="6150" y="11231"/>
                  <a:pt x="6191" y="11335"/>
                </a:cubicBezTo>
                <a:cubicBezTo>
                  <a:pt x="6233" y="11442"/>
                  <a:pt x="6223" y="11539"/>
                  <a:pt x="6223" y="11652"/>
                </a:cubicBezTo>
                <a:cubicBezTo>
                  <a:pt x="6223" y="11722"/>
                  <a:pt x="6205" y="11793"/>
                  <a:pt x="6160" y="11843"/>
                </a:cubicBezTo>
                <a:cubicBezTo>
                  <a:pt x="6149" y="11853"/>
                  <a:pt x="6139" y="11864"/>
                  <a:pt x="6128" y="118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Ink 14"/>
          <p:cNvSpPr/>
          <p:nvPr/>
        </p:nvSpPr>
        <p:spPr>
          <a:xfrm>
            <a:off x="3600360" y="3749760"/>
            <a:ext cx="2138400" cy="514440"/>
          </a:xfrm>
          <a:custGeom>
            <a:avLst/>
            <a:gdLst/>
            <a:ahLst/>
            <a:rect l="l" t="t" r="r" b="b"/>
            <a:pathLst>
              <a:path w="5938" h="1430">
                <a:moveTo>
                  <a:pt x="10382" y="10414"/>
                </a:moveTo>
                <a:cubicBezTo>
                  <a:pt x="10332" y="10452"/>
                  <a:pt x="10275" y="10463"/>
                  <a:pt x="10224" y="10509"/>
                </a:cubicBezTo>
                <a:cubicBezTo>
                  <a:pt x="10175" y="10553"/>
                  <a:pt x="10121" y="10639"/>
                  <a:pt x="10096" y="10700"/>
                </a:cubicBezTo>
                <a:cubicBezTo>
                  <a:pt x="10054" y="10803"/>
                  <a:pt x="10006" y="10906"/>
                  <a:pt x="10001" y="11017"/>
                </a:cubicBezTo>
                <a:cubicBezTo>
                  <a:pt x="9996" y="11136"/>
                  <a:pt x="10011" y="11221"/>
                  <a:pt x="10033" y="11335"/>
                </a:cubicBezTo>
                <a:cubicBezTo>
                  <a:pt x="10042" y="11385"/>
                  <a:pt x="10070" y="11456"/>
                  <a:pt x="10096" y="11494"/>
                </a:cubicBezTo>
                <a:cubicBezTo>
                  <a:pt x="10119" y="11528"/>
                  <a:pt x="10186" y="11577"/>
                  <a:pt x="10192" y="11589"/>
                </a:cubicBezTo>
                <a:cubicBezTo>
                  <a:pt x="10211" y="11626"/>
                  <a:pt x="10206" y="11640"/>
                  <a:pt x="10224" y="11589"/>
                </a:cubicBezTo>
              </a:path>
              <a:path w="5938" h="1430">
                <a:moveTo>
                  <a:pt x="10541" y="10795"/>
                </a:moveTo>
                <a:cubicBezTo>
                  <a:pt x="10484" y="10866"/>
                  <a:pt x="10473" y="10910"/>
                  <a:pt x="10446" y="10986"/>
                </a:cubicBezTo>
                <a:cubicBezTo>
                  <a:pt x="10411" y="11085"/>
                  <a:pt x="10358" y="11167"/>
                  <a:pt x="10350" y="11271"/>
                </a:cubicBezTo>
                <a:cubicBezTo>
                  <a:pt x="10348" y="11302"/>
                  <a:pt x="10377" y="11419"/>
                  <a:pt x="10414" y="11430"/>
                </a:cubicBezTo>
                <a:cubicBezTo>
                  <a:pt x="10476" y="11449"/>
                  <a:pt x="10593" y="11433"/>
                  <a:pt x="10636" y="11398"/>
                </a:cubicBezTo>
                <a:cubicBezTo>
                  <a:pt x="10704" y="11344"/>
                  <a:pt x="10727" y="11293"/>
                  <a:pt x="10732" y="11208"/>
                </a:cubicBezTo>
                <a:cubicBezTo>
                  <a:pt x="10737" y="11121"/>
                  <a:pt x="10737" y="11055"/>
                  <a:pt x="10700" y="10986"/>
                </a:cubicBezTo>
                <a:cubicBezTo>
                  <a:pt x="10664" y="10919"/>
                  <a:pt x="10626" y="10880"/>
                  <a:pt x="10573" y="10827"/>
                </a:cubicBezTo>
              </a:path>
              <a:path w="5938" h="1430">
                <a:moveTo>
                  <a:pt x="11176" y="10986"/>
                </a:moveTo>
                <a:cubicBezTo>
                  <a:pt x="11176" y="11058"/>
                  <a:pt x="11164" y="11085"/>
                  <a:pt x="11144" y="11144"/>
                </a:cubicBezTo>
                <a:cubicBezTo>
                  <a:pt x="11124" y="11205"/>
                  <a:pt x="11144" y="11300"/>
                  <a:pt x="11144" y="11366"/>
                </a:cubicBezTo>
              </a:path>
              <a:path w="5938" h="1430">
                <a:moveTo>
                  <a:pt x="10954" y="11112"/>
                </a:moveTo>
                <a:cubicBezTo>
                  <a:pt x="10965" y="11112"/>
                  <a:pt x="10975" y="11112"/>
                  <a:pt x="10986" y="11112"/>
                </a:cubicBezTo>
                <a:cubicBezTo>
                  <a:pt x="11003" y="11164"/>
                  <a:pt x="11047" y="11144"/>
                  <a:pt x="11112" y="11144"/>
                </a:cubicBezTo>
                <a:cubicBezTo>
                  <a:pt x="11155" y="11144"/>
                  <a:pt x="11197" y="11144"/>
                  <a:pt x="11240" y="11144"/>
                </a:cubicBezTo>
              </a:path>
              <a:path w="5938" h="1430">
                <a:moveTo>
                  <a:pt x="11494" y="10795"/>
                </a:moveTo>
                <a:cubicBezTo>
                  <a:pt x="11494" y="10855"/>
                  <a:pt x="11472" y="10876"/>
                  <a:pt x="11462" y="10922"/>
                </a:cubicBezTo>
                <a:cubicBezTo>
                  <a:pt x="11445" y="11001"/>
                  <a:pt x="11443" y="11099"/>
                  <a:pt x="11430" y="11176"/>
                </a:cubicBezTo>
                <a:cubicBezTo>
                  <a:pt x="11417" y="11255"/>
                  <a:pt x="11430" y="11350"/>
                  <a:pt x="11430" y="11430"/>
                </a:cubicBezTo>
              </a:path>
              <a:path w="5938" h="1430">
                <a:moveTo>
                  <a:pt x="11652" y="10763"/>
                </a:moveTo>
                <a:cubicBezTo>
                  <a:pt x="11664" y="10716"/>
                  <a:pt x="11700" y="10684"/>
                  <a:pt x="11748" y="10668"/>
                </a:cubicBezTo>
                <a:cubicBezTo>
                  <a:pt x="11756" y="10665"/>
                  <a:pt x="11861" y="10693"/>
                  <a:pt x="11874" y="10700"/>
                </a:cubicBezTo>
                <a:cubicBezTo>
                  <a:pt x="11943" y="10739"/>
                  <a:pt x="11938" y="10788"/>
                  <a:pt x="11938" y="10858"/>
                </a:cubicBezTo>
                <a:cubicBezTo>
                  <a:pt x="11938" y="10910"/>
                  <a:pt x="11903" y="11005"/>
                  <a:pt x="11874" y="11049"/>
                </a:cubicBezTo>
                <a:cubicBezTo>
                  <a:pt x="11829" y="11118"/>
                  <a:pt x="11810" y="11177"/>
                  <a:pt x="11779" y="11240"/>
                </a:cubicBezTo>
                <a:cubicBezTo>
                  <a:pt x="11763" y="11272"/>
                  <a:pt x="11710" y="11309"/>
                  <a:pt x="11684" y="11335"/>
                </a:cubicBezTo>
                <a:cubicBezTo>
                  <a:pt x="11734" y="11323"/>
                  <a:pt x="11754" y="11303"/>
                  <a:pt x="11811" y="11303"/>
                </a:cubicBezTo>
                <a:cubicBezTo>
                  <a:pt x="11855" y="11303"/>
                  <a:pt x="11913" y="11286"/>
                  <a:pt x="11938" y="11335"/>
                </a:cubicBezTo>
                <a:cubicBezTo>
                  <a:pt x="11964" y="11386"/>
                  <a:pt x="12010" y="11384"/>
                  <a:pt x="12033" y="11430"/>
                </a:cubicBezTo>
                <a:cubicBezTo>
                  <a:pt x="12055" y="11475"/>
                  <a:pt x="12066" y="11462"/>
                  <a:pt x="12128" y="11462"/>
                </a:cubicBezTo>
              </a:path>
              <a:path w="5938" h="1430">
                <a:moveTo>
                  <a:pt x="12097" y="10446"/>
                </a:moveTo>
                <a:cubicBezTo>
                  <a:pt x="12058" y="10446"/>
                  <a:pt x="12089" y="10466"/>
                  <a:pt x="12128" y="10509"/>
                </a:cubicBezTo>
                <a:cubicBezTo>
                  <a:pt x="12178" y="10565"/>
                  <a:pt x="12195" y="10685"/>
                  <a:pt x="12224" y="10763"/>
                </a:cubicBezTo>
                <a:cubicBezTo>
                  <a:pt x="12277" y="10904"/>
                  <a:pt x="12287" y="11028"/>
                  <a:pt x="12287" y="11176"/>
                </a:cubicBezTo>
                <a:cubicBezTo>
                  <a:pt x="12287" y="11302"/>
                  <a:pt x="12290" y="11439"/>
                  <a:pt x="12256" y="11557"/>
                </a:cubicBezTo>
                <a:cubicBezTo>
                  <a:pt x="12234" y="11634"/>
                  <a:pt x="12182" y="11694"/>
                  <a:pt x="12128" y="11748"/>
                </a:cubicBezTo>
                <a:cubicBezTo>
                  <a:pt x="12079" y="11797"/>
                  <a:pt x="12052" y="11785"/>
                  <a:pt x="12002" y="11748"/>
                </a:cubicBezTo>
              </a:path>
              <a:path w="5938" h="1430">
                <a:moveTo>
                  <a:pt x="12414" y="10446"/>
                </a:moveTo>
                <a:cubicBezTo>
                  <a:pt x="12462" y="10430"/>
                  <a:pt x="12441" y="10414"/>
                  <a:pt x="12510" y="10414"/>
                </a:cubicBezTo>
                <a:cubicBezTo>
                  <a:pt x="12541" y="10414"/>
                  <a:pt x="12552" y="10414"/>
                  <a:pt x="12573" y="10414"/>
                </a:cubicBezTo>
                <a:cubicBezTo>
                  <a:pt x="12573" y="10474"/>
                  <a:pt x="12581" y="10496"/>
                  <a:pt x="12541" y="10541"/>
                </a:cubicBezTo>
                <a:cubicBezTo>
                  <a:pt x="12515" y="10570"/>
                  <a:pt x="12462" y="10632"/>
                  <a:pt x="12446" y="10668"/>
                </a:cubicBezTo>
                <a:cubicBezTo>
                  <a:pt x="12426" y="10714"/>
                  <a:pt x="12430" y="10684"/>
                  <a:pt x="12414" y="10732"/>
                </a:cubicBezTo>
                <a:cubicBezTo>
                  <a:pt x="12464" y="10720"/>
                  <a:pt x="12484" y="10700"/>
                  <a:pt x="12541" y="10700"/>
                </a:cubicBezTo>
                <a:cubicBezTo>
                  <a:pt x="12615" y="10700"/>
                  <a:pt x="12567" y="10735"/>
                  <a:pt x="12636" y="10700"/>
                </a:cubicBezTo>
              </a:path>
              <a:path w="5938" h="1430">
                <a:moveTo>
                  <a:pt x="12954" y="11017"/>
                </a:moveTo>
                <a:cubicBezTo>
                  <a:pt x="12954" y="11094"/>
                  <a:pt x="12935" y="11136"/>
                  <a:pt x="12922" y="11208"/>
                </a:cubicBezTo>
                <a:cubicBezTo>
                  <a:pt x="12909" y="11280"/>
                  <a:pt x="12909" y="11335"/>
                  <a:pt x="12890" y="11398"/>
                </a:cubicBezTo>
                <a:cubicBezTo>
                  <a:pt x="12890" y="11430"/>
                  <a:pt x="12890" y="11441"/>
                  <a:pt x="12922" y="11430"/>
                </a:cubicBezTo>
              </a:path>
              <a:path w="5938" h="1430">
                <a:moveTo>
                  <a:pt x="12764" y="11208"/>
                </a:moveTo>
                <a:cubicBezTo>
                  <a:pt x="12813" y="11221"/>
                  <a:pt x="12833" y="11240"/>
                  <a:pt x="12890" y="11240"/>
                </a:cubicBezTo>
                <a:cubicBezTo>
                  <a:pt x="12981" y="11240"/>
                  <a:pt x="13031" y="11243"/>
                  <a:pt x="13113" y="11208"/>
                </a:cubicBezTo>
              </a:path>
              <a:path w="5938" h="1430">
                <a:moveTo>
                  <a:pt x="13906" y="10573"/>
                </a:moveTo>
                <a:cubicBezTo>
                  <a:pt x="13906" y="10562"/>
                  <a:pt x="13906" y="10552"/>
                  <a:pt x="13906" y="10541"/>
                </a:cubicBezTo>
                <a:cubicBezTo>
                  <a:pt x="13852" y="10555"/>
                  <a:pt x="13764" y="10599"/>
                  <a:pt x="13716" y="10636"/>
                </a:cubicBezTo>
                <a:cubicBezTo>
                  <a:pt x="13619" y="10711"/>
                  <a:pt x="13554" y="10817"/>
                  <a:pt x="13494" y="10922"/>
                </a:cubicBezTo>
                <a:cubicBezTo>
                  <a:pt x="13451" y="10998"/>
                  <a:pt x="13391" y="11159"/>
                  <a:pt x="13398" y="11240"/>
                </a:cubicBezTo>
                <a:cubicBezTo>
                  <a:pt x="13406" y="11339"/>
                  <a:pt x="13450" y="11437"/>
                  <a:pt x="13494" y="11525"/>
                </a:cubicBezTo>
                <a:cubicBezTo>
                  <a:pt x="13536" y="11609"/>
                  <a:pt x="13557" y="11640"/>
                  <a:pt x="13621" y="11684"/>
                </a:cubicBezTo>
                <a:cubicBezTo>
                  <a:pt x="13649" y="11713"/>
                  <a:pt x="13655" y="11724"/>
                  <a:pt x="13684" y="11716"/>
                </a:cubicBezTo>
              </a:path>
              <a:path w="5938" h="1430">
                <a:moveTo>
                  <a:pt x="14034" y="10858"/>
                </a:moveTo>
                <a:cubicBezTo>
                  <a:pt x="14002" y="10858"/>
                  <a:pt x="13992" y="10858"/>
                  <a:pt x="14002" y="10827"/>
                </a:cubicBezTo>
                <a:cubicBezTo>
                  <a:pt x="13923" y="10846"/>
                  <a:pt x="13911" y="10913"/>
                  <a:pt x="13875" y="10986"/>
                </a:cubicBezTo>
                <a:cubicBezTo>
                  <a:pt x="13822" y="11091"/>
                  <a:pt x="13811" y="11152"/>
                  <a:pt x="13811" y="11271"/>
                </a:cubicBezTo>
                <a:cubicBezTo>
                  <a:pt x="13811" y="11333"/>
                  <a:pt x="13825" y="11497"/>
                  <a:pt x="13906" y="11525"/>
                </a:cubicBezTo>
                <a:cubicBezTo>
                  <a:pt x="13968" y="11547"/>
                  <a:pt x="14070" y="11525"/>
                  <a:pt x="14097" y="11462"/>
                </a:cubicBezTo>
                <a:cubicBezTo>
                  <a:pt x="14136" y="11371"/>
                  <a:pt x="14129" y="11245"/>
                  <a:pt x="14129" y="11144"/>
                </a:cubicBezTo>
                <a:cubicBezTo>
                  <a:pt x="14129" y="11064"/>
                  <a:pt x="14138" y="10959"/>
                  <a:pt x="14097" y="10890"/>
                </a:cubicBezTo>
                <a:cubicBezTo>
                  <a:pt x="14072" y="10849"/>
                  <a:pt x="14041" y="10837"/>
                  <a:pt x="14002" y="10827"/>
                </a:cubicBezTo>
              </a:path>
              <a:path w="5938" h="1430">
                <a:moveTo>
                  <a:pt x="14288" y="11112"/>
                </a:moveTo>
                <a:cubicBezTo>
                  <a:pt x="14413" y="11112"/>
                  <a:pt x="14520" y="11114"/>
                  <a:pt x="14637" y="11144"/>
                </a:cubicBezTo>
                <a:cubicBezTo>
                  <a:pt x="14647" y="11144"/>
                  <a:pt x="14658" y="11144"/>
                  <a:pt x="14668" y="11144"/>
                </a:cubicBezTo>
              </a:path>
              <a:path w="5938" h="1430">
                <a:moveTo>
                  <a:pt x="15081" y="10922"/>
                </a:moveTo>
                <a:cubicBezTo>
                  <a:pt x="15081" y="10875"/>
                  <a:pt x="15101" y="10789"/>
                  <a:pt x="15050" y="10763"/>
                </a:cubicBezTo>
                <a:cubicBezTo>
                  <a:pt x="15012" y="10744"/>
                  <a:pt x="14907" y="10713"/>
                  <a:pt x="14859" y="10732"/>
                </a:cubicBezTo>
                <a:cubicBezTo>
                  <a:pt x="14762" y="10772"/>
                  <a:pt x="14753" y="10854"/>
                  <a:pt x="14764" y="10922"/>
                </a:cubicBezTo>
                <a:cubicBezTo>
                  <a:pt x="14784" y="11041"/>
                  <a:pt x="14790" y="11026"/>
                  <a:pt x="14859" y="11112"/>
                </a:cubicBezTo>
                <a:cubicBezTo>
                  <a:pt x="14901" y="11164"/>
                  <a:pt x="15001" y="11272"/>
                  <a:pt x="15018" y="11335"/>
                </a:cubicBezTo>
                <a:cubicBezTo>
                  <a:pt x="15044" y="11432"/>
                  <a:pt x="15046" y="11378"/>
                  <a:pt x="15018" y="11462"/>
                </a:cubicBezTo>
                <a:cubicBezTo>
                  <a:pt x="15002" y="11510"/>
                  <a:pt x="14979" y="11494"/>
                  <a:pt x="14922" y="11494"/>
                </a:cubicBezTo>
                <a:cubicBezTo>
                  <a:pt x="14882" y="11494"/>
                  <a:pt x="14813" y="11438"/>
                  <a:pt x="14796" y="11398"/>
                </a:cubicBezTo>
                <a:cubicBezTo>
                  <a:pt x="14777" y="11353"/>
                  <a:pt x="14746" y="11299"/>
                  <a:pt x="14764" y="11240"/>
                </a:cubicBezTo>
                <a:cubicBezTo>
                  <a:pt x="14790" y="11153"/>
                  <a:pt x="14861" y="11100"/>
                  <a:pt x="14922" y="11049"/>
                </a:cubicBezTo>
                <a:cubicBezTo>
                  <a:pt x="14965" y="11013"/>
                  <a:pt x="15032" y="10970"/>
                  <a:pt x="15081" y="10954"/>
                </a:cubicBezTo>
                <a:cubicBezTo>
                  <a:pt x="15092" y="10954"/>
                  <a:pt x="15102" y="10954"/>
                  <a:pt x="15113" y="10954"/>
                </a:cubicBezTo>
              </a:path>
              <a:path w="5938" h="1430">
                <a:moveTo>
                  <a:pt x="15240" y="10509"/>
                </a:moveTo>
                <a:cubicBezTo>
                  <a:pt x="15240" y="10564"/>
                  <a:pt x="15254" y="10618"/>
                  <a:pt x="15272" y="10668"/>
                </a:cubicBezTo>
                <a:cubicBezTo>
                  <a:pt x="15313" y="10784"/>
                  <a:pt x="15381" y="10892"/>
                  <a:pt x="15399" y="11017"/>
                </a:cubicBezTo>
                <a:cubicBezTo>
                  <a:pt x="15416" y="11135"/>
                  <a:pt x="15453" y="11278"/>
                  <a:pt x="15430" y="11398"/>
                </a:cubicBezTo>
                <a:cubicBezTo>
                  <a:pt x="15409" y="11507"/>
                  <a:pt x="15400" y="11621"/>
                  <a:pt x="15335" y="11716"/>
                </a:cubicBezTo>
                <a:cubicBezTo>
                  <a:pt x="15309" y="11754"/>
                  <a:pt x="15221" y="11792"/>
                  <a:pt x="15208" y="11811"/>
                </a:cubicBezTo>
                <a:cubicBezTo>
                  <a:pt x="15208" y="11847"/>
                  <a:pt x="15205" y="11855"/>
                  <a:pt x="15176" y="11811"/>
                </a:cubicBezTo>
              </a:path>
              <a:path w="5938" h="1430">
                <a:moveTo>
                  <a:pt x="15621" y="10478"/>
                </a:moveTo>
                <a:cubicBezTo>
                  <a:pt x="15610" y="10478"/>
                  <a:pt x="15600" y="10478"/>
                  <a:pt x="15589" y="10478"/>
                </a:cubicBezTo>
                <a:cubicBezTo>
                  <a:pt x="15639" y="10490"/>
                  <a:pt x="15660" y="10509"/>
                  <a:pt x="15716" y="10509"/>
                </a:cubicBezTo>
                <a:cubicBezTo>
                  <a:pt x="15748" y="10509"/>
                  <a:pt x="15780" y="10509"/>
                  <a:pt x="15812" y="10509"/>
                </a:cubicBezTo>
                <a:cubicBezTo>
                  <a:pt x="15799" y="10560"/>
                  <a:pt x="15764" y="10589"/>
                  <a:pt x="15748" y="10636"/>
                </a:cubicBezTo>
                <a:cubicBezTo>
                  <a:pt x="15732" y="10685"/>
                  <a:pt x="15697" y="10713"/>
                  <a:pt x="15684" y="10763"/>
                </a:cubicBezTo>
                <a:cubicBezTo>
                  <a:pt x="15774" y="10763"/>
                  <a:pt x="15832" y="10770"/>
                  <a:pt x="15907" y="10795"/>
                </a:cubicBezTo>
                <a:cubicBezTo>
                  <a:pt x="15917" y="10795"/>
                  <a:pt x="15928" y="10795"/>
                  <a:pt x="15938" y="107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Ink 15"/>
          <p:cNvSpPr/>
          <p:nvPr/>
        </p:nvSpPr>
        <p:spPr>
          <a:xfrm>
            <a:off x="6469200" y="3703680"/>
            <a:ext cx="2446200" cy="754200"/>
          </a:xfrm>
          <a:custGeom>
            <a:avLst/>
            <a:gdLst/>
            <a:ahLst/>
            <a:rect l="l" t="t" r="r" b="b"/>
            <a:pathLst>
              <a:path w="6796" h="2096">
                <a:moveTo>
                  <a:pt x="17970" y="11335"/>
                </a:moveTo>
                <a:cubicBezTo>
                  <a:pt x="17989" y="11412"/>
                  <a:pt x="17972" y="11486"/>
                  <a:pt x="18002" y="11557"/>
                </a:cubicBezTo>
                <a:cubicBezTo>
                  <a:pt x="18043" y="11651"/>
                  <a:pt x="18094" y="11747"/>
                  <a:pt x="18129" y="11843"/>
                </a:cubicBezTo>
                <a:cubicBezTo>
                  <a:pt x="18168" y="11950"/>
                  <a:pt x="18221" y="12051"/>
                  <a:pt x="18256" y="12160"/>
                </a:cubicBezTo>
                <a:cubicBezTo>
                  <a:pt x="18279" y="12232"/>
                  <a:pt x="18297" y="12316"/>
                  <a:pt x="18320" y="12382"/>
                </a:cubicBezTo>
                <a:cubicBezTo>
                  <a:pt x="18304" y="12269"/>
                  <a:pt x="18299" y="12152"/>
                  <a:pt x="18288" y="12033"/>
                </a:cubicBezTo>
                <a:cubicBezTo>
                  <a:pt x="18272" y="11862"/>
                  <a:pt x="18258" y="11699"/>
                  <a:pt x="18256" y="11525"/>
                </a:cubicBezTo>
                <a:cubicBezTo>
                  <a:pt x="18252" y="11247"/>
                  <a:pt x="18204" y="10899"/>
                  <a:pt x="18288" y="10636"/>
                </a:cubicBezTo>
                <a:cubicBezTo>
                  <a:pt x="18312" y="10561"/>
                  <a:pt x="18326" y="10512"/>
                  <a:pt x="18383" y="10478"/>
                </a:cubicBezTo>
                <a:cubicBezTo>
                  <a:pt x="18418" y="10457"/>
                  <a:pt x="18505" y="10421"/>
                  <a:pt x="18542" y="10414"/>
                </a:cubicBezTo>
                <a:cubicBezTo>
                  <a:pt x="18741" y="10374"/>
                  <a:pt x="19008" y="10386"/>
                  <a:pt x="19209" y="10382"/>
                </a:cubicBezTo>
                <a:cubicBezTo>
                  <a:pt x="19527" y="10376"/>
                  <a:pt x="19847" y="10364"/>
                  <a:pt x="20161" y="10350"/>
                </a:cubicBezTo>
                <a:cubicBezTo>
                  <a:pt x="20426" y="10338"/>
                  <a:pt x="20692" y="10329"/>
                  <a:pt x="20955" y="10319"/>
                </a:cubicBezTo>
                <a:cubicBezTo>
                  <a:pt x="21146" y="10312"/>
                  <a:pt x="21337" y="10296"/>
                  <a:pt x="21526" y="10287"/>
                </a:cubicBezTo>
                <a:cubicBezTo>
                  <a:pt x="21710" y="10278"/>
                  <a:pt x="21884" y="10312"/>
                  <a:pt x="22066" y="10319"/>
                </a:cubicBezTo>
                <a:cubicBezTo>
                  <a:pt x="22436" y="10334"/>
                  <a:pt x="22812" y="10333"/>
                  <a:pt x="23178" y="10350"/>
                </a:cubicBezTo>
                <a:cubicBezTo>
                  <a:pt x="23400" y="10360"/>
                  <a:pt x="23628" y="10371"/>
                  <a:pt x="23844" y="10382"/>
                </a:cubicBezTo>
                <a:cubicBezTo>
                  <a:pt x="24061" y="10393"/>
                  <a:pt x="24268" y="10372"/>
                  <a:pt x="24479" y="10414"/>
                </a:cubicBezTo>
                <a:cubicBezTo>
                  <a:pt x="24562" y="10430"/>
                  <a:pt x="24623" y="10447"/>
                  <a:pt x="24702" y="10478"/>
                </a:cubicBezTo>
                <a:cubicBezTo>
                  <a:pt x="24730" y="10506"/>
                  <a:pt x="24737" y="10517"/>
                  <a:pt x="24765" y="10509"/>
                </a:cubicBezTo>
              </a:path>
              <a:path w="6796" h="2096">
                <a:moveTo>
                  <a:pt x="19463" y="10763"/>
                </a:moveTo>
                <a:cubicBezTo>
                  <a:pt x="19463" y="10753"/>
                  <a:pt x="19463" y="10742"/>
                  <a:pt x="19463" y="10732"/>
                </a:cubicBezTo>
              </a:path>
              <a:path w="6796" h="2096">
                <a:moveTo>
                  <a:pt x="19463" y="10763"/>
                </a:moveTo>
                <a:cubicBezTo>
                  <a:pt x="19473" y="10731"/>
                  <a:pt x="19484" y="10700"/>
                  <a:pt x="19494" y="10668"/>
                </a:cubicBezTo>
              </a:path>
              <a:path w="6796" h="2096">
                <a:moveTo>
                  <a:pt x="19494" y="10668"/>
                </a:moveTo>
                <a:cubicBezTo>
                  <a:pt x="19462" y="10693"/>
                  <a:pt x="19443" y="10693"/>
                  <a:pt x="19399" y="10732"/>
                </a:cubicBezTo>
                <a:cubicBezTo>
                  <a:pt x="19357" y="10769"/>
                  <a:pt x="19271" y="10822"/>
                  <a:pt x="19240" y="10858"/>
                </a:cubicBezTo>
                <a:cubicBezTo>
                  <a:pt x="19185" y="10922"/>
                  <a:pt x="19123" y="11007"/>
                  <a:pt x="19082" y="11081"/>
                </a:cubicBezTo>
                <a:cubicBezTo>
                  <a:pt x="19030" y="11174"/>
                  <a:pt x="19017" y="11273"/>
                  <a:pt x="18986" y="11366"/>
                </a:cubicBezTo>
                <a:cubicBezTo>
                  <a:pt x="18951" y="11474"/>
                  <a:pt x="18955" y="11568"/>
                  <a:pt x="18955" y="11684"/>
                </a:cubicBezTo>
                <a:cubicBezTo>
                  <a:pt x="18955" y="11788"/>
                  <a:pt x="18979" y="11871"/>
                  <a:pt x="18986" y="11970"/>
                </a:cubicBezTo>
                <a:cubicBezTo>
                  <a:pt x="18990" y="12020"/>
                  <a:pt x="19025" y="12092"/>
                  <a:pt x="19050" y="12128"/>
                </a:cubicBezTo>
                <a:cubicBezTo>
                  <a:pt x="19079" y="12170"/>
                  <a:pt x="19094" y="12231"/>
                  <a:pt x="19145" y="12224"/>
                </a:cubicBezTo>
                <a:cubicBezTo>
                  <a:pt x="19156" y="12213"/>
                  <a:pt x="19166" y="12203"/>
                  <a:pt x="19177" y="12192"/>
                </a:cubicBezTo>
              </a:path>
              <a:path w="6796" h="2096">
                <a:moveTo>
                  <a:pt x="19526" y="11208"/>
                </a:moveTo>
                <a:cubicBezTo>
                  <a:pt x="19513" y="11247"/>
                  <a:pt x="19474" y="11250"/>
                  <a:pt x="19463" y="11303"/>
                </a:cubicBezTo>
                <a:cubicBezTo>
                  <a:pt x="19446" y="11385"/>
                  <a:pt x="19406" y="11445"/>
                  <a:pt x="19399" y="11525"/>
                </a:cubicBezTo>
                <a:cubicBezTo>
                  <a:pt x="19391" y="11618"/>
                  <a:pt x="19410" y="11664"/>
                  <a:pt x="19431" y="11748"/>
                </a:cubicBezTo>
                <a:cubicBezTo>
                  <a:pt x="19441" y="11788"/>
                  <a:pt x="19480" y="11854"/>
                  <a:pt x="19526" y="11874"/>
                </a:cubicBezTo>
                <a:cubicBezTo>
                  <a:pt x="19569" y="11893"/>
                  <a:pt x="19601" y="11906"/>
                  <a:pt x="19653" y="11906"/>
                </a:cubicBezTo>
                <a:cubicBezTo>
                  <a:pt x="19729" y="11906"/>
                  <a:pt x="19701" y="11896"/>
                  <a:pt x="19748" y="11843"/>
                </a:cubicBezTo>
                <a:cubicBezTo>
                  <a:pt x="19797" y="11788"/>
                  <a:pt x="19780" y="11727"/>
                  <a:pt x="19780" y="11652"/>
                </a:cubicBezTo>
                <a:cubicBezTo>
                  <a:pt x="19780" y="11516"/>
                  <a:pt x="19780" y="11398"/>
                  <a:pt x="19748" y="11271"/>
                </a:cubicBezTo>
                <a:cubicBezTo>
                  <a:pt x="19735" y="11218"/>
                  <a:pt x="19712" y="11183"/>
                  <a:pt x="19653" y="11176"/>
                </a:cubicBezTo>
                <a:cubicBezTo>
                  <a:pt x="19621" y="11172"/>
                  <a:pt x="19539" y="11188"/>
                  <a:pt x="19526" y="11208"/>
                </a:cubicBezTo>
                <a:cubicBezTo>
                  <a:pt x="19526" y="11244"/>
                  <a:pt x="19523" y="11258"/>
                  <a:pt x="19494" y="11271"/>
                </a:cubicBezTo>
              </a:path>
              <a:path w="6796" h="2096">
                <a:moveTo>
                  <a:pt x="20034" y="11366"/>
                </a:moveTo>
                <a:cubicBezTo>
                  <a:pt x="20023" y="11366"/>
                  <a:pt x="20013" y="11366"/>
                  <a:pt x="20002" y="11366"/>
                </a:cubicBezTo>
                <a:cubicBezTo>
                  <a:pt x="20032" y="11356"/>
                  <a:pt x="20063" y="11355"/>
                  <a:pt x="20098" y="11335"/>
                </a:cubicBezTo>
                <a:cubicBezTo>
                  <a:pt x="20145" y="11309"/>
                  <a:pt x="20202" y="11275"/>
                  <a:pt x="20256" y="11271"/>
                </a:cubicBezTo>
                <a:cubicBezTo>
                  <a:pt x="20277" y="11271"/>
                  <a:pt x="20299" y="11271"/>
                  <a:pt x="20320" y="11271"/>
                </a:cubicBezTo>
              </a:path>
              <a:path w="6796" h="2096">
                <a:moveTo>
                  <a:pt x="20479" y="11017"/>
                </a:moveTo>
                <a:cubicBezTo>
                  <a:pt x="20479" y="11090"/>
                  <a:pt x="20458" y="11141"/>
                  <a:pt x="20447" y="11208"/>
                </a:cubicBezTo>
                <a:cubicBezTo>
                  <a:pt x="20431" y="11305"/>
                  <a:pt x="20388" y="11392"/>
                  <a:pt x="20384" y="11494"/>
                </a:cubicBezTo>
                <a:cubicBezTo>
                  <a:pt x="20379" y="11612"/>
                  <a:pt x="20375" y="11665"/>
                  <a:pt x="20384" y="11779"/>
                </a:cubicBezTo>
                <a:cubicBezTo>
                  <a:pt x="20388" y="11834"/>
                  <a:pt x="20425" y="11868"/>
                  <a:pt x="20479" y="11874"/>
                </a:cubicBezTo>
                <a:cubicBezTo>
                  <a:pt x="20552" y="11882"/>
                  <a:pt x="20551" y="11846"/>
                  <a:pt x="20606" y="11811"/>
                </a:cubicBezTo>
                <a:cubicBezTo>
                  <a:pt x="20702" y="11749"/>
                  <a:pt x="20700" y="11714"/>
                  <a:pt x="20733" y="11620"/>
                </a:cubicBezTo>
                <a:cubicBezTo>
                  <a:pt x="20759" y="11545"/>
                  <a:pt x="20764" y="11512"/>
                  <a:pt x="20764" y="11430"/>
                </a:cubicBezTo>
                <a:cubicBezTo>
                  <a:pt x="20764" y="11419"/>
                  <a:pt x="20764" y="11409"/>
                  <a:pt x="20764" y="11398"/>
                </a:cubicBezTo>
                <a:cubicBezTo>
                  <a:pt x="20705" y="11398"/>
                  <a:pt x="20683" y="11390"/>
                  <a:pt x="20638" y="11430"/>
                </a:cubicBezTo>
                <a:cubicBezTo>
                  <a:pt x="20605" y="11460"/>
                  <a:pt x="20579" y="11515"/>
                  <a:pt x="20574" y="11557"/>
                </a:cubicBezTo>
                <a:cubicBezTo>
                  <a:pt x="20569" y="11601"/>
                  <a:pt x="20516" y="11670"/>
                  <a:pt x="20542" y="11716"/>
                </a:cubicBezTo>
                <a:cubicBezTo>
                  <a:pt x="20567" y="11762"/>
                  <a:pt x="20568" y="11798"/>
                  <a:pt x="20606" y="11811"/>
                </a:cubicBezTo>
              </a:path>
              <a:path w="6796" h="2096">
                <a:moveTo>
                  <a:pt x="20606" y="10763"/>
                </a:moveTo>
                <a:cubicBezTo>
                  <a:pt x="20664" y="10763"/>
                  <a:pt x="20698" y="10773"/>
                  <a:pt x="20733" y="10827"/>
                </a:cubicBezTo>
                <a:cubicBezTo>
                  <a:pt x="20782" y="10904"/>
                  <a:pt x="20842" y="10954"/>
                  <a:pt x="20892" y="11017"/>
                </a:cubicBezTo>
                <a:cubicBezTo>
                  <a:pt x="20954" y="11095"/>
                  <a:pt x="20986" y="11241"/>
                  <a:pt x="21018" y="11335"/>
                </a:cubicBezTo>
                <a:cubicBezTo>
                  <a:pt x="21062" y="11461"/>
                  <a:pt x="21050" y="11583"/>
                  <a:pt x="21050" y="11716"/>
                </a:cubicBezTo>
                <a:cubicBezTo>
                  <a:pt x="21050" y="11832"/>
                  <a:pt x="21049" y="11956"/>
                  <a:pt x="21018" y="12065"/>
                </a:cubicBezTo>
                <a:cubicBezTo>
                  <a:pt x="21002" y="12122"/>
                  <a:pt x="20952" y="12213"/>
                  <a:pt x="20923" y="12256"/>
                </a:cubicBezTo>
                <a:cubicBezTo>
                  <a:pt x="20894" y="12300"/>
                  <a:pt x="20882" y="12352"/>
                  <a:pt x="20860" y="12287"/>
                </a:cubicBezTo>
              </a:path>
              <a:path w="6796" h="2096">
                <a:moveTo>
                  <a:pt x="21082" y="10795"/>
                </a:moveTo>
                <a:cubicBezTo>
                  <a:pt x="21092" y="10755"/>
                  <a:pt x="21132" y="10688"/>
                  <a:pt x="21177" y="10668"/>
                </a:cubicBezTo>
                <a:cubicBezTo>
                  <a:pt x="21212" y="10652"/>
                  <a:pt x="21267" y="10689"/>
                  <a:pt x="21272" y="10700"/>
                </a:cubicBezTo>
                <a:cubicBezTo>
                  <a:pt x="21286" y="10728"/>
                  <a:pt x="21250" y="10840"/>
                  <a:pt x="21241" y="10858"/>
                </a:cubicBezTo>
                <a:cubicBezTo>
                  <a:pt x="21228" y="10884"/>
                  <a:pt x="21189" y="11007"/>
                  <a:pt x="21177" y="11017"/>
                </a:cubicBezTo>
                <a:cubicBezTo>
                  <a:pt x="21146" y="11017"/>
                  <a:pt x="21135" y="11017"/>
                  <a:pt x="21146" y="11049"/>
                </a:cubicBezTo>
                <a:cubicBezTo>
                  <a:pt x="21194" y="11001"/>
                  <a:pt x="21205" y="10986"/>
                  <a:pt x="21272" y="10986"/>
                </a:cubicBezTo>
                <a:cubicBezTo>
                  <a:pt x="21327" y="10986"/>
                  <a:pt x="21323" y="10984"/>
                  <a:pt x="21368" y="11017"/>
                </a:cubicBezTo>
              </a:path>
              <a:path w="6796" h="2096">
                <a:moveTo>
                  <a:pt x="21749" y="11017"/>
                </a:moveTo>
                <a:cubicBezTo>
                  <a:pt x="21749" y="11230"/>
                  <a:pt x="21768" y="11451"/>
                  <a:pt x="21717" y="11652"/>
                </a:cubicBezTo>
                <a:cubicBezTo>
                  <a:pt x="21703" y="11708"/>
                  <a:pt x="21741" y="11697"/>
                  <a:pt x="21685" y="11716"/>
                </a:cubicBezTo>
              </a:path>
              <a:path w="6796" h="2096">
                <a:moveTo>
                  <a:pt x="21622" y="11335"/>
                </a:moveTo>
                <a:cubicBezTo>
                  <a:pt x="21718" y="11335"/>
                  <a:pt x="21787" y="11325"/>
                  <a:pt x="21876" y="11303"/>
                </a:cubicBezTo>
                <a:cubicBezTo>
                  <a:pt x="21921" y="11303"/>
                  <a:pt x="21943" y="11297"/>
                  <a:pt x="21971" y="11271"/>
                </a:cubicBezTo>
              </a:path>
              <a:path w="6796" h="2096">
                <a:moveTo>
                  <a:pt x="22574" y="10668"/>
                </a:moveTo>
                <a:cubicBezTo>
                  <a:pt x="22574" y="10743"/>
                  <a:pt x="22545" y="10790"/>
                  <a:pt x="22511" y="10858"/>
                </a:cubicBezTo>
                <a:cubicBezTo>
                  <a:pt x="22448" y="10984"/>
                  <a:pt x="22394" y="11073"/>
                  <a:pt x="22352" y="11208"/>
                </a:cubicBezTo>
                <a:cubicBezTo>
                  <a:pt x="22313" y="11334"/>
                  <a:pt x="22240" y="11424"/>
                  <a:pt x="22225" y="11557"/>
                </a:cubicBezTo>
                <a:cubicBezTo>
                  <a:pt x="22213" y="11657"/>
                  <a:pt x="22241" y="11732"/>
                  <a:pt x="22257" y="11811"/>
                </a:cubicBezTo>
                <a:cubicBezTo>
                  <a:pt x="22274" y="11895"/>
                  <a:pt x="22289" y="11907"/>
                  <a:pt x="22352" y="11970"/>
                </a:cubicBezTo>
                <a:cubicBezTo>
                  <a:pt x="22391" y="12009"/>
                  <a:pt x="22439" y="12007"/>
                  <a:pt x="22479" y="12033"/>
                </a:cubicBezTo>
                <a:cubicBezTo>
                  <a:pt x="22527" y="12065"/>
                  <a:pt x="22542" y="12109"/>
                  <a:pt x="22542" y="12065"/>
                </a:cubicBezTo>
              </a:path>
              <a:path w="6796" h="2096">
                <a:moveTo>
                  <a:pt x="22828" y="11081"/>
                </a:moveTo>
                <a:cubicBezTo>
                  <a:pt x="22746" y="11101"/>
                  <a:pt x="22767" y="11164"/>
                  <a:pt x="22733" y="11240"/>
                </a:cubicBezTo>
                <a:cubicBezTo>
                  <a:pt x="22689" y="11339"/>
                  <a:pt x="22643" y="11414"/>
                  <a:pt x="22638" y="11525"/>
                </a:cubicBezTo>
                <a:cubicBezTo>
                  <a:pt x="22633" y="11652"/>
                  <a:pt x="22641" y="11758"/>
                  <a:pt x="22670" y="11874"/>
                </a:cubicBezTo>
                <a:cubicBezTo>
                  <a:pt x="22670" y="11885"/>
                  <a:pt x="22670" y="11895"/>
                  <a:pt x="22670" y="11906"/>
                </a:cubicBezTo>
                <a:cubicBezTo>
                  <a:pt x="22739" y="11906"/>
                  <a:pt x="22775" y="11890"/>
                  <a:pt x="22828" y="11843"/>
                </a:cubicBezTo>
                <a:cubicBezTo>
                  <a:pt x="22879" y="11797"/>
                  <a:pt x="22940" y="11687"/>
                  <a:pt x="22955" y="11620"/>
                </a:cubicBezTo>
                <a:cubicBezTo>
                  <a:pt x="22980" y="11508"/>
                  <a:pt x="22972" y="11445"/>
                  <a:pt x="22955" y="11335"/>
                </a:cubicBezTo>
                <a:cubicBezTo>
                  <a:pt x="22942" y="11256"/>
                  <a:pt x="22918" y="11209"/>
                  <a:pt x="22860" y="11144"/>
                </a:cubicBezTo>
                <a:cubicBezTo>
                  <a:pt x="22824" y="11104"/>
                  <a:pt x="22814" y="11112"/>
                  <a:pt x="22765" y="11112"/>
                </a:cubicBezTo>
              </a:path>
              <a:path w="6796" h="2096">
                <a:moveTo>
                  <a:pt x="23304" y="11208"/>
                </a:moveTo>
                <a:cubicBezTo>
                  <a:pt x="23260" y="11268"/>
                  <a:pt x="23273" y="11320"/>
                  <a:pt x="23273" y="11398"/>
                </a:cubicBezTo>
                <a:cubicBezTo>
                  <a:pt x="23273" y="11525"/>
                  <a:pt x="23273" y="11652"/>
                  <a:pt x="23273" y="11779"/>
                </a:cubicBezTo>
              </a:path>
              <a:path w="6796" h="2096">
                <a:moveTo>
                  <a:pt x="23178" y="11462"/>
                </a:moveTo>
                <a:cubicBezTo>
                  <a:pt x="23265" y="11462"/>
                  <a:pt x="23327" y="11452"/>
                  <a:pt x="23400" y="11430"/>
                </a:cubicBezTo>
                <a:cubicBezTo>
                  <a:pt x="23437" y="11419"/>
                  <a:pt x="23458" y="11407"/>
                  <a:pt x="23495" y="11398"/>
                </a:cubicBezTo>
              </a:path>
              <a:path w="6796" h="2096">
                <a:moveTo>
                  <a:pt x="23622" y="11017"/>
                </a:moveTo>
                <a:cubicBezTo>
                  <a:pt x="23622" y="11209"/>
                  <a:pt x="23542" y="11633"/>
                  <a:pt x="23654" y="11779"/>
                </a:cubicBezTo>
              </a:path>
              <a:path w="6796" h="2096">
                <a:moveTo>
                  <a:pt x="23844" y="10986"/>
                </a:moveTo>
                <a:cubicBezTo>
                  <a:pt x="23844" y="11054"/>
                  <a:pt x="23816" y="11074"/>
                  <a:pt x="23812" y="11144"/>
                </a:cubicBezTo>
                <a:cubicBezTo>
                  <a:pt x="23807" y="11229"/>
                  <a:pt x="23770" y="11295"/>
                  <a:pt x="23749" y="11366"/>
                </a:cubicBezTo>
                <a:cubicBezTo>
                  <a:pt x="23749" y="11398"/>
                  <a:pt x="23749" y="11409"/>
                  <a:pt x="23749" y="11430"/>
                </a:cubicBezTo>
                <a:cubicBezTo>
                  <a:pt x="23799" y="11417"/>
                  <a:pt x="23819" y="11398"/>
                  <a:pt x="23876" y="11398"/>
                </a:cubicBezTo>
                <a:cubicBezTo>
                  <a:pt x="23940" y="11398"/>
                  <a:pt x="24017" y="11419"/>
                  <a:pt x="24035" y="11366"/>
                </a:cubicBezTo>
              </a:path>
              <a:path w="6796" h="2096">
                <a:moveTo>
                  <a:pt x="24035" y="11017"/>
                </a:moveTo>
                <a:cubicBezTo>
                  <a:pt x="24035" y="11261"/>
                  <a:pt x="24035" y="11504"/>
                  <a:pt x="24035" y="11748"/>
                </a:cubicBezTo>
              </a:path>
              <a:path w="6796" h="2096">
                <a:moveTo>
                  <a:pt x="24003" y="10700"/>
                </a:moveTo>
                <a:cubicBezTo>
                  <a:pt x="23949" y="10727"/>
                  <a:pt x="24032" y="10743"/>
                  <a:pt x="24066" y="10795"/>
                </a:cubicBezTo>
                <a:cubicBezTo>
                  <a:pt x="24113" y="10867"/>
                  <a:pt x="24155" y="10939"/>
                  <a:pt x="24194" y="11017"/>
                </a:cubicBezTo>
                <a:cubicBezTo>
                  <a:pt x="24238" y="11105"/>
                  <a:pt x="24305" y="11204"/>
                  <a:pt x="24320" y="11303"/>
                </a:cubicBezTo>
                <a:cubicBezTo>
                  <a:pt x="24338" y="11424"/>
                  <a:pt x="24304" y="11536"/>
                  <a:pt x="24289" y="11652"/>
                </a:cubicBezTo>
                <a:cubicBezTo>
                  <a:pt x="24279" y="11727"/>
                  <a:pt x="24232" y="11778"/>
                  <a:pt x="24225" y="11843"/>
                </a:cubicBezTo>
                <a:cubicBezTo>
                  <a:pt x="24221" y="11875"/>
                  <a:pt x="24181" y="11909"/>
                  <a:pt x="24225" y="11843"/>
                </a:cubicBezTo>
              </a:path>
              <a:path w="6796" h="2096">
                <a:moveTo>
                  <a:pt x="24448" y="10668"/>
                </a:moveTo>
                <a:cubicBezTo>
                  <a:pt x="24437" y="10668"/>
                  <a:pt x="24427" y="10668"/>
                  <a:pt x="24416" y="10668"/>
                </a:cubicBezTo>
                <a:cubicBezTo>
                  <a:pt x="24427" y="10634"/>
                  <a:pt x="24440" y="10609"/>
                  <a:pt x="24479" y="10604"/>
                </a:cubicBezTo>
                <a:cubicBezTo>
                  <a:pt x="24511" y="10604"/>
                  <a:pt x="24521" y="10604"/>
                  <a:pt x="24511" y="10573"/>
                </a:cubicBezTo>
                <a:cubicBezTo>
                  <a:pt x="24543" y="10597"/>
                  <a:pt x="24604" y="10612"/>
                  <a:pt x="24574" y="10668"/>
                </a:cubicBezTo>
                <a:cubicBezTo>
                  <a:pt x="24549" y="10715"/>
                  <a:pt x="24493" y="10806"/>
                  <a:pt x="24479" y="10858"/>
                </a:cubicBezTo>
                <a:cubicBezTo>
                  <a:pt x="24466" y="10908"/>
                  <a:pt x="24459" y="10939"/>
                  <a:pt x="24448" y="10986"/>
                </a:cubicBezTo>
                <a:cubicBezTo>
                  <a:pt x="24497" y="10973"/>
                  <a:pt x="24517" y="10954"/>
                  <a:pt x="24574" y="10954"/>
                </a:cubicBezTo>
                <a:cubicBezTo>
                  <a:pt x="24642" y="10954"/>
                  <a:pt x="24680" y="10945"/>
                  <a:pt x="24733" y="109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Ink 16"/>
          <p:cNvSpPr/>
          <p:nvPr/>
        </p:nvSpPr>
        <p:spPr>
          <a:xfrm>
            <a:off x="3292560" y="4479840"/>
            <a:ext cx="2308320" cy="720720"/>
          </a:xfrm>
          <a:custGeom>
            <a:avLst/>
            <a:gdLst/>
            <a:ahLst/>
            <a:rect l="l" t="t" r="r" b="b"/>
            <a:pathLst>
              <a:path w="6415" h="2001">
                <a:moveTo>
                  <a:pt x="9144" y="13018"/>
                </a:moveTo>
                <a:cubicBezTo>
                  <a:pt x="9168" y="13065"/>
                  <a:pt x="9196" y="13091"/>
                  <a:pt x="9208" y="13144"/>
                </a:cubicBezTo>
                <a:cubicBezTo>
                  <a:pt x="9223" y="13212"/>
                  <a:pt x="9236" y="13299"/>
                  <a:pt x="9239" y="13367"/>
                </a:cubicBezTo>
                <a:cubicBezTo>
                  <a:pt x="9244" y="13478"/>
                  <a:pt x="9265" y="13576"/>
                  <a:pt x="9271" y="13684"/>
                </a:cubicBezTo>
                <a:cubicBezTo>
                  <a:pt x="9276" y="13786"/>
                  <a:pt x="9319" y="13874"/>
                  <a:pt x="9334" y="13970"/>
                </a:cubicBezTo>
                <a:cubicBezTo>
                  <a:pt x="9343" y="14024"/>
                  <a:pt x="9343" y="14111"/>
                  <a:pt x="9366" y="14160"/>
                </a:cubicBezTo>
                <a:cubicBezTo>
                  <a:pt x="9377" y="14171"/>
                  <a:pt x="9387" y="14181"/>
                  <a:pt x="9398" y="14192"/>
                </a:cubicBezTo>
                <a:cubicBezTo>
                  <a:pt x="9405" y="14133"/>
                  <a:pt x="9421" y="14090"/>
                  <a:pt x="9430" y="14034"/>
                </a:cubicBezTo>
                <a:cubicBezTo>
                  <a:pt x="9447" y="13930"/>
                  <a:pt x="9481" y="13820"/>
                  <a:pt x="9493" y="13716"/>
                </a:cubicBezTo>
                <a:cubicBezTo>
                  <a:pt x="9508" y="13582"/>
                  <a:pt x="9503" y="13436"/>
                  <a:pt x="9525" y="13303"/>
                </a:cubicBezTo>
                <a:cubicBezTo>
                  <a:pt x="9547" y="13172"/>
                  <a:pt x="9557" y="13058"/>
                  <a:pt x="9557" y="12922"/>
                </a:cubicBezTo>
                <a:cubicBezTo>
                  <a:pt x="9557" y="12837"/>
                  <a:pt x="9506" y="12503"/>
                  <a:pt x="9588" y="12446"/>
                </a:cubicBezTo>
                <a:cubicBezTo>
                  <a:pt x="9646" y="12406"/>
                  <a:pt x="9768" y="12471"/>
                  <a:pt x="9811" y="12478"/>
                </a:cubicBezTo>
                <a:cubicBezTo>
                  <a:pt x="10012" y="12512"/>
                  <a:pt x="10256" y="12476"/>
                  <a:pt x="10446" y="12446"/>
                </a:cubicBezTo>
                <a:cubicBezTo>
                  <a:pt x="10650" y="12414"/>
                  <a:pt x="10887" y="12447"/>
                  <a:pt x="11081" y="12478"/>
                </a:cubicBezTo>
                <a:cubicBezTo>
                  <a:pt x="11151" y="12489"/>
                  <a:pt x="11180" y="12485"/>
                  <a:pt x="11240" y="12510"/>
                </a:cubicBezTo>
                <a:cubicBezTo>
                  <a:pt x="11281" y="12527"/>
                  <a:pt x="11313" y="12555"/>
                  <a:pt x="11335" y="12573"/>
                </a:cubicBezTo>
              </a:path>
              <a:path w="6415" h="2001">
                <a:moveTo>
                  <a:pt x="9970" y="12922"/>
                </a:moveTo>
                <a:cubicBezTo>
                  <a:pt x="9995" y="12897"/>
                  <a:pt x="10057" y="12831"/>
                  <a:pt x="10065" y="12827"/>
                </a:cubicBezTo>
                <a:cubicBezTo>
                  <a:pt x="10098" y="12810"/>
                  <a:pt x="10156" y="12776"/>
                  <a:pt x="10192" y="12764"/>
                </a:cubicBezTo>
                <a:cubicBezTo>
                  <a:pt x="10218" y="12756"/>
                  <a:pt x="10301" y="12727"/>
                  <a:pt x="10319" y="12732"/>
                </a:cubicBezTo>
                <a:cubicBezTo>
                  <a:pt x="10379" y="12749"/>
                  <a:pt x="10439" y="12764"/>
                  <a:pt x="10446" y="12827"/>
                </a:cubicBezTo>
                <a:cubicBezTo>
                  <a:pt x="10453" y="12888"/>
                  <a:pt x="10418" y="12937"/>
                  <a:pt x="10382" y="12986"/>
                </a:cubicBezTo>
                <a:cubicBezTo>
                  <a:pt x="10336" y="13047"/>
                  <a:pt x="10301" y="13115"/>
                  <a:pt x="10255" y="13176"/>
                </a:cubicBezTo>
                <a:cubicBezTo>
                  <a:pt x="10193" y="13260"/>
                  <a:pt x="10150" y="13344"/>
                  <a:pt x="10096" y="13430"/>
                </a:cubicBezTo>
                <a:cubicBezTo>
                  <a:pt x="10045" y="13512"/>
                  <a:pt x="9996" y="13607"/>
                  <a:pt x="9938" y="13684"/>
                </a:cubicBezTo>
                <a:cubicBezTo>
                  <a:pt x="9895" y="13742"/>
                  <a:pt x="9893" y="13691"/>
                  <a:pt x="9874" y="13748"/>
                </a:cubicBezTo>
                <a:cubicBezTo>
                  <a:pt x="9888" y="13705"/>
                  <a:pt x="9925" y="13710"/>
                  <a:pt x="9938" y="13684"/>
                </a:cubicBezTo>
                <a:cubicBezTo>
                  <a:pt x="9960" y="13640"/>
                  <a:pt x="9971" y="13652"/>
                  <a:pt x="10033" y="13652"/>
                </a:cubicBezTo>
                <a:cubicBezTo>
                  <a:pt x="10098" y="13652"/>
                  <a:pt x="10143" y="13640"/>
                  <a:pt x="10192" y="13684"/>
                </a:cubicBezTo>
                <a:cubicBezTo>
                  <a:pt x="10237" y="13724"/>
                  <a:pt x="10254" y="13723"/>
                  <a:pt x="10287" y="13748"/>
                </a:cubicBezTo>
                <a:cubicBezTo>
                  <a:pt x="10368" y="13809"/>
                  <a:pt x="10329" y="13807"/>
                  <a:pt x="10414" y="13780"/>
                </a:cubicBezTo>
                <a:cubicBezTo>
                  <a:pt x="10425" y="13780"/>
                  <a:pt x="10435" y="13780"/>
                  <a:pt x="10446" y="13780"/>
                </a:cubicBezTo>
              </a:path>
              <a:path w="6415" h="2001">
                <a:moveTo>
                  <a:pt x="10922" y="12922"/>
                </a:moveTo>
                <a:cubicBezTo>
                  <a:pt x="10866" y="12941"/>
                  <a:pt x="10877" y="12957"/>
                  <a:pt x="10827" y="13018"/>
                </a:cubicBezTo>
                <a:cubicBezTo>
                  <a:pt x="10771" y="13086"/>
                  <a:pt x="10704" y="13159"/>
                  <a:pt x="10668" y="13240"/>
                </a:cubicBezTo>
                <a:cubicBezTo>
                  <a:pt x="10633" y="13321"/>
                  <a:pt x="10611" y="13468"/>
                  <a:pt x="10636" y="13557"/>
                </a:cubicBezTo>
                <a:cubicBezTo>
                  <a:pt x="10649" y="13602"/>
                  <a:pt x="10708" y="13732"/>
                  <a:pt x="10763" y="13748"/>
                </a:cubicBezTo>
                <a:cubicBezTo>
                  <a:pt x="10814" y="13763"/>
                  <a:pt x="10921" y="13764"/>
                  <a:pt x="10954" y="13716"/>
                </a:cubicBezTo>
                <a:cubicBezTo>
                  <a:pt x="11019" y="13622"/>
                  <a:pt x="11067" y="13549"/>
                  <a:pt x="11081" y="13430"/>
                </a:cubicBezTo>
                <a:cubicBezTo>
                  <a:pt x="11096" y="13302"/>
                  <a:pt x="11095" y="13139"/>
                  <a:pt x="11049" y="13018"/>
                </a:cubicBezTo>
                <a:cubicBezTo>
                  <a:pt x="11024" y="12952"/>
                  <a:pt x="10969" y="12879"/>
                  <a:pt x="10922" y="12827"/>
                </a:cubicBezTo>
                <a:cubicBezTo>
                  <a:pt x="10911" y="12816"/>
                  <a:pt x="10901" y="12806"/>
                  <a:pt x="10890" y="12795"/>
                </a:cubicBezTo>
              </a:path>
              <a:path w="6415" h="2001">
                <a:moveTo>
                  <a:pt x="11684" y="13113"/>
                </a:moveTo>
                <a:cubicBezTo>
                  <a:pt x="11701" y="13047"/>
                  <a:pt x="11748" y="13031"/>
                  <a:pt x="11748" y="12954"/>
                </a:cubicBezTo>
                <a:cubicBezTo>
                  <a:pt x="11748" y="12899"/>
                  <a:pt x="11690" y="12865"/>
                  <a:pt x="11652" y="12827"/>
                </a:cubicBezTo>
                <a:cubicBezTo>
                  <a:pt x="11608" y="12783"/>
                  <a:pt x="11529" y="12737"/>
                  <a:pt x="11462" y="12764"/>
                </a:cubicBezTo>
                <a:cubicBezTo>
                  <a:pt x="11382" y="12797"/>
                  <a:pt x="11351" y="12858"/>
                  <a:pt x="11303" y="12922"/>
                </a:cubicBezTo>
                <a:cubicBezTo>
                  <a:pt x="11268" y="12969"/>
                  <a:pt x="11262" y="13096"/>
                  <a:pt x="11303" y="13144"/>
                </a:cubicBezTo>
                <a:cubicBezTo>
                  <a:pt x="11350" y="13200"/>
                  <a:pt x="11444" y="13285"/>
                  <a:pt x="11525" y="13303"/>
                </a:cubicBezTo>
                <a:cubicBezTo>
                  <a:pt x="11581" y="13315"/>
                  <a:pt x="11695" y="13313"/>
                  <a:pt x="11716" y="13240"/>
                </a:cubicBezTo>
                <a:cubicBezTo>
                  <a:pt x="11732" y="13185"/>
                  <a:pt x="11772" y="13081"/>
                  <a:pt x="11748" y="13018"/>
                </a:cubicBezTo>
                <a:cubicBezTo>
                  <a:pt x="11730" y="12973"/>
                  <a:pt x="11702" y="12928"/>
                  <a:pt x="11652" y="12922"/>
                </a:cubicBezTo>
                <a:cubicBezTo>
                  <a:pt x="11620" y="12922"/>
                  <a:pt x="11610" y="12922"/>
                  <a:pt x="11589" y="12922"/>
                </a:cubicBezTo>
              </a:path>
              <a:path w="6415" h="2001">
                <a:moveTo>
                  <a:pt x="11589" y="13367"/>
                </a:moveTo>
                <a:cubicBezTo>
                  <a:pt x="11546" y="13335"/>
                  <a:pt x="11503" y="13308"/>
                  <a:pt x="11462" y="13367"/>
                </a:cubicBezTo>
                <a:cubicBezTo>
                  <a:pt x="11418" y="13429"/>
                  <a:pt x="11362" y="13444"/>
                  <a:pt x="11335" y="13526"/>
                </a:cubicBezTo>
                <a:cubicBezTo>
                  <a:pt x="11314" y="13589"/>
                  <a:pt x="11283" y="13676"/>
                  <a:pt x="11303" y="13748"/>
                </a:cubicBezTo>
                <a:cubicBezTo>
                  <a:pt x="11327" y="13834"/>
                  <a:pt x="11353" y="13895"/>
                  <a:pt x="11398" y="13970"/>
                </a:cubicBezTo>
                <a:cubicBezTo>
                  <a:pt x="11432" y="14027"/>
                  <a:pt x="11454" y="14089"/>
                  <a:pt x="11525" y="14097"/>
                </a:cubicBezTo>
                <a:cubicBezTo>
                  <a:pt x="11598" y="14105"/>
                  <a:pt x="11578" y="14082"/>
                  <a:pt x="11620" y="14034"/>
                </a:cubicBezTo>
                <a:cubicBezTo>
                  <a:pt x="11655" y="13995"/>
                  <a:pt x="11703" y="13869"/>
                  <a:pt x="11716" y="13811"/>
                </a:cubicBezTo>
                <a:cubicBezTo>
                  <a:pt x="11744" y="13685"/>
                  <a:pt x="11704" y="13546"/>
                  <a:pt x="11684" y="13430"/>
                </a:cubicBezTo>
                <a:cubicBezTo>
                  <a:pt x="11671" y="13352"/>
                  <a:pt x="11639" y="13340"/>
                  <a:pt x="11620" y="13303"/>
                </a:cubicBezTo>
                <a:cubicBezTo>
                  <a:pt x="11620" y="13268"/>
                  <a:pt x="11617" y="13260"/>
                  <a:pt x="11589" y="13303"/>
                </a:cubicBezTo>
              </a:path>
              <a:path w="6415" h="2001">
                <a:moveTo>
                  <a:pt x="11144" y="12541"/>
                </a:moveTo>
                <a:cubicBezTo>
                  <a:pt x="11324" y="12541"/>
                  <a:pt x="11504" y="12541"/>
                  <a:pt x="11684" y="12541"/>
                </a:cubicBezTo>
              </a:path>
              <a:path w="6415" h="2001">
                <a:moveTo>
                  <a:pt x="12256" y="13144"/>
                </a:moveTo>
                <a:cubicBezTo>
                  <a:pt x="12256" y="13080"/>
                  <a:pt x="12274" y="13075"/>
                  <a:pt x="12287" y="13049"/>
                </a:cubicBezTo>
                <a:cubicBezTo>
                  <a:pt x="12299" y="13025"/>
                  <a:pt x="12311" y="12946"/>
                  <a:pt x="12319" y="12922"/>
                </a:cubicBezTo>
                <a:cubicBezTo>
                  <a:pt x="12326" y="12900"/>
                  <a:pt x="12368" y="12804"/>
                  <a:pt x="12382" y="12795"/>
                </a:cubicBezTo>
                <a:cubicBezTo>
                  <a:pt x="12414" y="12774"/>
                  <a:pt x="12482" y="12739"/>
                  <a:pt x="12510" y="12795"/>
                </a:cubicBezTo>
                <a:cubicBezTo>
                  <a:pt x="12527" y="12829"/>
                  <a:pt x="12530" y="12974"/>
                  <a:pt x="12541" y="13018"/>
                </a:cubicBezTo>
                <a:cubicBezTo>
                  <a:pt x="12557" y="13084"/>
                  <a:pt x="12589" y="13082"/>
                  <a:pt x="12636" y="13113"/>
                </a:cubicBezTo>
                <a:cubicBezTo>
                  <a:pt x="12676" y="13139"/>
                  <a:pt x="12740" y="13171"/>
                  <a:pt x="12795" y="13144"/>
                </a:cubicBezTo>
                <a:cubicBezTo>
                  <a:pt x="12849" y="13117"/>
                  <a:pt x="12889" y="13106"/>
                  <a:pt x="12922" y="13081"/>
                </a:cubicBezTo>
                <a:cubicBezTo>
                  <a:pt x="12977" y="13040"/>
                  <a:pt x="12986" y="13057"/>
                  <a:pt x="12986" y="12986"/>
                </a:cubicBezTo>
                <a:cubicBezTo>
                  <a:pt x="12986" y="12929"/>
                  <a:pt x="13002" y="12906"/>
                  <a:pt x="12954" y="12890"/>
                </a:cubicBezTo>
              </a:path>
              <a:path w="6415" h="2001">
                <a:moveTo>
                  <a:pt x="12382" y="13621"/>
                </a:moveTo>
                <a:cubicBezTo>
                  <a:pt x="12395" y="13583"/>
                  <a:pt x="12409" y="13568"/>
                  <a:pt x="12446" y="13526"/>
                </a:cubicBezTo>
                <a:cubicBezTo>
                  <a:pt x="12495" y="13472"/>
                  <a:pt x="12530" y="13424"/>
                  <a:pt x="12573" y="13367"/>
                </a:cubicBezTo>
                <a:cubicBezTo>
                  <a:pt x="12602" y="13338"/>
                  <a:pt x="12608" y="13328"/>
                  <a:pt x="12636" y="13335"/>
                </a:cubicBezTo>
                <a:cubicBezTo>
                  <a:pt x="12644" y="13373"/>
                  <a:pt x="12650" y="13461"/>
                  <a:pt x="12668" y="13494"/>
                </a:cubicBezTo>
                <a:cubicBezTo>
                  <a:pt x="12696" y="13544"/>
                  <a:pt x="12675" y="13608"/>
                  <a:pt x="12700" y="13652"/>
                </a:cubicBezTo>
                <a:cubicBezTo>
                  <a:pt x="12725" y="13697"/>
                  <a:pt x="12739" y="13742"/>
                  <a:pt x="12795" y="13748"/>
                </a:cubicBezTo>
                <a:cubicBezTo>
                  <a:pt x="12840" y="13753"/>
                  <a:pt x="12891" y="13737"/>
                  <a:pt x="12922" y="13716"/>
                </a:cubicBezTo>
                <a:cubicBezTo>
                  <a:pt x="12971" y="13683"/>
                  <a:pt x="13043" y="13612"/>
                  <a:pt x="13049" y="13557"/>
                </a:cubicBezTo>
                <a:cubicBezTo>
                  <a:pt x="13055" y="13505"/>
                  <a:pt x="13057" y="13508"/>
                  <a:pt x="13018" y="13494"/>
                </a:cubicBezTo>
              </a:path>
              <a:path w="6415" h="2001">
                <a:moveTo>
                  <a:pt x="13652" y="12732"/>
                </a:moveTo>
                <a:cubicBezTo>
                  <a:pt x="13652" y="12696"/>
                  <a:pt x="13655" y="12682"/>
                  <a:pt x="13684" y="12668"/>
                </a:cubicBezTo>
              </a:path>
              <a:path w="6415" h="2001">
                <a:moveTo>
                  <a:pt x="13652" y="12732"/>
                </a:moveTo>
                <a:cubicBezTo>
                  <a:pt x="13663" y="12711"/>
                  <a:pt x="13673" y="12689"/>
                  <a:pt x="13684" y="12668"/>
                </a:cubicBezTo>
              </a:path>
              <a:path w="6415" h="2001">
                <a:moveTo>
                  <a:pt x="13684" y="12668"/>
                </a:moveTo>
                <a:cubicBezTo>
                  <a:pt x="13684" y="12766"/>
                  <a:pt x="13653" y="12828"/>
                  <a:pt x="13621" y="12922"/>
                </a:cubicBezTo>
                <a:cubicBezTo>
                  <a:pt x="13580" y="13042"/>
                  <a:pt x="13540" y="13208"/>
                  <a:pt x="13526" y="13335"/>
                </a:cubicBezTo>
                <a:cubicBezTo>
                  <a:pt x="13509" y="13484"/>
                  <a:pt x="13478" y="13633"/>
                  <a:pt x="13462" y="13780"/>
                </a:cubicBezTo>
                <a:cubicBezTo>
                  <a:pt x="13450" y="13888"/>
                  <a:pt x="13438" y="13993"/>
                  <a:pt x="13430" y="14097"/>
                </a:cubicBezTo>
                <a:cubicBezTo>
                  <a:pt x="13430" y="14108"/>
                  <a:pt x="13430" y="14118"/>
                  <a:pt x="13430" y="14129"/>
                </a:cubicBezTo>
                <a:cubicBezTo>
                  <a:pt x="13466" y="14105"/>
                  <a:pt x="13493" y="14004"/>
                  <a:pt x="13526" y="13938"/>
                </a:cubicBezTo>
              </a:path>
              <a:path w="6415" h="2001">
                <a:moveTo>
                  <a:pt x="13970" y="12700"/>
                </a:moveTo>
                <a:cubicBezTo>
                  <a:pt x="13970" y="12782"/>
                  <a:pt x="13948" y="12847"/>
                  <a:pt x="13938" y="12922"/>
                </a:cubicBezTo>
                <a:cubicBezTo>
                  <a:pt x="13923" y="13038"/>
                  <a:pt x="13867" y="13127"/>
                  <a:pt x="13843" y="13240"/>
                </a:cubicBezTo>
                <a:cubicBezTo>
                  <a:pt x="13832" y="13292"/>
                  <a:pt x="13784" y="13409"/>
                  <a:pt x="13811" y="13462"/>
                </a:cubicBezTo>
                <a:cubicBezTo>
                  <a:pt x="13839" y="13519"/>
                  <a:pt x="13845" y="13526"/>
                  <a:pt x="13906" y="13526"/>
                </a:cubicBezTo>
                <a:cubicBezTo>
                  <a:pt x="13991" y="13526"/>
                  <a:pt x="14058" y="13519"/>
                  <a:pt x="14129" y="13557"/>
                </a:cubicBezTo>
                <a:cubicBezTo>
                  <a:pt x="14209" y="13600"/>
                  <a:pt x="14254" y="13598"/>
                  <a:pt x="14319" y="13589"/>
                </a:cubicBezTo>
                <a:cubicBezTo>
                  <a:pt x="14414" y="13576"/>
                  <a:pt x="14396" y="13581"/>
                  <a:pt x="14446" y="13494"/>
                </a:cubicBezTo>
              </a:path>
              <a:path w="6415" h="2001">
                <a:moveTo>
                  <a:pt x="14478" y="12668"/>
                </a:moveTo>
                <a:cubicBezTo>
                  <a:pt x="14459" y="12784"/>
                  <a:pt x="14413" y="12902"/>
                  <a:pt x="14383" y="13018"/>
                </a:cubicBezTo>
                <a:cubicBezTo>
                  <a:pt x="14335" y="13205"/>
                  <a:pt x="14348" y="13400"/>
                  <a:pt x="14319" y="13589"/>
                </a:cubicBezTo>
                <a:cubicBezTo>
                  <a:pt x="14295" y="13745"/>
                  <a:pt x="14289" y="13912"/>
                  <a:pt x="14256" y="14065"/>
                </a:cubicBezTo>
                <a:cubicBezTo>
                  <a:pt x="14239" y="14143"/>
                  <a:pt x="14224" y="14179"/>
                  <a:pt x="14224" y="14256"/>
                </a:cubicBezTo>
              </a:path>
              <a:path w="6415" h="2001">
                <a:moveTo>
                  <a:pt x="14510" y="14065"/>
                </a:moveTo>
                <a:cubicBezTo>
                  <a:pt x="14527" y="14131"/>
                  <a:pt x="14517" y="14125"/>
                  <a:pt x="14573" y="14097"/>
                </a:cubicBezTo>
              </a:path>
              <a:path w="6415" h="2001">
                <a:moveTo>
                  <a:pt x="15050" y="12827"/>
                </a:moveTo>
                <a:cubicBezTo>
                  <a:pt x="15050" y="12932"/>
                  <a:pt x="15030" y="13013"/>
                  <a:pt x="15018" y="13113"/>
                </a:cubicBezTo>
                <a:cubicBezTo>
                  <a:pt x="15004" y="13236"/>
                  <a:pt x="14984" y="13376"/>
                  <a:pt x="14954" y="13494"/>
                </a:cubicBezTo>
                <a:cubicBezTo>
                  <a:pt x="14943" y="13536"/>
                  <a:pt x="14886" y="13666"/>
                  <a:pt x="14922" y="13716"/>
                </a:cubicBezTo>
                <a:cubicBezTo>
                  <a:pt x="14929" y="13726"/>
                  <a:pt x="14983" y="13767"/>
                  <a:pt x="15018" y="13748"/>
                </a:cubicBezTo>
                <a:cubicBezTo>
                  <a:pt x="15069" y="13720"/>
                  <a:pt x="15068" y="13690"/>
                  <a:pt x="15113" y="13684"/>
                </a:cubicBezTo>
                <a:cubicBezTo>
                  <a:pt x="15153" y="13679"/>
                  <a:pt x="15211" y="13722"/>
                  <a:pt x="15240" y="13748"/>
                </a:cubicBezTo>
                <a:cubicBezTo>
                  <a:pt x="15273" y="13777"/>
                  <a:pt x="15351" y="13824"/>
                  <a:pt x="15399" y="13811"/>
                </a:cubicBezTo>
                <a:cubicBezTo>
                  <a:pt x="15462" y="13780"/>
                  <a:pt x="15484" y="13769"/>
                  <a:pt x="15494" y="13716"/>
                </a:cubicBezTo>
              </a:path>
              <a:path w="6415" h="2001">
                <a:moveTo>
                  <a:pt x="15558" y="12732"/>
                </a:moveTo>
                <a:cubicBezTo>
                  <a:pt x="15465" y="12778"/>
                  <a:pt x="15481" y="12856"/>
                  <a:pt x="15462" y="12954"/>
                </a:cubicBezTo>
                <a:cubicBezTo>
                  <a:pt x="15422" y="13157"/>
                  <a:pt x="15380" y="13350"/>
                  <a:pt x="15367" y="13557"/>
                </a:cubicBezTo>
                <a:cubicBezTo>
                  <a:pt x="15352" y="13790"/>
                  <a:pt x="15317" y="14024"/>
                  <a:pt x="15304" y="14256"/>
                </a:cubicBezTo>
                <a:cubicBezTo>
                  <a:pt x="15304" y="14319"/>
                  <a:pt x="15304" y="14383"/>
                  <a:pt x="15304" y="144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Ink 17"/>
          <p:cNvSpPr/>
          <p:nvPr/>
        </p:nvSpPr>
        <p:spPr>
          <a:xfrm>
            <a:off x="6537240" y="4664160"/>
            <a:ext cx="2035440" cy="650880"/>
          </a:xfrm>
          <a:custGeom>
            <a:avLst/>
            <a:gdLst/>
            <a:ahLst/>
            <a:rect l="l" t="t" r="r" b="b"/>
            <a:pathLst>
              <a:path w="5652" h="1811">
                <a:moveTo>
                  <a:pt x="18193" y="13684"/>
                </a:moveTo>
                <a:cubicBezTo>
                  <a:pt x="18166" y="13738"/>
                  <a:pt x="18166" y="13721"/>
                  <a:pt x="18161" y="13811"/>
                </a:cubicBezTo>
                <a:cubicBezTo>
                  <a:pt x="18155" y="13905"/>
                  <a:pt x="18179" y="13979"/>
                  <a:pt x="18193" y="14065"/>
                </a:cubicBezTo>
                <a:cubicBezTo>
                  <a:pt x="18209" y="14159"/>
                  <a:pt x="18201" y="14258"/>
                  <a:pt x="18224" y="14351"/>
                </a:cubicBezTo>
                <a:cubicBezTo>
                  <a:pt x="18251" y="14457"/>
                  <a:pt x="18270" y="14539"/>
                  <a:pt x="18320" y="14637"/>
                </a:cubicBezTo>
                <a:cubicBezTo>
                  <a:pt x="18339" y="14675"/>
                  <a:pt x="18376" y="14750"/>
                  <a:pt x="18383" y="14764"/>
                </a:cubicBezTo>
                <a:cubicBezTo>
                  <a:pt x="18362" y="14663"/>
                  <a:pt x="18352" y="14583"/>
                  <a:pt x="18352" y="14478"/>
                </a:cubicBezTo>
                <a:cubicBezTo>
                  <a:pt x="18352" y="14325"/>
                  <a:pt x="18325" y="14186"/>
                  <a:pt x="18320" y="14034"/>
                </a:cubicBezTo>
                <a:cubicBezTo>
                  <a:pt x="18314" y="13846"/>
                  <a:pt x="18296" y="13638"/>
                  <a:pt x="18352" y="13462"/>
                </a:cubicBezTo>
                <a:cubicBezTo>
                  <a:pt x="18373" y="13395"/>
                  <a:pt x="18376" y="13363"/>
                  <a:pt x="18415" y="13335"/>
                </a:cubicBezTo>
                <a:cubicBezTo>
                  <a:pt x="18467" y="13298"/>
                  <a:pt x="18478" y="13307"/>
                  <a:pt x="18542" y="13303"/>
                </a:cubicBezTo>
                <a:cubicBezTo>
                  <a:pt x="18652" y="13297"/>
                  <a:pt x="18766" y="13285"/>
                  <a:pt x="18860" y="13272"/>
                </a:cubicBezTo>
                <a:cubicBezTo>
                  <a:pt x="18999" y="13253"/>
                  <a:pt x="19139" y="13198"/>
                  <a:pt x="19272" y="13144"/>
                </a:cubicBezTo>
                <a:cubicBezTo>
                  <a:pt x="19387" y="13097"/>
                  <a:pt x="19503" y="13057"/>
                  <a:pt x="19622" y="13018"/>
                </a:cubicBezTo>
                <a:cubicBezTo>
                  <a:pt x="19731" y="12982"/>
                  <a:pt x="19857" y="12959"/>
                  <a:pt x="19971" y="12954"/>
                </a:cubicBezTo>
                <a:cubicBezTo>
                  <a:pt x="20098" y="12949"/>
                  <a:pt x="20225" y="12954"/>
                  <a:pt x="20352" y="12954"/>
                </a:cubicBezTo>
              </a:path>
              <a:path w="5652" h="1811">
                <a:moveTo>
                  <a:pt x="18860" y="13906"/>
                </a:moveTo>
                <a:cubicBezTo>
                  <a:pt x="18873" y="13866"/>
                  <a:pt x="18872" y="13863"/>
                  <a:pt x="18891" y="13811"/>
                </a:cubicBezTo>
                <a:cubicBezTo>
                  <a:pt x="18910" y="13759"/>
                  <a:pt x="18952" y="13691"/>
                  <a:pt x="18986" y="13652"/>
                </a:cubicBezTo>
                <a:cubicBezTo>
                  <a:pt x="19019" y="13615"/>
                  <a:pt x="19071" y="13572"/>
                  <a:pt x="19114" y="13557"/>
                </a:cubicBezTo>
                <a:cubicBezTo>
                  <a:pt x="19159" y="13542"/>
                  <a:pt x="19189" y="13573"/>
                  <a:pt x="19209" y="13589"/>
                </a:cubicBezTo>
                <a:cubicBezTo>
                  <a:pt x="19258" y="13627"/>
                  <a:pt x="19252" y="13753"/>
                  <a:pt x="19240" y="13811"/>
                </a:cubicBezTo>
                <a:cubicBezTo>
                  <a:pt x="19216" y="13922"/>
                  <a:pt x="19194" y="14025"/>
                  <a:pt x="19145" y="14129"/>
                </a:cubicBezTo>
                <a:cubicBezTo>
                  <a:pt x="19111" y="14201"/>
                  <a:pt x="19078" y="14280"/>
                  <a:pt x="19050" y="14351"/>
                </a:cubicBezTo>
                <a:cubicBezTo>
                  <a:pt x="19020" y="14426"/>
                  <a:pt x="19028" y="14362"/>
                  <a:pt x="19050" y="14351"/>
                </a:cubicBezTo>
                <a:cubicBezTo>
                  <a:pt x="19084" y="14334"/>
                  <a:pt x="19141" y="14300"/>
                  <a:pt x="19177" y="14288"/>
                </a:cubicBezTo>
                <a:cubicBezTo>
                  <a:pt x="19216" y="14275"/>
                  <a:pt x="19266" y="14260"/>
                  <a:pt x="19304" y="14256"/>
                </a:cubicBezTo>
                <a:cubicBezTo>
                  <a:pt x="19308" y="14256"/>
                  <a:pt x="19430" y="14287"/>
                  <a:pt x="19431" y="14288"/>
                </a:cubicBezTo>
                <a:cubicBezTo>
                  <a:pt x="19431" y="14319"/>
                  <a:pt x="19431" y="14330"/>
                  <a:pt x="19463" y="14319"/>
                </a:cubicBezTo>
              </a:path>
              <a:path w="5652" h="1811">
                <a:moveTo>
                  <a:pt x="19590" y="13557"/>
                </a:moveTo>
                <a:cubicBezTo>
                  <a:pt x="19605" y="13500"/>
                  <a:pt x="19621" y="13486"/>
                  <a:pt x="19653" y="13462"/>
                </a:cubicBezTo>
                <a:cubicBezTo>
                  <a:pt x="19709" y="13419"/>
                  <a:pt x="19711" y="13302"/>
                  <a:pt x="19748" y="13272"/>
                </a:cubicBezTo>
                <a:cubicBezTo>
                  <a:pt x="19775" y="13250"/>
                  <a:pt x="19862" y="13276"/>
                  <a:pt x="19876" y="13303"/>
                </a:cubicBezTo>
                <a:cubicBezTo>
                  <a:pt x="19900" y="13351"/>
                  <a:pt x="19858" y="13482"/>
                  <a:pt x="19844" y="13526"/>
                </a:cubicBezTo>
                <a:cubicBezTo>
                  <a:pt x="19826" y="13583"/>
                  <a:pt x="19822" y="13727"/>
                  <a:pt x="19780" y="13684"/>
                </a:cubicBezTo>
                <a:cubicBezTo>
                  <a:pt x="19752" y="13655"/>
                  <a:pt x="19856" y="13623"/>
                  <a:pt x="19876" y="13621"/>
                </a:cubicBezTo>
                <a:cubicBezTo>
                  <a:pt x="19917" y="13617"/>
                  <a:pt x="19980" y="13608"/>
                  <a:pt x="20002" y="13652"/>
                </a:cubicBezTo>
                <a:cubicBezTo>
                  <a:pt x="20034" y="13716"/>
                  <a:pt x="20008" y="13789"/>
                  <a:pt x="20002" y="13843"/>
                </a:cubicBezTo>
                <a:cubicBezTo>
                  <a:pt x="19993" y="13923"/>
                  <a:pt x="20001" y="13991"/>
                  <a:pt x="19971" y="14065"/>
                </a:cubicBezTo>
                <a:cubicBezTo>
                  <a:pt x="19955" y="14106"/>
                  <a:pt x="19890" y="14172"/>
                  <a:pt x="19844" y="14192"/>
                </a:cubicBezTo>
                <a:cubicBezTo>
                  <a:pt x="19810" y="14207"/>
                  <a:pt x="19750" y="14168"/>
                  <a:pt x="19748" y="14160"/>
                </a:cubicBezTo>
                <a:cubicBezTo>
                  <a:pt x="19748" y="14095"/>
                  <a:pt x="19747" y="14071"/>
                  <a:pt x="19717" y="14034"/>
                </a:cubicBezTo>
              </a:path>
              <a:path w="5652" h="1811">
                <a:moveTo>
                  <a:pt x="20066" y="13367"/>
                </a:moveTo>
                <a:cubicBezTo>
                  <a:pt x="20125" y="13352"/>
                  <a:pt x="20136" y="13336"/>
                  <a:pt x="20161" y="13303"/>
                </a:cubicBezTo>
                <a:cubicBezTo>
                  <a:pt x="20199" y="13253"/>
                  <a:pt x="20261" y="13196"/>
                  <a:pt x="20320" y="13176"/>
                </a:cubicBezTo>
                <a:cubicBezTo>
                  <a:pt x="20352" y="13176"/>
                  <a:pt x="20363" y="13176"/>
                  <a:pt x="20384" y="13176"/>
                </a:cubicBezTo>
                <a:cubicBezTo>
                  <a:pt x="20384" y="13309"/>
                  <a:pt x="20368" y="13433"/>
                  <a:pt x="20352" y="13557"/>
                </a:cubicBezTo>
                <a:cubicBezTo>
                  <a:pt x="20339" y="13654"/>
                  <a:pt x="20319" y="13752"/>
                  <a:pt x="20288" y="13843"/>
                </a:cubicBezTo>
                <a:cubicBezTo>
                  <a:pt x="20269" y="13900"/>
                  <a:pt x="20233" y="13929"/>
                  <a:pt x="20193" y="13970"/>
                </a:cubicBezTo>
                <a:cubicBezTo>
                  <a:pt x="20211" y="13965"/>
                  <a:pt x="20298" y="13910"/>
                  <a:pt x="20320" y="13938"/>
                </a:cubicBezTo>
                <a:cubicBezTo>
                  <a:pt x="20358" y="13985"/>
                  <a:pt x="20358" y="13938"/>
                  <a:pt x="20415" y="13970"/>
                </a:cubicBezTo>
                <a:cubicBezTo>
                  <a:pt x="20462" y="13997"/>
                  <a:pt x="20489" y="14021"/>
                  <a:pt x="20542" y="14034"/>
                </a:cubicBezTo>
              </a:path>
              <a:path w="5652" h="1811">
                <a:moveTo>
                  <a:pt x="21018" y="13526"/>
                </a:moveTo>
                <a:cubicBezTo>
                  <a:pt x="21067" y="13489"/>
                  <a:pt x="21084" y="13494"/>
                  <a:pt x="21146" y="13494"/>
                </a:cubicBezTo>
                <a:cubicBezTo>
                  <a:pt x="21241" y="13494"/>
                  <a:pt x="21291" y="13500"/>
                  <a:pt x="21368" y="13526"/>
                </a:cubicBezTo>
                <a:cubicBezTo>
                  <a:pt x="21400" y="13526"/>
                  <a:pt x="21410" y="13526"/>
                  <a:pt x="21400" y="13557"/>
                </a:cubicBezTo>
              </a:path>
              <a:path w="5652" h="1811">
                <a:moveTo>
                  <a:pt x="21114" y="13906"/>
                </a:moveTo>
                <a:cubicBezTo>
                  <a:pt x="21114" y="13917"/>
                  <a:pt x="21114" y="13927"/>
                  <a:pt x="21114" y="13938"/>
                </a:cubicBezTo>
                <a:cubicBezTo>
                  <a:pt x="21192" y="13938"/>
                  <a:pt x="21242" y="13957"/>
                  <a:pt x="21304" y="13970"/>
                </a:cubicBezTo>
                <a:cubicBezTo>
                  <a:pt x="21357" y="13970"/>
                  <a:pt x="21368" y="13970"/>
                  <a:pt x="21400" y="13970"/>
                </a:cubicBezTo>
              </a:path>
              <a:path w="5652" h="1811">
                <a:moveTo>
                  <a:pt x="21717" y="13081"/>
                </a:moveTo>
                <a:cubicBezTo>
                  <a:pt x="21735" y="13172"/>
                  <a:pt x="21749" y="13235"/>
                  <a:pt x="21749" y="13335"/>
                </a:cubicBezTo>
                <a:cubicBezTo>
                  <a:pt x="21749" y="13531"/>
                  <a:pt x="21646" y="14418"/>
                  <a:pt x="21780" y="14510"/>
                </a:cubicBezTo>
              </a:path>
              <a:path w="5652" h="1811">
                <a:moveTo>
                  <a:pt x="22479" y="12986"/>
                </a:moveTo>
                <a:cubicBezTo>
                  <a:pt x="22508" y="12957"/>
                  <a:pt x="22514" y="12947"/>
                  <a:pt x="22542" y="12954"/>
                </a:cubicBezTo>
                <a:cubicBezTo>
                  <a:pt x="22510" y="12979"/>
                  <a:pt x="22491" y="12979"/>
                  <a:pt x="22447" y="13018"/>
                </a:cubicBezTo>
                <a:cubicBezTo>
                  <a:pt x="22387" y="13072"/>
                  <a:pt x="22354" y="13069"/>
                  <a:pt x="22288" y="13113"/>
                </a:cubicBezTo>
                <a:cubicBezTo>
                  <a:pt x="22235" y="13148"/>
                  <a:pt x="22190" y="13216"/>
                  <a:pt x="22130" y="13240"/>
                </a:cubicBezTo>
                <a:cubicBezTo>
                  <a:pt x="22089" y="13256"/>
                  <a:pt x="22044" y="13290"/>
                  <a:pt x="22003" y="13303"/>
                </a:cubicBezTo>
                <a:cubicBezTo>
                  <a:pt x="21934" y="13326"/>
                  <a:pt x="21987" y="13367"/>
                  <a:pt x="22003" y="13430"/>
                </a:cubicBezTo>
                <a:cubicBezTo>
                  <a:pt x="22019" y="13493"/>
                  <a:pt x="22030" y="13559"/>
                  <a:pt x="22034" y="13621"/>
                </a:cubicBezTo>
                <a:cubicBezTo>
                  <a:pt x="22038" y="13684"/>
                  <a:pt x="22034" y="13748"/>
                  <a:pt x="22034" y="13811"/>
                </a:cubicBezTo>
                <a:cubicBezTo>
                  <a:pt x="22080" y="13789"/>
                  <a:pt x="22067" y="13763"/>
                  <a:pt x="22098" y="13716"/>
                </a:cubicBezTo>
                <a:cubicBezTo>
                  <a:pt x="22134" y="13662"/>
                  <a:pt x="22180" y="13589"/>
                  <a:pt x="22257" y="13589"/>
                </a:cubicBezTo>
                <a:cubicBezTo>
                  <a:pt x="22289" y="13589"/>
                  <a:pt x="22359" y="13659"/>
                  <a:pt x="22384" y="13684"/>
                </a:cubicBezTo>
                <a:cubicBezTo>
                  <a:pt x="22431" y="13730"/>
                  <a:pt x="22499" y="13840"/>
                  <a:pt x="22511" y="13906"/>
                </a:cubicBezTo>
                <a:cubicBezTo>
                  <a:pt x="22527" y="14000"/>
                  <a:pt x="22506" y="14138"/>
                  <a:pt x="22479" y="14224"/>
                </a:cubicBezTo>
                <a:cubicBezTo>
                  <a:pt x="22455" y="14300"/>
                  <a:pt x="22404" y="14388"/>
                  <a:pt x="22352" y="14446"/>
                </a:cubicBezTo>
                <a:cubicBezTo>
                  <a:pt x="22320" y="14481"/>
                  <a:pt x="22241" y="14497"/>
                  <a:pt x="22193" y="14478"/>
                </a:cubicBezTo>
                <a:cubicBezTo>
                  <a:pt x="22138" y="14456"/>
                  <a:pt x="22162" y="14362"/>
                  <a:pt x="22162" y="14319"/>
                </a:cubicBezTo>
              </a:path>
              <a:path w="5652" h="1811">
                <a:moveTo>
                  <a:pt x="22828" y="14192"/>
                </a:moveTo>
                <a:lnTo>
                  <a:pt x="22828" y="14192"/>
                </a:lnTo>
              </a:path>
              <a:path w="5652" h="1811">
                <a:moveTo>
                  <a:pt x="22955" y="13240"/>
                </a:moveTo>
                <a:cubicBezTo>
                  <a:pt x="22978" y="13186"/>
                  <a:pt x="22993" y="13081"/>
                  <a:pt x="23050" y="13049"/>
                </a:cubicBezTo>
                <a:cubicBezTo>
                  <a:pt x="23088" y="13028"/>
                  <a:pt x="23107" y="12971"/>
                  <a:pt x="23178" y="12954"/>
                </a:cubicBezTo>
                <a:cubicBezTo>
                  <a:pt x="23217" y="12945"/>
                  <a:pt x="23319" y="12941"/>
                  <a:pt x="23336" y="12986"/>
                </a:cubicBezTo>
                <a:cubicBezTo>
                  <a:pt x="23380" y="13100"/>
                  <a:pt x="23347" y="13187"/>
                  <a:pt x="23336" y="13303"/>
                </a:cubicBezTo>
                <a:cubicBezTo>
                  <a:pt x="23320" y="13470"/>
                  <a:pt x="23293" y="13618"/>
                  <a:pt x="23241" y="13780"/>
                </a:cubicBezTo>
                <a:cubicBezTo>
                  <a:pt x="23204" y="13895"/>
                  <a:pt x="23164" y="14015"/>
                  <a:pt x="23146" y="14129"/>
                </a:cubicBezTo>
                <a:cubicBezTo>
                  <a:pt x="23138" y="14180"/>
                  <a:pt x="23149" y="14186"/>
                  <a:pt x="23178" y="14224"/>
                </a:cubicBezTo>
                <a:cubicBezTo>
                  <a:pt x="23217" y="14207"/>
                  <a:pt x="23265" y="14173"/>
                  <a:pt x="23304" y="14160"/>
                </a:cubicBezTo>
                <a:cubicBezTo>
                  <a:pt x="23356" y="14143"/>
                  <a:pt x="23404" y="14112"/>
                  <a:pt x="23463" y="14097"/>
                </a:cubicBezTo>
                <a:cubicBezTo>
                  <a:pt x="23542" y="14077"/>
                  <a:pt x="23585" y="14117"/>
                  <a:pt x="23654" y="14129"/>
                </a:cubicBezTo>
                <a:cubicBezTo>
                  <a:pt x="23728" y="14142"/>
                  <a:pt x="23752" y="14143"/>
                  <a:pt x="23812" y="141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Ink 18"/>
          <p:cNvSpPr/>
          <p:nvPr/>
        </p:nvSpPr>
        <p:spPr>
          <a:xfrm>
            <a:off x="5315040" y="5418000"/>
            <a:ext cx="1886040" cy="982800"/>
          </a:xfrm>
          <a:custGeom>
            <a:avLst/>
            <a:gdLst/>
            <a:ahLst/>
            <a:rect l="l" t="t" r="r" b="b"/>
            <a:pathLst>
              <a:path w="5239" h="2731">
                <a:moveTo>
                  <a:pt x="14827" y="15526"/>
                </a:moveTo>
                <a:cubicBezTo>
                  <a:pt x="14836" y="15636"/>
                  <a:pt x="14856" y="15731"/>
                  <a:pt x="14859" y="15843"/>
                </a:cubicBezTo>
                <a:cubicBezTo>
                  <a:pt x="14870" y="16287"/>
                  <a:pt x="14859" y="16733"/>
                  <a:pt x="14859" y="17177"/>
                </a:cubicBezTo>
                <a:cubicBezTo>
                  <a:pt x="14815" y="17060"/>
                  <a:pt x="14813" y="16954"/>
                  <a:pt x="14796" y="16828"/>
                </a:cubicBezTo>
                <a:cubicBezTo>
                  <a:pt x="14764" y="16589"/>
                  <a:pt x="14782" y="16397"/>
                  <a:pt x="14796" y="16161"/>
                </a:cubicBezTo>
                <a:cubicBezTo>
                  <a:pt x="14813" y="15885"/>
                  <a:pt x="14857" y="15657"/>
                  <a:pt x="14954" y="15399"/>
                </a:cubicBezTo>
                <a:cubicBezTo>
                  <a:pt x="14999" y="15280"/>
                  <a:pt x="15019" y="15175"/>
                  <a:pt x="15113" y="15081"/>
                </a:cubicBezTo>
                <a:cubicBezTo>
                  <a:pt x="15134" y="15071"/>
                  <a:pt x="15155" y="15060"/>
                  <a:pt x="15176" y="15050"/>
                </a:cubicBezTo>
                <a:cubicBezTo>
                  <a:pt x="15260" y="15124"/>
                  <a:pt x="15293" y="15159"/>
                  <a:pt x="15335" y="15272"/>
                </a:cubicBezTo>
                <a:cubicBezTo>
                  <a:pt x="15407" y="15466"/>
                  <a:pt x="15407" y="15642"/>
                  <a:pt x="15430" y="15843"/>
                </a:cubicBezTo>
                <a:cubicBezTo>
                  <a:pt x="15459" y="16097"/>
                  <a:pt x="15466" y="16352"/>
                  <a:pt x="15494" y="16605"/>
                </a:cubicBezTo>
                <a:cubicBezTo>
                  <a:pt x="15517" y="16815"/>
                  <a:pt x="15525" y="17033"/>
                  <a:pt x="15558" y="17240"/>
                </a:cubicBezTo>
                <a:cubicBezTo>
                  <a:pt x="15560" y="17255"/>
                  <a:pt x="15576" y="17544"/>
                  <a:pt x="15653" y="17494"/>
                </a:cubicBezTo>
                <a:cubicBezTo>
                  <a:pt x="15689" y="17471"/>
                  <a:pt x="15653" y="17409"/>
                  <a:pt x="15653" y="17367"/>
                </a:cubicBezTo>
              </a:path>
              <a:path w="5239" h="2731">
                <a:moveTo>
                  <a:pt x="14954" y="16415"/>
                </a:moveTo>
                <a:cubicBezTo>
                  <a:pt x="14967" y="16375"/>
                  <a:pt x="15024" y="16343"/>
                  <a:pt x="15081" y="16320"/>
                </a:cubicBezTo>
                <a:cubicBezTo>
                  <a:pt x="15208" y="16268"/>
                  <a:pt x="15333" y="16257"/>
                  <a:pt x="15462" y="16224"/>
                </a:cubicBezTo>
              </a:path>
              <a:path w="5239" h="2731">
                <a:moveTo>
                  <a:pt x="16256" y="15748"/>
                </a:moveTo>
                <a:cubicBezTo>
                  <a:pt x="16227" y="15731"/>
                  <a:pt x="16213" y="15704"/>
                  <a:pt x="16161" y="15716"/>
                </a:cubicBezTo>
                <a:cubicBezTo>
                  <a:pt x="16054" y="15741"/>
                  <a:pt x="15980" y="15834"/>
                  <a:pt x="15907" y="15907"/>
                </a:cubicBezTo>
                <a:cubicBezTo>
                  <a:pt x="15824" y="15990"/>
                  <a:pt x="15754" y="16070"/>
                  <a:pt x="15684" y="16161"/>
                </a:cubicBezTo>
                <a:cubicBezTo>
                  <a:pt x="15652" y="16202"/>
                  <a:pt x="15644" y="16201"/>
                  <a:pt x="15621" y="16224"/>
                </a:cubicBezTo>
                <a:cubicBezTo>
                  <a:pt x="15706" y="16224"/>
                  <a:pt x="15766" y="16244"/>
                  <a:pt x="15843" y="16256"/>
                </a:cubicBezTo>
                <a:cubicBezTo>
                  <a:pt x="15955" y="16274"/>
                  <a:pt x="16012" y="16303"/>
                  <a:pt x="16097" y="16383"/>
                </a:cubicBezTo>
                <a:cubicBezTo>
                  <a:pt x="16201" y="16481"/>
                  <a:pt x="16243" y="16632"/>
                  <a:pt x="16288" y="16764"/>
                </a:cubicBezTo>
                <a:cubicBezTo>
                  <a:pt x="16331" y="16891"/>
                  <a:pt x="16320" y="17012"/>
                  <a:pt x="16320" y="17145"/>
                </a:cubicBezTo>
                <a:cubicBezTo>
                  <a:pt x="16320" y="17286"/>
                  <a:pt x="16286" y="17372"/>
                  <a:pt x="16224" y="17462"/>
                </a:cubicBezTo>
                <a:cubicBezTo>
                  <a:pt x="16174" y="17534"/>
                  <a:pt x="16132" y="17559"/>
                  <a:pt x="16066" y="17526"/>
                </a:cubicBezTo>
                <a:cubicBezTo>
                  <a:pt x="15935" y="17460"/>
                  <a:pt x="15922" y="17347"/>
                  <a:pt x="15907" y="17208"/>
                </a:cubicBezTo>
                <a:cubicBezTo>
                  <a:pt x="15907" y="17176"/>
                  <a:pt x="15907" y="17145"/>
                  <a:pt x="15907" y="17113"/>
                </a:cubicBezTo>
              </a:path>
              <a:path w="5239" h="2731">
                <a:moveTo>
                  <a:pt x="16383" y="15526"/>
                </a:moveTo>
                <a:cubicBezTo>
                  <a:pt x="16443" y="15616"/>
                  <a:pt x="16444" y="15668"/>
                  <a:pt x="16478" y="15780"/>
                </a:cubicBezTo>
                <a:cubicBezTo>
                  <a:pt x="16532" y="15961"/>
                  <a:pt x="16537" y="16136"/>
                  <a:pt x="16574" y="16320"/>
                </a:cubicBezTo>
                <a:cubicBezTo>
                  <a:pt x="16613" y="16512"/>
                  <a:pt x="16616" y="16700"/>
                  <a:pt x="16669" y="16891"/>
                </a:cubicBezTo>
                <a:cubicBezTo>
                  <a:pt x="16708" y="17031"/>
                  <a:pt x="16729" y="17166"/>
                  <a:pt x="16764" y="17304"/>
                </a:cubicBezTo>
                <a:cubicBezTo>
                  <a:pt x="16764" y="17251"/>
                  <a:pt x="16773" y="17260"/>
                  <a:pt x="16764" y="17208"/>
                </a:cubicBezTo>
                <a:cubicBezTo>
                  <a:pt x="16737" y="17057"/>
                  <a:pt x="16741" y="16858"/>
                  <a:pt x="16764" y="16700"/>
                </a:cubicBezTo>
                <a:cubicBezTo>
                  <a:pt x="16784" y="16562"/>
                  <a:pt x="16805" y="16420"/>
                  <a:pt x="16859" y="16288"/>
                </a:cubicBezTo>
                <a:cubicBezTo>
                  <a:pt x="16891" y="16209"/>
                  <a:pt x="16932" y="16159"/>
                  <a:pt x="16986" y="16097"/>
                </a:cubicBezTo>
                <a:cubicBezTo>
                  <a:pt x="17042" y="16122"/>
                  <a:pt x="17108" y="16129"/>
                  <a:pt x="17145" y="16192"/>
                </a:cubicBezTo>
                <a:cubicBezTo>
                  <a:pt x="17204" y="16292"/>
                  <a:pt x="17235" y="16432"/>
                  <a:pt x="17272" y="16542"/>
                </a:cubicBezTo>
                <a:cubicBezTo>
                  <a:pt x="17322" y="16690"/>
                  <a:pt x="17324" y="16839"/>
                  <a:pt x="17367" y="16986"/>
                </a:cubicBezTo>
                <a:cubicBezTo>
                  <a:pt x="17409" y="17127"/>
                  <a:pt x="17480" y="17268"/>
                  <a:pt x="17526" y="17399"/>
                </a:cubicBezTo>
                <a:cubicBezTo>
                  <a:pt x="17526" y="17410"/>
                  <a:pt x="17526" y="17420"/>
                  <a:pt x="17526" y="17431"/>
                </a:cubicBezTo>
              </a:path>
              <a:path w="5239" h="2731">
                <a:moveTo>
                  <a:pt x="17558" y="15240"/>
                </a:moveTo>
                <a:cubicBezTo>
                  <a:pt x="17558" y="15308"/>
                  <a:pt x="17543" y="15333"/>
                  <a:pt x="17558" y="15399"/>
                </a:cubicBezTo>
                <a:cubicBezTo>
                  <a:pt x="17597" y="15568"/>
                  <a:pt x="17595" y="15736"/>
                  <a:pt x="17621" y="15907"/>
                </a:cubicBezTo>
                <a:cubicBezTo>
                  <a:pt x="17650" y="16097"/>
                  <a:pt x="17687" y="16290"/>
                  <a:pt x="17716" y="16478"/>
                </a:cubicBezTo>
                <a:cubicBezTo>
                  <a:pt x="17743" y="16650"/>
                  <a:pt x="17768" y="16852"/>
                  <a:pt x="17812" y="17018"/>
                </a:cubicBezTo>
                <a:cubicBezTo>
                  <a:pt x="17823" y="17039"/>
                  <a:pt x="17833" y="17061"/>
                  <a:pt x="17844" y="17082"/>
                </a:cubicBezTo>
                <a:cubicBezTo>
                  <a:pt x="17875" y="17018"/>
                  <a:pt x="17899" y="16940"/>
                  <a:pt x="17907" y="16828"/>
                </a:cubicBezTo>
              </a:path>
              <a:path w="5239" h="2731">
                <a:moveTo>
                  <a:pt x="18002" y="16161"/>
                </a:moveTo>
                <a:cubicBezTo>
                  <a:pt x="18046" y="16128"/>
                  <a:pt x="18082" y="16119"/>
                  <a:pt x="18129" y="16097"/>
                </a:cubicBezTo>
                <a:cubicBezTo>
                  <a:pt x="18198" y="16065"/>
                  <a:pt x="18289" y="16063"/>
                  <a:pt x="18352" y="16034"/>
                </a:cubicBezTo>
                <a:cubicBezTo>
                  <a:pt x="18415" y="16005"/>
                  <a:pt x="18478" y="15985"/>
                  <a:pt x="18542" y="15938"/>
                </a:cubicBezTo>
                <a:cubicBezTo>
                  <a:pt x="18579" y="15911"/>
                  <a:pt x="18596" y="15852"/>
                  <a:pt x="18606" y="15812"/>
                </a:cubicBezTo>
                <a:cubicBezTo>
                  <a:pt x="18622" y="15750"/>
                  <a:pt x="18582" y="15723"/>
                  <a:pt x="18542" y="15684"/>
                </a:cubicBezTo>
                <a:cubicBezTo>
                  <a:pt x="18504" y="15647"/>
                  <a:pt x="18437" y="15635"/>
                  <a:pt x="18383" y="15653"/>
                </a:cubicBezTo>
                <a:cubicBezTo>
                  <a:pt x="18324" y="15672"/>
                  <a:pt x="18222" y="15758"/>
                  <a:pt x="18193" y="15812"/>
                </a:cubicBezTo>
                <a:cubicBezTo>
                  <a:pt x="18135" y="15919"/>
                  <a:pt x="18129" y="16011"/>
                  <a:pt x="18129" y="16129"/>
                </a:cubicBezTo>
                <a:cubicBezTo>
                  <a:pt x="18129" y="16287"/>
                  <a:pt x="18149" y="16420"/>
                  <a:pt x="18193" y="16574"/>
                </a:cubicBezTo>
                <a:cubicBezTo>
                  <a:pt x="18231" y="16707"/>
                  <a:pt x="18264" y="16818"/>
                  <a:pt x="18352" y="16923"/>
                </a:cubicBezTo>
                <a:cubicBezTo>
                  <a:pt x="18430" y="17017"/>
                  <a:pt x="18459" y="17018"/>
                  <a:pt x="18574" y="17018"/>
                </a:cubicBezTo>
                <a:cubicBezTo>
                  <a:pt x="18659" y="17018"/>
                  <a:pt x="18724" y="16892"/>
                  <a:pt x="18764" y="16828"/>
                </a:cubicBezTo>
              </a:path>
              <a:path w="5239" h="2731">
                <a:moveTo>
                  <a:pt x="18891" y="15812"/>
                </a:moveTo>
                <a:cubicBezTo>
                  <a:pt x="18866" y="15760"/>
                  <a:pt x="18851" y="15729"/>
                  <a:pt x="18828" y="15684"/>
                </a:cubicBezTo>
                <a:cubicBezTo>
                  <a:pt x="18805" y="15746"/>
                  <a:pt x="18811" y="15776"/>
                  <a:pt x="18828" y="15875"/>
                </a:cubicBezTo>
                <a:cubicBezTo>
                  <a:pt x="18846" y="15983"/>
                  <a:pt x="18887" y="16084"/>
                  <a:pt x="18923" y="16192"/>
                </a:cubicBezTo>
                <a:cubicBezTo>
                  <a:pt x="18960" y="16303"/>
                  <a:pt x="18998" y="16405"/>
                  <a:pt x="19050" y="16510"/>
                </a:cubicBezTo>
                <a:cubicBezTo>
                  <a:pt x="19084" y="16577"/>
                  <a:pt x="19128" y="16623"/>
                  <a:pt x="19209" y="16605"/>
                </a:cubicBezTo>
                <a:cubicBezTo>
                  <a:pt x="19261" y="16594"/>
                  <a:pt x="19282" y="16558"/>
                  <a:pt x="19304" y="16510"/>
                </a:cubicBezTo>
                <a:cubicBezTo>
                  <a:pt x="19354" y="16401"/>
                  <a:pt x="19336" y="16278"/>
                  <a:pt x="19336" y="16161"/>
                </a:cubicBezTo>
                <a:cubicBezTo>
                  <a:pt x="19336" y="16031"/>
                  <a:pt x="19304" y="15913"/>
                  <a:pt x="19304" y="15780"/>
                </a:cubicBezTo>
                <a:cubicBezTo>
                  <a:pt x="19304" y="15711"/>
                  <a:pt x="19280" y="15657"/>
                  <a:pt x="19272" y="15589"/>
                </a:cubicBezTo>
                <a:cubicBezTo>
                  <a:pt x="19294" y="15626"/>
                  <a:pt x="19311" y="15660"/>
                  <a:pt x="19336" y="15716"/>
                </a:cubicBezTo>
                <a:cubicBezTo>
                  <a:pt x="19383" y="15821"/>
                  <a:pt x="19432" y="15973"/>
                  <a:pt x="19494" y="16066"/>
                </a:cubicBezTo>
                <a:cubicBezTo>
                  <a:pt x="19581" y="16196"/>
                  <a:pt x="19622" y="16331"/>
                  <a:pt x="19685" y="16478"/>
                </a:cubicBezTo>
                <a:cubicBezTo>
                  <a:pt x="19757" y="16646"/>
                  <a:pt x="19800" y="16818"/>
                  <a:pt x="19876" y="16986"/>
                </a:cubicBezTo>
                <a:cubicBezTo>
                  <a:pt x="19939" y="17124"/>
                  <a:pt x="19986" y="17249"/>
                  <a:pt x="20002" y="17399"/>
                </a:cubicBezTo>
                <a:cubicBezTo>
                  <a:pt x="20015" y="17520"/>
                  <a:pt x="19989" y="17557"/>
                  <a:pt x="19939" y="17653"/>
                </a:cubicBezTo>
                <a:cubicBezTo>
                  <a:pt x="19891" y="17745"/>
                  <a:pt x="19818" y="17774"/>
                  <a:pt x="19717" y="17780"/>
                </a:cubicBezTo>
                <a:cubicBezTo>
                  <a:pt x="19626" y="17785"/>
                  <a:pt x="19561" y="17784"/>
                  <a:pt x="19494" y="17716"/>
                </a:cubicBezTo>
                <a:cubicBezTo>
                  <a:pt x="19425" y="17647"/>
                  <a:pt x="19403" y="17554"/>
                  <a:pt x="19399" y="17462"/>
                </a:cubicBezTo>
                <a:cubicBezTo>
                  <a:pt x="19396" y="17395"/>
                  <a:pt x="19442" y="17256"/>
                  <a:pt x="19494" y="17208"/>
                </a:cubicBezTo>
                <a:cubicBezTo>
                  <a:pt x="19552" y="17155"/>
                  <a:pt x="19616" y="17130"/>
                  <a:pt x="19685" y="171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oline ran 2 miles east and 3 miles south of the town center.  Marcus ran 1 mile north and 5 miles west of the town center.  If they want to meet halfway, how far would Marcus have to run to get to the meeting sp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Ink 3"/>
          <p:cNvSpPr/>
          <p:nvPr/>
        </p:nvSpPr>
        <p:spPr>
          <a:xfrm>
            <a:off x="171360" y="2766960"/>
            <a:ext cx="8790120" cy="3086280"/>
          </a:xfrm>
          <a:custGeom>
            <a:avLst/>
            <a:gdLst/>
            <a:ahLst/>
            <a:rect l="l" t="t" r="r" b="b"/>
            <a:pathLst>
              <a:path w="24417" h="8573">
                <a:moveTo>
                  <a:pt x="17494" y="7779"/>
                </a:moveTo>
                <a:cubicBezTo>
                  <a:pt x="17597" y="7779"/>
                  <a:pt x="17685" y="7759"/>
                  <a:pt x="17780" y="7747"/>
                </a:cubicBezTo>
                <a:cubicBezTo>
                  <a:pt x="17885" y="7734"/>
                  <a:pt x="17999" y="7727"/>
                  <a:pt x="18098" y="7715"/>
                </a:cubicBezTo>
                <a:cubicBezTo>
                  <a:pt x="18272" y="7693"/>
                  <a:pt x="18465" y="7699"/>
                  <a:pt x="18637" y="7684"/>
                </a:cubicBezTo>
                <a:cubicBezTo>
                  <a:pt x="19023" y="7650"/>
                  <a:pt x="19429" y="7686"/>
                  <a:pt x="19812" y="7715"/>
                </a:cubicBezTo>
                <a:cubicBezTo>
                  <a:pt x="19960" y="7726"/>
                  <a:pt x="20111" y="7716"/>
                  <a:pt x="20256" y="7747"/>
                </a:cubicBezTo>
                <a:cubicBezTo>
                  <a:pt x="20360" y="7769"/>
                  <a:pt x="20435" y="7779"/>
                  <a:pt x="20542" y="7779"/>
                </a:cubicBezTo>
                <a:cubicBezTo>
                  <a:pt x="20553" y="7779"/>
                  <a:pt x="20563" y="7779"/>
                  <a:pt x="20574" y="7779"/>
                </a:cubicBezTo>
              </a:path>
              <a:path w="24417" h="8573">
                <a:moveTo>
                  <a:pt x="17716" y="7969"/>
                </a:moveTo>
                <a:cubicBezTo>
                  <a:pt x="17758" y="7969"/>
                  <a:pt x="17739" y="7979"/>
                  <a:pt x="17780" y="7969"/>
                </a:cubicBezTo>
                <a:cubicBezTo>
                  <a:pt x="17853" y="7952"/>
                  <a:pt x="17928" y="7954"/>
                  <a:pt x="18002" y="7938"/>
                </a:cubicBezTo>
                <a:cubicBezTo>
                  <a:pt x="18141" y="7908"/>
                  <a:pt x="18276" y="7898"/>
                  <a:pt x="18415" y="7874"/>
                </a:cubicBezTo>
                <a:cubicBezTo>
                  <a:pt x="18633" y="7836"/>
                  <a:pt x="18860" y="7815"/>
                  <a:pt x="19082" y="7810"/>
                </a:cubicBezTo>
                <a:cubicBezTo>
                  <a:pt x="19277" y="7806"/>
                  <a:pt x="19460" y="7837"/>
                  <a:pt x="19653" y="7842"/>
                </a:cubicBezTo>
                <a:cubicBezTo>
                  <a:pt x="19839" y="7846"/>
                  <a:pt x="20011" y="7891"/>
                  <a:pt x="20193" y="7906"/>
                </a:cubicBezTo>
                <a:cubicBezTo>
                  <a:pt x="20359" y="7920"/>
                  <a:pt x="20511" y="7976"/>
                  <a:pt x="20669" y="8001"/>
                </a:cubicBezTo>
                <a:cubicBezTo>
                  <a:pt x="20726" y="8010"/>
                  <a:pt x="20709" y="8015"/>
                  <a:pt x="20764" y="8033"/>
                </a:cubicBezTo>
              </a:path>
              <a:path w="24417" h="8573">
                <a:moveTo>
                  <a:pt x="2984" y="9049"/>
                </a:moveTo>
                <a:cubicBezTo>
                  <a:pt x="3077" y="9049"/>
                  <a:pt x="3152" y="9028"/>
                  <a:pt x="3238" y="9017"/>
                </a:cubicBezTo>
                <a:cubicBezTo>
                  <a:pt x="3353" y="9002"/>
                  <a:pt x="3473" y="9006"/>
                  <a:pt x="3588" y="8985"/>
                </a:cubicBezTo>
                <a:cubicBezTo>
                  <a:pt x="3748" y="8956"/>
                  <a:pt x="3898" y="8954"/>
                  <a:pt x="4064" y="8954"/>
                </a:cubicBezTo>
                <a:cubicBezTo>
                  <a:pt x="4353" y="8954"/>
                  <a:pt x="4635" y="8964"/>
                  <a:pt x="4921" y="8985"/>
                </a:cubicBezTo>
                <a:cubicBezTo>
                  <a:pt x="5186" y="9004"/>
                  <a:pt x="5453" y="8995"/>
                  <a:pt x="5715" y="9017"/>
                </a:cubicBezTo>
                <a:cubicBezTo>
                  <a:pt x="5867" y="9030"/>
                  <a:pt x="6010" y="9061"/>
                  <a:pt x="6160" y="9080"/>
                </a:cubicBezTo>
                <a:cubicBezTo>
                  <a:pt x="6292" y="9097"/>
                  <a:pt x="6367" y="9109"/>
                  <a:pt x="6477" y="9144"/>
                </a:cubicBezTo>
                <a:cubicBezTo>
                  <a:pt x="6538" y="9163"/>
                  <a:pt x="6540" y="9144"/>
                  <a:pt x="6604" y="9144"/>
                </a:cubicBezTo>
              </a:path>
              <a:path w="24417" h="8573">
                <a:moveTo>
                  <a:pt x="3334" y="9366"/>
                </a:moveTo>
                <a:cubicBezTo>
                  <a:pt x="3387" y="9366"/>
                  <a:pt x="3376" y="9366"/>
                  <a:pt x="3429" y="9366"/>
                </a:cubicBezTo>
                <a:cubicBezTo>
                  <a:pt x="3525" y="9366"/>
                  <a:pt x="3652" y="9324"/>
                  <a:pt x="3746" y="9303"/>
                </a:cubicBezTo>
                <a:cubicBezTo>
                  <a:pt x="3894" y="9270"/>
                  <a:pt x="4038" y="9243"/>
                  <a:pt x="4191" y="9239"/>
                </a:cubicBezTo>
                <a:cubicBezTo>
                  <a:pt x="4395" y="9234"/>
                  <a:pt x="4588" y="9208"/>
                  <a:pt x="4794" y="9208"/>
                </a:cubicBezTo>
                <a:cubicBezTo>
                  <a:pt x="4986" y="9208"/>
                  <a:pt x="5207" y="9215"/>
                  <a:pt x="5398" y="9239"/>
                </a:cubicBezTo>
                <a:cubicBezTo>
                  <a:pt x="5565" y="9260"/>
                  <a:pt x="5740" y="9276"/>
                  <a:pt x="5906" y="9303"/>
                </a:cubicBezTo>
                <a:cubicBezTo>
                  <a:pt x="6029" y="9323"/>
                  <a:pt x="6166" y="9341"/>
                  <a:pt x="6286" y="9366"/>
                </a:cubicBezTo>
                <a:cubicBezTo>
                  <a:pt x="6331" y="9366"/>
                  <a:pt x="6354" y="9372"/>
                  <a:pt x="6382" y="9398"/>
                </a:cubicBezTo>
              </a:path>
              <a:path w="24417" h="8573">
                <a:moveTo>
                  <a:pt x="2826" y="10478"/>
                </a:moveTo>
                <a:cubicBezTo>
                  <a:pt x="2819" y="10579"/>
                  <a:pt x="2804" y="10666"/>
                  <a:pt x="2794" y="10763"/>
                </a:cubicBezTo>
                <a:cubicBezTo>
                  <a:pt x="2781" y="10893"/>
                  <a:pt x="2762" y="11011"/>
                  <a:pt x="2762" y="11144"/>
                </a:cubicBezTo>
                <a:cubicBezTo>
                  <a:pt x="2762" y="11296"/>
                  <a:pt x="2712" y="11442"/>
                  <a:pt x="2699" y="11589"/>
                </a:cubicBezTo>
                <a:cubicBezTo>
                  <a:pt x="2683" y="11769"/>
                  <a:pt x="2695" y="11950"/>
                  <a:pt x="2667" y="12128"/>
                </a:cubicBezTo>
                <a:cubicBezTo>
                  <a:pt x="2639" y="12309"/>
                  <a:pt x="2656" y="12486"/>
                  <a:pt x="2635" y="12668"/>
                </a:cubicBezTo>
                <a:cubicBezTo>
                  <a:pt x="2609" y="12889"/>
                  <a:pt x="2577" y="13113"/>
                  <a:pt x="2572" y="13335"/>
                </a:cubicBezTo>
                <a:cubicBezTo>
                  <a:pt x="2568" y="13520"/>
                  <a:pt x="2561" y="13702"/>
                  <a:pt x="2572" y="13875"/>
                </a:cubicBezTo>
                <a:cubicBezTo>
                  <a:pt x="2581" y="14027"/>
                  <a:pt x="2587" y="14172"/>
                  <a:pt x="2604" y="14319"/>
                </a:cubicBezTo>
                <a:cubicBezTo>
                  <a:pt x="2618" y="14445"/>
                  <a:pt x="2622" y="14576"/>
                  <a:pt x="2635" y="14700"/>
                </a:cubicBezTo>
                <a:cubicBezTo>
                  <a:pt x="2645" y="14795"/>
                  <a:pt x="2616" y="14921"/>
                  <a:pt x="2604" y="15018"/>
                </a:cubicBezTo>
                <a:cubicBezTo>
                  <a:pt x="2591" y="15122"/>
                  <a:pt x="2587" y="15231"/>
                  <a:pt x="2572" y="15335"/>
                </a:cubicBezTo>
                <a:cubicBezTo>
                  <a:pt x="2558" y="15430"/>
                  <a:pt x="2540" y="15518"/>
                  <a:pt x="2540" y="15621"/>
                </a:cubicBezTo>
                <a:cubicBezTo>
                  <a:pt x="2540" y="15757"/>
                  <a:pt x="2542" y="15884"/>
                  <a:pt x="2572" y="16002"/>
                </a:cubicBezTo>
              </a:path>
              <a:path w="24417" h="8573">
                <a:moveTo>
                  <a:pt x="4667" y="12605"/>
                </a:moveTo>
                <a:cubicBezTo>
                  <a:pt x="4602" y="12621"/>
                  <a:pt x="4543" y="12623"/>
                  <a:pt x="4477" y="12636"/>
                </a:cubicBezTo>
                <a:cubicBezTo>
                  <a:pt x="4369" y="12657"/>
                  <a:pt x="4274" y="12668"/>
                  <a:pt x="4159" y="12668"/>
                </a:cubicBezTo>
                <a:cubicBezTo>
                  <a:pt x="3995" y="12668"/>
                  <a:pt x="3845" y="12695"/>
                  <a:pt x="3683" y="12700"/>
                </a:cubicBezTo>
                <a:cubicBezTo>
                  <a:pt x="3489" y="12705"/>
                  <a:pt x="3304" y="12717"/>
                  <a:pt x="3112" y="12732"/>
                </a:cubicBezTo>
                <a:cubicBezTo>
                  <a:pt x="2870" y="12751"/>
                  <a:pt x="2622" y="12747"/>
                  <a:pt x="2381" y="12764"/>
                </a:cubicBezTo>
                <a:cubicBezTo>
                  <a:pt x="2190" y="12777"/>
                  <a:pt x="1998" y="12780"/>
                  <a:pt x="1810" y="12795"/>
                </a:cubicBezTo>
                <a:cubicBezTo>
                  <a:pt x="1643" y="12808"/>
                  <a:pt x="1497" y="12836"/>
                  <a:pt x="1334" y="12859"/>
                </a:cubicBezTo>
                <a:cubicBezTo>
                  <a:pt x="1164" y="12883"/>
                  <a:pt x="1015" y="12911"/>
                  <a:pt x="857" y="12986"/>
                </a:cubicBezTo>
                <a:cubicBezTo>
                  <a:pt x="791" y="13018"/>
                  <a:pt x="726" y="13052"/>
                  <a:pt x="667" y="13081"/>
                </a:cubicBezTo>
                <a:cubicBezTo>
                  <a:pt x="631" y="13081"/>
                  <a:pt x="617" y="13084"/>
                  <a:pt x="603" y="13113"/>
                </a:cubicBezTo>
              </a:path>
              <a:path w="24417" h="8573">
                <a:moveTo>
                  <a:pt x="4382" y="12510"/>
                </a:moveTo>
                <a:cubicBezTo>
                  <a:pt x="4432" y="12522"/>
                  <a:pt x="4462" y="12558"/>
                  <a:pt x="4508" y="12573"/>
                </a:cubicBezTo>
                <a:cubicBezTo>
                  <a:pt x="4560" y="12591"/>
                  <a:pt x="4616" y="12621"/>
                  <a:pt x="4667" y="12636"/>
                </a:cubicBezTo>
                <a:cubicBezTo>
                  <a:pt x="4699" y="12636"/>
                  <a:pt x="4710" y="12636"/>
                  <a:pt x="4731" y="12636"/>
                </a:cubicBezTo>
                <a:cubicBezTo>
                  <a:pt x="4714" y="12686"/>
                  <a:pt x="4681" y="12670"/>
                  <a:pt x="4636" y="12700"/>
                </a:cubicBezTo>
                <a:cubicBezTo>
                  <a:pt x="4615" y="12714"/>
                  <a:pt x="4516" y="12753"/>
                  <a:pt x="4508" y="12764"/>
                </a:cubicBezTo>
                <a:cubicBezTo>
                  <a:pt x="4487" y="12795"/>
                  <a:pt x="4471" y="12820"/>
                  <a:pt x="4413" y="12827"/>
                </a:cubicBezTo>
                <a:cubicBezTo>
                  <a:pt x="4403" y="12827"/>
                  <a:pt x="4392" y="12827"/>
                  <a:pt x="4382" y="12827"/>
                </a:cubicBezTo>
              </a:path>
              <a:path w="24417" h="8573">
                <a:moveTo>
                  <a:pt x="730" y="12700"/>
                </a:moveTo>
                <a:cubicBezTo>
                  <a:pt x="717" y="12750"/>
                  <a:pt x="682" y="12780"/>
                  <a:pt x="667" y="12827"/>
                </a:cubicBezTo>
                <a:cubicBezTo>
                  <a:pt x="667" y="12838"/>
                  <a:pt x="667" y="12848"/>
                  <a:pt x="667" y="12859"/>
                </a:cubicBezTo>
                <a:cubicBezTo>
                  <a:pt x="615" y="12876"/>
                  <a:pt x="655" y="12873"/>
                  <a:pt x="603" y="12890"/>
                </a:cubicBezTo>
                <a:cubicBezTo>
                  <a:pt x="595" y="12925"/>
                  <a:pt x="543" y="13032"/>
                  <a:pt x="508" y="13049"/>
                </a:cubicBezTo>
                <a:cubicBezTo>
                  <a:pt x="497" y="13049"/>
                  <a:pt x="487" y="13049"/>
                  <a:pt x="476" y="13049"/>
                </a:cubicBezTo>
                <a:cubicBezTo>
                  <a:pt x="549" y="13049"/>
                  <a:pt x="576" y="13061"/>
                  <a:pt x="635" y="13081"/>
                </a:cubicBezTo>
                <a:cubicBezTo>
                  <a:pt x="646" y="13081"/>
                  <a:pt x="656" y="13081"/>
                  <a:pt x="667" y="13081"/>
                </a:cubicBezTo>
                <a:cubicBezTo>
                  <a:pt x="682" y="13144"/>
                  <a:pt x="742" y="13181"/>
                  <a:pt x="762" y="13240"/>
                </a:cubicBezTo>
                <a:cubicBezTo>
                  <a:pt x="783" y="13302"/>
                  <a:pt x="806" y="13296"/>
                  <a:pt x="857" y="13335"/>
                </a:cubicBezTo>
              </a:path>
              <a:path w="24417" h="8573">
                <a:moveTo>
                  <a:pt x="1302" y="12002"/>
                </a:moveTo>
                <a:cubicBezTo>
                  <a:pt x="1283" y="12008"/>
                  <a:pt x="1228" y="12078"/>
                  <a:pt x="1238" y="12097"/>
                </a:cubicBezTo>
                <a:cubicBezTo>
                  <a:pt x="1247" y="12114"/>
                  <a:pt x="1299" y="12204"/>
                  <a:pt x="1334" y="12160"/>
                </a:cubicBezTo>
                <a:cubicBezTo>
                  <a:pt x="1341" y="12151"/>
                  <a:pt x="1388" y="12052"/>
                  <a:pt x="1365" y="12033"/>
                </a:cubicBezTo>
                <a:cubicBezTo>
                  <a:pt x="1334" y="12033"/>
                  <a:pt x="1324" y="12033"/>
                  <a:pt x="1334" y="12002"/>
                </a:cubicBezTo>
                <a:cubicBezTo>
                  <a:pt x="1278" y="12042"/>
                  <a:pt x="1270" y="12025"/>
                  <a:pt x="1270" y="12097"/>
                </a:cubicBezTo>
                <a:cubicBezTo>
                  <a:pt x="1270" y="12121"/>
                  <a:pt x="1289" y="12216"/>
                  <a:pt x="1334" y="12160"/>
                </a:cubicBezTo>
                <a:cubicBezTo>
                  <a:pt x="1345" y="12146"/>
                  <a:pt x="1385" y="12102"/>
                  <a:pt x="1365" y="12065"/>
                </a:cubicBezTo>
                <a:cubicBezTo>
                  <a:pt x="1346" y="12029"/>
                  <a:pt x="1309" y="11955"/>
                  <a:pt x="1270" y="12033"/>
                </a:cubicBezTo>
                <a:cubicBezTo>
                  <a:pt x="1247" y="12078"/>
                  <a:pt x="1279" y="12130"/>
                  <a:pt x="1302" y="12160"/>
                </a:cubicBezTo>
                <a:cubicBezTo>
                  <a:pt x="1365" y="12144"/>
                  <a:pt x="1365" y="12129"/>
                  <a:pt x="1365" y="12065"/>
                </a:cubicBezTo>
                <a:cubicBezTo>
                  <a:pt x="1365" y="11999"/>
                  <a:pt x="1368" y="12002"/>
                  <a:pt x="1302" y="12002"/>
                </a:cubicBezTo>
                <a:cubicBezTo>
                  <a:pt x="1290" y="12017"/>
                  <a:pt x="1237" y="12102"/>
                  <a:pt x="1270" y="12128"/>
                </a:cubicBezTo>
                <a:cubicBezTo>
                  <a:pt x="1281" y="12128"/>
                  <a:pt x="1291" y="12128"/>
                  <a:pt x="1302" y="12128"/>
                </a:cubicBezTo>
              </a:path>
              <a:path w="24417" h="8573">
                <a:moveTo>
                  <a:pt x="952" y="10795"/>
                </a:moveTo>
                <a:cubicBezTo>
                  <a:pt x="898" y="10795"/>
                  <a:pt x="876" y="10802"/>
                  <a:pt x="857" y="10858"/>
                </a:cubicBezTo>
                <a:cubicBezTo>
                  <a:pt x="837" y="10916"/>
                  <a:pt x="796" y="10933"/>
                  <a:pt x="762" y="10986"/>
                </a:cubicBezTo>
                <a:cubicBezTo>
                  <a:pt x="711" y="11064"/>
                  <a:pt x="672" y="11149"/>
                  <a:pt x="667" y="11240"/>
                </a:cubicBezTo>
                <a:cubicBezTo>
                  <a:pt x="662" y="11325"/>
                  <a:pt x="661" y="11393"/>
                  <a:pt x="698" y="11462"/>
                </a:cubicBezTo>
                <a:cubicBezTo>
                  <a:pt x="733" y="11528"/>
                  <a:pt x="756" y="11572"/>
                  <a:pt x="826" y="11589"/>
                </a:cubicBezTo>
              </a:path>
              <a:path w="24417" h="8573">
                <a:moveTo>
                  <a:pt x="889" y="11208"/>
                </a:moveTo>
                <a:cubicBezTo>
                  <a:pt x="955" y="11208"/>
                  <a:pt x="982" y="11185"/>
                  <a:pt x="1048" y="11176"/>
                </a:cubicBezTo>
              </a:path>
              <a:path w="24417" h="8573">
                <a:moveTo>
                  <a:pt x="1365" y="10986"/>
                </a:moveTo>
                <a:cubicBezTo>
                  <a:pt x="1348" y="11037"/>
                  <a:pt x="1302" y="11017"/>
                  <a:pt x="1238" y="11017"/>
                </a:cubicBezTo>
                <a:cubicBezTo>
                  <a:pt x="1194" y="11017"/>
                  <a:pt x="1135" y="11000"/>
                  <a:pt x="1111" y="11049"/>
                </a:cubicBezTo>
                <a:cubicBezTo>
                  <a:pt x="1083" y="11106"/>
                  <a:pt x="1123" y="11149"/>
                  <a:pt x="1080" y="11208"/>
                </a:cubicBezTo>
                <a:cubicBezTo>
                  <a:pt x="1157" y="11208"/>
                  <a:pt x="1144" y="11172"/>
                  <a:pt x="1206" y="11144"/>
                </a:cubicBezTo>
                <a:cubicBezTo>
                  <a:pt x="1251" y="11124"/>
                  <a:pt x="1305" y="11149"/>
                  <a:pt x="1334" y="11176"/>
                </a:cubicBezTo>
                <a:cubicBezTo>
                  <a:pt x="1379" y="11217"/>
                  <a:pt x="1368" y="11288"/>
                  <a:pt x="1397" y="11335"/>
                </a:cubicBezTo>
                <a:cubicBezTo>
                  <a:pt x="1434" y="11396"/>
                  <a:pt x="1449" y="11436"/>
                  <a:pt x="1397" y="11494"/>
                </a:cubicBezTo>
                <a:cubicBezTo>
                  <a:pt x="1341" y="11556"/>
                  <a:pt x="1332" y="11501"/>
                  <a:pt x="1270" y="11494"/>
                </a:cubicBezTo>
                <a:cubicBezTo>
                  <a:pt x="1215" y="11488"/>
                  <a:pt x="1257" y="11479"/>
                  <a:pt x="1206" y="11462"/>
                </a:cubicBezTo>
              </a:path>
              <a:path w="24417" h="8573">
                <a:moveTo>
                  <a:pt x="1556" y="11366"/>
                </a:moveTo>
                <a:cubicBezTo>
                  <a:pt x="1567" y="11377"/>
                  <a:pt x="1577" y="11387"/>
                  <a:pt x="1588" y="11398"/>
                </a:cubicBezTo>
                <a:cubicBezTo>
                  <a:pt x="1551" y="11447"/>
                  <a:pt x="1556" y="11463"/>
                  <a:pt x="1556" y="11525"/>
                </a:cubicBezTo>
                <a:cubicBezTo>
                  <a:pt x="1556" y="11561"/>
                  <a:pt x="1559" y="11575"/>
                  <a:pt x="1588" y="11589"/>
                </a:cubicBezTo>
              </a:path>
              <a:path w="24417" h="8573">
                <a:moveTo>
                  <a:pt x="1778" y="11112"/>
                </a:moveTo>
                <a:cubicBezTo>
                  <a:pt x="1767" y="11112"/>
                  <a:pt x="1757" y="11112"/>
                  <a:pt x="1746" y="11112"/>
                </a:cubicBezTo>
                <a:cubicBezTo>
                  <a:pt x="1760" y="11170"/>
                  <a:pt x="1778" y="11202"/>
                  <a:pt x="1778" y="11271"/>
                </a:cubicBezTo>
                <a:cubicBezTo>
                  <a:pt x="1778" y="11345"/>
                  <a:pt x="1778" y="11420"/>
                  <a:pt x="1778" y="11494"/>
                </a:cubicBezTo>
              </a:path>
              <a:path w="24417" h="8573">
                <a:moveTo>
                  <a:pt x="1873" y="10954"/>
                </a:moveTo>
                <a:cubicBezTo>
                  <a:pt x="1953" y="10974"/>
                  <a:pt x="1949" y="11020"/>
                  <a:pt x="2000" y="11081"/>
                </a:cubicBezTo>
                <a:cubicBezTo>
                  <a:pt x="2085" y="11184"/>
                  <a:pt x="2121" y="11230"/>
                  <a:pt x="2127" y="11366"/>
                </a:cubicBezTo>
                <a:cubicBezTo>
                  <a:pt x="2131" y="11458"/>
                  <a:pt x="2084" y="11535"/>
                  <a:pt x="2064" y="11620"/>
                </a:cubicBezTo>
                <a:cubicBezTo>
                  <a:pt x="2053" y="11668"/>
                  <a:pt x="2037" y="11679"/>
                  <a:pt x="2000" y="11716"/>
                </a:cubicBezTo>
              </a:path>
              <a:path w="24417" h="8573">
                <a:moveTo>
                  <a:pt x="889" y="12319"/>
                </a:moveTo>
                <a:cubicBezTo>
                  <a:pt x="907" y="12392"/>
                  <a:pt x="897" y="12374"/>
                  <a:pt x="889" y="12446"/>
                </a:cubicBezTo>
                <a:cubicBezTo>
                  <a:pt x="881" y="12522"/>
                  <a:pt x="902" y="12548"/>
                  <a:pt x="921" y="12605"/>
                </a:cubicBezTo>
                <a:cubicBezTo>
                  <a:pt x="929" y="12629"/>
                  <a:pt x="921" y="12674"/>
                  <a:pt x="921" y="12700"/>
                </a:cubicBezTo>
                <a:cubicBezTo>
                  <a:pt x="921" y="12639"/>
                  <a:pt x="899" y="12620"/>
                  <a:pt x="889" y="12573"/>
                </a:cubicBezTo>
                <a:cubicBezTo>
                  <a:pt x="871" y="12491"/>
                  <a:pt x="914" y="12448"/>
                  <a:pt x="921" y="12382"/>
                </a:cubicBezTo>
                <a:cubicBezTo>
                  <a:pt x="928" y="12324"/>
                  <a:pt x="913" y="12295"/>
                  <a:pt x="984" y="12287"/>
                </a:cubicBezTo>
                <a:cubicBezTo>
                  <a:pt x="1053" y="12279"/>
                  <a:pt x="1062" y="12310"/>
                  <a:pt x="1080" y="12382"/>
                </a:cubicBezTo>
                <a:cubicBezTo>
                  <a:pt x="1091" y="12425"/>
                  <a:pt x="1080" y="12665"/>
                  <a:pt x="1080" y="12605"/>
                </a:cubicBezTo>
                <a:cubicBezTo>
                  <a:pt x="1080" y="12526"/>
                  <a:pt x="1093" y="12488"/>
                  <a:pt x="1111" y="12414"/>
                </a:cubicBezTo>
                <a:cubicBezTo>
                  <a:pt x="1119" y="12381"/>
                  <a:pt x="1161" y="12326"/>
                  <a:pt x="1175" y="12319"/>
                </a:cubicBezTo>
                <a:cubicBezTo>
                  <a:pt x="1223" y="12294"/>
                  <a:pt x="1267" y="12383"/>
                  <a:pt x="1270" y="12414"/>
                </a:cubicBezTo>
                <a:cubicBezTo>
                  <a:pt x="1281" y="12514"/>
                  <a:pt x="1242" y="12620"/>
                  <a:pt x="1302" y="12700"/>
                </a:cubicBezTo>
              </a:path>
              <a:path w="24417" h="8573">
                <a:moveTo>
                  <a:pt x="1460" y="12541"/>
                </a:moveTo>
                <a:cubicBezTo>
                  <a:pt x="1460" y="12509"/>
                  <a:pt x="1460" y="12478"/>
                  <a:pt x="1460" y="12446"/>
                </a:cubicBezTo>
                <a:cubicBezTo>
                  <a:pt x="1399" y="12462"/>
                  <a:pt x="1356" y="12506"/>
                  <a:pt x="1334" y="12573"/>
                </a:cubicBezTo>
                <a:cubicBezTo>
                  <a:pt x="1314" y="12633"/>
                  <a:pt x="1357" y="12651"/>
                  <a:pt x="1365" y="12668"/>
                </a:cubicBezTo>
                <a:cubicBezTo>
                  <a:pt x="1389" y="12718"/>
                  <a:pt x="1408" y="12664"/>
                  <a:pt x="1429" y="12636"/>
                </a:cubicBezTo>
                <a:cubicBezTo>
                  <a:pt x="1460" y="12594"/>
                  <a:pt x="1479" y="12560"/>
                  <a:pt x="1492" y="12510"/>
                </a:cubicBezTo>
                <a:cubicBezTo>
                  <a:pt x="1455" y="12558"/>
                  <a:pt x="1460" y="12574"/>
                  <a:pt x="1460" y="12636"/>
                </a:cubicBezTo>
                <a:cubicBezTo>
                  <a:pt x="1460" y="12668"/>
                  <a:pt x="1460" y="12679"/>
                  <a:pt x="1492" y="12668"/>
                </a:cubicBezTo>
              </a:path>
              <a:path w="24417" h="8573">
                <a:moveTo>
                  <a:pt x="1588" y="12478"/>
                </a:moveTo>
                <a:cubicBezTo>
                  <a:pt x="1588" y="12541"/>
                  <a:pt x="1588" y="12605"/>
                  <a:pt x="1588" y="12668"/>
                </a:cubicBezTo>
                <a:cubicBezTo>
                  <a:pt x="1588" y="12610"/>
                  <a:pt x="1580" y="12585"/>
                  <a:pt x="1619" y="12541"/>
                </a:cubicBezTo>
                <a:cubicBezTo>
                  <a:pt x="1666" y="12489"/>
                  <a:pt x="1639" y="12478"/>
                  <a:pt x="1714" y="12478"/>
                </a:cubicBezTo>
              </a:path>
              <a:path w="24417" h="8573">
                <a:moveTo>
                  <a:pt x="1937" y="12510"/>
                </a:moveTo>
                <a:cubicBezTo>
                  <a:pt x="1937" y="12445"/>
                  <a:pt x="1937" y="12430"/>
                  <a:pt x="1873" y="12414"/>
                </a:cubicBezTo>
                <a:cubicBezTo>
                  <a:pt x="1859" y="12471"/>
                  <a:pt x="1826" y="12511"/>
                  <a:pt x="1810" y="12573"/>
                </a:cubicBezTo>
                <a:cubicBezTo>
                  <a:pt x="1794" y="12637"/>
                  <a:pt x="1832" y="12647"/>
                  <a:pt x="1842" y="12668"/>
                </a:cubicBezTo>
                <a:cubicBezTo>
                  <a:pt x="1865" y="12714"/>
                  <a:pt x="1887" y="12713"/>
                  <a:pt x="1937" y="12668"/>
                </a:cubicBezTo>
                <a:cubicBezTo>
                  <a:pt x="1947" y="12657"/>
                  <a:pt x="1958" y="12647"/>
                  <a:pt x="1968" y="12636"/>
                </a:cubicBezTo>
              </a:path>
              <a:path w="24417" h="8573">
                <a:moveTo>
                  <a:pt x="2032" y="12414"/>
                </a:moveTo>
                <a:cubicBezTo>
                  <a:pt x="2044" y="12464"/>
                  <a:pt x="2064" y="12484"/>
                  <a:pt x="2064" y="12541"/>
                </a:cubicBezTo>
                <a:cubicBezTo>
                  <a:pt x="2064" y="12582"/>
                  <a:pt x="2074" y="12625"/>
                  <a:pt x="2096" y="12636"/>
                </a:cubicBezTo>
                <a:cubicBezTo>
                  <a:pt x="2106" y="12636"/>
                  <a:pt x="2117" y="12636"/>
                  <a:pt x="2127" y="12636"/>
                </a:cubicBezTo>
                <a:cubicBezTo>
                  <a:pt x="2137" y="12607"/>
                  <a:pt x="2139" y="12576"/>
                  <a:pt x="2159" y="12541"/>
                </a:cubicBezTo>
                <a:cubicBezTo>
                  <a:pt x="2177" y="12510"/>
                  <a:pt x="2217" y="12456"/>
                  <a:pt x="2222" y="12446"/>
                </a:cubicBezTo>
                <a:cubicBezTo>
                  <a:pt x="2222" y="12435"/>
                  <a:pt x="2222" y="12425"/>
                  <a:pt x="2222" y="12414"/>
                </a:cubicBezTo>
                <a:cubicBezTo>
                  <a:pt x="2201" y="12443"/>
                  <a:pt x="2168" y="12498"/>
                  <a:pt x="2191" y="12541"/>
                </a:cubicBezTo>
                <a:cubicBezTo>
                  <a:pt x="2216" y="12586"/>
                  <a:pt x="2218" y="12593"/>
                  <a:pt x="2254" y="12605"/>
                </a:cubicBezTo>
              </a:path>
              <a:path w="24417" h="8573">
                <a:moveTo>
                  <a:pt x="2381" y="12414"/>
                </a:moveTo>
                <a:cubicBezTo>
                  <a:pt x="2381" y="12345"/>
                  <a:pt x="2366" y="12438"/>
                  <a:pt x="2350" y="12446"/>
                </a:cubicBezTo>
                <a:cubicBezTo>
                  <a:pt x="2340" y="12451"/>
                  <a:pt x="2277" y="12509"/>
                  <a:pt x="2318" y="12541"/>
                </a:cubicBezTo>
                <a:cubicBezTo>
                  <a:pt x="2352" y="12567"/>
                  <a:pt x="2351" y="12592"/>
                  <a:pt x="2381" y="12636"/>
                </a:cubicBezTo>
                <a:cubicBezTo>
                  <a:pt x="2413" y="12683"/>
                  <a:pt x="2413" y="12675"/>
                  <a:pt x="2413" y="12732"/>
                </a:cubicBezTo>
                <a:cubicBezTo>
                  <a:pt x="2356" y="12732"/>
                  <a:pt x="2334" y="12748"/>
                  <a:pt x="2318" y="12700"/>
                </a:cubicBezTo>
              </a:path>
              <a:path w="24417" h="8573">
                <a:moveTo>
                  <a:pt x="6540" y="10795"/>
                </a:moveTo>
                <a:cubicBezTo>
                  <a:pt x="6500" y="10849"/>
                  <a:pt x="6509" y="10883"/>
                  <a:pt x="6509" y="10954"/>
                </a:cubicBezTo>
                <a:cubicBezTo>
                  <a:pt x="6509" y="11046"/>
                  <a:pt x="6519" y="11091"/>
                  <a:pt x="6540" y="11176"/>
                </a:cubicBezTo>
                <a:cubicBezTo>
                  <a:pt x="6547" y="11203"/>
                  <a:pt x="6540" y="11243"/>
                  <a:pt x="6540" y="11271"/>
                </a:cubicBezTo>
              </a:path>
              <a:path w="24417" h="8573">
                <a:moveTo>
                  <a:pt x="6128" y="11462"/>
                </a:moveTo>
                <a:cubicBezTo>
                  <a:pt x="6145" y="11491"/>
                  <a:pt x="6173" y="11545"/>
                  <a:pt x="6191" y="11557"/>
                </a:cubicBezTo>
                <a:cubicBezTo>
                  <a:pt x="6240" y="11589"/>
                  <a:pt x="6300" y="11580"/>
                  <a:pt x="6350" y="11620"/>
                </a:cubicBezTo>
                <a:cubicBezTo>
                  <a:pt x="6406" y="11664"/>
                  <a:pt x="6497" y="11681"/>
                  <a:pt x="6572" y="11684"/>
                </a:cubicBezTo>
                <a:cubicBezTo>
                  <a:pt x="6661" y="11688"/>
                  <a:pt x="6747" y="11697"/>
                  <a:pt x="6826" y="11652"/>
                </a:cubicBezTo>
                <a:cubicBezTo>
                  <a:pt x="6902" y="11608"/>
                  <a:pt x="6934" y="11524"/>
                  <a:pt x="6985" y="11462"/>
                </a:cubicBezTo>
                <a:cubicBezTo>
                  <a:pt x="7062" y="11367"/>
                  <a:pt x="7082" y="11321"/>
                  <a:pt x="7112" y="11208"/>
                </a:cubicBezTo>
                <a:cubicBezTo>
                  <a:pt x="7144" y="11086"/>
                  <a:pt x="7144" y="10984"/>
                  <a:pt x="7144" y="10858"/>
                </a:cubicBezTo>
                <a:cubicBezTo>
                  <a:pt x="7144" y="10740"/>
                  <a:pt x="7133" y="10678"/>
                  <a:pt x="7080" y="10573"/>
                </a:cubicBezTo>
                <a:cubicBezTo>
                  <a:pt x="7041" y="10496"/>
                  <a:pt x="6963" y="10401"/>
                  <a:pt x="6890" y="10350"/>
                </a:cubicBezTo>
                <a:cubicBezTo>
                  <a:pt x="6817" y="10299"/>
                  <a:pt x="6720" y="10319"/>
                  <a:pt x="6636" y="10319"/>
                </a:cubicBezTo>
                <a:cubicBezTo>
                  <a:pt x="6501" y="10319"/>
                  <a:pt x="6469" y="10346"/>
                  <a:pt x="6350" y="10414"/>
                </a:cubicBezTo>
                <a:cubicBezTo>
                  <a:pt x="6272" y="10459"/>
                  <a:pt x="6183" y="10559"/>
                  <a:pt x="6128" y="10636"/>
                </a:cubicBezTo>
                <a:cubicBezTo>
                  <a:pt x="6052" y="10741"/>
                  <a:pt x="6006" y="10924"/>
                  <a:pt x="6001" y="11049"/>
                </a:cubicBezTo>
                <a:cubicBezTo>
                  <a:pt x="5997" y="11142"/>
                  <a:pt x="5985" y="11318"/>
                  <a:pt x="6032" y="11398"/>
                </a:cubicBezTo>
                <a:cubicBezTo>
                  <a:pt x="6081" y="11483"/>
                  <a:pt x="6155" y="11526"/>
                  <a:pt x="6223" y="11589"/>
                </a:cubicBezTo>
                <a:cubicBezTo>
                  <a:pt x="6294" y="11656"/>
                  <a:pt x="6338" y="11650"/>
                  <a:pt x="6414" y="11684"/>
                </a:cubicBezTo>
                <a:cubicBezTo>
                  <a:pt x="6535" y="11738"/>
                  <a:pt x="6462" y="11694"/>
                  <a:pt x="6540" y="11684"/>
                </a:cubicBezTo>
                <a:cubicBezTo>
                  <a:pt x="6603" y="11676"/>
                  <a:pt x="6574" y="11670"/>
                  <a:pt x="6604" y="11652"/>
                </a:cubicBezTo>
              </a:path>
              <a:path w="24417" h="8573">
                <a:moveTo>
                  <a:pt x="8001" y="10541"/>
                </a:moveTo>
                <a:cubicBezTo>
                  <a:pt x="8001" y="10871"/>
                  <a:pt x="7998" y="11202"/>
                  <a:pt x="8033" y="11525"/>
                </a:cubicBezTo>
                <a:cubicBezTo>
                  <a:pt x="8044" y="11625"/>
                  <a:pt x="8033" y="11948"/>
                  <a:pt x="8033" y="11938"/>
                </a:cubicBezTo>
              </a:path>
              <a:path w="24417" h="8573">
                <a:moveTo>
                  <a:pt x="8318" y="10573"/>
                </a:moveTo>
                <a:cubicBezTo>
                  <a:pt x="8337" y="10665"/>
                  <a:pt x="8350" y="10727"/>
                  <a:pt x="8350" y="10827"/>
                </a:cubicBezTo>
                <a:cubicBezTo>
                  <a:pt x="8350" y="11105"/>
                  <a:pt x="8357" y="11380"/>
                  <a:pt x="8382" y="11652"/>
                </a:cubicBezTo>
                <a:cubicBezTo>
                  <a:pt x="8390" y="11739"/>
                  <a:pt x="8424" y="11952"/>
                  <a:pt x="8414" y="12033"/>
                </a:cubicBezTo>
                <a:cubicBezTo>
                  <a:pt x="8414" y="12035"/>
                  <a:pt x="8382" y="12175"/>
                  <a:pt x="8382" y="12097"/>
                </a:cubicBezTo>
              </a:path>
              <a:path w="24417" h="8573">
                <a:moveTo>
                  <a:pt x="8001" y="11462"/>
                </a:moveTo>
                <a:cubicBezTo>
                  <a:pt x="8127" y="11462"/>
                  <a:pt x="8233" y="11474"/>
                  <a:pt x="8350" y="11494"/>
                </a:cubicBezTo>
                <a:cubicBezTo>
                  <a:pt x="8371" y="11494"/>
                  <a:pt x="8393" y="11494"/>
                  <a:pt x="8414" y="11494"/>
                </a:cubicBezTo>
              </a:path>
              <a:path w="24417" h="8573">
                <a:moveTo>
                  <a:pt x="8954" y="11271"/>
                </a:moveTo>
                <a:cubicBezTo>
                  <a:pt x="8947" y="11251"/>
                  <a:pt x="8924" y="11193"/>
                  <a:pt x="8890" y="11176"/>
                </a:cubicBezTo>
                <a:cubicBezTo>
                  <a:pt x="8869" y="11165"/>
                  <a:pt x="8837" y="11120"/>
                  <a:pt x="8795" y="11144"/>
                </a:cubicBezTo>
                <a:cubicBezTo>
                  <a:pt x="8723" y="11184"/>
                  <a:pt x="8718" y="11238"/>
                  <a:pt x="8700" y="11303"/>
                </a:cubicBezTo>
                <a:cubicBezTo>
                  <a:pt x="8667" y="11425"/>
                  <a:pt x="8668" y="11525"/>
                  <a:pt x="8668" y="11652"/>
                </a:cubicBezTo>
                <a:cubicBezTo>
                  <a:pt x="8668" y="11736"/>
                  <a:pt x="8681" y="11843"/>
                  <a:pt x="8731" y="11906"/>
                </a:cubicBezTo>
                <a:cubicBezTo>
                  <a:pt x="8773" y="11959"/>
                  <a:pt x="8815" y="11944"/>
                  <a:pt x="8858" y="11906"/>
                </a:cubicBezTo>
                <a:cubicBezTo>
                  <a:pt x="8923" y="11848"/>
                  <a:pt x="8950" y="11766"/>
                  <a:pt x="8954" y="11684"/>
                </a:cubicBezTo>
                <a:cubicBezTo>
                  <a:pt x="8958" y="11584"/>
                  <a:pt x="8985" y="11498"/>
                  <a:pt x="8985" y="11398"/>
                </a:cubicBezTo>
                <a:cubicBezTo>
                  <a:pt x="8985" y="11366"/>
                  <a:pt x="8985" y="11356"/>
                  <a:pt x="8985" y="11335"/>
                </a:cubicBezTo>
                <a:cubicBezTo>
                  <a:pt x="8985" y="11403"/>
                  <a:pt x="9005" y="11429"/>
                  <a:pt x="9017" y="11494"/>
                </a:cubicBezTo>
                <a:cubicBezTo>
                  <a:pt x="9034" y="11589"/>
                  <a:pt x="9066" y="11685"/>
                  <a:pt x="9080" y="11779"/>
                </a:cubicBezTo>
                <a:cubicBezTo>
                  <a:pt x="9093" y="11866"/>
                  <a:pt x="9074" y="11958"/>
                  <a:pt x="9112" y="12033"/>
                </a:cubicBezTo>
                <a:cubicBezTo>
                  <a:pt x="9141" y="12062"/>
                  <a:pt x="9152" y="12077"/>
                  <a:pt x="9144" y="12033"/>
                </a:cubicBezTo>
              </a:path>
              <a:path w="24417" h="8573">
                <a:moveTo>
                  <a:pt x="9239" y="10795"/>
                </a:moveTo>
                <a:cubicBezTo>
                  <a:pt x="9258" y="10872"/>
                  <a:pt x="9295" y="10961"/>
                  <a:pt x="9303" y="11049"/>
                </a:cubicBezTo>
                <a:cubicBezTo>
                  <a:pt x="9318" y="11208"/>
                  <a:pt x="9319" y="11368"/>
                  <a:pt x="9334" y="11525"/>
                </a:cubicBezTo>
                <a:cubicBezTo>
                  <a:pt x="9345" y="11641"/>
                  <a:pt x="9361" y="11760"/>
                  <a:pt x="9366" y="11874"/>
                </a:cubicBezTo>
                <a:cubicBezTo>
                  <a:pt x="9370" y="11974"/>
                  <a:pt x="9379" y="11960"/>
                  <a:pt x="9398" y="12033"/>
                </a:cubicBezTo>
              </a:path>
              <a:path w="24417" h="8573">
                <a:moveTo>
                  <a:pt x="9588" y="11049"/>
                </a:moveTo>
                <a:cubicBezTo>
                  <a:pt x="9607" y="11142"/>
                  <a:pt x="9642" y="11235"/>
                  <a:pt x="9652" y="11335"/>
                </a:cubicBezTo>
                <a:cubicBezTo>
                  <a:pt x="9665" y="11461"/>
                  <a:pt x="9651" y="11594"/>
                  <a:pt x="9684" y="11716"/>
                </a:cubicBezTo>
                <a:cubicBezTo>
                  <a:pt x="9704" y="11790"/>
                  <a:pt x="9708" y="11905"/>
                  <a:pt x="9747" y="11970"/>
                </a:cubicBezTo>
                <a:cubicBezTo>
                  <a:pt x="9776" y="11999"/>
                  <a:pt x="9786" y="12005"/>
                  <a:pt x="9779" y="12033"/>
                </a:cubicBezTo>
                <a:cubicBezTo>
                  <a:pt x="9779" y="11962"/>
                  <a:pt x="9802" y="11908"/>
                  <a:pt x="9811" y="11843"/>
                </a:cubicBezTo>
                <a:cubicBezTo>
                  <a:pt x="9836" y="11653"/>
                  <a:pt x="9812" y="11456"/>
                  <a:pt x="9842" y="11271"/>
                </a:cubicBezTo>
                <a:cubicBezTo>
                  <a:pt x="9852" y="11211"/>
                  <a:pt x="9861" y="11196"/>
                  <a:pt x="9874" y="11144"/>
                </a:cubicBezTo>
                <a:cubicBezTo>
                  <a:pt x="9907" y="11155"/>
                  <a:pt x="9957" y="11217"/>
                  <a:pt x="9970" y="11271"/>
                </a:cubicBezTo>
                <a:cubicBezTo>
                  <a:pt x="9993" y="11366"/>
                  <a:pt x="10011" y="11462"/>
                  <a:pt x="10033" y="11557"/>
                </a:cubicBezTo>
                <a:cubicBezTo>
                  <a:pt x="10061" y="11679"/>
                  <a:pt x="10149" y="11767"/>
                  <a:pt x="10192" y="11874"/>
                </a:cubicBezTo>
                <a:cubicBezTo>
                  <a:pt x="10192" y="11906"/>
                  <a:pt x="10192" y="11917"/>
                  <a:pt x="10224" y="11906"/>
                </a:cubicBezTo>
                <a:cubicBezTo>
                  <a:pt x="10224" y="11794"/>
                  <a:pt x="10205" y="11693"/>
                  <a:pt x="10192" y="11589"/>
                </a:cubicBezTo>
                <a:cubicBezTo>
                  <a:pt x="10175" y="11455"/>
                  <a:pt x="10207" y="11335"/>
                  <a:pt x="10224" y="11208"/>
                </a:cubicBezTo>
                <a:cubicBezTo>
                  <a:pt x="10237" y="11110"/>
                  <a:pt x="10215" y="11090"/>
                  <a:pt x="10287" y="11017"/>
                </a:cubicBezTo>
              </a:path>
              <a:path w="24417" h="8573">
                <a:moveTo>
                  <a:pt x="10700" y="11271"/>
                </a:moveTo>
                <a:cubicBezTo>
                  <a:pt x="10754" y="11254"/>
                  <a:pt x="10739" y="11220"/>
                  <a:pt x="10700" y="11176"/>
                </a:cubicBezTo>
                <a:cubicBezTo>
                  <a:pt x="10654" y="11125"/>
                  <a:pt x="10603" y="11065"/>
                  <a:pt x="10541" y="11049"/>
                </a:cubicBezTo>
                <a:cubicBezTo>
                  <a:pt x="10464" y="11068"/>
                  <a:pt x="10450" y="11136"/>
                  <a:pt x="10414" y="11208"/>
                </a:cubicBezTo>
                <a:cubicBezTo>
                  <a:pt x="10364" y="11307"/>
                  <a:pt x="10382" y="11415"/>
                  <a:pt x="10382" y="11525"/>
                </a:cubicBezTo>
                <a:cubicBezTo>
                  <a:pt x="10382" y="11611"/>
                  <a:pt x="10400" y="11737"/>
                  <a:pt x="10446" y="11811"/>
                </a:cubicBezTo>
                <a:cubicBezTo>
                  <a:pt x="10475" y="11840"/>
                  <a:pt x="10481" y="11850"/>
                  <a:pt x="10509" y="11843"/>
                </a:cubicBezTo>
                <a:cubicBezTo>
                  <a:pt x="10579" y="11826"/>
                  <a:pt x="10601" y="11782"/>
                  <a:pt x="10636" y="11716"/>
                </a:cubicBezTo>
                <a:cubicBezTo>
                  <a:pt x="10691" y="11612"/>
                  <a:pt x="10700" y="11548"/>
                  <a:pt x="10700" y="11430"/>
                </a:cubicBezTo>
                <a:cubicBezTo>
                  <a:pt x="10700" y="11397"/>
                  <a:pt x="10700" y="11145"/>
                  <a:pt x="10700" y="11208"/>
                </a:cubicBezTo>
                <a:cubicBezTo>
                  <a:pt x="10700" y="11322"/>
                  <a:pt x="10719" y="11416"/>
                  <a:pt x="10732" y="11525"/>
                </a:cubicBezTo>
                <a:cubicBezTo>
                  <a:pt x="10744" y="11624"/>
                  <a:pt x="10779" y="11725"/>
                  <a:pt x="10795" y="11811"/>
                </a:cubicBezTo>
                <a:cubicBezTo>
                  <a:pt x="10803" y="11852"/>
                  <a:pt x="10790" y="11945"/>
                  <a:pt x="10827" y="11970"/>
                </a:cubicBezTo>
                <a:cubicBezTo>
                  <a:pt x="10854" y="11988"/>
                  <a:pt x="10876" y="11924"/>
                  <a:pt x="10890" y="11906"/>
                </a:cubicBezTo>
              </a:path>
              <a:path w="24417" h="8573">
                <a:moveTo>
                  <a:pt x="9588" y="10636"/>
                </a:moveTo>
                <a:cubicBezTo>
                  <a:pt x="9588" y="10600"/>
                  <a:pt x="9585" y="10587"/>
                  <a:pt x="9557" y="10573"/>
                </a:cubicBezTo>
                <a:cubicBezTo>
                  <a:pt x="9536" y="10580"/>
                  <a:pt x="9479" y="10601"/>
                  <a:pt x="9462" y="10636"/>
                </a:cubicBezTo>
                <a:cubicBezTo>
                  <a:pt x="9442" y="10678"/>
                  <a:pt x="9411" y="10744"/>
                  <a:pt x="9398" y="10795"/>
                </a:cubicBezTo>
                <a:cubicBezTo>
                  <a:pt x="9350" y="10985"/>
                  <a:pt x="9407" y="11248"/>
                  <a:pt x="9430" y="11430"/>
                </a:cubicBezTo>
                <a:cubicBezTo>
                  <a:pt x="9443" y="11534"/>
                  <a:pt x="9457" y="11645"/>
                  <a:pt x="9462" y="11748"/>
                </a:cubicBezTo>
                <a:cubicBezTo>
                  <a:pt x="9467" y="11836"/>
                  <a:pt x="9486" y="11889"/>
                  <a:pt x="9493" y="11970"/>
                </a:cubicBezTo>
                <a:cubicBezTo>
                  <a:pt x="9493" y="12002"/>
                  <a:pt x="9493" y="12012"/>
                  <a:pt x="9493" y="12033"/>
                </a:cubicBezTo>
              </a:path>
              <a:path w="24417" h="8573">
                <a:moveTo>
                  <a:pt x="9334" y="11652"/>
                </a:moveTo>
                <a:cubicBezTo>
                  <a:pt x="9429" y="11652"/>
                  <a:pt x="9525" y="11652"/>
                  <a:pt x="9620" y="11652"/>
                </a:cubicBezTo>
              </a:path>
              <a:path w="24417" h="8573">
                <a:moveTo>
                  <a:pt x="10827" y="11144"/>
                </a:moveTo>
                <a:cubicBezTo>
                  <a:pt x="10850" y="11231"/>
                  <a:pt x="10841" y="11309"/>
                  <a:pt x="10858" y="11398"/>
                </a:cubicBezTo>
                <a:cubicBezTo>
                  <a:pt x="10884" y="11533"/>
                  <a:pt x="10893" y="11678"/>
                  <a:pt x="10922" y="11811"/>
                </a:cubicBezTo>
                <a:cubicBezTo>
                  <a:pt x="10932" y="11857"/>
                  <a:pt x="10983" y="12003"/>
                  <a:pt x="11017" y="12033"/>
                </a:cubicBezTo>
                <a:cubicBezTo>
                  <a:pt x="11028" y="12033"/>
                  <a:pt x="11038" y="12033"/>
                  <a:pt x="11049" y="12033"/>
                </a:cubicBezTo>
                <a:cubicBezTo>
                  <a:pt x="11105" y="11941"/>
                  <a:pt x="11089" y="11858"/>
                  <a:pt x="11112" y="11748"/>
                </a:cubicBezTo>
                <a:cubicBezTo>
                  <a:pt x="11141" y="11607"/>
                  <a:pt x="11144" y="11482"/>
                  <a:pt x="11144" y="11335"/>
                </a:cubicBezTo>
                <a:cubicBezTo>
                  <a:pt x="11144" y="11262"/>
                  <a:pt x="11164" y="11185"/>
                  <a:pt x="11176" y="11112"/>
                </a:cubicBezTo>
                <a:cubicBezTo>
                  <a:pt x="11176" y="11123"/>
                  <a:pt x="11176" y="11133"/>
                  <a:pt x="11176" y="11144"/>
                </a:cubicBezTo>
                <a:cubicBezTo>
                  <a:pt x="11184" y="11238"/>
                  <a:pt x="11188" y="11339"/>
                  <a:pt x="11208" y="11430"/>
                </a:cubicBezTo>
                <a:cubicBezTo>
                  <a:pt x="11241" y="11577"/>
                  <a:pt x="11270" y="11724"/>
                  <a:pt x="11303" y="11874"/>
                </a:cubicBezTo>
                <a:cubicBezTo>
                  <a:pt x="11343" y="12056"/>
                  <a:pt x="11371" y="12233"/>
                  <a:pt x="11398" y="12414"/>
                </a:cubicBezTo>
                <a:cubicBezTo>
                  <a:pt x="11420" y="12565"/>
                  <a:pt x="11458" y="12736"/>
                  <a:pt x="11430" y="12890"/>
                </a:cubicBezTo>
                <a:cubicBezTo>
                  <a:pt x="11416" y="12966"/>
                  <a:pt x="11373" y="13068"/>
                  <a:pt x="11303" y="13113"/>
                </a:cubicBezTo>
                <a:cubicBezTo>
                  <a:pt x="11246" y="13150"/>
                  <a:pt x="11149" y="13120"/>
                  <a:pt x="11112" y="13049"/>
                </a:cubicBezTo>
                <a:cubicBezTo>
                  <a:pt x="11051" y="12933"/>
                  <a:pt x="11034" y="12858"/>
                  <a:pt x="11017" y="12732"/>
                </a:cubicBezTo>
              </a:path>
              <a:path w="24417" h="8573">
                <a:moveTo>
                  <a:pt x="11589" y="11366"/>
                </a:moveTo>
                <a:cubicBezTo>
                  <a:pt x="11617" y="11338"/>
                  <a:pt x="11624" y="11327"/>
                  <a:pt x="11652" y="11335"/>
                </a:cubicBezTo>
                <a:cubicBezTo>
                  <a:pt x="11675" y="11265"/>
                  <a:pt x="11710" y="11332"/>
                  <a:pt x="11779" y="11303"/>
                </a:cubicBezTo>
                <a:cubicBezTo>
                  <a:pt x="11808" y="11274"/>
                  <a:pt x="11814" y="11263"/>
                  <a:pt x="11843" y="11271"/>
                </a:cubicBezTo>
              </a:path>
              <a:path w="24417" h="8573">
                <a:moveTo>
                  <a:pt x="12097" y="11081"/>
                </a:moveTo>
                <a:cubicBezTo>
                  <a:pt x="12097" y="11011"/>
                  <a:pt x="12097" y="11011"/>
                  <a:pt x="12097" y="11081"/>
                </a:cubicBezTo>
                <a:cubicBezTo>
                  <a:pt x="12097" y="11210"/>
                  <a:pt x="12155" y="11331"/>
                  <a:pt x="12160" y="11462"/>
                </a:cubicBezTo>
                <a:cubicBezTo>
                  <a:pt x="12165" y="11584"/>
                  <a:pt x="12183" y="11693"/>
                  <a:pt x="12192" y="11811"/>
                </a:cubicBezTo>
                <a:cubicBezTo>
                  <a:pt x="12192" y="11843"/>
                  <a:pt x="12192" y="11853"/>
                  <a:pt x="12192" y="11874"/>
                </a:cubicBezTo>
                <a:cubicBezTo>
                  <a:pt x="12192" y="11793"/>
                  <a:pt x="12163" y="11737"/>
                  <a:pt x="12160" y="11652"/>
                </a:cubicBezTo>
                <a:cubicBezTo>
                  <a:pt x="12154" y="11508"/>
                  <a:pt x="12177" y="11378"/>
                  <a:pt x="12192" y="11240"/>
                </a:cubicBezTo>
                <a:cubicBezTo>
                  <a:pt x="12204" y="11133"/>
                  <a:pt x="12234" y="11134"/>
                  <a:pt x="12256" y="11049"/>
                </a:cubicBezTo>
                <a:cubicBezTo>
                  <a:pt x="12312" y="11121"/>
                  <a:pt x="12346" y="11180"/>
                  <a:pt x="12351" y="11271"/>
                </a:cubicBezTo>
                <a:cubicBezTo>
                  <a:pt x="12357" y="11382"/>
                  <a:pt x="12398" y="11480"/>
                  <a:pt x="12414" y="11589"/>
                </a:cubicBezTo>
                <a:cubicBezTo>
                  <a:pt x="12421" y="11636"/>
                  <a:pt x="12414" y="11701"/>
                  <a:pt x="12414" y="11748"/>
                </a:cubicBezTo>
                <a:cubicBezTo>
                  <a:pt x="12439" y="11699"/>
                  <a:pt x="12442" y="11611"/>
                  <a:pt x="12446" y="11525"/>
                </a:cubicBezTo>
                <a:cubicBezTo>
                  <a:pt x="12451" y="11406"/>
                  <a:pt x="12439" y="11255"/>
                  <a:pt x="12478" y="11144"/>
                </a:cubicBezTo>
                <a:cubicBezTo>
                  <a:pt x="12493" y="11103"/>
                  <a:pt x="12530" y="11095"/>
                  <a:pt x="12541" y="11049"/>
                </a:cubicBezTo>
                <a:cubicBezTo>
                  <a:pt x="12596" y="11103"/>
                  <a:pt x="12626" y="11162"/>
                  <a:pt x="12636" y="11240"/>
                </a:cubicBezTo>
                <a:cubicBezTo>
                  <a:pt x="12650" y="11354"/>
                  <a:pt x="12647" y="11475"/>
                  <a:pt x="12668" y="11589"/>
                </a:cubicBezTo>
                <a:cubicBezTo>
                  <a:pt x="12681" y="11657"/>
                  <a:pt x="12666" y="11800"/>
                  <a:pt x="12732" y="11779"/>
                </a:cubicBezTo>
                <a:cubicBezTo>
                  <a:pt x="12732" y="11769"/>
                  <a:pt x="12732" y="11758"/>
                  <a:pt x="12732" y="11748"/>
                </a:cubicBezTo>
              </a:path>
              <a:path w="24417" h="8573">
                <a:moveTo>
                  <a:pt x="12859" y="11081"/>
                </a:moveTo>
                <a:cubicBezTo>
                  <a:pt x="12859" y="11163"/>
                  <a:pt x="12887" y="11223"/>
                  <a:pt x="12890" y="11303"/>
                </a:cubicBezTo>
                <a:cubicBezTo>
                  <a:pt x="12895" y="11423"/>
                  <a:pt x="12908" y="11540"/>
                  <a:pt x="12922" y="11652"/>
                </a:cubicBezTo>
                <a:cubicBezTo>
                  <a:pt x="12932" y="11733"/>
                  <a:pt x="12920" y="11789"/>
                  <a:pt x="12986" y="11811"/>
                </a:cubicBezTo>
              </a:path>
              <a:path w="24417" h="8573">
                <a:moveTo>
                  <a:pt x="13303" y="10573"/>
                </a:moveTo>
                <a:cubicBezTo>
                  <a:pt x="13373" y="10658"/>
                  <a:pt x="13346" y="10697"/>
                  <a:pt x="13367" y="10795"/>
                </a:cubicBezTo>
                <a:cubicBezTo>
                  <a:pt x="13395" y="10929"/>
                  <a:pt x="13416" y="11071"/>
                  <a:pt x="13430" y="11208"/>
                </a:cubicBezTo>
                <a:cubicBezTo>
                  <a:pt x="13442" y="11327"/>
                  <a:pt x="13456" y="11440"/>
                  <a:pt x="13462" y="11557"/>
                </a:cubicBezTo>
                <a:cubicBezTo>
                  <a:pt x="13465" y="11609"/>
                  <a:pt x="13501" y="11704"/>
                  <a:pt x="13462" y="11620"/>
                </a:cubicBezTo>
                <a:cubicBezTo>
                  <a:pt x="13415" y="11520"/>
                  <a:pt x="13401" y="11436"/>
                  <a:pt x="13367" y="11335"/>
                </a:cubicBezTo>
                <a:cubicBezTo>
                  <a:pt x="13352" y="11291"/>
                  <a:pt x="13320" y="11137"/>
                  <a:pt x="13272" y="11112"/>
                </a:cubicBezTo>
                <a:cubicBezTo>
                  <a:pt x="13261" y="11112"/>
                  <a:pt x="13251" y="11112"/>
                  <a:pt x="13240" y="11112"/>
                </a:cubicBezTo>
                <a:cubicBezTo>
                  <a:pt x="13224" y="11177"/>
                  <a:pt x="13160" y="11232"/>
                  <a:pt x="13144" y="11303"/>
                </a:cubicBezTo>
                <a:cubicBezTo>
                  <a:pt x="13120" y="11409"/>
                  <a:pt x="13121" y="11455"/>
                  <a:pt x="13144" y="11557"/>
                </a:cubicBezTo>
                <a:cubicBezTo>
                  <a:pt x="13153" y="11595"/>
                  <a:pt x="13190" y="11615"/>
                  <a:pt x="13240" y="11620"/>
                </a:cubicBezTo>
                <a:cubicBezTo>
                  <a:pt x="13291" y="11625"/>
                  <a:pt x="13361" y="11559"/>
                  <a:pt x="13398" y="11525"/>
                </a:cubicBezTo>
                <a:cubicBezTo>
                  <a:pt x="13419" y="11504"/>
                  <a:pt x="13441" y="11483"/>
                  <a:pt x="13462" y="11462"/>
                </a:cubicBezTo>
              </a:path>
              <a:path w="24417" h="8573">
                <a:moveTo>
                  <a:pt x="13652" y="10986"/>
                </a:moveTo>
                <a:cubicBezTo>
                  <a:pt x="13652" y="11119"/>
                  <a:pt x="13670" y="11238"/>
                  <a:pt x="13684" y="11366"/>
                </a:cubicBezTo>
                <a:cubicBezTo>
                  <a:pt x="13700" y="11506"/>
                  <a:pt x="13709" y="11643"/>
                  <a:pt x="13748" y="11779"/>
                </a:cubicBezTo>
                <a:cubicBezTo>
                  <a:pt x="13778" y="11884"/>
                  <a:pt x="13803" y="11991"/>
                  <a:pt x="13811" y="12097"/>
                </a:cubicBezTo>
                <a:cubicBezTo>
                  <a:pt x="13811" y="12128"/>
                  <a:pt x="13811" y="12139"/>
                  <a:pt x="13811" y="12160"/>
                </a:cubicBezTo>
                <a:cubicBezTo>
                  <a:pt x="13752" y="12040"/>
                  <a:pt x="13746" y="11942"/>
                  <a:pt x="13716" y="11811"/>
                </a:cubicBezTo>
                <a:cubicBezTo>
                  <a:pt x="13679" y="11653"/>
                  <a:pt x="13631" y="11434"/>
                  <a:pt x="13652" y="11271"/>
                </a:cubicBezTo>
                <a:cubicBezTo>
                  <a:pt x="13663" y="11189"/>
                  <a:pt x="13677" y="11025"/>
                  <a:pt x="13716" y="10954"/>
                </a:cubicBezTo>
                <a:cubicBezTo>
                  <a:pt x="13727" y="10943"/>
                  <a:pt x="13737" y="10933"/>
                  <a:pt x="13748" y="10922"/>
                </a:cubicBezTo>
                <a:cubicBezTo>
                  <a:pt x="13832" y="10922"/>
                  <a:pt x="13844" y="10970"/>
                  <a:pt x="13875" y="11049"/>
                </a:cubicBezTo>
                <a:cubicBezTo>
                  <a:pt x="13922" y="11170"/>
                  <a:pt x="13938" y="11269"/>
                  <a:pt x="13938" y="11398"/>
                </a:cubicBezTo>
                <a:cubicBezTo>
                  <a:pt x="13938" y="11532"/>
                  <a:pt x="13903" y="11551"/>
                  <a:pt x="13811" y="11620"/>
                </a:cubicBezTo>
                <a:cubicBezTo>
                  <a:pt x="13766" y="11654"/>
                  <a:pt x="13772" y="11652"/>
                  <a:pt x="13716" y="11652"/>
                </a:cubicBezTo>
                <a:cubicBezTo>
                  <a:pt x="13716" y="11577"/>
                  <a:pt x="13717" y="11532"/>
                  <a:pt x="13748" y="11462"/>
                </a:cubicBezTo>
                <a:cubicBezTo>
                  <a:pt x="13759" y="11441"/>
                  <a:pt x="13769" y="11419"/>
                  <a:pt x="13780" y="11398"/>
                </a:cubicBezTo>
              </a:path>
              <a:path w="24417" h="8573">
                <a:moveTo>
                  <a:pt x="14319" y="10922"/>
                </a:moveTo>
                <a:cubicBezTo>
                  <a:pt x="14297" y="10854"/>
                  <a:pt x="14265" y="10913"/>
                  <a:pt x="14224" y="10954"/>
                </a:cubicBezTo>
                <a:cubicBezTo>
                  <a:pt x="14176" y="11002"/>
                  <a:pt x="14109" y="11108"/>
                  <a:pt x="14097" y="11176"/>
                </a:cubicBezTo>
                <a:cubicBezTo>
                  <a:pt x="14080" y="11271"/>
                  <a:pt x="14079" y="11442"/>
                  <a:pt x="14129" y="11525"/>
                </a:cubicBezTo>
                <a:cubicBezTo>
                  <a:pt x="14139" y="11536"/>
                  <a:pt x="14150" y="11546"/>
                  <a:pt x="14160" y="11557"/>
                </a:cubicBezTo>
                <a:cubicBezTo>
                  <a:pt x="14210" y="11544"/>
                  <a:pt x="14285" y="11510"/>
                  <a:pt x="14319" y="11462"/>
                </a:cubicBezTo>
                <a:cubicBezTo>
                  <a:pt x="14376" y="11382"/>
                  <a:pt x="14379" y="11238"/>
                  <a:pt x="14383" y="11144"/>
                </a:cubicBezTo>
                <a:cubicBezTo>
                  <a:pt x="14386" y="11087"/>
                  <a:pt x="14377" y="10951"/>
                  <a:pt x="14319" y="10922"/>
                </a:cubicBezTo>
                <a:cubicBezTo>
                  <a:pt x="14288" y="10922"/>
                  <a:pt x="14277" y="10922"/>
                  <a:pt x="14256" y="10922"/>
                </a:cubicBezTo>
              </a:path>
              <a:path w="24417" h="8573">
                <a:moveTo>
                  <a:pt x="14510" y="10986"/>
                </a:moveTo>
                <a:cubicBezTo>
                  <a:pt x="14549" y="11089"/>
                  <a:pt x="14568" y="11190"/>
                  <a:pt x="14573" y="11303"/>
                </a:cubicBezTo>
                <a:cubicBezTo>
                  <a:pt x="14574" y="11335"/>
                  <a:pt x="14584" y="11680"/>
                  <a:pt x="14605" y="11652"/>
                </a:cubicBezTo>
                <a:cubicBezTo>
                  <a:pt x="14605" y="11641"/>
                  <a:pt x="14605" y="11631"/>
                  <a:pt x="14605" y="11620"/>
                </a:cubicBezTo>
              </a:path>
              <a:path w="24417" h="8573">
                <a:moveTo>
                  <a:pt x="14764" y="10890"/>
                </a:moveTo>
                <a:cubicBezTo>
                  <a:pt x="14764" y="11090"/>
                  <a:pt x="14698" y="11427"/>
                  <a:pt x="14796" y="11589"/>
                </a:cubicBezTo>
                <a:cubicBezTo>
                  <a:pt x="14796" y="11446"/>
                  <a:pt x="14795" y="11317"/>
                  <a:pt x="14827" y="11176"/>
                </a:cubicBezTo>
                <a:cubicBezTo>
                  <a:pt x="14848" y="11084"/>
                  <a:pt x="14875" y="10889"/>
                  <a:pt x="14954" y="10827"/>
                </a:cubicBezTo>
                <a:cubicBezTo>
                  <a:pt x="15029" y="10769"/>
                  <a:pt x="15091" y="10798"/>
                  <a:pt x="15113" y="10890"/>
                </a:cubicBezTo>
                <a:cubicBezTo>
                  <a:pt x="15138" y="10998"/>
                  <a:pt x="15134" y="11160"/>
                  <a:pt x="15145" y="11271"/>
                </a:cubicBezTo>
                <a:cubicBezTo>
                  <a:pt x="15156" y="11379"/>
                  <a:pt x="15168" y="11469"/>
                  <a:pt x="15240" y="11557"/>
                </a:cubicBezTo>
                <a:cubicBezTo>
                  <a:pt x="15272" y="11596"/>
                  <a:pt x="15291" y="11609"/>
                  <a:pt x="15335" y="11620"/>
                </a:cubicBezTo>
                <a:cubicBezTo>
                  <a:pt x="15405" y="11552"/>
                  <a:pt x="15424" y="11525"/>
                  <a:pt x="15462" y="11430"/>
                </a:cubicBezTo>
              </a:path>
              <a:path w="24417" h="8573">
                <a:moveTo>
                  <a:pt x="15430" y="10668"/>
                </a:moveTo>
                <a:cubicBezTo>
                  <a:pt x="15430" y="10739"/>
                  <a:pt x="15454" y="10793"/>
                  <a:pt x="15462" y="10858"/>
                </a:cubicBezTo>
                <a:cubicBezTo>
                  <a:pt x="15477" y="10974"/>
                  <a:pt x="15466" y="11093"/>
                  <a:pt x="15494" y="11208"/>
                </a:cubicBezTo>
                <a:cubicBezTo>
                  <a:pt x="15521" y="11319"/>
                  <a:pt x="15566" y="11417"/>
                  <a:pt x="15589" y="11525"/>
                </a:cubicBezTo>
                <a:cubicBezTo>
                  <a:pt x="15595" y="11553"/>
                  <a:pt x="15589" y="11591"/>
                  <a:pt x="15589" y="11620"/>
                </a:cubicBezTo>
              </a:path>
              <a:path w="24417" h="8573">
                <a:moveTo>
                  <a:pt x="15367" y="11240"/>
                </a:moveTo>
                <a:cubicBezTo>
                  <a:pt x="15418" y="11227"/>
                  <a:pt x="15447" y="11192"/>
                  <a:pt x="15494" y="11176"/>
                </a:cubicBezTo>
                <a:cubicBezTo>
                  <a:pt x="15547" y="11158"/>
                  <a:pt x="15628" y="11122"/>
                  <a:pt x="15684" y="11112"/>
                </a:cubicBezTo>
                <a:cubicBezTo>
                  <a:pt x="15750" y="11100"/>
                  <a:pt x="15808" y="11089"/>
                  <a:pt x="15875" y="11081"/>
                </a:cubicBezTo>
              </a:path>
              <a:path w="24417" h="8573">
                <a:moveTo>
                  <a:pt x="4032" y="12414"/>
                </a:moveTo>
                <a:cubicBezTo>
                  <a:pt x="4060" y="12461"/>
                  <a:pt x="4114" y="12545"/>
                  <a:pt x="4128" y="12605"/>
                </a:cubicBezTo>
                <a:cubicBezTo>
                  <a:pt x="4146" y="12682"/>
                  <a:pt x="4172" y="12747"/>
                  <a:pt x="4191" y="12827"/>
                </a:cubicBezTo>
                <a:cubicBezTo>
                  <a:pt x="4203" y="12881"/>
                  <a:pt x="4218" y="12937"/>
                  <a:pt x="4223" y="12986"/>
                </a:cubicBezTo>
                <a:cubicBezTo>
                  <a:pt x="4223" y="12997"/>
                  <a:pt x="4223" y="13007"/>
                  <a:pt x="4223" y="13018"/>
                </a:cubicBezTo>
              </a:path>
              <a:path w="24417" h="8573">
                <a:moveTo>
                  <a:pt x="4254" y="12351"/>
                </a:moveTo>
                <a:cubicBezTo>
                  <a:pt x="4193" y="12371"/>
                  <a:pt x="4214" y="12414"/>
                  <a:pt x="4191" y="12478"/>
                </a:cubicBezTo>
                <a:cubicBezTo>
                  <a:pt x="4142" y="12615"/>
                  <a:pt x="4090" y="12756"/>
                  <a:pt x="4032" y="12890"/>
                </a:cubicBezTo>
                <a:cubicBezTo>
                  <a:pt x="4008" y="12946"/>
                  <a:pt x="3981" y="12990"/>
                  <a:pt x="3969" y="13049"/>
                </a:cubicBezTo>
              </a:path>
              <a:path w="24417" h="8573">
                <a:moveTo>
                  <a:pt x="4382" y="12668"/>
                </a:moveTo>
                <a:cubicBezTo>
                  <a:pt x="4435" y="12668"/>
                  <a:pt x="4487" y="12668"/>
                  <a:pt x="4540" y="12668"/>
                </a:cubicBezTo>
                <a:cubicBezTo>
                  <a:pt x="4529" y="12724"/>
                  <a:pt x="4487" y="12780"/>
                  <a:pt x="4477" y="12827"/>
                </a:cubicBezTo>
                <a:cubicBezTo>
                  <a:pt x="4463" y="12896"/>
                  <a:pt x="4420" y="12946"/>
                  <a:pt x="4413" y="13018"/>
                </a:cubicBezTo>
                <a:cubicBezTo>
                  <a:pt x="4412" y="13029"/>
                  <a:pt x="4398" y="13107"/>
                  <a:pt x="4445" y="13049"/>
                </a:cubicBezTo>
                <a:cubicBezTo>
                  <a:pt x="4456" y="13035"/>
                  <a:pt x="4531" y="12999"/>
                  <a:pt x="4540" y="12986"/>
                </a:cubicBezTo>
                <a:cubicBezTo>
                  <a:pt x="4540" y="12954"/>
                  <a:pt x="4540" y="12943"/>
                  <a:pt x="4572" y="12954"/>
                </a:cubicBezTo>
              </a:path>
              <a:path w="24417" h="8573">
                <a:moveTo>
                  <a:pt x="4858" y="12319"/>
                </a:moveTo>
                <a:cubicBezTo>
                  <a:pt x="4847" y="12319"/>
                  <a:pt x="4837" y="12319"/>
                  <a:pt x="4826" y="12319"/>
                </a:cubicBezTo>
                <a:cubicBezTo>
                  <a:pt x="4843" y="12387"/>
                  <a:pt x="4858" y="12428"/>
                  <a:pt x="4858" y="12510"/>
                </a:cubicBezTo>
                <a:cubicBezTo>
                  <a:pt x="4858" y="12561"/>
                  <a:pt x="4869" y="12688"/>
                  <a:pt x="4890" y="12732"/>
                </a:cubicBezTo>
                <a:cubicBezTo>
                  <a:pt x="4918" y="12761"/>
                  <a:pt x="4924" y="12772"/>
                  <a:pt x="4953" y="12764"/>
                </a:cubicBezTo>
              </a:path>
              <a:path w="24417" h="8573">
                <a:moveTo>
                  <a:pt x="5048" y="12224"/>
                </a:moveTo>
                <a:cubicBezTo>
                  <a:pt x="4992" y="12298"/>
                  <a:pt x="5040" y="12317"/>
                  <a:pt x="5016" y="12414"/>
                </a:cubicBezTo>
                <a:cubicBezTo>
                  <a:pt x="4989" y="12526"/>
                  <a:pt x="4969" y="12647"/>
                  <a:pt x="4953" y="12764"/>
                </a:cubicBezTo>
                <a:cubicBezTo>
                  <a:pt x="4939" y="12865"/>
                  <a:pt x="4953" y="12978"/>
                  <a:pt x="4953" y="13081"/>
                </a:cubicBezTo>
              </a:path>
              <a:path w="24417" h="8573">
                <a:moveTo>
                  <a:pt x="5144" y="12573"/>
                </a:moveTo>
                <a:cubicBezTo>
                  <a:pt x="5186" y="12562"/>
                  <a:pt x="5237" y="12505"/>
                  <a:pt x="5270" y="12573"/>
                </a:cubicBezTo>
                <a:cubicBezTo>
                  <a:pt x="5290" y="12614"/>
                  <a:pt x="5252" y="12699"/>
                  <a:pt x="5239" y="12732"/>
                </a:cubicBezTo>
                <a:cubicBezTo>
                  <a:pt x="5214" y="12794"/>
                  <a:pt x="5182" y="12855"/>
                  <a:pt x="5175" y="12922"/>
                </a:cubicBezTo>
                <a:cubicBezTo>
                  <a:pt x="5175" y="12933"/>
                  <a:pt x="5175" y="12943"/>
                  <a:pt x="5175" y="12954"/>
                </a:cubicBezTo>
                <a:cubicBezTo>
                  <a:pt x="5240" y="12954"/>
                  <a:pt x="5250" y="12940"/>
                  <a:pt x="5302" y="12922"/>
                </a:cubicBezTo>
                <a:cubicBezTo>
                  <a:pt x="5353" y="12905"/>
                  <a:pt x="5369" y="12899"/>
                  <a:pt x="5429" y="12890"/>
                </a:cubicBezTo>
              </a:path>
              <a:path w="24417" h="8573">
                <a:moveTo>
                  <a:pt x="17240" y="9144"/>
                </a:moveTo>
                <a:cubicBezTo>
                  <a:pt x="17196" y="9144"/>
                  <a:pt x="17256" y="9119"/>
                  <a:pt x="17177" y="9144"/>
                </a:cubicBezTo>
                <a:cubicBezTo>
                  <a:pt x="17127" y="9160"/>
                  <a:pt x="17086" y="9192"/>
                  <a:pt x="17050" y="9239"/>
                </a:cubicBezTo>
                <a:cubicBezTo>
                  <a:pt x="16988" y="9320"/>
                  <a:pt x="16927" y="9404"/>
                  <a:pt x="16891" y="9493"/>
                </a:cubicBezTo>
                <a:cubicBezTo>
                  <a:pt x="16834" y="9636"/>
                  <a:pt x="16771" y="9754"/>
                  <a:pt x="16732" y="9906"/>
                </a:cubicBezTo>
                <a:cubicBezTo>
                  <a:pt x="16685" y="10087"/>
                  <a:pt x="16642" y="10259"/>
                  <a:pt x="16637" y="10446"/>
                </a:cubicBezTo>
                <a:cubicBezTo>
                  <a:pt x="16630" y="10756"/>
                  <a:pt x="16646" y="11060"/>
                  <a:pt x="16669" y="11366"/>
                </a:cubicBezTo>
                <a:cubicBezTo>
                  <a:pt x="16682" y="11536"/>
                  <a:pt x="16689" y="11708"/>
                  <a:pt x="16732" y="11874"/>
                </a:cubicBezTo>
                <a:cubicBezTo>
                  <a:pt x="16762" y="11991"/>
                  <a:pt x="16835" y="12108"/>
                  <a:pt x="16859" y="12224"/>
                </a:cubicBezTo>
                <a:cubicBezTo>
                  <a:pt x="16874" y="12299"/>
                  <a:pt x="16893" y="12376"/>
                  <a:pt x="16923" y="12446"/>
                </a:cubicBezTo>
                <a:cubicBezTo>
                  <a:pt x="16938" y="12482"/>
                  <a:pt x="16968" y="12506"/>
                  <a:pt x="16986" y="12541"/>
                </a:cubicBezTo>
                <a:cubicBezTo>
                  <a:pt x="16967" y="12491"/>
                  <a:pt x="16961" y="12474"/>
                  <a:pt x="16954" y="12414"/>
                </a:cubicBezTo>
              </a:path>
              <a:path w="24417" h="8573">
                <a:moveTo>
                  <a:pt x="16923" y="10160"/>
                </a:moveTo>
                <a:cubicBezTo>
                  <a:pt x="16954" y="10160"/>
                  <a:pt x="16965" y="10160"/>
                  <a:pt x="16986" y="10160"/>
                </a:cubicBezTo>
                <a:cubicBezTo>
                  <a:pt x="17002" y="10112"/>
                  <a:pt x="17025" y="10128"/>
                  <a:pt x="17082" y="10128"/>
                </a:cubicBezTo>
                <a:cubicBezTo>
                  <a:pt x="17124" y="10128"/>
                  <a:pt x="17166" y="10128"/>
                  <a:pt x="17208" y="10128"/>
                </a:cubicBezTo>
              </a:path>
              <a:path w="24417" h="8573">
                <a:moveTo>
                  <a:pt x="17844" y="9462"/>
                </a:moveTo>
                <a:cubicBezTo>
                  <a:pt x="17844" y="9493"/>
                  <a:pt x="17844" y="9504"/>
                  <a:pt x="17844" y="9525"/>
                </a:cubicBezTo>
                <a:cubicBezTo>
                  <a:pt x="17772" y="9525"/>
                  <a:pt x="17801" y="9550"/>
                  <a:pt x="17748" y="9557"/>
                </a:cubicBezTo>
                <a:cubicBezTo>
                  <a:pt x="17689" y="9564"/>
                  <a:pt x="17671" y="9572"/>
                  <a:pt x="17621" y="9588"/>
                </a:cubicBezTo>
                <a:cubicBezTo>
                  <a:pt x="17575" y="9603"/>
                  <a:pt x="17545" y="9610"/>
                  <a:pt x="17526" y="9620"/>
                </a:cubicBezTo>
                <a:cubicBezTo>
                  <a:pt x="17496" y="9635"/>
                  <a:pt x="17474" y="9662"/>
                  <a:pt x="17494" y="9716"/>
                </a:cubicBezTo>
                <a:cubicBezTo>
                  <a:pt x="17526" y="9804"/>
                  <a:pt x="17494" y="9788"/>
                  <a:pt x="17494" y="9874"/>
                </a:cubicBezTo>
                <a:cubicBezTo>
                  <a:pt x="17494" y="9916"/>
                  <a:pt x="17494" y="9959"/>
                  <a:pt x="17494" y="10001"/>
                </a:cubicBezTo>
                <a:cubicBezTo>
                  <a:pt x="17560" y="9980"/>
                  <a:pt x="17488" y="9941"/>
                  <a:pt x="17558" y="9906"/>
                </a:cubicBezTo>
                <a:cubicBezTo>
                  <a:pt x="17594" y="9888"/>
                  <a:pt x="17600" y="9834"/>
                  <a:pt x="17653" y="9811"/>
                </a:cubicBezTo>
                <a:cubicBezTo>
                  <a:pt x="17688" y="9796"/>
                  <a:pt x="17758" y="9827"/>
                  <a:pt x="17780" y="9842"/>
                </a:cubicBezTo>
                <a:cubicBezTo>
                  <a:pt x="17832" y="9876"/>
                  <a:pt x="17861" y="9943"/>
                  <a:pt x="17875" y="10001"/>
                </a:cubicBezTo>
                <a:cubicBezTo>
                  <a:pt x="17893" y="10075"/>
                  <a:pt x="17855" y="10136"/>
                  <a:pt x="17844" y="10192"/>
                </a:cubicBezTo>
                <a:cubicBezTo>
                  <a:pt x="17831" y="10256"/>
                  <a:pt x="17860" y="10315"/>
                  <a:pt x="17780" y="10350"/>
                </a:cubicBezTo>
                <a:cubicBezTo>
                  <a:pt x="17743" y="10366"/>
                  <a:pt x="17640" y="10357"/>
                  <a:pt x="17621" y="10319"/>
                </a:cubicBezTo>
                <a:cubicBezTo>
                  <a:pt x="17612" y="10300"/>
                  <a:pt x="17621" y="10245"/>
                  <a:pt x="17621" y="10224"/>
                </a:cubicBezTo>
              </a:path>
              <a:path w="24417" h="8573">
                <a:moveTo>
                  <a:pt x="18098" y="9747"/>
                </a:moveTo>
                <a:cubicBezTo>
                  <a:pt x="18153" y="9766"/>
                  <a:pt x="18129" y="9839"/>
                  <a:pt x="18129" y="9906"/>
                </a:cubicBezTo>
                <a:cubicBezTo>
                  <a:pt x="18129" y="10002"/>
                  <a:pt x="18129" y="10302"/>
                  <a:pt x="18129" y="10287"/>
                </a:cubicBezTo>
              </a:path>
              <a:path w="24417" h="8573">
                <a:moveTo>
                  <a:pt x="17970" y="10001"/>
                </a:moveTo>
                <a:cubicBezTo>
                  <a:pt x="18054" y="10001"/>
                  <a:pt x="18124" y="9984"/>
                  <a:pt x="18193" y="9970"/>
                </a:cubicBezTo>
                <a:cubicBezTo>
                  <a:pt x="18271" y="9954"/>
                  <a:pt x="18263" y="9963"/>
                  <a:pt x="18320" y="9906"/>
                </a:cubicBezTo>
              </a:path>
              <a:path w="24417" h="8573">
                <a:moveTo>
                  <a:pt x="18383" y="9779"/>
                </a:moveTo>
                <a:cubicBezTo>
                  <a:pt x="18383" y="9714"/>
                  <a:pt x="18371" y="9669"/>
                  <a:pt x="18415" y="9620"/>
                </a:cubicBezTo>
                <a:cubicBezTo>
                  <a:pt x="18462" y="9567"/>
                  <a:pt x="18435" y="9557"/>
                  <a:pt x="18510" y="9557"/>
                </a:cubicBezTo>
                <a:cubicBezTo>
                  <a:pt x="18521" y="9557"/>
                  <a:pt x="18531" y="9557"/>
                  <a:pt x="18542" y="9557"/>
                </a:cubicBezTo>
                <a:cubicBezTo>
                  <a:pt x="18542" y="9659"/>
                  <a:pt x="18522" y="9748"/>
                  <a:pt x="18510" y="9842"/>
                </a:cubicBezTo>
                <a:cubicBezTo>
                  <a:pt x="18495" y="9958"/>
                  <a:pt x="18468" y="10021"/>
                  <a:pt x="18415" y="10128"/>
                </a:cubicBezTo>
                <a:cubicBezTo>
                  <a:pt x="18386" y="10186"/>
                  <a:pt x="18358" y="10261"/>
                  <a:pt x="18352" y="10319"/>
                </a:cubicBezTo>
                <a:cubicBezTo>
                  <a:pt x="18352" y="10329"/>
                  <a:pt x="18352" y="10340"/>
                  <a:pt x="18352" y="10350"/>
                </a:cubicBezTo>
                <a:cubicBezTo>
                  <a:pt x="18333" y="10341"/>
                  <a:pt x="18329" y="10282"/>
                  <a:pt x="18383" y="10255"/>
                </a:cubicBezTo>
                <a:cubicBezTo>
                  <a:pt x="18431" y="10231"/>
                  <a:pt x="18469" y="10282"/>
                  <a:pt x="18510" y="10287"/>
                </a:cubicBezTo>
                <a:cubicBezTo>
                  <a:pt x="18590" y="10296"/>
                  <a:pt x="18637" y="10277"/>
                  <a:pt x="18701" y="10255"/>
                </a:cubicBezTo>
                <a:cubicBezTo>
                  <a:pt x="18751" y="10238"/>
                  <a:pt x="18713" y="10240"/>
                  <a:pt x="18764" y="10224"/>
                </a:cubicBezTo>
              </a:path>
              <a:path w="24417" h="8573">
                <a:moveTo>
                  <a:pt x="17304" y="10763"/>
                </a:moveTo>
                <a:cubicBezTo>
                  <a:pt x="17360" y="10805"/>
                  <a:pt x="17388" y="10795"/>
                  <a:pt x="17462" y="10795"/>
                </a:cubicBezTo>
                <a:cubicBezTo>
                  <a:pt x="17560" y="10795"/>
                  <a:pt x="17627" y="10747"/>
                  <a:pt x="17716" y="10732"/>
                </a:cubicBezTo>
                <a:cubicBezTo>
                  <a:pt x="17834" y="10713"/>
                  <a:pt x="17952" y="10695"/>
                  <a:pt x="18066" y="10668"/>
                </a:cubicBezTo>
                <a:cubicBezTo>
                  <a:pt x="18180" y="10641"/>
                  <a:pt x="18306" y="10632"/>
                  <a:pt x="18415" y="10604"/>
                </a:cubicBezTo>
                <a:cubicBezTo>
                  <a:pt x="18514" y="10578"/>
                  <a:pt x="18550" y="10595"/>
                  <a:pt x="18637" y="10604"/>
                </a:cubicBezTo>
                <a:cubicBezTo>
                  <a:pt x="18703" y="10611"/>
                  <a:pt x="18664" y="10664"/>
                  <a:pt x="18637" y="10700"/>
                </a:cubicBezTo>
              </a:path>
              <a:path w="24417" h="8573">
                <a:moveTo>
                  <a:pt x="17780" y="11176"/>
                </a:moveTo>
                <a:cubicBezTo>
                  <a:pt x="17769" y="11176"/>
                  <a:pt x="17759" y="11176"/>
                  <a:pt x="17748" y="11176"/>
                </a:cubicBezTo>
                <a:cubicBezTo>
                  <a:pt x="17756" y="11152"/>
                  <a:pt x="17804" y="11099"/>
                  <a:pt x="17844" y="11081"/>
                </a:cubicBezTo>
                <a:cubicBezTo>
                  <a:pt x="17854" y="11077"/>
                  <a:pt x="17968" y="11017"/>
                  <a:pt x="17970" y="11017"/>
                </a:cubicBezTo>
                <a:cubicBezTo>
                  <a:pt x="18026" y="11030"/>
                  <a:pt x="18034" y="11062"/>
                  <a:pt x="18034" y="11112"/>
                </a:cubicBezTo>
                <a:cubicBezTo>
                  <a:pt x="18034" y="11198"/>
                  <a:pt x="18028" y="11287"/>
                  <a:pt x="18002" y="11366"/>
                </a:cubicBezTo>
                <a:cubicBezTo>
                  <a:pt x="17966" y="11473"/>
                  <a:pt x="17893" y="11580"/>
                  <a:pt x="17844" y="11684"/>
                </a:cubicBezTo>
                <a:cubicBezTo>
                  <a:pt x="17805" y="11767"/>
                  <a:pt x="17815" y="11809"/>
                  <a:pt x="17748" y="11874"/>
                </a:cubicBezTo>
                <a:cubicBezTo>
                  <a:pt x="17761" y="11824"/>
                  <a:pt x="17802" y="11798"/>
                  <a:pt x="17812" y="11779"/>
                </a:cubicBezTo>
                <a:cubicBezTo>
                  <a:pt x="17826" y="11752"/>
                  <a:pt x="17860" y="11692"/>
                  <a:pt x="17875" y="11684"/>
                </a:cubicBezTo>
                <a:cubicBezTo>
                  <a:pt x="17914" y="11664"/>
                  <a:pt x="17971" y="11737"/>
                  <a:pt x="18002" y="11748"/>
                </a:cubicBezTo>
                <a:cubicBezTo>
                  <a:pt x="18043" y="11762"/>
                  <a:pt x="18092" y="11767"/>
                  <a:pt x="18129" y="11779"/>
                </a:cubicBezTo>
                <a:cubicBezTo>
                  <a:pt x="18162" y="11790"/>
                  <a:pt x="18193" y="11756"/>
                  <a:pt x="18224" y="11748"/>
                </a:cubicBezTo>
              </a:path>
              <a:path w="24417" h="8573">
                <a:moveTo>
                  <a:pt x="18891" y="11430"/>
                </a:moveTo>
                <a:cubicBezTo>
                  <a:pt x="18919" y="11468"/>
                  <a:pt x="18946" y="11540"/>
                  <a:pt x="18955" y="11589"/>
                </a:cubicBezTo>
                <a:cubicBezTo>
                  <a:pt x="18980" y="11726"/>
                  <a:pt x="18972" y="11899"/>
                  <a:pt x="18986" y="12033"/>
                </a:cubicBezTo>
                <a:cubicBezTo>
                  <a:pt x="18986" y="12075"/>
                  <a:pt x="18986" y="12118"/>
                  <a:pt x="18986" y="12160"/>
                </a:cubicBezTo>
              </a:path>
              <a:path w="24417" h="8573">
                <a:moveTo>
                  <a:pt x="19558" y="9652"/>
                </a:moveTo>
                <a:cubicBezTo>
                  <a:pt x="19558" y="9797"/>
                  <a:pt x="19490" y="10572"/>
                  <a:pt x="19590" y="10604"/>
                </a:cubicBezTo>
              </a:path>
              <a:path w="24417" h="8573">
                <a:moveTo>
                  <a:pt x="20034" y="9779"/>
                </a:moveTo>
                <a:cubicBezTo>
                  <a:pt x="20034" y="9943"/>
                  <a:pt x="20046" y="10100"/>
                  <a:pt x="20066" y="10255"/>
                </a:cubicBezTo>
                <a:cubicBezTo>
                  <a:pt x="20073" y="10311"/>
                  <a:pt x="20066" y="10388"/>
                  <a:pt x="20066" y="10446"/>
                </a:cubicBezTo>
              </a:path>
              <a:path w="24417" h="8573">
                <a:moveTo>
                  <a:pt x="19907" y="10128"/>
                </a:moveTo>
                <a:cubicBezTo>
                  <a:pt x="19918" y="10128"/>
                  <a:pt x="19928" y="10128"/>
                  <a:pt x="19939" y="10128"/>
                </a:cubicBezTo>
                <a:cubicBezTo>
                  <a:pt x="19951" y="10163"/>
                  <a:pt x="20011" y="10183"/>
                  <a:pt x="20066" y="10160"/>
                </a:cubicBezTo>
                <a:cubicBezTo>
                  <a:pt x="20112" y="10141"/>
                  <a:pt x="20149" y="10122"/>
                  <a:pt x="20193" y="10096"/>
                </a:cubicBezTo>
              </a:path>
              <a:path w="24417" h="8573">
                <a:moveTo>
                  <a:pt x="20352" y="9874"/>
                </a:moveTo>
                <a:cubicBezTo>
                  <a:pt x="20394" y="9874"/>
                  <a:pt x="20437" y="9874"/>
                  <a:pt x="20479" y="9874"/>
                </a:cubicBezTo>
              </a:path>
              <a:path w="24417" h="8573">
                <a:moveTo>
                  <a:pt x="20638" y="9652"/>
                </a:moveTo>
                <a:cubicBezTo>
                  <a:pt x="20638" y="9600"/>
                  <a:pt x="20645" y="9550"/>
                  <a:pt x="20701" y="9525"/>
                </a:cubicBezTo>
                <a:cubicBezTo>
                  <a:pt x="20736" y="9509"/>
                  <a:pt x="20810" y="9522"/>
                  <a:pt x="20828" y="9557"/>
                </a:cubicBezTo>
                <a:cubicBezTo>
                  <a:pt x="20868" y="9636"/>
                  <a:pt x="20848" y="9660"/>
                  <a:pt x="20828" y="9747"/>
                </a:cubicBezTo>
                <a:cubicBezTo>
                  <a:pt x="20816" y="9798"/>
                  <a:pt x="20790" y="9866"/>
                  <a:pt x="20764" y="9906"/>
                </a:cubicBezTo>
                <a:cubicBezTo>
                  <a:pt x="20754" y="9917"/>
                  <a:pt x="20743" y="9927"/>
                  <a:pt x="20733" y="9938"/>
                </a:cubicBezTo>
                <a:cubicBezTo>
                  <a:pt x="20746" y="9885"/>
                  <a:pt x="20768" y="9849"/>
                  <a:pt x="20828" y="9842"/>
                </a:cubicBezTo>
                <a:cubicBezTo>
                  <a:pt x="20915" y="9832"/>
                  <a:pt x="20900" y="9896"/>
                  <a:pt x="20923" y="9938"/>
                </a:cubicBezTo>
                <a:cubicBezTo>
                  <a:pt x="20950" y="9988"/>
                  <a:pt x="20975" y="10062"/>
                  <a:pt x="20955" y="10128"/>
                </a:cubicBezTo>
                <a:cubicBezTo>
                  <a:pt x="20933" y="10203"/>
                  <a:pt x="20880" y="10293"/>
                  <a:pt x="20828" y="10350"/>
                </a:cubicBezTo>
                <a:cubicBezTo>
                  <a:pt x="20782" y="10400"/>
                  <a:pt x="20767" y="10414"/>
                  <a:pt x="20701" y="10414"/>
                </a:cubicBezTo>
                <a:cubicBezTo>
                  <a:pt x="20690" y="10414"/>
                  <a:pt x="20680" y="10414"/>
                  <a:pt x="20669" y="10414"/>
                </a:cubicBezTo>
              </a:path>
              <a:path w="24417" h="8573">
                <a:moveTo>
                  <a:pt x="19558" y="10636"/>
                </a:moveTo>
                <a:cubicBezTo>
                  <a:pt x="19662" y="10636"/>
                  <a:pt x="19748" y="10617"/>
                  <a:pt x="19844" y="10604"/>
                </a:cubicBezTo>
                <a:cubicBezTo>
                  <a:pt x="20142" y="10565"/>
                  <a:pt x="20542" y="10570"/>
                  <a:pt x="20828" y="10636"/>
                </a:cubicBezTo>
                <a:cubicBezTo>
                  <a:pt x="20849" y="10641"/>
                  <a:pt x="20895" y="10701"/>
                  <a:pt x="20860" y="10732"/>
                </a:cubicBezTo>
                <a:cubicBezTo>
                  <a:pt x="20839" y="10742"/>
                  <a:pt x="20817" y="10753"/>
                  <a:pt x="20796" y="10763"/>
                </a:cubicBezTo>
              </a:path>
              <a:path w="24417" h="8573">
                <a:moveTo>
                  <a:pt x="19907" y="11081"/>
                </a:moveTo>
                <a:cubicBezTo>
                  <a:pt x="19919" y="11044"/>
                  <a:pt x="19978" y="11004"/>
                  <a:pt x="20034" y="10986"/>
                </a:cubicBezTo>
                <a:cubicBezTo>
                  <a:pt x="20080" y="10971"/>
                  <a:pt x="20231" y="10967"/>
                  <a:pt x="20256" y="11017"/>
                </a:cubicBezTo>
                <a:cubicBezTo>
                  <a:pt x="20282" y="11070"/>
                  <a:pt x="20245" y="11164"/>
                  <a:pt x="20225" y="11208"/>
                </a:cubicBezTo>
                <a:cubicBezTo>
                  <a:pt x="20192" y="11283"/>
                  <a:pt x="20147" y="11365"/>
                  <a:pt x="20098" y="11430"/>
                </a:cubicBezTo>
                <a:cubicBezTo>
                  <a:pt x="20069" y="11459"/>
                  <a:pt x="20058" y="11465"/>
                  <a:pt x="20066" y="11494"/>
                </a:cubicBezTo>
                <a:cubicBezTo>
                  <a:pt x="20125" y="11494"/>
                  <a:pt x="20141" y="11468"/>
                  <a:pt x="20193" y="11462"/>
                </a:cubicBezTo>
                <a:cubicBezTo>
                  <a:pt x="20290" y="11451"/>
                  <a:pt x="20359" y="11472"/>
                  <a:pt x="20447" y="11494"/>
                </a:cubicBezTo>
                <a:cubicBezTo>
                  <a:pt x="20485" y="11504"/>
                  <a:pt x="20504" y="11516"/>
                  <a:pt x="20542" y="11525"/>
                </a:cubicBezTo>
              </a:path>
              <a:path w="24417" h="8573">
                <a:moveTo>
                  <a:pt x="20955" y="9271"/>
                </a:moveTo>
                <a:cubicBezTo>
                  <a:pt x="20985" y="9312"/>
                  <a:pt x="21033" y="9318"/>
                  <a:pt x="21050" y="9366"/>
                </a:cubicBezTo>
                <a:cubicBezTo>
                  <a:pt x="21093" y="9491"/>
                  <a:pt x="21150" y="9589"/>
                  <a:pt x="21209" y="9716"/>
                </a:cubicBezTo>
                <a:cubicBezTo>
                  <a:pt x="21278" y="9865"/>
                  <a:pt x="21327" y="9999"/>
                  <a:pt x="21368" y="10160"/>
                </a:cubicBezTo>
                <a:cubicBezTo>
                  <a:pt x="21416" y="10350"/>
                  <a:pt x="21431" y="10504"/>
                  <a:pt x="21431" y="10700"/>
                </a:cubicBezTo>
                <a:cubicBezTo>
                  <a:pt x="21431" y="10936"/>
                  <a:pt x="21360" y="11170"/>
                  <a:pt x="21304" y="11398"/>
                </a:cubicBezTo>
                <a:cubicBezTo>
                  <a:pt x="21273" y="11525"/>
                  <a:pt x="21203" y="11655"/>
                  <a:pt x="21177" y="11779"/>
                </a:cubicBezTo>
                <a:cubicBezTo>
                  <a:pt x="21156" y="11880"/>
                  <a:pt x="21154" y="11886"/>
                  <a:pt x="21082" y="11938"/>
                </a:cubicBezTo>
              </a:path>
              <a:path w="24417" h="8573">
                <a:moveTo>
                  <a:pt x="21654" y="10732"/>
                </a:moveTo>
                <a:cubicBezTo>
                  <a:pt x="21703" y="10744"/>
                  <a:pt x="21724" y="10763"/>
                  <a:pt x="21780" y="10763"/>
                </a:cubicBezTo>
                <a:cubicBezTo>
                  <a:pt x="21841" y="10763"/>
                  <a:pt x="21859" y="10767"/>
                  <a:pt x="21908" y="10732"/>
                </a:cubicBezTo>
              </a:path>
              <a:path w="24417" h="8573">
                <a:moveTo>
                  <a:pt x="21654" y="11017"/>
                </a:moveTo>
                <a:cubicBezTo>
                  <a:pt x="21664" y="11017"/>
                  <a:pt x="21675" y="11017"/>
                  <a:pt x="21685" y="11017"/>
                </a:cubicBezTo>
                <a:cubicBezTo>
                  <a:pt x="21701" y="11065"/>
                  <a:pt x="21723" y="11049"/>
                  <a:pt x="21780" y="11049"/>
                </a:cubicBezTo>
              </a:path>
              <a:path w="24417" h="8573">
                <a:moveTo>
                  <a:pt x="22638" y="9493"/>
                </a:moveTo>
                <a:cubicBezTo>
                  <a:pt x="22638" y="9483"/>
                  <a:pt x="22638" y="9472"/>
                  <a:pt x="22638" y="9462"/>
                </a:cubicBezTo>
                <a:cubicBezTo>
                  <a:pt x="22580" y="9510"/>
                  <a:pt x="22597" y="9517"/>
                  <a:pt x="22542" y="9588"/>
                </a:cubicBezTo>
                <a:cubicBezTo>
                  <a:pt x="22462" y="9691"/>
                  <a:pt x="22445" y="9793"/>
                  <a:pt x="22384" y="9906"/>
                </a:cubicBezTo>
                <a:cubicBezTo>
                  <a:pt x="22295" y="10070"/>
                  <a:pt x="22297" y="10202"/>
                  <a:pt x="22257" y="10382"/>
                </a:cubicBezTo>
                <a:cubicBezTo>
                  <a:pt x="22222" y="10541"/>
                  <a:pt x="22202" y="10726"/>
                  <a:pt x="22225" y="10890"/>
                </a:cubicBezTo>
                <a:cubicBezTo>
                  <a:pt x="22248" y="11055"/>
                  <a:pt x="22326" y="11213"/>
                  <a:pt x="22384" y="11366"/>
                </a:cubicBezTo>
                <a:cubicBezTo>
                  <a:pt x="22421" y="11463"/>
                  <a:pt x="22480" y="11538"/>
                  <a:pt x="22542" y="11620"/>
                </a:cubicBezTo>
                <a:cubicBezTo>
                  <a:pt x="22574" y="11663"/>
                  <a:pt x="22617" y="11695"/>
                  <a:pt x="22638" y="11716"/>
                </a:cubicBezTo>
                <a:cubicBezTo>
                  <a:pt x="22661" y="11739"/>
                  <a:pt x="22615" y="11725"/>
                  <a:pt x="22638" y="11748"/>
                </a:cubicBezTo>
              </a:path>
              <a:path w="24417" h="8573">
                <a:moveTo>
                  <a:pt x="22606" y="10382"/>
                </a:moveTo>
                <a:cubicBezTo>
                  <a:pt x="22671" y="10382"/>
                  <a:pt x="22681" y="10368"/>
                  <a:pt x="22733" y="10350"/>
                </a:cubicBezTo>
                <a:cubicBezTo>
                  <a:pt x="22757" y="10342"/>
                  <a:pt x="22803" y="10350"/>
                  <a:pt x="22828" y="10350"/>
                </a:cubicBezTo>
              </a:path>
              <a:path w="24417" h="8573">
                <a:moveTo>
                  <a:pt x="23019" y="9874"/>
                </a:moveTo>
                <a:cubicBezTo>
                  <a:pt x="23032" y="9835"/>
                  <a:pt x="23072" y="9820"/>
                  <a:pt x="23114" y="9779"/>
                </a:cubicBezTo>
                <a:cubicBezTo>
                  <a:pt x="23151" y="9742"/>
                  <a:pt x="23163" y="9728"/>
                  <a:pt x="23209" y="9716"/>
                </a:cubicBezTo>
                <a:cubicBezTo>
                  <a:pt x="23209" y="9763"/>
                  <a:pt x="23197" y="9837"/>
                  <a:pt x="23178" y="9874"/>
                </a:cubicBezTo>
                <a:cubicBezTo>
                  <a:pt x="23152" y="9925"/>
                  <a:pt x="23099" y="9981"/>
                  <a:pt x="23082" y="10033"/>
                </a:cubicBezTo>
                <a:cubicBezTo>
                  <a:pt x="23063" y="10090"/>
                  <a:pt x="23053" y="10072"/>
                  <a:pt x="23082" y="10033"/>
                </a:cubicBezTo>
                <a:cubicBezTo>
                  <a:pt x="23110" y="9996"/>
                  <a:pt x="23149" y="9979"/>
                  <a:pt x="23178" y="9970"/>
                </a:cubicBezTo>
                <a:cubicBezTo>
                  <a:pt x="23213" y="9982"/>
                  <a:pt x="23237" y="10014"/>
                  <a:pt x="23241" y="10065"/>
                </a:cubicBezTo>
                <a:cubicBezTo>
                  <a:pt x="23247" y="10144"/>
                  <a:pt x="23242" y="10185"/>
                  <a:pt x="23209" y="10255"/>
                </a:cubicBezTo>
                <a:cubicBezTo>
                  <a:pt x="23182" y="10312"/>
                  <a:pt x="23153" y="10370"/>
                  <a:pt x="23114" y="10414"/>
                </a:cubicBezTo>
                <a:cubicBezTo>
                  <a:pt x="23085" y="10443"/>
                  <a:pt x="23074" y="10458"/>
                  <a:pt x="23082" y="10414"/>
                </a:cubicBezTo>
              </a:path>
              <a:path w="24417" h="8573">
                <a:moveTo>
                  <a:pt x="22924" y="10827"/>
                </a:moveTo>
                <a:cubicBezTo>
                  <a:pt x="22941" y="10758"/>
                  <a:pt x="22971" y="10764"/>
                  <a:pt x="23019" y="10732"/>
                </a:cubicBezTo>
                <a:cubicBezTo>
                  <a:pt x="23078" y="10692"/>
                  <a:pt x="23113" y="10656"/>
                  <a:pt x="23178" y="10636"/>
                </a:cubicBezTo>
                <a:cubicBezTo>
                  <a:pt x="23222" y="10622"/>
                  <a:pt x="23263" y="10583"/>
                  <a:pt x="23304" y="10604"/>
                </a:cubicBezTo>
                <a:cubicBezTo>
                  <a:pt x="23304" y="10615"/>
                  <a:pt x="23304" y="10625"/>
                  <a:pt x="23304" y="10636"/>
                </a:cubicBezTo>
              </a:path>
              <a:path w="24417" h="8573">
                <a:moveTo>
                  <a:pt x="23050" y="11017"/>
                </a:moveTo>
                <a:cubicBezTo>
                  <a:pt x="23099" y="11001"/>
                  <a:pt x="23087" y="10990"/>
                  <a:pt x="23114" y="10954"/>
                </a:cubicBezTo>
                <a:cubicBezTo>
                  <a:pt x="23141" y="10918"/>
                  <a:pt x="23174" y="10917"/>
                  <a:pt x="23209" y="10890"/>
                </a:cubicBezTo>
                <a:cubicBezTo>
                  <a:pt x="23248" y="10903"/>
                  <a:pt x="23288" y="10954"/>
                  <a:pt x="23273" y="11017"/>
                </a:cubicBezTo>
                <a:cubicBezTo>
                  <a:pt x="23255" y="11091"/>
                  <a:pt x="23242" y="11170"/>
                  <a:pt x="23209" y="11240"/>
                </a:cubicBezTo>
                <a:cubicBezTo>
                  <a:pt x="23186" y="11290"/>
                  <a:pt x="23172" y="11359"/>
                  <a:pt x="23146" y="11398"/>
                </a:cubicBezTo>
                <a:cubicBezTo>
                  <a:pt x="23097" y="11471"/>
                  <a:pt x="23130" y="11461"/>
                  <a:pt x="23146" y="11430"/>
                </a:cubicBezTo>
                <a:cubicBezTo>
                  <a:pt x="23168" y="11386"/>
                  <a:pt x="23179" y="11398"/>
                  <a:pt x="23241" y="11398"/>
                </a:cubicBezTo>
                <a:cubicBezTo>
                  <a:pt x="23283" y="11398"/>
                  <a:pt x="23326" y="11398"/>
                  <a:pt x="23368" y="11398"/>
                </a:cubicBezTo>
              </a:path>
              <a:path w="24417" h="8573">
                <a:moveTo>
                  <a:pt x="23844" y="11240"/>
                </a:moveTo>
                <a:cubicBezTo>
                  <a:pt x="23890" y="11345"/>
                  <a:pt x="23862" y="11355"/>
                  <a:pt x="23844" y="11462"/>
                </a:cubicBezTo>
                <a:cubicBezTo>
                  <a:pt x="23829" y="11550"/>
                  <a:pt x="23844" y="11659"/>
                  <a:pt x="23844" y="11748"/>
                </a:cubicBezTo>
              </a:path>
              <a:path w="24417" h="8573">
                <a:moveTo>
                  <a:pt x="23908" y="10350"/>
                </a:moveTo>
                <a:cubicBezTo>
                  <a:pt x="23958" y="10363"/>
                  <a:pt x="23978" y="10382"/>
                  <a:pt x="24035" y="10382"/>
                </a:cubicBezTo>
                <a:cubicBezTo>
                  <a:pt x="24045" y="10382"/>
                  <a:pt x="24056" y="10382"/>
                  <a:pt x="24066" y="10382"/>
                </a:cubicBezTo>
                <a:cubicBezTo>
                  <a:pt x="24082" y="10334"/>
                  <a:pt x="24105" y="10350"/>
                  <a:pt x="24162" y="10350"/>
                </a:cubicBezTo>
              </a:path>
              <a:path w="24417" h="8573">
                <a:moveTo>
                  <a:pt x="24352" y="9811"/>
                </a:moveTo>
                <a:cubicBezTo>
                  <a:pt x="24352" y="9916"/>
                  <a:pt x="24368" y="9999"/>
                  <a:pt x="24384" y="10096"/>
                </a:cubicBezTo>
                <a:cubicBezTo>
                  <a:pt x="24401" y="10197"/>
                  <a:pt x="24404" y="10317"/>
                  <a:pt x="24416" y="10414"/>
                </a:cubicBezTo>
                <a:cubicBezTo>
                  <a:pt x="24429" y="10517"/>
                  <a:pt x="24444" y="10630"/>
                  <a:pt x="24448" y="10732"/>
                </a:cubicBezTo>
                <a:cubicBezTo>
                  <a:pt x="24452" y="10824"/>
                  <a:pt x="24448" y="11125"/>
                  <a:pt x="24448" y="11112"/>
                </a:cubicBezTo>
              </a:path>
              <a:path w="24417" h="8573">
                <a:moveTo>
                  <a:pt x="24352" y="9208"/>
                </a:moveTo>
                <a:cubicBezTo>
                  <a:pt x="24395" y="9235"/>
                  <a:pt x="24440" y="9253"/>
                  <a:pt x="24479" y="9303"/>
                </a:cubicBezTo>
                <a:cubicBezTo>
                  <a:pt x="24546" y="9390"/>
                  <a:pt x="24596" y="9446"/>
                  <a:pt x="24638" y="9557"/>
                </a:cubicBezTo>
                <a:cubicBezTo>
                  <a:pt x="24688" y="9689"/>
                  <a:pt x="24759" y="9800"/>
                  <a:pt x="24797" y="9938"/>
                </a:cubicBezTo>
                <a:cubicBezTo>
                  <a:pt x="24839" y="10090"/>
                  <a:pt x="24878" y="10258"/>
                  <a:pt x="24892" y="10414"/>
                </a:cubicBezTo>
                <a:cubicBezTo>
                  <a:pt x="24910" y="10623"/>
                  <a:pt x="24900" y="10846"/>
                  <a:pt x="24860" y="11049"/>
                </a:cubicBezTo>
                <a:cubicBezTo>
                  <a:pt x="24830" y="11204"/>
                  <a:pt x="24837" y="11380"/>
                  <a:pt x="24765" y="11525"/>
                </a:cubicBezTo>
                <a:cubicBezTo>
                  <a:pt x="24708" y="11638"/>
                  <a:pt x="24645" y="11774"/>
                  <a:pt x="24574" y="11874"/>
                </a:cubicBezTo>
                <a:cubicBezTo>
                  <a:pt x="24553" y="11895"/>
                  <a:pt x="24532" y="11917"/>
                  <a:pt x="24511" y="11938"/>
                </a:cubicBezTo>
              </a:path>
              <a:path w="24417" h="8573">
                <a:moveTo>
                  <a:pt x="15272" y="11748"/>
                </a:moveTo>
                <a:cubicBezTo>
                  <a:pt x="15272" y="11673"/>
                  <a:pt x="15244" y="11825"/>
                  <a:pt x="15240" y="11843"/>
                </a:cubicBezTo>
                <a:cubicBezTo>
                  <a:pt x="15224" y="11920"/>
                  <a:pt x="15194" y="11940"/>
                  <a:pt x="15240" y="12002"/>
                </a:cubicBezTo>
                <a:cubicBezTo>
                  <a:pt x="15240" y="11937"/>
                  <a:pt x="15241" y="11927"/>
                  <a:pt x="15272" y="11874"/>
                </a:cubicBezTo>
                <a:cubicBezTo>
                  <a:pt x="15309" y="11810"/>
                  <a:pt x="15329" y="11777"/>
                  <a:pt x="15367" y="11748"/>
                </a:cubicBezTo>
                <a:cubicBezTo>
                  <a:pt x="15397" y="11725"/>
                  <a:pt x="15467" y="11726"/>
                  <a:pt x="15494" y="11779"/>
                </a:cubicBezTo>
                <a:cubicBezTo>
                  <a:pt x="15518" y="11826"/>
                  <a:pt x="15508" y="11950"/>
                  <a:pt x="15526" y="12002"/>
                </a:cubicBezTo>
                <a:cubicBezTo>
                  <a:pt x="15547" y="12063"/>
                  <a:pt x="15507" y="12065"/>
                  <a:pt x="15589" y="12065"/>
                </a:cubicBezTo>
              </a:path>
              <a:path w="24417" h="8573">
                <a:moveTo>
                  <a:pt x="15812" y="11874"/>
                </a:moveTo>
                <a:cubicBezTo>
                  <a:pt x="15848" y="11826"/>
                  <a:pt x="15843" y="11809"/>
                  <a:pt x="15843" y="11748"/>
                </a:cubicBezTo>
                <a:cubicBezTo>
                  <a:pt x="15785" y="11763"/>
                  <a:pt x="15773" y="11778"/>
                  <a:pt x="15748" y="11811"/>
                </a:cubicBezTo>
                <a:cubicBezTo>
                  <a:pt x="15700" y="11875"/>
                  <a:pt x="15703" y="11878"/>
                  <a:pt x="15716" y="11938"/>
                </a:cubicBezTo>
                <a:cubicBezTo>
                  <a:pt x="15725" y="11980"/>
                  <a:pt x="15784" y="11994"/>
                  <a:pt x="15812" y="11938"/>
                </a:cubicBezTo>
                <a:cubicBezTo>
                  <a:pt x="15833" y="11896"/>
                  <a:pt x="15841" y="11811"/>
                  <a:pt x="15875" y="11843"/>
                </a:cubicBezTo>
                <a:cubicBezTo>
                  <a:pt x="15896" y="11863"/>
                  <a:pt x="15840" y="12036"/>
                  <a:pt x="15907" y="12002"/>
                </a:cubicBezTo>
                <a:cubicBezTo>
                  <a:pt x="15935" y="11973"/>
                  <a:pt x="15945" y="11967"/>
                  <a:pt x="15938" y="11938"/>
                </a:cubicBezTo>
              </a:path>
              <a:path w="24417" h="8573">
                <a:moveTo>
                  <a:pt x="16097" y="11589"/>
                </a:moveTo>
                <a:cubicBezTo>
                  <a:pt x="16097" y="11703"/>
                  <a:pt x="16086" y="11809"/>
                  <a:pt x="16066" y="11906"/>
                </a:cubicBezTo>
                <a:cubicBezTo>
                  <a:pt x="16066" y="11959"/>
                  <a:pt x="16055" y="11980"/>
                  <a:pt x="16097" y="11970"/>
                </a:cubicBezTo>
              </a:path>
              <a:path w="24417" h="8573">
                <a:moveTo>
                  <a:pt x="16415" y="11684"/>
                </a:moveTo>
                <a:cubicBezTo>
                  <a:pt x="16415" y="11652"/>
                  <a:pt x="16415" y="11642"/>
                  <a:pt x="16446" y="11652"/>
                </a:cubicBezTo>
                <a:cubicBezTo>
                  <a:pt x="16404" y="11595"/>
                  <a:pt x="16408" y="11599"/>
                  <a:pt x="16351" y="11557"/>
                </a:cubicBezTo>
                <a:cubicBezTo>
                  <a:pt x="16311" y="11598"/>
                  <a:pt x="16262" y="11628"/>
                  <a:pt x="16256" y="11684"/>
                </a:cubicBezTo>
                <a:cubicBezTo>
                  <a:pt x="16246" y="11770"/>
                  <a:pt x="16266" y="11808"/>
                  <a:pt x="16288" y="11874"/>
                </a:cubicBezTo>
                <a:cubicBezTo>
                  <a:pt x="16296" y="11898"/>
                  <a:pt x="16288" y="11944"/>
                  <a:pt x="16288" y="11970"/>
                </a:cubicBezTo>
              </a:path>
              <a:path w="24417" h="8573">
                <a:moveTo>
                  <a:pt x="16192" y="11779"/>
                </a:moveTo>
                <a:cubicBezTo>
                  <a:pt x="16202" y="11808"/>
                  <a:pt x="16247" y="11829"/>
                  <a:pt x="16288" y="11843"/>
                </a:cubicBezTo>
                <a:cubicBezTo>
                  <a:pt x="16353" y="11865"/>
                  <a:pt x="16394" y="11822"/>
                  <a:pt x="16415" y="11811"/>
                </a:cubicBezTo>
                <a:cubicBezTo>
                  <a:pt x="16452" y="11792"/>
                  <a:pt x="16446" y="11674"/>
                  <a:pt x="16446" y="11716"/>
                </a:cubicBezTo>
                <a:cubicBezTo>
                  <a:pt x="16446" y="11793"/>
                  <a:pt x="16427" y="11881"/>
                  <a:pt x="16478" y="11938"/>
                </a:cubicBezTo>
                <a:cubicBezTo>
                  <a:pt x="16489" y="11949"/>
                  <a:pt x="16499" y="11959"/>
                  <a:pt x="16510" y="11970"/>
                </a:cubicBezTo>
                <a:cubicBezTo>
                  <a:pt x="16525" y="11926"/>
                  <a:pt x="16555" y="11931"/>
                  <a:pt x="16574" y="11874"/>
                </a:cubicBezTo>
                <a:cubicBezTo>
                  <a:pt x="16589" y="11830"/>
                  <a:pt x="16605" y="11702"/>
                  <a:pt x="16605" y="11748"/>
                </a:cubicBezTo>
                <a:cubicBezTo>
                  <a:pt x="16605" y="11819"/>
                  <a:pt x="16590" y="11885"/>
                  <a:pt x="16637" y="11938"/>
                </a:cubicBezTo>
                <a:cubicBezTo>
                  <a:pt x="16681" y="11988"/>
                  <a:pt x="16736" y="11969"/>
                  <a:pt x="16764" y="11906"/>
                </a:cubicBezTo>
                <a:cubicBezTo>
                  <a:pt x="16789" y="11849"/>
                  <a:pt x="16796" y="11819"/>
                  <a:pt x="16796" y="11748"/>
                </a:cubicBezTo>
                <a:cubicBezTo>
                  <a:pt x="16796" y="11712"/>
                  <a:pt x="16793" y="11704"/>
                  <a:pt x="16764" y="11748"/>
                </a:cubicBezTo>
              </a:path>
              <a:path w="24417" h="8573">
                <a:moveTo>
                  <a:pt x="17018" y="11843"/>
                </a:moveTo>
                <a:cubicBezTo>
                  <a:pt x="17039" y="11761"/>
                  <a:pt x="17043" y="11791"/>
                  <a:pt x="17018" y="11716"/>
                </a:cubicBezTo>
                <a:cubicBezTo>
                  <a:pt x="17018" y="11684"/>
                  <a:pt x="17018" y="11673"/>
                  <a:pt x="16986" y="11684"/>
                </a:cubicBezTo>
                <a:cubicBezTo>
                  <a:pt x="16963" y="11692"/>
                  <a:pt x="16908" y="11740"/>
                  <a:pt x="16891" y="11779"/>
                </a:cubicBezTo>
                <a:cubicBezTo>
                  <a:pt x="16866" y="11836"/>
                  <a:pt x="16844" y="11853"/>
                  <a:pt x="16891" y="11906"/>
                </a:cubicBezTo>
                <a:cubicBezTo>
                  <a:pt x="16902" y="11917"/>
                  <a:pt x="16912" y="11927"/>
                  <a:pt x="16923" y="11938"/>
                </a:cubicBezTo>
                <a:cubicBezTo>
                  <a:pt x="16970" y="11922"/>
                  <a:pt x="16959" y="11909"/>
                  <a:pt x="16986" y="11874"/>
                </a:cubicBezTo>
                <a:cubicBezTo>
                  <a:pt x="17017" y="11834"/>
                  <a:pt x="17020" y="11820"/>
                  <a:pt x="17050" y="11779"/>
                </a:cubicBezTo>
                <a:cubicBezTo>
                  <a:pt x="17032" y="11803"/>
                  <a:pt x="16971" y="11873"/>
                  <a:pt x="16986" y="11906"/>
                </a:cubicBezTo>
                <a:cubicBezTo>
                  <a:pt x="17023" y="11989"/>
                  <a:pt x="17072" y="11911"/>
                  <a:pt x="17082" y="11906"/>
                </a:cubicBezTo>
                <a:cubicBezTo>
                  <a:pt x="17124" y="11884"/>
                  <a:pt x="17159" y="11865"/>
                  <a:pt x="17177" y="11811"/>
                </a:cubicBezTo>
                <a:cubicBezTo>
                  <a:pt x="17177" y="11800"/>
                  <a:pt x="17177" y="11790"/>
                  <a:pt x="17177" y="11779"/>
                </a:cubicBezTo>
                <a:cubicBezTo>
                  <a:pt x="17177" y="11832"/>
                  <a:pt x="17177" y="11885"/>
                  <a:pt x="17177" y="11938"/>
                </a:cubicBezTo>
                <a:cubicBezTo>
                  <a:pt x="17236" y="11938"/>
                  <a:pt x="17259" y="11946"/>
                  <a:pt x="17304" y="11906"/>
                </a:cubicBezTo>
                <a:cubicBezTo>
                  <a:pt x="17352" y="11863"/>
                  <a:pt x="17364" y="11826"/>
                  <a:pt x="17399" y="11779"/>
                </a:cubicBezTo>
                <a:cubicBezTo>
                  <a:pt x="17429" y="11794"/>
                  <a:pt x="17399" y="11832"/>
                  <a:pt x="17399" y="11906"/>
                </a:cubicBezTo>
                <a:cubicBezTo>
                  <a:pt x="17399" y="11959"/>
                  <a:pt x="17384" y="12045"/>
                  <a:pt x="17367" y="12097"/>
                </a:cubicBezTo>
                <a:cubicBezTo>
                  <a:pt x="17349" y="12151"/>
                  <a:pt x="17340" y="12216"/>
                  <a:pt x="17304" y="12256"/>
                </a:cubicBezTo>
                <a:cubicBezTo>
                  <a:pt x="17270" y="12294"/>
                  <a:pt x="17253" y="12308"/>
                  <a:pt x="17208" y="12319"/>
                </a:cubicBezTo>
              </a:path>
              <a:path w="24417" h="8573">
                <a:moveTo>
                  <a:pt x="8604" y="15780"/>
                </a:moveTo>
                <a:cubicBezTo>
                  <a:pt x="8618" y="15826"/>
                  <a:pt x="8618" y="15864"/>
                  <a:pt x="8636" y="15907"/>
                </a:cubicBezTo>
                <a:cubicBezTo>
                  <a:pt x="8656" y="15957"/>
                  <a:pt x="8676" y="16018"/>
                  <a:pt x="8700" y="16066"/>
                </a:cubicBezTo>
                <a:cubicBezTo>
                  <a:pt x="8712" y="16090"/>
                  <a:pt x="8757" y="16158"/>
                  <a:pt x="8763" y="16161"/>
                </a:cubicBezTo>
                <a:cubicBezTo>
                  <a:pt x="8841" y="16199"/>
                  <a:pt x="8957" y="16134"/>
                  <a:pt x="9017" y="16129"/>
                </a:cubicBezTo>
                <a:cubicBezTo>
                  <a:pt x="9178" y="16115"/>
                  <a:pt x="9352" y="16134"/>
                  <a:pt x="9493" y="16161"/>
                </a:cubicBezTo>
                <a:cubicBezTo>
                  <a:pt x="9540" y="16152"/>
                  <a:pt x="9590" y="16131"/>
                  <a:pt x="9652" y="16129"/>
                </a:cubicBezTo>
                <a:cubicBezTo>
                  <a:pt x="9826" y="16124"/>
                  <a:pt x="9997" y="16148"/>
                  <a:pt x="10160" y="16161"/>
                </a:cubicBezTo>
                <a:cubicBezTo>
                  <a:pt x="10433" y="16182"/>
                  <a:pt x="10721" y="16174"/>
                  <a:pt x="10986" y="16192"/>
                </a:cubicBezTo>
                <a:cubicBezTo>
                  <a:pt x="11184" y="16206"/>
                  <a:pt x="11409" y="16210"/>
                  <a:pt x="11589" y="16224"/>
                </a:cubicBezTo>
                <a:cubicBezTo>
                  <a:pt x="11704" y="16233"/>
                  <a:pt x="11831" y="16248"/>
                  <a:pt x="11938" y="16256"/>
                </a:cubicBezTo>
                <a:cubicBezTo>
                  <a:pt x="12291" y="16281"/>
                  <a:pt x="12710" y="16289"/>
                  <a:pt x="13049" y="16224"/>
                </a:cubicBezTo>
                <a:cubicBezTo>
                  <a:pt x="13111" y="16212"/>
                  <a:pt x="13179" y="16198"/>
                  <a:pt x="13240" y="16192"/>
                </a:cubicBezTo>
                <a:cubicBezTo>
                  <a:pt x="13327" y="16183"/>
                  <a:pt x="13382" y="16177"/>
                  <a:pt x="13462" y="16161"/>
                </a:cubicBezTo>
                <a:cubicBezTo>
                  <a:pt x="13537" y="16146"/>
                  <a:pt x="13610" y="16145"/>
                  <a:pt x="13684" y="16129"/>
                </a:cubicBezTo>
                <a:cubicBezTo>
                  <a:pt x="13755" y="16114"/>
                  <a:pt x="13807" y="16111"/>
                  <a:pt x="13875" y="16097"/>
                </a:cubicBezTo>
                <a:cubicBezTo>
                  <a:pt x="13946" y="16083"/>
                  <a:pt x="13989" y="16071"/>
                  <a:pt x="14065" y="16066"/>
                </a:cubicBezTo>
                <a:cubicBezTo>
                  <a:pt x="14319" y="16048"/>
                  <a:pt x="14593" y="16080"/>
                  <a:pt x="14827" y="16097"/>
                </a:cubicBezTo>
                <a:cubicBezTo>
                  <a:pt x="14905" y="16103"/>
                  <a:pt x="14979" y="16122"/>
                  <a:pt x="15050" y="16129"/>
                </a:cubicBezTo>
                <a:cubicBezTo>
                  <a:pt x="15121" y="16136"/>
                  <a:pt x="15242" y="16165"/>
                  <a:pt x="15304" y="16161"/>
                </a:cubicBezTo>
                <a:cubicBezTo>
                  <a:pt x="15352" y="16158"/>
                  <a:pt x="15376" y="16133"/>
                  <a:pt x="15430" y="16129"/>
                </a:cubicBezTo>
                <a:cubicBezTo>
                  <a:pt x="15462" y="16129"/>
                  <a:pt x="15473" y="16129"/>
                  <a:pt x="15494" y="16129"/>
                </a:cubicBezTo>
                <a:cubicBezTo>
                  <a:pt x="15482" y="16065"/>
                  <a:pt x="15477" y="16001"/>
                  <a:pt x="15462" y="15938"/>
                </a:cubicBezTo>
                <a:cubicBezTo>
                  <a:pt x="15462" y="15872"/>
                  <a:pt x="15461" y="15849"/>
                  <a:pt x="15430" y="158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Ink 4"/>
          <p:cNvSpPr/>
          <p:nvPr/>
        </p:nvSpPr>
        <p:spPr>
          <a:xfrm>
            <a:off x="285840" y="3600360"/>
            <a:ext cx="102960" cy="263520"/>
          </a:xfrm>
          <a:custGeom>
            <a:avLst/>
            <a:gdLst/>
            <a:ahLst/>
            <a:rect l="l" t="t" r="r" b="b"/>
            <a:pathLst>
              <a:path w="287" h="732">
                <a:moveTo>
                  <a:pt x="826" y="10160"/>
                </a:moveTo>
                <a:cubicBezTo>
                  <a:pt x="826" y="10171"/>
                  <a:pt x="826" y="10181"/>
                  <a:pt x="826" y="10192"/>
                </a:cubicBezTo>
                <a:cubicBezTo>
                  <a:pt x="780" y="10207"/>
                  <a:pt x="780" y="10209"/>
                  <a:pt x="826" y="10224"/>
                </a:cubicBezTo>
                <a:cubicBezTo>
                  <a:pt x="833" y="10254"/>
                  <a:pt x="842" y="10323"/>
                  <a:pt x="857" y="10350"/>
                </a:cubicBezTo>
                <a:cubicBezTo>
                  <a:pt x="892" y="10412"/>
                  <a:pt x="891" y="10479"/>
                  <a:pt x="921" y="10541"/>
                </a:cubicBezTo>
                <a:cubicBezTo>
                  <a:pt x="945" y="10591"/>
                  <a:pt x="978" y="10644"/>
                  <a:pt x="984" y="10700"/>
                </a:cubicBezTo>
                <a:cubicBezTo>
                  <a:pt x="984" y="10711"/>
                  <a:pt x="984" y="10721"/>
                  <a:pt x="984" y="10732"/>
                </a:cubicBezTo>
              </a:path>
              <a:path w="287" h="732">
                <a:moveTo>
                  <a:pt x="1048" y="10001"/>
                </a:moveTo>
                <a:cubicBezTo>
                  <a:pt x="1019" y="10048"/>
                  <a:pt x="966" y="10132"/>
                  <a:pt x="952" y="10192"/>
                </a:cubicBezTo>
                <a:cubicBezTo>
                  <a:pt x="930" y="10283"/>
                  <a:pt x="918" y="10391"/>
                  <a:pt x="889" y="10478"/>
                </a:cubicBezTo>
                <a:cubicBezTo>
                  <a:pt x="867" y="10545"/>
                  <a:pt x="814" y="10609"/>
                  <a:pt x="794" y="10668"/>
                </a:cubicBezTo>
                <a:cubicBezTo>
                  <a:pt x="794" y="10679"/>
                  <a:pt x="794" y="10689"/>
                  <a:pt x="794" y="10700"/>
                </a:cubicBezTo>
              </a:path>
              <a:path w="287" h="732">
                <a:moveTo>
                  <a:pt x="1080" y="10350"/>
                </a:moveTo>
                <a:cubicBezTo>
                  <a:pt x="1080" y="10414"/>
                  <a:pt x="1080" y="10477"/>
                  <a:pt x="1080" y="105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Ink 5"/>
          <p:cNvSpPr/>
          <p:nvPr/>
        </p:nvSpPr>
        <p:spPr>
          <a:xfrm>
            <a:off x="560520" y="3657600"/>
            <a:ext cx="125280" cy="298440"/>
          </a:xfrm>
          <a:custGeom>
            <a:avLst/>
            <a:gdLst/>
            <a:ahLst/>
            <a:rect l="l" t="t" r="r" b="b"/>
            <a:pathLst>
              <a:path w="350" h="827">
                <a:moveTo>
                  <a:pt x="1588" y="10160"/>
                </a:moveTo>
                <a:cubicBezTo>
                  <a:pt x="1577" y="10160"/>
                  <a:pt x="1567" y="10160"/>
                  <a:pt x="1556" y="10160"/>
                </a:cubicBezTo>
                <a:cubicBezTo>
                  <a:pt x="1593" y="10210"/>
                  <a:pt x="1586" y="10271"/>
                  <a:pt x="1619" y="10319"/>
                </a:cubicBezTo>
                <a:cubicBezTo>
                  <a:pt x="1649" y="10363"/>
                  <a:pt x="1666" y="10428"/>
                  <a:pt x="1683" y="10478"/>
                </a:cubicBezTo>
                <a:cubicBezTo>
                  <a:pt x="1705" y="10544"/>
                  <a:pt x="1669" y="10575"/>
                  <a:pt x="1714" y="10636"/>
                </a:cubicBezTo>
              </a:path>
              <a:path w="350" h="827">
                <a:moveTo>
                  <a:pt x="1810" y="10160"/>
                </a:moveTo>
                <a:cubicBezTo>
                  <a:pt x="1792" y="10232"/>
                  <a:pt x="1772" y="10304"/>
                  <a:pt x="1746" y="10382"/>
                </a:cubicBezTo>
                <a:cubicBezTo>
                  <a:pt x="1712" y="10483"/>
                  <a:pt x="1688" y="10594"/>
                  <a:pt x="1683" y="10700"/>
                </a:cubicBezTo>
                <a:cubicBezTo>
                  <a:pt x="1678" y="10799"/>
                  <a:pt x="1651" y="10884"/>
                  <a:pt x="1651" y="10986"/>
                </a:cubicBezTo>
              </a:path>
              <a:path w="350" h="827">
                <a:moveTo>
                  <a:pt x="1873" y="10509"/>
                </a:moveTo>
                <a:cubicBezTo>
                  <a:pt x="1919" y="10586"/>
                  <a:pt x="1905" y="10667"/>
                  <a:pt x="1905" y="107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Ink 6"/>
          <p:cNvSpPr/>
          <p:nvPr/>
        </p:nvSpPr>
        <p:spPr>
          <a:xfrm>
            <a:off x="890640" y="3714840"/>
            <a:ext cx="149040" cy="182520"/>
          </a:xfrm>
          <a:custGeom>
            <a:avLst/>
            <a:gdLst/>
            <a:ahLst/>
            <a:rect l="l" t="t" r="r" b="b"/>
            <a:pathLst>
              <a:path w="414" h="509">
                <a:moveTo>
                  <a:pt x="2476" y="10541"/>
                </a:moveTo>
                <a:cubicBezTo>
                  <a:pt x="2519" y="10499"/>
                  <a:pt x="2563" y="10474"/>
                  <a:pt x="2604" y="10446"/>
                </a:cubicBezTo>
                <a:cubicBezTo>
                  <a:pt x="2622" y="10434"/>
                  <a:pt x="2727" y="10354"/>
                  <a:pt x="2730" y="10350"/>
                </a:cubicBezTo>
                <a:cubicBezTo>
                  <a:pt x="2752" y="10317"/>
                  <a:pt x="2701" y="10330"/>
                  <a:pt x="2762" y="10350"/>
                </a:cubicBezTo>
                <a:cubicBezTo>
                  <a:pt x="2762" y="10429"/>
                  <a:pt x="2775" y="10466"/>
                  <a:pt x="2794" y="10541"/>
                </a:cubicBezTo>
                <a:cubicBezTo>
                  <a:pt x="2810" y="10604"/>
                  <a:pt x="2844" y="10669"/>
                  <a:pt x="2858" y="10732"/>
                </a:cubicBezTo>
                <a:cubicBezTo>
                  <a:pt x="2858" y="10789"/>
                  <a:pt x="2854" y="10805"/>
                  <a:pt x="2889" y="108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Ink 7"/>
          <p:cNvSpPr/>
          <p:nvPr/>
        </p:nvSpPr>
        <p:spPr>
          <a:xfrm>
            <a:off x="1189080" y="4297320"/>
            <a:ext cx="5235480" cy="1327320"/>
          </a:xfrm>
          <a:custGeom>
            <a:avLst/>
            <a:gdLst/>
            <a:ahLst/>
            <a:rect l="l" t="t" r="r" b="b"/>
            <a:pathLst>
              <a:path w="14543" h="3684">
                <a:moveTo>
                  <a:pt x="3556" y="13843"/>
                </a:moveTo>
                <a:cubicBezTo>
                  <a:pt x="3540" y="13892"/>
                  <a:pt x="3524" y="13869"/>
                  <a:pt x="3524" y="13938"/>
                </a:cubicBezTo>
                <a:cubicBezTo>
                  <a:pt x="3524" y="13993"/>
                  <a:pt x="3511" y="13987"/>
                  <a:pt x="3556" y="14002"/>
                </a:cubicBezTo>
                <a:cubicBezTo>
                  <a:pt x="3566" y="13972"/>
                  <a:pt x="3568" y="13941"/>
                  <a:pt x="3588" y="13906"/>
                </a:cubicBezTo>
                <a:cubicBezTo>
                  <a:pt x="3640" y="13815"/>
                  <a:pt x="3550" y="13847"/>
                  <a:pt x="3524" y="13906"/>
                </a:cubicBezTo>
                <a:cubicBezTo>
                  <a:pt x="3524" y="13938"/>
                  <a:pt x="3524" y="13949"/>
                  <a:pt x="3524" y="13970"/>
                </a:cubicBezTo>
                <a:cubicBezTo>
                  <a:pt x="3564" y="13970"/>
                  <a:pt x="3609" y="13960"/>
                  <a:pt x="3620" y="13938"/>
                </a:cubicBezTo>
                <a:cubicBezTo>
                  <a:pt x="3649" y="13881"/>
                  <a:pt x="3562" y="13951"/>
                  <a:pt x="3556" y="13970"/>
                </a:cubicBezTo>
              </a:path>
              <a:path w="14543" h="3684">
                <a:moveTo>
                  <a:pt x="4159" y="13113"/>
                </a:moveTo>
                <a:cubicBezTo>
                  <a:pt x="4116" y="13171"/>
                  <a:pt x="4116" y="13159"/>
                  <a:pt x="4064" y="13208"/>
                </a:cubicBezTo>
                <a:cubicBezTo>
                  <a:pt x="3973" y="13292"/>
                  <a:pt x="3965" y="13329"/>
                  <a:pt x="3905" y="13430"/>
                </a:cubicBezTo>
                <a:cubicBezTo>
                  <a:pt x="3869" y="13491"/>
                  <a:pt x="3855" y="13532"/>
                  <a:pt x="3905" y="13589"/>
                </a:cubicBezTo>
                <a:cubicBezTo>
                  <a:pt x="3949" y="13639"/>
                  <a:pt x="3967" y="13652"/>
                  <a:pt x="4032" y="13652"/>
                </a:cubicBezTo>
                <a:cubicBezTo>
                  <a:pt x="4043" y="13652"/>
                  <a:pt x="4053" y="13652"/>
                  <a:pt x="4064" y="13652"/>
                </a:cubicBezTo>
              </a:path>
              <a:path w="14543" h="3684">
                <a:moveTo>
                  <a:pt x="4191" y="13303"/>
                </a:moveTo>
                <a:cubicBezTo>
                  <a:pt x="4270" y="13303"/>
                  <a:pt x="4313" y="13316"/>
                  <a:pt x="4350" y="13335"/>
                </a:cubicBezTo>
                <a:cubicBezTo>
                  <a:pt x="4411" y="13366"/>
                  <a:pt x="4367" y="13408"/>
                  <a:pt x="4318" y="13462"/>
                </a:cubicBezTo>
                <a:cubicBezTo>
                  <a:pt x="4289" y="13494"/>
                  <a:pt x="4233" y="13506"/>
                  <a:pt x="4223" y="13526"/>
                </a:cubicBezTo>
                <a:cubicBezTo>
                  <a:pt x="4223" y="13536"/>
                  <a:pt x="4223" y="13547"/>
                  <a:pt x="4223" y="13557"/>
                </a:cubicBezTo>
                <a:cubicBezTo>
                  <a:pt x="4281" y="13557"/>
                  <a:pt x="4298" y="13583"/>
                  <a:pt x="4350" y="13589"/>
                </a:cubicBezTo>
                <a:cubicBezTo>
                  <a:pt x="4361" y="13589"/>
                  <a:pt x="4371" y="13589"/>
                  <a:pt x="4382" y="13589"/>
                </a:cubicBezTo>
              </a:path>
              <a:path w="14543" h="3684">
                <a:moveTo>
                  <a:pt x="4540" y="13557"/>
                </a:moveTo>
                <a:cubicBezTo>
                  <a:pt x="4540" y="13631"/>
                  <a:pt x="4540" y="13706"/>
                  <a:pt x="4540" y="13780"/>
                </a:cubicBezTo>
                <a:cubicBezTo>
                  <a:pt x="4508" y="13780"/>
                  <a:pt x="4498" y="13780"/>
                  <a:pt x="4508" y="13811"/>
                </a:cubicBezTo>
              </a:path>
              <a:path w="14543" h="3684">
                <a:moveTo>
                  <a:pt x="4699" y="13367"/>
                </a:moveTo>
                <a:cubicBezTo>
                  <a:pt x="4755" y="13395"/>
                  <a:pt x="4750" y="13430"/>
                  <a:pt x="4826" y="13430"/>
                </a:cubicBezTo>
                <a:cubicBezTo>
                  <a:pt x="4837" y="13430"/>
                  <a:pt x="4847" y="13430"/>
                  <a:pt x="4858" y="13430"/>
                </a:cubicBezTo>
              </a:path>
              <a:path w="14543" h="3684">
                <a:moveTo>
                  <a:pt x="4921" y="13335"/>
                </a:moveTo>
                <a:cubicBezTo>
                  <a:pt x="5000" y="13335"/>
                  <a:pt x="5042" y="13348"/>
                  <a:pt x="5080" y="13367"/>
                </a:cubicBezTo>
                <a:cubicBezTo>
                  <a:pt x="5117" y="13386"/>
                  <a:pt x="5131" y="13424"/>
                  <a:pt x="5144" y="13462"/>
                </a:cubicBezTo>
                <a:cubicBezTo>
                  <a:pt x="5108" y="13498"/>
                  <a:pt x="4964" y="13526"/>
                  <a:pt x="5016" y="13526"/>
                </a:cubicBezTo>
                <a:cubicBezTo>
                  <a:pt x="5080" y="13526"/>
                  <a:pt x="5086" y="13545"/>
                  <a:pt x="5112" y="13557"/>
                </a:cubicBezTo>
                <a:cubicBezTo>
                  <a:pt x="5156" y="13578"/>
                  <a:pt x="5137" y="13601"/>
                  <a:pt x="5175" y="13652"/>
                </a:cubicBezTo>
                <a:cubicBezTo>
                  <a:pt x="5132" y="13712"/>
                  <a:pt x="5139" y="13752"/>
                  <a:pt x="5080" y="13811"/>
                </a:cubicBezTo>
                <a:cubicBezTo>
                  <a:pt x="5033" y="13858"/>
                  <a:pt x="4990" y="13852"/>
                  <a:pt x="4985" y="13780"/>
                </a:cubicBezTo>
                <a:cubicBezTo>
                  <a:pt x="4985" y="13759"/>
                  <a:pt x="4985" y="13737"/>
                  <a:pt x="4985" y="13716"/>
                </a:cubicBezTo>
              </a:path>
              <a:path w="14543" h="3684">
                <a:moveTo>
                  <a:pt x="5207" y="13144"/>
                </a:moveTo>
                <a:cubicBezTo>
                  <a:pt x="5255" y="13228"/>
                  <a:pt x="5278" y="13277"/>
                  <a:pt x="5302" y="13367"/>
                </a:cubicBezTo>
                <a:cubicBezTo>
                  <a:pt x="5328" y="13465"/>
                  <a:pt x="5385" y="13614"/>
                  <a:pt x="5366" y="13716"/>
                </a:cubicBezTo>
                <a:cubicBezTo>
                  <a:pt x="5349" y="13804"/>
                  <a:pt x="5311" y="13888"/>
                  <a:pt x="5270" y="13970"/>
                </a:cubicBezTo>
                <a:cubicBezTo>
                  <a:pt x="5228" y="14056"/>
                  <a:pt x="5187" y="14107"/>
                  <a:pt x="5112" y="14160"/>
                </a:cubicBezTo>
              </a:path>
              <a:path w="14543" h="3684">
                <a:moveTo>
                  <a:pt x="3556" y="14510"/>
                </a:moveTo>
                <a:cubicBezTo>
                  <a:pt x="3556" y="14570"/>
                  <a:pt x="3530" y="14610"/>
                  <a:pt x="3524" y="14668"/>
                </a:cubicBezTo>
                <a:cubicBezTo>
                  <a:pt x="3518" y="14729"/>
                  <a:pt x="3495" y="14781"/>
                  <a:pt x="3461" y="14827"/>
                </a:cubicBezTo>
                <a:cubicBezTo>
                  <a:pt x="3468" y="14797"/>
                  <a:pt x="3477" y="14727"/>
                  <a:pt x="3492" y="14700"/>
                </a:cubicBezTo>
                <a:cubicBezTo>
                  <a:pt x="3514" y="14661"/>
                  <a:pt x="3550" y="14586"/>
                  <a:pt x="3556" y="14573"/>
                </a:cubicBezTo>
                <a:cubicBezTo>
                  <a:pt x="3575" y="14529"/>
                  <a:pt x="3512" y="14485"/>
                  <a:pt x="3492" y="14478"/>
                </a:cubicBezTo>
                <a:cubicBezTo>
                  <a:pt x="3455" y="14491"/>
                  <a:pt x="3439" y="14505"/>
                  <a:pt x="3397" y="14542"/>
                </a:cubicBezTo>
                <a:cubicBezTo>
                  <a:pt x="3340" y="14593"/>
                  <a:pt x="3314" y="14658"/>
                  <a:pt x="3302" y="14732"/>
                </a:cubicBezTo>
                <a:cubicBezTo>
                  <a:pt x="3288" y="14817"/>
                  <a:pt x="3289" y="14946"/>
                  <a:pt x="3334" y="15018"/>
                </a:cubicBezTo>
                <a:cubicBezTo>
                  <a:pt x="3360" y="15061"/>
                  <a:pt x="3407" y="15183"/>
                  <a:pt x="3429" y="15208"/>
                </a:cubicBezTo>
                <a:cubicBezTo>
                  <a:pt x="3440" y="15208"/>
                  <a:pt x="3450" y="15208"/>
                  <a:pt x="3461" y="15208"/>
                </a:cubicBezTo>
                <a:cubicBezTo>
                  <a:pt x="3507" y="15185"/>
                  <a:pt x="3540" y="15149"/>
                  <a:pt x="3588" y="15113"/>
                </a:cubicBezTo>
              </a:path>
              <a:path w="14543" h="3684">
                <a:moveTo>
                  <a:pt x="3810" y="14859"/>
                </a:moveTo>
                <a:cubicBezTo>
                  <a:pt x="3810" y="14827"/>
                  <a:pt x="3810" y="14817"/>
                  <a:pt x="3810" y="14796"/>
                </a:cubicBezTo>
                <a:cubicBezTo>
                  <a:pt x="3742" y="14796"/>
                  <a:pt x="3732" y="14810"/>
                  <a:pt x="3683" y="14859"/>
                </a:cubicBezTo>
                <a:cubicBezTo>
                  <a:pt x="3666" y="14876"/>
                  <a:pt x="3578" y="14951"/>
                  <a:pt x="3620" y="14986"/>
                </a:cubicBezTo>
                <a:cubicBezTo>
                  <a:pt x="3675" y="15032"/>
                  <a:pt x="3695" y="15003"/>
                  <a:pt x="3746" y="14986"/>
                </a:cubicBezTo>
                <a:cubicBezTo>
                  <a:pt x="3757" y="14982"/>
                  <a:pt x="3835" y="14933"/>
                  <a:pt x="3842" y="14922"/>
                </a:cubicBezTo>
                <a:cubicBezTo>
                  <a:pt x="3870" y="14881"/>
                  <a:pt x="3814" y="14922"/>
                  <a:pt x="3810" y="14954"/>
                </a:cubicBezTo>
                <a:cubicBezTo>
                  <a:pt x="3807" y="14979"/>
                  <a:pt x="3791" y="15075"/>
                  <a:pt x="3842" y="15050"/>
                </a:cubicBezTo>
                <a:cubicBezTo>
                  <a:pt x="3871" y="15021"/>
                  <a:pt x="3877" y="15011"/>
                  <a:pt x="3905" y="15018"/>
                </a:cubicBezTo>
              </a:path>
              <a:path w="14543" h="3684">
                <a:moveTo>
                  <a:pt x="4000" y="14859"/>
                </a:moveTo>
                <a:cubicBezTo>
                  <a:pt x="4000" y="14802"/>
                  <a:pt x="3971" y="14867"/>
                  <a:pt x="3969" y="14891"/>
                </a:cubicBezTo>
                <a:cubicBezTo>
                  <a:pt x="3964" y="14953"/>
                  <a:pt x="3969" y="15018"/>
                  <a:pt x="3969" y="15081"/>
                </a:cubicBezTo>
                <a:cubicBezTo>
                  <a:pt x="3969" y="15036"/>
                  <a:pt x="3978" y="14988"/>
                  <a:pt x="4000" y="14954"/>
                </a:cubicBezTo>
                <a:cubicBezTo>
                  <a:pt x="4017" y="14928"/>
                  <a:pt x="4054" y="14864"/>
                  <a:pt x="4064" y="14859"/>
                </a:cubicBezTo>
                <a:cubicBezTo>
                  <a:pt x="4115" y="14833"/>
                  <a:pt x="4138" y="14867"/>
                  <a:pt x="4191" y="14827"/>
                </a:cubicBezTo>
              </a:path>
              <a:path w="14543" h="3684">
                <a:moveTo>
                  <a:pt x="4413" y="14922"/>
                </a:moveTo>
                <a:cubicBezTo>
                  <a:pt x="4408" y="14906"/>
                  <a:pt x="4348" y="14854"/>
                  <a:pt x="4318" y="14891"/>
                </a:cubicBezTo>
                <a:cubicBezTo>
                  <a:pt x="4285" y="14932"/>
                  <a:pt x="4272" y="14948"/>
                  <a:pt x="4223" y="14986"/>
                </a:cubicBezTo>
                <a:cubicBezTo>
                  <a:pt x="4230" y="15007"/>
                  <a:pt x="4251" y="15064"/>
                  <a:pt x="4286" y="15081"/>
                </a:cubicBezTo>
                <a:cubicBezTo>
                  <a:pt x="4341" y="15108"/>
                  <a:pt x="4397" y="15072"/>
                  <a:pt x="4413" y="15050"/>
                </a:cubicBezTo>
                <a:cubicBezTo>
                  <a:pt x="4434" y="15022"/>
                  <a:pt x="4469" y="14965"/>
                  <a:pt x="4445" y="14922"/>
                </a:cubicBezTo>
                <a:cubicBezTo>
                  <a:pt x="4408" y="14857"/>
                  <a:pt x="4402" y="14920"/>
                  <a:pt x="4382" y="14859"/>
                </a:cubicBezTo>
              </a:path>
              <a:path w="14543" h="3684">
                <a:moveTo>
                  <a:pt x="4604" y="14700"/>
                </a:moveTo>
                <a:cubicBezTo>
                  <a:pt x="4604" y="14805"/>
                  <a:pt x="4597" y="14887"/>
                  <a:pt x="4572" y="14986"/>
                </a:cubicBezTo>
                <a:cubicBezTo>
                  <a:pt x="4558" y="15042"/>
                  <a:pt x="4571" y="15062"/>
                  <a:pt x="4540" y="15113"/>
                </a:cubicBezTo>
                <a:cubicBezTo>
                  <a:pt x="4572" y="15113"/>
                  <a:pt x="4583" y="15113"/>
                  <a:pt x="4572" y="15145"/>
                </a:cubicBezTo>
              </a:path>
              <a:path w="14543" h="3684">
                <a:moveTo>
                  <a:pt x="4794" y="14891"/>
                </a:moveTo>
                <a:cubicBezTo>
                  <a:pt x="4794" y="14955"/>
                  <a:pt x="4779" y="14966"/>
                  <a:pt x="4762" y="15018"/>
                </a:cubicBezTo>
                <a:cubicBezTo>
                  <a:pt x="4744" y="15072"/>
                  <a:pt x="4769" y="15061"/>
                  <a:pt x="4731" y="15113"/>
                </a:cubicBezTo>
              </a:path>
              <a:path w="14543" h="3684">
                <a:moveTo>
                  <a:pt x="4953" y="14922"/>
                </a:moveTo>
                <a:cubicBezTo>
                  <a:pt x="4953" y="14981"/>
                  <a:pt x="4927" y="14998"/>
                  <a:pt x="4921" y="15050"/>
                </a:cubicBezTo>
                <a:cubicBezTo>
                  <a:pt x="4921" y="15081"/>
                  <a:pt x="4921" y="15092"/>
                  <a:pt x="4921" y="15113"/>
                </a:cubicBezTo>
                <a:cubicBezTo>
                  <a:pt x="4955" y="15080"/>
                  <a:pt x="5005" y="15005"/>
                  <a:pt x="5048" y="14986"/>
                </a:cubicBezTo>
                <a:cubicBezTo>
                  <a:pt x="5069" y="14977"/>
                  <a:pt x="5121" y="14986"/>
                  <a:pt x="5144" y="14986"/>
                </a:cubicBezTo>
                <a:cubicBezTo>
                  <a:pt x="5144" y="15045"/>
                  <a:pt x="5118" y="15061"/>
                  <a:pt x="5112" y="15113"/>
                </a:cubicBezTo>
                <a:cubicBezTo>
                  <a:pt x="5103" y="15195"/>
                  <a:pt x="5121" y="15217"/>
                  <a:pt x="5175" y="15272"/>
                </a:cubicBezTo>
                <a:cubicBezTo>
                  <a:pt x="5191" y="15223"/>
                  <a:pt x="5219" y="15224"/>
                  <a:pt x="5239" y="15145"/>
                </a:cubicBezTo>
                <a:cubicBezTo>
                  <a:pt x="5239" y="15134"/>
                  <a:pt x="5239" y="15124"/>
                  <a:pt x="5239" y="15113"/>
                </a:cubicBezTo>
              </a:path>
              <a:path w="14543" h="3684">
                <a:moveTo>
                  <a:pt x="5302" y="15050"/>
                </a:moveTo>
                <a:cubicBezTo>
                  <a:pt x="5318" y="15097"/>
                  <a:pt x="5342" y="15081"/>
                  <a:pt x="5398" y="15081"/>
                </a:cubicBezTo>
                <a:cubicBezTo>
                  <a:pt x="5452" y="15081"/>
                  <a:pt x="5462" y="15073"/>
                  <a:pt x="5493" y="15050"/>
                </a:cubicBezTo>
                <a:cubicBezTo>
                  <a:pt x="5508" y="15038"/>
                  <a:pt x="5572" y="14938"/>
                  <a:pt x="5556" y="14922"/>
                </a:cubicBezTo>
                <a:cubicBezTo>
                  <a:pt x="5532" y="14898"/>
                  <a:pt x="5510" y="14891"/>
                  <a:pt x="5461" y="14891"/>
                </a:cubicBezTo>
                <a:cubicBezTo>
                  <a:pt x="5396" y="14891"/>
                  <a:pt x="5385" y="14941"/>
                  <a:pt x="5366" y="14986"/>
                </a:cubicBezTo>
                <a:cubicBezTo>
                  <a:pt x="5321" y="15092"/>
                  <a:pt x="5348" y="15101"/>
                  <a:pt x="5366" y="15208"/>
                </a:cubicBezTo>
                <a:cubicBezTo>
                  <a:pt x="5380" y="15294"/>
                  <a:pt x="5391" y="15325"/>
                  <a:pt x="5493" y="15335"/>
                </a:cubicBezTo>
                <a:cubicBezTo>
                  <a:pt x="5535" y="15335"/>
                  <a:pt x="5556" y="15335"/>
                  <a:pt x="5588" y="15335"/>
                </a:cubicBezTo>
              </a:path>
              <a:path w="14543" h="3684">
                <a:moveTo>
                  <a:pt x="6160" y="13462"/>
                </a:moveTo>
                <a:cubicBezTo>
                  <a:pt x="6128" y="13451"/>
                  <a:pt x="6123" y="13404"/>
                  <a:pt x="6160" y="13367"/>
                </a:cubicBezTo>
                <a:cubicBezTo>
                  <a:pt x="6179" y="13348"/>
                  <a:pt x="6215" y="13326"/>
                  <a:pt x="6255" y="13303"/>
                </a:cubicBezTo>
                <a:cubicBezTo>
                  <a:pt x="6323" y="13265"/>
                  <a:pt x="6369" y="13272"/>
                  <a:pt x="6445" y="13272"/>
                </a:cubicBezTo>
                <a:cubicBezTo>
                  <a:pt x="6500" y="13272"/>
                  <a:pt x="6521" y="13278"/>
                  <a:pt x="6540" y="13335"/>
                </a:cubicBezTo>
                <a:cubicBezTo>
                  <a:pt x="6558" y="13391"/>
                  <a:pt x="6513" y="13486"/>
                  <a:pt x="6477" y="13526"/>
                </a:cubicBezTo>
                <a:cubicBezTo>
                  <a:pt x="6438" y="13570"/>
                  <a:pt x="6417" y="13629"/>
                  <a:pt x="6382" y="13684"/>
                </a:cubicBezTo>
                <a:cubicBezTo>
                  <a:pt x="6340" y="13749"/>
                  <a:pt x="6307" y="13817"/>
                  <a:pt x="6255" y="13875"/>
                </a:cubicBezTo>
                <a:cubicBezTo>
                  <a:pt x="6213" y="13921"/>
                  <a:pt x="6238" y="13922"/>
                  <a:pt x="6191" y="13938"/>
                </a:cubicBezTo>
                <a:cubicBezTo>
                  <a:pt x="6204" y="13888"/>
                  <a:pt x="6245" y="13862"/>
                  <a:pt x="6255" y="13843"/>
                </a:cubicBezTo>
                <a:cubicBezTo>
                  <a:pt x="6255" y="13811"/>
                  <a:pt x="6255" y="13801"/>
                  <a:pt x="6286" y="13811"/>
                </a:cubicBezTo>
                <a:cubicBezTo>
                  <a:pt x="6324" y="13824"/>
                  <a:pt x="6339" y="13838"/>
                  <a:pt x="6382" y="13875"/>
                </a:cubicBezTo>
                <a:cubicBezTo>
                  <a:pt x="6434" y="13921"/>
                  <a:pt x="6439" y="13938"/>
                  <a:pt x="6509" y="13938"/>
                </a:cubicBezTo>
                <a:cubicBezTo>
                  <a:pt x="6572" y="13938"/>
                  <a:pt x="6636" y="13938"/>
                  <a:pt x="6699" y="13938"/>
                </a:cubicBezTo>
              </a:path>
              <a:path w="14543" h="3684">
                <a:moveTo>
                  <a:pt x="6128" y="14065"/>
                </a:moveTo>
                <a:cubicBezTo>
                  <a:pt x="6154" y="14101"/>
                  <a:pt x="6166" y="14145"/>
                  <a:pt x="6223" y="14160"/>
                </a:cubicBezTo>
                <a:cubicBezTo>
                  <a:pt x="6284" y="14176"/>
                  <a:pt x="6351" y="14188"/>
                  <a:pt x="6414" y="14192"/>
                </a:cubicBezTo>
                <a:cubicBezTo>
                  <a:pt x="6525" y="14198"/>
                  <a:pt x="6589" y="14206"/>
                  <a:pt x="6699" y="14192"/>
                </a:cubicBezTo>
                <a:cubicBezTo>
                  <a:pt x="6808" y="14178"/>
                  <a:pt x="6934" y="14152"/>
                  <a:pt x="7017" y="14065"/>
                </a:cubicBezTo>
                <a:cubicBezTo>
                  <a:pt x="7117" y="13959"/>
                  <a:pt x="7168" y="13787"/>
                  <a:pt x="7176" y="13652"/>
                </a:cubicBezTo>
                <a:cubicBezTo>
                  <a:pt x="7184" y="13505"/>
                  <a:pt x="7205" y="13311"/>
                  <a:pt x="7144" y="13176"/>
                </a:cubicBezTo>
                <a:cubicBezTo>
                  <a:pt x="7105" y="13090"/>
                  <a:pt x="6970" y="12908"/>
                  <a:pt x="6890" y="12859"/>
                </a:cubicBezTo>
                <a:cubicBezTo>
                  <a:pt x="6780" y="12792"/>
                  <a:pt x="6664" y="12795"/>
                  <a:pt x="6540" y="12795"/>
                </a:cubicBezTo>
                <a:cubicBezTo>
                  <a:pt x="6392" y="12795"/>
                  <a:pt x="6305" y="12841"/>
                  <a:pt x="6191" y="12922"/>
                </a:cubicBezTo>
                <a:cubicBezTo>
                  <a:pt x="6029" y="13037"/>
                  <a:pt x="5960" y="13143"/>
                  <a:pt x="5906" y="13335"/>
                </a:cubicBezTo>
                <a:cubicBezTo>
                  <a:pt x="5864" y="13483"/>
                  <a:pt x="5863" y="13602"/>
                  <a:pt x="5906" y="13748"/>
                </a:cubicBezTo>
                <a:cubicBezTo>
                  <a:pt x="5939" y="13860"/>
                  <a:pt x="6008" y="13987"/>
                  <a:pt x="6096" y="14065"/>
                </a:cubicBezTo>
                <a:cubicBezTo>
                  <a:pt x="6168" y="14129"/>
                  <a:pt x="6262" y="14180"/>
                  <a:pt x="6350" y="14224"/>
                </a:cubicBezTo>
                <a:cubicBezTo>
                  <a:pt x="6412" y="14255"/>
                  <a:pt x="6476" y="14267"/>
                  <a:pt x="6540" y="14288"/>
                </a:cubicBezTo>
              </a:path>
              <a:path w="14543" h="3684">
                <a:moveTo>
                  <a:pt x="7684" y="12764"/>
                </a:moveTo>
                <a:cubicBezTo>
                  <a:pt x="7684" y="12929"/>
                  <a:pt x="7672" y="13085"/>
                  <a:pt x="7652" y="13240"/>
                </a:cubicBezTo>
                <a:cubicBezTo>
                  <a:pt x="7638" y="13349"/>
                  <a:pt x="7607" y="14008"/>
                  <a:pt x="7684" y="14034"/>
                </a:cubicBezTo>
              </a:path>
              <a:path w="14543" h="3684">
                <a:moveTo>
                  <a:pt x="8064" y="12795"/>
                </a:moveTo>
                <a:cubicBezTo>
                  <a:pt x="8064" y="12710"/>
                  <a:pt x="8068" y="12934"/>
                  <a:pt x="8064" y="12954"/>
                </a:cubicBezTo>
                <a:cubicBezTo>
                  <a:pt x="8035" y="13091"/>
                  <a:pt x="8005" y="13225"/>
                  <a:pt x="8001" y="13367"/>
                </a:cubicBezTo>
                <a:cubicBezTo>
                  <a:pt x="7995" y="13589"/>
                  <a:pt x="8001" y="13812"/>
                  <a:pt x="8001" y="14034"/>
                </a:cubicBezTo>
              </a:path>
              <a:path w="14543" h="3684">
                <a:moveTo>
                  <a:pt x="7588" y="13430"/>
                </a:moveTo>
                <a:cubicBezTo>
                  <a:pt x="7546" y="13451"/>
                  <a:pt x="7606" y="13484"/>
                  <a:pt x="7652" y="13494"/>
                </a:cubicBezTo>
                <a:cubicBezTo>
                  <a:pt x="7744" y="13514"/>
                  <a:pt x="7849" y="13531"/>
                  <a:pt x="7938" y="13557"/>
                </a:cubicBezTo>
                <a:cubicBezTo>
                  <a:pt x="8029" y="13583"/>
                  <a:pt x="8093" y="13589"/>
                  <a:pt x="8192" y="13589"/>
                </a:cubicBezTo>
              </a:path>
              <a:path w="14543" h="3684">
                <a:moveTo>
                  <a:pt x="8382" y="13272"/>
                </a:moveTo>
                <a:cubicBezTo>
                  <a:pt x="8356" y="13220"/>
                  <a:pt x="8309" y="13313"/>
                  <a:pt x="8287" y="13367"/>
                </a:cubicBezTo>
                <a:cubicBezTo>
                  <a:pt x="8244" y="13471"/>
                  <a:pt x="8181" y="13605"/>
                  <a:pt x="8160" y="13716"/>
                </a:cubicBezTo>
                <a:cubicBezTo>
                  <a:pt x="8148" y="13781"/>
                  <a:pt x="8151" y="13875"/>
                  <a:pt x="8223" y="13906"/>
                </a:cubicBezTo>
                <a:cubicBezTo>
                  <a:pt x="8299" y="13939"/>
                  <a:pt x="8358" y="13825"/>
                  <a:pt x="8382" y="13780"/>
                </a:cubicBezTo>
                <a:cubicBezTo>
                  <a:pt x="8437" y="13676"/>
                  <a:pt x="8473" y="13577"/>
                  <a:pt x="8477" y="13462"/>
                </a:cubicBezTo>
                <a:cubicBezTo>
                  <a:pt x="8481" y="13361"/>
                  <a:pt x="8470" y="13291"/>
                  <a:pt x="8446" y="13208"/>
                </a:cubicBezTo>
                <a:cubicBezTo>
                  <a:pt x="8431" y="13155"/>
                  <a:pt x="8431" y="13196"/>
                  <a:pt x="8414" y="13144"/>
                </a:cubicBezTo>
              </a:path>
              <a:path w="14543" h="3684">
                <a:moveTo>
                  <a:pt x="8572" y="13240"/>
                </a:moveTo>
                <a:cubicBezTo>
                  <a:pt x="8592" y="13320"/>
                  <a:pt x="8604" y="13327"/>
                  <a:pt x="8604" y="13430"/>
                </a:cubicBezTo>
                <a:cubicBezTo>
                  <a:pt x="8604" y="13556"/>
                  <a:pt x="8619" y="13659"/>
                  <a:pt x="8636" y="13780"/>
                </a:cubicBezTo>
                <a:cubicBezTo>
                  <a:pt x="8647" y="13859"/>
                  <a:pt x="8621" y="13876"/>
                  <a:pt x="8668" y="13938"/>
                </a:cubicBezTo>
                <a:cubicBezTo>
                  <a:pt x="8668" y="13876"/>
                  <a:pt x="8682" y="13804"/>
                  <a:pt x="8700" y="13748"/>
                </a:cubicBezTo>
                <a:cubicBezTo>
                  <a:pt x="8728" y="13662"/>
                  <a:pt x="8760" y="13565"/>
                  <a:pt x="8795" y="13494"/>
                </a:cubicBezTo>
                <a:cubicBezTo>
                  <a:pt x="8825" y="13432"/>
                  <a:pt x="8835" y="13414"/>
                  <a:pt x="8826" y="13367"/>
                </a:cubicBezTo>
                <a:cubicBezTo>
                  <a:pt x="8855" y="13396"/>
                  <a:pt x="8887" y="13488"/>
                  <a:pt x="8890" y="13557"/>
                </a:cubicBezTo>
                <a:cubicBezTo>
                  <a:pt x="8895" y="13671"/>
                  <a:pt x="8905" y="13768"/>
                  <a:pt x="8922" y="13875"/>
                </a:cubicBezTo>
                <a:cubicBezTo>
                  <a:pt x="8933" y="13942"/>
                  <a:pt x="8937" y="13993"/>
                  <a:pt x="9017" y="14002"/>
                </a:cubicBezTo>
                <a:cubicBezTo>
                  <a:pt x="9028" y="14002"/>
                  <a:pt x="9038" y="14002"/>
                  <a:pt x="9049" y="14002"/>
                </a:cubicBezTo>
                <a:cubicBezTo>
                  <a:pt x="9066" y="13913"/>
                  <a:pt x="9088" y="13802"/>
                  <a:pt x="9112" y="13716"/>
                </a:cubicBezTo>
                <a:cubicBezTo>
                  <a:pt x="9139" y="13617"/>
                  <a:pt x="9144" y="13536"/>
                  <a:pt x="9144" y="13430"/>
                </a:cubicBezTo>
                <a:cubicBezTo>
                  <a:pt x="9144" y="13343"/>
                  <a:pt x="9126" y="13274"/>
                  <a:pt x="9176" y="13208"/>
                </a:cubicBezTo>
              </a:path>
              <a:path w="14543" h="3684">
                <a:moveTo>
                  <a:pt x="10001" y="13018"/>
                </a:moveTo>
                <a:cubicBezTo>
                  <a:pt x="10014" y="12968"/>
                  <a:pt x="10033" y="12947"/>
                  <a:pt x="10033" y="12890"/>
                </a:cubicBezTo>
                <a:cubicBezTo>
                  <a:pt x="10033" y="12853"/>
                  <a:pt x="9980" y="12830"/>
                  <a:pt x="9938" y="12827"/>
                </a:cubicBezTo>
                <a:cubicBezTo>
                  <a:pt x="9855" y="12821"/>
                  <a:pt x="9809" y="12833"/>
                  <a:pt x="9747" y="12890"/>
                </a:cubicBezTo>
                <a:cubicBezTo>
                  <a:pt x="9669" y="12961"/>
                  <a:pt x="9684" y="13007"/>
                  <a:pt x="9684" y="13113"/>
                </a:cubicBezTo>
                <a:cubicBezTo>
                  <a:pt x="9684" y="13174"/>
                  <a:pt x="9679" y="13852"/>
                  <a:pt x="9652" y="13843"/>
                </a:cubicBezTo>
                <a:cubicBezTo>
                  <a:pt x="9652" y="13801"/>
                  <a:pt x="9652" y="13780"/>
                  <a:pt x="9652" y="13748"/>
                </a:cubicBezTo>
              </a:path>
              <a:path w="14543" h="3684">
                <a:moveTo>
                  <a:pt x="9588" y="13367"/>
                </a:moveTo>
                <a:cubicBezTo>
                  <a:pt x="9557" y="13367"/>
                  <a:pt x="9546" y="13367"/>
                  <a:pt x="9525" y="13367"/>
                </a:cubicBezTo>
                <a:cubicBezTo>
                  <a:pt x="9532" y="13409"/>
                  <a:pt x="9557" y="13476"/>
                  <a:pt x="9620" y="13494"/>
                </a:cubicBezTo>
                <a:cubicBezTo>
                  <a:pt x="9701" y="13517"/>
                  <a:pt x="9802" y="13486"/>
                  <a:pt x="9874" y="13462"/>
                </a:cubicBezTo>
              </a:path>
              <a:path w="14543" h="3684">
                <a:moveTo>
                  <a:pt x="10160" y="13462"/>
                </a:moveTo>
                <a:cubicBezTo>
                  <a:pt x="10194" y="13406"/>
                  <a:pt x="10192" y="13371"/>
                  <a:pt x="10192" y="13303"/>
                </a:cubicBezTo>
                <a:cubicBezTo>
                  <a:pt x="10127" y="13303"/>
                  <a:pt x="10117" y="13305"/>
                  <a:pt x="10065" y="13335"/>
                </a:cubicBezTo>
                <a:cubicBezTo>
                  <a:pt x="9956" y="13398"/>
                  <a:pt x="9973" y="13485"/>
                  <a:pt x="9938" y="13589"/>
                </a:cubicBezTo>
                <a:cubicBezTo>
                  <a:pt x="9913" y="13664"/>
                  <a:pt x="9873" y="13757"/>
                  <a:pt x="9970" y="13811"/>
                </a:cubicBezTo>
                <a:cubicBezTo>
                  <a:pt x="9980" y="13811"/>
                  <a:pt x="9991" y="13811"/>
                  <a:pt x="10001" y="13811"/>
                </a:cubicBezTo>
                <a:cubicBezTo>
                  <a:pt x="10070" y="13811"/>
                  <a:pt x="10099" y="13781"/>
                  <a:pt x="10128" y="13716"/>
                </a:cubicBezTo>
                <a:cubicBezTo>
                  <a:pt x="10170" y="13623"/>
                  <a:pt x="10212" y="13528"/>
                  <a:pt x="10224" y="13430"/>
                </a:cubicBezTo>
                <a:cubicBezTo>
                  <a:pt x="10224" y="13540"/>
                  <a:pt x="10192" y="13694"/>
                  <a:pt x="10255" y="13780"/>
                </a:cubicBezTo>
              </a:path>
              <a:path w="14543" h="3684">
                <a:moveTo>
                  <a:pt x="10414" y="13462"/>
                </a:moveTo>
                <a:cubicBezTo>
                  <a:pt x="10414" y="13621"/>
                  <a:pt x="10414" y="13779"/>
                  <a:pt x="10414" y="13938"/>
                </a:cubicBezTo>
                <a:cubicBezTo>
                  <a:pt x="10459" y="13878"/>
                  <a:pt x="10446" y="13827"/>
                  <a:pt x="10446" y="13748"/>
                </a:cubicBezTo>
                <a:cubicBezTo>
                  <a:pt x="10446" y="13663"/>
                  <a:pt x="10488" y="13596"/>
                  <a:pt x="10509" y="13526"/>
                </a:cubicBezTo>
                <a:cubicBezTo>
                  <a:pt x="10531" y="13452"/>
                  <a:pt x="10556" y="13435"/>
                  <a:pt x="10636" y="13430"/>
                </a:cubicBezTo>
                <a:cubicBezTo>
                  <a:pt x="10702" y="13430"/>
                  <a:pt x="10726" y="13431"/>
                  <a:pt x="10763" y="13462"/>
                </a:cubicBezTo>
              </a:path>
              <a:path w="14543" h="3684">
                <a:moveTo>
                  <a:pt x="12097" y="12573"/>
                </a:moveTo>
                <a:cubicBezTo>
                  <a:pt x="12052" y="12593"/>
                  <a:pt x="11983" y="12601"/>
                  <a:pt x="11938" y="12636"/>
                </a:cubicBezTo>
                <a:cubicBezTo>
                  <a:pt x="11828" y="12721"/>
                  <a:pt x="11784" y="12773"/>
                  <a:pt x="11716" y="12890"/>
                </a:cubicBezTo>
                <a:cubicBezTo>
                  <a:pt x="11636" y="13029"/>
                  <a:pt x="11536" y="13144"/>
                  <a:pt x="11494" y="13303"/>
                </a:cubicBezTo>
                <a:cubicBezTo>
                  <a:pt x="11454" y="13455"/>
                  <a:pt x="11412" y="13686"/>
                  <a:pt x="11430" y="13843"/>
                </a:cubicBezTo>
                <a:cubicBezTo>
                  <a:pt x="11448" y="14003"/>
                  <a:pt x="11481" y="14116"/>
                  <a:pt x="11557" y="14256"/>
                </a:cubicBezTo>
                <a:cubicBezTo>
                  <a:pt x="11600" y="14334"/>
                  <a:pt x="11608" y="14383"/>
                  <a:pt x="11684" y="14414"/>
                </a:cubicBezTo>
                <a:cubicBezTo>
                  <a:pt x="11684" y="14450"/>
                  <a:pt x="11687" y="14458"/>
                  <a:pt x="11716" y="14414"/>
                </a:cubicBezTo>
              </a:path>
              <a:path w="14543" h="3684">
                <a:moveTo>
                  <a:pt x="11811" y="13462"/>
                </a:moveTo>
                <a:cubicBezTo>
                  <a:pt x="11879" y="13462"/>
                  <a:pt x="11901" y="13436"/>
                  <a:pt x="11970" y="13430"/>
                </a:cubicBezTo>
                <a:cubicBezTo>
                  <a:pt x="12025" y="13425"/>
                  <a:pt x="12032" y="13385"/>
                  <a:pt x="12097" y="13367"/>
                </a:cubicBezTo>
              </a:path>
              <a:path w="14543" h="3684">
                <a:moveTo>
                  <a:pt x="12541" y="12890"/>
                </a:moveTo>
                <a:cubicBezTo>
                  <a:pt x="12585" y="12876"/>
                  <a:pt x="12576" y="12842"/>
                  <a:pt x="12636" y="12827"/>
                </a:cubicBezTo>
                <a:cubicBezTo>
                  <a:pt x="12622" y="12883"/>
                  <a:pt x="12584" y="12910"/>
                  <a:pt x="12541" y="12954"/>
                </a:cubicBezTo>
                <a:cubicBezTo>
                  <a:pt x="12497" y="12999"/>
                  <a:pt x="12438" y="13058"/>
                  <a:pt x="12382" y="13081"/>
                </a:cubicBezTo>
                <a:cubicBezTo>
                  <a:pt x="12360" y="13090"/>
                  <a:pt x="12311" y="13081"/>
                  <a:pt x="12287" y="13081"/>
                </a:cubicBezTo>
                <a:cubicBezTo>
                  <a:pt x="12329" y="13053"/>
                  <a:pt x="12346" y="13074"/>
                  <a:pt x="12351" y="13144"/>
                </a:cubicBezTo>
                <a:cubicBezTo>
                  <a:pt x="12359" y="13252"/>
                  <a:pt x="12344" y="13332"/>
                  <a:pt x="12319" y="13430"/>
                </a:cubicBezTo>
                <a:cubicBezTo>
                  <a:pt x="12319" y="13441"/>
                  <a:pt x="12319" y="13451"/>
                  <a:pt x="12319" y="13462"/>
                </a:cubicBezTo>
                <a:cubicBezTo>
                  <a:pt x="12374" y="13444"/>
                  <a:pt x="12350" y="13388"/>
                  <a:pt x="12382" y="13335"/>
                </a:cubicBezTo>
                <a:cubicBezTo>
                  <a:pt x="12390" y="13322"/>
                  <a:pt x="12495" y="13244"/>
                  <a:pt x="12510" y="13240"/>
                </a:cubicBezTo>
                <a:cubicBezTo>
                  <a:pt x="12553" y="13228"/>
                  <a:pt x="12643" y="13267"/>
                  <a:pt x="12668" y="13303"/>
                </a:cubicBezTo>
                <a:cubicBezTo>
                  <a:pt x="12719" y="13377"/>
                  <a:pt x="12700" y="13472"/>
                  <a:pt x="12700" y="13557"/>
                </a:cubicBezTo>
                <a:cubicBezTo>
                  <a:pt x="12700" y="13634"/>
                  <a:pt x="12676" y="13745"/>
                  <a:pt x="12636" y="13811"/>
                </a:cubicBezTo>
                <a:cubicBezTo>
                  <a:pt x="12611" y="13851"/>
                  <a:pt x="12519" y="13893"/>
                  <a:pt x="12478" y="13906"/>
                </a:cubicBezTo>
                <a:cubicBezTo>
                  <a:pt x="12426" y="13923"/>
                  <a:pt x="12395" y="13860"/>
                  <a:pt x="12382" y="13843"/>
                </a:cubicBezTo>
                <a:cubicBezTo>
                  <a:pt x="12354" y="13814"/>
                  <a:pt x="12344" y="13808"/>
                  <a:pt x="12351" y="13780"/>
                </a:cubicBezTo>
              </a:path>
              <a:path w="14543" h="3684">
                <a:moveTo>
                  <a:pt x="12890" y="13716"/>
                </a:moveTo>
                <a:cubicBezTo>
                  <a:pt x="12890" y="13837"/>
                  <a:pt x="12850" y="14033"/>
                  <a:pt x="12922" y="14129"/>
                </a:cubicBezTo>
              </a:path>
              <a:path w="14543" h="3684">
                <a:moveTo>
                  <a:pt x="13176" y="12732"/>
                </a:moveTo>
                <a:cubicBezTo>
                  <a:pt x="13231" y="12805"/>
                  <a:pt x="13236" y="12890"/>
                  <a:pt x="13240" y="12986"/>
                </a:cubicBezTo>
                <a:cubicBezTo>
                  <a:pt x="13247" y="13180"/>
                  <a:pt x="13252" y="13368"/>
                  <a:pt x="13272" y="13557"/>
                </a:cubicBezTo>
                <a:cubicBezTo>
                  <a:pt x="13283" y="13666"/>
                  <a:pt x="13265" y="13740"/>
                  <a:pt x="13303" y="13843"/>
                </a:cubicBezTo>
              </a:path>
              <a:path w="14543" h="3684">
                <a:moveTo>
                  <a:pt x="13208" y="12382"/>
                </a:moveTo>
                <a:cubicBezTo>
                  <a:pt x="13259" y="12401"/>
                  <a:pt x="13355" y="12402"/>
                  <a:pt x="13398" y="12446"/>
                </a:cubicBezTo>
                <a:cubicBezTo>
                  <a:pt x="13475" y="12524"/>
                  <a:pt x="13547" y="12617"/>
                  <a:pt x="13621" y="12700"/>
                </a:cubicBezTo>
                <a:cubicBezTo>
                  <a:pt x="13706" y="12795"/>
                  <a:pt x="13772" y="12925"/>
                  <a:pt x="13811" y="13049"/>
                </a:cubicBezTo>
                <a:cubicBezTo>
                  <a:pt x="13862" y="13214"/>
                  <a:pt x="13843" y="13387"/>
                  <a:pt x="13843" y="13557"/>
                </a:cubicBezTo>
                <a:cubicBezTo>
                  <a:pt x="13843" y="13699"/>
                  <a:pt x="13827" y="13868"/>
                  <a:pt x="13780" y="14002"/>
                </a:cubicBezTo>
                <a:cubicBezTo>
                  <a:pt x="13748" y="14065"/>
                  <a:pt x="13737" y="14087"/>
                  <a:pt x="13716" y="14129"/>
                </a:cubicBezTo>
              </a:path>
              <a:path w="14543" h="3684">
                <a:moveTo>
                  <a:pt x="12160" y="12414"/>
                </a:moveTo>
                <a:cubicBezTo>
                  <a:pt x="12160" y="12446"/>
                  <a:pt x="12160" y="12457"/>
                  <a:pt x="12128" y="12446"/>
                </a:cubicBezTo>
                <a:cubicBezTo>
                  <a:pt x="12144" y="12494"/>
                  <a:pt x="12160" y="12473"/>
                  <a:pt x="12160" y="12541"/>
                </a:cubicBezTo>
                <a:cubicBezTo>
                  <a:pt x="12160" y="12582"/>
                  <a:pt x="12182" y="12598"/>
                  <a:pt x="12192" y="12636"/>
                </a:cubicBezTo>
                <a:cubicBezTo>
                  <a:pt x="12138" y="12619"/>
                  <a:pt x="12160" y="12575"/>
                  <a:pt x="12160" y="12510"/>
                </a:cubicBezTo>
                <a:cubicBezTo>
                  <a:pt x="12160" y="12426"/>
                  <a:pt x="12136" y="12319"/>
                  <a:pt x="12192" y="12256"/>
                </a:cubicBezTo>
                <a:cubicBezTo>
                  <a:pt x="12221" y="12227"/>
                  <a:pt x="12227" y="12216"/>
                  <a:pt x="12256" y="12224"/>
                </a:cubicBezTo>
                <a:cubicBezTo>
                  <a:pt x="12266" y="12265"/>
                  <a:pt x="12269" y="12345"/>
                  <a:pt x="12287" y="12382"/>
                </a:cubicBezTo>
                <a:cubicBezTo>
                  <a:pt x="12298" y="12393"/>
                  <a:pt x="12308" y="12403"/>
                  <a:pt x="12319" y="12414"/>
                </a:cubicBezTo>
                <a:cubicBezTo>
                  <a:pt x="12319" y="12338"/>
                  <a:pt x="12344" y="12319"/>
                  <a:pt x="12351" y="12256"/>
                </a:cubicBezTo>
                <a:cubicBezTo>
                  <a:pt x="12358" y="12190"/>
                  <a:pt x="12387" y="12192"/>
                  <a:pt x="12446" y="12192"/>
                </a:cubicBezTo>
                <a:cubicBezTo>
                  <a:pt x="12446" y="12251"/>
                  <a:pt x="12472" y="12267"/>
                  <a:pt x="12478" y="12319"/>
                </a:cubicBezTo>
                <a:cubicBezTo>
                  <a:pt x="12485" y="12382"/>
                  <a:pt x="12471" y="12393"/>
                  <a:pt x="12510" y="12446"/>
                </a:cubicBezTo>
              </a:path>
              <a:path w="14543" h="3684">
                <a:moveTo>
                  <a:pt x="12668" y="12224"/>
                </a:moveTo>
                <a:cubicBezTo>
                  <a:pt x="12639" y="12195"/>
                  <a:pt x="12633" y="12185"/>
                  <a:pt x="12605" y="12192"/>
                </a:cubicBezTo>
                <a:cubicBezTo>
                  <a:pt x="12605" y="12251"/>
                  <a:pt x="12579" y="12267"/>
                  <a:pt x="12573" y="12319"/>
                </a:cubicBezTo>
                <a:cubicBezTo>
                  <a:pt x="12564" y="12398"/>
                  <a:pt x="12566" y="12417"/>
                  <a:pt x="12573" y="12414"/>
                </a:cubicBezTo>
                <a:cubicBezTo>
                  <a:pt x="12620" y="12395"/>
                  <a:pt x="12609" y="12387"/>
                  <a:pt x="12636" y="12351"/>
                </a:cubicBezTo>
                <a:cubicBezTo>
                  <a:pt x="12670" y="12306"/>
                  <a:pt x="12668" y="12311"/>
                  <a:pt x="12668" y="12256"/>
                </a:cubicBezTo>
                <a:cubicBezTo>
                  <a:pt x="12684" y="12277"/>
                  <a:pt x="12693" y="12377"/>
                  <a:pt x="12700" y="12382"/>
                </a:cubicBezTo>
                <a:cubicBezTo>
                  <a:pt x="12711" y="12382"/>
                  <a:pt x="12721" y="12382"/>
                  <a:pt x="12732" y="12382"/>
                </a:cubicBezTo>
              </a:path>
              <a:path w="14543" h="3684">
                <a:moveTo>
                  <a:pt x="12795" y="12224"/>
                </a:moveTo>
                <a:cubicBezTo>
                  <a:pt x="12832" y="12273"/>
                  <a:pt x="12827" y="12289"/>
                  <a:pt x="12827" y="12351"/>
                </a:cubicBezTo>
                <a:cubicBezTo>
                  <a:pt x="12806" y="12323"/>
                  <a:pt x="12771" y="12267"/>
                  <a:pt x="12795" y="12224"/>
                </a:cubicBezTo>
                <a:cubicBezTo>
                  <a:pt x="12817" y="12184"/>
                  <a:pt x="12864" y="12137"/>
                  <a:pt x="12890" y="12128"/>
                </a:cubicBezTo>
              </a:path>
              <a:path w="14543" h="3684">
                <a:moveTo>
                  <a:pt x="13113" y="12065"/>
                </a:moveTo>
                <a:cubicBezTo>
                  <a:pt x="13113" y="12054"/>
                  <a:pt x="13113" y="12044"/>
                  <a:pt x="13113" y="12033"/>
                </a:cubicBezTo>
                <a:cubicBezTo>
                  <a:pt x="13064" y="12049"/>
                  <a:pt x="13076" y="12061"/>
                  <a:pt x="13049" y="12097"/>
                </a:cubicBezTo>
                <a:cubicBezTo>
                  <a:pt x="13013" y="12145"/>
                  <a:pt x="13022" y="12176"/>
                  <a:pt x="12986" y="12224"/>
                </a:cubicBezTo>
                <a:cubicBezTo>
                  <a:pt x="12997" y="12258"/>
                  <a:pt x="13009" y="12282"/>
                  <a:pt x="13049" y="12287"/>
                </a:cubicBezTo>
                <a:cubicBezTo>
                  <a:pt x="13071" y="12290"/>
                  <a:pt x="13130" y="12224"/>
                  <a:pt x="13144" y="12192"/>
                </a:cubicBezTo>
                <a:cubicBezTo>
                  <a:pt x="13144" y="12181"/>
                  <a:pt x="13144" y="12171"/>
                  <a:pt x="13144" y="12160"/>
                </a:cubicBezTo>
              </a:path>
              <a:path w="14543" h="3684">
                <a:moveTo>
                  <a:pt x="13208" y="12002"/>
                </a:moveTo>
                <a:cubicBezTo>
                  <a:pt x="13208" y="12060"/>
                  <a:pt x="13234" y="12077"/>
                  <a:pt x="13240" y="12128"/>
                </a:cubicBezTo>
                <a:cubicBezTo>
                  <a:pt x="13248" y="12196"/>
                  <a:pt x="13256" y="12175"/>
                  <a:pt x="13272" y="12224"/>
                </a:cubicBezTo>
                <a:cubicBezTo>
                  <a:pt x="13308" y="12174"/>
                  <a:pt x="13278" y="12142"/>
                  <a:pt x="13303" y="12097"/>
                </a:cubicBezTo>
                <a:cubicBezTo>
                  <a:pt x="13340" y="12031"/>
                  <a:pt x="13335" y="12024"/>
                  <a:pt x="13335" y="12097"/>
                </a:cubicBezTo>
                <a:cubicBezTo>
                  <a:pt x="13335" y="12147"/>
                  <a:pt x="13367" y="12167"/>
                  <a:pt x="13367" y="12224"/>
                </a:cubicBezTo>
                <a:cubicBezTo>
                  <a:pt x="13367" y="12291"/>
                  <a:pt x="13400" y="12247"/>
                  <a:pt x="13430" y="12224"/>
                </a:cubicBezTo>
              </a:path>
              <a:path w="14543" h="3684">
                <a:moveTo>
                  <a:pt x="13557" y="11970"/>
                </a:moveTo>
                <a:cubicBezTo>
                  <a:pt x="13547" y="11959"/>
                  <a:pt x="13536" y="11949"/>
                  <a:pt x="13526" y="11938"/>
                </a:cubicBezTo>
                <a:cubicBezTo>
                  <a:pt x="13466" y="11958"/>
                  <a:pt x="13490" y="11989"/>
                  <a:pt x="13494" y="12002"/>
                </a:cubicBezTo>
                <a:cubicBezTo>
                  <a:pt x="13518" y="12073"/>
                  <a:pt x="13555" y="11990"/>
                  <a:pt x="13589" y="12033"/>
                </a:cubicBezTo>
                <a:cubicBezTo>
                  <a:pt x="13612" y="12063"/>
                  <a:pt x="13621" y="12117"/>
                  <a:pt x="13621" y="12160"/>
                </a:cubicBezTo>
                <a:cubicBezTo>
                  <a:pt x="13621" y="12210"/>
                  <a:pt x="13581" y="12283"/>
                  <a:pt x="13557" y="12319"/>
                </a:cubicBezTo>
                <a:cubicBezTo>
                  <a:pt x="13529" y="12348"/>
                  <a:pt x="13523" y="12359"/>
                  <a:pt x="13494" y="12351"/>
                </a:cubicBezTo>
              </a:path>
              <a:path w="14543" h="3684">
                <a:moveTo>
                  <a:pt x="14414" y="12764"/>
                </a:moveTo>
                <a:cubicBezTo>
                  <a:pt x="14357" y="12840"/>
                  <a:pt x="14400" y="12867"/>
                  <a:pt x="14414" y="12954"/>
                </a:cubicBezTo>
                <a:cubicBezTo>
                  <a:pt x="14432" y="13063"/>
                  <a:pt x="14463" y="13657"/>
                  <a:pt x="14383" y="13684"/>
                </a:cubicBezTo>
              </a:path>
              <a:path w="14543" h="3684">
                <a:moveTo>
                  <a:pt x="14224" y="13303"/>
                </a:moveTo>
                <a:cubicBezTo>
                  <a:pt x="14288" y="13303"/>
                  <a:pt x="14299" y="13289"/>
                  <a:pt x="14351" y="13272"/>
                </a:cubicBezTo>
                <a:cubicBezTo>
                  <a:pt x="14404" y="13255"/>
                  <a:pt x="14449" y="13220"/>
                  <a:pt x="14510" y="13208"/>
                </a:cubicBezTo>
              </a:path>
              <a:path w="14543" h="3684">
                <a:moveTo>
                  <a:pt x="14764" y="13049"/>
                </a:moveTo>
                <a:cubicBezTo>
                  <a:pt x="14718" y="13064"/>
                  <a:pt x="14722" y="13094"/>
                  <a:pt x="14700" y="13144"/>
                </a:cubicBezTo>
                <a:cubicBezTo>
                  <a:pt x="14658" y="13240"/>
                  <a:pt x="14620" y="13325"/>
                  <a:pt x="14605" y="13430"/>
                </a:cubicBezTo>
                <a:cubicBezTo>
                  <a:pt x="14598" y="13479"/>
                  <a:pt x="14600" y="13621"/>
                  <a:pt x="14637" y="13652"/>
                </a:cubicBezTo>
                <a:cubicBezTo>
                  <a:pt x="14667" y="13677"/>
                  <a:pt x="14686" y="13682"/>
                  <a:pt x="14732" y="13652"/>
                </a:cubicBezTo>
                <a:cubicBezTo>
                  <a:pt x="14774" y="13625"/>
                  <a:pt x="14848" y="13537"/>
                  <a:pt x="14859" y="13494"/>
                </a:cubicBezTo>
                <a:cubicBezTo>
                  <a:pt x="14887" y="13389"/>
                  <a:pt x="14883" y="13336"/>
                  <a:pt x="14859" y="13240"/>
                </a:cubicBezTo>
                <a:cubicBezTo>
                  <a:pt x="14843" y="13175"/>
                  <a:pt x="14787" y="13177"/>
                  <a:pt x="14764" y="13144"/>
                </a:cubicBezTo>
                <a:cubicBezTo>
                  <a:pt x="14764" y="13113"/>
                  <a:pt x="14764" y="13102"/>
                  <a:pt x="14732" y="13113"/>
                </a:cubicBezTo>
              </a:path>
              <a:path w="14543" h="3684">
                <a:moveTo>
                  <a:pt x="15558" y="12097"/>
                </a:moveTo>
                <a:cubicBezTo>
                  <a:pt x="15558" y="12165"/>
                  <a:pt x="15556" y="12200"/>
                  <a:pt x="15526" y="12256"/>
                </a:cubicBezTo>
                <a:cubicBezTo>
                  <a:pt x="15474" y="12353"/>
                  <a:pt x="15483" y="12471"/>
                  <a:pt x="15430" y="12573"/>
                </a:cubicBezTo>
                <a:cubicBezTo>
                  <a:pt x="15346" y="12736"/>
                  <a:pt x="15334" y="12839"/>
                  <a:pt x="15304" y="13018"/>
                </a:cubicBezTo>
                <a:cubicBezTo>
                  <a:pt x="15275" y="13194"/>
                  <a:pt x="15261" y="13323"/>
                  <a:pt x="15272" y="13494"/>
                </a:cubicBezTo>
                <a:cubicBezTo>
                  <a:pt x="15280" y="13611"/>
                  <a:pt x="15290" y="13736"/>
                  <a:pt x="15335" y="13843"/>
                </a:cubicBezTo>
                <a:cubicBezTo>
                  <a:pt x="15378" y="13945"/>
                  <a:pt x="15467" y="13992"/>
                  <a:pt x="15526" y="14065"/>
                </a:cubicBezTo>
                <a:cubicBezTo>
                  <a:pt x="15561" y="14109"/>
                  <a:pt x="15622" y="14175"/>
                  <a:pt x="15653" y="14224"/>
                </a:cubicBezTo>
                <a:cubicBezTo>
                  <a:pt x="15680" y="14280"/>
                  <a:pt x="15684" y="14295"/>
                  <a:pt x="15716" y="14319"/>
                </a:cubicBezTo>
              </a:path>
              <a:path w="14543" h="3684">
                <a:moveTo>
                  <a:pt x="15526" y="13144"/>
                </a:moveTo>
                <a:cubicBezTo>
                  <a:pt x="15526" y="13134"/>
                  <a:pt x="15526" y="13123"/>
                  <a:pt x="15526" y="13113"/>
                </a:cubicBezTo>
                <a:cubicBezTo>
                  <a:pt x="15558" y="13113"/>
                  <a:pt x="15589" y="13113"/>
                  <a:pt x="15621" y="13113"/>
                </a:cubicBezTo>
                <a:cubicBezTo>
                  <a:pt x="15636" y="13068"/>
                  <a:pt x="15668" y="13085"/>
                  <a:pt x="15716" y="13049"/>
                </a:cubicBezTo>
              </a:path>
              <a:path w="14543" h="3684">
                <a:moveTo>
                  <a:pt x="15907" y="12605"/>
                </a:moveTo>
                <a:cubicBezTo>
                  <a:pt x="15907" y="12573"/>
                  <a:pt x="15907" y="12563"/>
                  <a:pt x="15938" y="12573"/>
                </a:cubicBezTo>
              </a:path>
              <a:path w="14543" h="3684">
                <a:moveTo>
                  <a:pt x="15907" y="12605"/>
                </a:moveTo>
                <a:lnTo>
                  <a:pt x="15907" y="12605"/>
                </a:lnTo>
              </a:path>
              <a:path w="14543" h="3684">
                <a:moveTo>
                  <a:pt x="15970" y="12573"/>
                </a:moveTo>
                <a:cubicBezTo>
                  <a:pt x="15984" y="12515"/>
                  <a:pt x="16053" y="12472"/>
                  <a:pt x="16066" y="12446"/>
                </a:cubicBezTo>
                <a:cubicBezTo>
                  <a:pt x="16091" y="12396"/>
                  <a:pt x="16108" y="12407"/>
                  <a:pt x="16161" y="12446"/>
                </a:cubicBezTo>
                <a:cubicBezTo>
                  <a:pt x="16149" y="12505"/>
                  <a:pt x="16132" y="12583"/>
                  <a:pt x="16097" y="12636"/>
                </a:cubicBezTo>
                <a:cubicBezTo>
                  <a:pt x="16070" y="12677"/>
                  <a:pt x="16063" y="12693"/>
                  <a:pt x="16034" y="12732"/>
                </a:cubicBezTo>
                <a:cubicBezTo>
                  <a:pt x="16042" y="12709"/>
                  <a:pt x="16090" y="12654"/>
                  <a:pt x="16129" y="12636"/>
                </a:cubicBezTo>
                <a:cubicBezTo>
                  <a:pt x="16175" y="12615"/>
                  <a:pt x="16216" y="12661"/>
                  <a:pt x="16224" y="12700"/>
                </a:cubicBezTo>
                <a:cubicBezTo>
                  <a:pt x="16245" y="12796"/>
                  <a:pt x="16188" y="12807"/>
                  <a:pt x="16161" y="12890"/>
                </a:cubicBezTo>
                <a:cubicBezTo>
                  <a:pt x="16154" y="12910"/>
                  <a:pt x="16084" y="13042"/>
                  <a:pt x="16066" y="13018"/>
                </a:cubicBezTo>
                <a:cubicBezTo>
                  <a:pt x="16066" y="12986"/>
                  <a:pt x="16066" y="12975"/>
                  <a:pt x="16066" y="12954"/>
                </a:cubicBezTo>
              </a:path>
              <a:path w="14543" h="3684">
                <a:moveTo>
                  <a:pt x="15907" y="13240"/>
                </a:moveTo>
                <a:cubicBezTo>
                  <a:pt x="15972" y="13240"/>
                  <a:pt x="16017" y="13252"/>
                  <a:pt x="16066" y="13208"/>
                </a:cubicBezTo>
                <a:cubicBezTo>
                  <a:pt x="16104" y="13174"/>
                  <a:pt x="16174" y="13150"/>
                  <a:pt x="16224" y="13144"/>
                </a:cubicBezTo>
                <a:cubicBezTo>
                  <a:pt x="16256" y="13144"/>
                  <a:pt x="16267" y="13144"/>
                  <a:pt x="16288" y="13144"/>
                </a:cubicBezTo>
              </a:path>
              <a:path w="14543" h="3684">
                <a:moveTo>
                  <a:pt x="16066" y="13526"/>
                </a:moveTo>
                <a:cubicBezTo>
                  <a:pt x="16088" y="13457"/>
                  <a:pt x="16106" y="13525"/>
                  <a:pt x="16161" y="13494"/>
                </a:cubicBezTo>
                <a:cubicBezTo>
                  <a:pt x="16171" y="13483"/>
                  <a:pt x="16182" y="13473"/>
                  <a:pt x="16192" y="13462"/>
                </a:cubicBezTo>
                <a:cubicBezTo>
                  <a:pt x="16258" y="13484"/>
                  <a:pt x="16231" y="13483"/>
                  <a:pt x="16224" y="13526"/>
                </a:cubicBezTo>
                <a:cubicBezTo>
                  <a:pt x="16213" y="13598"/>
                  <a:pt x="16197" y="13680"/>
                  <a:pt x="16192" y="13748"/>
                </a:cubicBezTo>
                <a:cubicBezTo>
                  <a:pt x="16186" y="13830"/>
                  <a:pt x="16151" y="13840"/>
                  <a:pt x="16129" y="13906"/>
                </a:cubicBezTo>
                <a:cubicBezTo>
                  <a:pt x="16129" y="13938"/>
                  <a:pt x="16129" y="13949"/>
                  <a:pt x="16097" y="13938"/>
                </a:cubicBezTo>
                <a:cubicBezTo>
                  <a:pt x="16147" y="13926"/>
                  <a:pt x="16167" y="13906"/>
                  <a:pt x="16224" y="13906"/>
                </a:cubicBezTo>
                <a:cubicBezTo>
                  <a:pt x="16293" y="13906"/>
                  <a:pt x="16272" y="13922"/>
                  <a:pt x="16320" y="13938"/>
                </a:cubicBezTo>
              </a:path>
              <a:path w="14543" h="3684">
                <a:moveTo>
                  <a:pt x="16700" y="13621"/>
                </a:moveTo>
                <a:cubicBezTo>
                  <a:pt x="16716" y="13700"/>
                  <a:pt x="16732" y="13758"/>
                  <a:pt x="16732" y="13843"/>
                </a:cubicBezTo>
                <a:cubicBezTo>
                  <a:pt x="16732" y="13938"/>
                  <a:pt x="16700" y="14003"/>
                  <a:pt x="16700" y="14097"/>
                </a:cubicBezTo>
                <a:cubicBezTo>
                  <a:pt x="16700" y="14108"/>
                  <a:pt x="16700" y="14118"/>
                  <a:pt x="16700" y="14129"/>
                </a:cubicBezTo>
              </a:path>
              <a:path w="14543" h="3684">
                <a:moveTo>
                  <a:pt x="16859" y="13018"/>
                </a:moveTo>
                <a:cubicBezTo>
                  <a:pt x="16859" y="13007"/>
                  <a:pt x="16859" y="12997"/>
                  <a:pt x="16859" y="12986"/>
                </a:cubicBezTo>
                <a:cubicBezTo>
                  <a:pt x="16911" y="12986"/>
                  <a:pt x="17022" y="13010"/>
                  <a:pt x="17050" y="12954"/>
                </a:cubicBezTo>
                <a:cubicBezTo>
                  <a:pt x="17050" y="12943"/>
                  <a:pt x="17050" y="12933"/>
                  <a:pt x="17050" y="12922"/>
                </a:cubicBezTo>
              </a:path>
              <a:path w="14543" h="3684">
                <a:moveTo>
                  <a:pt x="17304" y="12605"/>
                </a:moveTo>
                <a:cubicBezTo>
                  <a:pt x="17304" y="12683"/>
                  <a:pt x="17333" y="12749"/>
                  <a:pt x="17336" y="12827"/>
                </a:cubicBezTo>
                <a:cubicBezTo>
                  <a:pt x="17341" y="12946"/>
                  <a:pt x="17304" y="13054"/>
                  <a:pt x="17304" y="13176"/>
                </a:cubicBezTo>
                <a:cubicBezTo>
                  <a:pt x="17304" y="13210"/>
                  <a:pt x="17310" y="13497"/>
                  <a:pt x="17336" y="13462"/>
                </a:cubicBezTo>
                <a:cubicBezTo>
                  <a:pt x="17336" y="13451"/>
                  <a:pt x="17336" y="13441"/>
                  <a:pt x="17336" y="13430"/>
                </a:cubicBezTo>
              </a:path>
              <a:path w="14543" h="3684">
                <a:moveTo>
                  <a:pt x="17367" y="12256"/>
                </a:moveTo>
                <a:cubicBezTo>
                  <a:pt x="17417" y="12292"/>
                  <a:pt x="17444" y="12329"/>
                  <a:pt x="17494" y="12382"/>
                </a:cubicBezTo>
                <a:cubicBezTo>
                  <a:pt x="17565" y="12458"/>
                  <a:pt x="17643" y="12571"/>
                  <a:pt x="17685" y="12668"/>
                </a:cubicBezTo>
                <a:cubicBezTo>
                  <a:pt x="17736" y="12788"/>
                  <a:pt x="17827" y="12916"/>
                  <a:pt x="17844" y="13049"/>
                </a:cubicBezTo>
                <a:cubicBezTo>
                  <a:pt x="17864" y="13211"/>
                  <a:pt x="17826" y="13371"/>
                  <a:pt x="17812" y="13526"/>
                </a:cubicBezTo>
                <a:cubicBezTo>
                  <a:pt x="17797" y="13696"/>
                  <a:pt x="17743" y="13781"/>
                  <a:pt x="17685" y="13938"/>
                </a:cubicBezTo>
                <a:cubicBezTo>
                  <a:pt x="17652" y="14038"/>
                  <a:pt x="17639" y="14074"/>
                  <a:pt x="17590" y="14129"/>
                </a:cubicBezTo>
              </a:path>
              <a:path w="14543" h="3684">
                <a:moveTo>
                  <a:pt x="16066" y="12160"/>
                </a:moveTo>
                <a:cubicBezTo>
                  <a:pt x="16097" y="12203"/>
                  <a:pt x="16116" y="12237"/>
                  <a:pt x="16129" y="12287"/>
                </a:cubicBezTo>
                <a:cubicBezTo>
                  <a:pt x="16180" y="12304"/>
                  <a:pt x="16142" y="12302"/>
                  <a:pt x="16192" y="12319"/>
                </a:cubicBezTo>
              </a:path>
              <a:path w="14543" h="3684">
                <a:moveTo>
                  <a:pt x="16224" y="12033"/>
                </a:moveTo>
                <a:cubicBezTo>
                  <a:pt x="16212" y="12080"/>
                  <a:pt x="16195" y="12122"/>
                  <a:pt x="16161" y="12160"/>
                </a:cubicBezTo>
                <a:cubicBezTo>
                  <a:pt x="16122" y="12205"/>
                  <a:pt x="16076" y="12245"/>
                  <a:pt x="16034" y="12287"/>
                </a:cubicBezTo>
                <a:cubicBezTo>
                  <a:pt x="15986" y="12335"/>
                  <a:pt x="15956" y="12297"/>
                  <a:pt x="15938" y="12351"/>
                </a:cubicBezTo>
              </a:path>
              <a:path w="14543" h="3684">
                <a:moveTo>
                  <a:pt x="16256" y="12256"/>
                </a:moveTo>
                <a:cubicBezTo>
                  <a:pt x="16305" y="12219"/>
                  <a:pt x="16321" y="12224"/>
                  <a:pt x="16383" y="12224"/>
                </a:cubicBezTo>
                <a:cubicBezTo>
                  <a:pt x="16373" y="12262"/>
                  <a:pt x="16341" y="12320"/>
                  <a:pt x="16320" y="12351"/>
                </a:cubicBezTo>
                <a:cubicBezTo>
                  <a:pt x="16309" y="12361"/>
                  <a:pt x="16299" y="12372"/>
                  <a:pt x="16288" y="12382"/>
                </a:cubicBezTo>
                <a:cubicBezTo>
                  <a:pt x="16299" y="12416"/>
                  <a:pt x="16312" y="12441"/>
                  <a:pt x="16351" y="12446"/>
                </a:cubicBezTo>
                <a:cubicBezTo>
                  <a:pt x="16409" y="12453"/>
                  <a:pt x="16434" y="12447"/>
                  <a:pt x="16478" y="12414"/>
                </a:cubicBezTo>
              </a:path>
              <a:path w="14543" h="3684">
                <a:moveTo>
                  <a:pt x="16954" y="12128"/>
                </a:moveTo>
                <a:cubicBezTo>
                  <a:pt x="16954" y="12209"/>
                  <a:pt x="16939" y="12288"/>
                  <a:pt x="16986" y="12351"/>
                </a:cubicBezTo>
                <a:cubicBezTo>
                  <a:pt x="17032" y="12305"/>
                  <a:pt x="17044" y="12268"/>
                  <a:pt x="17082" y="12224"/>
                </a:cubicBezTo>
                <a:cubicBezTo>
                  <a:pt x="17110" y="12195"/>
                  <a:pt x="17120" y="12189"/>
                  <a:pt x="17113" y="12160"/>
                </a:cubicBezTo>
                <a:cubicBezTo>
                  <a:pt x="17113" y="12265"/>
                  <a:pt x="17106" y="12348"/>
                  <a:pt x="17082" y="12446"/>
                </a:cubicBezTo>
                <a:cubicBezTo>
                  <a:pt x="17072" y="12486"/>
                  <a:pt x="17078" y="12527"/>
                  <a:pt x="17050" y="12541"/>
                </a:cubicBezTo>
                <a:cubicBezTo>
                  <a:pt x="17009" y="12561"/>
                  <a:pt x="16958" y="12545"/>
                  <a:pt x="16954" y="12510"/>
                </a:cubicBezTo>
                <a:cubicBezTo>
                  <a:pt x="16954" y="12499"/>
                  <a:pt x="16954" y="12489"/>
                  <a:pt x="16954" y="12478"/>
                </a:cubicBezTo>
              </a:path>
              <a:path w="14543" h="3684">
                <a:moveTo>
                  <a:pt x="17208" y="12351"/>
                </a:moveTo>
                <a:cubicBezTo>
                  <a:pt x="17223" y="12395"/>
                  <a:pt x="17218" y="12382"/>
                  <a:pt x="17272" y="12382"/>
                </a:cubicBezTo>
                <a:cubicBezTo>
                  <a:pt x="17259" y="12432"/>
                  <a:pt x="17218" y="12459"/>
                  <a:pt x="17208" y="12478"/>
                </a:cubicBezTo>
                <a:cubicBezTo>
                  <a:pt x="17187" y="12519"/>
                  <a:pt x="17192" y="12497"/>
                  <a:pt x="17177" y="12541"/>
                </a:cubicBezTo>
                <a:cubicBezTo>
                  <a:pt x="17219" y="12541"/>
                  <a:pt x="17276" y="12585"/>
                  <a:pt x="17304" y="12573"/>
                </a:cubicBezTo>
                <a:cubicBezTo>
                  <a:pt x="17315" y="12562"/>
                  <a:pt x="17325" y="12552"/>
                  <a:pt x="17336" y="12541"/>
                </a:cubicBezTo>
              </a:path>
              <a:path w="14543" h="3684">
                <a:moveTo>
                  <a:pt x="8255" y="14796"/>
                </a:moveTo>
                <a:cubicBezTo>
                  <a:pt x="8266" y="14846"/>
                  <a:pt x="8281" y="14822"/>
                  <a:pt x="8287" y="14891"/>
                </a:cubicBezTo>
                <a:cubicBezTo>
                  <a:pt x="8306" y="15110"/>
                  <a:pt x="8269" y="15331"/>
                  <a:pt x="8350" y="15526"/>
                </a:cubicBezTo>
                <a:cubicBezTo>
                  <a:pt x="8368" y="15569"/>
                  <a:pt x="8372" y="15642"/>
                  <a:pt x="8414" y="15621"/>
                </a:cubicBezTo>
                <a:cubicBezTo>
                  <a:pt x="8452" y="15602"/>
                  <a:pt x="8431" y="15495"/>
                  <a:pt x="8446" y="15462"/>
                </a:cubicBezTo>
                <a:cubicBezTo>
                  <a:pt x="8477" y="15394"/>
                  <a:pt x="8494" y="15347"/>
                  <a:pt x="8509" y="15272"/>
                </a:cubicBezTo>
                <a:cubicBezTo>
                  <a:pt x="8527" y="15185"/>
                  <a:pt x="8545" y="15097"/>
                  <a:pt x="8572" y="15018"/>
                </a:cubicBezTo>
                <a:cubicBezTo>
                  <a:pt x="8593" y="14957"/>
                  <a:pt x="8648" y="14886"/>
                  <a:pt x="8668" y="14827"/>
                </a:cubicBezTo>
                <a:cubicBezTo>
                  <a:pt x="8688" y="14766"/>
                  <a:pt x="8685" y="14698"/>
                  <a:pt x="8700" y="14637"/>
                </a:cubicBezTo>
                <a:cubicBezTo>
                  <a:pt x="8710" y="14594"/>
                  <a:pt x="8718" y="14555"/>
                  <a:pt x="8731" y="14510"/>
                </a:cubicBezTo>
                <a:cubicBezTo>
                  <a:pt x="8743" y="14469"/>
                  <a:pt x="8734" y="14430"/>
                  <a:pt x="8763" y="14414"/>
                </a:cubicBezTo>
                <a:cubicBezTo>
                  <a:pt x="8852" y="14365"/>
                  <a:pt x="9210" y="14391"/>
                  <a:pt x="9303" y="14383"/>
                </a:cubicBezTo>
                <a:cubicBezTo>
                  <a:pt x="9364" y="14378"/>
                  <a:pt x="9414" y="14361"/>
                  <a:pt x="9462" y="14351"/>
                </a:cubicBezTo>
                <a:cubicBezTo>
                  <a:pt x="9504" y="14342"/>
                  <a:pt x="9589" y="14323"/>
                  <a:pt x="9620" y="14319"/>
                </a:cubicBezTo>
                <a:cubicBezTo>
                  <a:pt x="9803" y="14298"/>
                  <a:pt x="10024" y="14300"/>
                  <a:pt x="10192" y="14288"/>
                </a:cubicBezTo>
                <a:cubicBezTo>
                  <a:pt x="10297" y="14281"/>
                  <a:pt x="10412" y="14262"/>
                  <a:pt x="10509" y="14256"/>
                </a:cubicBezTo>
                <a:cubicBezTo>
                  <a:pt x="10694" y="14244"/>
                  <a:pt x="10875" y="14274"/>
                  <a:pt x="11049" y="14288"/>
                </a:cubicBezTo>
                <a:cubicBezTo>
                  <a:pt x="11277" y="14307"/>
                  <a:pt x="11527" y="14306"/>
                  <a:pt x="11748" y="14319"/>
                </a:cubicBezTo>
                <a:cubicBezTo>
                  <a:pt x="12085" y="14339"/>
                  <a:pt x="12436" y="14330"/>
                  <a:pt x="12764" y="14351"/>
                </a:cubicBezTo>
                <a:cubicBezTo>
                  <a:pt x="12985" y="14365"/>
                  <a:pt x="13218" y="14368"/>
                  <a:pt x="13430" y="14383"/>
                </a:cubicBezTo>
                <a:cubicBezTo>
                  <a:pt x="13624" y="14397"/>
                  <a:pt x="13819" y="14364"/>
                  <a:pt x="14002" y="14351"/>
                </a:cubicBezTo>
                <a:cubicBezTo>
                  <a:pt x="14244" y="14334"/>
                  <a:pt x="14498" y="14338"/>
                  <a:pt x="14732" y="14319"/>
                </a:cubicBezTo>
                <a:cubicBezTo>
                  <a:pt x="14847" y="14310"/>
                  <a:pt x="14974" y="14296"/>
                  <a:pt x="15081" y="14288"/>
                </a:cubicBezTo>
                <a:cubicBezTo>
                  <a:pt x="15155" y="14283"/>
                  <a:pt x="15230" y="14292"/>
                  <a:pt x="15304" y="142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Ink 8"/>
          <p:cNvSpPr/>
          <p:nvPr/>
        </p:nvSpPr>
        <p:spPr>
          <a:xfrm>
            <a:off x="4435560" y="4503600"/>
            <a:ext cx="136440" cy="114480"/>
          </a:xfrm>
          <a:custGeom>
            <a:avLst/>
            <a:gdLst/>
            <a:ahLst/>
            <a:rect l="l" t="t" r="r" b="b"/>
            <a:pathLst>
              <a:path w="382" h="318">
                <a:moveTo>
                  <a:pt x="12446" y="12605"/>
                </a:moveTo>
                <a:cubicBezTo>
                  <a:pt x="12459" y="12657"/>
                  <a:pt x="12497" y="12680"/>
                  <a:pt x="12510" y="12732"/>
                </a:cubicBezTo>
                <a:cubicBezTo>
                  <a:pt x="12552" y="12747"/>
                  <a:pt x="12552" y="12794"/>
                  <a:pt x="12573" y="12732"/>
                </a:cubicBezTo>
              </a:path>
              <a:path w="382" h="318">
                <a:moveTo>
                  <a:pt x="12573" y="12510"/>
                </a:moveTo>
                <a:cubicBezTo>
                  <a:pt x="12559" y="12565"/>
                  <a:pt x="12521" y="12593"/>
                  <a:pt x="12478" y="12636"/>
                </a:cubicBezTo>
                <a:cubicBezTo>
                  <a:pt x="12427" y="12686"/>
                  <a:pt x="12384" y="12748"/>
                  <a:pt x="12319" y="12764"/>
                </a:cubicBezTo>
              </a:path>
              <a:path w="382" h="318">
                <a:moveTo>
                  <a:pt x="12636" y="12605"/>
                </a:moveTo>
                <a:cubicBezTo>
                  <a:pt x="12673" y="12653"/>
                  <a:pt x="12668" y="12670"/>
                  <a:pt x="12668" y="12732"/>
                </a:cubicBezTo>
                <a:cubicBezTo>
                  <a:pt x="12668" y="12789"/>
                  <a:pt x="12652" y="12811"/>
                  <a:pt x="12700" y="128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Ink 9"/>
          <p:cNvSpPr/>
          <p:nvPr/>
        </p:nvSpPr>
        <p:spPr>
          <a:xfrm>
            <a:off x="4697280" y="4468680"/>
            <a:ext cx="114480" cy="184320"/>
          </a:xfrm>
          <a:custGeom>
            <a:avLst/>
            <a:gdLst/>
            <a:ahLst/>
            <a:rect l="l" t="t" r="r" b="b"/>
            <a:pathLst>
              <a:path w="319" h="509">
                <a:moveTo>
                  <a:pt x="13049" y="12446"/>
                </a:moveTo>
                <a:cubicBezTo>
                  <a:pt x="13049" y="12478"/>
                  <a:pt x="13049" y="12509"/>
                  <a:pt x="13049" y="12541"/>
                </a:cubicBezTo>
                <a:cubicBezTo>
                  <a:pt x="13094" y="12556"/>
                  <a:pt x="13081" y="12550"/>
                  <a:pt x="13081" y="12605"/>
                </a:cubicBezTo>
                <a:cubicBezTo>
                  <a:pt x="13150" y="12622"/>
                  <a:pt x="13139" y="12622"/>
                  <a:pt x="13208" y="12605"/>
                </a:cubicBezTo>
              </a:path>
              <a:path w="319" h="509">
                <a:moveTo>
                  <a:pt x="13272" y="12414"/>
                </a:moveTo>
                <a:cubicBezTo>
                  <a:pt x="13272" y="12474"/>
                  <a:pt x="13250" y="12495"/>
                  <a:pt x="13240" y="12541"/>
                </a:cubicBezTo>
                <a:cubicBezTo>
                  <a:pt x="13226" y="12606"/>
                  <a:pt x="13205" y="12703"/>
                  <a:pt x="13176" y="12764"/>
                </a:cubicBezTo>
                <a:cubicBezTo>
                  <a:pt x="13160" y="12798"/>
                  <a:pt x="13136" y="12827"/>
                  <a:pt x="13113" y="12859"/>
                </a:cubicBezTo>
              </a:path>
              <a:path w="319" h="509">
                <a:moveTo>
                  <a:pt x="13367" y="12636"/>
                </a:moveTo>
                <a:cubicBezTo>
                  <a:pt x="13367" y="12731"/>
                  <a:pt x="13367" y="12827"/>
                  <a:pt x="13367" y="129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Ink 10"/>
          <p:cNvSpPr/>
          <p:nvPr/>
        </p:nvSpPr>
        <p:spPr>
          <a:xfrm>
            <a:off x="789120" y="5668920"/>
            <a:ext cx="171360" cy="160560"/>
          </a:xfrm>
          <a:custGeom>
            <a:avLst/>
            <a:gdLst/>
            <a:ahLst/>
            <a:rect l="l" t="t" r="r" b="b"/>
            <a:pathLst>
              <a:path w="477" h="445">
                <a:moveTo>
                  <a:pt x="2191" y="15748"/>
                </a:moveTo>
                <a:cubicBezTo>
                  <a:pt x="2235" y="15793"/>
                  <a:pt x="2264" y="15824"/>
                  <a:pt x="2286" y="15875"/>
                </a:cubicBezTo>
                <a:cubicBezTo>
                  <a:pt x="2308" y="15925"/>
                  <a:pt x="2355" y="15995"/>
                  <a:pt x="2381" y="16034"/>
                </a:cubicBezTo>
                <a:cubicBezTo>
                  <a:pt x="2405" y="16070"/>
                  <a:pt x="2430" y="16140"/>
                  <a:pt x="2476" y="16161"/>
                </a:cubicBezTo>
                <a:cubicBezTo>
                  <a:pt x="2521" y="16181"/>
                  <a:pt x="2492" y="16177"/>
                  <a:pt x="2540" y="16192"/>
                </a:cubicBezTo>
                <a:cubicBezTo>
                  <a:pt x="2605" y="16171"/>
                  <a:pt x="2574" y="16128"/>
                  <a:pt x="2604" y="16066"/>
                </a:cubicBezTo>
                <a:cubicBezTo>
                  <a:pt x="2636" y="16002"/>
                  <a:pt x="2657" y="15983"/>
                  <a:pt x="2667" y="159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Ink 11"/>
          <p:cNvSpPr/>
          <p:nvPr/>
        </p:nvSpPr>
        <p:spPr>
          <a:xfrm>
            <a:off x="3246480" y="5018040"/>
            <a:ext cx="5143320" cy="800280"/>
          </a:xfrm>
          <a:custGeom>
            <a:avLst/>
            <a:gdLst/>
            <a:ahLst/>
            <a:rect l="l" t="t" r="r" b="b"/>
            <a:pathLst>
              <a:path w="14288" h="2224">
                <a:moveTo>
                  <a:pt x="9493" y="14573"/>
                </a:moveTo>
                <a:cubicBezTo>
                  <a:pt x="9445" y="14585"/>
                  <a:pt x="9405" y="14603"/>
                  <a:pt x="9366" y="14637"/>
                </a:cubicBezTo>
                <a:cubicBezTo>
                  <a:pt x="9292" y="14702"/>
                  <a:pt x="9245" y="14753"/>
                  <a:pt x="9176" y="14827"/>
                </a:cubicBezTo>
                <a:cubicBezTo>
                  <a:pt x="9089" y="14921"/>
                  <a:pt x="9074" y="14958"/>
                  <a:pt x="9049" y="15081"/>
                </a:cubicBezTo>
                <a:cubicBezTo>
                  <a:pt x="9021" y="15216"/>
                  <a:pt x="9017" y="15324"/>
                  <a:pt x="9017" y="15462"/>
                </a:cubicBezTo>
                <a:cubicBezTo>
                  <a:pt x="9017" y="15580"/>
                  <a:pt x="9028" y="15643"/>
                  <a:pt x="9080" y="15748"/>
                </a:cubicBezTo>
                <a:cubicBezTo>
                  <a:pt x="9113" y="15814"/>
                  <a:pt x="9151" y="15837"/>
                  <a:pt x="9176" y="15875"/>
                </a:cubicBezTo>
                <a:cubicBezTo>
                  <a:pt x="9176" y="15907"/>
                  <a:pt x="9176" y="15918"/>
                  <a:pt x="9176" y="15875"/>
                </a:cubicBezTo>
              </a:path>
              <a:path w="14288" h="2224">
                <a:moveTo>
                  <a:pt x="9430" y="15208"/>
                </a:moveTo>
                <a:cubicBezTo>
                  <a:pt x="9441" y="15208"/>
                  <a:pt x="9451" y="15208"/>
                  <a:pt x="9462" y="15208"/>
                </a:cubicBezTo>
                <a:cubicBezTo>
                  <a:pt x="9476" y="15122"/>
                  <a:pt x="9473" y="15145"/>
                  <a:pt x="9557" y="15145"/>
                </a:cubicBezTo>
                <a:cubicBezTo>
                  <a:pt x="9588" y="15145"/>
                  <a:pt x="9599" y="15145"/>
                  <a:pt x="9620" y="15145"/>
                </a:cubicBezTo>
              </a:path>
              <a:path w="14288" h="2224">
                <a:moveTo>
                  <a:pt x="10001" y="14827"/>
                </a:moveTo>
                <a:cubicBezTo>
                  <a:pt x="10001" y="14899"/>
                  <a:pt x="9989" y="14927"/>
                  <a:pt x="9970" y="14986"/>
                </a:cubicBezTo>
                <a:cubicBezTo>
                  <a:pt x="9947" y="15056"/>
                  <a:pt x="9929" y="15140"/>
                  <a:pt x="9906" y="15208"/>
                </a:cubicBezTo>
                <a:cubicBezTo>
                  <a:pt x="9873" y="15308"/>
                  <a:pt x="9799" y="15388"/>
                  <a:pt x="9779" y="15494"/>
                </a:cubicBezTo>
                <a:cubicBezTo>
                  <a:pt x="9773" y="15524"/>
                  <a:pt x="9719" y="15657"/>
                  <a:pt x="9747" y="15684"/>
                </a:cubicBezTo>
                <a:cubicBezTo>
                  <a:pt x="9758" y="15684"/>
                  <a:pt x="9768" y="15684"/>
                  <a:pt x="9779" y="15684"/>
                </a:cubicBezTo>
              </a:path>
              <a:path w="14288" h="2224">
                <a:moveTo>
                  <a:pt x="10033" y="15558"/>
                </a:moveTo>
                <a:cubicBezTo>
                  <a:pt x="10033" y="15594"/>
                  <a:pt x="10036" y="15601"/>
                  <a:pt x="10065" y="15558"/>
                </a:cubicBezTo>
              </a:path>
              <a:path w="14288" h="2224">
                <a:moveTo>
                  <a:pt x="10636" y="14922"/>
                </a:moveTo>
                <a:cubicBezTo>
                  <a:pt x="10546" y="14922"/>
                  <a:pt x="10489" y="14929"/>
                  <a:pt x="10414" y="14954"/>
                </a:cubicBezTo>
                <a:cubicBezTo>
                  <a:pt x="10360" y="14972"/>
                  <a:pt x="10312" y="15038"/>
                  <a:pt x="10287" y="15050"/>
                </a:cubicBezTo>
                <a:cubicBezTo>
                  <a:pt x="10255" y="15050"/>
                  <a:pt x="10245" y="15050"/>
                  <a:pt x="10255" y="15081"/>
                </a:cubicBezTo>
                <a:cubicBezTo>
                  <a:pt x="10259" y="15092"/>
                  <a:pt x="10276" y="15192"/>
                  <a:pt x="10287" y="15208"/>
                </a:cubicBezTo>
                <a:cubicBezTo>
                  <a:pt x="10327" y="15263"/>
                  <a:pt x="10414" y="15218"/>
                  <a:pt x="10478" y="15240"/>
                </a:cubicBezTo>
                <a:cubicBezTo>
                  <a:pt x="10516" y="15253"/>
                  <a:pt x="10559" y="15243"/>
                  <a:pt x="10573" y="15272"/>
                </a:cubicBezTo>
                <a:cubicBezTo>
                  <a:pt x="10577" y="15280"/>
                  <a:pt x="10597" y="15361"/>
                  <a:pt x="10604" y="15367"/>
                </a:cubicBezTo>
                <a:cubicBezTo>
                  <a:pt x="10644" y="15399"/>
                  <a:pt x="10636" y="15417"/>
                  <a:pt x="10636" y="15494"/>
                </a:cubicBezTo>
                <a:cubicBezTo>
                  <a:pt x="10636" y="15550"/>
                  <a:pt x="10588" y="15573"/>
                  <a:pt x="10573" y="15621"/>
                </a:cubicBezTo>
                <a:cubicBezTo>
                  <a:pt x="10552" y="15686"/>
                  <a:pt x="10526" y="15683"/>
                  <a:pt x="10478" y="15716"/>
                </a:cubicBezTo>
                <a:cubicBezTo>
                  <a:pt x="10427" y="15750"/>
                  <a:pt x="10414" y="15748"/>
                  <a:pt x="10350" y="15748"/>
                </a:cubicBezTo>
                <a:cubicBezTo>
                  <a:pt x="10330" y="15748"/>
                  <a:pt x="10273" y="15711"/>
                  <a:pt x="10287" y="15684"/>
                </a:cubicBezTo>
                <a:cubicBezTo>
                  <a:pt x="10298" y="15674"/>
                  <a:pt x="10308" y="15663"/>
                  <a:pt x="10319" y="15653"/>
                </a:cubicBezTo>
              </a:path>
              <a:path w="14288" h="2224">
                <a:moveTo>
                  <a:pt x="11017" y="15240"/>
                </a:moveTo>
                <a:cubicBezTo>
                  <a:pt x="11017" y="15313"/>
                  <a:pt x="10997" y="15372"/>
                  <a:pt x="10986" y="15430"/>
                </a:cubicBezTo>
                <a:cubicBezTo>
                  <a:pt x="10967" y="15528"/>
                  <a:pt x="10986" y="15647"/>
                  <a:pt x="10986" y="15748"/>
                </a:cubicBezTo>
              </a:path>
              <a:path w="14288" h="2224">
                <a:moveTo>
                  <a:pt x="10858" y="15367"/>
                </a:moveTo>
                <a:cubicBezTo>
                  <a:pt x="10848" y="15367"/>
                  <a:pt x="10837" y="15367"/>
                  <a:pt x="10827" y="15367"/>
                </a:cubicBezTo>
                <a:cubicBezTo>
                  <a:pt x="10871" y="15401"/>
                  <a:pt x="10928" y="15443"/>
                  <a:pt x="10986" y="15462"/>
                </a:cubicBezTo>
                <a:cubicBezTo>
                  <a:pt x="11075" y="15492"/>
                  <a:pt x="11089" y="15499"/>
                  <a:pt x="11176" y="15462"/>
                </a:cubicBezTo>
              </a:path>
              <a:path w="14288" h="2224">
                <a:moveTo>
                  <a:pt x="11589" y="15050"/>
                </a:moveTo>
                <a:cubicBezTo>
                  <a:pt x="11672" y="15050"/>
                  <a:pt x="11539" y="15050"/>
                  <a:pt x="11525" y="15050"/>
                </a:cubicBezTo>
                <a:cubicBezTo>
                  <a:pt x="11451" y="15050"/>
                  <a:pt x="11368" y="15147"/>
                  <a:pt x="11335" y="15081"/>
                </a:cubicBezTo>
                <a:cubicBezTo>
                  <a:pt x="11326" y="15063"/>
                  <a:pt x="11319" y="15080"/>
                  <a:pt x="11303" y="15113"/>
                </a:cubicBezTo>
                <a:cubicBezTo>
                  <a:pt x="11280" y="15158"/>
                  <a:pt x="11271" y="15218"/>
                  <a:pt x="11271" y="15272"/>
                </a:cubicBezTo>
                <a:cubicBezTo>
                  <a:pt x="11271" y="15316"/>
                  <a:pt x="11254" y="15375"/>
                  <a:pt x="11303" y="15399"/>
                </a:cubicBezTo>
                <a:cubicBezTo>
                  <a:pt x="11359" y="15427"/>
                  <a:pt x="11422" y="15380"/>
                  <a:pt x="11462" y="15367"/>
                </a:cubicBezTo>
                <a:cubicBezTo>
                  <a:pt x="11520" y="15348"/>
                  <a:pt x="11580" y="15364"/>
                  <a:pt x="11620" y="15399"/>
                </a:cubicBezTo>
                <a:cubicBezTo>
                  <a:pt x="11673" y="15446"/>
                  <a:pt x="11684" y="15492"/>
                  <a:pt x="11684" y="15558"/>
                </a:cubicBezTo>
                <a:cubicBezTo>
                  <a:pt x="11684" y="15615"/>
                  <a:pt x="11655" y="15676"/>
                  <a:pt x="11620" y="15716"/>
                </a:cubicBezTo>
                <a:cubicBezTo>
                  <a:pt x="11584" y="15758"/>
                  <a:pt x="11548" y="15806"/>
                  <a:pt x="11494" y="15812"/>
                </a:cubicBezTo>
                <a:cubicBezTo>
                  <a:pt x="11441" y="15818"/>
                  <a:pt x="11401" y="15762"/>
                  <a:pt x="11398" y="15716"/>
                </a:cubicBezTo>
                <a:cubicBezTo>
                  <a:pt x="11398" y="15695"/>
                  <a:pt x="11398" y="15674"/>
                  <a:pt x="11398" y="15653"/>
                </a:cubicBezTo>
              </a:path>
              <a:path w="14288" h="2224">
                <a:moveTo>
                  <a:pt x="11716" y="14542"/>
                </a:moveTo>
                <a:cubicBezTo>
                  <a:pt x="11731" y="14647"/>
                  <a:pt x="11796" y="14694"/>
                  <a:pt x="11843" y="14796"/>
                </a:cubicBezTo>
                <a:cubicBezTo>
                  <a:pt x="11902" y="14924"/>
                  <a:pt x="11954" y="15101"/>
                  <a:pt x="11970" y="15240"/>
                </a:cubicBezTo>
                <a:cubicBezTo>
                  <a:pt x="11984" y="15364"/>
                  <a:pt x="11968" y="15504"/>
                  <a:pt x="11938" y="15621"/>
                </a:cubicBezTo>
                <a:cubicBezTo>
                  <a:pt x="11922" y="15685"/>
                  <a:pt x="11831" y="15826"/>
                  <a:pt x="11779" y="15875"/>
                </a:cubicBezTo>
                <a:cubicBezTo>
                  <a:pt x="11731" y="15920"/>
                  <a:pt x="11669" y="15952"/>
                  <a:pt x="11620" y="16002"/>
                </a:cubicBezTo>
                <a:cubicBezTo>
                  <a:pt x="11610" y="16013"/>
                  <a:pt x="11599" y="16023"/>
                  <a:pt x="11589" y="16034"/>
                </a:cubicBezTo>
              </a:path>
              <a:path w="14288" h="2224">
                <a:moveTo>
                  <a:pt x="12065" y="14732"/>
                </a:moveTo>
                <a:cubicBezTo>
                  <a:pt x="12065" y="14677"/>
                  <a:pt x="12071" y="14656"/>
                  <a:pt x="12128" y="14637"/>
                </a:cubicBezTo>
                <a:cubicBezTo>
                  <a:pt x="12165" y="14625"/>
                  <a:pt x="12229" y="14680"/>
                  <a:pt x="12256" y="14700"/>
                </a:cubicBezTo>
                <a:cubicBezTo>
                  <a:pt x="12212" y="14759"/>
                  <a:pt x="12219" y="14800"/>
                  <a:pt x="12160" y="14859"/>
                </a:cubicBezTo>
                <a:cubicBezTo>
                  <a:pt x="12114" y="14905"/>
                  <a:pt x="12146" y="14906"/>
                  <a:pt x="12097" y="14922"/>
                </a:cubicBezTo>
                <a:cubicBezTo>
                  <a:pt x="12145" y="14959"/>
                  <a:pt x="12162" y="14954"/>
                  <a:pt x="12224" y="14954"/>
                </a:cubicBezTo>
                <a:cubicBezTo>
                  <a:pt x="12266" y="14954"/>
                  <a:pt x="12309" y="14954"/>
                  <a:pt x="12351" y="14954"/>
                </a:cubicBezTo>
              </a:path>
              <a:path w="14288" h="2224">
                <a:moveTo>
                  <a:pt x="12890" y="14891"/>
                </a:moveTo>
                <a:cubicBezTo>
                  <a:pt x="12839" y="14908"/>
                  <a:pt x="12859" y="14954"/>
                  <a:pt x="12859" y="15018"/>
                </a:cubicBezTo>
                <a:cubicBezTo>
                  <a:pt x="12859" y="15108"/>
                  <a:pt x="12832" y="15183"/>
                  <a:pt x="12827" y="15272"/>
                </a:cubicBezTo>
                <a:cubicBezTo>
                  <a:pt x="12823" y="15345"/>
                  <a:pt x="12858" y="15505"/>
                  <a:pt x="12795" y="15526"/>
                </a:cubicBezTo>
              </a:path>
              <a:path w="14288" h="2224">
                <a:moveTo>
                  <a:pt x="12668" y="15113"/>
                </a:moveTo>
                <a:cubicBezTo>
                  <a:pt x="12681" y="15176"/>
                  <a:pt x="12706" y="15234"/>
                  <a:pt x="12764" y="15272"/>
                </a:cubicBezTo>
                <a:cubicBezTo>
                  <a:pt x="12840" y="15322"/>
                  <a:pt x="12911" y="15340"/>
                  <a:pt x="12986" y="15367"/>
                </a:cubicBezTo>
                <a:cubicBezTo>
                  <a:pt x="13007" y="15378"/>
                  <a:pt x="13028" y="15388"/>
                  <a:pt x="13049" y="15399"/>
                </a:cubicBezTo>
              </a:path>
              <a:path w="14288" h="2224">
                <a:moveTo>
                  <a:pt x="13875" y="14668"/>
                </a:moveTo>
                <a:cubicBezTo>
                  <a:pt x="13822" y="14681"/>
                  <a:pt x="13795" y="14705"/>
                  <a:pt x="13748" y="14732"/>
                </a:cubicBezTo>
                <a:cubicBezTo>
                  <a:pt x="13658" y="14784"/>
                  <a:pt x="13637" y="14778"/>
                  <a:pt x="13557" y="14859"/>
                </a:cubicBezTo>
                <a:cubicBezTo>
                  <a:pt x="13498" y="14919"/>
                  <a:pt x="13468" y="15006"/>
                  <a:pt x="13430" y="15081"/>
                </a:cubicBezTo>
                <a:cubicBezTo>
                  <a:pt x="13371" y="15199"/>
                  <a:pt x="13367" y="15302"/>
                  <a:pt x="13367" y="15430"/>
                </a:cubicBezTo>
                <a:cubicBezTo>
                  <a:pt x="13367" y="15526"/>
                  <a:pt x="13346" y="15631"/>
                  <a:pt x="13398" y="15716"/>
                </a:cubicBezTo>
                <a:cubicBezTo>
                  <a:pt x="13413" y="15741"/>
                  <a:pt x="13472" y="15832"/>
                  <a:pt x="13494" y="15843"/>
                </a:cubicBezTo>
                <a:cubicBezTo>
                  <a:pt x="13530" y="15843"/>
                  <a:pt x="13543" y="15840"/>
                  <a:pt x="13557" y="15812"/>
                </a:cubicBezTo>
              </a:path>
              <a:path w="14288" h="2224">
                <a:moveTo>
                  <a:pt x="13716" y="15208"/>
                </a:moveTo>
                <a:cubicBezTo>
                  <a:pt x="13766" y="15220"/>
                  <a:pt x="13786" y="15240"/>
                  <a:pt x="13843" y="15240"/>
                </a:cubicBezTo>
                <a:cubicBezTo>
                  <a:pt x="13875" y="15240"/>
                  <a:pt x="13906" y="15240"/>
                  <a:pt x="13938" y="15240"/>
                </a:cubicBezTo>
              </a:path>
              <a:path w="14288" h="2224">
                <a:moveTo>
                  <a:pt x="14192" y="14954"/>
                </a:moveTo>
                <a:cubicBezTo>
                  <a:pt x="14176" y="15018"/>
                  <a:pt x="14153" y="15076"/>
                  <a:pt x="14129" y="15145"/>
                </a:cubicBezTo>
                <a:cubicBezTo>
                  <a:pt x="14092" y="15253"/>
                  <a:pt x="14074" y="15357"/>
                  <a:pt x="14034" y="15462"/>
                </a:cubicBezTo>
                <a:cubicBezTo>
                  <a:pt x="14008" y="15531"/>
                  <a:pt x="13975" y="15611"/>
                  <a:pt x="13970" y="15684"/>
                </a:cubicBezTo>
                <a:cubicBezTo>
                  <a:pt x="13970" y="15705"/>
                  <a:pt x="13970" y="15727"/>
                  <a:pt x="13970" y="15748"/>
                </a:cubicBezTo>
              </a:path>
              <a:path w="14288" h="2224">
                <a:moveTo>
                  <a:pt x="14446" y="15399"/>
                </a:moveTo>
                <a:cubicBezTo>
                  <a:pt x="14446" y="15388"/>
                  <a:pt x="14446" y="15378"/>
                  <a:pt x="14446" y="15367"/>
                </a:cubicBezTo>
                <a:cubicBezTo>
                  <a:pt x="14521" y="15367"/>
                  <a:pt x="14579" y="15355"/>
                  <a:pt x="14637" y="15399"/>
                </a:cubicBezTo>
                <a:cubicBezTo>
                  <a:pt x="14665" y="15370"/>
                  <a:pt x="14671" y="15359"/>
                  <a:pt x="14700" y="15367"/>
                </a:cubicBezTo>
              </a:path>
              <a:path w="14288" h="2224">
                <a:moveTo>
                  <a:pt x="14891" y="14954"/>
                </a:moveTo>
                <a:cubicBezTo>
                  <a:pt x="14891" y="15078"/>
                  <a:pt x="14884" y="15187"/>
                  <a:pt x="14859" y="15304"/>
                </a:cubicBezTo>
                <a:cubicBezTo>
                  <a:pt x="14844" y="15373"/>
                  <a:pt x="14856" y="15462"/>
                  <a:pt x="14827" y="15526"/>
                </a:cubicBezTo>
                <a:cubicBezTo>
                  <a:pt x="14799" y="15555"/>
                  <a:pt x="14789" y="15561"/>
                  <a:pt x="14796" y="15589"/>
                </a:cubicBezTo>
              </a:path>
              <a:path w="14288" h="2224">
                <a:moveTo>
                  <a:pt x="15113" y="14573"/>
                </a:moveTo>
                <a:cubicBezTo>
                  <a:pt x="15129" y="14636"/>
                  <a:pt x="15147" y="14698"/>
                  <a:pt x="15176" y="14764"/>
                </a:cubicBezTo>
                <a:cubicBezTo>
                  <a:pt x="15214" y="14849"/>
                  <a:pt x="15231" y="14987"/>
                  <a:pt x="15240" y="15081"/>
                </a:cubicBezTo>
                <a:cubicBezTo>
                  <a:pt x="15256" y="15245"/>
                  <a:pt x="15227" y="15405"/>
                  <a:pt x="15208" y="15558"/>
                </a:cubicBezTo>
                <a:cubicBezTo>
                  <a:pt x="15196" y="15651"/>
                  <a:pt x="15180" y="15726"/>
                  <a:pt x="15145" y="15812"/>
                </a:cubicBezTo>
                <a:cubicBezTo>
                  <a:pt x="15139" y="15826"/>
                  <a:pt x="15059" y="15979"/>
                  <a:pt x="15018" y="15938"/>
                </a:cubicBezTo>
                <a:cubicBezTo>
                  <a:pt x="15018" y="15928"/>
                  <a:pt x="15018" y="15917"/>
                  <a:pt x="15018" y="15907"/>
                </a:cubicBezTo>
              </a:path>
              <a:path w="14288" h="2224">
                <a:moveTo>
                  <a:pt x="15399" y="14637"/>
                </a:moveTo>
                <a:cubicBezTo>
                  <a:pt x="15483" y="14637"/>
                  <a:pt x="15546" y="14647"/>
                  <a:pt x="15589" y="14668"/>
                </a:cubicBezTo>
                <a:cubicBezTo>
                  <a:pt x="15600" y="14668"/>
                  <a:pt x="15610" y="14668"/>
                  <a:pt x="15621" y="14668"/>
                </a:cubicBezTo>
                <a:cubicBezTo>
                  <a:pt x="15586" y="14715"/>
                  <a:pt x="15572" y="14751"/>
                  <a:pt x="15526" y="14796"/>
                </a:cubicBezTo>
                <a:cubicBezTo>
                  <a:pt x="15479" y="14842"/>
                  <a:pt x="15406" y="14889"/>
                  <a:pt x="15399" y="14954"/>
                </a:cubicBezTo>
                <a:cubicBezTo>
                  <a:pt x="15399" y="14986"/>
                  <a:pt x="15399" y="14997"/>
                  <a:pt x="15399" y="15018"/>
                </a:cubicBezTo>
                <a:cubicBezTo>
                  <a:pt x="15449" y="15005"/>
                  <a:pt x="15469" y="14986"/>
                  <a:pt x="15526" y="14986"/>
                </a:cubicBezTo>
                <a:cubicBezTo>
                  <a:pt x="15591" y="14986"/>
                  <a:pt x="15594" y="15005"/>
                  <a:pt x="15621" y="15018"/>
                </a:cubicBezTo>
                <a:cubicBezTo>
                  <a:pt x="15653" y="15018"/>
                  <a:pt x="15663" y="15018"/>
                  <a:pt x="15684" y="15018"/>
                </a:cubicBezTo>
              </a:path>
              <a:path w="14288" h="2224">
                <a:moveTo>
                  <a:pt x="16224" y="15240"/>
                </a:moveTo>
                <a:cubicBezTo>
                  <a:pt x="16235" y="15240"/>
                  <a:pt x="16245" y="15240"/>
                  <a:pt x="16256" y="15240"/>
                </a:cubicBezTo>
                <a:cubicBezTo>
                  <a:pt x="16267" y="15206"/>
                  <a:pt x="16302" y="15156"/>
                  <a:pt x="16351" y="15145"/>
                </a:cubicBezTo>
                <a:cubicBezTo>
                  <a:pt x="16451" y="15123"/>
                  <a:pt x="16441" y="15193"/>
                  <a:pt x="16510" y="15208"/>
                </a:cubicBezTo>
                <a:cubicBezTo>
                  <a:pt x="16546" y="15208"/>
                  <a:pt x="16560" y="15211"/>
                  <a:pt x="16574" y="15240"/>
                </a:cubicBezTo>
              </a:path>
              <a:path w="14288" h="2224">
                <a:moveTo>
                  <a:pt x="16224" y="15621"/>
                </a:moveTo>
                <a:cubicBezTo>
                  <a:pt x="16292" y="15621"/>
                  <a:pt x="16314" y="15595"/>
                  <a:pt x="16383" y="15589"/>
                </a:cubicBezTo>
                <a:cubicBezTo>
                  <a:pt x="16476" y="15581"/>
                  <a:pt x="16552" y="15589"/>
                  <a:pt x="16637" y="15621"/>
                </a:cubicBezTo>
              </a:path>
              <a:path w="14288" h="2224">
                <a:moveTo>
                  <a:pt x="17208" y="15462"/>
                </a:moveTo>
                <a:cubicBezTo>
                  <a:pt x="17214" y="15527"/>
                  <a:pt x="17233" y="15566"/>
                  <a:pt x="17240" y="15621"/>
                </a:cubicBezTo>
                <a:cubicBezTo>
                  <a:pt x="17253" y="15721"/>
                  <a:pt x="17265" y="15717"/>
                  <a:pt x="17304" y="15812"/>
                </a:cubicBezTo>
                <a:cubicBezTo>
                  <a:pt x="17328" y="15871"/>
                  <a:pt x="17336" y="15979"/>
                  <a:pt x="17367" y="16034"/>
                </a:cubicBezTo>
                <a:cubicBezTo>
                  <a:pt x="17394" y="16082"/>
                  <a:pt x="17434" y="16116"/>
                  <a:pt x="17462" y="16161"/>
                </a:cubicBezTo>
                <a:cubicBezTo>
                  <a:pt x="17455" y="16031"/>
                  <a:pt x="17436" y="15908"/>
                  <a:pt x="17431" y="15780"/>
                </a:cubicBezTo>
                <a:cubicBezTo>
                  <a:pt x="17426" y="15648"/>
                  <a:pt x="17379" y="15528"/>
                  <a:pt x="17367" y="15399"/>
                </a:cubicBezTo>
                <a:cubicBezTo>
                  <a:pt x="17353" y="15250"/>
                  <a:pt x="17352" y="15100"/>
                  <a:pt x="17336" y="14954"/>
                </a:cubicBezTo>
                <a:cubicBezTo>
                  <a:pt x="17324" y="14846"/>
                  <a:pt x="17358" y="14765"/>
                  <a:pt x="17367" y="14668"/>
                </a:cubicBezTo>
                <a:cubicBezTo>
                  <a:pt x="17375" y="14577"/>
                  <a:pt x="17375" y="14555"/>
                  <a:pt x="17431" y="14478"/>
                </a:cubicBezTo>
                <a:cubicBezTo>
                  <a:pt x="17452" y="14448"/>
                  <a:pt x="17509" y="14394"/>
                  <a:pt x="17558" y="14383"/>
                </a:cubicBezTo>
                <a:cubicBezTo>
                  <a:pt x="17608" y="14372"/>
                  <a:pt x="17701" y="14356"/>
                  <a:pt x="17748" y="14351"/>
                </a:cubicBezTo>
                <a:cubicBezTo>
                  <a:pt x="17890" y="14335"/>
                  <a:pt x="18025" y="14345"/>
                  <a:pt x="18161" y="14319"/>
                </a:cubicBezTo>
                <a:cubicBezTo>
                  <a:pt x="18266" y="14299"/>
                  <a:pt x="18376" y="14281"/>
                  <a:pt x="18478" y="14256"/>
                </a:cubicBezTo>
                <a:cubicBezTo>
                  <a:pt x="18608" y="14225"/>
                  <a:pt x="18693" y="14159"/>
                  <a:pt x="18828" y="14129"/>
                </a:cubicBezTo>
                <a:cubicBezTo>
                  <a:pt x="18992" y="14093"/>
                  <a:pt x="19140" y="14029"/>
                  <a:pt x="19304" y="14002"/>
                </a:cubicBezTo>
                <a:cubicBezTo>
                  <a:pt x="19401" y="13986"/>
                  <a:pt x="19490" y="13973"/>
                  <a:pt x="19590" y="13970"/>
                </a:cubicBezTo>
                <a:cubicBezTo>
                  <a:pt x="19658" y="13968"/>
                  <a:pt x="19691" y="13950"/>
                  <a:pt x="19748" y="13938"/>
                </a:cubicBezTo>
                <a:cubicBezTo>
                  <a:pt x="19759" y="13938"/>
                  <a:pt x="19769" y="13938"/>
                  <a:pt x="19780" y="13938"/>
                </a:cubicBezTo>
              </a:path>
              <a:path w="14288" h="2224">
                <a:moveTo>
                  <a:pt x="17939" y="14764"/>
                </a:moveTo>
                <a:cubicBezTo>
                  <a:pt x="17914" y="14776"/>
                  <a:pt x="17939" y="14847"/>
                  <a:pt x="17939" y="14922"/>
                </a:cubicBezTo>
                <a:cubicBezTo>
                  <a:pt x="17939" y="15194"/>
                  <a:pt x="17967" y="15488"/>
                  <a:pt x="17907" y="15748"/>
                </a:cubicBezTo>
                <a:cubicBezTo>
                  <a:pt x="17907" y="15780"/>
                  <a:pt x="17907" y="15791"/>
                  <a:pt x="17907" y="15812"/>
                </a:cubicBezTo>
              </a:path>
              <a:path w="14288" h="2224">
                <a:moveTo>
                  <a:pt x="18288" y="14764"/>
                </a:moveTo>
                <a:cubicBezTo>
                  <a:pt x="18248" y="14830"/>
                  <a:pt x="18237" y="14938"/>
                  <a:pt x="18224" y="15018"/>
                </a:cubicBezTo>
                <a:cubicBezTo>
                  <a:pt x="18191" y="15224"/>
                  <a:pt x="18194" y="15562"/>
                  <a:pt x="18256" y="15748"/>
                </a:cubicBezTo>
                <a:cubicBezTo>
                  <a:pt x="18273" y="15799"/>
                  <a:pt x="18271" y="15761"/>
                  <a:pt x="18288" y="15812"/>
                </a:cubicBezTo>
                <a:cubicBezTo>
                  <a:pt x="18335" y="15777"/>
                  <a:pt x="18369" y="15762"/>
                  <a:pt x="18415" y="15716"/>
                </a:cubicBezTo>
                <a:cubicBezTo>
                  <a:pt x="18477" y="15653"/>
                  <a:pt x="18505" y="15579"/>
                  <a:pt x="18510" y="15494"/>
                </a:cubicBezTo>
                <a:cubicBezTo>
                  <a:pt x="18515" y="15412"/>
                  <a:pt x="18542" y="15356"/>
                  <a:pt x="18542" y="15272"/>
                </a:cubicBezTo>
                <a:cubicBezTo>
                  <a:pt x="18542" y="15221"/>
                  <a:pt x="18503" y="15161"/>
                  <a:pt x="18478" y="15145"/>
                </a:cubicBezTo>
                <a:cubicBezTo>
                  <a:pt x="18452" y="15207"/>
                  <a:pt x="18441" y="15283"/>
                  <a:pt x="18415" y="15335"/>
                </a:cubicBezTo>
                <a:cubicBezTo>
                  <a:pt x="18385" y="15395"/>
                  <a:pt x="18357" y="15484"/>
                  <a:pt x="18352" y="15558"/>
                </a:cubicBezTo>
                <a:cubicBezTo>
                  <a:pt x="18348" y="15621"/>
                  <a:pt x="18333" y="15731"/>
                  <a:pt x="18383" y="15748"/>
                </a:cubicBezTo>
              </a:path>
              <a:path w="14288" h="2224">
                <a:moveTo>
                  <a:pt x="18764" y="15399"/>
                </a:moveTo>
                <a:cubicBezTo>
                  <a:pt x="18764" y="15430"/>
                  <a:pt x="18764" y="15441"/>
                  <a:pt x="18764" y="15462"/>
                </a:cubicBezTo>
              </a:path>
              <a:path w="14288" h="2224">
                <a:moveTo>
                  <a:pt x="18923" y="14764"/>
                </a:moveTo>
                <a:cubicBezTo>
                  <a:pt x="18923" y="14669"/>
                  <a:pt x="18954" y="14677"/>
                  <a:pt x="18986" y="14605"/>
                </a:cubicBezTo>
                <a:cubicBezTo>
                  <a:pt x="19007" y="14556"/>
                  <a:pt x="19017" y="14517"/>
                  <a:pt x="19082" y="14510"/>
                </a:cubicBezTo>
                <a:cubicBezTo>
                  <a:pt x="19148" y="14503"/>
                  <a:pt x="19174" y="14583"/>
                  <a:pt x="19177" y="14637"/>
                </a:cubicBezTo>
                <a:cubicBezTo>
                  <a:pt x="19184" y="14773"/>
                  <a:pt x="19159" y="14889"/>
                  <a:pt x="19145" y="15018"/>
                </a:cubicBezTo>
                <a:cubicBezTo>
                  <a:pt x="19133" y="15126"/>
                  <a:pt x="19142" y="15263"/>
                  <a:pt x="19114" y="15367"/>
                </a:cubicBezTo>
                <a:cubicBezTo>
                  <a:pt x="19099" y="15424"/>
                  <a:pt x="19080" y="15514"/>
                  <a:pt x="19050" y="15558"/>
                </a:cubicBezTo>
                <a:cubicBezTo>
                  <a:pt x="19039" y="15568"/>
                  <a:pt x="19029" y="15579"/>
                  <a:pt x="19018" y="15589"/>
                </a:cubicBezTo>
                <a:cubicBezTo>
                  <a:pt x="19031" y="15537"/>
                  <a:pt x="19055" y="15501"/>
                  <a:pt x="19114" y="15494"/>
                </a:cubicBezTo>
                <a:cubicBezTo>
                  <a:pt x="19186" y="15486"/>
                  <a:pt x="19211" y="15511"/>
                  <a:pt x="19240" y="15526"/>
                </a:cubicBezTo>
                <a:cubicBezTo>
                  <a:pt x="19251" y="15526"/>
                  <a:pt x="19261" y="15526"/>
                  <a:pt x="19272" y="15526"/>
                </a:cubicBezTo>
                <a:cubicBezTo>
                  <a:pt x="19313" y="15512"/>
                  <a:pt x="19322" y="15503"/>
                  <a:pt x="19336" y="15462"/>
                </a:cubicBezTo>
              </a:path>
              <a:path w="14288" h="2224">
                <a:moveTo>
                  <a:pt x="19590" y="14288"/>
                </a:moveTo>
                <a:cubicBezTo>
                  <a:pt x="19582" y="14321"/>
                  <a:pt x="19563" y="14396"/>
                  <a:pt x="19526" y="14414"/>
                </a:cubicBezTo>
                <a:cubicBezTo>
                  <a:pt x="19476" y="14438"/>
                  <a:pt x="19420" y="14492"/>
                  <a:pt x="19368" y="14510"/>
                </a:cubicBezTo>
                <a:cubicBezTo>
                  <a:pt x="19336" y="14510"/>
                  <a:pt x="19325" y="14510"/>
                  <a:pt x="19304" y="14510"/>
                </a:cubicBezTo>
                <a:cubicBezTo>
                  <a:pt x="19304" y="14582"/>
                  <a:pt x="19316" y="14610"/>
                  <a:pt x="19336" y="14668"/>
                </a:cubicBezTo>
                <a:cubicBezTo>
                  <a:pt x="19353" y="14719"/>
                  <a:pt x="19352" y="14780"/>
                  <a:pt x="19368" y="14827"/>
                </a:cubicBezTo>
                <a:cubicBezTo>
                  <a:pt x="19385" y="14877"/>
                  <a:pt x="19377" y="14877"/>
                  <a:pt x="19431" y="14891"/>
                </a:cubicBezTo>
                <a:cubicBezTo>
                  <a:pt x="19431" y="14837"/>
                  <a:pt x="19444" y="14808"/>
                  <a:pt x="19463" y="14764"/>
                </a:cubicBezTo>
                <a:cubicBezTo>
                  <a:pt x="19495" y="14688"/>
                  <a:pt x="19529" y="14680"/>
                  <a:pt x="19558" y="14637"/>
                </a:cubicBezTo>
                <a:cubicBezTo>
                  <a:pt x="19558" y="14626"/>
                  <a:pt x="19558" y="14616"/>
                  <a:pt x="19558" y="14605"/>
                </a:cubicBezTo>
                <a:cubicBezTo>
                  <a:pt x="19631" y="14677"/>
                  <a:pt x="19645" y="14718"/>
                  <a:pt x="19685" y="14796"/>
                </a:cubicBezTo>
                <a:cubicBezTo>
                  <a:pt x="19730" y="14884"/>
                  <a:pt x="19748" y="14912"/>
                  <a:pt x="19748" y="15018"/>
                </a:cubicBezTo>
                <a:cubicBezTo>
                  <a:pt x="19748" y="15146"/>
                  <a:pt x="19769" y="15282"/>
                  <a:pt x="19717" y="15399"/>
                </a:cubicBezTo>
                <a:cubicBezTo>
                  <a:pt x="19684" y="15474"/>
                  <a:pt x="19639" y="15556"/>
                  <a:pt x="19590" y="15621"/>
                </a:cubicBezTo>
                <a:cubicBezTo>
                  <a:pt x="19579" y="15636"/>
                  <a:pt x="19480" y="15701"/>
                  <a:pt x="19463" y="15684"/>
                </a:cubicBezTo>
                <a:cubicBezTo>
                  <a:pt x="19431" y="15652"/>
                  <a:pt x="19431" y="15627"/>
                  <a:pt x="19431" y="15558"/>
                </a:cubicBezTo>
                <a:cubicBezTo>
                  <a:pt x="19431" y="15526"/>
                  <a:pt x="19431" y="15494"/>
                  <a:pt x="19431" y="15462"/>
                </a:cubicBezTo>
              </a:path>
              <a:path w="14288" h="2224">
                <a:moveTo>
                  <a:pt x="20288" y="14732"/>
                </a:moveTo>
                <a:cubicBezTo>
                  <a:pt x="20432" y="14732"/>
                  <a:pt x="20577" y="14722"/>
                  <a:pt x="20701" y="14764"/>
                </a:cubicBezTo>
                <a:cubicBezTo>
                  <a:pt x="20733" y="14764"/>
                  <a:pt x="20743" y="14764"/>
                  <a:pt x="20764" y="14764"/>
                </a:cubicBezTo>
              </a:path>
              <a:path w="14288" h="2224">
                <a:moveTo>
                  <a:pt x="20288" y="15304"/>
                </a:moveTo>
                <a:cubicBezTo>
                  <a:pt x="20356" y="15304"/>
                  <a:pt x="20394" y="15296"/>
                  <a:pt x="20447" y="15335"/>
                </a:cubicBezTo>
                <a:cubicBezTo>
                  <a:pt x="20482" y="15315"/>
                  <a:pt x="20558" y="15278"/>
                  <a:pt x="20606" y="15304"/>
                </a:cubicBezTo>
                <a:cubicBezTo>
                  <a:pt x="20662" y="15334"/>
                  <a:pt x="20697" y="15335"/>
                  <a:pt x="20764" y="15335"/>
                </a:cubicBezTo>
              </a:path>
              <a:path w="14288" h="2224">
                <a:moveTo>
                  <a:pt x="21304" y="14065"/>
                </a:moveTo>
                <a:cubicBezTo>
                  <a:pt x="21304" y="14163"/>
                  <a:pt x="21295" y="14228"/>
                  <a:pt x="21272" y="14319"/>
                </a:cubicBezTo>
                <a:cubicBezTo>
                  <a:pt x="21248" y="14414"/>
                  <a:pt x="21257" y="14542"/>
                  <a:pt x="21241" y="14637"/>
                </a:cubicBezTo>
                <a:cubicBezTo>
                  <a:pt x="21228" y="14714"/>
                  <a:pt x="21231" y="14763"/>
                  <a:pt x="21209" y="14827"/>
                </a:cubicBezTo>
                <a:cubicBezTo>
                  <a:pt x="21209" y="14859"/>
                  <a:pt x="21209" y="14870"/>
                  <a:pt x="21177" y="14859"/>
                </a:cubicBezTo>
                <a:cubicBezTo>
                  <a:pt x="21217" y="14819"/>
                  <a:pt x="21248" y="14770"/>
                  <a:pt x="21304" y="14764"/>
                </a:cubicBezTo>
                <a:cubicBezTo>
                  <a:pt x="21376" y="14756"/>
                  <a:pt x="21406" y="14777"/>
                  <a:pt x="21463" y="14796"/>
                </a:cubicBezTo>
                <a:cubicBezTo>
                  <a:pt x="21501" y="14809"/>
                  <a:pt x="21553" y="14823"/>
                  <a:pt x="21590" y="14827"/>
                </a:cubicBezTo>
                <a:cubicBezTo>
                  <a:pt x="21625" y="14831"/>
                  <a:pt x="21681" y="14812"/>
                  <a:pt x="21685" y="14796"/>
                </a:cubicBezTo>
                <a:cubicBezTo>
                  <a:pt x="21685" y="14775"/>
                  <a:pt x="21685" y="14753"/>
                  <a:pt x="21685" y="14732"/>
                </a:cubicBezTo>
              </a:path>
              <a:path w="14288" h="2224">
                <a:moveTo>
                  <a:pt x="21749" y="13970"/>
                </a:moveTo>
                <a:cubicBezTo>
                  <a:pt x="21749" y="14060"/>
                  <a:pt x="21725" y="14143"/>
                  <a:pt x="21717" y="14224"/>
                </a:cubicBezTo>
                <a:cubicBezTo>
                  <a:pt x="21701" y="14381"/>
                  <a:pt x="21706" y="14543"/>
                  <a:pt x="21685" y="14700"/>
                </a:cubicBezTo>
                <a:cubicBezTo>
                  <a:pt x="21661" y="14878"/>
                  <a:pt x="21680" y="15063"/>
                  <a:pt x="21654" y="15240"/>
                </a:cubicBezTo>
                <a:cubicBezTo>
                  <a:pt x="21633" y="15383"/>
                  <a:pt x="21607" y="15482"/>
                  <a:pt x="21654" y="15621"/>
                </a:cubicBezTo>
              </a:path>
              <a:path w="14288" h="2224">
                <a:moveTo>
                  <a:pt x="21971" y="15462"/>
                </a:moveTo>
                <a:cubicBezTo>
                  <a:pt x="21960" y="15473"/>
                  <a:pt x="21950" y="15483"/>
                  <a:pt x="21939" y="15494"/>
                </a:cubicBezTo>
              </a:path>
              <a:path w="14288" h="2224">
                <a:moveTo>
                  <a:pt x="22447" y="14065"/>
                </a:moveTo>
                <a:cubicBezTo>
                  <a:pt x="22403" y="14080"/>
                  <a:pt x="22405" y="14111"/>
                  <a:pt x="22384" y="14160"/>
                </a:cubicBezTo>
                <a:cubicBezTo>
                  <a:pt x="22342" y="14257"/>
                  <a:pt x="22303" y="14340"/>
                  <a:pt x="22288" y="14446"/>
                </a:cubicBezTo>
                <a:cubicBezTo>
                  <a:pt x="22268" y="14588"/>
                  <a:pt x="22298" y="14727"/>
                  <a:pt x="22320" y="14859"/>
                </a:cubicBezTo>
                <a:cubicBezTo>
                  <a:pt x="22333" y="14936"/>
                  <a:pt x="22366" y="14983"/>
                  <a:pt x="22416" y="15050"/>
                </a:cubicBezTo>
                <a:cubicBezTo>
                  <a:pt x="22455" y="15102"/>
                  <a:pt x="22481" y="15113"/>
                  <a:pt x="22542" y="15113"/>
                </a:cubicBezTo>
                <a:cubicBezTo>
                  <a:pt x="22609" y="15113"/>
                  <a:pt x="22609" y="15119"/>
                  <a:pt x="22638" y="15081"/>
                </a:cubicBezTo>
                <a:cubicBezTo>
                  <a:pt x="22668" y="15042"/>
                  <a:pt x="22723" y="15000"/>
                  <a:pt x="22733" y="14954"/>
                </a:cubicBezTo>
                <a:cubicBezTo>
                  <a:pt x="22763" y="14815"/>
                  <a:pt x="22731" y="14639"/>
                  <a:pt x="22701" y="14510"/>
                </a:cubicBezTo>
                <a:cubicBezTo>
                  <a:pt x="22686" y="14444"/>
                  <a:pt x="22679" y="14370"/>
                  <a:pt x="22638" y="14319"/>
                </a:cubicBezTo>
                <a:cubicBezTo>
                  <a:pt x="22599" y="14272"/>
                  <a:pt x="22537" y="14198"/>
                  <a:pt x="22479" y="14192"/>
                </a:cubicBezTo>
                <a:cubicBezTo>
                  <a:pt x="22438" y="14187"/>
                  <a:pt x="22393" y="14192"/>
                  <a:pt x="22352" y="14192"/>
                </a:cubicBezTo>
              </a:path>
              <a:path w="14288" h="2224">
                <a:moveTo>
                  <a:pt x="22765" y="14129"/>
                </a:moveTo>
                <a:cubicBezTo>
                  <a:pt x="22811" y="14129"/>
                  <a:pt x="22858" y="14120"/>
                  <a:pt x="22892" y="14097"/>
                </a:cubicBezTo>
                <a:cubicBezTo>
                  <a:pt x="22950" y="14058"/>
                  <a:pt x="22987" y="14021"/>
                  <a:pt x="23050" y="14002"/>
                </a:cubicBezTo>
                <a:cubicBezTo>
                  <a:pt x="23117" y="13982"/>
                  <a:pt x="23155" y="14022"/>
                  <a:pt x="23178" y="14034"/>
                </a:cubicBezTo>
                <a:cubicBezTo>
                  <a:pt x="23240" y="14066"/>
                  <a:pt x="23197" y="14071"/>
                  <a:pt x="23178" y="14129"/>
                </a:cubicBezTo>
                <a:cubicBezTo>
                  <a:pt x="23164" y="14172"/>
                  <a:pt x="23137" y="14250"/>
                  <a:pt x="23114" y="14288"/>
                </a:cubicBezTo>
                <a:cubicBezTo>
                  <a:pt x="23080" y="14344"/>
                  <a:pt x="23056" y="14399"/>
                  <a:pt x="23019" y="14446"/>
                </a:cubicBezTo>
                <a:cubicBezTo>
                  <a:pt x="22986" y="14487"/>
                  <a:pt x="22968" y="14523"/>
                  <a:pt x="22955" y="14573"/>
                </a:cubicBezTo>
                <a:cubicBezTo>
                  <a:pt x="23013" y="14573"/>
                  <a:pt x="23030" y="14548"/>
                  <a:pt x="23082" y="14542"/>
                </a:cubicBezTo>
                <a:cubicBezTo>
                  <a:pt x="23143" y="14535"/>
                  <a:pt x="23197" y="14534"/>
                  <a:pt x="23241" y="14573"/>
                </a:cubicBezTo>
                <a:cubicBezTo>
                  <a:pt x="23291" y="14617"/>
                  <a:pt x="23300" y="14699"/>
                  <a:pt x="23304" y="14764"/>
                </a:cubicBezTo>
                <a:cubicBezTo>
                  <a:pt x="23312" y="14920"/>
                  <a:pt x="23291" y="15057"/>
                  <a:pt x="23273" y="15208"/>
                </a:cubicBezTo>
                <a:cubicBezTo>
                  <a:pt x="23261" y="15303"/>
                  <a:pt x="23218" y="15329"/>
                  <a:pt x="23146" y="15399"/>
                </a:cubicBezTo>
                <a:cubicBezTo>
                  <a:pt x="23100" y="15445"/>
                  <a:pt x="23043" y="15483"/>
                  <a:pt x="22987" y="15494"/>
                </a:cubicBezTo>
                <a:cubicBezTo>
                  <a:pt x="22931" y="15505"/>
                  <a:pt x="22867" y="15455"/>
                  <a:pt x="22828" y="15430"/>
                </a:cubicBezTo>
                <a:cubicBezTo>
                  <a:pt x="22774" y="15395"/>
                  <a:pt x="22765" y="15363"/>
                  <a:pt x="22765" y="15304"/>
                </a:cubicBezTo>
                <a:cubicBezTo>
                  <a:pt x="22765" y="15272"/>
                  <a:pt x="22765" y="15261"/>
                  <a:pt x="22765" y="15240"/>
                </a:cubicBezTo>
                <a:cubicBezTo>
                  <a:pt x="22827" y="15240"/>
                  <a:pt x="22865" y="15188"/>
                  <a:pt x="22924" y="15208"/>
                </a:cubicBezTo>
                <a:cubicBezTo>
                  <a:pt x="22975" y="15225"/>
                  <a:pt x="23064" y="15270"/>
                  <a:pt x="23114" y="15304"/>
                </a:cubicBezTo>
                <a:cubicBezTo>
                  <a:pt x="23152" y="15341"/>
                  <a:pt x="23171" y="15355"/>
                  <a:pt x="23209" y="153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distance between the x-axis and the line y = -4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Ink 3"/>
          <p:cNvSpPr/>
          <p:nvPr/>
        </p:nvSpPr>
        <p:spPr>
          <a:xfrm>
            <a:off x="1325520" y="2114640"/>
            <a:ext cx="2560680" cy="2617560"/>
          </a:xfrm>
          <a:custGeom>
            <a:avLst/>
            <a:gdLst/>
            <a:ahLst/>
            <a:rect l="l" t="t" r="r" b="b"/>
            <a:pathLst>
              <a:path w="7113" h="7271">
                <a:moveTo>
                  <a:pt x="7080" y="5874"/>
                </a:moveTo>
                <a:cubicBezTo>
                  <a:pt x="7087" y="5931"/>
                  <a:pt x="7120" y="5985"/>
                  <a:pt x="7112" y="6064"/>
                </a:cubicBezTo>
                <a:cubicBezTo>
                  <a:pt x="7096" y="6224"/>
                  <a:pt x="7051" y="6377"/>
                  <a:pt x="7048" y="6540"/>
                </a:cubicBezTo>
                <a:cubicBezTo>
                  <a:pt x="7044" y="6755"/>
                  <a:pt x="7023" y="6963"/>
                  <a:pt x="7017" y="7176"/>
                </a:cubicBezTo>
                <a:cubicBezTo>
                  <a:pt x="7009" y="7485"/>
                  <a:pt x="7006" y="7790"/>
                  <a:pt x="6985" y="8096"/>
                </a:cubicBezTo>
                <a:cubicBezTo>
                  <a:pt x="6969" y="8328"/>
                  <a:pt x="6958" y="8563"/>
                  <a:pt x="6953" y="8795"/>
                </a:cubicBezTo>
                <a:cubicBezTo>
                  <a:pt x="6948" y="9030"/>
                  <a:pt x="6904" y="9260"/>
                  <a:pt x="6890" y="9493"/>
                </a:cubicBezTo>
                <a:cubicBezTo>
                  <a:pt x="6872" y="9802"/>
                  <a:pt x="6813" y="10105"/>
                  <a:pt x="6794" y="10414"/>
                </a:cubicBezTo>
                <a:cubicBezTo>
                  <a:pt x="6780" y="10636"/>
                  <a:pt x="6768" y="10860"/>
                  <a:pt x="6763" y="11081"/>
                </a:cubicBezTo>
                <a:cubicBezTo>
                  <a:pt x="6755" y="11443"/>
                  <a:pt x="6757" y="11803"/>
                  <a:pt x="6731" y="12160"/>
                </a:cubicBezTo>
                <a:cubicBezTo>
                  <a:pt x="6719" y="12332"/>
                  <a:pt x="6723" y="12498"/>
                  <a:pt x="6699" y="12668"/>
                </a:cubicBezTo>
                <a:cubicBezTo>
                  <a:pt x="6682" y="12784"/>
                  <a:pt x="6685" y="12902"/>
                  <a:pt x="6668" y="13018"/>
                </a:cubicBezTo>
                <a:cubicBezTo>
                  <a:pt x="6664" y="13047"/>
                  <a:pt x="6643" y="13102"/>
                  <a:pt x="6636" y="13144"/>
                </a:cubicBezTo>
              </a:path>
              <a:path w="7113" h="7271">
                <a:moveTo>
                  <a:pt x="3683" y="9271"/>
                </a:moveTo>
                <a:cubicBezTo>
                  <a:pt x="3690" y="9268"/>
                  <a:pt x="3744" y="9215"/>
                  <a:pt x="3778" y="9208"/>
                </a:cubicBezTo>
                <a:cubicBezTo>
                  <a:pt x="3825" y="9198"/>
                  <a:pt x="3905" y="9180"/>
                  <a:pt x="3937" y="9176"/>
                </a:cubicBezTo>
                <a:cubicBezTo>
                  <a:pt x="4032" y="9165"/>
                  <a:pt x="4132" y="9171"/>
                  <a:pt x="4223" y="9144"/>
                </a:cubicBezTo>
                <a:cubicBezTo>
                  <a:pt x="4354" y="9105"/>
                  <a:pt x="4446" y="9096"/>
                  <a:pt x="4604" y="9080"/>
                </a:cubicBezTo>
                <a:cubicBezTo>
                  <a:pt x="4783" y="9062"/>
                  <a:pt x="4962" y="9022"/>
                  <a:pt x="5144" y="9017"/>
                </a:cubicBezTo>
                <a:cubicBezTo>
                  <a:pt x="5308" y="9013"/>
                  <a:pt x="5459" y="8989"/>
                  <a:pt x="5620" y="8985"/>
                </a:cubicBezTo>
                <a:cubicBezTo>
                  <a:pt x="5835" y="8979"/>
                  <a:pt x="6043" y="8971"/>
                  <a:pt x="6255" y="8954"/>
                </a:cubicBezTo>
                <a:cubicBezTo>
                  <a:pt x="6425" y="8940"/>
                  <a:pt x="6595" y="8950"/>
                  <a:pt x="6763" y="8922"/>
                </a:cubicBezTo>
                <a:cubicBezTo>
                  <a:pt x="6929" y="8894"/>
                  <a:pt x="7104" y="8842"/>
                  <a:pt x="7271" y="8826"/>
                </a:cubicBezTo>
                <a:cubicBezTo>
                  <a:pt x="7447" y="8809"/>
                  <a:pt x="7634" y="8799"/>
                  <a:pt x="7810" y="8795"/>
                </a:cubicBezTo>
                <a:cubicBezTo>
                  <a:pt x="7985" y="8791"/>
                  <a:pt x="8180" y="8746"/>
                  <a:pt x="8350" y="8763"/>
                </a:cubicBezTo>
                <a:cubicBezTo>
                  <a:pt x="8544" y="8782"/>
                  <a:pt x="8725" y="8795"/>
                  <a:pt x="8922" y="8795"/>
                </a:cubicBezTo>
                <a:cubicBezTo>
                  <a:pt x="9159" y="8795"/>
                  <a:pt x="9386" y="8808"/>
                  <a:pt x="9620" y="8826"/>
                </a:cubicBezTo>
                <a:cubicBezTo>
                  <a:pt x="9818" y="8841"/>
                  <a:pt x="10031" y="8847"/>
                  <a:pt x="10224" y="8858"/>
                </a:cubicBezTo>
                <a:cubicBezTo>
                  <a:pt x="10347" y="8865"/>
                  <a:pt x="10461" y="8834"/>
                  <a:pt x="10573" y="8826"/>
                </a:cubicBezTo>
                <a:cubicBezTo>
                  <a:pt x="10647" y="8821"/>
                  <a:pt x="10721" y="8830"/>
                  <a:pt x="10795" y="88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Ink 4"/>
          <p:cNvSpPr/>
          <p:nvPr/>
        </p:nvSpPr>
        <p:spPr>
          <a:xfrm>
            <a:off x="3749760" y="3086280"/>
            <a:ext cx="1176120" cy="228600"/>
          </a:xfrm>
          <a:custGeom>
            <a:avLst/>
            <a:gdLst/>
            <a:ahLst/>
            <a:rect l="l" t="t" r="r" b="b"/>
            <a:pathLst>
              <a:path w="3271" h="637">
                <a:moveTo>
                  <a:pt x="10509" y="8604"/>
                </a:moveTo>
                <a:cubicBezTo>
                  <a:pt x="10519" y="8633"/>
                  <a:pt x="10563" y="8654"/>
                  <a:pt x="10604" y="8668"/>
                </a:cubicBezTo>
                <a:cubicBezTo>
                  <a:pt x="10659" y="8686"/>
                  <a:pt x="10715" y="8693"/>
                  <a:pt x="10763" y="8731"/>
                </a:cubicBezTo>
                <a:cubicBezTo>
                  <a:pt x="10811" y="8769"/>
                  <a:pt x="10884" y="8832"/>
                  <a:pt x="10890" y="8890"/>
                </a:cubicBezTo>
                <a:cubicBezTo>
                  <a:pt x="10896" y="8943"/>
                  <a:pt x="10808" y="8950"/>
                  <a:pt x="10763" y="8954"/>
                </a:cubicBezTo>
                <a:cubicBezTo>
                  <a:pt x="10665" y="8962"/>
                  <a:pt x="10593" y="8958"/>
                  <a:pt x="10509" y="8985"/>
                </a:cubicBezTo>
                <a:cubicBezTo>
                  <a:pt x="10455" y="9003"/>
                  <a:pt x="10467" y="8978"/>
                  <a:pt x="10414" y="9017"/>
                </a:cubicBezTo>
              </a:path>
              <a:path w="3271" h="637">
                <a:moveTo>
                  <a:pt x="11144" y="8604"/>
                </a:moveTo>
                <a:cubicBezTo>
                  <a:pt x="11144" y="8593"/>
                  <a:pt x="11144" y="8583"/>
                  <a:pt x="11144" y="8572"/>
                </a:cubicBezTo>
                <a:cubicBezTo>
                  <a:pt x="11157" y="8611"/>
                  <a:pt x="11197" y="8615"/>
                  <a:pt x="11208" y="8668"/>
                </a:cubicBezTo>
                <a:cubicBezTo>
                  <a:pt x="11225" y="8745"/>
                  <a:pt x="11253" y="8818"/>
                  <a:pt x="11303" y="8890"/>
                </a:cubicBezTo>
                <a:cubicBezTo>
                  <a:pt x="11351" y="8959"/>
                  <a:pt x="11379" y="9060"/>
                  <a:pt x="11462" y="9080"/>
                </a:cubicBezTo>
                <a:cubicBezTo>
                  <a:pt x="11462" y="9138"/>
                  <a:pt x="11458" y="9155"/>
                  <a:pt x="11494" y="9176"/>
                </a:cubicBezTo>
              </a:path>
              <a:path w="3271" h="637">
                <a:moveTo>
                  <a:pt x="11494" y="8572"/>
                </a:moveTo>
                <a:cubicBezTo>
                  <a:pt x="11475" y="8665"/>
                  <a:pt x="11411" y="8713"/>
                  <a:pt x="11366" y="8795"/>
                </a:cubicBezTo>
                <a:cubicBezTo>
                  <a:pt x="11311" y="8895"/>
                  <a:pt x="11221" y="8997"/>
                  <a:pt x="11144" y="9080"/>
                </a:cubicBezTo>
                <a:cubicBezTo>
                  <a:pt x="11091" y="9137"/>
                  <a:pt x="11064" y="9162"/>
                  <a:pt x="11049" y="9208"/>
                </a:cubicBezTo>
              </a:path>
              <a:path w="3271" h="637">
                <a:moveTo>
                  <a:pt x="11589" y="8954"/>
                </a:moveTo>
                <a:cubicBezTo>
                  <a:pt x="11589" y="8943"/>
                  <a:pt x="11589" y="8933"/>
                  <a:pt x="11589" y="8922"/>
                </a:cubicBezTo>
                <a:cubicBezTo>
                  <a:pt x="11653" y="8922"/>
                  <a:pt x="11664" y="8907"/>
                  <a:pt x="11716" y="8890"/>
                </a:cubicBezTo>
                <a:cubicBezTo>
                  <a:pt x="11727" y="8890"/>
                  <a:pt x="11737" y="8890"/>
                  <a:pt x="11748" y="8890"/>
                </a:cubicBezTo>
              </a:path>
              <a:path w="3271" h="637">
                <a:moveTo>
                  <a:pt x="12351" y="8795"/>
                </a:moveTo>
                <a:cubicBezTo>
                  <a:pt x="12351" y="8743"/>
                  <a:pt x="12344" y="8693"/>
                  <a:pt x="12287" y="8668"/>
                </a:cubicBezTo>
                <a:cubicBezTo>
                  <a:pt x="12245" y="8649"/>
                  <a:pt x="12152" y="8665"/>
                  <a:pt x="12128" y="8700"/>
                </a:cubicBezTo>
                <a:cubicBezTo>
                  <a:pt x="12077" y="8774"/>
                  <a:pt x="12065" y="8836"/>
                  <a:pt x="12065" y="8922"/>
                </a:cubicBezTo>
                <a:cubicBezTo>
                  <a:pt x="12065" y="8975"/>
                  <a:pt x="12065" y="9027"/>
                  <a:pt x="12065" y="9080"/>
                </a:cubicBezTo>
                <a:cubicBezTo>
                  <a:pt x="12118" y="9080"/>
                  <a:pt x="12190" y="9098"/>
                  <a:pt x="12224" y="9049"/>
                </a:cubicBezTo>
                <a:cubicBezTo>
                  <a:pt x="12274" y="8977"/>
                  <a:pt x="12300" y="8876"/>
                  <a:pt x="12319" y="8795"/>
                </a:cubicBezTo>
                <a:cubicBezTo>
                  <a:pt x="12319" y="8763"/>
                  <a:pt x="12319" y="8752"/>
                  <a:pt x="12351" y="8763"/>
                </a:cubicBezTo>
                <a:cubicBezTo>
                  <a:pt x="12336" y="8823"/>
                  <a:pt x="12298" y="8878"/>
                  <a:pt x="12319" y="8954"/>
                </a:cubicBezTo>
                <a:cubicBezTo>
                  <a:pt x="12337" y="9018"/>
                  <a:pt x="12363" y="9053"/>
                  <a:pt x="12382" y="9080"/>
                </a:cubicBezTo>
                <a:cubicBezTo>
                  <a:pt x="12442" y="9163"/>
                  <a:pt x="12418" y="9170"/>
                  <a:pt x="12478" y="9080"/>
                </a:cubicBezTo>
              </a:path>
              <a:path w="3271" h="637">
                <a:moveTo>
                  <a:pt x="12573" y="8700"/>
                </a:moveTo>
                <a:cubicBezTo>
                  <a:pt x="12586" y="8752"/>
                  <a:pt x="12610" y="8780"/>
                  <a:pt x="12636" y="8826"/>
                </a:cubicBezTo>
                <a:cubicBezTo>
                  <a:pt x="12669" y="8885"/>
                  <a:pt x="12738" y="8976"/>
                  <a:pt x="12795" y="9017"/>
                </a:cubicBezTo>
                <a:cubicBezTo>
                  <a:pt x="12851" y="9057"/>
                  <a:pt x="12888" y="9080"/>
                  <a:pt x="12954" y="9080"/>
                </a:cubicBezTo>
              </a:path>
              <a:path w="3271" h="637">
                <a:moveTo>
                  <a:pt x="12890" y="8668"/>
                </a:moveTo>
                <a:cubicBezTo>
                  <a:pt x="12835" y="8724"/>
                  <a:pt x="12828" y="8764"/>
                  <a:pt x="12795" y="8826"/>
                </a:cubicBezTo>
                <a:cubicBezTo>
                  <a:pt x="12761" y="8891"/>
                  <a:pt x="12690" y="9031"/>
                  <a:pt x="12636" y="9080"/>
                </a:cubicBezTo>
                <a:cubicBezTo>
                  <a:pt x="12602" y="9110"/>
                  <a:pt x="12573" y="9196"/>
                  <a:pt x="12573" y="9144"/>
                </a:cubicBezTo>
              </a:path>
              <a:path w="3271" h="637">
                <a:moveTo>
                  <a:pt x="13081" y="8700"/>
                </a:moveTo>
                <a:cubicBezTo>
                  <a:pt x="13138" y="8774"/>
                  <a:pt x="13096" y="8756"/>
                  <a:pt x="13081" y="8826"/>
                </a:cubicBezTo>
                <a:cubicBezTo>
                  <a:pt x="13058" y="8931"/>
                  <a:pt x="13081" y="9068"/>
                  <a:pt x="13081" y="9176"/>
                </a:cubicBezTo>
              </a:path>
              <a:path w="3271" h="637">
                <a:moveTo>
                  <a:pt x="13621" y="8731"/>
                </a:moveTo>
                <a:cubicBezTo>
                  <a:pt x="13621" y="8699"/>
                  <a:pt x="13621" y="8668"/>
                  <a:pt x="13621" y="8636"/>
                </a:cubicBezTo>
                <a:cubicBezTo>
                  <a:pt x="13523" y="8636"/>
                  <a:pt x="13518" y="8671"/>
                  <a:pt x="13430" y="8700"/>
                </a:cubicBezTo>
                <a:cubicBezTo>
                  <a:pt x="13410" y="8707"/>
                  <a:pt x="13347" y="8750"/>
                  <a:pt x="13367" y="8795"/>
                </a:cubicBezTo>
                <a:cubicBezTo>
                  <a:pt x="13397" y="8864"/>
                  <a:pt x="13503" y="8914"/>
                  <a:pt x="13557" y="8954"/>
                </a:cubicBezTo>
                <a:cubicBezTo>
                  <a:pt x="13602" y="8988"/>
                  <a:pt x="13672" y="9024"/>
                  <a:pt x="13684" y="9080"/>
                </a:cubicBezTo>
                <a:cubicBezTo>
                  <a:pt x="13703" y="9168"/>
                  <a:pt x="13655" y="9176"/>
                  <a:pt x="13589" y="9176"/>
                </a:cubicBezTo>
                <a:cubicBezTo>
                  <a:pt x="13518" y="9176"/>
                  <a:pt x="13483" y="9156"/>
                  <a:pt x="13430" y="9144"/>
                </a:cubicBezTo>
                <a:cubicBezTo>
                  <a:pt x="13330" y="9122"/>
                  <a:pt x="13353" y="9189"/>
                  <a:pt x="13335" y="90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Ink 5"/>
          <p:cNvSpPr/>
          <p:nvPr/>
        </p:nvSpPr>
        <p:spPr>
          <a:xfrm>
            <a:off x="1292400" y="3189240"/>
            <a:ext cx="171360" cy="274680"/>
          </a:xfrm>
          <a:custGeom>
            <a:avLst/>
            <a:gdLst/>
            <a:ahLst/>
            <a:rect l="l" t="t" r="r" b="b"/>
            <a:pathLst>
              <a:path w="477" h="763">
                <a:moveTo>
                  <a:pt x="3842" y="8858"/>
                </a:moveTo>
                <a:cubicBezTo>
                  <a:pt x="3874" y="8858"/>
                  <a:pt x="3884" y="8858"/>
                  <a:pt x="3905" y="8858"/>
                </a:cubicBezTo>
                <a:cubicBezTo>
                  <a:pt x="3905" y="8927"/>
                  <a:pt x="3890" y="8964"/>
                  <a:pt x="3842" y="9017"/>
                </a:cubicBezTo>
                <a:cubicBezTo>
                  <a:pt x="3795" y="9069"/>
                  <a:pt x="3761" y="9124"/>
                  <a:pt x="3715" y="9176"/>
                </a:cubicBezTo>
                <a:cubicBezTo>
                  <a:pt x="3675" y="9220"/>
                  <a:pt x="3630" y="9261"/>
                  <a:pt x="3588" y="9303"/>
                </a:cubicBezTo>
                <a:cubicBezTo>
                  <a:pt x="3659" y="9303"/>
                  <a:pt x="3688" y="9315"/>
                  <a:pt x="3746" y="9334"/>
                </a:cubicBezTo>
                <a:cubicBezTo>
                  <a:pt x="3814" y="9356"/>
                  <a:pt x="3850" y="9407"/>
                  <a:pt x="3905" y="9462"/>
                </a:cubicBezTo>
                <a:cubicBezTo>
                  <a:pt x="3971" y="9527"/>
                  <a:pt x="3980" y="9572"/>
                  <a:pt x="4064" y="96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Ink 6"/>
          <p:cNvSpPr/>
          <p:nvPr/>
        </p:nvSpPr>
        <p:spPr>
          <a:xfrm>
            <a:off x="2286000" y="4514760"/>
            <a:ext cx="195120" cy="343080"/>
          </a:xfrm>
          <a:custGeom>
            <a:avLst/>
            <a:gdLst/>
            <a:ahLst/>
            <a:rect l="l" t="t" r="r" b="b"/>
            <a:pathLst>
              <a:path w="541" h="954">
                <a:moveTo>
                  <a:pt x="6350" y="12700"/>
                </a:moveTo>
                <a:cubicBezTo>
                  <a:pt x="6371" y="12727"/>
                  <a:pt x="6436" y="12795"/>
                  <a:pt x="6445" y="12827"/>
                </a:cubicBezTo>
                <a:cubicBezTo>
                  <a:pt x="6466" y="12902"/>
                  <a:pt x="6489" y="12970"/>
                  <a:pt x="6509" y="13049"/>
                </a:cubicBezTo>
                <a:cubicBezTo>
                  <a:pt x="6536" y="13154"/>
                  <a:pt x="6597" y="13236"/>
                  <a:pt x="6636" y="13335"/>
                </a:cubicBezTo>
                <a:cubicBezTo>
                  <a:pt x="6669" y="13418"/>
                  <a:pt x="6656" y="13435"/>
                  <a:pt x="6699" y="13494"/>
                </a:cubicBezTo>
                <a:cubicBezTo>
                  <a:pt x="6699" y="13398"/>
                  <a:pt x="6716" y="13328"/>
                  <a:pt x="6731" y="13240"/>
                </a:cubicBezTo>
                <a:cubicBezTo>
                  <a:pt x="6750" y="13127"/>
                  <a:pt x="6747" y="13003"/>
                  <a:pt x="6763" y="12890"/>
                </a:cubicBezTo>
                <a:cubicBezTo>
                  <a:pt x="6777" y="12792"/>
                  <a:pt x="6821" y="12729"/>
                  <a:pt x="6858" y="12636"/>
                </a:cubicBezTo>
                <a:cubicBezTo>
                  <a:pt x="6869" y="12604"/>
                  <a:pt x="6879" y="12573"/>
                  <a:pt x="6890" y="125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Ink 7"/>
          <p:cNvSpPr/>
          <p:nvPr/>
        </p:nvSpPr>
        <p:spPr>
          <a:xfrm>
            <a:off x="2389320" y="2022480"/>
            <a:ext cx="307800" cy="230040"/>
          </a:xfrm>
          <a:custGeom>
            <a:avLst/>
            <a:gdLst/>
            <a:ahLst/>
            <a:rect l="l" t="t" r="r" b="b"/>
            <a:pathLst>
              <a:path w="858" h="636">
                <a:moveTo>
                  <a:pt x="6668" y="6191"/>
                </a:moveTo>
                <a:cubicBezTo>
                  <a:pt x="6647" y="6181"/>
                  <a:pt x="6664" y="6119"/>
                  <a:pt x="6699" y="6096"/>
                </a:cubicBezTo>
                <a:cubicBezTo>
                  <a:pt x="6753" y="6060"/>
                  <a:pt x="6802" y="6016"/>
                  <a:pt x="6858" y="5969"/>
                </a:cubicBezTo>
                <a:cubicBezTo>
                  <a:pt x="6919" y="5918"/>
                  <a:pt x="6958" y="5837"/>
                  <a:pt x="7017" y="5778"/>
                </a:cubicBezTo>
                <a:cubicBezTo>
                  <a:pt x="7077" y="5718"/>
                  <a:pt x="7103" y="5691"/>
                  <a:pt x="7144" y="5620"/>
                </a:cubicBezTo>
                <a:cubicBezTo>
                  <a:pt x="7144" y="5707"/>
                  <a:pt x="7157" y="5761"/>
                  <a:pt x="7176" y="5842"/>
                </a:cubicBezTo>
                <a:cubicBezTo>
                  <a:pt x="7192" y="5910"/>
                  <a:pt x="7228" y="5974"/>
                  <a:pt x="7271" y="6032"/>
                </a:cubicBezTo>
                <a:cubicBezTo>
                  <a:pt x="7315" y="6091"/>
                  <a:pt x="7390" y="6103"/>
                  <a:pt x="7430" y="6160"/>
                </a:cubicBezTo>
                <a:cubicBezTo>
                  <a:pt x="7457" y="6216"/>
                  <a:pt x="7462" y="6231"/>
                  <a:pt x="7493" y="62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Ink 8"/>
          <p:cNvSpPr/>
          <p:nvPr/>
        </p:nvSpPr>
        <p:spPr>
          <a:xfrm>
            <a:off x="1565280" y="3543480"/>
            <a:ext cx="2058840" cy="560160"/>
          </a:xfrm>
          <a:custGeom>
            <a:avLst/>
            <a:gdLst/>
            <a:ahLst/>
            <a:rect l="l" t="t" r="r" b="b"/>
            <a:pathLst>
              <a:path w="5716" h="1557">
                <a:moveTo>
                  <a:pt x="6890" y="9842"/>
                </a:moveTo>
                <a:cubicBezTo>
                  <a:pt x="6890" y="9853"/>
                  <a:pt x="6890" y="9863"/>
                  <a:pt x="6890" y="9874"/>
                </a:cubicBezTo>
              </a:path>
              <a:path w="5716" h="1557">
                <a:moveTo>
                  <a:pt x="6826" y="10478"/>
                </a:moveTo>
                <a:cubicBezTo>
                  <a:pt x="6826" y="10467"/>
                  <a:pt x="6826" y="10457"/>
                  <a:pt x="6826" y="10446"/>
                </a:cubicBezTo>
              </a:path>
              <a:path w="5716" h="1557">
                <a:moveTo>
                  <a:pt x="6763" y="10922"/>
                </a:moveTo>
                <a:cubicBezTo>
                  <a:pt x="6799" y="10922"/>
                  <a:pt x="6806" y="10919"/>
                  <a:pt x="6763" y="10890"/>
                </a:cubicBezTo>
                <a:cubicBezTo>
                  <a:pt x="6717" y="10902"/>
                  <a:pt x="6673" y="10911"/>
                  <a:pt x="6668" y="10954"/>
                </a:cubicBezTo>
                <a:cubicBezTo>
                  <a:pt x="6662" y="11001"/>
                  <a:pt x="6653" y="11043"/>
                  <a:pt x="6699" y="11049"/>
                </a:cubicBezTo>
                <a:cubicBezTo>
                  <a:pt x="6749" y="11055"/>
                  <a:pt x="6803" y="11037"/>
                  <a:pt x="6826" y="10986"/>
                </a:cubicBezTo>
                <a:cubicBezTo>
                  <a:pt x="6835" y="10965"/>
                  <a:pt x="6826" y="10913"/>
                  <a:pt x="6826" y="10890"/>
                </a:cubicBezTo>
                <a:cubicBezTo>
                  <a:pt x="6770" y="10890"/>
                  <a:pt x="6763" y="10898"/>
                  <a:pt x="6731" y="10922"/>
                </a:cubicBezTo>
                <a:cubicBezTo>
                  <a:pt x="6703" y="10943"/>
                  <a:pt x="6679" y="11012"/>
                  <a:pt x="6699" y="11049"/>
                </a:cubicBezTo>
                <a:cubicBezTo>
                  <a:pt x="6733" y="11109"/>
                  <a:pt x="6790" y="11081"/>
                  <a:pt x="6826" y="11049"/>
                </a:cubicBezTo>
                <a:cubicBezTo>
                  <a:pt x="6866" y="11013"/>
                  <a:pt x="6858" y="11003"/>
                  <a:pt x="6858" y="10954"/>
                </a:cubicBezTo>
                <a:cubicBezTo>
                  <a:pt x="6807" y="10937"/>
                  <a:pt x="6826" y="10898"/>
                  <a:pt x="6763" y="10954"/>
                </a:cubicBezTo>
                <a:cubicBezTo>
                  <a:pt x="6712" y="11000"/>
                  <a:pt x="6753" y="11000"/>
                  <a:pt x="6699" y="11017"/>
                </a:cubicBezTo>
                <a:cubicBezTo>
                  <a:pt x="6772" y="11072"/>
                  <a:pt x="6755" y="11037"/>
                  <a:pt x="6794" y="11017"/>
                </a:cubicBezTo>
                <a:cubicBezTo>
                  <a:pt x="6820" y="11004"/>
                  <a:pt x="6848" y="10927"/>
                  <a:pt x="6794" y="10954"/>
                </a:cubicBezTo>
                <a:cubicBezTo>
                  <a:pt x="6784" y="10965"/>
                  <a:pt x="6773" y="10975"/>
                  <a:pt x="6763" y="10986"/>
                </a:cubicBezTo>
              </a:path>
              <a:path w="5716" h="1557">
                <a:moveTo>
                  <a:pt x="4413" y="11049"/>
                </a:moveTo>
                <a:cubicBezTo>
                  <a:pt x="4424" y="11049"/>
                  <a:pt x="4434" y="11049"/>
                  <a:pt x="4445" y="11049"/>
                </a:cubicBezTo>
              </a:path>
              <a:path w="5716" h="1557">
                <a:moveTo>
                  <a:pt x="4413" y="11049"/>
                </a:moveTo>
                <a:cubicBezTo>
                  <a:pt x="4434" y="11049"/>
                  <a:pt x="4456" y="11049"/>
                  <a:pt x="4477" y="11049"/>
                </a:cubicBezTo>
              </a:path>
              <a:path w="5716" h="1557">
                <a:moveTo>
                  <a:pt x="4477" y="11049"/>
                </a:moveTo>
                <a:cubicBezTo>
                  <a:pt x="4542" y="11043"/>
                  <a:pt x="4618" y="11023"/>
                  <a:pt x="4667" y="11017"/>
                </a:cubicBezTo>
                <a:cubicBezTo>
                  <a:pt x="4843" y="10997"/>
                  <a:pt x="5046" y="11003"/>
                  <a:pt x="5207" y="10986"/>
                </a:cubicBezTo>
                <a:cubicBezTo>
                  <a:pt x="5498" y="10954"/>
                  <a:pt x="5821" y="10984"/>
                  <a:pt x="6096" y="10954"/>
                </a:cubicBezTo>
                <a:cubicBezTo>
                  <a:pt x="6272" y="10935"/>
                  <a:pt x="6476" y="10940"/>
                  <a:pt x="6636" y="10922"/>
                </a:cubicBezTo>
                <a:cubicBezTo>
                  <a:pt x="6771" y="10907"/>
                  <a:pt x="6929" y="10903"/>
                  <a:pt x="7048" y="10890"/>
                </a:cubicBezTo>
                <a:cubicBezTo>
                  <a:pt x="7193" y="10874"/>
                  <a:pt x="7363" y="10873"/>
                  <a:pt x="7493" y="10858"/>
                </a:cubicBezTo>
                <a:cubicBezTo>
                  <a:pt x="7605" y="10845"/>
                  <a:pt x="7745" y="10836"/>
                  <a:pt x="7842" y="10827"/>
                </a:cubicBezTo>
                <a:cubicBezTo>
                  <a:pt x="7956" y="10817"/>
                  <a:pt x="8094" y="10804"/>
                  <a:pt x="8192" y="10795"/>
                </a:cubicBezTo>
                <a:cubicBezTo>
                  <a:pt x="8274" y="10787"/>
                  <a:pt x="8380" y="10769"/>
                  <a:pt x="8446" y="10763"/>
                </a:cubicBezTo>
                <a:cubicBezTo>
                  <a:pt x="8529" y="10755"/>
                  <a:pt x="8632" y="10739"/>
                  <a:pt x="8700" y="10732"/>
                </a:cubicBezTo>
                <a:cubicBezTo>
                  <a:pt x="8783" y="10723"/>
                  <a:pt x="8887" y="10707"/>
                  <a:pt x="8954" y="10700"/>
                </a:cubicBezTo>
                <a:cubicBezTo>
                  <a:pt x="9099" y="10684"/>
                  <a:pt x="9269" y="10683"/>
                  <a:pt x="9398" y="10668"/>
                </a:cubicBezTo>
                <a:cubicBezTo>
                  <a:pt x="9552" y="10651"/>
                  <a:pt x="9718" y="10668"/>
                  <a:pt x="9874" y="10668"/>
                </a:cubicBezTo>
              </a:path>
              <a:path w="5716" h="1557">
                <a:moveTo>
                  <a:pt x="9716" y="10446"/>
                </a:moveTo>
                <a:cubicBezTo>
                  <a:pt x="9732" y="10495"/>
                  <a:pt x="9743" y="10482"/>
                  <a:pt x="9779" y="10509"/>
                </a:cubicBezTo>
                <a:cubicBezTo>
                  <a:pt x="9825" y="10543"/>
                  <a:pt x="9866" y="10569"/>
                  <a:pt x="9906" y="10604"/>
                </a:cubicBezTo>
                <a:cubicBezTo>
                  <a:pt x="9951" y="10644"/>
                  <a:pt x="10038" y="10673"/>
                  <a:pt x="10065" y="10732"/>
                </a:cubicBezTo>
                <a:cubicBezTo>
                  <a:pt x="10065" y="10742"/>
                  <a:pt x="10065" y="10753"/>
                  <a:pt x="10065" y="10763"/>
                </a:cubicBezTo>
                <a:cubicBezTo>
                  <a:pt x="9970" y="10763"/>
                  <a:pt x="9874" y="10763"/>
                  <a:pt x="9779" y="10763"/>
                </a:cubicBezTo>
                <a:cubicBezTo>
                  <a:pt x="9763" y="10811"/>
                  <a:pt x="9741" y="10795"/>
                  <a:pt x="9684" y="10795"/>
                </a:cubicBezTo>
                <a:cubicBezTo>
                  <a:pt x="9633" y="10795"/>
                  <a:pt x="9614" y="10827"/>
                  <a:pt x="9557" y="10827"/>
                </a:cubicBezTo>
              </a:path>
              <a:path w="5716" h="1557">
                <a:moveTo>
                  <a:pt x="4604" y="10700"/>
                </a:moveTo>
                <a:cubicBezTo>
                  <a:pt x="4615" y="10700"/>
                  <a:pt x="4625" y="10700"/>
                  <a:pt x="4636" y="10700"/>
                </a:cubicBezTo>
                <a:cubicBezTo>
                  <a:pt x="4636" y="10767"/>
                  <a:pt x="4621" y="10779"/>
                  <a:pt x="4572" y="10827"/>
                </a:cubicBezTo>
                <a:cubicBezTo>
                  <a:pt x="4497" y="10900"/>
                  <a:pt x="4424" y="10975"/>
                  <a:pt x="4350" y="11049"/>
                </a:cubicBezTo>
                <a:cubicBezTo>
                  <a:pt x="4403" y="11049"/>
                  <a:pt x="4433" y="11062"/>
                  <a:pt x="4477" y="11081"/>
                </a:cubicBezTo>
                <a:cubicBezTo>
                  <a:pt x="4554" y="11113"/>
                  <a:pt x="4578" y="11182"/>
                  <a:pt x="4636" y="11240"/>
                </a:cubicBezTo>
                <a:cubicBezTo>
                  <a:pt x="4679" y="11283"/>
                  <a:pt x="4717" y="11311"/>
                  <a:pt x="4731" y="11366"/>
                </a:cubicBezTo>
                <a:cubicBezTo>
                  <a:pt x="4767" y="11366"/>
                  <a:pt x="4780" y="11369"/>
                  <a:pt x="4794" y="113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Ink 9"/>
          <p:cNvSpPr/>
          <p:nvPr/>
        </p:nvSpPr>
        <p:spPr>
          <a:xfrm>
            <a:off x="2479680" y="3211560"/>
            <a:ext cx="173160" cy="709560"/>
          </a:xfrm>
          <a:custGeom>
            <a:avLst/>
            <a:gdLst/>
            <a:ahLst/>
            <a:rect l="l" t="t" r="r" b="b"/>
            <a:pathLst>
              <a:path w="477" h="1969">
                <a:moveTo>
                  <a:pt x="6922" y="8922"/>
                </a:moveTo>
                <a:cubicBezTo>
                  <a:pt x="6964" y="8928"/>
                  <a:pt x="6976" y="8946"/>
                  <a:pt x="7017" y="8954"/>
                </a:cubicBezTo>
                <a:cubicBezTo>
                  <a:pt x="7074" y="8965"/>
                  <a:pt x="7086" y="8971"/>
                  <a:pt x="7112" y="8985"/>
                </a:cubicBezTo>
                <a:cubicBezTo>
                  <a:pt x="7163" y="9012"/>
                  <a:pt x="7192" y="9014"/>
                  <a:pt x="7207" y="9080"/>
                </a:cubicBezTo>
                <a:cubicBezTo>
                  <a:pt x="7225" y="9157"/>
                  <a:pt x="7201" y="9207"/>
                  <a:pt x="7176" y="9239"/>
                </a:cubicBezTo>
                <a:cubicBezTo>
                  <a:pt x="7151" y="9271"/>
                  <a:pt x="7120" y="9273"/>
                  <a:pt x="7080" y="9303"/>
                </a:cubicBezTo>
                <a:cubicBezTo>
                  <a:pt x="7043" y="9330"/>
                  <a:pt x="6971" y="9328"/>
                  <a:pt x="7017" y="9334"/>
                </a:cubicBezTo>
                <a:cubicBezTo>
                  <a:pt x="7084" y="9342"/>
                  <a:pt x="7062" y="9356"/>
                  <a:pt x="7112" y="9366"/>
                </a:cubicBezTo>
                <a:cubicBezTo>
                  <a:pt x="7144" y="9366"/>
                  <a:pt x="7155" y="9366"/>
                  <a:pt x="7176" y="9366"/>
                </a:cubicBezTo>
                <a:cubicBezTo>
                  <a:pt x="7182" y="9432"/>
                  <a:pt x="7179" y="9457"/>
                  <a:pt x="7207" y="9493"/>
                </a:cubicBezTo>
                <a:cubicBezTo>
                  <a:pt x="7232" y="9525"/>
                  <a:pt x="7236" y="9533"/>
                  <a:pt x="7239" y="9588"/>
                </a:cubicBezTo>
                <a:cubicBezTo>
                  <a:pt x="7243" y="9655"/>
                  <a:pt x="7211" y="9727"/>
                  <a:pt x="7207" y="9747"/>
                </a:cubicBezTo>
                <a:cubicBezTo>
                  <a:pt x="7200" y="9784"/>
                  <a:pt x="7201" y="9832"/>
                  <a:pt x="7176" y="9842"/>
                </a:cubicBezTo>
                <a:cubicBezTo>
                  <a:pt x="7154" y="9850"/>
                  <a:pt x="6971" y="9842"/>
                  <a:pt x="7048" y="9842"/>
                </a:cubicBezTo>
                <a:cubicBezTo>
                  <a:pt x="7096" y="9842"/>
                  <a:pt x="7140" y="9852"/>
                  <a:pt x="7176" y="9874"/>
                </a:cubicBezTo>
                <a:cubicBezTo>
                  <a:pt x="7183" y="9878"/>
                  <a:pt x="7252" y="9924"/>
                  <a:pt x="7271" y="9938"/>
                </a:cubicBezTo>
                <a:cubicBezTo>
                  <a:pt x="7303" y="9962"/>
                  <a:pt x="7282" y="9992"/>
                  <a:pt x="7302" y="10033"/>
                </a:cubicBezTo>
                <a:cubicBezTo>
                  <a:pt x="7306" y="10041"/>
                  <a:pt x="7359" y="10094"/>
                  <a:pt x="7366" y="10128"/>
                </a:cubicBezTo>
                <a:cubicBezTo>
                  <a:pt x="7377" y="10184"/>
                  <a:pt x="7336" y="10216"/>
                  <a:pt x="7334" y="10224"/>
                </a:cubicBezTo>
                <a:cubicBezTo>
                  <a:pt x="7321" y="10289"/>
                  <a:pt x="7342" y="10297"/>
                  <a:pt x="7271" y="10319"/>
                </a:cubicBezTo>
                <a:cubicBezTo>
                  <a:pt x="7213" y="10337"/>
                  <a:pt x="7199" y="10318"/>
                  <a:pt x="7144" y="10350"/>
                </a:cubicBezTo>
                <a:cubicBezTo>
                  <a:pt x="7144" y="10350"/>
                  <a:pt x="7148" y="10323"/>
                  <a:pt x="7207" y="10350"/>
                </a:cubicBezTo>
                <a:cubicBezTo>
                  <a:pt x="7243" y="10367"/>
                  <a:pt x="7262" y="10374"/>
                  <a:pt x="7302" y="10414"/>
                </a:cubicBezTo>
                <a:cubicBezTo>
                  <a:pt x="7312" y="10424"/>
                  <a:pt x="7358" y="10480"/>
                  <a:pt x="7366" y="10509"/>
                </a:cubicBezTo>
                <a:cubicBezTo>
                  <a:pt x="7387" y="10582"/>
                  <a:pt x="7364" y="10676"/>
                  <a:pt x="7334" y="10732"/>
                </a:cubicBezTo>
                <a:cubicBezTo>
                  <a:pt x="7311" y="10775"/>
                  <a:pt x="7307" y="10818"/>
                  <a:pt x="7271" y="10858"/>
                </a:cubicBezTo>
                <a:cubicBezTo>
                  <a:pt x="7230" y="10904"/>
                  <a:pt x="7200" y="10887"/>
                  <a:pt x="7144" y="10890"/>
                </a:cubicBezTo>
                <a:cubicBezTo>
                  <a:pt x="7073" y="10894"/>
                  <a:pt x="7041" y="10882"/>
                  <a:pt x="6985" y="10858"/>
                </a:cubicBezTo>
                <a:cubicBezTo>
                  <a:pt x="6906" y="10825"/>
                  <a:pt x="6925" y="10823"/>
                  <a:pt x="6890" y="107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Ink 10"/>
          <p:cNvSpPr/>
          <p:nvPr/>
        </p:nvSpPr>
        <p:spPr>
          <a:xfrm>
            <a:off x="2822400" y="3360600"/>
            <a:ext cx="984600" cy="365400"/>
          </a:xfrm>
          <a:custGeom>
            <a:avLst/>
            <a:gdLst/>
            <a:ahLst/>
            <a:rect l="l" t="t" r="r" b="b"/>
            <a:pathLst>
              <a:path w="2732" h="1017">
                <a:moveTo>
                  <a:pt x="7842" y="9462"/>
                </a:moveTo>
                <a:cubicBezTo>
                  <a:pt x="7842" y="9578"/>
                  <a:pt x="7842" y="9695"/>
                  <a:pt x="7842" y="9811"/>
                </a:cubicBezTo>
                <a:cubicBezTo>
                  <a:pt x="7931" y="9811"/>
                  <a:pt x="7990" y="9818"/>
                  <a:pt x="8064" y="9842"/>
                </a:cubicBezTo>
                <a:cubicBezTo>
                  <a:pt x="8129" y="9863"/>
                  <a:pt x="8170" y="9839"/>
                  <a:pt x="8192" y="9779"/>
                </a:cubicBezTo>
                <a:cubicBezTo>
                  <a:pt x="8192" y="9768"/>
                  <a:pt x="8192" y="9758"/>
                  <a:pt x="8192" y="9747"/>
                </a:cubicBezTo>
              </a:path>
              <a:path w="2732" h="1017">
                <a:moveTo>
                  <a:pt x="8192" y="9334"/>
                </a:moveTo>
                <a:cubicBezTo>
                  <a:pt x="8125" y="9356"/>
                  <a:pt x="8178" y="9419"/>
                  <a:pt x="8160" y="9493"/>
                </a:cubicBezTo>
                <a:cubicBezTo>
                  <a:pt x="8133" y="9606"/>
                  <a:pt x="8109" y="9727"/>
                  <a:pt x="8096" y="9842"/>
                </a:cubicBezTo>
                <a:cubicBezTo>
                  <a:pt x="8079" y="9997"/>
                  <a:pt x="8096" y="10163"/>
                  <a:pt x="8096" y="10319"/>
                </a:cubicBezTo>
              </a:path>
              <a:path w="2732" h="1017">
                <a:moveTo>
                  <a:pt x="8350" y="9779"/>
                </a:moveTo>
                <a:cubicBezTo>
                  <a:pt x="8350" y="9914"/>
                  <a:pt x="8353" y="10033"/>
                  <a:pt x="8382" y="10160"/>
                </a:cubicBezTo>
                <a:cubicBezTo>
                  <a:pt x="8394" y="10213"/>
                  <a:pt x="8419" y="10249"/>
                  <a:pt x="8477" y="10255"/>
                </a:cubicBezTo>
                <a:cubicBezTo>
                  <a:pt x="8539" y="10262"/>
                  <a:pt x="8577" y="10173"/>
                  <a:pt x="8604" y="10128"/>
                </a:cubicBezTo>
                <a:cubicBezTo>
                  <a:pt x="8658" y="10038"/>
                  <a:pt x="8661" y="9927"/>
                  <a:pt x="8700" y="9842"/>
                </a:cubicBezTo>
                <a:cubicBezTo>
                  <a:pt x="8729" y="9779"/>
                  <a:pt x="8764" y="9781"/>
                  <a:pt x="8731" y="9842"/>
                </a:cubicBezTo>
                <a:cubicBezTo>
                  <a:pt x="8685" y="9927"/>
                  <a:pt x="8724" y="9968"/>
                  <a:pt x="8731" y="10065"/>
                </a:cubicBezTo>
                <a:cubicBezTo>
                  <a:pt x="8735" y="10117"/>
                  <a:pt x="8760" y="10148"/>
                  <a:pt x="8795" y="10160"/>
                </a:cubicBezTo>
              </a:path>
              <a:path w="2732" h="1017">
                <a:moveTo>
                  <a:pt x="8954" y="9779"/>
                </a:moveTo>
                <a:cubicBezTo>
                  <a:pt x="9003" y="9864"/>
                  <a:pt x="8959" y="9905"/>
                  <a:pt x="8954" y="10001"/>
                </a:cubicBezTo>
                <a:cubicBezTo>
                  <a:pt x="8949" y="10085"/>
                  <a:pt x="8946" y="10156"/>
                  <a:pt x="8985" y="10224"/>
                </a:cubicBezTo>
                <a:cubicBezTo>
                  <a:pt x="9032" y="10146"/>
                  <a:pt x="9012" y="10060"/>
                  <a:pt x="9049" y="9970"/>
                </a:cubicBezTo>
                <a:cubicBezTo>
                  <a:pt x="9077" y="9904"/>
                  <a:pt x="9100" y="9819"/>
                  <a:pt x="9176" y="9811"/>
                </a:cubicBezTo>
                <a:cubicBezTo>
                  <a:pt x="9240" y="9804"/>
                  <a:pt x="9254" y="9865"/>
                  <a:pt x="9271" y="9906"/>
                </a:cubicBezTo>
                <a:cubicBezTo>
                  <a:pt x="9313" y="10003"/>
                  <a:pt x="9289" y="10067"/>
                  <a:pt x="9303" y="10160"/>
                </a:cubicBezTo>
                <a:cubicBezTo>
                  <a:pt x="9311" y="10209"/>
                  <a:pt x="9341" y="10272"/>
                  <a:pt x="9366" y="10224"/>
                </a:cubicBezTo>
              </a:path>
              <a:path w="2732" h="1017">
                <a:moveTo>
                  <a:pt x="9525" y="9811"/>
                </a:moveTo>
                <a:cubicBezTo>
                  <a:pt x="9536" y="9811"/>
                  <a:pt x="9546" y="9811"/>
                  <a:pt x="9557" y="9811"/>
                </a:cubicBezTo>
                <a:cubicBezTo>
                  <a:pt x="9557" y="9896"/>
                  <a:pt x="9575" y="9955"/>
                  <a:pt x="9588" y="10033"/>
                </a:cubicBezTo>
                <a:cubicBezTo>
                  <a:pt x="9602" y="10121"/>
                  <a:pt x="9566" y="10185"/>
                  <a:pt x="9620" y="10255"/>
                </a:cubicBezTo>
              </a:path>
              <a:path w="2732" h="1017">
                <a:moveTo>
                  <a:pt x="9970" y="9620"/>
                </a:moveTo>
                <a:cubicBezTo>
                  <a:pt x="10006" y="9670"/>
                  <a:pt x="10019" y="9744"/>
                  <a:pt x="10001" y="9811"/>
                </a:cubicBezTo>
                <a:cubicBezTo>
                  <a:pt x="9974" y="9910"/>
                  <a:pt x="9970" y="9989"/>
                  <a:pt x="9970" y="10096"/>
                </a:cubicBezTo>
                <a:cubicBezTo>
                  <a:pt x="9970" y="10141"/>
                  <a:pt x="9979" y="10248"/>
                  <a:pt x="10001" y="10287"/>
                </a:cubicBezTo>
                <a:cubicBezTo>
                  <a:pt x="10012" y="10298"/>
                  <a:pt x="10022" y="10308"/>
                  <a:pt x="10033" y="10319"/>
                </a:cubicBezTo>
              </a:path>
              <a:path w="2732" h="1017">
                <a:moveTo>
                  <a:pt x="9779" y="9970"/>
                </a:moveTo>
                <a:cubicBezTo>
                  <a:pt x="9917" y="9970"/>
                  <a:pt x="10065" y="9948"/>
                  <a:pt x="10192" y="10001"/>
                </a:cubicBezTo>
              </a:path>
              <a:path w="2732" h="1017">
                <a:moveTo>
                  <a:pt x="10509" y="9874"/>
                </a:moveTo>
                <a:cubicBezTo>
                  <a:pt x="10493" y="9810"/>
                  <a:pt x="10478" y="9811"/>
                  <a:pt x="10414" y="9811"/>
                </a:cubicBezTo>
                <a:cubicBezTo>
                  <a:pt x="10377" y="9811"/>
                  <a:pt x="10276" y="9811"/>
                  <a:pt x="10255" y="9842"/>
                </a:cubicBezTo>
                <a:cubicBezTo>
                  <a:pt x="10230" y="9880"/>
                  <a:pt x="10265" y="9946"/>
                  <a:pt x="10287" y="9970"/>
                </a:cubicBezTo>
                <a:cubicBezTo>
                  <a:pt x="10343" y="10031"/>
                  <a:pt x="10429" y="10067"/>
                  <a:pt x="10478" y="10128"/>
                </a:cubicBezTo>
                <a:cubicBezTo>
                  <a:pt x="10511" y="10169"/>
                  <a:pt x="10592" y="10263"/>
                  <a:pt x="10573" y="10319"/>
                </a:cubicBezTo>
                <a:cubicBezTo>
                  <a:pt x="10556" y="10370"/>
                  <a:pt x="10450" y="10350"/>
                  <a:pt x="10414" y="10350"/>
                </a:cubicBezTo>
                <a:cubicBezTo>
                  <a:pt x="10363" y="10350"/>
                  <a:pt x="10268" y="10316"/>
                  <a:pt x="10224" y="10287"/>
                </a:cubicBezTo>
                <a:cubicBezTo>
                  <a:pt x="10213" y="10276"/>
                  <a:pt x="10203" y="10266"/>
                  <a:pt x="10192" y="102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28240" y="8377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ircle has endpoints at (-4, -5) and (7, 3).  How long is the radius of the circ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Ink 3"/>
          <p:cNvSpPr/>
          <p:nvPr/>
        </p:nvSpPr>
        <p:spPr>
          <a:xfrm>
            <a:off x="250920" y="1828800"/>
            <a:ext cx="5978520" cy="2652840"/>
          </a:xfrm>
          <a:custGeom>
            <a:avLst/>
            <a:gdLst/>
            <a:ahLst/>
            <a:rect l="l" t="t" r="r" b="b"/>
            <a:pathLst>
              <a:path w="16607" h="7367">
                <a:moveTo>
                  <a:pt x="6414" y="7779"/>
                </a:moveTo>
                <a:cubicBezTo>
                  <a:pt x="6400" y="7711"/>
                  <a:pt x="6394" y="7648"/>
                  <a:pt x="6382" y="7588"/>
                </a:cubicBezTo>
                <a:cubicBezTo>
                  <a:pt x="6371" y="7534"/>
                  <a:pt x="6369" y="7481"/>
                  <a:pt x="6350" y="7430"/>
                </a:cubicBezTo>
                <a:cubicBezTo>
                  <a:pt x="6308" y="7318"/>
                  <a:pt x="6230" y="7181"/>
                  <a:pt x="6160" y="7080"/>
                </a:cubicBezTo>
                <a:cubicBezTo>
                  <a:pt x="6106" y="7003"/>
                  <a:pt x="6042" y="6926"/>
                  <a:pt x="5969" y="6858"/>
                </a:cubicBezTo>
                <a:cubicBezTo>
                  <a:pt x="5895" y="6789"/>
                  <a:pt x="5823" y="6733"/>
                  <a:pt x="5747" y="6668"/>
                </a:cubicBezTo>
                <a:cubicBezTo>
                  <a:pt x="5669" y="6602"/>
                  <a:pt x="5612" y="6560"/>
                  <a:pt x="5524" y="6509"/>
                </a:cubicBezTo>
                <a:cubicBezTo>
                  <a:pt x="5375" y="6422"/>
                  <a:pt x="5208" y="6362"/>
                  <a:pt x="5048" y="6318"/>
                </a:cubicBezTo>
                <a:cubicBezTo>
                  <a:pt x="4956" y="6293"/>
                  <a:pt x="4859" y="6292"/>
                  <a:pt x="4762" y="6286"/>
                </a:cubicBezTo>
                <a:cubicBezTo>
                  <a:pt x="4588" y="6275"/>
                  <a:pt x="4418" y="6295"/>
                  <a:pt x="4254" y="6318"/>
                </a:cubicBezTo>
                <a:cubicBezTo>
                  <a:pt x="4166" y="6330"/>
                  <a:pt x="4085" y="6328"/>
                  <a:pt x="4000" y="6350"/>
                </a:cubicBezTo>
                <a:cubicBezTo>
                  <a:pt x="3919" y="6371"/>
                  <a:pt x="3823" y="6412"/>
                  <a:pt x="3746" y="6445"/>
                </a:cubicBezTo>
                <a:cubicBezTo>
                  <a:pt x="3582" y="6514"/>
                  <a:pt x="3419" y="6606"/>
                  <a:pt x="3270" y="6699"/>
                </a:cubicBezTo>
                <a:cubicBezTo>
                  <a:pt x="3183" y="6753"/>
                  <a:pt x="3099" y="6799"/>
                  <a:pt x="3016" y="6858"/>
                </a:cubicBezTo>
                <a:cubicBezTo>
                  <a:pt x="2942" y="6911"/>
                  <a:pt x="2857" y="6983"/>
                  <a:pt x="2794" y="7048"/>
                </a:cubicBezTo>
                <a:cubicBezTo>
                  <a:pt x="2696" y="7148"/>
                  <a:pt x="2592" y="7284"/>
                  <a:pt x="2508" y="7398"/>
                </a:cubicBezTo>
                <a:cubicBezTo>
                  <a:pt x="2442" y="7487"/>
                  <a:pt x="2405" y="7547"/>
                  <a:pt x="2350" y="7652"/>
                </a:cubicBezTo>
                <a:cubicBezTo>
                  <a:pt x="2260" y="7824"/>
                  <a:pt x="2157" y="8009"/>
                  <a:pt x="2096" y="8192"/>
                </a:cubicBezTo>
                <a:cubicBezTo>
                  <a:pt x="2062" y="8293"/>
                  <a:pt x="2023" y="8405"/>
                  <a:pt x="2000" y="8509"/>
                </a:cubicBezTo>
                <a:cubicBezTo>
                  <a:pt x="1979" y="8604"/>
                  <a:pt x="1957" y="8700"/>
                  <a:pt x="1937" y="8795"/>
                </a:cubicBezTo>
                <a:cubicBezTo>
                  <a:pt x="1918" y="8884"/>
                  <a:pt x="1883" y="8993"/>
                  <a:pt x="1873" y="9080"/>
                </a:cubicBezTo>
                <a:cubicBezTo>
                  <a:pt x="1855" y="9227"/>
                  <a:pt x="1836" y="9443"/>
                  <a:pt x="1842" y="9588"/>
                </a:cubicBezTo>
                <a:cubicBezTo>
                  <a:pt x="1846" y="9695"/>
                  <a:pt x="1861" y="9797"/>
                  <a:pt x="1873" y="9906"/>
                </a:cubicBezTo>
                <a:cubicBezTo>
                  <a:pt x="1884" y="10008"/>
                  <a:pt x="1891" y="10094"/>
                  <a:pt x="1905" y="10192"/>
                </a:cubicBezTo>
                <a:cubicBezTo>
                  <a:pt x="1919" y="10290"/>
                  <a:pt x="1941" y="10379"/>
                  <a:pt x="1968" y="10478"/>
                </a:cubicBezTo>
                <a:cubicBezTo>
                  <a:pt x="1997" y="10583"/>
                  <a:pt x="2021" y="10693"/>
                  <a:pt x="2064" y="10795"/>
                </a:cubicBezTo>
                <a:cubicBezTo>
                  <a:pt x="2183" y="11080"/>
                  <a:pt x="2351" y="11353"/>
                  <a:pt x="2540" y="11589"/>
                </a:cubicBezTo>
                <a:cubicBezTo>
                  <a:pt x="2623" y="11693"/>
                  <a:pt x="2698" y="11812"/>
                  <a:pt x="2794" y="11906"/>
                </a:cubicBezTo>
                <a:cubicBezTo>
                  <a:pt x="2878" y="11988"/>
                  <a:pt x="3010" y="12099"/>
                  <a:pt x="3112" y="12160"/>
                </a:cubicBezTo>
                <a:cubicBezTo>
                  <a:pt x="3261" y="12248"/>
                  <a:pt x="3435" y="12294"/>
                  <a:pt x="3588" y="12351"/>
                </a:cubicBezTo>
                <a:cubicBezTo>
                  <a:pt x="3711" y="12397"/>
                  <a:pt x="3780" y="12395"/>
                  <a:pt x="3905" y="12414"/>
                </a:cubicBezTo>
                <a:cubicBezTo>
                  <a:pt x="4002" y="12428"/>
                  <a:pt x="4084" y="12453"/>
                  <a:pt x="4191" y="12446"/>
                </a:cubicBezTo>
                <a:cubicBezTo>
                  <a:pt x="4289" y="12440"/>
                  <a:pt x="4382" y="12436"/>
                  <a:pt x="4477" y="12414"/>
                </a:cubicBezTo>
                <a:cubicBezTo>
                  <a:pt x="4573" y="12392"/>
                  <a:pt x="4669" y="12359"/>
                  <a:pt x="4762" y="12319"/>
                </a:cubicBezTo>
                <a:cubicBezTo>
                  <a:pt x="4912" y="12255"/>
                  <a:pt x="4988" y="12160"/>
                  <a:pt x="5112" y="12065"/>
                </a:cubicBezTo>
                <a:cubicBezTo>
                  <a:pt x="5204" y="11994"/>
                  <a:pt x="5286" y="11921"/>
                  <a:pt x="5366" y="11843"/>
                </a:cubicBezTo>
                <a:cubicBezTo>
                  <a:pt x="5474" y="11738"/>
                  <a:pt x="5569" y="11617"/>
                  <a:pt x="5652" y="11494"/>
                </a:cubicBezTo>
                <a:cubicBezTo>
                  <a:pt x="5716" y="11399"/>
                  <a:pt x="5788" y="11312"/>
                  <a:pt x="5842" y="11208"/>
                </a:cubicBezTo>
                <a:cubicBezTo>
                  <a:pt x="5894" y="11108"/>
                  <a:pt x="5917" y="10992"/>
                  <a:pt x="5969" y="10890"/>
                </a:cubicBezTo>
                <a:cubicBezTo>
                  <a:pt x="6043" y="10745"/>
                  <a:pt x="6074" y="10627"/>
                  <a:pt x="6128" y="10478"/>
                </a:cubicBezTo>
                <a:cubicBezTo>
                  <a:pt x="6176" y="10347"/>
                  <a:pt x="6225" y="10233"/>
                  <a:pt x="6255" y="10096"/>
                </a:cubicBezTo>
                <a:cubicBezTo>
                  <a:pt x="6276" y="10001"/>
                  <a:pt x="6299" y="9907"/>
                  <a:pt x="6318" y="9811"/>
                </a:cubicBezTo>
                <a:cubicBezTo>
                  <a:pt x="6340" y="9700"/>
                  <a:pt x="6364" y="9603"/>
                  <a:pt x="6382" y="9493"/>
                </a:cubicBezTo>
                <a:cubicBezTo>
                  <a:pt x="6402" y="9374"/>
                  <a:pt x="6403" y="9265"/>
                  <a:pt x="6414" y="9144"/>
                </a:cubicBezTo>
                <a:cubicBezTo>
                  <a:pt x="6423" y="9047"/>
                  <a:pt x="6439" y="8954"/>
                  <a:pt x="6445" y="8858"/>
                </a:cubicBezTo>
                <a:cubicBezTo>
                  <a:pt x="6455" y="8685"/>
                  <a:pt x="6423" y="8512"/>
                  <a:pt x="6414" y="8350"/>
                </a:cubicBezTo>
                <a:cubicBezTo>
                  <a:pt x="6408" y="8247"/>
                  <a:pt x="6399" y="8152"/>
                  <a:pt x="6382" y="8064"/>
                </a:cubicBezTo>
                <a:cubicBezTo>
                  <a:pt x="6370" y="8001"/>
                  <a:pt x="6373" y="7962"/>
                  <a:pt x="6350" y="7906"/>
                </a:cubicBezTo>
                <a:cubicBezTo>
                  <a:pt x="6334" y="7866"/>
                  <a:pt x="6305" y="7816"/>
                  <a:pt x="6286" y="7779"/>
                </a:cubicBezTo>
                <a:cubicBezTo>
                  <a:pt x="6266" y="7741"/>
                  <a:pt x="6243" y="7721"/>
                  <a:pt x="6223" y="7684"/>
                </a:cubicBezTo>
              </a:path>
              <a:path w="16607" h="7367">
                <a:moveTo>
                  <a:pt x="6286" y="7747"/>
                </a:moveTo>
                <a:cubicBezTo>
                  <a:pt x="6328" y="7768"/>
                  <a:pt x="6301" y="7753"/>
                  <a:pt x="6286" y="7810"/>
                </a:cubicBezTo>
                <a:cubicBezTo>
                  <a:pt x="6326" y="7797"/>
                  <a:pt x="6331" y="7709"/>
                  <a:pt x="6350" y="7747"/>
                </a:cubicBezTo>
                <a:cubicBezTo>
                  <a:pt x="6350" y="7758"/>
                  <a:pt x="6350" y="7768"/>
                  <a:pt x="6350" y="7779"/>
                </a:cubicBezTo>
              </a:path>
              <a:path w="16607" h="7367">
                <a:moveTo>
                  <a:pt x="1937" y="10478"/>
                </a:moveTo>
                <a:cubicBezTo>
                  <a:pt x="1947" y="10478"/>
                  <a:pt x="1958" y="10478"/>
                  <a:pt x="1968" y="10478"/>
                </a:cubicBezTo>
                <a:cubicBezTo>
                  <a:pt x="1955" y="10439"/>
                  <a:pt x="1912" y="10420"/>
                  <a:pt x="1905" y="10478"/>
                </a:cubicBezTo>
                <a:cubicBezTo>
                  <a:pt x="1898" y="10536"/>
                  <a:pt x="1904" y="10561"/>
                  <a:pt x="1937" y="10604"/>
                </a:cubicBezTo>
                <a:cubicBezTo>
                  <a:pt x="2000" y="10588"/>
                  <a:pt x="2000" y="10573"/>
                  <a:pt x="2000" y="10509"/>
                </a:cubicBezTo>
                <a:cubicBezTo>
                  <a:pt x="2000" y="10469"/>
                  <a:pt x="1989" y="10425"/>
                  <a:pt x="1968" y="10414"/>
                </a:cubicBezTo>
                <a:cubicBezTo>
                  <a:pt x="1911" y="10385"/>
                  <a:pt x="1887" y="10488"/>
                  <a:pt x="1873" y="10509"/>
                </a:cubicBezTo>
                <a:cubicBezTo>
                  <a:pt x="1834" y="10568"/>
                  <a:pt x="1830" y="10577"/>
                  <a:pt x="1873" y="10636"/>
                </a:cubicBezTo>
                <a:cubicBezTo>
                  <a:pt x="1941" y="10619"/>
                  <a:pt x="1936" y="10589"/>
                  <a:pt x="1968" y="10541"/>
                </a:cubicBezTo>
                <a:cubicBezTo>
                  <a:pt x="1988" y="10511"/>
                  <a:pt x="2025" y="10458"/>
                  <a:pt x="2000" y="10414"/>
                </a:cubicBezTo>
                <a:cubicBezTo>
                  <a:pt x="1943" y="10312"/>
                  <a:pt x="1949" y="10425"/>
                  <a:pt x="1937" y="10446"/>
                </a:cubicBezTo>
                <a:cubicBezTo>
                  <a:pt x="1907" y="10499"/>
                  <a:pt x="1905" y="10508"/>
                  <a:pt x="1905" y="10573"/>
                </a:cubicBezTo>
                <a:cubicBezTo>
                  <a:pt x="1982" y="10573"/>
                  <a:pt x="1965" y="10560"/>
                  <a:pt x="2000" y="10509"/>
                </a:cubicBezTo>
                <a:cubicBezTo>
                  <a:pt x="2034" y="10459"/>
                  <a:pt x="2032" y="10446"/>
                  <a:pt x="2032" y="10382"/>
                </a:cubicBezTo>
                <a:cubicBezTo>
                  <a:pt x="2032" y="10302"/>
                  <a:pt x="1966" y="10372"/>
                  <a:pt x="1937" y="10382"/>
                </a:cubicBezTo>
                <a:cubicBezTo>
                  <a:pt x="1886" y="10399"/>
                  <a:pt x="1924" y="10397"/>
                  <a:pt x="1873" y="10414"/>
                </a:cubicBezTo>
                <a:cubicBezTo>
                  <a:pt x="1889" y="10462"/>
                  <a:pt x="1911" y="10446"/>
                  <a:pt x="1968" y="10446"/>
                </a:cubicBezTo>
              </a:path>
              <a:path w="16607" h="7367">
                <a:moveTo>
                  <a:pt x="6255" y="7652"/>
                </a:moveTo>
                <a:cubicBezTo>
                  <a:pt x="6236" y="7594"/>
                  <a:pt x="6208" y="7633"/>
                  <a:pt x="6191" y="7684"/>
                </a:cubicBezTo>
                <a:cubicBezTo>
                  <a:pt x="6170" y="7746"/>
                  <a:pt x="6128" y="7769"/>
                  <a:pt x="6128" y="7842"/>
                </a:cubicBezTo>
                <a:cubicBezTo>
                  <a:pt x="6128" y="7853"/>
                  <a:pt x="6128" y="7863"/>
                  <a:pt x="6128" y="7874"/>
                </a:cubicBezTo>
                <a:cubicBezTo>
                  <a:pt x="6194" y="7896"/>
                  <a:pt x="6150" y="7883"/>
                  <a:pt x="6255" y="7874"/>
                </a:cubicBezTo>
                <a:cubicBezTo>
                  <a:pt x="6348" y="7866"/>
                  <a:pt x="6321" y="7804"/>
                  <a:pt x="6350" y="7747"/>
                </a:cubicBezTo>
                <a:cubicBezTo>
                  <a:pt x="6382" y="7684"/>
                  <a:pt x="6399" y="7716"/>
                  <a:pt x="6350" y="7652"/>
                </a:cubicBezTo>
                <a:cubicBezTo>
                  <a:pt x="6305" y="7663"/>
                  <a:pt x="6260" y="7673"/>
                  <a:pt x="6255" y="7715"/>
                </a:cubicBezTo>
                <a:cubicBezTo>
                  <a:pt x="6251" y="7745"/>
                  <a:pt x="6255" y="7779"/>
                  <a:pt x="6255" y="7810"/>
                </a:cubicBezTo>
                <a:cubicBezTo>
                  <a:pt x="6329" y="7810"/>
                  <a:pt x="6382" y="7823"/>
                  <a:pt x="6414" y="7779"/>
                </a:cubicBezTo>
                <a:cubicBezTo>
                  <a:pt x="6450" y="7731"/>
                  <a:pt x="6445" y="7713"/>
                  <a:pt x="6445" y="7652"/>
                </a:cubicBezTo>
                <a:cubicBezTo>
                  <a:pt x="6445" y="7620"/>
                  <a:pt x="6445" y="7610"/>
                  <a:pt x="6414" y="7620"/>
                </a:cubicBezTo>
                <a:cubicBezTo>
                  <a:pt x="6367" y="7632"/>
                  <a:pt x="6334" y="7667"/>
                  <a:pt x="6318" y="7715"/>
                </a:cubicBezTo>
                <a:cubicBezTo>
                  <a:pt x="6296" y="7781"/>
                  <a:pt x="6332" y="7779"/>
                  <a:pt x="6382" y="7779"/>
                </a:cubicBezTo>
                <a:cubicBezTo>
                  <a:pt x="6430" y="7779"/>
                  <a:pt x="6444" y="7748"/>
                  <a:pt x="6477" y="7715"/>
                </a:cubicBezTo>
                <a:cubicBezTo>
                  <a:pt x="6455" y="7672"/>
                  <a:pt x="6455" y="7705"/>
                  <a:pt x="6414" y="7747"/>
                </a:cubicBezTo>
              </a:path>
              <a:path w="16607" h="7367">
                <a:moveTo>
                  <a:pt x="6318" y="7747"/>
                </a:moveTo>
                <a:cubicBezTo>
                  <a:pt x="6318" y="7758"/>
                  <a:pt x="6318" y="7768"/>
                  <a:pt x="6318" y="7779"/>
                </a:cubicBezTo>
                <a:cubicBezTo>
                  <a:pt x="6283" y="7788"/>
                  <a:pt x="6282" y="7790"/>
                  <a:pt x="6255" y="7810"/>
                </a:cubicBezTo>
                <a:cubicBezTo>
                  <a:pt x="6242" y="7819"/>
                  <a:pt x="6188" y="7855"/>
                  <a:pt x="6160" y="7874"/>
                </a:cubicBezTo>
                <a:cubicBezTo>
                  <a:pt x="6142" y="7890"/>
                  <a:pt x="6108" y="7947"/>
                  <a:pt x="6064" y="7969"/>
                </a:cubicBezTo>
                <a:cubicBezTo>
                  <a:pt x="6053" y="7969"/>
                  <a:pt x="6043" y="7969"/>
                  <a:pt x="6032" y="7969"/>
                </a:cubicBezTo>
                <a:cubicBezTo>
                  <a:pt x="6014" y="7985"/>
                  <a:pt x="5981" y="8042"/>
                  <a:pt x="5937" y="8064"/>
                </a:cubicBezTo>
                <a:cubicBezTo>
                  <a:pt x="5927" y="8064"/>
                  <a:pt x="5916" y="8064"/>
                  <a:pt x="5906" y="8064"/>
                </a:cubicBezTo>
                <a:cubicBezTo>
                  <a:pt x="5897" y="8099"/>
                  <a:pt x="5894" y="8101"/>
                  <a:pt x="5874" y="8128"/>
                </a:cubicBezTo>
                <a:cubicBezTo>
                  <a:pt x="5838" y="8151"/>
                  <a:pt x="5790" y="8198"/>
                  <a:pt x="5747" y="8223"/>
                </a:cubicBezTo>
                <a:cubicBezTo>
                  <a:pt x="5736" y="8223"/>
                  <a:pt x="5726" y="8223"/>
                  <a:pt x="5715" y="8223"/>
                </a:cubicBezTo>
                <a:cubicBezTo>
                  <a:pt x="5702" y="8232"/>
                  <a:pt x="5648" y="8268"/>
                  <a:pt x="5620" y="8287"/>
                </a:cubicBezTo>
                <a:cubicBezTo>
                  <a:pt x="5610" y="8294"/>
                  <a:pt x="5542" y="8334"/>
                  <a:pt x="5524" y="8350"/>
                </a:cubicBezTo>
                <a:cubicBezTo>
                  <a:pt x="5475" y="8393"/>
                  <a:pt x="5448" y="8409"/>
                  <a:pt x="5398" y="8446"/>
                </a:cubicBezTo>
                <a:cubicBezTo>
                  <a:pt x="5374" y="8493"/>
                  <a:pt x="5375" y="8482"/>
                  <a:pt x="5334" y="8509"/>
                </a:cubicBezTo>
                <a:cubicBezTo>
                  <a:pt x="5303" y="8537"/>
                  <a:pt x="5291" y="8578"/>
                  <a:pt x="5239" y="8604"/>
                </a:cubicBezTo>
                <a:cubicBezTo>
                  <a:pt x="5228" y="8604"/>
                  <a:pt x="5218" y="8604"/>
                  <a:pt x="5207" y="8604"/>
                </a:cubicBezTo>
                <a:cubicBezTo>
                  <a:pt x="5189" y="8620"/>
                  <a:pt x="5156" y="8678"/>
                  <a:pt x="5112" y="8700"/>
                </a:cubicBezTo>
                <a:cubicBezTo>
                  <a:pt x="5101" y="8700"/>
                  <a:pt x="5091" y="8700"/>
                  <a:pt x="5080" y="8700"/>
                </a:cubicBezTo>
                <a:cubicBezTo>
                  <a:pt x="5059" y="8721"/>
                  <a:pt x="5024" y="8760"/>
                  <a:pt x="4985" y="8795"/>
                </a:cubicBezTo>
                <a:cubicBezTo>
                  <a:pt x="4969" y="8810"/>
                  <a:pt x="4935" y="8844"/>
                  <a:pt x="4921" y="8858"/>
                </a:cubicBezTo>
                <a:cubicBezTo>
                  <a:pt x="4874" y="8890"/>
                  <a:pt x="4812" y="8921"/>
                  <a:pt x="4762" y="8954"/>
                </a:cubicBezTo>
                <a:cubicBezTo>
                  <a:pt x="4710" y="8988"/>
                  <a:pt x="4659" y="9009"/>
                  <a:pt x="4604" y="9049"/>
                </a:cubicBezTo>
                <a:cubicBezTo>
                  <a:pt x="4572" y="9072"/>
                  <a:pt x="4506" y="9126"/>
                  <a:pt x="4477" y="9144"/>
                </a:cubicBezTo>
                <a:cubicBezTo>
                  <a:pt x="4419" y="9181"/>
                  <a:pt x="4305" y="9205"/>
                  <a:pt x="4254" y="9239"/>
                </a:cubicBezTo>
                <a:cubicBezTo>
                  <a:pt x="4201" y="9274"/>
                  <a:pt x="4156" y="9342"/>
                  <a:pt x="4096" y="9366"/>
                </a:cubicBezTo>
                <a:cubicBezTo>
                  <a:pt x="4018" y="9397"/>
                  <a:pt x="4004" y="9413"/>
                  <a:pt x="3937" y="9462"/>
                </a:cubicBezTo>
                <a:cubicBezTo>
                  <a:pt x="3884" y="9501"/>
                  <a:pt x="3833" y="9552"/>
                  <a:pt x="3778" y="9588"/>
                </a:cubicBezTo>
                <a:cubicBezTo>
                  <a:pt x="3713" y="9630"/>
                  <a:pt x="3651" y="9633"/>
                  <a:pt x="3588" y="9684"/>
                </a:cubicBezTo>
                <a:cubicBezTo>
                  <a:pt x="3550" y="9715"/>
                  <a:pt x="3490" y="9755"/>
                  <a:pt x="3461" y="9779"/>
                </a:cubicBezTo>
                <a:cubicBezTo>
                  <a:pt x="3398" y="9832"/>
                  <a:pt x="3319" y="9869"/>
                  <a:pt x="3270" y="9906"/>
                </a:cubicBezTo>
                <a:cubicBezTo>
                  <a:pt x="3220" y="9945"/>
                  <a:pt x="3153" y="10000"/>
                  <a:pt x="3112" y="10033"/>
                </a:cubicBezTo>
                <a:cubicBezTo>
                  <a:pt x="3057" y="10078"/>
                  <a:pt x="3004" y="10126"/>
                  <a:pt x="2953" y="10160"/>
                </a:cubicBezTo>
                <a:cubicBezTo>
                  <a:pt x="2893" y="10200"/>
                  <a:pt x="2857" y="10217"/>
                  <a:pt x="2794" y="10255"/>
                </a:cubicBezTo>
                <a:cubicBezTo>
                  <a:pt x="2746" y="10284"/>
                  <a:pt x="2716" y="10317"/>
                  <a:pt x="2667" y="10350"/>
                </a:cubicBezTo>
                <a:cubicBezTo>
                  <a:pt x="2620" y="10382"/>
                  <a:pt x="2558" y="10413"/>
                  <a:pt x="2508" y="10446"/>
                </a:cubicBezTo>
                <a:cubicBezTo>
                  <a:pt x="2466" y="10474"/>
                  <a:pt x="2420" y="10485"/>
                  <a:pt x="2381" y="10509"/>
                </a:cubicBezTo>
                <a:cubicBezTo>
                  <a:pt x="2338" y="10535"/>
                  <a:pt x="2301" y="10582"/>
                  <a:pt x="2254" y="10604"/>
                </a:cubicBezTo>
                <a:cubicBezTo>
                  <a:pt x="2227" y="10617"/>
                  <a:pt x="2186" y="10622"/>
                  <a:pt x="2159" y="10636"/>
                </a:cubicBezTo>
                <a:cubicBezTo>
                  <a:pt x="2150" y="10641"/>
                  <a:pt x="2099" y="10691"/>
                  <a:pt x="2064" y="10700"/>
                </a:cubicBezTo>
                <a:cubicBezTo>
                  <a:pt x="2034" y="10708"/>
                  <a:pt x="1998" y="10692"/>
                  <a:pt x="1968" y="10700"/>
                </a:cubicBezTo>
              </a:path>
              <a:path w="16607" h="7367">
                <a:moveTo>
                  <a:pt x="1048" y="10922"/>
                </a:moveTo>
                <a:cubicBezTo>
                  <a:pt x="1002" y="10968"/>
                  <a:pt x="990" y="11005"/>
                  <a:pt x="952" y="11049"/>
                </a:cubicBezTo>
                <a:cubicBezTo>
                  <a:pt x="897" y="11112"/>
                  <a:pt x="864" y="11163"/>
                  <a:pt x="826" y="11240"/>
                </a:cubicBezTo>
                <a:cubicBezTo>
                  <a:pt x="774" y="11344"/>
                  <a:pt x="705" y="11442"/>
                  <a:pt x="698" y="11557"/>
                </a:cubicBezTo>
                <a:cubicBezTo>
                  <a:pt x="693" y="11646"/>
                  <a:pt x="675" y="11775"/>
                  <a:pt x="730" y="11843"/>
                </a:cubicBezTo>
                <a:cubicBezTo>
                  <a:pt x="772" y="11895"/>
                  <a:pt x="816" y="11895"/>
                  <a:pt x="857" y="11874"/>
                </a:cubicBezTo>
              </a:path>
              <a:path w="16607" h="7367">
                <a:moveTo>
                  <a:pt x="952" y="11398"/>
                </a:moveTo>
                <a:cubicBezTo>
                  <a:pt x="1001" y="11361"/>
                  <a:pt x="1018" y="11366"/>
                  <a:pt x="1080" y="11366"/>
                </a:cubicBezTo>
              </a:path>
              <a:path w="16607" h="7367">
                <a:moveTo>
                  <a:pt x="1238" y="11112"/>
                </a:moveTo>
                <a:cubicBezTo>
                  <a:pt x="1238" y="11177"/>
                  <a:pt x="1224" y="11187"/>
                  <a:pt x="1206" y="11240"/>
                </a:cubicBezTo>
                <a:cubicBezTo>
                  <a:pt x="1191" y="11284"/>
                  <a:pt x="1179" y="11352"/>
                  <a:pt x="1175" y="11398"/>
                </a:cubicBezTo>
                <a:cubicBezTo>
                  <a:pt x="1172" y="11429"/>
                  <a:pt x="1175" y="11463"/>
                  <a:pt x="1175" y="11494"/>
                </a:cubicBezTo>
                <a:cubicBezTo>
                  <a:pt x="1217" y="11494"/>
                  <a:pt x="1260" y="11494"/>
                  <a:pt x="1302" y="11494"/>
                </a:cubicBezTo>
                <a:cubicBezTo>
                  <a:pt x="1321" y="11549"/>
                  <a:pt x="1351" y="11527"/>
                  <a:pt x="1397" y="11494"/>
                </a:cubicBezTo>
              </a:path>
              <a:path w="16607" h="7367">
                <a:moveTo>
                  <a:pt x="1397" y="11112"/>
                </a:moveTo>
                <a:cubicBezTo>
                  <a:pt x="1397" y="11236"/>
                  <a:pt x="1385" y="11346"/>
                  <a:pt x="1365" y="11462"/>
                </a:cubicBezTo>
                <a:cubicBezTo>
                  <a:pt x="1348" y="11562"/>
                  <a:pt x="1358" y="11651"/>
                  <a:pt x="1334" y="11748"/>
                </a:cubicBezTo>
                <a:cubicBezTo>
                  <a:pt x="1334" y="11779"/>
                  <a:pt x="1334" y="11790"/>
                  <a:pt x="1334" y="11811"/>
                </a:cubicBezTo>
              </a:path>
              <a:path w="16607" h="7367">
                <a:moveTo>
                  <a:pt x="1460" y="11684"/>
                </a:moveTo>
                <a:cubicBezTo>
                  <a:pt x="1460" y="11773"/>
                  <a:pt x="1451" y="11831"/>
                  <a:pt x="1429" y="11906"/>
                </a:cubicBezTo>
                <a:cubicBezTo>
                  <a:pt x="1421" y="11932"/>
                  <a:pt x="1429" y="11975"/>
                  <a:pt x="1429" y="12002"/>
                </a:cubicBezTo>
              </a:path>
              <a:path w="16607" h="7367">
                <a:moveTo>
                  <a:pt x="1683" y="11303"/>
                </a:moveTo>
                <a:cubicBezTo>
                  <a:pt x="1683" y="11292"/>
                  <a:pt x="1683" y="11282"/>
                  <a:pt x="1683" y="11271"/>
                </a:cubicBezTo>
                <a:cubicBezTo>
                  <a:pt x="1754" y="11271"/>
                  <a:pt x="1783" y="11259"/>
                  <a:pt x="1842" y="11240"/>
                </a:cubicBezTo>
                <a:cubicBezTo>
                  <a:pt x="1852" y="11240"/>
                  <a:pt x="1863" y="11240"/>
                  <a:pt x="1873" y="11240"/>
                </a:cubicBezTo>
              </a:path>
              <a:path w="16607" h="7367">
                <a:moveTo>
                  <a:pt x="1968" y="11176"/>
                </a:moveTo>
                <a:cubicBezTo>
                  <a:pt x="1968" y="11158"/>
                  <a:pt x="1956" y="11148"/>
                  <a:pt x="1905" y="11176"/>
                </a:cubicBezTo>
                <a:cubicBezTo>
                  <a:pt x="1830" y="11218"/>
                  <a:pt x="1874" y="11213"/>
                  <a:pt x="1842" y="11271"/>
                </a:cubicBezTo>
                <a:cubicBezTo>
                  <a:pt x="1814" y="11320"/>
                  <a:pt x="1810" y="11308"/>
                  <a:pt x="1810" y="11366"/>
                </a:cubicBezTo>
                <a:cubicBezTo>
                  <a:pt x="1882" y="11366"/>
                  <a:pt x="1910" y="11378"/>
                  <a:pt x="1968" y="11398"/>
                </a:cubicBezTo>
                <a:cubicBezTo>
                  <a:pt x="2020" y="11415"/>
                  <a:pt x="2057" y="11432"/>
                  <a:pt x="2064" y="11494"/>
                </a:cubicBezTo>
                <a:cubicBezTo>
                  <a:pt x="2072" y="11563"/>
                  <a:pt x="2077" y="11634"/>
                  <a:pt x="2032" y="11684"/>
                </a:cubicBezTo>
                <a:cubicBezTo>
                  <a:pt x="1993" y="11728"/>
                  <a:pt x="1960" y="11716"/>
                  <a:pt x="1905" y="11716"/>
                </a:cubicBezTo>
                <a:cubicBezTo>
                  <a:pt x="1865" y="11716"/>
                  <a:pt x="1821" y="11705"/>
                  <a:pt x="1810" y="11684"/>
                </a:cubicBezTo>
                <a:cubicBezTo>
                  <a:pt x="1810" y="11652"/>
                  <a:pt x="1810" y="11641"/>
                  <a:pt x="1810" y="11620"/>
                </a:cubicBezTo>
              </a:path>
              <a:path w="16607" h="7367">
                <a:moveTo>
                  <a:pt x="2000" y="11049"/>
                </a:moveTo>
                <a:cubicBezTo>
                  <a:pt x="2053" y="11089"/>
                  <a:pt x="2089" y="11112"/>
                  <a:pt x="2127" y="11176"/>
                </a:cubicBezTo>
                <a:cubicBezTo>
                  <a:pt x="2181" y="11266"/>
                  <a:pt x="2208" y="11392"/>
                  <a:pt x="2222" y="11494"/>
                </a:cubicBezTo>
                <a:cubicBezTo>
                  <a:pt x="2238" y="11611"/>
                  <a:pt x="2253" y="11836"/>
                  <a:pt x="2191" y="11938"/>
                </a:cubicBezTo>
                <a:cubicBezTo>
                  <a:pt x="2169" y="11974"/>
                  <a:pt x="2141" y="12045"/>
                  <a:pt x="2096" y="12065"/>
                </a:cubicBezTo>
                <a:cubicBezTo>
                  <a:pt x="2085" y="12065"/>
                  <a:pt x="2075" y="12065"/>
                  <a:pt x="2064" y="12065"/>
                </a:cubicBezTo>
              </a:path>
              <a:path w="16607" h="7367">
                <a:moveTo>
                  <a:pt x="1810" y="11208"/>
                </a:moveTo>
                <a:cubicBezTo>
                  <a:pt x="1810" y="11197"/>
                  <a:pt x="1810" y="11187"/>
                  <a:pt x="1810" y="11176"/>
                </a:cubicBezTo>
                <a:cubicBezTo>
                  <a:pt x="1873" y="11176"/>
                  <a:pt x="1937" y="11176"/>
                  <a:pt x="2000" y="11176"/>
                </a:cubicBezTo>
              </a:path>
              <a:path w="16607" h="7367">
                <a:moveTo>
                  <a:pt x="7556" y="7017"/>
                </a:moveTo>
                <a:cubicBezTo>
                  <a:pt x="7513" y="7031"/>
                  <a:pt x="7514" y="7078"/>
                  <a:pt x="7461" y="7112"/>
                </a:cubicBezTo>
                <a:cubicBezTo>
                  <a:pt x="7367" y="7173"/>
                  <a:pt x="7305" y="7243"/>
                  <a:pt x="7239" y="7334"/>
                </a:cubicBezTo>
                <a:cubicBezTo>
                  <a:pt x="7164" y="7437"/>
                  <a:pt x="7101" y="7541"/>
                  <a:pt x="7048" y="7652"/>
                </a:cubicBezTo>
                <a:cubicBezTo>
                  <a:pt x="7008" y="7737"/>
                  <a:pt x="7017" y="7813"/>
                  <a:pt x="7017" y="7906"/>
                </a:cubicBezTo>
                <a:cubicBezTo>
                  <a:pt x="7017" y="8003"/>
                  <a:pt x="7050" y="7993"/>
                  <a:pt x="7112" y="8033"/>
                </a:cubicBezTo>
                <a:cubicBezTo>
                  <a:pt x="7168" y="8069"/>
                  <a:pt x="7170" y="8041"/>
                  <a:pt x="7239" y="8001"/>
                </a:cubicBezTo>
              </a:path>
              <a:path w="16607" h="7367">
                <a:moveTo>
                  <a:pt x="7430" y="7461"/>
                </a:moveTo>
                <a:cubicBezTo>
                  <a:pt x="7487" y="7442"/>
                  <a:pt x="7461" y="7430"/>
                  <a:pt x="7556" y="7430"/>
                </a:cubicBezTo>
                <a:cubicBezTo>
                  <a:pt x="7629" y="7430"/>
                  <a:pt x="7680" y="7403"/>
                  <a:pt x="7747" y="7398"/>
                </a:cubicBezTo>
                <a:cubicBezTo>
                  <a:pt x="7835" y="7392"/>
                  <a:pt x="7877" y="7391"/>
                  <a:pt x="7874" y="7398"/>
                </a:cubicBezTo>
                <a:cubicBezTo>
                  <a:pt x="7852" y="7453"/>
                  <a:pt x="7812" y="7501"/>
                  <a:pt x="7779" y="7556"/>
                </a:cubicBezTo>
                <a:cubicBezTo>
                  <a:pt x="7750" y="7604"/>
                  <a:pt x="7724" y="7703"/>
                  <a:pt x="7715" y="7747"/>
                </a:cubicBezTo>
                <a:cubicBezTo>
                  <a:pt x="7700" y="7820"/>
                  <a:pt x="7732" y="7847"/>
                  <a:pt x="7747" y="7906"/>
                </a:cubicBezTo>
              </a:path>
              <a:path w="16607" h="7367">
                <a:moveTo>
                  <a:pt x="8033" y="7652"/>
                </a:moveTo>
                <a:cubicBezTo>
                  <a:pt x="8033" y="7720"/>
                  <a:pt x="8005" y="7754"/>
                  <a:pt x="8001" y="7810"/>
                </a:cubicBezTo>
                <a:cubicBezTo>
                  <a:pt x="7996" y="7883"/>
                  <a:pt x="8001" y="7960"/>
                  <a:pt x="8001" y="8033"/>
                </a:cubicBezTo>
              </a:path>
              <a:path w="16607" h="7367">
                <a:moveTo>
                  <a:pt x="8255" y="7461"/>
                </a:moveTo>
                <a:cubicBezTo>
                  <a:pt x="8265" y="7421"/>
                  <a:pt x="8304" y="7354"/>
                  <a:pt x="8350" y="7334"/>
                </a:cubicBezTo>
                <a:cubicBezTo>
                  <a:pt x="8431" y="7298"/>
                  <a:pt x="8418" y="7311"/>
                  <a:pt x="8509" y="7334"/>
                </a:cubicBezTo>
                <a:cubicBezTo>
                  <a:pt x="8572" y="7350"/>
                  <a:pt x="8551" y="7385"/>
                  <a:pt x="8541" y="7430"/>
                </a:cubicBezTo>
                <a:cubicBezTo>
                  <a:pt x="8532" y="7470"/>
                  <a:pt x="8491" y="7536"/>
                  <a:pt x="8446" y="7556"/>
                </a:cubicBezTo>
                <a:cubicBezTo>
                  <a:pt x="8397" y="7578"/>
                  <a:pt x="8401" y="7550"/>
                  <a:pt x="8350" y="7588"/>
                </a:cubicBezTo>
                <a:cubicBezTo>
                  <a:pt x="8357" y="7568"/>
                  <a:pt x="8402" y="7506"/>
                  <a:pt x="8446" y="7525"/>
                </a:cubicBezTo>
                <a:cubicBezTo>
                  <a:pt x="8493" y="7546"/>
                  <a:pt x="8577" y="7559"/>
                  <a:pt x="8604" y="7620"/>
                </a:cubicBezTo>
                <a:cubicBezTo>
                  <a:pt x="8621" y="7659"/>
                  <a:pt x="8616" y="7788"/>
                  <a:pt x="8572" y="7810"/>
                </a:cubicBezTo>
                <a:cubicBezTo>
                  <a:pt x="8531" y="7830"/>
                  <a:pt x="8497" y="7842"/>
                  <a:pt x="8446" y="7842"/>
                </a:cubicBezTo>
                <a:cubicBezTo>
                  <a:pt x="8398" y="7842"/>
                  <a:pt x="8313" y="7863"/>
                  <a:pt x="8287" y="7810"/>
                </a:cubicBezTo>
                <a:cubicBezTo>
                  <a:pt x="8287" y="7800"/>
                  <a:pt x="8287" y="7789"/>
                  <a:pt x="8287" y="7779"/>
                </a:cubicBezTo>
              </a:path>
              <a:path w="16607" h="7367">
                <a:moveTo>
                  <a:pt x="8604" y="7080"/>
                </a:moveTo>
                <a:cubicBezTo>
                  <a:pt x="8683" y="7100"/>
                  <a:pt x="8711" y="7147"/>
                  <a:pt x="8763" y="7207"/>
                </a:cubicBezTo>
                <a:cubicBezTo>
                  <a:pt x="8853" y="7310"/>
                  <a:pt x="8870" y="7399"/>
                  <a:pt x="8922" y="7525"/>
                </a:cubicBezTo>
                <a:cubicBezTo>
                  <a:pt x="8965" y="7629"/>
                  <a:pt x="8954" y="7729"/>
                  <a:pt x="8954" y="7842"/>
                </a:cubicBezTo>
                <a:cubicBezTo>
                  <a:pt x="8954" y="7902"/>
                  <a:pt x="8909" y="7997"/>
                  <a:pt x="8858" y="8033"/>
                </a:cubicBezTo>
                <a:cubicBezTo>
                  <a:pt x="8794" y="8078"/>
                  <a:pt x="8764" y="8114"/>
                  <a:pt x="8700" y="8160"/>
                </a:cubicBezTo>
              </a:path>
              <a:path w="16607" h="7367">
                <a:moveTo>
                  <a:pt x="3937" y="9398"/>
                </a:moveTo>
                <a:cubicBezTo>
                  <a:pt x="3841" y="9398"/>
                  <a:pt x="3999" y="9396"/>
                  <a:pt x="4000" y="9398"/>
                </a:cubicBezTo>
                <a:cubicBezTo>
                  <a:pt x="4024" y="9459"/>
                  <a:pt x="4018" y="9483"/>
                  <a:pt x="4032" y="9525"/>
                </a:cubicBezTo>
                <a:cubicBezTo>
                  <a:pt x="4081" y="9525"/>
                  <a:pt x="4116" y="9518"/>
                  <a:pt x="4128" y="9462"/>
                </a:cubicBezTo>
                <a:cubicBezTo>
                  <a:pt x="4139" y="9411"/>
                  <a:pt x="4144" y="9309"/>
                  <a:pt x="4096" y="9303"/>
                </a:cubicBezTo>
                <a:cubicBezTo>
                  <a:pt x="4078" y="9301"/>
                  <a:pt x="4009" y="9368"/>
                  <a:pt x="4000" y="9398"/>
                </a:cubicBezTo>
                <a:cubicBezTo>
                  <a:pt x="3978" y="9474"/>
                  <a:pt x="4039" y="9511"/>
                  <a:pt x="4096" y="9525"/>
                </a:cubicBezTo>
                <a:cubicBezTo>
                  <a:pt x="4139" y="9511"/>
                  <a:pt x="4141" y="9501"/>
                  <a:pt x="4159" y="9462"/>
                </a:cubicBezTo>
                <a:cubicBezTo>
                  <a:pt x="4180" y="9417"/>
                  <a:pt x="4210" y="9337"/>
                  <a:pt x="4159" y="9303"/>
                </a:cubicBezTo>
                <a:cubicBezTo>
                  <a:pt x="4149" y="9303"/>
                  <a:pt x="4138" y="9303"/>
                  <a:pt x="4128" y="9303"/>
                </a:cubicBezTo>
                <a:cubicBezTo>
                  <a:pt x="4095" y="9303"/>
                  <a:pt x="4015" y="9312"/>
                  <a:pt x="4000" y="9334"/>
                </a:cubicBezTo>
                <a:cubicBezTo>
                  <a:pt x="3980" y="9364"/>
                  <a:pt x="3970" y="9403"/>
                  <a:pt x="4000" y="9462"/>
                </a:cubicBezTo>
                <a:cubicBezTo>
                  <a:pt x="4027" y="9516"/>
                  <a:pt x="4057" y="9472"/>
                  <a:pt x="4096" y="9462"/>
                </a:cubicBezTo>
                <a:cubicBezTo>
                  <a:pt x="4150" y="9426"/>
                  <a:pt x="4139" y="9386"/>
                  <a:pt x="4128" y="9334"/>
                </a:cubicBezTo>
                <a:cubicBezTo>
                  <a:pt x="4114" y="9270"/>
                  <a:pt x="4101" y="9294"/>
                  <a:pt x="4064" y="9303"/>
                </a:cubicBezTo>
                <a:cubicBezTo>
                  <a:pt x="4012" y="9316"/>
                  <a:pt x="3989" y="9353"/>
                  <a:pt x="3937" y="9366"/>
                </a:cubicBezTo>
                <a:cubicBezTo>
                  <a:pt x="3966" y="9381"/>
                  <a:pt x="4020" y="9391"/>
                  <a:pt x="4064" y="9366"/>
                </a:cubicBezTo>
                <a:cubicBezTo>
                  <a:pt x="4120" y="9335"/>
                  <a:pt x="4128" y="9295"/>
                  <a:pt x="4128" y="9239"/>
                </a:cubicBezTo>
                <a:cubicBezTo>
                  <a:pt x="4061" y="9239"/>
                  <a:pt x="4060" y="9233"/>
                  <a:pt x="4032" y="9271"/>
                </a:cubicBezTo>
                <a:cubicBezTo>
                  <a:pt x="4010" y="9300"/>
                  <a:pt x="3911" y="9321"/>
                  <a:pt x="4000" y="9366"/>
                </a:cubicBezTo>
                <a:cubicBezTo>
                  <a:pt x="4046" y="9389"/>
                  <a:pt x="4087" y="9315"/>
                  <a:pt x="4096" y="9303"/>
                </a:cubicBezTo>
                <a:cubicBezTo>
                  <a:pt x="4134" y="9265"/>
                  <a:pt x="4148" y="9247"/>
                  <a:pt x="4159" y="9208"/>
                </a:cubicBezTo>
              </a:path>
              <a:path w="16607" h="7367">
                <a:moveTo>
                  <a:pt x="3905" y="9239"/>
                </a:moveTo>
                <a:cubicBezTo>
                  <a:pt x="3889" y="9191"/>
                  <a:pt x="3879" y="9180"/>
                  <a:pt x="3874" y="9144"/>
                </a:cubicBezTo>
                <a:cubicBezTo>
                  <a:pt x="3849" y="8956"/>
                  <a:pt x="3887" y="8741"/>
                  <a:pt x="3905" y="8572"/>
                </a:cubicBezTo>
                <a:cubicBezTo>
                  <a:pt x="3913" y="8501"/>
                  <a:pt x="3913" y="8449"/>
                  <a:pt x="3937" y="8382"/>
                </a:cubicBezTo>
                <a:cubicBezTo>
                  <a:pt x="3961" y="8317"/>
                  <a:pt x="3998" y="8242"/>
                  <a:pt x="4032" y="8192"/>
                </a:cubicBezTo>
                <a:cubicBezTo>
                  <a:pt x="4088" y="8110"/>
                  <a:pt x="4190" y="8054"/>
                  <a:pt x="4254" y="8001"/>
                </a:cubicBezTo>
                <a:cubicBezTo>
                  <a:pt x="4312" y="7953"/>
                  <a:pt x="4324" y="7963"/>
                  <a:pt x="4382" y="7938"/>
                </a:cubicBezTo>
                <a:cubicBezTo>
                  <a:pt x="4436" y="7915"/>
                  <a:pt x="4466" y="7892"/>
                  <a:pt x="4540" y="7906"/>
                </a:cubicBezTo>
                <a:cubicBezTo>
                  <a:pt x="4568" y="7911"/>
                  <a:pt x="4677" y="7953"/>
                  <a:pt x="4699" y="7969"/>
                </a:cubicBezTo>
                <a:cubicBezTo>
                  <a:pt x="4711" y="7978"/>
                  <a:pt x="4770" y="8033"/>
                  <a:pt x="4794" y="8064"/>
                </a:cubicBezTo>
                <a:cubicBezTo>
                  <a:pt x="4843" y="8129"/>
                  <a:pt x="4817" y="8137"/>
                  <a:pt x="4826" y="8064"/>
                </a:cubicBezTo>
                <a:cubicBezTo>
                  <a:pt x="4840" y="7952"/>
                  <a:pt x="4800" y="7811"/>
                  <a:pt x="4858" y="7747"/>
                </a:cubicBezTo>
                <a:cubicBezTo>
                  <a:pt x="4878" y="7725"/>
                  <a:pt x="4859" y="7731"/>
                  <a:pt x="4890" y="7779"/>
                </a:cubicBezTo>
                <a:cubicBezTo>
                  <a:pt x="4937" y="7853"/>
                  <a:pt x="4926" y="7807"/>
                  <a:pt x="4985" y="7842"/>
                </a:cubicBezTo>
                <a:cubicBezTo>
                  <a:pt x="5011" y="7858"/>
                  <a:pt x="5046" y="7889"/>
                  <a:pt x="5080" y="7906"/>
                </a:cubicBezTo>
                <a:cubicBezTo>
                  <a:pt x="5085" y="7890"/>
                  <a:pt x="5110" y="7866"/>
                  <a:pt x="5112" y="7810"/>
                </a:cubicBezTo>
                <a:cubicBezTo>
                  <a:pt x="5114" y="7759"/>
                  <a:pt x="5140" y="7719"/>
                  <a:pt x="5144" y="7684"/>
                </a:cubicBezTo>
                <a:cubicBezTo>
                  <a:pt x="5154" y="7602"/>
                  <a:pt x="5139" y="7592"/>
                  <a:pt x="5175" y="7525"/>
                </a:cubicBezTo>
                <a:cubicBezTo>
                  <a:pt x="5204" y="7472"/>
                  <a:pt x="5252" y="7404"/>
                  <a:pt x="5302" y="7366"/>
                </a:cubicBezTo>
                <a:cubicBezTo>
                  <a:pt x="5349" y="7330"/>
                  <a:pt x="5399" y="7312"/>
                  <a:pt x="5461" y="7302"/>
                </a:cubicBezTo>
                <a:cubicBezTo>
                  <a:pt x="5561" y="7287"/>
                  <a:pt x="5665" y="7304"/>
                  <a:pt x="5747" y="7334"/>
                </a:cubicBezTo>
                <a:cubicBezTo>
                  <a:pt x="5814" y="7359"/>
                  <a:pt x="5879" y="7385"/>
                  <a:pt x="5937" y="7430"/>
                </a:cubicBezTo>
                <a:cubicBezTo>
                  <a:pt x="5991" y="7472"/>
                  <a:pt x="6045" y="7512"/>
                  <a:pt x="6096" y="7556"/>
                </a:cubicBezTo>
                <a:cubicBezTo>
                  <a:pt x="6138" y="7592"/>
                  <a:pt x="6171" y="7638"/>
                  <a:pt x="6191" y="7684"/>
                </a:cubicBezTo>
                <a:cubicBezTo>
                  <a:pt x="6207" y="7720"/>
                  <a:pt x="6204" y="7741"/>
                  <a:pt x="6223" y="7779"/>
                </a:cubicBezTo>
              </a:path>
              <a:path w="16607" h="7367">
                <a:moveTo>
                  <a:pt x="10446" y="5906"/>
                </a:moveTo>
                <a:cubicBezTo>
                  <a:pt x="10446" y="5999"/>
                  <a:pt x="10427" y="6069"/>
                  <a:pt x="10414" y="6160"/>
                </a:cubicBezTo>
                <a:cubicBezTo>
                  <a:pt x="10403" y="6237"/>
                  <a:pt x="10395" y="6318"/>
                  <a:pt x="10382" y="6382"/>
                </a:cubicBezTo>
                <a:cubicBezTo>
                  <a:pt x="10371" y="6439"/>
                  <a:pt x="10382" y="6513"/>
                  <a:pt x="10382" y="6572"/>
                </a:cubicBezTo>
              </a:path>
              <a:path w="16607" h="7367">
                <a:moveTo>
                  <a:pt x="10001" y="6985"/>
                </a:moveTo>
                <a:cubicBezTo>
                  <a:pt x="10007" y="7036"/>
                  <a:pt x="10007" y="7102"/>
                  <a:pt x="10033" y="7144"/>
                </a:cubicBezTo>
                <a:cubicBezTo>
                  <a:pt x="10075" y="7212"/>
                  <a:pt x="10182" y="7256"/>
                  <a:pt x="10255" y="7271"/>
                </a:cubicBezTo>
                <a:cubicBezTo>
                  <a:pt x="10353" y="7292"/>
                  <a:pt x="10481" y="7274"/>
                  <a:pt x="10573" y="7239"/>
                </a:cubicBezTo>
                <a:cubicBezTo>
                  <a:pt x="10690" y="7194"/>
                  <a:pt x="10797" y="7163"/>
                  <a:pt x="10890" y="7080"/>
                </a:cubicBezTo>
                <a:cubicBezTo>
                  <a:pt x="11004" y="6978"/>
                  <a:pt x="11113" y="6885"/>
                  <a:pt x="11208" y="6763"/>
                </a:cubicBezTo>
                <a:cubicBezTo>
                  <a:pt x="11302" y="6642"/>
                  <a:pt x="11379" y="6489"/>
                  <a:pt x="11430" y="6350"/>
                </a:cubicBezTo>
                <a:cubicBezTo>
                  <a:pt x="11489" y="6190"/>
                  <a:pt x="11520" y="6011"/>
                  <a:pt x="11525" y="5842"/>
                </a:cubicBezTo>
                <a:cubicBezTo>
                  <a:pt x="11529" y="5682"/>
                  <a:pt x="11517" y="5576"/>
                  <a:pt x="11462" y="5429"/>
                </a:cubicBezTo>
                <a:cubicBezTo>
                  <a:pt x="11418" y="5311"/>
                  <a:pt x="11334" y="5192"/>
                  <a:pt x="11208" y="5144"/>
                </a:cubicBezTo>
                <a:cubicBezTo>
                  <a:pt x="11072" y="5092"/>
                  <a:pt x="10909" y="5058"/>
                  <a:pt x="10763" y="5080"/>
                </a:cubicBezTo>
                <a:cubicBezTo>
                  <a:pt x="10625" y="5101"/>
                  <a:pt x="10401" y="5186"/>
                  <a:pt x="10287" y="5270"/>
                </a:cubicBezTo>
                <a:cubicBezTo>
                  <a:pt x="10171" y="5355"/>
                  <a:pt x="10012" y="5499"/>
                  <a:pt x="9938" y="5620"/>
                </a:cubicBezTo>
                <a:cubicBezTo>
                  <a:pt x="9856" y="5754"/>
                  <a:pt x="9742" y="5974"/>
                  <a:pt x="9716" y="6128"/>
                </a:cubicBezTo>
                <a:cubicBezTo>
                  <a:pt x="9688" y="6290"/>
                  <a:pt x="9643" y="6538"/>
                  <a:pt x="9652" y="6699"/>
                </a:cubicBezTo>
                <a:cubicBezTo>
                  <a:pt x="9660" y="6851"/>
                  <a:pt x="9691" y="7032"/>
                  <a:pt x="9747" y="7176"/>
                </a:cubicBezTo>
                <a:cubicBezTo>
                  <a:pt x="9794" y="7297"/>
                  <a:pt x="9889" y="7327"/>
                  <a:pt x="10001" y="7366"/>
                </a:cubicBezTo>
                <a:cubicBezTo>
                  <a:pt x="10101" y="7401"/>
                  <a:pt x="10242" y="7419"/>
                  <a:pt x="10350" y="7398"/>
                </a:cubicBezTo>
                <a:cubicBezTo>
                  <a:pt x="10434" y="7370"/>
                  <a:pt x="10453" y="7359"/>
                  <a:pt x="10509" y="7366"/>
                </a:cubicBezTo>
              </a:path>
              <a:path w="16607" h="7367">
                <a:moveTo>
                  <a:pt x="12033" y="5906"/>
                </a:moveTo>
                <a:cubicBezTo>
                  <a:pt x="12033" y="6080"/>
                  <a:pt x="12020" y="6245"/>
                  <a:pt x="12002" y="6414"/>
                </a:cubicBezTo>
                <a:cubicBezTo>
                  <a:pt x="11977" y="6652"/>
                  <a:pt x="12002" y="6904"/>
                  <a:pt x="12002" y="7144"/>
                </a:cubicBezTo>
                <a:cubicBezTo>
                  <a:pt x="12002" y="7042"/>
                  <a:pt x="11979" y="6955"/>
                  <a:pt x="11970" y="6858"/>
                </a:cubicBezTo>
                <a:cubicBezTo>
                  <a:pt x="11947" y="6611"/>
                  <a:pt x="11943" y="6303"/>
                  <a:pt x="12002" y="6064"/>
                </a:cubicBezTo>
                <a:cubicBezTo>
                  <a:pt x="12034" y="5934"/>
                  <a:pt x="12075" y="5814"/>
                  <a:pt x="12160" y="5715"/>
                </a:cubicBezTo>
                <a:cubicBezTo>
                  <a:pt x="12189" y="5686"/>
                  <a:pt x="12195" y="5675"/>
                  <a:pt x="12224" y="5683"/>
                </a:cubicBezTo>
                <a:cubicBezTo>
                  <a:pt x="12311" y="5734"/>
                  <a:pt x="12344" y="5776"/>
                  <a:pt x="12382" y="5874"/>
                </a:cubicBezTo>
                <a:cubicBezTo>
                  <a:pt x="12437" y="6016"/>
                  <a:pt x="12418" y="6172"/>
                  <a:pt x="12446" y="6318"/>
                </a:cubicBezTo>
                <a:cubicBezTo>
                  <a:pt x="12473" y="6459"/>
                  <a:pt x="12478" y="6586"/>
                  <a:pt x="12478" y="6731"/>
                </a:cubicBezTo>
                <a:cubicBezTo>
                  <a:pt x="12478" y="6795"/>
                  <a:pt x="12478" y="6858"/>
                  <a:pt x="12478" y="6922"/>
                </a:cubicBezTo>
                <a:cubicBezTo>
                  <a:pt x="12463" y="6863"/>
                  <a:pt x="12446" y="6711"/>
                  <a:pt x="12446" y="6604"/>
                </a:cubicBezTo>
                <a:cubicBezTo>
                  <a:pt x="12446" y="6431"/>
                  <a:pt x="12493" y="6262"/>
                  <a:pt x="12541" y="6096"/>
                </a:cubicBezTo>
                <a:cubicBezTo>
                  <a:pt x="12576" y="5975"/>
                  <a:pt x="12614" y="5872"/>
                  <a:pt x="12700" y="5778"/>
                </a:cubicBezTo>
                <a:cubicBezTo>
                  <a:pt x="12736" y="5743"/>
                  <a:pt x="12753" y="5732"/>
                  <a:pt x="12795" y="5747"/>
                </a:cubicBezTo>
                <a:cubicBezTo>
                  <a:pt x="12857" y="5797"/>
                  <a:pt x="12877" y="5825"/>
                  <a:pt x="12890" y="5937"/>
                </a:cubicBezTo>
                <a:cubicBezTo>
                  <a:pt x="12907" y="6087"/>
                  <a:pt x="12922" y="6227"/>
                  <a:pt x="12922" y="6382"/>
                </a:cubicBezTo>
                <a:cubicBezTo>
                  <a:pt x="12922" y="6526"/>
                  <a:pt x="12947" y="6655"/>
                  <a:pt x="12954" y="6794"/>
                </a:cubicBezTo>
                <a:cubicBezTo>
                  <a:pt x="12958" y="6872"/>
                  <a:pt x="12965" y="6869"/>
                  <a:pt x="13018" y="6922"/>
                </a:cubicBezTo>
              </a:path>
              <a:path w="16607" h="7367">
                <a:moveTo>
                  <a:pt x="13176" y="6223"/>
                </a:moveTo>
                <a:cubicBezTo>
                  <a:pt x="13216" y="6328"/>
                  <a:pt x="13207" y="6429"/>
                  <a:pt x="13240" y="6540"/>
                </a:cubicBezTo>
                <a:cubicBezTo>
                  <a:pt x="13271" y="6644"/>
                  <a:pt x="13295" y="6750"/>
                  <a:pt x="13303" y="6858"/>
                </a:cubicBezTo>
                <a:cubicBezTo>
                  <a:pt x="13303" y="6894"/>
                  <a:pt x="13306" y="6908"/>
                  <a:pt x="13335" y="6922"/>
                </a:cubicBezTo>
              </a:path>
              <a:path w="16607" h="7367">
                <a:moveTo>
                  <a:pt x="13780" y="5620"/>
                </a:moveTo>
                <a:cubicBezTo>
                  <a:pt x="13817" y="5709"/>
                  <a:pt x="13840" y="5831"/>
                  <a:pt x="13843" y="5937"/>
                </a:cubicBezTo>
                <a:cubicBezTo>
                  <a:pt x="13848" y="6089"/>
                  <a:pt x="13870" y="6232"/>
                  <a:pt x="13875" y="6382"/>
                </a:cubicBezTo>
                <a:cubicBezTo>
                  <a:pt x="13879" y="6483"/>
                  <a:pt x="13906" y="6567"/>
                  <a:pt x="13906" y="6668"/>
                </a:cubicBezTo>
                <a:cubicBezTo>
                  <a:pt x="13906" y="6678"/>
                  <a:pt x="13906" y="6689"/>
                  <a:pt x="13906" y="6699"/>
                </a:cubicBezTo>
                <a:cubicBezTo>
                  <a:pt x="13920" y="6699"/>
                  <a:pt x="13928" y="6682"/>
                  <a:pt x="13906" y="6604"/>
                </a:cubicBezTo>
                <a:cubicBezTo>
                  <a:pt x="13878" y="6507"/>
                  <a:pt x="13825" y="6409"/>
                  <a:pt x="13780" y="6318"/>
                </a:cubicBezTo>
                <a:cubicBezTo>
                  <a:pt x="13737" y="6231"/>
                  <a:pt x="13710" y="6211"/>
                  <a:pt x="13621" y="6255"/>
                </a:cubicBezTo>
                <a:cubicBezTo>
                  <a:pt x="13539" y="6295"/>
                  <a:pt x="13475" y="6424"/>
                  <a:pt x="13462" y="6509"/>
                </a:cubicBezTo>
                <a:cubicBezTo>
                  <a:pt x="13446" y="6612"/>
                  <a:pt x="13452" y="6733"/>
                  <a:pt x="13494" y="6826"/>
                </a:cubicBezTo>
                <a:cubicBezTo>
                  <a:pt x="13526" y="6897"/>
                  <a:pt x="13605" y="6913"/>
                  <a:pt x="13684" y="6890"/>
                </a:cubicBezTo>
                <a:cubicBezTo>
                  <a:pt x="13778" y="6862"/>
                  <a:pt x="13840" y="6797"/>
                  <a:pt x="13906" y="6731"/>
                </a:cubicBezTo>
                <a:cubicBezTo>
                  <a:pt x="13917" y="6720"/>
                  <a:pt x="13927" y="6710"/>
                  <a:pt x="13938" y="6699"/>
                </a:cubicBezTo>
              </a:path>
              <a:path w="16607" h="7367">
                <a:moveTo>
                  <a:pt x="14160" y="6191"/>
                </a:moveTo>
                <a:cubicBezTo>
                  <a:pt x="14160" y="6284"/>
                  <a:pt x="14172" y="6388"/>
                  <a:pt x="14192" y="6477"/>
                </a:cubicBezTo>
                <a:cubicBezTo>
                  <a:pt x="14223" y="6616"/>
                  <a:pt x="14244" y="6751"/>
                  <a:pt x="14288" y="6890"/>
                </a:cubicBezTo>
                <a:cubicBezTo>
                  <a:pt x="14327" y="7013"/>
                  <a:pt x="14330" y="7157"/>
                  <a:pt x="14383" y="7271"/>
                </a:cubicBezTo>
                <a:cubicBezTo>
                  <a:pt x="14394" y="7296"/>
                  <a:pt x="14414" y="7413"/>
                  <a:pt x="14414" y="7334"/>
                </a:cubicBezTo>
                <a:cubicBezTo>
                  <a:pt x="14402" y="7203"/>
                  <a:pt x="14358" y="7083"/>
                  <a:pt x="14319" y="6953"/>
                </a:cubicBezTo>
                <a:cubicBezTo>
                  <a:pt x="14283" y="6831"/>
                  <a:pt x="14212" y="6694"/>
                  <a:pt x="14192" y="6572"/>
                </a:cubicBezTo>
                <a:cubicBezTo>
                  <a:pt x="14173" y="6456"/>
                  <a:pt x="14177" y="6296"/>
                  <a:pt x="14224" y="6191"/>
                </a:cubicBezTo>
                <a:cubicBezTo>
                  <a:pt x="14267" y="6096"/>
                  <a:pt x="14329" y="6061"/>
                  <a:pt x="14414" y="6096"/>
                </a:cubicBezTo>
                <a:cubicBezTo>
                  <a:pt x="14488" y="6127"/>
                  <a:pt x="14559" y="6236"/>
                  <a:pt x="14573" y="6318"/>
                </a:cubicBezTo>
                <a:cubicBezTo>
                  <a:pt x="14589" y="6414"/>
                  <a:pt x="14571" y="6526"/>
                  <a:pt x="14510" y="6604"/>
                </a:cubicBezTo>
                <a:cubicBezTo>
                  <a:pt x="14442" y="6692"/>
                  <a:pt x="14402" y="6714"/>
                  <a:pt x="14319" y="6763"/>
                </a:cubicBezTo>
                <a:cubicBezTo>
                  <a:pt x="14244" y="6807"/>
                  <a:pt x="14248" y="6752"/>
                  <a:pt x="14288" y="6699"/>
                </a:cubicBezTo>
              </a:path>
              <a:path w="16607" h="7367">
                <a:moveTo>
                  <a:pt x="15018" y="6160"/>
                </a:moveTo>
                <a:cubicBezTo>
                  <a:pt x="14938" y="6220"/>
                  <a:pt x="14918" y="6313"/>
                  <a:pt x="14891" y="6414"/>
                </a:cubicBezTo>
                <a:cubicBezTo>
                  <a:pt x="14868" y="6499"/>
                  <a:pt x="14813" y="6639"/>
                  <a:pt x="14922" y="6699"/>
                </a:cubicBezTo>
                <a:cubicBezTo>
                  <a:pt x="14976" y="6728"/>
                  <a:pt x="15047" y="6667"/>
                  <a:pt x="15081" y="6636"/>
                </a:cubicBezTo>
                <a:cubicBezTo>
                  <a:pt x="15154" y="6568"/>
                  <a:pt x="15223" y="6450"/>
                  <a:pt x="15240" y="6350"/>
                </a:cubicBezTo>
                <a:cubicBezTo>
                  <a:pt x="15254" y="6270"/>
                  <a:pt x="15263" y="6113"/>
                  <a:pt x="15176" y="6064"/>
                </a:cubicBezTo>
                <a:cubicBezTo>
                  <a:pt x="15125" y="6035"/>
                  <a:pt x="15055" y="6068"/>
                  <a:pt x="15018" y="6096"/>
                </a:cubicBezTo>
              </a:path>
              <a:path w="16607" h="7367">
                <a:moveTo>
                  <a:pt x="15526" y="6032"/>
                </a:moveTo>
                <a:cubicBezTo>
                  <a:pt x="15572" y="6109"/>
                  <a:pt x="15539" y="6167"/>
                  <a:pt x="15558" y="6255"/>
                </a:cubicBezTo>
                <a:cubicBezTo>
                  <a:pt x="15578" y="6350"/>
                  <a:pt x="15606" y="6448"/>
                  <a:pt x="15621" y="6540"/>
                </a:cubicBezTo>
                <a:cubicBezTo>
                  <a:pt x="15630" y="6593"/>
                  <a:pt x="15621" y="6711"/>
                  <a:pt x="15653" y="6668"/>
                </a:cubicBezTo>
                <a:cubicBezTo>
                  <a:pt x="15653" y="6657"/>
                  <a:pt x="15653" y="6647"/>
                  <a:pt x="15653" y="6636"/>
                </a:cubicBezTo>
              </a:path>
              <a:path w="16607" h="7367">
                <a:moveTo>
                  <a:pt x="15907" y="6001"/>
                </a:moveTo>
                <a:cubicBezTo>
                  <a:pt x="15919" y="6132"/>
                  <a:pt x="15912" y="6216"/>
                  <a:pt x="15907" y="6350"/>
                </a:cubicBezTo>
                <a:cubicBezTo>
                  <a:pt x="15903" y="6460"/>
                  <a:pt x="15938" y="6557"/>
                  <a:pt x="15938" y="6668"/>
                </a:cubicBezTo>
                <a:cubicBezTo>
                  <a:pt x="15938" y="6678"/>
                  <a:pt x="15938" y="6689"/>
                  <a:pt x="15938" y="6699"/>
                </a:cubicBezTo>
                <a:cubicBezTo>
                  <a:pt x="16008" y="6676"/>
                  <a:pt x="15952" y="6583"/>
                  <a:pt x="15970" y="6509"/>
                </a:cubicBezTo>
                <a:cubicBezTo>
                  <a:pt x="16002" y="6375"/>
                  <a:pt x="16018" y="6232"/>
                  <a:pt x="16066" y="6096"/>
                </a:cubicBezTo>
                <a:cubicBezTo>
                  <a:pt x="16106" y="5985"/>
                  <a:pt x="16141" y="5946"/>
                  <a:pt x="16256" y="5937"/>
                </a:cubicBezTo>
                <a:cubicBezTo>
                  <a:pt x="16306" y="5933"/>
                  <a:pt x="16374" y="6079"/>
                  <a:pt x="16383" y="6128"/>
                </a:cubicBezTo>
                <a:cubicBezTo>
                  <a:pt x="16406" y="6260"/>
                  <a:pt x="16411" y="6412"/>
                  <a:pt x="16446" y="6540"/>
                </a:cubicBezTo>
                <a:cubicBezTo>
                  <a:pt x="16461" y="6596"/>
                  <a:pt x="16521" y="6733"/>
                  <a:pt x="16574" y="6763"/>
                </a:cubicBezTo>
                <a:cubicBezTo>
                  <a:pt x="16624" y="6791"/>
                  <a:pt x="16732" y="6735"/>
                  <a:pt x="16764" y="6699"/>
                </a:cubicBezTo>
                <a:cubicBezTo>
                  <a:pt x="16820" y="6616"/>
                  <a:pt x="16835" y="6597"/>
                  <a:pt x="16859" y="6540"/>
                </a:cubicBezTo>
              </a:path>
              <a:path w="16607" h="7367">
                <a:moveTo>
                  <a:pt x="16986" y="5652"/>
                </a:moveTo>
                <a:cubicBezTo>
                  <a:pt x="16986" y="5786"/>
                  <a:pt x="17005" y="5902"/>
                  <a:pt x="17018" y="6032"/>
                </a:cubicBezTo>
                <a:cubicBezTo>
                  <a:pt x="17031" y="6161"/>
                  <a:pt x="17067" y="6292"/>
                  <a:pt x="17082" y="6414"/>
                </a:cubicBezTo>
                <a:cubicBezTo>
                  <a:pt x="17094" y="6506"/>
                  <a:pt x="17082" y="6606"/>
                  <a:pt x="17082" y="6699"/>
                </a:cubicBezTo>
              </a:path>
              <a:path w="16607" h="7367">
                <a:moveTo>
                  <a:pt x="16828" y="6382"/>
                </a:moveTo>
                <a:cubicBezTo>
                  <a:pt x="16839" y="6346"/>
                  <a:pt x="16900" y="6332"/>
                  <a:pt x="16954" y="6318"/>
                </a:cubicBezTo>
                <a:cubicBezTo>
                  <a:pt x="17022" y="6301"/>
                  <a:pt x="17107" y="6290"/>
                  <a:pt x="17177" y="6286"/>
                </a:cubicBezTo>
                <a:cubicBezTo>
                  <a:pt x="17243" y="6286"/>
                  <a:pt x="17266" y="6287"/>
                  <a:pt x="17304" y="6318"/>
                </a:cubicBezTo>
              </a:path>
              <a:path w="16607" h="7367">
                <a:moveTo>
                  <a:pt x="4540" y="9271"/>
                </a:moveTo>
                <a:cubicBezTo>
                  <a:pt x="4551" y="9271"/>
                  <a:pt x="4561" y="9271"/>
                  <a:pt x="4572" y="9271"/>
                </a:cubicBezTo>
                <a:cubicBezTo>
                  <a:pt x="4572" y="9343"/>
                  <a:pt x="4624" y="9342"/>
                  <a:pt x="4636" y="9398"/>
                </a:cubicBezTo>
                <a:cubicBezTo>
                  <a:pt x="4652" y="9472"/>
                  <a:pt x="4652" y="9496"/>
                  <a:pt x="4667" y="9557"/>
                </a:cubicBezTo>
                <a:cubicBezTo>
                  <a:pt x="4699" y="9557"/>
                  <a:pt x="4709" y="9557"/>
                  <a:pt x="4699" y="9588"/>
                </a:cubicBezTo>
              </a:path>
              <a:path w="16607" h="7367">
                <a:moveTo>
                  <a:pt x="4699" y="9239"/>
                </a:moveTo>
                <a:cubicBezTo>
                  <a:pt x="4687" y="9286"/>
                  <a:pt x="4670" y="9328"/>
                  <a:pt x="4636" y="9366"/>
                </a:cubicBezTo>
                <a:cubicBezTo>
                  <a:pt x="4590" y="9418"/>
                  <a:pt x="4582" y="9477"/>
                  <a:pt x="4540" y="9525"/>
                </a:cubicBezTo>
                <a:cubicBezTo>
                  <a:pt x="4503" y="9567"/>
                  <a:pt x="4489" y="9582"/>
                  <a:pt x="4477" y="9620"/>
                </a:cubicBezTo>
              </a:path>
              <a:path w="16607" h="7367">
                <a:moveTo>
                  <a:pt x="4794" y="9493"/>
                </a:moveTo>
                <a:cubicBezTo>
                  <a:pt x="4848" y="9564"/>
                  <a:pt x="4817" y="9551"/>
                  <a:pt x="4794" y="9620"/>
                </a:cubicBezTo>
                <a:cubicBezTo>
                  <a:pt x="4794" y="9631"/>
                  <a:pt x="4794" y="9641"/>
                  <a:pt x="4794" y="9652"/>
                </a:cubicBezTo>
              </a:path>
              <a:path w="16607" h="7367">
                <a:moveTo>
                  <a:pt x="5239" y="9176"/>
                </a:moveTo>
                <a:cubicBezTo>
                  <a:pt x="5289" y="9193"/>
                  <a:pt x="5270" y="9239"/>
                  <a:pt x="5270" y="9303"/>
                </a:cubicBezTo>
                <a:cubicBezTo>
                  <a:pt x="5270" y="9356"/>
                  <a:pt x="5270" y="9409"/>
                  <a:pt x="5270" y="9462"/>
                </a:cubicBezTo>
                <a:cubicBezTo>
                  <a:pt x="5292" y="9451"/>
                  <a:pt x="5364" y="9373"/>
                  <a:pt x="5366" y="9366"/>
                </a:cubicBezTo>
                <a:cubicBezTo>
                  <a:pt x="5370" y="9351"/>
                  <a:pt x="5398" y="9188"/>
                  <a:pt x="5398" y="9271"/>
                </a:cubicBezTo>
                <a:cubicBezTo>
                  <a:pt x="5398" y="9405"/>
                  <a:pt x="5398" y="9526"/>
                  <a:pt x="5366" y="9652"/>
                </a:cubicBezTo>
                <a:cubicBezTo>
                  <a:pt x="5366" y="9684"/>
                  <a:pt x="5366" y="9695"/>
                  <a:pt x="5366" y="9716"/>
                </a:cubicBezTo>
              </a:path>
              <a:path w="16607" h="7367">
                <a:moveTo>
                  <a:pt x="5524" y="9398"/>
                </a:moveTo>
                <a:cubicBezTo>
                  <a:pt x="5524" y="9504"/>
                  <a:pt x="5519" y="9509"/>
                  <a:pt x="5493" y="9588"/>
                </a:cubicBezTo>
                <a:cubicBezTo>
                  <a:pt x="5493" y="9620"/>
                  <a:pt x="5493" y="9631"/>
                  <a:pt x="5493" y="96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Ink 4"/>
          <p:cNvSpPr/>
          <p:nvPr/>
        </p:nvSpPr>
        <p:spPr>
          <a:xfrm>
            <a:off x="1347840" y="3406680"/>
            <a:ext cx="766800" cy="422280"/>
          </a:xfrm>
          <a:custGeom>
            <a:avLst/>
            <a:gdLst/>
            <a:ahLst/>
            <a:rect l="l" t="t" r="r" b="b"/>
            <a:pathLst>
              <a:path w="2129" h="1175">
                <a:moveTo>
                  <a:pt x="4096" y="9811"/>
                </a:moveTo>
                <a:cubicBezTo>
                  <a:pt x="4067" y="9782"/>
                  <a:pt x="4061" y="9771"/>
                  <a:pt x="4032" y="9779"/>
                </a:cubicBezTo>
                <a:cubicBezTo>
                  <a:pt x="4019" y="9817"/>
                  <a:pt x="3979" y="9832"/>
                  <a:pt x="3937" y="9874"/>
                </a:cubicBezTo>
                <a:cubicBezTo>
                  <a:pt x="3865" y="9946"/>
                  <a:pt x="3849" y="9988"/>
                  <a:pt x="3810" y="10065"/>
                </a:cubicBezTo>
                <a:cubicBezTo>
                  <a:pt x="3765" y="10153"/>
                  <a:pt x="3746" y="10180"/>
                  <a:pt x="3746" y="10287"/>
                </a:cubicBezTo>
                <a:cubicBezTo>
                  <a:pt x="3746" y="10347"/>
                  <a:pt x="3748" y="10401"/>
                  <a:pt x="3778" y="10446"/>
                </a:cubicBezTo>
                <a:cubicBezTo>
                  <a:pt x="3806" y="10488"/>
                  <a:pt x="3858" y="10536"/>
                  <a:pt x="3905" y="10541"/>
                </a:cubicBezTo>
                <a:cubicBezTo>
                  <a:pt x="3937" y="10541"/>
                  <a:pt x="3948" y="10541"/>
                  <a:pt x="3937" y="10573"/>
                </a:cubicBezTo>
              </a:path>
              <a:path w="2129" h="1175">
                <a:moveTo>
                  <a:pt x="4350" y="9970"/>
                </a:moveTo>
                <a:cubicBezTo>
                  <a:pt x="4350" y="10060"/>
                  <a:pt x="4343" y="10117"/>
                  <a:pt x="4318" y="10192"/>
                </a:cubicBezTo>
                <a:cubicBezTo>
                  <a:pt x="4304" y="10234"/>
                  <a:pt x="4318" y="10306"/>
                  <a:pt x="4318" y="10350"/>
                </a:cubicBezTo>
              </a:path>
              <a:path w="2129" h="1175">
                <a:moveTo>
                  <a:pt x="4445" y="10319"/>
                </a:moveTo>
                <a:lnTo>
                  <a:pt x="4445" y="10319"/>
                </a:lnTo>
              </a:path>
              <a:path w="2129" h="1175">
                <a:moveTo>
                  <a:pt x="4953" y="9938"/>
                </a:moveTo>
                <a:cubicBezTo>
                  <a:pt x="4937" y="9890"/>
                  <a:pt x="4915" y="9906"/>
                  <a:pt x="4858" y="9906"/>
                </a:cubicBezTo>
                <a:cubicBezTo>
                  <a:pt x="4822" y="9906"/>
                  <a:pt x="4808" y="9903"/>
                  <a:pt x="4794" y="9874"/>
                </a:cubicBezTo>
                <a:cubicBezTo>
                  <a:pt x="4759" y="9886"/>
                  <a:pt x="4736" y="9897"/>
                  <a:pt x="4731" y="9938"/>
                </a:cubicBezTo>
                <a:cubicBezTo>
                  <a:pt x="4725" y="9991"/>
                  <a:pt x="4705" y="10016"/>
                  <a:pt x="4699" y="10065"/>
                </a:cubicBezTo>
                <a:cubicBezTo>
                  <a:pt x="4699" y="10075"/>
                  <a:pt x="4699" y="10086"/>
                  <a:pt x="4699" y="10096"/>
                </a:cubicBezTo>
                <a:cubicBezTo>
                  <a:pt x="4743" y="10082"/>
                  <a:pt x="4736" y="10046"/>
                  <a:pt x="4762" y="10033"/>
                </a:cubicBezTo>
                <a:cubicBezTo>
                  <a:pt x="4806" y="10011"/>
                  <a:pt x="4873" y="10058"/>
                  <a:pt x="4890" y="10096"/>
                </a:cubicBezTo>
                <a:cubicBezTo>
                  <a:pt x="4919" y="10161"/>
                  <a:pt x="4868" y="10234"/>
                  <a:pt x="4858" y="10255"/>
                </a:cubicBezTo>
                <a:cubicBezTo>
                  <a:pt x="4853" y="10265"/>
                  <a:pt x="4787" y="10325"/>
                  <a:pt x="4762" y="10319"/>
                </a:cubicBezTo>
                <a:cubicBezTo>
                  <a:pt x="4734" y="10290"/>
                  <a:pt x="4728" y="10279"/>
                  <a:pt x="4699" y="10287"/>
                </a:cubicBezTo>
              </a:path>
              <a:path w="2129" h="1175">
                <a:moveTo>
                  <a:pt x="5048" y="10255"/>
                </a:moveTo>
                <a:cubicBezTo>
                  <a:pt x="5048" y="10328"/>
                  <a:pt x="5036" y="10355"/>
                  <a:pt x="5016" y="10414"/>
                </a:cubicBezTo>
                <a:cubicBezTo>
                  <a:pt x="5016" y="10446"/>
                  <a:pt x="5016" y="10457"/>
                  <a:pt x="5016" y="10478"/>
                </a:cubicBezTo>
              </a:path>
              <a:path w="2129" h="1175">
                <a:moveTo>
                  <a:pt x="5270" y="10033"/>
                </a:moveTo>
                <a:cubicBezTo>
                  <a:pt x="5270" y="10022"/>
                  <a:pt x="5270" y="10012"/>
                  <a:pt x="5270" y="10001"/>
                </a:cubicBezTo>
                <a:cubicBezTo>
                  <a:pt x="5286" y="10049"/>
                  <a:pt x="5309" y="10033"/>
                  <a:pt x="5366" y="10033"/>
                </a:cubicBezTo>
                <a:cubicBezTo>
                  <a:pt x="5407" y="10033"/>
                  <a:pt x="5423" y="10011"/>
                  <a:pt x="5461" y="10001"/>
                </a:cubicBezTo>
              </a:path>
              <a:path w="2129" h="1175">
                <a:moveTo>
                  <a:pt x="5556" y="9842"/>
                </a:moveTo>
                <a:cubicBezTo>
                  <a:pt x="5610" y="9915"/>
                  <a:pt x="5562" y="9893"/>
                  <a:pt x="5556" y="9970"/>
                </a:cubicBezTo>
                <a:cubicBezTo>
                  <a:pt x="5550" y="10056"/>
                  <a:pt x="5543" y="10110"/>
                  <a:pt x="5524" y="10192"/>
                </a:cubicBezTo>
                <a:cubicBezTo>
                  <a:pt x="5511" y="10250"/>
                  <a:pt x="5513" y="10336"/>
                  <a:pt x="5556" y="10350"/>
                </a:cubicBezTo>
              </a:path>
              <a:path w="2129" h="1175">
                <a:moveTo>
                  <a:pt x="5715" y="9462"/>
                </a:moveTo>
                <a:cubicBezTo>
                  <a:pt x="5751" y="9471"/>
                  <a:pt x="5829" y="9512"/>
                  <a:pt x="5842" y="9557"/>
                </a:cubicBezTo>
                <a:cubicBezTo>
                  <a:pt x="5869" y="9650"/>
                  <a:pt x="5874" y="9742"/>
                  <a:pt x="5874" y="9842"/>
                </a:cubicBezTo>
                <a:cubicBezTo>
                  <a:pt x="5874" y="10008"/>
                  <a:pt x="5867" y="10162"/>
                  <a:pt x="5842" y="10319"/>
                </a:cubicBezTo>
                <a:cubicBezTo>
                  <a:pt x="5829" y="10401"/>
                  <a:pt x="5823" y="10499"/>
                  <a:pt x="5778" y="10573"/>
                </a:cubicBezTo>
                <a:cubicBezTo>
                  <a:pt x="5747" y="10604"/>
                  <a:pt x="5736" y="10615"/>
                  <a:pt x="5715" y="106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Ink 5"/>
          <p:cNvSpPr/>
          <p:nvPr/>
        </p:nvSpPr>
        <p:spPr>
          <a:xfrm>
            <a:off x="2925720" y="3681360"/>
            <a:ext cx="685800" cy="696960"/>
          </a:xfrm>
          <a:custGeom>
            <a:avLst/>
            <a:gdLst/>
            <a:ahLst/>
            <a:rect l="l" t="t" r="r" b="b"/>
            <a:pathLst>
              <a:path w="1906" h="1937">
                <a:moveTo>
                  <a:pt x="8731" y="10986"/>
                </a:moveTo>
                <a:cubicBezTo>
                  <a:pt x="8714" y="10934"/>
                  <a:pt x="8717" y="10974"/>
                  <a:pt x="8700" y="10922"/>
                </a:cubicBezTo>
                <a:cubicBezTo>
                  <a:pt x="8736" y="10885"/>
                  <a:pt x="8780" y="10842"/>
                  <a:pt x="8826" y="10827"/>
                </a:cubicBezTo>
                <a:cubicBezTo>
                  <a:pt x="8892" y="10805"/>
                  <a:pt x="8937" y="10795"/>
                  <a:pt x="9017" y="10795"/>
                </a:cubicBezTo>
                <a:cubicBezTo>
                  <a:pt x="9065" y="10795"/>
                  <a:pt x="9149" y="10775"/>
                  <a:pt x="9176" y="10827"/>
                </a:cubicBezTo>
                <a:cubicBezTo>
                  <a:pt x="9213" y="10900"/>
                  <a:pt x="9190" y="10890"/>
                  <a:pt x="9176" y="10954"/>
                </a:cubicBezTo>
                <a:cubicBezTo>
                  <a:pt x="9158" y="11038"/>
                  <a:pt x="9125" y="11067"/>
                  <a:pt x="9080" y="11144"/>
                </a:cubicBezTo>
                <a:cubicBezTo>
                  <a:pt x="9024" y="11239"/>
                  <a:pt x="8967" y="11299"/>
                  <a:pt x="8890" y="11366"/>
                </a:cubicBezTo>
                <a:cubicBezTo>
                  <a:pt x="8851" y="11400"/>
                  <a:pt x="8729" y="11487"/>
                  <a:pt x="8700" y="11525"/>
                </a:cubicBezTo>
                <a:cubicBezTo>
                  <a:pt x="8700" y="11557"/>
                  <a:pt x="8700" y="11568"/>
                  <a:pt x="8668" y="11557"/>
                </a:cubicBezTo>
                <a:cubicBezTo>
                  <a:pt x="8708" y="11527"/>
                  <a:pt x="8745" y="11499"/>
                  <a:pt x="8795" y="11494"/>
                </a:cubicBezTo>
                <a:cubicBezTo>
                  <a:pt x="8874" y="11485"/>
                  <a:pt x="8874" y="11470"/>
                  <a:pt x="8954" y="11494"/>
                </a:cubicBezTo>
                <a:cubicBezTo>
                  <a:pt x="8997" y="11507"/>
                  <a:pt x="9043" y="11500"/>
                  <a:pt x="9080" y="11525"/>
                </a:cubicBezTo>
                <a:cubicBezTo>
                  <a:pt x="9124" y="11555"/>
                  <a:pt x="9157" y="11596"/>
                  <a:pt x="9176" y="11620"/>
                </a:cubicBezTo>
                <a:cubicBezTo>
                  <a:pt x="9187" y="11631"/>
                  <a:pt x="9197" y="11641"/>
                  <a:pt x="9208" y="11652"/>
                </a:cubicBezTo>
              </a:path>
              <a:path w="1906" h="1937">
                <a:moveTo>
                  <a:pt x="8446" y="11779"/>
                </a:moveTo>
                <a:cubicBezTo>
                  <a:pt x="8474" y="11828"/>
                  <a:pt x="8475" y="11847"/>
                  <a:pt x="8509" y="11874"/>
                </a:cubicBezTo>
                <a:cubicBezTo>
                  <a:pt x="8581" y="11931"/>
                  <a:pt x="8621" y="11947"/>
                  <a:pt x="8700" y="11970"/>
                </a:cubicBezTo>
                <a:cubicBezTo>
                  <a:pt x="8815" y="12004"/>
                  <a:pt x="8930" y="12029"/>
                  <a:pt x="9049" y="12033"/>
                </a:cubicBezTo>
                <a:cubicBezTo>
                  <a:pt x="9195" y="12039"/>
                  <a:pt x="9292" y="11990"/>
                  <a:pt x="9430" y="11970"/>
                </a:cubicBezTo>
                <a:cubicBezTo>
                  <a:pt x="9551" y="11952"/>
                  <a:pt x="9663" y="11913"/>
                  <a:pt x="9747" y="11811"/>
                </a:cubicBezTo>
                <a:cubicBezTo>
                  <a:pt x="9840" y="11698"/>
                  <a:pt x="9911" y="11594"/>
                  <a:pt x="9970" y="11462"/>
                </a:cubicBezTo>
                <a:cubicBezTo>
                  <a:pt x="10016" y="11359"/>
                  <a:pt x="10049" y="11164"/>
                  <a:pt x="10033" y="11049"/>
                </a:cubicBezTo>
                <a:cubicBezTo>
                  <a:pt x="10013" y="10902"/>
                  <a:pt x="9931" y="10689"/>
                  <a:pt x="9842" y="10573"/>
                </a:cubicBezTo>
                <a:cubicBezTo>
                  <a:pt x="9760" y="10467"/>
                  <a:pt x="9685" y="10372"/>
                  <a:pt x="9557" y="10319"/>
                </a:cubicBezTo>
                <a:cubicBezTo>
                  <a:pt x="9434" y="10268"/>
                  <a:pt x="9308" y="10229"/>
                  <a:pt x="9176" y="10224"/>
                </a:cubicBezTo>
                <a:cubicBezTo>
                  <a:pt x="9055" y="10220"/>
                  <a:pt x="8903" y="10263"/>
                  <a:pt x="8795" y="10319"/>
                </a:cubicBezTo>
                <a:cubicBezTo>
                  <a:pt x="8678" y="10380"/>
                  <a:pt x="8530" y="10504"/>
                  <a:pt x="8446" y="10604"/>
                </a:cubicBezTo>
                <a:cubicBezTo>
                  <a:pt x="8353" y="10714"/>
                  <a:pt x="8272" y="10852"/>
                  <a:pt x="8223" y="10986"/>
                </a:cubicBezTo>
                <a:cubicBezTo>
                  <a:pt x="8183" y="11095"/>
                  <a:pt x="8119" y="11284"/>
                  <a:pt x="8128" y="11398"/>
                </a:cubicBezTo>
                <a:cubicBezTo>
                  <a:pt x="8135" y="11491"/>
                  <a:pt x="8157" y="11631"/>
                  <a:pt x="8192" y="11716"/>
                </a:cubicBezTo>
                <a:cubicBezTo>
                  <a:pt x="8233" y="11815"/>
                  <a:pt x="8310" y="11874"/>
                  <a:pt x="8382" y="11938"/>
                </a:cubicBezTo>
                <a:cubicBezTo>
                  <a:pt x="8464" y="12010"/>
                  <a:pt x="8564" y="12057"/>
                  <a:pt x="8668" y="12097"/>
                </a:cubicBezTo>
                <a:cubicBezTo>
                  <a:pt x="8727" y="12120"/>
                  <a:pt x="8789" y="12150"/>
                  <a:pt x="8858" y="12160"/>
                </a:cubicBezTo>
                <a:cubicBezTo>
                  <a:pt x="8890" y="12160"/>
                  <a:pt x="8901" y="12160"/>
                  <a:pt x="8922" y="121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Ink 6"/>
          <p:cNvSpPr/>
          <p:nvPr/>
        </p:nvSpPr>
        <p:spPr>
          <a:xfrm>
            <a:off x="5372280" y="2514600"/>
            <a:ext cx="1817640" cy="1257480"/>
          </a:xfrm>
          <a:custGeom>
            <a:avLst/>
            <a:gdLst/>
            <a:ahLst/>
            <a:rect l="l" t="t" r="r" b="b"/>
            <a:pathLst>
              <a:path w="5050" h="3494">
                <a:moveTo>
                  <a:pt x="15875" y="7017"/>
                </a:moveTo>
                <a:cubicBezTo>
                  <a:pt x="15852" y="7017"/>
                  <a:pt x="15864" y="6980"/>
                  <a:pt x="15812" y="7017"/>
                </a:cubicBezTo>
                <a:cubicBezTo>
                  <a:pt x="15749" y="7061"/>
                  <a:pt x="15705" y="7135"/>
                  <a:pt x="15653" y="7176"/>
                </a:cubicBezTo>
                <a:cubicBezTo>
                  <a:pt x="15548" y="7260"/>
                  <a:pt x="15516" y="7324"/>
                  <a:pt x="15430" y="7430"/>
                </a:cubicBezTo>
                <a:cubicBezTo>
                  <a:pt x="15347" y="7533"/>
                  <a:pt x="15304" y="7633"/>
                  <a:pt x="15240" y="7747"/>
                </a:cubicBezTo>
                <a:cubicBezTo>
                  <a:pt x="15173" y="7866"/>
                  <a:pt x="15132" y="7969"/>
                  <a:pt x="15081" y="8096"/>
                </a:cubicBezTo>
                <a:cubicBezTo>
                  <a:pt x="15035" y="8209"/>
                  <a:pt x="14999" y="8326"/>
                  <a:pt x="14986" y="8446"/>
                </a:cubicBezTo>
                <a:cubicBezTo>
                  <a:pt x="14971" y="8580"/>
                  <a:pt x="14978" y="8726"/>
                  <a:pt x="14954" y="8858"/>
                </a:cubicBezTo>
                <a:cubicBezTo>
                  <a:pt x="14926" y="9015"/>
                  <a:pt x="14937" y="9115"/>
                  <a:pt x="14954" y="9271"/>
                </a:cubicBezTo>
                <a:cubicBezTo>
                  <a:pt x="14968" y="9398"/>
                  <a:pt x="14972" y="9528"/>
                  <a:pt x="14986" y="9652"/>
                </a:cubicBezTo>
                <a:cubicBezTo>
                  <a:pt x="15000" y="9774"/>
                  <a:pt x="15012" y="9887"/>
                  <a:pt x="15050" y="10001"/>
                </a:cubicBezTo>
                <a:cubicBezTo>
                  <a:pt x="15085" y="10106"/>
                  <a:pt x="15100" y="10159"/>
                  <a:pt x="15145" y="10255"/>
                </a:cubicBezTo>
                <a:cubicBezTo>
                  <a:pt x="15167" y="10301"/>
                  <a:pt x="15182" y="10378"/>
                  <a:pt x="15208" y="10414"/>
                </a:cubicBezTo>
                <a:cubicBezTo>
                  <a:pt x="15220" y="10430"/>
                  <a:pt x="15250" y="10442"/>
                  <a:pt x="15272" y="10478"/>
                </a:cubicBezTo>
              </a:path>
              <a:path w="5050" h="3494">
                <a:moveTo>
                  <a:pt x="15589" y="8033"/>
                </a:moveTo>
                <a:cubicBezTo>
                  <a:pt x="15589" y="8043"/>
                  <a:pt x="15589" y="8054"/>
                  <a:pt x="15589" y="8064"/>
                </a:cubicBezTo>
                <a:cubicBezTo>
                  <a:pt x="15667" y="8064"/>
                  <a:pt x="15716" y="8054"/>
                  <a:pt x="15780" y="8033"/>
                </a:cubicBezTo>
                <a:cubicBezTo>
                  <a:pt x="15838" y="8014"/>
                  <a:pt x="15854" y="8063"/>
                  <a:pt x="15875" y="8001"/>
                </a:cubicBezTo>
              </a:path>
              <a:path w="5050" h="3494">
                <a:moveTo>
                  <a:pt x="16129" y="7493"/>
                </a:moveTo>
                <a:cubicBezTo>
                  <a:pt x="16155" y="7528"/>
                  <a:pt x="16179" y="7570"/>
                  <a:pt x="16161" y="7620"/>
                </a:cubicBezTo>
                <a:cubicBezTo>
                  <a:pt x="16132" y="7701"/>
                  <a:pt x="16129" y="7723"/>
                  <a:pt x="16129" y="7810"/>
                </a:cubicBezTo>
                <a:cubicBezTo>
                  <a:pt x="16129" y="7861"/>
                  <a:pt x="16097" y="7880"/>
                  <a:pt x="16097" y="7938"/>
                </a:cubicBezTo>
                <a:cubicBezTo>
                  <a:pt x="16213" y="7938"/>
                  <a:pt x="16330" y="7938"/>
                  <a:pt x="16446" y="7938"/>
                </a:cubicBezTo>
              </a:path>
              <a:path w="5050" h="3494">
                <a:moveTo>
                  <a:pt x="16415" y="7430"/>
                </a:moveTo>
                <a:cubicBezTo>
                  <a:pt x="16415" y="7626"/>
                  <a:pt x="16425" y="7811"/>
                  <a:pt x="16446" y="8001"/>
                </a:cubicBezTo>
                <a:cubicBezTo>
                  <a:pt x="16460" y="8133"/>
                  <a:pt x="16442" y="8260"/>
                  <a:pt x="16415" y="8382"/>
                </a:cubicBezTo>
                <a:cubicBezTo>
                  <a:pt x="16415" y="8424"/>
                  <a:pt x="16415" y="8445"/>
                  <a:pt x="16415" y="8477"/>
                </a:cubicBezTo>
              </a:path>
              <a:path w="5050" h="3494">
                <a:moveTo>
                  <a:pt x="16828" y="7652"/>
                </a:moveTo>
                <a:cubicBezTo>
                  <a:pt x="16828" y="7733"/>
                  <a:pt x="16849" y="7799"/>
                  <a:pt x="16859" y="7874"/>
                </a:cubicBezTo>
                <a:cubicBezTo>
                  <a:pt x="16871" y="7966"/>
                  <a:pt x="16859" y="8067"/>
                  <a:pt x="16859" y="8160"/>
                </a:cubicBezTo>
              </a:path>
              <a:path w="5050" h="3494">
                <a:moveTo>
                  <a:pt x="16637" y="7938"/>
                </a:moveTo>
                <a:cubicBezTo>
                  <a:pt x="16752" y="7938"/>
                  <a:pt x="16846" y="7931"/>
                  <a:pt x="16954" y="7906"/>
                </a:cubicBezTo>
                <a:cubicBezTo>
                  <a:pt x="16999" y="7906"/>
                  <a:pt x="17022" y="7900"/>
                  <a:pt x="17050" y="7874"/>
                </a:cubicBezTo>
              </a:path>
              <a:path w="5050" h="3494">
                <a:moveTo>
                  <a:pt x="17145" y="7525"/>
                </a:moveTo>
                <a:cubicBezTo>
                  <a:pt x="17258" y="7525"/>
                  <a:pt x="17475" y="7483"/>
                  <a:pt x="17558" y="7556"/>
                </a:cubicBezTo>
                <a:cubicBezTo>
                  <a:pt x="17587" y="7582"/>
                  <a:pt x="17573" y="7698"/>
                  <a:pt x="17558" y="7747"/>
                </a:cubicBezTo>
                <a:cubicBezTo>
                  <a:pt x="17530" y="7841"/>
                  <a:pt x="17500" y="7934"/>
                  <a:pt x="17494" y="8033"/>
                </a:cubicBezTo>
                <a:cubicBezTo>
                  <a:pt x="17489" y="8115"/>
                  <a:pt x="17462" y="8171"/>
                  <a:pt x="17462" y="8255"/>
                </a:cubicBezTo>
                <a:cubicBezTo>
                  <a:pt x="17462" y="8287"/>
                  <a:pt x="17462" y="8297"/>
                  <a:pt x="17462" y="8318"/>
                </a:cubicBezTo>
              </a:path>
              <a:path w="5050" h="3494">
                <a:moveTo>
                  <a:pt x="15875" y="8795"/>
                </a:moveTo>
                <a:cubicBezTo>
                  <a:pt x="15943" y="8781"/>
                  <a:pt x="16030" y="8782"/>
                  <a:pt x="16097" y="8763"/>
                </a:cubicBezTo>
                <a:cubicBezTo>
                  <a:pt x="16224" y="8727"/>
                  <a:pt x="16345" y="8680"/>
                  <a:pt x="16478" y="8668"/>
                </a:cubicBezTo>
                <a:cubicBezTo>
                  <a:pt x="16643" y="8653"/>
                  <a:pt x="16798" y="8658"/>
                  <a:pt x="16954" y="8668"/>
                </a:cubicBezTo>
                <a:cubicBezTo>
                  <a:pt x="17079" y="8676"/>
                  <a:pt x="17184" y="8641"/>
                  <a:pt x="17304" y="8636"/>
                </a:cubicBezTo>
                <a:cubicBezTo>
                  <a:pt x="17423" y="8631"/>
                  <a:pt x="17523" y="8635"/>
                  <a:pt x="17621" y="8668"/>
                </a:cubicBezTo>
                <a:cubicBezTo>
                  <a:pt x="17632" y="8668"/>
                  <a:pt x="17642" y="8668"/>
                  <a:pt x="17653" y="8668"/>
                </a:cubicBezTo>
              </a:path>
              <a:path w="5050" h="3494">
                <a:moveTo>
                  <a:pt x="16478" y="9271"/>
                </a:moveTo>
                <a:cubicBezTo>
                  <a:pt x="16445" y="9271"/>
                  <a:pt x="16462" y="9231"/>
                  <a:pt x="16510" y="9208"/>
                </a:cubicBezTo>
                <a:cubicBezTo>
                  <a:pt x="16583" y="9172"/>
                  <a:pt x="16608" y="9144"/>
                  <a:pt x="16700" y="9144"/>
                </a:cubicBezTo>
                <a:cubicBezTo>
                  <a:pt x="16768" y="9144"/>
                  <a:pt x="16779" y="9159"/>
                  <a:pt x="16828" y="9208"/>
                </a:cubicBezTo>
                <a:cubicBezTo>
                  <a:pt x="16891" y="9271"/>
                  <a:pt x="16837" y="9304"/>
                  <a:pt x="16828" y="9366"/>
                </a:cubicBezTo>
                <a:cubicBezTo>
                  <a:pt x="16810" y="9490"/>
                  <a:pt x="16789" y="9571"/>
                  <a:pt x="16732" y="9684"/>
                </a:cubicBezTo>
                <a:cubicBezTo>
                  <a:pt x="16694" y="9760"/>
                  <a:pt x="16655" y="9838"/>
                  <a:pt x="16605" y="9906"/>
                </a:cubicBezTo>
                <a:cubicBezTo>
                  <a:pt x="16595" y="9917"/>
                  <a:pt x="16584" y="9927"/>
                  <a:pt x="16574" y="9938"/>
                </a:cubicBezTo>
                <a:cubicBezTo>
                  <a:pt x="16581" y="9909"/>
                  <a:pt x="16628" y="9845"/>
                  <a:pt x="16637" y="9842"/>
                </a:cubicBezTo>
                <a:cubicBezTo>
                  <a:pt x="16728" y="9817"/>
                  <a:pt x="16850" y="9849"/>
                  <a:pt x="16923" y="9874"/>
                </a:cubicBezTo>
                <a:cubicBezTo>
                  <a:pt x="16961" y="9887"/>
                  <a:pt x="17013" y="9902"/>
                  <a:pt x="17050" y="9906"/>
                </a:cubicBezTo>
                <a:cubicBezTo>
                  <a:pt x="17122" y="9914"/>
                  <a:pt x="17152" y="9893"/>
                  <a:pt x="17208" y="9874"/>
                </a:cubicBezTo>
                <a:cubicBezTo>
                  <a:pt x="17219" y="9874"/>
                  <a:pt x="17229" y="9874"/>
                  <a:pt x="17240" y="9874"/>
                </a:cubicBezTo>
              </a:path>
              <a:path w="5050" h="3494">
                <a:moveTo>
                  <a:pt x="18034" y="9684"/>
                </a:moveTo>
                <a:cubicBezTo>
                  <a:pt x="18034" y="9742"/>
                  <a:pt x="18062" y="9759"/>
                  <a:pt x="18066" y="9811"/>
                </a:cubicBezTo>
                <a:cubicBezTo>
                  <a:pt x="18072" y="9890"/>
                  <a:pt x="18098" y="9916"/>
                  <a:pt x="18098" y="10001"/>
                </a:cubicBezTo>
                <a:cubicBezTo>
                  <a:pt x="18098" y="10084"/>
                  <a:pt x="18085" y="10116"/>
                  <a:pt x="18066" y="10192"/>
                </a:cubicBezTo>
                <a:cubicBezTo>
                  <a:pt x="18066" y="10203"/>
                  <a:pt x="18066" y="10213"/>
                  <a:pt x="18066" y="10224"/>
                </a:cubicBezTo>
              </a:path>
              <a:path w="5050" h="3494">
                <a:moveTo>
                  <a:pt x="18637" y="7906"/>
                </a:moveTo>
                <a:cubicBezTo>
                  <a:pt x="18648" y="7917"/>
                  <a:pt x="18658" y="7927"/>
                  <a:pt x="18669" y="7938"/>
                </a:cubicBezTo>
                <a:cubicBezTo>
                  <a:pt x="18697" y="7895"/>
                  <a:pt x="18731" y="7906"/>
                  <a:pt x="18796" y="7906"/>
                </a:cubicBezTo>
                <a:cubicBezTo>
                  <a:pt x="18838" y="7906"/>
                  <a:pt x="18881" y="7906"/>
                  <a:pt x="18923" y="7906"/>
                </a:cubicBezTo>
              </a:path>
              <a:path w="5050" h="3494">
                <a:moveTo>
                  <a:pt x="19558" y="7461"/>
                </a:moveTo>
                <a:cubicBezTo>
                  <a:pt x="19590" y="7461"/>
                  <a:pt x="19601" y="7461"/>
                  <a:pt x="19622" y="7461"/>
                </a:cubicBezTo>
                <a:cubicBezTo>
                  <a:pt x="19592" y="7469"/>
                  <a:pt x="19521" y="7478"/>
                  <a:pt x="19494" y="7493"/>
                </a:cubicBezTo>
                <a:cubicBezTo>
                  <a:pt x="19442" y="7523"/>
                  <a:pt x="19433" y="7525"/>
                  <a:pt x="19368" y="7525"/>
                </a:cubicBezTo>
                <a:cubicBezTo>
                  <a:pt x="19336" y="7525"/>
                  <a:pt x="19325" y="7525"/>
                  <a:pt x="19304" y="7525"/>
                </a:cubicBezTo>
                <a:cubicBezTo>
                  <a:pt x="19304" y="7639"/>
                  <a:pt x="19291" y="7735"/>
                  <a:pt x="19272" y="7842"/>
                </a:cubicBezTo>
                <a:cubicBezTo>
                  <a:pt x="19261" y="7906"/>
                  <a:pt x="19219" y="8006"/>
                  <a:pt x="19209" y="8033"/>
                </a:cubicBezTo>
                <a:cubicBezTo>
                  <a:pt x="19209" y="8043"/>
                  <a:pt x="19209" y="8054"/>
                  <a:pt x="19209" y="8064"/>
                </a:cubicBezTo>
                <a:cubicBezTo>
                  <a:pt x="19256" y="8048"/>
                  <a:pt x="19246" y="8036"/>
                  <a:pt x="19272" y="8001"/>
                </a:cubicBezTo>
                <a:cubicBezTo>
                  <a:pt x="19319" y="7938"/>
                  <a:pt x="19349" y="7966"/>
                  <a:pt x="19399" y="7938"/>
                </a:cubicBezTo>
                <a:cubicBezTo>
                  <a:pt x="19437" y="7917"/>
                  <a:pt x="19489" y="7916"/>
                  <a:pt x="19526" y="7969"/>
                </a:cubicBezTo>
                <a:cubicBezTo>
                  <a:pt x="19564" y="8023"/>
                  <a:pt x="19586" y="8099"/>
                  <a:pt x="19590" y="8160"/>
                </a:cubicBezTo>
                <a:cubicBezTo>
                  <a:pt x="19593" y="8215"/>
                  <a:pt x="19589" y="8308"/>
                  <a:pt x="19558" y="8350"/>
                </a:cubicBezTo>
                <a:cubicBezTo>
                  <a:pt x="19509" y="8416"/>
                  <a:pt x="19439" y="8471"/>
                  <a:pt x="19368" y="8509"/>
                </a:cubicBezTo>
                <a:cubicBezTo>
                  <a:pt x="19325" y="8532"/>
                  <a:pt x="19241" y="8576"/>
                  <a:pt x="19209" y="8509"/>
                </a:cubicBezTo>
                <a:cubicBezTo>
                  <a:pt x="19209" y="8477"/>
                  <a:pt x="19209" y="8467"/>
                  <a:pt x="19209" y="8446"/>
                </a:cubicBezTo>
              </a:path>
              <a:path w="5050" h="3494">
                <a:moveTo>
                  <a:pt x="19748" y="7747"/>
                </a:moveTo>
                <a:cubicBezTo>
                  <a:pt x="19767" y="7841"/>
                  <a:pt x="19752" y="7873"/>
                  <a:pt x="19748" y="7969"/>
                </a:cubicBezTo>
                <a:cubicBezTo>
                  <a:pt x="19742" y="8095"/>
                  <a:pt x="19748" y="8223"/>
                  <a:pt x="19748" y="8350"/>
                </a:cubicBezTo>
              </a:path>
              <a:path w="5050" h="3494">
                <a:moveTo>
                  <a:pt x="19622" y="8128"/>
                </a:moveTo>
                <a:cubicBezTo>
                  <a:pt x="19611" y="8128"/>
                  <a:pt x="19601" y="8128"/>
                  <a:pt x="19590" y="8128"/>
                </a:cubicBezTo>
                <a:cubicBezTo>
                  <a:pt x="19646" y="8128"/>
                  <a:pt x="19699" y="8116"/>
                  <a:pt x="19748" y="8096"/>
                </a:cubicBezTo>
                <a:cubicBezTo>
                  <a:pt x="19825" y="8065"/>
                  <a:pt x="19897" y="8033"/>
                  <a:pt x="19971" y="80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Ink 7"/>
          <p:cNvSpPr/>
          <p:nvPr/>
        </p:nvSpPr>
        <p:spPr>
          <a:xfrm>
            <a:off x="4149720" y="4035600"/>
            <a:ext cx="1119240" cy="457200"/>
          </a:xfrm>
          <a:custGeom>
            <a:avLst/>
            <a:gdLst/>
            <a:ahLst/>
            <a:rect l="l" t="t" r="r" b="b"/>
            <a:pathLst>
              <a:path w="3113" h="1271">
                <a:moveTo>
                  <a:pt x="11811" y="11271"/>
                </a:moveTo>
                <a:cubicBezTo>
                  <a:pt x="11811" y="11240"/>
                  <a:pt x="11811" y="11229"/>
                  <a:pt x="11811" y="11208"/>
                </a:cubicBezTo>
                <a:cubicBezTo>
                  <a:pt x="11845" y="11225"/>
                  <a:pt x="11818" y="11258"/>
                  <a:pt x="11779" y="11303"/>
                </a:cubicBezTo>
                <a:cubicBezTo>
                  <a:pt x="11741" y="11347"/>
                  <a:pt x="11711" y="11390"/>
                  <a:pt x="11684" y="11430"/>
                </a:cubicBezTo>
                <a:cubicBezTo>
                  <a:pt x="11635" y="11504"/>
                  <a:pt x="11616" y="11544"/>
                  <a:pt x="11589" y="11620"/>
                </a:cubicBezTo>
                <a:cubicBezTo>
                  <a:pt x="11553" y="11721"/>
                  <a:pt x="11525" y="11764"/>
                  <a:pt x="11525" y="11874"/>
                </a:cubicBezTo>
                <a:cubicBezTo>
                  <a:pt x="11525" y="11957"/>
                  <a:pt x="11538" y="11989"/>
                  <a:pt x="11557" y="12065"/>
                </a:cubicBezTo>
                <a:cubicBezTo>
                  <a:pt x="11570" y="12115"/>
                  <a:pt x="11605" y="12145"/>
                  <a:pt x="11620" y="12192"/>
                </a:cubicBezTo>
                <a:cubicBezTo>
                  <a:pt x="11637" y="12244"/>
                  <a:pt x="11654" y="12280"/>
                  <a:pt x="11716" y="12287"/>
                </a:cubicBezTo>
                <a:cubicBezTo>
                  <a:pt x="11748" y="12287"/>
                  <a:pt x="11758" y="12287"/>
                  <a:pt x="11748" y="12256"/>
                </a:cubicBezTo>
              </a:path>
              <a:path w="3113" h="1271">
                <a:moveTo>
                  <a:pt x="11874" y="11525"/>
                </a:moveTo>
                <a:cubicBezTo>
                  <a:pt x="11924" y="11489"/>
                  <a:pt x="11957" y="11519"/>
                  <a:pt x="12002" y="11494"/>
                </a:cubicBezTo>
                <a:cubicBezTo>
                  <a:pt x="12052" y="11466"/>
                  <a:pt x="12108" y="11415"/>
                  <a:pt x="12160" y="11398"/>
                </a:cubicBezTo>
                <a:cubicBezTo>
                  <a:pt x="12215" y="11380"/>
                  <a:pt x="12203" y="11406"/>
                  <a:pt x="12256" y="11366"/>
                </a:cubicBezTo>
                <a:cubicBezTo>
                  <a:pt x="12290" y="11378"/>
                  <a:pt x="12314" y="11390"/>
                  <a:pt x="12319" y="11430"/>
                </a:cubicBezTo>
                <a:cubicBezTo>
                  <a:pt x="12327" y="11493"/>
                  <a:pt x="12297" y="11509"/>
                  <a:pt x="12287" y="11557"/>
                </a:cubicBezTo>
                <a:cubicBezTo>
                  <a:pt x="12272" y="11626"/>
                  <a:pt x="12276" y="11712"/>
                  <a:pt x="12256" y="11779"/>
                </a:cubicBezTo>
                <a:cubicBezTo>
                  <a:pt x="12234" y="11855"/>
                  <a:pt x="12213" y="11935"/>
                  <a:pt x="12192" y="12002"/>
                </a:cubicBezTo>
                <a:cubicBezTo>
                  <a:pt x="12176" y="12054"/>
                  <a:pt x="12192" y="12136"/>
                  <a:pt x="12192" y="12192"/>
                </a:cubicBezTo>
              </a:path>
              <a:path w="3113" h="1271">
                <a:moveTo>
                  <a:pt x="12541" y="11811"/>
                </a:moveTo>
                <a:cubicBezTo>
                  <a:pt x="12647" y="11811"/>
                  <a:pt x="12753" y="11811"/>
                  <a:pt x="12859" y="11811"/>
                </a:cubicBezTo>
              </a:path>
              <a:path w="3113" h="1271">
                <a:moveTo>
                  <a:pt x="13208" y="11398"/>
                </a:moveTo>
                <a:cubicBezTo>
                  <a:pt x="13208" y="11471"/>
                  <a:pt x="13187" y="11522"/>
                  <a:pt x="13176" y="11589"/>
                </a:cubicBezTo>
                <a:cubicBezTo>
                  <a:pt x="13159" y="11689"/>
                  <a:pt x="13149" y="11805"/>
                  <a:pt x="13144" y="11906"/>
                </a:cubicBezTo>
                <a:cubicBezTo>
                  <a:pt x="13139" y="11998"/>
                  <a:pt x="13120" y="12071"/>
                  <a:pt x="13113" y="12160"/>
                </a:cubicBezTo>
                <a:cubicBezTo>
                  <a:pt x="13109" y="12213"/>
                  <a:pt x="13114" y="12214"/>
                  <a:pt x="13144" y="12256"/>
                </a:cubicBezTo>
              </a:path>
              <a:path w="3113" h="1271">
                <a:moveTo>
                  <a:pt x="13398" y="11938"/>
                </a:moveTo>
                <a:cubicBezTo>
                  <a:pt x="13435" y="11987"/>
                  <a:pt x="13430" y="12003"/>
                  <a:pt x="13430" y="12065"/>
                </a:cubicBezTo>
              </a:path>
              <a:path w="3113" h="1271">
                <a:moveTo>
                  <a:pt x="13970" y="11398"/>
                </a:moveTo>
                <a:cubicBezTo>
                  <a:pt x="14026" y="11398"/>
                  <a:pt x="13964" y="11427"/>
                  <a:pt x="13938" y="11430"/>
                </a:cubicBezTo>
                <a:cubicBezTo>
                  <a:pt x="13913" y="11433"/>
                  <a:pt x="13834" y="11449"/>
                  <a:pt x="13811" y="11462"/>
                </a:cubicBezTo>
                <a:cubicBezTo>
                  <a:pt x="13741" y="11502"/>
                  <a:pt x="13760" y="11481"/>
                  <a:pt x="13684" y="11462"/>
                </a:cubicBezTo>
                <a:cubicBezTo>
                  <a:pt x="13684" y="11568"/>
                  <a:pt x="13680" y="11658"/>
                  <a:pt x="13652" y="11748"/>
                </a:cubicBezTo>
                <a:cubicBezTo>
                  <a:pt x="13652" y="11779"/>
                  <a:pt x="13652" y="11790"/>
                  <a:pt x="13652" y="11811"/>
                </a:cubicBezTo>
                <a:cubicBezTo>
                  <a:pt x="13690" y="11798"/>
                  <a:pt x="13706" y="11757"/>
                  <a:pt x="13748" y="11716"/>
                </a:cubicBezTo>
                <a:cubicBezTo>
                  <a:pt x="13790" y="11674"/>
                  <a:pt x="13818" y="11684"/>
                  <a:pt x="13875" y="11684"/>
                </a:cubicBezTo>
                <a:cubicBezTo>
                  <a:pt x="13921" y="11684"/>
                  <a:pt x="13918" y="11722"/>
                  <a:pt x="13938" y="11748"/>
                </a:cubicBezTo>
                <a:cubicBezTo>
                  <a:pt x="13983" y="11806"/>
                  <a:pt x="13970" y="11863"/>
                  <a:pt x="13970" y="11938"/>
                </a:cubicBezTo>
                <a:cubicBezTo>
                  <a:pt x="13970" y="11986"/>
                  <a:pt x="13936" y="12060"/>
                  <a:pt x="13906" y="12097"/>
                </a:cubicBezTo>
                <a:cubicBezTo>
                  <a:pt x="13868" y="12145"/>
                  <a:pt x="13820" y="12165"/>
                  <a:pt x="13780" y="12192"/>
                </a:cubicBezTo>
                <a:cubicBezTo>
                  <a:pt x="13706" y="12242"/>
                  <a:pt x="13724" y="12216"/>
                  <a:pt x="13652" y="12192"/>
                </a:cubicBezTo>
                <a:cubicBezTo>
                  <a:pt x="13601" y="12175"/>
                  <a:pt x="13621" y="12153"/>
                  <a:pt x="13621" y="12097"/>
                </a:cubicBezTo>
              </a:path>
              <a:path w="3113" h="1271">
                <a:moveTo>
                  <a:pt x="14034" y="11271"/>
                </a:moveTo>
                <a:cubicBezTo>
                  <a:pt x="14093" y="11281"/>
                  <a:pt x="14140" y="11320"/>
                  <a:pt x="14160" y="11398"/>
                </a:cubicBezTo>
                <a:cubicBezTo>
                  <a:pt x="14190" y="11512"/>
                  <a:pt x="14239" y="11628"/>
                  <a:pt x="14256" y="11748"/>
                </a:cubicBezTo>
                <a:cubicBezTo>
                  <a:pt x="14276" y="11887"/>
                  <a:pt x="14271" y="11965"/>
                  <a:pt x="14256" y="12097"/>
                </a:cubicBezTo>
                <a:cubicBezTo>
                  <a:pt x="14241" y="12226"/>
                  <a:pt x="14229" y="12293"/>
                  <a:pt x="14192" y="12414"/>
                </a:cubicBezTo>
                <a:cubicBezTo>
                  <a:pt x="14172" y="12478"/>
                  <a:pt x="14187" y="12476"/>
                  <a:pt x="14129" y="12446"/>
                </a:cubicBezTo>
              </a:path>
              <a:path w="3113" h="1271">
                <a:moveTo>
                  <a:pt x="14319" y="11303"/>
                </a:moveTo>
                <a:cubicBezTo>
                  <a:pt x="14345" y="11251"/>
                  <a:pt x="14343" y="11230"/>
                  <a:pt x="14383" y="11240"/>
                </a:cubicBezTo>
                <a:cubicBezTo>
                  <a:pt x="14424" y="11254"/>
                  <a:pt x="14421" y="11290"/>
                  <a:pt x="14446" y="11303"/>
                </a:cubicBezTo>
                <a:cubicBezTo>
                  <a:pt x="14518" y="11339"/>
                  <a:pt x="14463" y="11393"/>
                  <a:pt x="14446" y="11462"/>
                </a:cubicBezTo>
                <a:cubicBezTo>
                  <a:pt x="14430" y="11526"/>
                  <a:pt x="14366" y="11568"/>
                  <a:pt x="14351" y="11620"/>
                </a:cubicBezTo>
                <a:cubicBezTo>
                  <a:pt x="14324" y="11715"/>
                  <a:pt x="14341" y="11650"/>
                  <a:pt x="14319" y="11716"/>
                </a:cubicBezTo>
                <a:cubicBezTo>
                  <a:pt x="14378" y="11716"/>
                  <a:pt x="14394" y="11690"/>
                  <a:pt x="14446" y="11684"/>
                </a:cubicBezTo>
                <a:cubicBezTo>
                  <a:pt x="14530" y="11675"/>
                  <a:pt x="14494" y="11657"/>
                  <a:pt x="14573" y="11684"/>
                </a:cubicBezTo>
                <a:cubicBezTo>
                  <a:pt x="14605" y="11684"/>
                  <a:pt x="14616" y="11684"/>
                  <a:pt x="14637" y="116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Ink 8"/>
          <p:cNvSpPr/>
          <p:nvPr/>
        </p:nvSpPr>
        <p:spPr>
          <a:xfrm>
            <a:off x="5407200" y="4114800"/>
            <a:ext cx="114120" cy="217440"/>
          </a:xfrm>
          <a:custGeom>
            <a:avLst/>
            <a:gdLst/>
            <a:ahLst/>
            <a:rect l="l" t="t" r="r" b="b"/>
            <a:pathLst>
              <a:path w="318" h="604">
                <a:moveTo>
                  <a:pt x="15240" y="11430"/>
                </a:moveTo>
                <a:cubicBezTo>
                  <a:pt x="15240" y="11546"/>
                  <a:pt x="15233" y="11640"/>
                  <a:pt x="15208" y="11748"/>
                </a:cubicBezTo>
                <a:cubicBezTo>
                  <a:pt x="15190" y="11827"/>
                  <a:pt x="15199" y="11900"/>
                  <a:pt x="15176" y="11970"/>
                </a:cubicBezTo>
                <a:cubicBezTo>
                  <a:pt x="15176" y="12002"/>
                  <a:pt x="15176" y="12012"/>
                  <a:pt x="15176" y="12033"/>
                </a:cubicBezTo>
              </a:path>
              <a:path w="318" h="604">
                <a:moveTo>
                  <a:pt x="15018" y="11716"/>
                </a:moveTo>
                <a:cubicBezTo>
                  <a:pt x="15018" y="11727"/>
                  <a:pt x="15018" y="11737"/>
                  <a:pt x="15018" y="11748"/>
                </a:cubicBezTo>
                <a:cubicBezTo>
                  <a:pt x="15076" y="11748"/>
                  <a:pt x="15093" y="11722"/>
                  <a:pt x="15145" y="11716"/>
                </a:cubicBezTo>
                <a:cubicBezTo>
                  <a:pt x="15221" y="11707"/>
                  <a:pt x="15261" y="11663"/>
                  <a:pt x="15335" y="116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Ink 9"/>
          <p:cNvSpPr/>
          <p:nvPr/>
        </p:nvSpPr>
        <p:spPr>
          <a:xfrm>
            <a:off x="5657760" y="4000680"/>
            <a:ext cx="857520" cy="549000"/>
          </a:xfrm>
          <a:custGeom>
            <a:avLst/>
            <a:gdLst/>
            <a:ahLst/>
            <a:rect l="l" t="t" r="r" b="b"/>
            <a:pathLst>
              <a:path w="2383" h="1525">
                <a:moveTo>
                  <a:pt x="16066" y="11112"/>
                </a:moveTo>
                <a:cubicBezTo>
                  <a:pt x="16111" y="11112"/>
                  <a:pt x="16062" y="11127"/>
                  <a:pt x="16034" y="11176"/>
                </a:cubicBezTo>
                <a:cubicBezTo>
                  <a:pt x="15991" y="11251"/>
                  <a:pt x="15939" y="11316"/>
                  <a:pt x="15907" y="11398"/>
                </a:cubicBezTo>
                <a:cubicBezTo>
                  <a:pt x="15863" y="11511"/>
                  <a:pt x="15768" y="11628"/>
                  <a:pt x="15748" y="11748"/>
                </a:cubicBezTo>
                <a:cubicBezTo>
                  <a:pt x="15727" y="11873"/>
                  <a:pt x="15716" y="12000"/>
                  <a:pt x="15716" y="12128"/>
                </a:cubicBezTo>
                <a:cubicBezTo>
                  <a:pt x="15716" y="12226"/>
                  <a:pt x="15728" y="12361"/>
                  <a:pt x="15780" y="12446"/>
                </a:cubicBezTo>
                <a:cubicBezTo>
                  <a:pt x="15812" y="12498"/>
                  <a:pt x="15917" y="12541"/>
                  <a:pt x="15938" y="12573"/>
                </a:cubicBezTo>
                <a:cubicBezTo>
                  <a:pt x="15972" y="12625"/>
                  <a:pt x="16000" y="12606"/>
                  <a:pt x="16002" y="12605"/>
                </a:cubicBezTo>
                <a:cubicBezTo>
                  <a:pt x="16013" y="12605"/>
                  <a:pt x="16023" y="12605"/>
                  <a:pt x="16034" y="12605"/>
                </a:cubicBezTo>
              </a:path>
              <a:path w="2383" h="1525">
                <a:moveTo>
                  <a:pt x="16129" y="11748"/>
                </a:moveTo>
                <a:cubicBezTo>
                  <a:pt x="16129" y="11676"/>
                  <a:pt x="16144" y="11652"/>
                  <a:pt x="16161" y="11620"/>
                </a:cubicBezTo>
                <a:cubicBezTo>
                  <a:pt x="16190" y="11564"/>
                  <a:pt x="16183" y="11557"/>
                  <a:pt x="16256" y="11557"/>
                </a:cubicBezTo>
                <a:cubicBezTo>
                  <a:pt x="16288" y="11557"/>
                  <a:pt x="16299" y="11557"/>
                  <a:pt x="16320" y="11557"/>
                </a:cubicBezTo>
                <a:cubicBezTo>
                  <a:pt x="16320" y="11637"/>
                  <a:pt x="16323" y="11675"/>
                  <a:pt x="16288" y="11748"/>
                </a:cubicBezTo>
                <a:cubicBezTo>
                  <a:pt x="16263" y="11800"/>
                  <a:pt x="16200" y="11886"/>
                  <a:pt x="16192" y="11906"/>
                </a:cubicBezTo>
                <a:cubicBezTo>
                  <a:pt x="16160" y="11981"/>
                  <a:pt x="16172" y="11916"/>
                  <a:pt x="16192" y="11906"/>
                </a:cubicBezTo>
                <a:cubicBezTo>
                  <a:pt x="16233" y="11885"/>
                  <a:pt x="16269" y="11874"/>
                  <a:pt x="16320" y="11874"/>
                </a:cubicBezTo>
                <a:cubicBezTo>
                  <a:pt x="16396" y="11874"/>
                  <a:pt x="16381" y="11886"/>
                  <a:pt x="16415" y="11938"/>
                </a:cubicBezTo>
                <a:cubicBezTo>
                  <a:pt x="16462" y="12011"/>
                  <a:pt x="16423" y="11989"/>
                  <a:pt x="16415" y="12065"/>
                </a:cubicBezTo>
                <a:cubicBezTo>
                  <a:pt x="16411" y="12105"/>
                  <a:pt x="16362" y="12173"/>
                  <a:pt x="16320" y="12192"/>
                </a:cubicBezTo>
                <a:cubicBezTo>
                  <a:pt x="16265" y="12217"/>
                  <a:pt x="16223" y="12209"/>
                  <a:pt x="16256" y="12160"/>
                </a:cubicBezTo>
              </a:path>
              <a:path w="2383" h="1525">
                <a:moveTo>
                  <a:pt x="16764" y="11589"/>
                </a:moveTo>
                <a:cubicBezTo>
                  <a:pt x="16775" y="11578"/>
                  <a:pt x="16785" y="11568"/>
                  <a:pt x="16796" y="11557"/>
                </a:cubicBezTo>
                <a:cubicBezTo>
                  <a:pt x="16776" y="11617"/>
                  <a:pt x="16764" y="11586"/>
                  <a:pt x="16764" y="11684"/>
                </a:cubicBezTo>
                <a:cubicBezTo>
                  <a:pt x="16764" y="11779"/>
                  <a:pt x="16739" y="11848"/>
                  <a:pt x="16732" y="11938"/>
                </a:cubicBezTo>
                <a:cubicBezTo>
                  <a:pt x="16732" y="11970"/>
                  <a:pt x="16732" y="11981"/>
                  <a:pt x="16732" y="12002"/>
                </a:cubicBezTo>
              </a:path>
              <a:path w="2383" h="1525">
                <a:moveTo>
                  <a:pt x="16605" y="11811"/>
                </a:moveTo>
                <a:cubicBezTo>
                  <a:pt x="16673" y="11811"/>
                  <a:pt x="16694" y="11785"/>
                  <a:pt x="16764" y="11779"/>
                </a:cubicBezTo>
                <a:cubicBezTo>
                  <a:pt x="16820" y="11774"/>
                  <a:pt x="16863" y="11728"/>
                  <a:pt x="16923" y="11716"/>
                </a:cubicBezTo>
              </a:path>
              <a:path w="2383" h="1525">
                <a:moveTo>
                  <a:pt x="17177" y="11335"/>
                </a:moveTo>
                <a:cubicBezTo>
                  <a:pt x="17177" y="11489"/>
                  <a:pt x="17188" y="11629"/>
                  <a:pt x="17208" y="11779"/>
                </a:cubicBezTo>
                <a:cubicBezTo>
                  <a:pt x="17218" y="11857"/>
                  <a:pt x="17208" y="12154"/>
                  <a:pt x="17208" y="12128"/>
                </a:cubicBezTo>
              </a:path>
              <a:path w="2383" h="1525">
                <a:moveTo>
                  <a:pt x="17336" y="11176"/>
                </a:moveTo>
                <a:cubicBezTo>
                  <a:pt x="17417" y="11217"/>
                  <a:pt x="17396" y="11264"/>
                  <a:pt x="17431" y="11335"/>
                </a:cubicBezTo>
                <a:cubicBezTo>
                  <a:pt x="17475" y="11423"/>
                  <a:pt x="17538" y="11507"/>
                  <a:pt x="17590" y="11589"/>
                </a:cubicBezTo>
                <a:cubicBezTo>
                  <a:pt x="17642" y="11672"/>
                  <a:pt x="17638" y="11843"/>
                  <a:pt x="17621" y="11938"/>
                </a:cubicBezTo>
                <a:cubicBezTo>
                  <a:pt x="17600" y="12052"/>
                  <a:pt x="17591" y="12186"/>
                  <a:pt x="17526" y="12287"/>
                </a:cubicBezTo>
                <a:cubicBezTo>
                  <a:pt x="17493" y="12338"/>
                  <a:pt x="17456" y="12433"/>
                  <a:pt x="17431" y="12382"/>
                </a:cubicBezTo>
              </a:path>
              <a:path w="2383" h="1525">
                <a:moveTo>
                  <a:pt x="17780" y="11240"/>
                </a:moveTo>
                <a:cubicBezTo>
                  <a:pt x="17794" y="11183"/>
                  <a:pt x="17818" y="11159"/>
                  <a:pt x="17875" y="11144"/>
                </a:cubicBezTo>
                <a:cubicBezTo>
                  <a:pt x="17875" y="11211"/>
                  <a:pt x="17882" y="11255"/>
                  <a:pt x="17875" y="11303"/>
                </a:cubicBezTo>
                <a:cubicBezTo>
                  <a:pt x="17865" y="11378"/>
                  <a:pt x="17863" y="11429"/>
                  <a:pt x="17844" y="11494"/>
                </a:cubicBezTo>
                <a:cubicBezTo>
                  <a:pt x="17834" y="11527"/>
                  <a:pt x="17777" y="11607"/>
                  <a:pt x="17812" y="11557"/>
                </a:cubicBezTo>
                <a:cubicBezTo>
                  <a:pt x="17835" y="11525"/>
                  <a:pt x="17853" y="11465"/>
                  <a:pt x="17907" y="11494"/>
                </a:cubicBezTo>
                <a:cubicBezTo>
                  <a:pt x="17946" y="11515"/>
                  <a:pt x="17975" y="11590"/>
                  <a:pt x="18034" y="11557"/>
                </a:cubicBezTo>
                <a:cubicBezTo>
                  <a:pt x="18066" y="11525"/>
                  <a:pt x="18076" y="11515"/>
                  <a:pt x="18098" y="114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Ink 10"/>
          <p:cNvSpPr/>
          <p:nvPr/>
        </p:nvSpPr>
        <p:spPr>
          <a:xfrm>
            <a:off x="4057560" y="4479840"/>
            <a:ext cx="2424240" cy="127080"/>
          </a:xfrm>
          <a:custGeom>
            <a:avLst/>
            <a:gdLst/>
            <a:ahLst/>
            <a:rect l="l" t="t" r="r" b="b"/>
            <a:pathLst>
              <a:path w="6732" h="350">
                <a:moveTo>
                  <a:pt x="11303" y="12668"/>
                </a:moveTo>
                <a:cubicBezTo>
                  <a:pt x="11344" y="12677"/>
                  <a:pt x="11328" y="12650"/>
                  <a:pt x="11366" y="12668"/>
                </a:cubicBezTo>
                <a:cubicBezTo>
                  <a:pt x="11414" y="12691"/>
                  <a:pt x="11442" y="12717"/>
                  <a:pt x="11494" y="12732"/>
                </a:cubicBezTo>
                <a:cubicBezTo>
                  <a:pt x="11542" y="12746"/>
                  <a:pt x="11603" y="12758"/>
                  <a:pt x="11652" y="12764"/>
                </a:cubicBezTo>
                <a:cubicBezTo>
                  <a:pt x="11740" y="12774"/>
                  <a:pt x="11821" y="12788"/>
                  <a:pt x="11906" y="12795"/>
                </a:cubicBezTo>
                <a:cubicBezTo>
                  <a:pt x="12090" y="12810"/>
                  <a:pt x="12273" y="12778"/>
                  <a:pt x="12446" y="12764"/>
                </a:cubicBezTo>
                <a:cubicBezTo>
                  <a:pt x="12646" y="12748"/>
                  <a:pt x="12853" y="12747"/>
                  <a:pt x="13049" y="12732"/>
                </a:cubicBezTo>
                <a:cubicBezTo>
                  <a:pt x="13248" y="12717"/>
                  <a:pt x="13462" y="12714"/>
                  <a:pt x="13652" y="12700"/>
                </a:cubicBezTo>
                <a:cubicBezTo>
                  <a:pt x="13798" y="12689"/>
                  <a:pt x="13959" y="12677"/>
                  <a:pt x="14097" y="12668"/>
                </a:cubicBezTo>
                <a:cubicBezTo>
                  <a:pt x="14255" y="12657"/>
                  <a:pt x="14420" y="12646"/>
                  <a:pt x="14573" y="12636"/>
                </a:cubicBezTo>
                <a:cubicBezTo>
                  <a:pt x="14678" y="12629"/>
                  <a:pt x="14794" y="12611"/>
                  <a:pt x="14891" y="12605"/>
                </a:cubicBezTo>
                <a:cubicBezTo>
                  <a:pt x="15001" y="12598"/>
                  <a:pt x="15101" y="12580"/>
                  <a:pt x="15208" y="12573"/>
                </a:cubicBezTo>
                <a:cubicBezTo>
                  <a:pt x="15312" y="12566"/>
                  <a:pt x="15431" y="12547"/>
                  <a:pt x="15526" y="12541"/>
                </a:cubicBezTo>
                <a:cubicBezTo>
                  <a:pt x="15643" y="12534"/>
                  <a:pt x="15763" y="12517"/>
                  <a:pt x="15875" y="12510"/>
                </a:cubicBezTo>
                <a:cubicBezTo>
                  <a:pt x="16032" y="12500"/>
                  <a:pt x="16204" y="12487"/>
                  <a:pt x="16351" y="12478"/>
                </a:cubicBezTo>
                <a:cubicBezTo>
                  <a:pt x="16468" y="12471"/>
                  <a:pt x="16588" y="12453"/>
                  <a:pt x="16700" y="12446"/>
                </a:cubicBezTo>
                <a:cubicBezTo>
                  <a:pt x="16874" y="12435"/>
                  <a:pt x="17041" y="12449"/>
                  <a:pt x="17208" y="12478"/>
                </a:cubicBezTo>
                <a:cubicBezTo>
                  <a:pt x="17303" y="12495"/>
                  <a:pt x="17399" y="12495"/>
                  <a:pt x="17494" y="12510"/>
                </a:cubicBezTo>
                <a:cubicBezTo>
                  <a:pt x="17595" y="12526"/>
                  <a:pt x="17712" y="12547"/>
                  <a:pt x="17812" y="12573"/>
                </a:cubicBezTo>
                <a:cubicBezTo>
                  <a:pt x="17861" y="12586"/>
                  <a:pt x="17893" y="12623"/>
                  <a:pt x="17939" y="12636"/>
                </a:cubicBezTo>
                <a:cubicBezTo>
                  <a:pt x="17970" y="12636"/>
                  <a:pt x="17981" y="12636"/>
                  <a:pt x="18002" y="126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Ink 11"/>
          <p:cNvSpPr/>
          <p:nvPr/>
        </p:nvSpPr>
        <p:spPr>
          <a:xfrm>
            <a:off x="4354560" y="4675320"/>
            <a:ext cx="2228760" cy="720720"/>
          </a:xfrm>
          <a:custGeom>
            <a:avLst/>
            <a:gdLst/>
            <a:ahLst/>
            <a:rect l="l" t="t" r="r" b="b"/>
            <a:pathLst>
              <a:path w="6192" h="2001">
                <a:moveTo>
                  <a:pt x="12097" y="14224"/>
                </a:moveTo>
                <a:cubicBezTo>
                  <a:pt x="12113" y="14264"/>
                  <a:pt x="12112" y="14311"/>
                  <a:pt x="12128" y="14351"/>
                </a:cubicBezTo>
                <a:cubicBezTo>
                  <a:pt x="12156" y="14421"/>
                  <a:pt x="12201" y="14471"/>
                  <a:pt x="12224" y="14542"/>
                </a:cubicBezTo>
                <a:cubicBezTo>
                  <a:pt x="12251" y="14625"/>
                  <a:pt x="12257" y="14711"/>
                  <a:pt x="12287" y="14796"/>
                </a:cubicBezTo>
                <a:cubicBezTo>
                  <a:pt x="12309" y="14858"/>
                  <a:pt x="12331" y="14926"/>
                  <a:pt x="12351" y="14986"/>
                </a:cubicBezTo>
                <a:cubicBezTo>
                  <a:pt x="12351" y="14667"/>
                  <a:pt x="12351" y="14343"/>
                  <a:pt x="12382" y="14034"/>
                </a:cubicBezTo>
                <a:cubicBezTo>
                  <a:pt x="12390" y="13956"/>
                  <a:pt x="12388" y="13908"/>
                  <a:pt x="12414" y="13843"/>
                </a:cubicBezTo>
                <a:cubicBezTo>
                  <a:pt x="12431" y="13801"/>
                  <a:pt x="12470" y="13747"/>
                  <a:pt x="12510" y="13716"/>
                </a:cubicBezTo>
                <a:cubicBezTo>
                  <a:pt x="12530" y="13701"/>
                  <a:pt x="12609" y="13662"/>
                  <a:pt x="12636" y="13652"/>
                </a:cubicBezTo>
                <a:cubicBezTo>
                  <a:pt x="12698" y="13628"/>
                  <a:pt x="12765" y="13639"/>
                  <a:pt x="12827" y="13621"/>
                </a:cubicBezTo>
                <a:cubicBezTo>
                  <a:pt x="12913" y="13596"/>
                  <a:pt x="12995" y="13578"/>
                  <a:pt x="13081" y="13557"/>
                </a:cubicBezTo>
                <a:cubicBezTo>
                  <a:pt x="13164" y="13536"/>
                  <a:pt x="13251" y="13544"/>
                  <a:pt x="13335" y="13526"/>
                </a:cubicBezTo>
                <a:cubicBezTo>
                  <a:pt x="13460" y="13500"/>
                  <a:pt x="13593" y="13451"/>
                  <a:pt x="13716" y="13430"/>
                </a:cubicBezTo>
                <a:cubicBezTo>
                  <a:pt x="13834" y="13410"/>
                  <a:pt x="13949" y="13368"/>
                  <a:pt x="14065" y="13335"/>
                </a:cubicBezTo>
                <a:cubicBezTo>
                  <a:pt x="14171" y="13305"/>
                  <a:pt x="14272" y="13253"/>
                  <a:pt x="14383" y="13240"/>
                </a:cubicBezTo>
                <a:cubicBezTo>
                  <a:pt x="14479" y="13229"/>
                  <a:pt x="14573" y="13216"/>
                  <a:pt x="14668" y="13208"/>
                </a:cubicBezTo>
                <a:cubicBezTo>
                  <a:pt x="14767" y="13199"/>
                  <a:pt x="14833" y="13221"/>
                  <a:pt x="14922" y="13240"/>
                </a:cubicBezTo>
                <a:cubicBezTo>
                  <a:pt x="14933" y="13240"/>
                  <a:pt x="14943" y="13240"/>
                  <a:pt x="14954" y="13240"/>
                </a:cubicBezTo>
              </a:path>
              <a:path w="6192" h="2001">
                <a:moveTo>
                  <a:pt x="12922" y="14129"/>
                </a:moveTo>
                <a:cubicBezTo>
                  <a:pt x="12922" y="14226"/>
                  <a:pt x="12918" y="14302"/>
                  <a:pt x="12890" y="14383"/>
                </a:cubicBezTo>
                <a:cubicBezTo>
                  <a:pt x="12873" y="14433"/>
                  <a:pt x="12871" y="14486"/>
                  <a:pt x="12859" y="14510"/>
                </a:cubicBezTo>
                <a:cubicBezTo>
                  <a:pt x="12859" y="14521"/>
                  <a:pt x="12859" y="14531"/>
                  <a:pt x="12859" y="14542"/>
                </a:cubicBezTo>
                <a:cubicBezTo>
                  <a:pt x="12859" y="14531"/>
                  <a:pt x="12859" y="14521"/>
                  <a:pt x="12859" y="14510"/>
                </a:cubicBezTo>
                <a:cubicBezTo>
                  <a:pt x="12889" y="14502"/>
                  <a:pt x="12959" y="14493"/>
                  <a:pt x="12986" y="14478"/>
                </a:cubicBezTo>
                <a:cubicBezTo>
                  <a:pt x="13039" y="14448"/>
                  <a:pt x="13048" y="14446"/>
                  <a:pt x="13113" y="14446"/>
                </a:cubicBezTo>
                <a:cubicBezTo>
                  <a:pt x="13181" y="14446"/>
                  <a:pt x="13160" y="14430"/>
                  <a:pt x="13208" y="14414"/>
                </a:cubicBezTo>
              </a:path>
              <a:path w="6192" h="2001">
                <a:moveTo>
                  <a:pt x="13240" y="13843"/>
                </a:moveTo>
                <a:cubicBezTo>
                  <a:pt x="13240" y="14019"/>
                  <a:pt x="13231" y="14181"/>
                  <a:pt x="13208" y="14351"/>
                </a:cubicBezTo>
                <a:cubicBezTo>
                  <a:pt x="13187" y="14504"/>
                  <a:pt x="13210" y="14649"/>
                  <a:pt x="13176" y="14796"/>
                </a:cubicBezTo>
                <a:cubicBezTo>
                  <a:pt x="13167" y="14836"/>
                  <a:pt x="13196" y="14822"/>
                  <a:pt x="13208" y="14859"/>
                </a:cubicBezTo>
              </a:path>
              <a:path w="6192" h="2001">
                <a:moveTo>
                  <a:pt x="13398" y="13938"/>
                </a:moveTo>
                <a:cubicBezTo>
                  <a:pt x="13398" y="14164"/>
                  <a:pt x="13394" y="14389"/>
                  <a:pt x="13430" y="14605"/>
                </a:cubicBezTo>
                <a:cubicBezTo>
                  <a:pt x="13444" y="14685"/>
                  <a:pt x="13447" y="14729"/>
                  <a:pt x="13494" y="14764"/>
                </a:cubicBezTo>
                <a:cubicBezTo>
                  <a:pt x="13543" y="14801"/>
                  <a:pt x="13570" y="14799"/>
                  <a:pt x="13621" y="14764"/>
                </a:cubicBezTo>
                <a:cubicBezTo>
                  <a:pt x="13679" y="14724"/>
                  <a:pt x="13665" y="14630"/>
                  <a:pt x="13684" y="14573"/>
                </a:cubicBezTo>
                <a:cubicBezTo>
                  <a:pt x="13711" y="14492"/>
                  <a:pt x="13716" y="14439"/>
                  <a:pt x="13716" y="14351"/>
                </a:cubicBezTo>
                <a:cubicBezTo>
                  <a:pt x="13716" y="14299"/>
                  <a:pt x="13715" y="14240"/>
                  <a:pt x="13684" y="14224"/>
                </a:cubicBezTo>
                <a:cubicBezTo>
                  <a:pt x="13673" y="14224"/>
                  <a:pt x="13663" y="14224"/>
                  <a:pt x="13652" y="14224"/>
                </a:cubicBezTo>
                <a:cubicBezTo>
                  <a:pt x="13612" y="14279"/>
                  <a:pt x="13593" y="14311"/>
                  <a:pt x="13589" y="14383"/>
                </a:cubicBezTo>
                <a:cubicBezTo>
                  <a:pt x="13584" y="14475"/>
                  <a:pt x="13562" y="14549"/>
                  <a:pt x="13557" y="14637"/>
                </a:cubicBezTo>
                <a:cubicBezTo>
                  <a:pt x="13552" y="14717"/>
                  <a:pt x="13542" y="14797"/>
                  <a:pt x="13589" y="14859"/>
                </a:cubicBezTo>
              </a:path>
              <a:path w="6192" h="2001">
                <a:moveTo>
                  <a:pt x="13938" y="14510"/>
                </a:moveTo>
                <a:cubicBezTo>
                  <a:pt x="13938" y="14521"/>
                  <a:pt x="13938" y="14531"/>
                  <a:pt x="13938" y="14542"/>
                </a:cubicBezTo>
              </a:path>
              <a:path w="6192" h="2001">
                <a:moveTo>
                  <a:pt x="14129" y="14034"/>
                </a:moveTo>
                <a:cubicBezTo>
                  <a:pt x="14141" y="13983"/>
                  <a:pt x="14176" y="13953"/>
                  <a:pt x="14192" y="13906"/>
                </a:cubicBezTo>
                <a:cubicBezTo>
                  <a:pt x="14210" y="13853"/>
                  <a:pt x="14250" y="13791"/>
                  <a:pt x="14288" y="13748"/>
                </a:cubicBezTo>
                <a:cubicBezTo>
                  <a:pt x="14319" y="13712"/>
                  <a:pt x="14386" y="13690"/>
                  <a:pt x="14414" y="13748"/>
                </a:cubicBezTo>
                <a:cubicBezTo>
                  <a:pt x="14460" y="13841"/>
                  <a:pt x="14426" y="13880"/>
                  <a:pt x="14414" y="13970"/>
                </a:cubicBezTo>
                <a:cubicBezTo>
                  <a:pt x="14400" y="14077"/>
                  <a:pt x="14399" y="14186"/>
                  <a:pt x="14383" y="14288"/>
                </a:cubicBezTo>
                <a:cubicBezTo>
                  <a:pt x="14375" y="14337"/>
                  <a:pt x="14373" y="14435"/>
                  <a:pt x="14351" y="14478"/>
                </a:cubicBezTo>
                <a:cubicBezTo>
                  <a:pt x="14340" y="14489"/>
                  <a:pt x="14330" y="14499"/>
                  <a:pt x="14319" y="14510"/>
                </a:cubicBezTo>
                <a:cubicBezTo>
                  <a:pt x="14332" y="14459"/>
                  <a:pt x="14367" y="14429"/>
                  <a:pt x="14383" y="14383"/>
                </a:cubicBezTo>
                <a:cubicBezTo>
                  <a:pt x="14395" y="14346"/>
                  <a:pt x="14425" y="14325"/>
                  <a:pt x="14478" y="14319"/>
                </a:cubicBezTo>
                <a:cubicBezTo>
                  <a:pt x="14543" y="14312"/>
                  <a:pt x="14554" y="14334"/>
                  <a:pt x="14605" y="14351"/>
                </a:cubicBezTo>
                <a:cubicBezTo>
                  <a:pt x="14629" y="14359"/>
                  <a:pt x="14675" y="14351"/>
                  <a:pt x="14700" y="14351"/>
                </a:cubicBezTo>
              </a:path>
              <a:path w="6192" h="2001">
                <a:moveTo>
                  <a:pt x="14922" y="13589"/>
                </a:moveTo>
                <a:cubicBezTo>
                  <a:pt x="14908" y="13633"/>
                  <a:pt x="14872" y="13626"/>
                  <a:pt x="14859" y="13652"/>
                </a:cubicBezTo>
                <a:cubicBezTo>
                  <a:pt x="14845" y="13679"/>
                  <a:pt x="14808" y="13701"/>
                  <a:pt x="14764" y="13716"/>
                </a:cubicBezTo>
                <a:cubicBezTo>
                  <a:pt x="14740" y="13724"/>
                  <a:pt x="14694" y="13716"/>
                  <a:pt x="14668" y="13716"/>
                </a:cubicBezTo>
                <a:cubicBezTo>
                  <a:pt x="14668" y="13785"/>
                  <a:pt x="14688" y="13821"/>
                  <a:pt x="14700" y="13875"/>
                </a:cubicBezTo>
                <a:cubicBezTo>
                  <a:pt x="14715" y="13944"/>
                  <a:pt x="14727" y="13960"/>
                  <a:pt x="14732" y="14002"/>
                </a:cubicBezTo>
                <a:cubicBezTo>
                  <a:pt x="14732" y="14013"/>
                  <a:pt x="14732" y="14023"/>
                  <a:pt x="14732" y="14034"/>
                </a:cubicBezTo>
                <a:cubicBezTo>
                  <a:pt x="14793" y="14019"/>
                  <a:pt x="14804" y="13963"/>
                  <a:pt x="14859" y="13938"/>
                </a:cubicBezTo>
                <a:cubicBezTo>
                  <a:pt x="14895" y="13938"/>
                  <a:pt x="14909" y="13935"/>
                  <a:pt x="14922" y="13906"/>
                </a:cubicBezTo>
                <a:cubicBezTo>
                  <a:pt x="14940" y="13960"/>
                  <a:pt x="15001" y="13925"/>
                  <a:pt x="15018" y="14002"/>
                </a:cubicBezTo>
                <a:cubicBezTo>
                  <a:pt x="15033" y="14072"/>
                  <a:pt x="15050" y="14116"/>
                  <a:pt x="15050" y="14192"/>
                </a:cubicBezTo>
                <a:cubicBezTo>
                  <a:pt x="15050" y="14277"/>
                  <a:pt x="15041" y="14316"/>
                  <a:pt x="15018" y="14383"/>
                </a:cubicBezTo>
                <a:cubicBezTo>
                  <a:pt x="14997" y="14444"/>
                  <a:pt x="14989" y="14446"/>
                  <a:pt x="14922" y="14446"/>
                </a:cubicBezTo>
                <a:cubicBezTo>
                  <a:pt x="14878" y="14446"/>
                  <a:pt x="14820" y="14463"/>
                  <a:pt x="14796" y="14414"/>
                </a:cubicBezTo>
                <a:cubicBezTo>
                  <a:pt x="14787" y="14395"/>
                  <a:pt x="14796" y="14340"/>
                  <a:pt x="14796" y="14319"/>
                </a:cubicBezTo>
              </a:path>
              <a:path w="6192" h="2001">
                <a:moveTo>
                  <a:pt x="15653" y="13684"/>
                </a:moveTo>
                <a:cubicBezTo>
                  <a:pt x="15642" y="13684"/>
                  <a:pt x="15632" y="13684"/>
                  <a:pt x="15621" y="13684"/>
                </a:cubicBezTo>
                <a:cubicBezTo>
                  <a:pt x="15631" y="13655"/>
                  <a:pt x="15674" y="13635"/>
                  <a:pt x="15716" y="13621"/>
                </a:cubicBezTo>
                <a:cubicBezTo>
                  <a:pt x="15798" y="13594"/>
                  <a:pt x="16002" y="13606"/>
                  <a:pt x="16066" y="13652"/>
                </a:cubicBezTo>
              </a:path>
              <a:path w="6192" h="2001">
                <a:moveTo>
                  <a:pt x="15716" y="14034"/>
                </a:moveTo>
                <a:cubicBezTo>
                  <a:pt x="15780" y="14018"/>
                  <a:pt x="15798" y="14002"/>
                  <a:pt x="15875" y="14002"/>
                </a:cubicBezTo>
                <a:cubicBezTo>
                  <a:pt x="15917" y="14002"/>
                  <a:pt x="15960" y="14002"/>
                  <a:pt x="16002" y="14002"/>
                </a:cubicBezTo>
              </a:path>
              <a:path w="6192" h="2001">
                <a:moveTo>
                  <a:pt x="16828" y="13303"/>
                </a:moveTo>
                <a:cubicBezTo>
                  <a:pt x="16776" y="13320"/>
                  <a:pt x="16796" y="13365"/>
                  <a:pt x="16796" y="13430"/>
                </a:cubicBezTo>
                <a:cubicBezTo>
                  <a:pt x="16796" y="13482"/>
                  <a:pt x="16779" y="13599"/>
                  <a:pt x="16764" y="13652"/>
                </a:cubicBezTo>
                <a:cubicBezTo>
                  <a:pt x="16733" y="13761"/>
                  <a:pt x="16713" y="13887"/>
                  <a:pt x="16700" y="14002"/>
                </a:cubicBezTo>
                <a:cubicBezTo>
                  <a:pt x="16684" y="14148"/>
                  <a:pt x="16648" y="14480"/>
                  <a:pt x="16732" y="14605"/>
                </a:cubicBezTo>
                <a:cubicBezTo>
                  <a:pt x="16757" y="14642"/>
                  <a:pt x="16822" y="14687"/>
                  <a:pt x="16859" y="14700"/>
                </a:cubicBezTo>
                <a:cubicBezTo>
                  <a:pt x="16892" y="14711"/>
                  <a:pt x="16962" y="14658"/>
                  <a:pt x="16986" y="14637"/>
                </a:cubicBezTo>
                <a:cubicBezTo>
                  <a:pt x="17043" y="14587"/>
                  <a:pt x="17069" y="14537"/>
                  <a:pt x="17113" y="14478"/>
                </a:cubicBezTo>
                <a:cubicBezTo>
                  <a:pt x="17178" y="14391"/>
                  <a:pt x="17144" y="14345"/>
                  <a:pt x="17177" y="14256"/>
                </a:cubicBezTo>
                <a:cubicBezTo>
                  <a:pt x="17191" y="14220"/>
                  <a:pt x="17235" y="14147"/>
                  <a:pt x="17208" y="14097"/>
                </a:cubicBezTo>
                <a:cubicBezTo>
                  <a:pt x="17177" y="14040"/>
                  <a:pt x="17177" y="14034"/>
                  <a:pt x="17113" y="14034"/>
                </a:cubicBezTo>
                <a:cubicBezTo>
                  <a:pt x="17093" y="14061"/>
                  <a:pt x="17027" y="14130"/>
                  <a:pt x="17018" y="14160"/>
                </a:cubicBezTo>
                <a:cubicBezTo>
                  <a:pt x="16994" y="14242"/>
                  <a:pt x="16986" y="14326"/>
                  <a:pt x="16986" y="14414"/>
                </a:cubicBezTo>
                <a:cubicBezTo>
                  <a:pt x="16986" y="14509"/>
                  <a:pt x="16962" y="14626"/>
                  <a:pt x="17018" y="14700"/>
                </a:cubicBezTo>
              </a:path>
              <a:path w="6192" h="2001">
                <a:moveTo>
                  <a:pt x="17462" y="14319"/>
                </a:moveTo>
                <a:cubicBezTo>
                  <a:pt x="17462" y="14330"/>
                  <a:pt x="17462" y="14340"/>
                  <a:pt x="17462" y="14351"/>
                </a:cubicBezTo>
                <a:cubicBezTo>
                  <a:pt x="17522" y="14371"/>
                  <a:pt x="17466" y="14395"/>
                  <a:pt x="17526" y="14414"/>
                </a:cubicBezTo>
              </a:path>
              <a:path w="6192" h="2001">
                <a:moveTo>
                  <a:pt x="18129" y="13652"/>
                </a:moveTo>
                <a:cubicBezTo>
                  <a:pt x="18160" y="13570"/>
                  <a:pt x="18161" y="13518"/>
                  <a:pt x="18161" y="13430"/>
                </a:cubicBezTo>
                <a:cubicBezTo>
                  <a:pt x="18161" y="13328"/>
                  <a:pt x="18148" y="13349"/>
                  <a:pt x="18098" y="13272"/>
                </a:cubicBezTo>
                <a:cubicBezTo>
                  <a:pt x="18063" y="13217"/>
                  <a:pt x="18079" y="13213"/>
                  <a:pt x="18002" y="13208"/>
                </a:cubicBezTo>
                <a:cubicBezTo>
                  <a:pt x="17932" y="13204"/>
                  <a:pt x="17868" y="13261"/>
                  <a:pt x="17812" y="13303"/>
                </a:cubicBezTo>
                <a:cubicBezTo>
                  <a:pt x="17740" y="13357"/>
                  <a:pt x="17740" y="13456"/>
                  <a:pt x="17716" y="13526"/>
                </a:cubicBezTo>
                <a:cubicBezTo>
                  <a:pt x="17692" y="13596"/>
                  <a:pt x="17708" y="13606"/>
                  <a:pt x="17716" y="13684"/>
                </a:cubicBezTo>
                <a:cubicBezTo>
                  <a:pt x="17723" y="13760"/>
                  <a:pt x="17763" y="13811"/>
                  <a:pt x="17812" y="13875"/>
                </a:cubicBezTo>
                <a:cubicBezTo>
                  <a:pt x="17857" y="13934"/>
                  <a:pt x="17914" y="13960"/>
                  <a:pt x="17970" y="14002"/>
                </a:cubicBezTo>
                <a:cubicBezTo>
                  <a:pt x="18022" y="14041"/>
                  <a:pt x="18066" y="14107"/>
                  <a:pt x="18098" y="14160"/>
                </a:cubicBezTo>
                <a:cubicBezTo>
                  <a:pt x="18151" y="14250"/>
                  <a:pt x="18161" y="14312"/>
                  <a:pt x="18161" y="14414"/>
                </a:cubicBezTo>
                <a:cubicBezTo>
                  <a:pt x="18161" y="14500"/>
                  <a:pt x="18162" y="14538"/>
                  <a:pt x="18129" y="14605"/>
                </a:cubicBezTo>
                <a:cubicBezTo>
                  <a:pt x="18109" y="14646"/>
                  <a:pt x="18100" y="14704"/>
                  <a:pt x="18034" y="14700"/>
                </a:cubicBezTo>
                <a:cubicBezTo>
                  <a:pt x="17985" y="14697"/>
                  <a:pt x="17955" y="14649"/>
                  <a:pt x="17939" y="14605"/>
                </a:cubicBezTo>
                <a:cubicBezTo>
                  <a:pt x="17895" y="14483"/>
                  <a:pt x="17925" y="14437"/>
                  <a:pt x="17939" y="14319"/>
                </a:cubicBezTo>
                <a:cubicBezTo>
                  <a:pt x="17957" y="14167"/>
                  <a:pt x="17952" y="14054"/>
                  <a:pt x="18002" y="13906"/>
                </a:cubicBezTo>
                <a:cubicBezTo>
                  <a:pt x="18051" y="13760"/>
                  <a:pt x="18091" y="13611"/>
                  <a:pt x="18129" y="13462"/>
                </a:cubicBezTo>
                <a:cubicBezTo>
                  <a:pt x="18163" y="13329"/>
                  <a:pt x="18211" y="13210"/>
                  <a:pt x="18256" y="13081"/>
                </a:cubicBezTo>
                <a:cubicBezTo>
                  <a:pt x="18267" y="13049"/>
                  <a:pt x="18277" y="13018"/>
                  <a:pt x="18288" y="129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Ink 12"/>
          <p:cNvSpPr/>
          <p:nvPr/>
        </p:nvSpPr>
        <p:spPr>
          <a:xfrm>
            <a:off x="6800760" y="2514600"/>
            <a:ext cx="2217960" cy="1349280"/>
          </a:xfrm>
          <a:custGeom>
            <a:avLst/>
            <a:gdLst/>
            <a:ahLst/>
            <a:rect l="l" t="t" r="r" b="b"/>
            <a:pathLst>
              <a:path w="6161" h="3748">
                <a:moveTo>
                  <a:pt x="19939" y="7874"/>
                </a:moveTo>
                <a:cubicBezTo>
                  <a:pt x="19939" y="7807"/>
                  <a:pt x="19954" y="7796"/>
                  <a:pt x="20002" y="7747"/>
                </a:cubicBezTo>
                <a:cubicBezTo>
                  <a:pt x="20050" y="7699"/>
                  <a:pt x="20094" y="7642"/>
                  <a:pt x="20161" y="7620"/>
                </a:cubicBezTo>
                <a:cubicBezTo>
                  <a:pt x="20198" y="7608"/>
                  <a:pt x="20269" y="7614"/>
                  <a:pt x="20288" y="7652"/>
                </a:cubicBezTo>
                <a:cubicBezTo>
                  <a:pt x="20322" y="7721"/>
                  <a:pt x="20253" y="7817"/>
                  <a:pt x="20225" y="7874"/>
                </a:cubicBezTo>
                <a:cubicBezTo>
                  <a:pt x="20195" y="7934"/>
                  <a:pt x="20160" y="8062"/>
                  <a:pt x="20098" y="8096"/>
                </a:cubicBezTo>
                <a:cubicBezTo>
                  <a:pt x="20066" y="8096"/>
                  <a:pt x="20055" y="8096"/>
                  <a:pt x="20066" y="8128"/>
                </a:cubicBezTo>
                <a:cubicBezTo>
                  <a:pt x="20066" y="8076"/>
                  <a:pt x="20073" y="8026"/>
                  <a:pt x="20130" y="8001"/>
                </a:cubicBezTo>
                <a:cubicBezTo>
                  <a:pt x="20153" y="7991"/>
                  <a:pt x="20262" y="7934"/>
                  <a:pt x="20288" y="7938"/>
                </a:cubicBezTo>
                <a:cubicBezTo>
                  <a:pt x="20353" y="7949"/>
                  <a:pt x="20379" y="8016"/>
                  <a:pt x="20415" y="8064"/>
                </a:cubicBezTo>
                <a:cubicBezTo>
                  <a:pt x="20474" y="8143"/>
                  <a:pt x="20506" y="8192"/>
                  <a:pt x="20447" y="8287"/>
                </a:cubicBezTo>
                <a:cubicBezTo>
                  <a:pt x="20399" y="8364"/>
                  <a:pt x="20366" y="8431"/>
                  <a:pt x="20288" y="8477"/>
                </a:cubicBezTo>
                <a:cubicBezTo>
                  <a:pt x="20214" y="8520"/>
                  <a:pt x="20146" y="8567"/>
                  <a:pt x="20066" y="8572"/>
                </a:cubicBezTo>
                <a:cubicBezTo>
                  <a:pt x="19993" y="8576"/>
                  <a:pt x="19991" y="8579"/>
                  <a:pt x="19939" y="8541"/>
                </a:cubicBezTo>
              </a:path>
              <a:path w="6161" h="3748">
                <a:moveTo>
                  <a:pt x="18891" y="9049"/>
                </a:moveTo>
                <a:cubicBezTo>
                  <a:pt x="19118" y="9049"/>
                  <a:pt x="19337" y="9043"/>
                  <a:pt x="19558" y="9017"/>
                </a:cubicBezTo>
                <a:cubicBezTo>
                  <a:pt x="19686" y="9002"/>
                  <a:pt x="19812" y="8968"/>
                  <a:pt x="19939" y="8954"/>
                </a:cubicBezTo>
                <a:cubicBezTo>
                  <a:pt x="20045" y="8942"/>
                  <a:pt x="20151" y="8930"/>
                  <a:pt x="20256" y="8922"/>
                </a:cubicBezTo>
                <a:cubicBezTo>
                  <a:pt x="20310" y="8918"/>
                  <a:pt x="20310" y="8922"/>
                  <a:pt x="20352" y="8954"/>
                </a:cubicBezTo>
              </a:path>
              <a:path w="6161" h="3748">
                <a:moveTo>
                  <a:pt x="19399" y="9588"/>
                </a:moveTo>
                <a:cubicBezTo>
                  <a:pt x="19351" y="9564"/>
                  <a:pt x="19403" y="9546"/>
                  <a:pt x="19431" y="9525"/>
                </a:cubicBezTo>
                <a:cubicBezTo>
                  <a:pt x="19489" y="9482"/>
                  <a:pt x="19516" y="9408"/>
                  <a:pt x="19590" y="9398"/>
                </a:cubicBezTo>
                <a:cubicBezTo>
                  <a:pt x="19674" y="9387"/>
                  <a:pt x="19717" y="9414"/>
                  <a:pt x="19748" y="9493"/>
                </a:cubicBezTo>
                <a:cubicBezTo>
                  <a:pt x="19772" y="9553"/>
                  <a:pt x="19735" y="9632"/>
                  <a:pt x="19717" y="9684"/>
                </a:cubicBezTo>
                <a:cubicBezTo>
                  <a:pt x="19685" y="9775"/>
                  <a:pt x="19643" y="9921"/>
                  <a:pt x="19590" y="10001"/>
                </a:cubicBezTo>
                <a:cubicBezTo>
                  <a:pt x="19535" y="10083"/>
                  <a:pt x="19512" y="10135"/>
                  <a:pt x="19463" y="10224"/>
                </a:cubicBezTo>
                <a:cubicBezTo>
                  <a:pt x="19499" y="10196"/>
                  <a:pt x="19580" y="10139"/>
                  <a:pt x="19622" y="10128"/>
                </a:cubicBezTo>
                <a:cubicBezTo>
                  <a:pt x="19683" y="10112"/>
                  <a:pt x="19756" y="10076"/>
                  <a:pt x="19812" y="10065"/>
                </a:cubicBezTo>
                <a:cubicBezTo>
                  <a:pt x="19899" y="10048"/>
                  <a:pt x="19962" y="10088"/>
                  <a:pt x="20034" y="10033"/>
                </a:cubicBezTo>
              </a:path>
              <a:path w="6161" h="3748">
                <a:moveTo>
                  <a:pt x="20384" y="7017"/>
                </a:moveTo>
                <a:cubicBezTo>
                  <a:pt x="20435" y="7038"/>
                  <a:pt x="20439" y="7042"/>
                  <a:pt x="20479" y="7080"/>
                </a:cubicBezTo>
                <a:cubicBezTo>
                  <a:pt x="20557" y="7153"/>
                  <a:pt x="20652" y="7300"/>
                  <a:pt x="20701" y="7398"/>
                </a:cubicBezTo>
                <a:cubicBezTo>
                  <a:pt x="20773" y="7543"/>
                  <a:pt x="20830" y="7696"/>
                  <a:pt x="20892" y="7842"/>
                </a:cubicBezTo>
                <a:cubicBezTo>
                  <a:pt x="20972" y="8028"/>
                  <a:pt x="21009" y="8215"/>
                  <a:pt x="21050" y="8414"/>
                </a:cubicBezTo>
                <a:cubicBezTo>
                  <a:pt x="21093" y="8625"/>
                  <a:pt x="21082" y="8834"/>
                  <a:pt x="21082" y="9049"/>
                </a:cubicBezTo>
                <a:cubicBezTo>
                  <a:pt x="21082" y="9265"/>
                  <a:pt x="21051" y="9508"/>
                  <a:pt x="20987" y="9716"/>
                </a:cubicBezTo>
                <a:cubicBezTo>
                  <a:pt x="20931" y="9899"/>
                  <a:pt x="20858" y="10081"/>
                  <a:pt x="20796" y="10255"/>
                </a:cubicBezTo>
                <a:cubicBezTo>
                  <a:pt x="20746" y="10396"/>
                  <a:pt x="20684" y="10481"/>
                  <a:pt x="20606" y="10604"/>
                </a:cubicBezTo>
                <a:cubicBezTo>
                  <a:pt x="20574" y="10668"/>
                  <a:pt x="20563" y="10689"/>
                  <a:pt x="20542" y="10732"/>
                </a:cubicBezTo>
              </a:path>
              <a:path w="6161" h="3748">
                <a:moveTo>
                  <a:pt x="21463" y="8604"/>
                </a:moveTo>
                <a:lnTo>
                  <a:pt x="21463" y="8604"/>
                </a:lnTo>
              </a:path>
              <a:path w="6161" h="3748">
                <a:moveTo>
                  <a:pt x="21463" y="8604"/>
                </a:moveTo>
                <a:cubicBezTo>
                  <a:pt x="21484" y="8604"/>
                  <a:pt x="21505" y="8604"/>
                  <a:pt x="21526" y="8604"/>
                </a:cubicBezTo>
              </a:path>
              <a:path w="6161" h="3748">
                <a:moveTo>
                  <a:pt x="21526" y="8604"/>
                </a:moveTo>
                <a:cubicBezTo>
                  <a:pt x="21604" y="8593"/>
                  <a:pt x="21633" y="8572"/>
                  <a:pt x="21717" y="8572"/>
                </a:cubicBezTo>
                <a:cubicBezTo>
                  <a:pt x="21791" y="8572"/>
                  <a:pt x="21865" y="8572"/>
                  <a:pt x="21939" y="8572"/>
                </a:cubicBezTo>
              </a:path>
              <a:path w="6161" h="3748">
                <a:moveTo>
                  <a:pt x="21590" y="8922"/>
                </a:moveTo>
                <a:cubicBezTo>
                  <a:pt x="21590" y="8933"/>
                  <a:pt x="21590" y="8943"/>
                  <a:pt x="21590" y="8954"/>
                </a:cubicBezTo>
              </a:path>
              <a:path w="6161" h="3748">
                <a:moveTo>
                  <a:pt x="21590" y="8922"/>
                </a:moveTo>
                <a:cubicBezTo>
                  <a:pt x="21611" y="8933"/>
                  <a:pt x="21633" y="8943"/>
                  <a:pt x="21654" y="8954"/>
                </a:cubicBezTo>
              </a:path>
              <a:path w="6161" h="3748">
                <a:moveTo>
                  <a:pt x="21654" y="8954"/>
                </a:moveTo>
                <a:cubicBezTo>
                  <a:pt x="21718" y="8954"/>
                  <a:pt x="21729" y="8939"/>
                  <a:pt x="21780" y="8922"/>
                </a:cubicBezTo>
                <a:cubicBezTo>
                  <a:pt x="21822" y="8908"/>
                  <a:pt x="21869" y="8903"/>
                  <a:pt x="21908" y="8890"/>
                </a:cubicBezTo>
                <a:cubicBezTo>
                  <a:pt x="21944" y="8878"/>
                  <a:pt x="22008" y="8934"/>
                  <a:pt x="22034" y="8954"/>
                </a:cubicBezTo>
              </a:path>
              <a:path w="6161" h="3748">
                <a:moveTo>
                  <a:pt x="22447" y="7556"/>
                </a:moveTo>
                <a:cubicBezTo>
                  <a:pt x="22447" y="7525"/>
                  <a:pt x="22447" y="7515"/>
                  <a:pt x="22416" y="7525"/>
                </a:cubicBezTo>
                <a:cubicBezTo>
                  <a:pt x="22409" y="7576"/>
                  <a:pt x="22404" y="7608"/>
                  <a:pt x="22384" y="7652"/>
                </a:cubicBezTo>
                <a:cubicBezTo>
                  <a:pt x="22343" y="7743"/>
                  <a:pt x="22312" y="7814"/>
                  <a:pt x="22288" y="7906"/>
                </a:cubicBezTo>
                <a:cubicBezTo>
                  <a:pt x="22255" y="8034"/>
                  <a:pt x="22208" y="8157"/>
                  <a:pt x="22193" y="8287"/>
                </a:cubicBezTo>
                <a:cubicBezTo>
                  <a:pt x="22167" y="8519"/>
                  <a:pt x="22200" y="8760"/>
                  <a:pt x="22225" y="8985"/>
                </a:cubicBezTo>
                <a:cubicBezTo>
                  <a:pt x="22239" y="9105"/>
                  <a:pt x="22231" y="9259"/>
                  <a:pt x="22288" y="9366"/>
                </a:cubicBezTo>
                <a:cubicBezTo>
                  <a:pt x="22330" y="9445"/>
                  <a:pt x="22325" y="9536"/>
                  <a:pt x="22384" y="9620"/>
                </a:cubicBezTo>
                <a:cubicBezTo>
                  <a:pt x="22412" y="9660"/>
                  <a:pt x="22422" y="9711"/>
                  <a:pt x="22447" y="9747"/>
                </a:cubicBezTo>
                <a:cubicBezTo>
                  <a:pt x="22479" y="9747"/>
                  <a:pt x="22490" y="9747"/>
                  <a:pt x="22479" y="9779"/>
                </a:cubicBezTo>
              </a:path>
              <a:path w="6161" h="3748">
                <a:moveTo>
                  <a:pt x="22987" y="8318"/>
                </a:moveTo>
                <a:cubicBezTo>
                  <a:pt x="22956" y="8381"/>
                  <a:pt x="22955" y="8434"/>
                  <a:pt x="22955" y="8509"/>
                </a:cubicBezTo>
                <a:cubicBezTo>
                  <a:pt x="22955" y="8568"/>
                  <a:pt x="22919" y="8685"/>
                  <a:pt x="22924" y="8731"/>
                </a:cubicBezTo>
                <a:cubicBezTo>
                  <a:pt x="22936" y="8832"/>
                  <a:pt x="22930" y="8880"/>
                  <a:pt x="22924" y="8985"/>
                </a:cubicBezTo>
                <a:cubicBezTo>
                  <a:pt x="22917" y="9121"/>
                  <a:pt x="22931" y="9248"/>
                  <a:pt x="22892" y="9366"/>
                </a:cubicBezTo>
                <a:cubicBezTo>
                  <a:pt x="22892" y="9377"/>
                  <a:pt x="22892" y="9387"/>
                  <a:pt x="22892" y="9398"/>
                </a:cubicBezTo>
              </a:path>
              <a:path w="6161" h="3748">
                <a:moveTo>
                  <a:pt x="23146" y="9239"/>
                </a:moveTo>
                <a:cubicBezTo>
                  <a:pt x="23146" y="9246"/>
                  <a:pt x="23140" y="9384"/>
                  <a:pt x="23178" y="9334"/>
                </a:cubicBezTo>
                <a:cubicBezTo>
                  <a:pt x="23178" y="9303"/>
                  <a:pt x="23178" y="9292"/>
                  <a:pt x="23178" y="9271"/>
                </a:cubicBezTo>
                <a:cubicBezTo>
                  <a:pt x="23178" y="9303"/>
                  <a:pt x="23178" y="9334"/>
                  <a:pt x="23178" y="9366"/>
                </a:cubicBezTo>
              </a:path>
              <a:path w="6161" h="3748">
                <a:moveTo>
                  <a:pt x="23654" y="8192"/>
                </a:moveTo>
                <a:cubicBezTo>
                  <a:pt x="23637" y="8259"/>
                  <a:pt x="23605" y="8256"/>
                  <a:pt x="23558" y="8287"/>
                </a:cubicBezTo>
                <a:cubicBezTo>
                  <a:pt x="23508" y="8320"/>
                  <a:pt x="23494" y="8318"/>
                  <a:pt x="23432" y="8318"/>
                </a:cubicBezTo>
                <a:cubicBezTo>
                  <a:pt x="23400" y="8318"/>
                  <a:pt x="23368" y="8318"/>
                  <a:pt x="23336" y="8318"/>
                </a:cubicBezTo>
                <a:cubicBezTo>
                  <a:pt x="23336" y="8466"/>
                  <a:pt x="23336" y="8615"/>
                  <a:pt x="23336" y="8763"/>
                </a:cubicBezTo>
                <a:cubicBezTo>
                  <a:pt x="23336" y="8707"/>
                  <a:pt x="23344" y="8700"/>
                  <a:pt x="23368" y="8668"/>
                </a:cubicBezTo>
                <a:cubicBezTo>
                  <a:pt x="23402" y="8622"/>
                  <a:pt x="23444" y="8636"/>
                  <a:pt x="23495" y="8636"/>
                </a:cubicBezTo>
                <a:cubicBezTo>
                  <a:pt x="23554" y="8636"/>
                  <a:pt x="23569" y="8690"/>
                  <a:pt x="23590" y="8700"/>
                </a:cubicBezTo>
                <a:cubicBezTo>
                  <a:pt x="23624" y="8717"/>
                  <a:pt x="23648" y="8718"/>
                  <a:pt x="23654" y="8763"/>
                </a:cubicBezTo>
                <a:cubicBezTo>
                  <a:pt x="23661" y="8815"/>
                  <a:pt x="23686" y="8831"/>
                  <a:pt x="23686" y="8890"/>
                </a:cubicBezTo>
                <a:cubicBezTo>
                  <a:pt x="23686" y="8985"/>
                  <a:pt x="23716" y="9139"/>
                  <a:pt x="23654" y="9208"/>
                </a:cubicBezTo>
                <a:cubicBezTo>
                  <a:pt x="23609" y="9258"/>
                  <a:pt x="23592" y="9271"/>
                  <a:pt x="23527" y="9271"/>
                </a:cubicBezTo>
                <a:cubicBezTo>
                  <a:pt x="23475" y="9271"/>
                  <a:pt x="23511" y="9255"/>
                  <a:pt x="23463" y="9239"/>
                </a:cubicBezTo>
              </a:path>
              <a:path w="6161" h="3748">
                <a:moveTo>
                  <a:pt x="23971" y="9049"/>
                </a:moveTo>
                <a:cubicBezTo>
                  <a:pt x="23971" y="9059"/>
                  <a:pt x="23971" y="9070"/>
                  <a:pt x="23971" y="9080"/>
                </a:cubicBezTo>
              </a:path>
              <a:path w="6161" h="3748">
                <a:moveTo>
                  <a:pt x="23971" y="9049"/>
                </a:moveTo>
                <a:cubicBezTo>
                  <a:pt x="23982" y="9059"/>
                  <a:pt x="23992" y="9070"/>
                  <a:pt x="24003" y="9080"/>
                </a:cubicBezTo>
              </a:path>
              <a:path w="6161" h="3748">
                <a:moveTo>
                  <a:pt x="24003" y="9080"/>
                </a:moveTo>
                <a:cubicBezTo>
                  <a:pt x="24003" y="9101"/>
                  <a:pt x="24003" y="9123"/>
                  <a:pt x="24003" y="9144"/>
                </a:cubicBezTo>
              </a:path>
              <a:path w="6161" h="3748">
                <a:moveTo>
                  <a:pt x="24003" y="9144"/>
                </a:moveTo>
                <a:cubicBezTo>
                  <a:pt x="24003" y="9200"/>
                  <a:pt x="24001" y="9195"/>
                  <a:pt x="24035" y="9239"/>
                </a:cubicBezTo>
                <a:cubicBezTo>
                  <a:pt x="24001" y="9295"/>
                  <a:pt x="24003" y="9330"/>
                  <a:pt x="24003" y="9398"/>
                </a:cubicBezTo>
                <a:cubicBezTo>
                  <a:pt x="24003" y="9472"/>
                  <a:pt x="24001" y="9558"/>
                  <a:pt x="23971" y="9620"/>
                </a:cubicBezTo>
                <a:cubicBezTo>
                  <a:pt x="23947" y="9669"/>
                  <a:pt x="23919" y="9705"/>
                  <a:pt x="23876" y="9747"/>
                </a:cubicBezTo>
              </a:path>
              <a:path w="6161" h="3748">
                <a:moveTo>
                  <a:pt x="24289" y="8636"/>
                </a:moveTo>
                <a:cubicBezTo>
                  <a:pt x="24289" y="8647"/>
                  <a:pt x="24289" y="8657"/>
                  <a:pt x="24289" y="8668"/>
                </a:cubicBezTo>
                <a:cubicBezTo>
                  <a:pt x="24357" y="8668"/>
                  <a:pt x="24395" y="8676"/>
                  <a:pt x="24448" y="8636"/>
                </a:cubicBezTo>
              </a:path>
              <a:path w="6161" h="3748">
                <a:moveTo>
                  <a:pt x="24638" y="8318"/>
                </a:moveTo>
                <a:cubicBezTo>
                  <a:pt x="24638" y="8635"/>
                  <a:pt x="24638" y="9525"/>
                  <a:pt x="24638" y="9208"/>
                </a:cubicBezTo>
              </a:path>
              <a:path w="6161" h="3748">
                <a:moveTo>
                  <a:pt x="24670" y="7493"/>
                </a:moveTo>
                <a:cubicBezTo>
                  <a:pt x="24706" y="7538"/>
                  <a:pt x="24741" y="7594"/>
                  <a:pt x="24765" y="7652"/>
                </a:cubicBezTo>
                <a:cubicBezTo>
                  <a:pt x="24818" y="7781"/>
                  <a:pt x="24859" y="7902"/>
                  <a:pt x="24892" y="8033"/>
                </a:cubicBezTo>
                <a:cubicBezTo>
                  <a:pt x="24932" y="8194"/>
                  <a:pt x="24983" y="8351"/>
                  <a:pt x="25019" y="8509"/>
                </a:cubicBezTo>
                <a:cubicBezTo>
                  <a:pt x="25051" y="8651"/>
                  <a:pt x="25051" y="8774"/>
                  <a:pt x="25051" y="8922"/>
                </a:cubicBezTo>
                <a:cubicBezTo>
                  <a:pt x="25051" y="9067"/>
                  <a:pt x="25038" y="9196"/>
                  <a:pt x="24987" y="9334"/>
                </a:cubicBezTo>
                <a:cubicBezTo>
                  <a:pt x="24939" y="9463"/>
                  <a:pt x="24885" y="9563"/>
                  <a:pt x="24828" y="9684"/>
                </a:cubicBezTo>
                <a:cubicBezTo>
                  <a:pt x="24782" y="9782"/>
                  <a:pt x="24728" y="9824"/>
                  <a:pt x="24670" y="99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Ink 13"/>
          <p:cNvSpPr/>
          <p:nvPr/>
        </p:nvSpPr>
        <p:spPr>
          <a:xfrm>
            <a:off x="2697120" y="2297160"/>
            <a:ext cx="469800" cy="274680"/>
          </a:xfrm>
          <a:custGeom>
            <a:avLst/>
            <a:gdLst/>
            <a:ahLst/>
            <a:rect l="l" t="t" r="r" b="b"/>
            <a:pathLst>
              <a:path w="1303" h="763">
                <a:moveTo>
                  <a:pt x="7556" y="6414"/>
                </a:moveTo>
                <a:cubicBezTo>
                  <a:pt x="7588" y="6488"/>
                  <a:pt x="7623" y="6565"/>
                  <a:pt x="7652" y="6636"/>
                </a:cubicBezTo>
                <a:cubicBezTo>
                  <a:pt x="7674" y="6691"/>
                  <a:pt x="7685" y="6715"/>
                  <a:pt x="7747" y="6731"/>
                </a:cubicBezTo>
              </a:path>
              <a:path w="1303" h="763">
                <a:moveTo>
                  <a:pt x="7779" y="6382"/>
                </a:moveTo>
                <a:cubicBezTo>
                  <a:pt x="7768" y="6382"/>
                  <a:pt x="7758" y="6382"/>
                  <a:pt x="7747" y="6382"/>
                </a:cubicBezTo>
                <a:cubicBezTo>
                  <a:pt x="7731" y="6460"/>
                  <a:pt x="7688" y="6531"/>
                  <a:pt x="7652" y="6604"/>
                </a:cubicBezTo>
                <a:cubicBezTo>
                  <a:pt x="7619" y="6671"/>
                  <a:pt x="7577" y="6711"/>
                  <a:pt x="7525" y="6763"/>
                </a:cubicBezTo>
                <a:cubicBezTo>
                  <a:pt x="7514" y="6773"/>
                  <a:pt x="7504" y="6784"/>
                  <a:pt x="7493" y="6794"/>
                </a:cubicBezTo>
              </a:path>
              <a:path w="1303" h="763">
                <a:moveTo>
                  <a:pt x="7842" y="6668"/>
                </a:moveTo>
                <a:cubicBezTo>
                  <a:pt x="7912" y="6668"/>
                  <a:pt x="7939" y="6659"/>
                  <a:pt x="7969" y="6699"/>
                </a:cubicBezTo>
                <a:cubicBezTo>
                  <a:pt x="7980" y="6710"/>
                  <a:pt x="7990" y="6720"/>
                  <a:pt x="8001" y="6731"/>
                </a:cubicBezTo>
                <a:cubicBezTo>
                  <a:pt x="7985" y="6753"/>
                  <a:pt x="7950" y="6850"/>
                  <a:pt x="7938" y="6858"/>
                </a:cubicBezTo>
                <a:cubicBezTo>
                  <a:pt x="7906" y="6858"/>
                  <a:pt x="7895" y="6858"/>
                  <a:pt x="7906" y="6890"/>
                </a:cubicBezTo>
                <a:cubicBezTo>
                  <a:pt x="7963" y="6933"/>
                  <a:pt x="7976" y="6933"/>
                  <a:pt x="8033" y="6890"/>
                </a:cubicBezTo>
              </a:path>
              <a:path w="1303" h="763">
                <a:moveTo>
                  <a:pt x="8287" y="6445"/>
                </a:moveTo>
                <a:cubicBezTo>
                  <a:pt x="8287" y="6508"/>
                  <a:pt x="8265" y="6556"/>
                  <a:pt x="8255" y="6604"/>
                </a:cubicBezTo>
                <a:cubicBezTo>
                  <a:pt x="8240" y="6677"/>
                  <a:pt x="8245" y="6771"/>
                  <a:pt x="8287" y="6826"/>
                </a:cubicBezTo>
                <a:cubicBezTo>
                  <a:pt x="8342" y="6812"/>
                  <a:pt x="8371" y="6774"/>
                  <a:pt x="8414" y="6731"/>
                </a:cubicBezTo>
                <a:cubicBezTo>
                  <a:pt x="8447" y="6698"/>
                  <a:pt x="8492" y="6592"/>
                  <a:pt x="8509" y="6540"/>
                </a:cubicBezTo>
                <a:cubicBezTo>
                  <a:pt x="8527" y="6485"/>
                  <a:pt x="8509" y="6460"/>
                  <a:pt x="8509" y="6540"/>
                </a:cubicBezTo>
                <a:cubicBezTo>
                  <a:pt x="8509" y="6649"/>
                  <a:pt x="8517" y="6725"/>
                  <a:pt x="8541" y="6826"/>
                </a:cubicBezTo>
                <a:cubicBezTo>
                  <a:pt x="8559" y="6904"/>
                  <a:pt x="8526" y="6948"/>
                  <a:pt x="8509" y="7017"/>
                </a:cubicBezTo>
                <a:cubicBezTo>
                  <a:pt x="8496" y="7067"/>
                  <a:pt x="8477" y="7101"/>
                  <a:pt x="8446" y="7144"/>
                </a:cubicBezTo>
                <a:cubicBezTo>
                  <a:pt x="8382" y="7128"/>
                  <a:pt x="8382" y="7113"/>
                  <a:pt x="8382" y="7048"/>
                </a:cubicBezTo>
              </a:path>
              <a:path w="1303" h="763">
                <a:moveTo>
                  <a:pt x="8636" y="6763"/>
                </a:moveTo>
                <a:cubicBezTo>
                  <a:pt x="8674" y="6754"/>
                  <a:pt x="8693" y="6741"/>
                  <a:pt x="8731" y="6731"/>
                </a:cubicBezTo>
                <a:cubicBezTo>
                  <a:pt x="8731" y="6802"/>
                  <a:pt x="8733" y="6832"/>
                  <a:pt x="8700" y="6890"/>
                </a:cubicBezTo>
                <a:cubicBezTo>
                  <a:pt x="8689" y="6911"/>
                  <a:pt x="8679" y="6932"/>
                  <a:pt x="8668" y="6953"/>
                </a:cubicBezTo>
                <a:cubicBezTo>
                  <a:pt x="8729" y="6953"/>
                  <a:pt x="8746" y="6957"/>
                  <a:pt x="8795" y="69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Ink 14"/>
          <p:cNvSpPr/>
          <p:nvPr/>
        </p:nvSpPr>
        <p:spPr>
          <a:xfrm>
            <a:off x="3908520" y="3851280"/>
            <a:ext cx="2916000" cy="663480"/>
          </a:xfrm>
          <a:custGeom>
            <a:avLst/>
            <a:gdLst/>
            <a:ahLst/>
            <a:rect l="l" t="t" r="r" b="b"/>
            <a:pathLst>
              <a:path w="8098" h="1842">
                <a:moveTo>
                  <a:pt x="10858" y="11620"/>
                </a:moveTo>
                <a:cubicBezTo>
                  <a:pt x="10868" y="11681"/>
                  <a:pt x="10878" y="11741"/>
                  <a:pt x="10890" y="11811"/>
                </a:cubicBezTo>
                <a:cubicBezTo>
                  <a:pt x="10912" y="11938"/>
                  <a:pt x="10906" y="12064"/>
                  <a:pt x="10922" y="12192"/>
                </a:cubicBezTo>
                <a:cubicBezTo>
                  <a:pt x="10931" y="12268"/>
                  <a:pt x="10959" y="12373"/>
                  <a:pt x="10986" y="12446"/>
                </a:cubicBezTo>
                <a:cubicBezTo>
                  <a:pt x="11013" y="12502"/>
                  <a:pt x="11017" y="12517"/>
                  <a:pt x="11049" y="12541"/>
                </a:cubicBezTo>
                <a:cubicBezTo>
                  <a:pt x="11057" y="12477"/>
                  <a:pt x="11076" y="12427"/>
                  <a:pt x="11081" y="12351"/>
                </a:cubicBezTo>
                <a:cubicBezTo>
                  <a:pt x="11091" y="12201"/>
                  <a:pt x="11106" y="12056"/>
                  <a:pt x="11112" y="11906"/>
                </a:cubicBezTo>
                <a:cubicBezTo>
                  <a:pt x="11126" y="11574"/>
                  <a:pt x="11043" y="11172"/>
                  <a:pt x="11144" y="10858"/>
                </a:cubicBezTo>
                <a:cubicBezTo>
                  <a:pt x="11168" y="10783"/>
                  <a:pt x="11153" y="10765"/>
                  <a:pt x="11208" y="10732"/>
                </a:cubicBezTo>
                <a:cubicBezTo>
                  <a:pt x="11271" y="10695"/>
                  <a:pt x="11317" y="10696"/>
                  <a:pt x="11398" y="10700"/>
                </a:cubicBezTo>
                <a:cubicBezTo>
                  <a:pt x="11451" y="10703"/>
                  <a:pt x="11557" y="10753"/>
                  <a:pt x="11620" y="10763"/>
                </a:cubicBezTo>
                <a:cubicBezTo>
                  <a:pt x="11715" y="10778"/>
                  <a:pt x="11811" y="10776"/>
                  <a:pt x="11906" y="10795"/>
                </a:cubicBezTo>
                <a:cubicBezTo>
                  <a:pt x="12024" y="10818"/>
                  <a:pt x="12134" y="10813"/>
                  <a:pt x="12256" y="10827"/>
                </a:cubicBezTo>
                <a:cubicBezTo>
                  <a:pt x="12380" y="10841"/>
                  <a:pt x="12510" y="10844"/>
                  <a:pt x="12636" y="10858"/>
                </a:cubicBezTo>
                <a:cubicBezTo>
                  <a:pt x="12764" y="10872"/>
                  <a:pt x="12888" y="10877"/>
                  <a:pt x="13018" y="10890"/>
                </a:cubicBezTo>
                <a:cubicBezTo>
                  <a:pt x="13168" y="10905"/>
                  <a:pt x="13309" y="10920"/>
                  <a:pt x="13462" y="10922"/>
                </a:cubicBezTo>
                <a:cubicBezTo>
                  <a:pt x="13696" y="10926"/>
                  <a:pt x="13931" y="10944"/>
                  <a:pt x="14160" y="10954"/>
                </a:cubicBezTo>
                <a:cubicBezTo>
                  <a:pt x="14470" y="10968"/>
                  <a:pt x="14777" y="10934"/>
                  <a:pt x="15081" y="10922"/>
                </a:cubicBezTo>
                <a:cubicBezTo>
                  <a:pt x="16053" y="10883"/>
                  <a:pt x="17035" y="10934"/>
                  <a:pt x="18002" y="10890"/>
                </a:cubicBezTo>
                <a:cubicBezTo>
                  <a:pt x="18269" y="10878"/>
                  <a:pt x="18540" y="10905"/>
                  <a:pt x="18796" y="10922"/>
                </a:cubicBezTo>
                <a:cubicBezTo>
                  <a:pt x="18849" y="10925"/>
                  <a:pt x="18902" y="10919"/>
                  <a:pt x="18955" y="109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int X is between points W and Y.  I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5 an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is 8 then how long 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4"/>
              <p:cNvSpPr txBox="1"/>
              <p:nvPr/>
            </p:nvSpPr>
            <p:spPr>
              <a:xfrm>
                <a:off x="914400" y="1447920"/>
                <a:ext cx="65412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5"/>
              <p:cNvSpPr txBox="1"/>
              <p:nvPr/>
            </p:nvSpPr>
            <p:spPr>
              <a:xfrm>
                <a:off x="838080" y="1981080"/>
                <a:ext cx="6876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W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6"/>
              <p:cNvSpPr txBox="1"/>
              <p:nvPr/>
            </p:nvSpPr>
            <p:spPr>
              <a:xfrm>
                <a:off x="3260880" y="1447920"/>
                <a:ext cx="6872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W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18" name="Ink 6"/>
          <p:cNvSpPr/>
          <p:nvPr/>
        </p:nvSpPr>
        <p:spPr>
          <a:xfrm>
            <a:off x="3154320" y="2903400"/>
            <a:ext cx="1967040" cy="685800"/>
          </a:xfrm>
          <a:custGeom>
            <a:avLst/>
            <a:gdLst/>
            <a:ahLst/>
            <a:rect l="l" t="t" r="r" b="b"/>
            <a:pathLst>
              <a:path w="5462" h="1907">
                <a:moveTo>
                  <a:pt x="8763" y="9970"/>
                </a:moveTo>
                <a:cubicBezTo>
                  <a:pt x="8773" y="9929"/>
                  <a:pt x="8788" y="9874"/>
                  <a:pt x="8795" y="9842"/>
                </a:cubicBezTo>
                <a:cubicBezTo>
                  <a:pt x="8809" y="9775"/>
                  <a:pt x="8840" y="9710"/>
                  <a:pt x="8858" y="9652"/>
                </a:cubicBezTo>
                <a:cubicBezTo>
                  <a:pt x="8887" y="9558"/>
                  <a:pt x="8909" y="9457"/>
                  <a:pt x="8954" y="9366"/>
                </a:cubicBezTo>
                <a:cubicBezTo>
                  <a:pt x="8991" y="9292"/>
                  <a:pt x="9040" y="9142"/>
                  <a:pt x="9080" y="9080"/>
                </a:cubicBezTo>
                <a:cubicBezTo>
                  <a:pt x="9127" y="9007"/>
                  <a:pt x="9189" y="8932"/>
                  <a:pt x="9239" y="8858"/>
                </a:cubicBezTo>
                <a:cubicBezTo>
                  <a:pt x="9300" y="8769"/>
                  <a:pt x="9379" y="8677"/>
                  <a:pt x="9462" y="8604"/>
                </a:cubicBezTo>
                <a:cubicBezTo>
                  <a:pt x="9532" y="8542"/>
                  <a:pt x="9636" y="8463"/>
                  <a:pt x="9716" y="8414"/>
                </a:cubicBezTo>
                <a:cubicBezTo>
                  <a:pt x="9849" y="8332"/>
                  <a:pt x="9983" y="8292"/>
                  <a:pt x="10128" y="8255"/>
                </a:cubicBezTo>
                <a:cubicBezTo>
                  <a:pt x="10220" y="8231"/>
                  <a:pt x="10282" y="8226"/>
                  <a:pt x="10382" y="8223"/>
                </a:cubicBezTo>
                <a:cubicBezTo>
                  <a:pt x="10490" y="8220"/>
                  <a:pt x="10539" y="8244"/>
                  <a:pt x="10636" y="8287"/>
                </a:cubicBezTo>
                <a:cubicBezTo>
                  <a:pt x="10704" y="8317"/>
                  <a:pt x="10759" y="8328"/>
                  <a:pt x="10827" y="8382"/>
                </a:cubicBezTo>
                <a:cubicBezTo>
                  <a:pt x="10925" y="8460"/>
                  <a:pt x="10963" y="8550"/>
                  <a:pt x="11017" y="8636"/>
                </a:cubicBezTo>
                <a:cubicBezTo>
                  <a:pt x="11046" y="8682"/>
                  <a:pt x="11062" y="8714"/>
                  <a:pt x="11081" y="8763"/>
                </a:cubicBezTo>
                <a:cubicBezTo>
                  <a:pt x="11081" y="8774"/>
                  <a:pt x="11081" y="8784"/>
                  <a:pt x="11081" y="8795"/>
                </a:cubicBezTo>
                <a:cubicBezTo>
                  <a:pt x="11090" y="8765"/>
                  <a:pt x="11099" y="8700"/>
                  <a:pt x="11112" y="8668"/>
                </a:cubicBezTo>
                <a:cubicBezTo>
                  <a:pt x="11130" y="8624"/>
                  <a:pt x="11159" y="8584"/>
                  <a:pt x="11176" y="8541"/>
                </a:cubicBezTo>
                <a:cubicBezTo>
                  <a:pt x="11206" y="8465"/>
                  <a:pt x="11202" y="8488"/>
                  <a:pt x="11240" y="8414"/>
                </a:cubicBezTo>
                <a:cubicBezTo>
                  <a:pt x="11263" y="8370"/>
                  <a:pt x="11263" y="8325"/>
                  <a:pt x="11303" y="8287"/>
                </a:cubicBezTo>
                <a:cubicBezTo>
                  <a:pt x="11332" y="8258"/>
                  <a:pt x="11338" y="8248"/>
                  <a:pt x="11366" y="8255"/>
                </a:cubicBezTo>
                <a:cubicBezTo>
                  <a:pt x="11380" y="8319"/>
                  <a:pt x="11383" y="8382"/>
                  <a:pt x="11398" y="8446"/>
                </a:cubicBezTo>
                <a:cubicBezTo>
                  <a:pt x="11406" y="8481"/>
                  <a:pt x="11415" y="8538"/>
                  <a:pt x="11430" y="8572"/>
                </a:cubicBezTo>
                <a:cubicBezTo>
                  <a:pt x="11450" y="8617"/>
                  <a:pt x="11474" y="8642"/>
                  <a:pt x="11494" y="8668"/>
                </a:cubicBezTo>
                <a:cubicBezTo>
                  <a:pt x="11525" y="8700"/>
                  <a:pt x="11535" y="8711"/>
                  <a:pt x="11557" y="8731"/>
                </a:cubicBezTo>
                <a:cubicBezTo>
                  <a:pt x="11578" y="8680"/>
                  <a:pt x="11567" y="8676"/>
                  <a:pt x="11589" y="8636"/>
                </a:cubicBezTo>
                <a:cubicBezTo>
                  <a:pt x="11610" y="8597"/>
                  <a:pt x="11613" y="8588"/>
                  <a:pt x="11652" y="8541"/>
                </a:cubicBezTo>
                <a:cubicBezTo>
                  <a:pt x="11699" y="8484"/>
                  <a:pt x="11763" y="8450"/>
                  <a:pt x="11811" y="8414"/>
                </a:cubicBezTo>
                <a:cubicBezTo>
                  <a:pt x="11866" y="8373"/>
                  <a:pt x="11913" y="8325"/>
                  <a:pt x="11970" y="8287"/>
                </a:cubicBezTo>
                <a:cubicBezTo>
                  <a:pt x="12039" y="8241"/>
                  <a:pt x="12096" y="8223"/>
                  <a:pt x="12160" y="8192"/>
                </a:cubicBezTo>
                <a:cubicBezTo>
                  <a:pt x="12232" y="8157"/>
                  <a:pt x="12306" y="8117"/>
                  <a:pt x="12382" y="8096"/>
                </a:cubicBezTo>
                <a:cubicBezTo>
                  <a:pt x="12471" y="8071"/>
                  <a:pt x="12573" y="8067"/>
                  <a:pt x="12668" y="8064"/>
                </a:cubicBezTo>
                <a:cubicBezTo>
                  <a:pt x="12789" y="8061"/>
                  <a:pt x="12902" y="8072"/>
                  <a:pt x="13018" y="8096"/>
                </a:cubicBezTo>
                <a:cubicBezTo>
                  <a:pt x="13105" y="8114"/>
                  <a:pt x="13161" y="8152"/>
                  <a:pt x="13240" y="8192"/>
                </a:cubicBezTo>
                <a:cubicBezTo>
                  <a:pt x="13313" y="8230"/>
                  <a:pt x="13399" y="8266"/>
                  <a:pt x="13462" y="8318"/>
                </a:cubicBezTo>
                <a:cubicBezTo>
                  <a:pt x="13520" y="8366"/>
                  <a:pt x="13600" y="8421"/>
                  <a:pt x="13652" y="8477"/>
                </a:cubicBezTo>
                <a:cubicBezTo>
                  <a:pt x="13707" y="8537"/>
                  <a:pt x="13738" y="8630"/>
                  <a:pt x="13780" y="8700"/>
                </a:cubicBezTo>
                <a:cubicBezTo>
                  <a:pt x="13823" y="8772"/>
                  <a:pt x="13866" y="8845"/>
                  <a:pt x="13906" y="8922"/>
                </a:cubicBezTo>
                <a:cubicBezTo>
                  <a:pt x="13945" y="8997"/>
                  <a:pt x="14004" y="9067"/>
                  <a:pt x="14034" y="9144"/>
                </a:cubicBezTo>
                <a:cubicBezTo>
                  <a:pt x="14066" y="9225"/>
                  <a:pt x="14100" y="9285"/>
                  <a:pt x="14129" y="9366"/>
                </a:cubicBezTo>
                <a:cubicBezTo>
                  <a:pt x="14155" y="9438"/>
                  <a:pt x="14170" y="9495"/>
                  <a:pt x="14192" y="9557"/>
                </a:cubicBezTo>
                <a:cubicBezTo>
                  <a:pt x="14205" y="9593"/>
                  <a:pt x="14212" y="9613"/>
                  <a:pt x="14224" y="96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Ink 7"/>
          <p:cNvSpPr/>
          <p:nvPr/>
        </p:nvSpPr>
        <p:spPr>
          <a:xfrm>
            <a:off x="2171880" y="3521160"/>
            <a:ext cx="3085920" cy="193680"/>
          </a:xfrm>
          <a:custGeom>
            <a:avLst/>
            <a:gdLst/>
            <a:ahLst/>
            <a:rect l="l" t="t" r="r" b="b"/>
            <a:pathLst>
              <a:path w="8574" h="541">
                <a:moveTo>
                  <a:pt x="6160" y="10128"/>
                </a:moveTo>
                <a:cubicBezTo>
                  <a:pt x="6134" y="10049"/>
                  <a:pt x="6118" y="10127"/>
                  <a:pt x="6096" y="10160"/>
                </a:cubicBezTo>
                <a:cubicBezTo>
                  <a:pt x="6062" y="10211"/>
                  <a:pt x="6064" y="10224"/>
                  <a:pt x="6064" y="10287"/>
                </a:cubicBezTo>
                <a:cubicBezTo>
                  <a:pt x="6064" y="10298"/>
                  <a:pt x="6064" y="10308"/>
                  <a:pt x="6064" y="10319"/>
                </a:cubicBezTo>
                <a:cubicBezTo>
                  <a:pt x="6104" y="10319"/>
                  <a:pt x="6149" y="10309"/>
                  <a:pt x="6160" y="10287"/>
                </a:cubicBezTo>
                <a:cubicBezTo>
                  <a:pt x="6182" y="10243"/>
                  <a:pt x="6165" y="10165"/>
                  <a:pt x="6128" y="10160"/>
                </a:cubicBezTo>
                <a:cubicBezTo>
                  <a:pt x="6042" y="10149"/>
                  <a:pt x="6086" y="10216"/>
                  <a:pt x="6064" y="10255"/>
                </a:cubicBezTo>
                <a:cubicBezTo>
                  <a:pt x="6053" y="10266"/>
                  <a:pt x="6043" y="10276"/>
                  <a:pt x="6032" y="10287"/>
                </a:cubicBezTo>
                <a:cubicBezTo>
                  <a:pt x="6088" y="10329"/>
                  <a:pt x="6087" y="10318"/>
                  <a:pt x="6128" y="10287"/>
                </a:cubicBezTo>
                <a:cubicBezTo>
                  <a:pt x="6174" y="10253"/>
                  <a:pt x="6160" y="10211"/>
                  <a:pt x="6160" y="10160"/>
                </a:cubicBezTo>
                <a:cubicBezTo>
                  <a:pt x="6160" y="10149"/>
                  <a:pt x="6160" y="10139"/>
                  <a:pt x="6160" y="10128"/>
                </a:cubicBezTo>
                <a:cubicBezTo>
                  <a:pt x="6138" y="10133"/>
                  <a:pt x="6046" y="10184"/>
                  <a:pt x="6096" y="10224"/>
                </a:cubicBezTo>
                <a:cubicBezTo>
                  <a:pt x="6107" y="10224"/>
                  <a:pt x="6117" y="10224"/>
                  <a:pt x="6128" y="10224"/>
                </a:cubicBezTo>
              </a:path>
              <a:path w="8574" h="541">
                <a:moveTo>
                  <a:pt x="6160" y="10160"/>
                </a:moveTo>
                <a:cubicBezTo>
                  <a:pt x="6351" y="10160"/>
                  <a:pt x="6560" y="10181"/>
                  <a:pt x="6731" y="10192"/>
                </a:cubicBezTo>
                <a:cubicBezTo>
                  <a:pt x="6855" y="10200"/>
                  <a:pt x="6968" y="10167"/>
                  <a:pt x="7080" y="10160"/>
                </a:cubicBezTo>
                <a:cubicBezTo>
                  <a:pt x="7356" y="10142"/>
                  <a:pt x="7636" y="10133"/>
                  <a:pt x="7906" y="10128"/>
                </a:cubicBezTo>
                <a:cubicBezTo>
                  <a:pt x="8193" y="10122"/>
                  <a:pt x="8486" y="10114"/>
                  <a:pt x="8763" y="10096"/>
                </a:cubicBezTo>
                <a:cubicBezTo>
                  <a:pt x="8889" y="10088"/>
                  <a:pt x="9026" y="10073"/>
                  <a:pt x="9144" y="10065"/>
                </a:cubicBezTo>
                <a:cubicBezTo>
                  <a:pt x="9277" y="10056"/>
                  <a:pt x="9396" y="10054"/>
                  <a:pt x="9525" y="10033"/>
                </a:cubicBezTo>
                <a:cubicBezTo>
                  <a:pt x="9642" y="10014"/>
                  <a:pt x="9756" y="10015"/>
                  <a:pt x="9874" y="10001"/>
                </a:cubicBezTo>
                <a:cubicBezTo>
                  <a:pt x="9994" y="9987"/>
                  <a:pt x="10102" y="9972"/>
                  <a:pt x="10224" y="9970"/>
                </a:cubicBezTo>
                <a:cubicBezTo>
                  <a:pt x="10357" y="9967"/>
                  <a:pt x="10474" y="9946"/>
                  <a:pt x="10604" y="9938"/>
                </a:cubicBezTo>
                <a:cubicBezTo>
                  <a:pt x="10725" y="9931"/>
                  <a:pt x="10834" y="9913"/>
                  <a:pt x="10954" y="9906"/>
                </a:cubicBezTo>
                <a:cubicBezTo>
                  <a:pt x="11101" y="9898"/>
                  <a:pt x="11261" y="9882"/>
                  <a:pt x="11398" y="9874"/>
                </a:cubicBezTo>
                <a:cubicBezTo>
                  <a:pt x="11682" y="9857"/>
                  <a:pt x="11977" y="9857"/>
                  <a:pt x="12256" y="9842"/>
                </a:cubicBezTo>
                <a:cubicBezTo>
                  <a:pt x="12541" y="9827"/>
                  <a:pt x="12834" y="9826"/>
                  <a:pt x="13113" y="9811"/>
                </a:cubicBezTo>
                <a:cubicBezTo>
                  <a:pt x="13567" y="9786"/>
                  <a:pt x="14369" y="9331"/>
                  <a:pt x="14446" y="9779"/>
                </a:cubicBezTo>
                <a:cubicBezTo>
                  <a:pt x="14455" y="9834"/>
                  <a:pt x="14364" y="9812"/>
                  <a:pt x="14351" y="9874"/>
                </a:cubicBezTo>
                <a:cubicBezTo>
                  <a:pt x="14345" y="9903"/>
                  <a:pt x="14361" y="9943"/>
                  <a:pt x="14351" y="9970"/>
                </a:cubicBezTo>
                <a:cubicBezTo>
                  <a:pt x="14396" y="9951"/>
                  <a:pt x="14476" y="9981"/>
                  <a:pt x="14510" y="9938"/>
                </a:cubicBezTo>
                <a:cubicBezTo>
                  <a:pt x="14535" y="9906"/>
                  <a:pt x="14524" y="9845"/>
                  <a:pt x="14542" y="9811"/>
                </a:cubicBezTo>
                <a:cubicBezTo>
                  <a:pt x="14497" y="9851"/>
                  <a:pt x="14467" y="9767"/>
                  <a:pt x="14446" y="9842"/>
                </a:cubicBezTo>
                <a:cubicBezTo>
                  <a:pt x="14433" y="9890"/>
                  <a:pt x="14373" y="9916"/>
                  <a:pt x="14446" y="9938"/>
                </a:cubicBezTo>
                <a:cubicBezTo>
                  <a:pt x="14482" y="9949"/>
                  <a:pt x="14537" y="9967"/>
                  <a:pt x="14573" y="9906"/>
                </a:cubicBezTo>
                <a:cubicBezTo>
                  <a:pt x="14595" y="9869"/>
                  <a:pt x="14642" y="9813"/>
                  <a:pt x="14573" y="9779"/>
                </a:cubicBezTo>
                <a:cubicBezTo>
                  <a:pt x="14481" y="9733"/>
                  <a:pt x="14456" y="9832"/>
                  <a:pt x="14414" y="9874"/>
                </a:cubicBezTo>
                <a:cubicBezTo>
                  <a:pt x="14414" y="9885"/>
                  <a:pt x="14414" y="9895"/>
                  <a:pt x="14414" y="9906"/>
                </a:cubicBezTo>
                <a:cubicBezTo>
                  <a:pt x="14455" y="9883"/>
                  <a:pt x="14463" y="9847"/>
                  <a:pt x="14510" y="9842"/>
                </a:cubicBezTo>
                <a:cubicBezTo>
                  <a:pt x="14612" y="9831"/>
                  <a:pt x="14547" y="9794"/>
                  <a:pt x="14510" y="9874"/>
                </a:cubicBezTo>
                <a:cubicBezTo>
                  <a:pt x="14481" y="9903"/>
                  <a:pt x="14470" y="9909"/>
                  <a:pt x="14478" y="99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Ink 8"/>
          <p:cNvSpPr/>
          <p:nvPr/>
        </p:nvSpPr>
        <p:spPr>
          <a:xfrm>
            <a:off x="2125800" y="3875040"/>
            <a:ext cx="263520" cy="308160"/>
          </a:xfrm>
          <a:custGeom>
            <a:avLst/>
            <a:gdLst/>
            <a:ahLst/>
            <a:rect l="l" t="t" r="r" b="b"/>
            <a:pathLst>
              <a:path w="731" h="858">
                <a:moveTo>
                  <a:pt x="5906" y="10763"/>
                </a:moveTo>
                <a:cubicBezTo>
                  <a:pt x="5906" y="10827"/>
                  <a:pt x="5920" y="10838"/>
                  <a:pt x="5937" y="10890"/>
                </a:cubicBezTo>
                <a:cubicBezTo>
                  <a:pt x="5962" y="10966"/>
                  <a:pt x="5959" y="11129"/>
                  <a:pt x="5969" y="11208"/>
                </a:cubicBezTo>
                <a:cubicBezTo>
                  <a:pt x="5982" y="11307"/>
                  <a:pt x="5978" y="11369"/>
                  <a:pt x="6001" y="11462"/>
                </a:cubicBezTo>
                <a:cubicBezTo>
                  <a:pt x="6001" y="11498"/>
                  <a:pt x="6004" y="11511"/>
                  <a:pt x="6032" y="11525"/>
                </a:cubicBezTo>
                <a:cubicBezTo>
                  <a:pt x="6032" y="11457"/>
                  <a:pt x="6052" y="11431"/>
                  <a:pt x="6064" y="11366"/>
                </a:cubicBezTo>
                <a:cubicBezTo>
                  <a:pt x="6078" y="11288"/>
                  <a:pt x="6066" y="11219"/>
                  <a:pt x="6096" y="11144"/>
                </a:cubicBezTo>
                <a:cubicBezTo>
                  <a:pt x="6126" y="11069"/>
                  <a:pt x="6162" y="11021"/>
                  <a:pt x="6191" y="10954"/>
                </a:cubicBezTo>
                <a:cubicBezTo>
                  <a:pt x="6191" y="10922"/>
                  <a:pt x="6191" y="10911"/>
                  <a:pt x="6223" y="10922"/>
                </a:cubicBezTo>
                <a:cubicBezTo>
                  <a:pt x="6248" y="10930"/>
                  <a:pt x="6278" y="10979"/>
                  <a:pt x="6286" y="11017"/>
                </a:cubicBezTo>
                <a:cubicBezTo>
                  <a:pt x="6300" y="11086"/>
                  <a:pt x="6307" y="11173"/>
                  <a:pt x="6318" y="11240"/>
                </a:cubicBezTo>
                <a:cubicBezTo>
                  <a:pt x="6332" y="11323"/>
                  <a:pt x="6345" y="11393"/>
                  <a:pt x="6382" y="11462"/>
                </a:cubicBezTo>
                <a:cubicBezTo>
                  <a:pt x="6414" y="11522"/>
                  <a:pt x="6439" y="11571"/>
                  <a:pt x="6477" y="11620"/>
                </a:cubicBezTo>
                <a:cubicBezTo>
                  <a:pt x="6525" y="11604"/>
                  <a:pt x="6509" y="11582"/>
                  <a:pt x="6509" y="11525"/>
                </a:cubicBezTo>
                <a:cubicBezTo>
                  <a:pt x="6509" y="11449"/>
                  <a:pt x="6453" y="11387"/>
                  <a:pt x="6477" y="11303"/>
                </a:cubicBezTo>
                <a:cubicBezTo>
                  <a:pt x="6506" y="11200"/>
                  <a:pt x="6507" y="11086"/>
                  <a:pt x="6540" y="10986"/>
                </a:cubicBezTo>
                <a:cubicBezTo>
                  <a:pt x="6564" y="10914"/>
                  <a:pt x="6588" y="10854"/>
                  <a:pt x="6636" y="107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Ink 9"/>
          <p:cNvSpPr/>
          <p:nvPr/>
        </p:nvSpPr>
        <p:spPr>
          <a:xfrm>
            <a:off x="2982960" y="3589200"/>
            <a:ext cx="274680" cy="628920"/>
          </a:xfrm>
          <a:custGeom>
            <a:avLst/>
            <a:gdLst/>
            <a:ahLst/>
            <a:rect l="l" t="t" r="r" b="b"/>
            <a:pathLst>
              <a:path w="763" h="1747">
                <a:moveTo>
                  <a:pt x="8890" y="10065"/>
                </a:moveTo>
                <a:cubicBezTo>
                  <a:pt x="8866" y="10073"/>
                  <a:pt x="8812" y="10120"/>
                  <a:pt x="8795" y="10160"/>
                </a:cubicBezTo>
                <a:cubicBezTo>
                  <a:pt x="8795" y="10192"/>
                  <a:pt x="8795" y="10203"/>
                  <a:pt x="8795" y="10224"/>
                </a:cubicBezTo>
                <a:cubicBezTo>
                  <a:pt x="8847" y="10263"/>
                  <a:pt x="8869" y="10270"/>
                  <a:pt x="8922" y="10224"/>
                </a:cubicBezTo>
                <a:cubicBezTo>
                  <a:pt x="8966" y="10185"/>
                  <a:pt x="8954" y="10151"/>
                  <a:pt x="8954" y="10096"/>
                </a:cubicBezTo>
                <a:cubicBezTo>
                  <a:pt x="8954" y="10050"/>
                  <a:pt x="8907" y="10006"/>
                  <a:pt x="8858" y="10033"/>
                </a:cubicBezTo>
                <a:cubicBezTo>
                  <a:pt x="8811" y="10059"/>
                  <a:pt x="8774" y="10116"/>
                  <a:pt x="8763" y="10160"/>
                </a:cubicBezTo>
                <a:cubicBezTo>
                  <a:pt x="8813" y="10198"/>
                  <a:pt x="8839" y="10194"/>
                  <a:pt x="8890" y="10160"/>
                </a:cubicBezTo>
                <a:cubicBezTo>
                  <a:pt x="8924" y="10138"/>
                  <a:pt x="8950" y="10069"/>
                  <a:pt x="8954" y="10033"/>
                </a:cubicBezTo>
                <a:cubicBezTo>
                  <a:pt x="8959" y="9986"/>
                  <a:pt x="8936" y="10012"/>
                  <a:pt x="8922" y="9970"/>
                </a:cubicBezTo>
                <a:cubicBezTo>
                  <a:pt x="8854" y="10020"/>
                  <a:pt x="8879" y="10030"/>
                  <a:pt x="8826" y="10096"/>
                </a:cubicBezTo>
                <a:cubicBezTo>
                  <a:pt x="8779" y="10156"/>
                  <a:pt x="8788" y="10160"/>
                  <a:pt x="8858" y="10160"/>
                </a:cubicBezTo>
                <a:cubicBezTo>
                  <a:pt x="8869" y="10160"/>
                  <a:pt x="8879" y="10160"/>
                  <a:pt x="8890" y="10160"/>
                </a:cubicBezTo>
              </a:path>
              <a:path w="763" h="1747">
                <a:moveTo>
                  <a:pt x="8572" y="10732"/>
                </a:moveTo>
                <a:cubicBezTo>
                  <a:pt x="8588" y="10794"/>
                  <a:pt x="8636" y="10859"/>
                  <a:pt x="8668" y="10922"/>
                </a:cubicBezTo>
                <a:cubicBezTo>
                  <a:pt x="8722" y="11030"/>
                  <a:pt x="8777" y="11132"/>
                  <a:pt x="8826" y="11240"/>
                </a:cubicBezTo>
                <a:cubicBezTo>
                  <a:pt x="8862" y="11319"/>
                  <a:pt x="8925" y="11370"/>
                  <a:pt x="8985" y="11430"/>
                </a:cubicBezTo>
                <a:cubicBezTo>
                  <a:pt x="9017" y="11462"/>
                  <a:pt x="9028" y="11473"/>
                  <a:pt x="9049" y="11430"/>
                </a:cubicBezTo>
              </a:path>
              <a:path w="763" h="1747">
                <a:moveTo>
                  <a:pt x="8954" y="10668"/>
                </a:moveTo>
                <a:cubicBezTo>
                  <a:pt x="8896" y="10797"/>
                  <a:pt x="8841" y="10930"/>
                  <a:pt x="8763" y="11049"/>
                </a:cubicBezTo>
                <a:cubicBezTo>
                  <a:pt x="8642" y="11233"/>
                  <a:pt x="8514" y="11412"/>
                  <a:pt x="8382" y="11589"/>
                </a:cubicBezTo>
                <a:cubicBezTo>
                  <a:pt x="8350" y="11631"/>
                  <a:pt x="8319" y="11674"/>
                  <a:pt x="8287" y="117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Ink 10"/>
          <p:cNvSpPr/>
          <p:nvPr/>
        </p:nvSpPr>
        <p:spPr>
          <a:xfrm>
            <a:off x="2811600" y="4446720"/>
            <a:ext cx="914400" cy="549000"/>
          </a:xfrm>
          <a:custGeom>
            <a:avLst/>
            <a:gdLst/>
            <a:ahLst/>
            <a:rect l="l" t="t" r="r" b="b"/>
            <a:pathLst>
              <a:path w="2541" h="1525">
                <a:moveTo>
                  <a:pt x="8064" y="12954"/>
                </a:moveTo>
                <a:cubicBezTo>
                  <a:pt x="8118" y="12900"/>
                  <a:pt x="8133" y="12862"/>
                  <a:pt x="8160" y="12795"/>
                </a:cubicBezTo>
                <a:cubicBezTo>
                  <a:pt x="8203" y="12688"/>
                  <a:pt x="8178" y="12681"/>
                  <a:pt x="8160" y="12573"/>
                </a:cubicBezTo>
                <a:cubicBezTo>
                  <a:pt x="8140" y="12457"/>
                  <a:pt x="8117" y="12457"/>
                  <a:pt x="8033" y="12382"/>
                </a:cubicBezTo>
                <a:cubicBezTo>
                  <a:pt x="7984" y="12338"/>
                  <a:pt x="7955" y="12339"/>
                  <a:pt x="7906" y="12382"/>
                </a:cubicBezTo>
                <a:cubicBezTo>
                  <a:pt x="7858" y="12425"/>
                  <a:pt x="7821" y="12487"/>
                  <a:pt x="7810" y="12541"/>
                </a:cubicBezTo>
                <a:cubicBezTo>
                  <a:pt x="7793" y="12624"/>
                  <a:pt x="7841" y="12753"/>
                  <a:pt x="7874" y="12827"/>
                </a:cubicBezTo>
                <a:cubicBezTo>
                  <a:pt x="7923" y="12935"/>
                  <a:pt x="7933" y="13036"/>
                  <a:pt x="7969" y="13144"/>
                </a:cubicBezTo>
                <a:cubicBezTo>
                  <a:pt x="8015" y="13282"/>
                  <a:pt x="8033" y="13381"/>
                  <a:pt x="8033" y="13526"/>
                </a:cubicBezTo>
                <a:cubicBezTo>
                  <a:pt x="8033" y="13607"/>
                  <a:pt x="8051" y="13685"/>
                  <a:pt x="8001" y="13748"/>
                </a:cubicBezTo>
                <a:cubicBezTo>
                  <a:pt x="7979" y="13776"/>
                  <a:pt x="7912" y="13801"/>
                  <a:pt x="7874" y="13780"/>
                </a:cubicBezTo>
                <a:cubicBezTo>
                  <a:pt x="7833" y="13757"/>
                  <a:pt x="7813" y="13663"/>
                  <a:pt x="7810" y="13621"/>
                </a:cubicBezTo>
                <a:cubicBezTo>
                  <a:pt x="7803" y="13518"/>
                  <a:pt x="7811" y="13433"/>
                  <a:pt x="7842" y="13335"/>
                </a:cubicBezTo>
                <a:cubicBezTo>
                  <a:pt x="7873" y="13234"/>
                  <a:pt x="7922" y="13143"/>
                  <a:pt x="7969" y="13049"/>
                </a:cubicBezTo>
                <a:cubicBezTo>
                  <a:pt x="8007" y="12974"/>
                  <a:pt x="8046" y="12894"/>
                  <a:pt x="8096" y="12827"/>
                </a:cubicBezTo>
                <a:cubicBezTo>
                  <a:pt x="8127" y="12785"/>
                  <a:pt x="8174" y="12738"/>
                  <a:pt x="8223" y="12732"/>
                </a:cubicBezTo>
                <a:cubicBezTo>
                  <a:pt x="8255" y="12732"/>
                  <a:pt x="8266" y="12732"/>
                  <a:pt x="8287" y="12732"/>
                </a:cubicBezTo>
              </a:path>
              <a:path w="2541" h="1525">
                <a:moveTo>
                  <a:pt x="8382" y="13176"/>
                </a:moveTo>
                <a:cubicBezTo>
                  <a:pt x="8453" y="13176"/>
                  <a:pt x="8472" y="13191"/>
                  <a:pt x="8541" y="13208"/>
                </a:cubicBezTo>
                <a:cubicBezTo>
                  <a:pt x="8615" y="13227"/>
                  <a:pt x="8718" y="13208"/>
                  <a:pt x="8795" y="13208"/>
                </a:cubicBezTo>
              </a:path>
              <a:path w="2541" h="1525">
                <a:moveTo>
                  <a:pt x="9493" y="12668"/>
                </a:moveTo>
                <a:cubicBezTo>
                  <a:pt x="9529" y="12668"/>
                  <a:pt x="9504" y="12719"/>
                  <a:pt x="9462" y="12732"/>
                </a:cubicBezTo>
                <a:cubicBezTo>
                  <a:pt x="9398" y="12752"/>
                  <a:pt x="9332" y="12777"/>
                  <a:pt x="9271" y="12795"/>
                </a:cubicBezTo>
                <a:cubicBezTo>
                  <a:pt x="9206" y="12814"/>
                  <a:pt x="9166" y="12775"/>
                  <a:pt x="9144" y="12764"/>
                </a:cubicBezTo>
                <a:cubicBezTo>
                  <a:pt x="9112" y="12764"/>
                  <a:pt x="9101" y="12764"/>
                  <a:pt x="9112" y="12732"/>
                </a:cubicBezTo>
                <a:cubicBezTo>
                  <a:pt x="9095" y="12782"/>
                  <a:pt x="9069" y="12778"/>
                  <a:pt x="9049" y="12859"/>
                </a:cubicBezTo>
                <a:cubicBezTo>
                  <a:pt x="9034" y="12921"/>
                  <a:pt x="8996" y="12997"/>
                  <a:pt x="8985" y="13049"/>
                </a:cubicBezTo>
                <a:cubicBezTo>
                  <a:pt x="8972" y="13113"/>
                  <a:pt x="8954" y="13173"/>
                  <a:pt x="8954" y="13240"/>
                </a:cubicBezTo>
                <a:cubicBezTo>
                  <a:pt x="8954" y="13272"/>
                  <a:pt x="8954" y="13282"/>
                  <a:pt x="8954" y="13303"/>
                </a:cubicBezTo>
                <a:cubicBezTo>
                  <a:pt x="9010" y="13289"/>
                  <a:pt x="9037" y="13251"/>
                  <a:pt x="9080" y="13208"/>
                </a:cubicBezTo>
                <a:cubicBezTo>
                  <a:pt x="9132" y="13155"/>
                  <a:pt x="9187" y="13116"/>
                  <a:pt x="9239" y="13081"/>
                </a:cubicBezTo>
                <a:cubicBezTo>
                  <a:pt x="9329" y="13020"/>
                  <a:pt x="9323" y="13066"/>
                  <a:pt x="9398" y="13113"/>
                </a:cubicBezTo>
                <a:cubicBezTo>
                  <a:pt x="9474" y="13161"/>
                  <a:pt x="9535" y="13204"/>
                  <a:pt x="9557" y="13303"/>
                </a:cubicBezTo>
                <a:cubicBezTo>
                  <a:pt x="9582" y="13413"/>
                  <a:pt x="9570" y="13582"/>
                  <a:pt x="9525" y="13684"/>
                </a:cubicBezTo>
                <a:cubicBezTo>
                  <a:pt x="9503" y="13732"/>
                  <a:pt x="9459" y="13857"/>
                  <a:pt x="9398" y="13875"/>
                </a:cubicBezTo>
                <a:cubicBezTo>
                  <a:pt x="9337" y="13892"/>
                  <a:pt x="9251" y="13878"/>
                  <a:pt x="9208" y="13843"/>
                </a:cubicBezTo>
                <a:cubicBezTo>
                  <a:pt x="9148" y="13795"/>
                  <a:pt x="9066" y="13722"/>
                  <a:pt x="9049" y="13652"/>
                </a:cubicBezTo>
              </a:path>
              <a:path w="2541" h="1525">
                <a:moveTo>
                  <a:pt x="9874" y="13018"/>
                </a:moveTo>
                <a:cubicBezTo>
                  <a:pt x="9991" y="13018"/>
                  <a:pt x="10107" y="13018"/>
                  <a:pt x="10224" y="13018"/>
                </a:cubicBezTo>
              </a:path>
              <a:path w="2541" h="1525">
                <a:moveTo>
                  <a:pt x="9970" y="13430"/>
                </a:moveTo>
                <a:cubicBezTo>
                  <a:pt x="10074" y="13430"/>
                  <a:pt x="10019" y="13418"/>
                  <a:pt x="10096" y="13367"/>
                </a:cubicBezTo>
                <a:cubicBezTo>
                  <a:pt x="10158" y="13326"/>
                  <a:pt x="10279" y="13379"/>
                  <a:pt x="10350" y="133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Ink 11"/>
          <p:cNvSpPr/>
          <p:nvPr/>
        </p:nvSpPr>
        <p:spPr>
          <a:xfrm>
            <a:off x="3886200" y="4595760"/>
            <a:ext cx="217440" cy="433440"/>
          </a:xfrm>
          <a:custGeom>
            <a:avLst/>
            <a:gdLst/>
            <a:ahLst/>
            <a:rect l="l" t="t" r="r" b="b"/>
            <a:pathLst>
              <a:path w="604" h="1207">
                <a:moveTo>
                  <a:pt x="10954" y="12859"/>
                </a:moveTo>
                <a:cubicBezTo>
                  <a:pt x="10971" y="12809"/>
                  <a:pt x="11004" y="12825"/>
                  <a:pt x="11049" y="12795"/>
                </a:cubicBezTo>
                <a:cubicBezTo>
                  <a:pt x="11111" y="12755"/>
                  <a:pt x="11163" y="12764"/>
                  <a:pt x="11240" y="12764"/>
                </a:cubicBezTo>
                <a:cubicBezTo>
                  <a:pt x="11293" y="12764"/>
                  <a:pt x="11345" y="12764"/>
                  <a:pt x="11398" y="12764"/>
                </a:cubicBezTo>
                <a:cubicBezTo>
                  <a:pt x="11398" y="12822"/>
                  <a:pt x="11389" y="12856"/>
                  <a:pt x="11335" y="12890"/>
                </a:cubicBezTo>
                <a:cubicBezTo>
                  <a:pt x="11269" y="12932"/>
                  <a:pt x="11203" y="12966"/>
                  <a:pt x="11144" y="13018"/>
                </a:cubicBezTo>
                <a:cubicBezTo>
                  <a:pt x="11105" y="13052"/>
                  <a:pt x="11033" y="13123"/>
                  <a:pt x="10986" y="13144"/>
                </a:cubicBezTo>
                <a:cubicBezTo>
                  <a:pt x="10975" y="13144"/>
                  <a:pt x="10965" y="13144"/>
                  <a:pt x="10954" y="13144"/>
                </a:cubicBezTo>
                <a:cubicBezTo>
                  <a:pt x="11027" y="13090"/>
                  <a:pt x="11026" y="13123"/>
                  <a:pt x="11112" y="13144"/>
                </a:cubicBezTo>
                <a:cubicBezTo>
                  <a:pt x="11216" y="13169"/>
                  <a:pt x="11212" y="13193"/>
                  <a:pt x="11271" y="13272"/>
                </a:cubicBezTo>
                <a:cubicBezTo>
                  <a:pt x="11335" y="13357"/>
                  <a:pt x="11352" y="13450"/>
                  <a:pt x="11366" y="13557"/>
                </a:cubicBezTo>
                <a:cubicBezTo>
                  <a:pt x="11376" y="13635"/>
                  <a:pt x="11345" y="13776"/>
                  <a:pt x="11303" y="13843"/>
                </a:cubicBezTo>
                <a:cubicBezTo>
                  <a:pt x="11256" y="13920"/>
                  <a:pt x="11193" y="13963"/>
                  <a:pt x="11112" y="13970"/>
                </a:cubicBezTo>
                <a:cubicBezTo>
                  <a:pt x="11043" y="13976"/>
                  <a:pt x="10981" y="13978"/>
                  <a:pt x="10922" y="13938"/>
                </a:cubicBezTo>
                <a:cubicBezTo>
                  <a:pt x="10848" y="13888"/>
                  <a:pt x="10857" y="13808"/>
                  <a:pt x="10827" y="13748"/>
                </a:cubicBezTo>
                <a:cubicBezTo>
                  <a:pt x="10816" y="13737"/>
                  <a:pt x="10806" y="13727"/>
                  <a:pt x="10795" y="137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Ink 12"/>
          <p:cNvSpPr/>
          <p:nvPr/>
        </p:nvSpPr>
        <p:spPr>
          <a:xfrm>
            <a:off x="2468520" y="5178600"/>
            <a:ext cx="1384200" cy="617400"/>
          </a:xfrm>
          <a:custGeom>
            <a:avLst/>
            <a:gdLst/>
            <a:ahLst/>
            <a:rect l="l" t="t" r="r" b="b"/>
            <a:pathLst>
              <a:path w="3843" h="1715">
                <a:moveTo>
                  <a:pt x="7207" y="14637"/>
                </a:moveTo>
                <a:cubicBezTo>
                  <a:pt x="7207" y="14721"/>
                  <a:pt x="7229" y="14782"/>
                  <a:pt x="7239" y="14859"/>
                </a:cubicBezTo>
                <a:cubicBezTo>
                  <a:pt x="7257" y="14996"/>
                  <a:pt x="7247" y="15136"/>
                  <a:pt x="7271" y="15272"/>
                </a:cubicBezTo>
                <a:cubicBezTo>
                  <a:pt x="7292" y="15392"/>
                  <a:pt x="7324" y="15540"/>
                  <a:pt x="7366" y="15653"/>
                </a:cubicBezTo>
                <a:cubicBezTo>
                  <a:pt x="7394" y="15728"/>
                  <a:pt x="7425" y="15813"/>
                  <a:pt x="7461" y="15875"/>
                </a:cubicBezTo>
                <a:cubicBezTo>
                  <a:pt x="7470" y="15804"/>
                  <a:pt x="7474" y="15720"/>
                  <a:pt x="7493" y="15653"/>
                </a:cubicBezTo>
                <a:cubicBezTo>
                  <a:pt x="7526" y="15539"/>
                  <a:pt x="7530" y="15421"/>
                  <a:pt x="7556" y="15304"/>
                </a:cubicBezTo>
                <a:cubicBezTo>
                  <a:pt x="7584" y="15176"/>
                  <a:pt x="7632" y="15046"/>
                  <a:pt x="7652" y="14922"/>
                </a:cubicBezTo>
                <a:cubicBezTo>
                  <a:pt x="7661" y="14866"/>
                  <a:pt x="7669" y="14818"/>
                  <a:pt x="7684" y="14764"/>
                </a:cubicBezTo>
                <a:cubicBezTo>
                  <a:pt x="7725" y="14806"/>
                  <a:pt x="7720" y="14814"/>
                  <a:pt x="7747" y="14891"/>
                </a:cubicBezTo>
                <a:cubicBezTo>
                  <a:pt x="7786" y="15001"/>
                  <a:pt x="7782" y="15096"/>
                  <a:pt x="7810" y="15208"/>
                </a:cubicBezTo>
                <a:cubicBezTo>
                  <a:pt x="7839" y="15325"/>
                  <a:pt x="7916" y="15436"/>
                  <a:pt x="7938" y="15558"/>
                </a:cubicBezTo>
                <a:cubicBezTo>
                  <a:pt x="7954" y="15647"/>
                  <a:pt x="7970" y="15708"/>
                  <a:pt x="8033" y="15780"/>
                </a:cubicBezTo>
                <a:cubicBezTo>
                  <a:pt x="8061" y="15809"/>
                  <a:pt x="8071" y="15815"/>
                  <a:pt x="8064" y="15843"/>
                </a:cubicBezTo>
                <a:cubicBezTo>
                  <a:pt x="8083" y="15786"/>
                  <a:pt x="8080" y="15746"/>
                  <a:pt x="8096" y="15684"/>
                </a:cubicBezTo>
                <a:cubicBezTo>
                  <a:pt x="8128" y="15564"/>
                  <a:pt x="8157" y="15454"/>
                  <a:pt x="8192" y="15335"/>
                </a:cubicBezTo>
                <a:cubicBezTo>
                  <a:pt x="8234" y="15190"/>
                  <a:pt x="8247" y="15009"/>
                  <a:pt x="8255" y="14859"/>
                </a:cubicBezTo>
                <a:cubicBezTo>
                  <a:pt x="8259" y="14777"/>
                  <a:pt x="8258" y="14745"/>
                  <a:pt x="8287" y="14668"/>
                </a:cubicBezTo>
              </a:path>
              <a:path w="3843" h="1715">
                <a:moveTo>
                  <a:pt x="8604" y="14668"/>
                </a:moveTo>
                <a:cubicBezTo>
                  <a:pt x="8619" y="14744"/>
                  <a:pt x="8667" y="14818"/>
                  <a:pt x="8700" y="14891"/>
                </a:cubicBezTo>
                <a:cubicBezTo>
                  <a:pt x="8756" y="15016"/>
                  <a:pt x="8787" y="15141"/>
                  <a:pt x="8826" y="15272"/>
                </a:cubicBezTo>
                <a:cubicBezTo>
                  <a:pt x="8868" y="15413"/>
                  <a:pt x="8927" y="15550"/>
                  <a:pt x="8985" y="15684"/>
                </a:cubicBezTo>
                <a:cubicBezTo>
                  <a:pt x="9003" y="15725"/>
                  <a:pt x="9017" y="15907"/>
                  <a:pt x="9017" y="15843"/>
                </a:cubicBezTo>
              </a:path>
              <a:path w="3843" h="1715">
                <a:moveTo>
                  <a:pt x="9049" y="14796"/>
                </a:moveTo>
                <a:cubicBezTo>
                  <a:pt x="9022" y="14742"/>
                  <a:pt x="9006" y="14826"/>
                  <a:pt x="8954" y="14859"/>
                </a:cubicBezTo>
                <a:cubicBezTo>
                  <a:pt x="8854" y="14924"/>
                  <a:pt x="8811" y="14995"/>
                  <a:pt x="8731" y="15081"/>
                </a:cubicBezTo>
                <a:cubicBezTo>
                  <a:pt x="8633" y="15186"/>
                  <a:pt x="8549" y="15297"/>
                  <a:pt x="8446" y="15399"/>
                </a:cubicBezTo>
                <a:cubicBezTo>
                  <a:pt x="8372" y="15473"/>
                  <a:pt x="8316" y="15540"/>
                  <a:pt x="8255" y="15621"/>
                </a:cubicBezTo>
                <a:cubicBezTo>
                  <a:pt x="8244" y="15632"/>
                  <a:pt x="8234" y="15642"/>
                  <a:pt x="8223" y="15653"/>
                </a:cubicBezTo>
              </a:path>
              <a:path w="3843" h="1715">
                <a:moveTo>
                  <a:pt x="9334" y="15113"/>
                </a:moveTo>
                <a:cubicBezTo>
                  <a:pt x="9432" y="15076"/>
                  <a:pt x="9513" y="15081"/>
                  <a:pt x="9620" y="15081"/>
                </a:cubicBezTo>
                <a:cubicBezTo>
                  <a:pt x="9641" y="15081"/>
                  <a:pt x="9663" y="15081"/>
                  <a:pt x="9684" y="15081"/>
                </a:cubicBezTo>
              </a:path>
              <a:path w="3843" h="1715">
                <a:moveTo>
                  <a:pt x="9366" y="15399"/>
                </a:moveTo>
                <a:cubicBezTo>
                  <a:pt x="9521" y="15399"/>
                  <a:pt x="9659" y="15398"/>
                  <a:pt x="9811" y="15367"/>
                </a:cubicBezTo>
              </a:path>
              <a:path w="3843" h="1715">
                <a:moveTo>
                  <a:pt x="10224" y="14986"/>
                </a:moveTo>
                <a:cubicBezTo>
                  <a:pt x="10291" y="14917"/>
                  <a:pt x="10317" y="14922"/>
                  <a:pt x="10414" y="14922"/>
                </a:cubicBezTo>
                <a:cubicBezTo>
                  <a:pt x="10489" y="14922"/>
                  <a:pt x="10547" y="14908"/>
                  <a:pt x="10604" y="14954"/>
                </a:cubicBezTo>
                <a:cubicBezTo>
                  <a:pt x="10633" y="14983"/>
                  <a:pt x="10639" y="14994"/>
                  <a:pt x="10668" y="14986"/>
                </a:cubicBezTo>
                <a:cubicBezTo>
                  <a:pt x="10655" y="15039"/>
                  <a:pt x="10624" y="15065"/>
                  <a:pt x="10604" y="15113"/>
                </a:cubicBezTo>
                <a:cubicBezTo>
                  <a:pt x="10546" y="15252"/>
                  <a:pt x="10556" y="15206"/>
                  <a:pt x="10446" y="15272"/>
                </a:cubicBezTo>
                <a:cubicBezTo>
                  <a:pt x="10406" y="15296"/>
                  <a:pt x="10272" y="15304"/>
                  <a:pt x="10319" y="15304"/>
                </a:cubicBezTo>
                <a:cubicBezTo>
                  <a:pt x="10410" y="15304"/>
                  <a:pt x="10436" y="15323"/>
                  <a:pt x="10509" y="15367"/>
                </a:cubicBezTo>
                <a:cubicBezTo>
                  <a:pt x="10592" y="15417"/>
                  <a:pt x="10637" y="15459"/>
                  <a:pt x="10668" y="15558"/>
                </a:cubicBezTo>
                <a:cubicBezTo>
                  <a:pt x="10696" y="15647"/>
                  <a:pt x="10700" y="15715"/>
                  <a:pt x="10700" y="15812"/>
                </a:cubicBezTo>
                <a:cubicBezTo>
                  <a:pt x="10700" y="15889"/>
                  <a:pt x="10656" y="15943"/>
                  <a:pt x="10604" y="16002"/>
                </a:cubicBezTo>
                <a:cubicBezTo>
                  <a:pt x="10575" y="16034"/>
                  <a:pt x="10461" y="16102"/>
                  <a:pt x="10414" y="16097"/>
                </a:cubicBezTo>
                <a:cubicBezTo>
                  <a:pt x="10359" y="16091"/>
                  <a:pt x="10238" y="16062"/>
                  <a:pt x="10192" y="16034"/>
                </a:cubicBezTo>
                <a:cubicBezTo>
                  <a:pt x="10147" y="16006"/>
                  <a:pt x="10062" y="15989"/>
                  <a:pt x="10033" y="15938"/>
                </a:cubicBezTo>
                <a:cubicBezTo>
                  <a:pt x="10033" y="15928"/>
                  <a:pt x="10033" y="15917"/>
                  <a:pt x="10033" y="15907"/>
                </a:cubicBezTo>
              </a:path>
              <a:path w="3843" h="1715">
                <a:moveTo>
                  <a:pt x="8858" y="14446"/>
                </a:moveTo>
                <a:cubicBezTo>
                  <a:pt x="8824" y="14439"/>
                  <a:pt x="8756" y="14407"/>
                  <a:pt x="8731" y="14414"/>
                </a:cubicBezTo>
                <a:cubicBezTo>
                  <a:pt x="8695" y="14414"/>
                  <a:pt x="8682" y="14417"/>
                  <a:pt x="8668" y="14446"/>
                </a:cubicBezTo>
                <a:cubicBezTo>
                  <a:pt x="8614" y="14405"/>
                  <a:pt x="8581" y="14414"/>
                  <a:pt x="8509" y="14414"/>
                </a:cubicBezTo>
                <a:cubicBezTo>
                  <a:pt x="8412" y="14414"/>
                  <a:pt x="8346" y="14403"/>
                  <a:pt x="8255" y="14383"/>
                </a:cubicBezTo>
                <a:cubicBezTo>
                  <a:pt x="8026" y="14331"/>
                  <a:pt x="7649" y="14365"/>
                  <a:pt x="7430" y="14414"/>
                </a:cubicBezTo>
                <a:cubicBezTo>
                  <a:pt x="7360" y="14430"/>
                  <a:pt x="7279" y="14442"/>
                  <a:pt x="7207" y="14446"/>
                </a:cubicBezTo>
                <a:cubicBezTo>
                  <a:pt x="7125" y="14451"/>
                  <a:pt x="7076" y="14478"/>
                  <a:pt x="6985" y="14478"/>
                </a:cubicBezTo>
                <a:cubicBezTo>
                  <a:pt x="6943" y="14478"/>
                  <a:pt x="6900" y="14478"/>
                  <a:pt x="6858" y="144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Ink 13"/>
          <p:cNvSpPr/>
          <p:nvPr/>
        </p:nvSpPr>
        <p:spPr>
          <a:xfrm>
            <a:off x="4835520" y="3749760"/>
            <a:ext cx="388800" cy="547560"/>
          </a:xfrm>
          <a:custGeom>
            <a:avLst/>
            <a:gdLst/>
            <a:ahLst/>
            <a:rect l="l" t="t" r="r" b="b"/>
            <a:pathLst>
              <a:path w="1081" h="1525">
                <a:moveTo>
                  <a:pt x="13875" y="10414"/>
                </a:moveTo>
                <a:cubicBezTo>
                  <a:pt x="13875" y="10475"/>
                  <a:pt x="13850" y="10528"/>
                  <a:pt x="13843" y="10573"/>
                </a:cubicBezTo>
                <a:cubicBezTo>
                  <a:pt x="13831" y="10650"/>
                  <a:pt x="13863" y="10705"/>
                  <a:pt x="13875" y="10763"/>
                </a:cubicBezTo>
                <a:cubicBezTo>
                  <a:pt x="13893" y="10851"/>
                  <a:pt x="13908" y="10911"/>
                  <a:pt x="14002" y="10954"/>
                </a:cubicBezTo>
                <a:cubicBezTo>
                  <a:pt x="14096" y="10997"/>
                  <a:pt x="14132" y="10969"/>
                  <a:pt x="14224" y="10954"/>
                </a:cubicBezTo>
                <a:cubicBezTo>
                  <a:pt x="14319" y="10938"/>
                  <a:pt x="14351" y="10871"/>
                  <a:pt x="14414" y="10795"/>
                </a:cubicBezTo>
                <a:cubicBezTo>
                  <a:pt x="14458" y="10742"/>
                  <a:pt x="14498" y="10663"/>
                  <a:pt x="14510" y="10604"/>
                </a:cubicBezTo>
                <a:cubicBezTo>
                  <a:pt x="14516" y="10573"/>
                  <a:pt x="14496" y="10601"/>
                  <a:pt x="14510" y="10573"/>
                </a:cubicBezTo>
                <a:cubicBezTo>
                  <a:pt x="14500" y="10663"/>
                  <a:pt x="14482" y="10736"/>
                  <a:pt x="14478" y="10827"/>
                </a:cubicBezTo>
                <a:cubicBezTo>
                  <a:pt x="14473" y="10968"/>
                  <a:pt x="14446" y="11095"/>
                  <a:pt x="14446" y="11240"/>
                </a:cubicBezTo>
                <a:cubicBezTo>
                  <a:pt x="14446" y="11371"/>
                  <a:pt x="14426" y="11528"/>
                  <a:pt x="14383" y="11652"/>
                </a:cubicBezTo>
                <a:cubicBezTo>
                  <a:pt x="14358" y="11723"/>
                  <a:pt x="14296" y="11873"/>
                  <a:pt x="14224" y="11906"/>
                </a:cubicBezTo>
                <a:cubicBezTo>
                  <a:pt x="14145" y="11943"/>
                  <a:pt x="14027" y="11938"/>
                  <a:pt x="13938" y="11938"/>
                </a:cubicBezTo>
                <a:cubicBezTo>
                  <a:pt x="13799" y="11938"/>
                  <a:pt x="13717" y="11922"/>
                  <a:pt x="13589" y="11874"/>
                </a:cubicBezTo>
                <a:cubicBezTo>
                  <a:pt x="13503" y="11846"/>
                  <a:pt x="13480" y="11840"/>
                  <a:pt x="13430" y="118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Ink 14"/>
          <p:cNvSpPr/>
          <p:nvPr/>
        </p:nvSpPr>
        <p:spPr>
          <a:xfrm>
            <a:off x="4022640" y="2536920"/>
            <a:ext cx="206640" cy="355680"/>
          </a:xfrm>
          <a:custGeom>
            <a:avLst/>
            <a:gdLst/>
            <a:ahLst/>
            <a:rect l="l" t="t" r="r" b="b"/>
            <a:pathLst>
              <a:path w="573" h="986">
                <a:moveTo>
                  <a:pt x="11748" y="7048"/>
                </a:moveTo>
                <a:cubicBezTo>
                  <a:pt x="11690" y="7135"/>
                  <a:pt x="11673" y="7093"/>
                  <a:pt x="11589" y="7144"/>
                </a:cubicBezTo>
                <a:cubicBezTo>
                  <a:pt x="11538" y="7175"/>
                  <a:pt x="11487" y="7184"/>
                  <a:pt x="11430" y="7207"/>
                </a:cubicBezTo>
                <a:cubicBezTo>
                  <a:pt x="11362" y="7234"/>
                  <a:pt x="11341" y="7239"/>
                  <a:pt x="11271" y="7239"/>
                </a:cubicBezTo>
                <a:cubicBezTo>
                  <a:pt x="11261" y="7239"/>
                  <a:pt x="11250" y="7239"/>
                  <a:pt x="11240" y="7239"/>
                </a:cubicBezTo>
                <a:cubicBezTo>
                  <a:pt x="11240" y="7285"/>
                  <a:pt x="11248" y="7289"/>
                  <a:pt x="11240" y="7334"/>
                </a:cubicBezTo>
                <a:cubicBezTo>
                  <a:pt x="11227" y="7408"/>
                  <a:pt x="11229" y="7431"/>
                  <a:pt x="11208" y="7493"/>
                </a:cubicBezTo>
                <a:cubicBezTo>
                  <a:pt x="11194" y="7536"/>
                  <a:pt x="11186" y="7578"/>
                  <a:pt x="11176" y="7620"/>
                </a:cubicBezTo>
                <a:cubicBezTo>
                  <a:pt x="11225" y="7604"/>
                  <a:pt x="11213" y="7592"/>
                  <a:pt x="11240" y="7556"/>
                </a:cubicBezTo>
                <a:cubicBezTo>
                  <a:pt x="11275" y="7509"/>
                  <a:pt x="11344" y="7498"/>
                  <a:pt x="11398" y="7493"/>
                </a:cubicBezTo>
                <a:cubicBezTo>
                  <a:pt x="11468" y="7487"/>
                  <a:pt x="11491" y="7508"/>
                  <a:pt x="11557" y="7525"/>
                </a:cubicBezTo>
                <a:cubicBezTo>
                  <a:pt x="11620" y="7541"/>
                  <a:pt x="11629" y="7565"/>
                  <a:pt x="11652" y="7620"/>
                </a:cubicBezTo>
                <a:cubicBezTo>
                  <a:pt x="11685" y="7698"/>
                  <a:pt x="11684" y="7726"/>
                  <a:pt x="11684" y="7810"/>
                </a:cubicBezTo>
                <a:cubicBezTo>
                  <a:pt x="11684" y="7878"/>
                  <a:pt x="11669" y="7889"/>
                  <a:pt x="11620" y="7938"/>
                </a:cubicBezTo>
                <a:cubicBezTo>
                  <a:pt x="11574" y="7984"/>
                  <a:pt x="11518" y="8022"/>
                  <a:pt x="11462" y="8033"/>
                </a:cubicBezTo>
                <a:cubicBezTo>
                  <a:pt x="11373" y="8051"/>
                  <a:pt x="11320" y="8008"/>
                  <a:pt x="11240" y="8001"/>
                </a:cubicBezTo>
                <a:cubicBezTo>
                  <a:pt x="11185" y="7996"/>
                  <a:pt x="11192" y="8018"/>
                  <a:pt x="11176" y="79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Ink 15"/>
          <p:cNvSpPr/>
          <p:nvPr/>
        </p:nvSpPr>
        <p:spPr>
          <a:xfrm>
            <a:off x="2193840" y="2114640"/>
            <a:ext cx="2973600" cy="1520640"/>
          </a:xfrm>
          <a:custGeom>
            <a:avLst/>
            <a:gdLst/>
            <a:ahLst/>
            <a:rect l="l" t="t" r="r" b="b"/>
            <a:pathLst>
              <a:path w="8256" h="4223">
                <a:moveTo>
                  <a:pt x="6096" y="10096"/>
                </a:moveTo>
                <a:cubicBezTo>
                  <a:pt x="6112" y="10018"/>
                  <a:pt x="6111" y="9945"/>
                  <a:pt x="6128" y="9874"/>
                </a:cubicBezTo>
                <a:cubicBezTo>
                  <a:pt x="6141" y="9822"/>
                  <a:pt x="6181" y="9765"/>
                  <a:pt x="6191" y="9716"/>
                </a:cubicBezTo>
                <a:cubicBezTo>
                  <a:pt x="6206" y="9641"/>
                  <a:pt x="6206" y="9567"/>
                  <a:pt x="6223" y="9493"/>
                </a:cubicBezTo>
                <a:cubicBezTo>
                  <a:pt x="6243" y="9403"/>
                  <a:pt x="6263" y="9322"/>
                  <a:pt x="6286" y="9239"/>
                </a:cubicBezTo>
                <a:cubicBezTo>
                  <a:pt x="6310" y="9153"/>
                  <a:pt x="6356" y="9069"/>
                  <a:pt x="6382" y="8985"/>
                </a:cubicBezTo>
                <a:cubicBezTo>
                  <a:pt x="6411" y="8891"/>
                  <a:pt x="6438" y="8787"/>
                  <a:pt x="6477" y="8700"/>
                </a:cubicBezTo>
                <a:cubicBezTo>
                  <a:pt x="6524" y="8596"/>
                  <a:pt x="6593" y="8515"/>
                  <a:pt x="6636" y="8414"/>
                </a:cubicBezTo>
                <a:cubicBezTo>
                  <a:pt x="6680" y="8310"/>
                  <a:pt x="6704" y="8193"/>
                  <a:pt x="6763" y="8096"/>
                </a:cubicBezTo>
                <a:cubicBezTo>
                  <a:pt x="6819" y="8003"/>
                  <a:pt x="6892" y="7903"/>
                  <a:pt x="6953" y="7810"/>
                </a:cubicBezTo>
                <a:cubicBezTo>
                  <a:pt x="7017" y="7712"/>
                  <a:pt x="7102" y="7617"/>
                  <a:pt x="7176" y="7525"/>
                </a:cubicBezTo>
                <a:cubicBezTo>
                  <a:pt x="7264" y="7415"/>
                  <a:pt x="7354" y="7306"/>
                  <a:pt x="7461" y="7207"/>
                </a:cubicBezTo>
                <a:cubicBezTo>
                  <a:pt x="7554" y="7121"/>
                  <a:pt x="7650" y="7035"/>
                  <a:pt x="7747" y="6953"/>
                </a:cubicBezTo>
                <a:cubicBezTo>
                  <a:pt x="7845" y="6870"/>
                  <a:pt x="7958" y="6795"/>
                  <a:pt x="8064" y="6731"/>
                </a:cubicBezTo>
                <a:cubicBezTo>
                  <a:pt x="8190" y="6656"/>
                  <a:pt x="8314" y="6601"/>
                  <a:pt x="8446" y="6540"/>
                </a:cubicBezTo>
                <a:cubicBezTo>
                  <a:pt x="8570" y="6483"/>
                  <a:pt x="8698" y="6440"/>
                  <a:pt x="8826" y="6414"/>
                </a:cubicBezTo>
                <a:cubicBezTo>
                  <a:pt x="8921" y="6394"/>
                  <a:pt x="9048" y="6389"/>
                  <a:pt x="9144" y="6382"/>
                </a:cubicBezTo>
                <a:cubicBezTo>
                  <a:pt x="9263" y="6374"/>
                  <a:pt x="9379" y="6390"/>
                  <a:pt x="9493" y="6414"/>
                </a:cubicBezTo>
                <a:cubicBezTo>
                  <a:pt x="9570" y="6430"/>
                  <a:pt x="9642" y="6447"/>
                  <a:pt x="9716" y="6477"/>
                </a:cubicBezTo>
                <a:cubicBezTo>
                  <a:pt x="9816" y="6518"/>
                  <a:pt x="9881" y="6572"/>
                  <a:pt x="9970" y="6636"/>
                </a:cubicBezTo>
                <a:cubicBezTo>
                  <a:pt x="10012" y="6666"/>
                  <a:pt x="10101" y="6736"/>
                  <a:pt x="10128" y="6763"/>
                </a:cubicBezTo>
                <a:cubicBezTo>
                  <a:pt x="10143" y="6779"/>
                  <a:pt x="10166" y="6832"/>
                  <a:pt x="10192" y="6858"/>
                </a:cubicBezTo>
                <a:cubicBezTo>
                  <a:pt x="10211" y="6821"/>
                  <a:pt x="10206" y="6768"/>
                  <a:pt x="10224" y="6731"/>
                </a:cubicBezTo>
                <a:cubicBezTo>
                  <a:pt x="10247" y="6684"/>
                  <a:pt x="10293" y="6648"/>
                  <a:pt x="10319" y="6604"/>
                </a:cubicBezTo>
                <a:cubicBezTo>
                  <a:pt x="10343" y="6563"/>
                  <a:pt x="10352" y="6520"/>
                  <a:pt x="10382" y="6477"/>
                </a:cubicBezTo>
                <a:cubicBezTo>
                  <a:pt x="10417" y="6427"/>
                  <a:pt x="10455" y="6380"/>
                  <a:pt x="10478" y="6350"/>
                </a:cubicBezTo>
                <a:cubicBezTo>
                  <a:pt x="10488" y="6339"/>
                  <a:pt x="10499" y="6329"/>
                  <a:pt x="10509" y="6318"/>
                </a:cubicBezTo>
                <a:cubicBezTo>
                  <a:pt x="10516" y="6330"/>
                  <a:pt x="10555" y="6384"/>
                  <a:pt x="10573" y="6414"/>
                </a:cubicBezTo>
                <a:cubicBezTo>
                  <a:pt x="10598" y="6456"/>
                  <a:pt x="10613" y="6501"/>
                  <a:pt x="10636" y="6540"/>
                </a:cubicBezTo>
                <a:cubicBezTo>
                  <a:pt x="10649" y="6562"/>
                  <a:pt x="10688" y="6658"/>
                  <a:pt x="10700" y="6668"/>
                </a:cubicBezTo>
                <a:cubicBezTo>
                  <a:pt x="10747" y="6707"/>
                  <a:pt x="10702" y="6718"/>
                  <a:pt x="10732" y="6699"/>
                </a:cubicBezTo>
                <a:cubicBezTo>
                  <a:pt x="10781" y="6668"/>
                  <a:pt x="10765" y="6581"/>
                  <a:pt x="10795" y="6540"/>
                </a:cubicBezTo>
                <a:cubicBezTo>
                  <a:pt x="10830" y="6493"/>
                  <a:pt x="10856" y="6456"/>
                  <a:pt x="10890" y="6414"/>
                </a:cubicBezTo>
                <a:cubicBezTo>
                  <a:pt x="10925" y="6371"/>
                  <a:pt x="10948" y="6319"/>
                  <a:pt x="10986" y="6286"/>
                </a:cubicBezTo>
                <a:cubicBezTo>
                  <a:pt x="11046" y="6233"/>
                  <a:pt x="11139" y="6167"/>
                  <a:pt x="11208" y="6128"/>
                </a:cubicBezTo>
                <a:cubicBezTo>
                  <a:pt x="11290" y="6081"/>
                  <a:pt x="11345" y="6071"/>
                  <a:pt x="11430" y="6032"/>
                </a:cubicBezTo>
                <a:cubicBezTo>
                  <a:pt x="11506" y="5997"/>
                  <a:pt x="11567" y="5959"/>
                  <a:pt x="11652" y="5937"/>
                </a:cubicBezTo>
                <a:cubicBezTo>
                  <a:pt x="11737" y="5915"/>
                  <a:pt x="11819" y="5919"/>
                  <a:pt x="11906" y="5906"/>
                </a:cubicBezTo>
                <a:cubicBezTo>
                  <a:pt x="12003" y="5891"/>
                  <a:pt x="12085" y="5867"/>
                  <a:pt x="12192" y="5874"/>
                </a:cubicBezTo>
                <a:cubicBezTo>
                  <a:pt x="12294" y="5881"/>
                  <a:pt x="12382" y="5913"/>
                  <a:pt x="12478" y="5937"/>
                </a:cubicBezTo>
                <a:cubicBezTo>
                  <a:pt x="12645" y="5980"/>
                  <a:pt x="12800" y="6038"/>
                  <a:pt x="12954" y="6128"/>
                </a:cubicBezTo>
                <a:cubicBezTo>
                  <a:pt x="13042" y="6179"/>
                  <a:pt x="13130" y="6223"/>
                  <a:pt x="13208" y="6286"/>
                </a:cubicBezTo>
                <a:cubicBezTo>
                  <a:pt x="13298" y="6359"/>
                  <a:pt x="13352" y="6424"/>
                  <a:pt x="13430" y="6509"/>
                </a:cubicBezTo>
                <a:cubicBezTo>
                  <a:pt x="13504" y="6589"/>
                  <a:pt x="13555" y="6678"/>
                  <a:pt x="13621" y="6763"/>
                </a:cubicBezTo>
                <a:cubicBezTo>
                  <a:pt x="13679" y="6837"/>
                  <a:pt x="13762" y="6906"/>
                  <a:pt x="13811" y="6985"/>
                </a:cubicBezTo>
                <a:cubicBezTo>
                  <a:pt x="13912" y="7147"/>
                  <a:pt x="14026" y="7349"/>
                  <a:pt x="14097" y="7525"/>
                </a:cubicBezTo>
                <a:cubicBezTo>
                  <a:pt x="14122" y="7588"/>
                  <a:pt x="14130" y="7684"/>
                  <a:pt x="14160" y="7747"/>
                </a:cubicBezTo>
                <a:cubicBezTo>
                  <a:pt x="14182" y="7794"/>
                  <a:pt x="14241" y="7857"/>
                  <a:pt x="14256" y="7906"/>
                </a:cubicBezTo>
                <a:cubicBezTo>
                  <a:pt x="14275" y="7968"/>
                  <a:pt x="14275" y="8034"/>
                  <a:pt x="14288" y="8096"/>
                </a:cubicBezTo>
                <a:cubicBezTo>
                  <a:pt x="14300" y="8152"/>
                  <a:pt x="14307" y="8192"/>
                  <a:pt x="14319" y="8255"/>
                </a:cubicBezTo>
                <a:cubicBezTo>
                  <a:pt x="14334" y="8332"/>
                  <a:pt x="14344" y="8349"/>
                  <a:pt x="14351" y="8446"/>
                </a:cubicBezTo>
                <a:cubicBezTo>
                  <a:pt x="14374" y="8758"/>
                  <a:pt x="14336" y="9071"/>
                  <a:pt x="14319" y="9366"/>
                </a:cubicBezTo>
                <a:cubicBezTo>
                  <a:pt x="14313" y="9480"/>
                  <a:pt x="14297" y="9648"/>
                  <a:pt x="14288" y="9716"/>
                </a:cubicBezTo>
                <a:cubicBezTo>
                  <a:pt x="14288" y="9747"/>
                  <a:pt x="14288" y="9757"/>
                  <a:pt x="14288" y="97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Ink 16"/>
          <p:cNvSpPr/>
          <p:nvPr/>
        </p:nvSpPr>
        <p:spPr>
          <a:xfrm>
            <a:off x="3646440" y="1874880"/>
            <a:ext cx="149400" cy="297000"/>
          </a:xfrm>
          <a:custGeom>
            <a:avLst/>
            <a:gdLst/>
            <a:ahLst/>
            <a:rect l="l" t="t" r="r" b="b"/>
            <a:pathLst>
              <a:path w="414" h="826">
                <a:moveTo>
                  <a:pt x="10541" y="5366"/>
                </a:moveTo>
                <a:cubicBezTo>
                  <a:pt x="10541" y="5283"/>
                  <a:pt x="10532" y="5277"/>
                  <a:pt x="10446" y="5270"/>
                </a:cubicBezTo>
                <a:cubicBezTo>
                  <a:pt x="10377" y="5264"/>
                  <a:pt x="10314" y="5262"/>
                  <a:pt x="10255" y="5302"/>
                </a:cubicBezTo>
                <a:cubicBezTo>
                  <a:pt x="10223" y="5324"/>
                  <a:pt x="10134" y="5419"/>
                  <a:pt x="10128" y="5429"/>
                </a:cubicBezTo>
                <a:cubicBezTo>
                  <a:pt x="10112" y="5457"/>
                  <a:pt x="10175" y="5536"/>
                  <a:pt x="10192" y="5556"/>
                </a:cubicBezTo>
                <a:cubicBezTo>
                  <a:pt x="10209" y="5575"/>
                  <a:pt x="10322" y="5644"/>
                  <a:pt x="10350" y="5652"/>
                </a:cubicBezTo>
                <a:cubicBezTo>
                  <a:pt x="10446" y="5680"/>
                  <a:pt x="10428" y="5672"/>
                  <a:pt x="10478" y="5747"/>
                </a:cubicBezTo>
                <a:cubicBezTo>
                  <a:pt x="10506" y="5789"/>
                  <a:pt x="10535" y="5823"/>
                  <a:pt x="10541" y="5874"/>
                </a:cubicBezTo>
                <a:cubicBezTo>
                  <a:pt x="10547" y="5929"/>
                  <a:pt x="10501" y="5952"/>
                  <a:pt x="10478" y="5969"/>
                </a:cubicBezTo>
                <a:cubicBezTo>
                  <a:pt x="10454" y="5987"/>
                  <a:pt x="10383" y="6047"/>
                  <a:pt x="10350" y="6032"/>
                </a:cubicBezTo>
                <a:cubicBezTo>
                  <a:pt x="10315" y="6017"/>
                  <a:pt x="10242" y="5978"/>
                  <a:pt x="10224" y="5937"/>
                </a:cubicBezTo>
                <a:cubicBezTo>
                  <a:pt x="10196" y="5873"/>
                  <a:pt x="10229" y="5764"/>
                  <a:pt x="10255" y="5715"/>
                </a:cubicBezTo>
                <a:cubicBezTo>
                  <a:pt x="10289" y="5651"/>
                  <a:pt x="10360" y="5508"/>
                  <a:pt x="10414" y="5461"/>
                </a:cubicBezTo>
                <a:cubicBezTo>
                  <a:pt x="10432" y="5445"/>
                  <a:pt x="10529" y="5378"/>
                  <a:pt x="10541" y="5334"/>
                </a:cubicBezTo>
                <a:cubicBezTo>
                  <a:pt x="10550" y="5303"/>
                  <a:pt x="10541" y="5242"/>
                  <a:pt x="10541" y="52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point Q of the seg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(1, -7) and the midpoint is (-2, -5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3"/>
              <p:cNvSpPr txBox="1"/>
              <p:nvPr/>
            </p:nvSpPr>
            <p:spPr>
              <a:xfrm>
                <a:off x="6264360" y="803160"/>
                <a:ext cx="65412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31" name="Ink 4"/>
          <p:cNvSpPr/>
          <p:nvPr/>
        </p:nvSpPr>
        <p:spPr>
          <a:xfrm>
            <a:off x="1771560" y="2228760"/>
            <a:ext cx="138240" cy="263520"/>
          </a:xfrm>
          <a:custGeom>
            <a:avLst/>
            <a:gdLst/>
            <a:ahLst/>
            <a:rect l="l" t="t" r="r" b="b"/>
            <a:pathLst>
              <a:path w="382" h="732">
                <a:moveTo>
                  <a:pt x="4985" y="6350"/>
                </a:moveTo>
                <a:cubicBezTo>
                  <a:pt x="4985" y="6436"/>
                  <a:pt x="5002" y="6501"/>
                  <a:pt x="5016" y="6572"/>
                </a:cubicBezTo>
                <a:cubicBezTo>
                  <a:pt x="5033" y="6659"/>
                  <a:pt x="5028" y="6741"/>
                  <a:pt x="5048" y="6826"/>
                </a:cubicBezTo>
                <a:cubicBezTo>
                  <a:pt x="5054" y="6854"/>
                  <a:pt x="5048" y="6893"/>
                  <a:pt x="5048" y="6922"/>
                </a:cubicBezTo>
              </a:path>
              <a:path w="382" h="732">
                <a:moveTo>
                  <a:pt x="4921" y="6445"/>
                </a:moveTo>
                <a:cubicBezTo>
                  <a:pt x="4921" y="6373"/>
                  <a:pt x="4905" y="6308"/>
                  <a:pt x="4953" y="6255"/>
                </a:cubicBezTo>
                <a:cubicBezTo>
                  <a:pt x="4992" y="6211"/>
                  <a:pt x="5046" y="6158"/>
                  <a:pt x="5112" y="6191"/>
                </a:cubicBezTo>
                <a:cubicBezTo>
                  <a:pt x="5174" y="6222"/>
                  <a:pt x="5191" y="6294"/>
                  <a:pt x="5239" y="6318"/>
                </a:cubicBezTo>
                <a:cubicBezTo>
                  <a:pt x="5260" y="6329"/>
                  <a:pt x="5316" y="6365"/>
                  <a:pt x="5302" y="6414"/>
                </a:cubicBezTo>
                <a:cubicBezTo>
                  <a:pt x="5288" y="6461"/>
                  <a:pt x="5259" y="6549"/>
                  <a:pt x="5207" y="6572"/>
                </a:cubicBezTo>
                <a:cubicBezTo>
                  <a:pt x="5163" y="6592"/>
                  <a:pt x="5095" y="6631"/>
                  <a:pt x="5048" y="6636"/>
                </a:cubicBezTo>
                <a:cubicBezTo>
                  <a:pt x="5037" y="6636"/>
                  <a:pt x="5027" y="6636"/>
                  <a:pt x="5016" y="66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Ink 5"/>
          <p:cNvSpPr/>
          <p:nvPr/>
        </p:nvSpPr>
        <p:spPr>
          <a:xfrm>
            <a:off x="4822920" y="2309760"/>
            <a:ext cx="206280" cy="262080"/>
          </a:xfrm>
          <a:custGeom>
            <a:avLst/>
            <a:gdLst/>
            <a:ahLst/>
            <a:rect l="l" t="t" r="r" b="b"/>
            <a:pathLst>
              <a:path w="573" h="731">
                <a:moveTo>
                  <a:pt x="13811" y="6477"/>
                </a:moveTo>
                <a:cubicBezTo>
                  <a:pt x="13788" y="6407"/>
                  <a:pt x="13766" y="6460"/>
                  <a:pt x="13716" y="6477"/>
                </a:cubicBezTo>
                <a:cubicBezTo>
                  <a:pt x="13643" y="6501"/>
                  <a:pt x="13587" y="6546"/>
                  <a:pt x="13526" y="6604"/>
                </a:cubicBezTo>
                <a:cubicBezTo>
                  <a:pt x="13473" y="6654"/>
                  <a:pt x="13386" y="6746"/>
                  <a:pt x="13398" y="6826"/>
                </a:cubicBezTo>
                <a:cubicBezTo>
                  <a:pt x="13407" y="6881"/>
                  <a:pt x="13461" y="6968"/>
                  <a:pt x="13526" y="6985"/>
                </a:cubicBezTo>
                <a:cubicBezTo>
                  <a:pt x="13628" y="7012"/>
                  <a:pt x="13714" y="7029"/>
                  <a:pt x="13811" y="6985"/>
                </a:cubicBezTo>
                <a:cubicBezTo>
                  <a:pt x="13918" y="6937"/>
                  <a:pt x="13965" y="6916"/>
                  <a:pt x="13970" y="6794"/>
                </a:cubicBezTo>
                <a:cubicBezTo>
                  <a:pt x="13975" y="6689"/>
                  <a:pt x="13973" y="6596"/>
                  <a:pt x="13906" y="6509"/>
                </a:cubicBezTo>
                <a:cubicBezTo>
                  <a:pt x="13866" y="6457"/>
                  <a:pt x="13793" y="6377"/>
                  <a:pt x="13716" y="6414"/>
                </a:cubicBezTo>
                <a:cubicBezTo>
                  <a:pt x="13687" y="6442"/>
                  <a:pt x="13681" y="6452"/>
                  <a:pt x="13652" y="6445"/>
                </a:cubicBezTo>
              </a:path>
              <a:path w="573" h="731">
                <a:moveTo>
                  <a:pt x="13621" y="6731"/>
                </a:moveTo>
                <a:cubicBezTo>
                  <a:pt x="13671" y="6782"/>
                  <a:pt x="13700" y="6839"/>
                  <a:pt x="13748" y="6890"/>
                </a:cubicBezTo>
                <a:cubicBezTo>
                  <a:pt x="13821" y="6969"/>
                  <a:pt x="13859" y="7047"/>
                  <a:pt x="13906" y="71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Ink 6"/>
          <p:cNvSpPr/>
          <p:nvPr/>
        </p:nvSpPr>
        <p:spPr>
          <a:xfrm>
            <a:off x="1782720" y="2571840"/>
            <a:ext cx="743040" cy="560160"/>
          </a:xfrm>
          <a:custGeom>
            <a:avLst/>
            <a:gdLst/>
            <a:ahLst/>
            <a:rect l="l" t="t" r="r" b="b"/>
            <a:pathLst>
              <a:path w="2065" h="1557">
                <a:moveTo>
                  <a:pt x="5334" y="7144"/>
                </a:moveTo>
                <a:cubicBezTo>
                  <a:pt x="5297" y="7156"/>
                  <a:pt x="5276" y="7187"/>
                  <a:pt x="5270" y="7239"/>
                </a:cubicBezTo>
                <a:cubicBezTo>
                  <a:pt x="5263" y="7304"/>
                  <a:pt x="5244" y="7331"/>
                  <a:pt x="5239" y="7398"/>
                </a:cubicBezTo>
                <a:cubicBezTo>
                  <a:pt x="5239" y="7409"/>
                  <a:pt x="5239" y="7419"/>
                  <a:pt x="5239" y="7430"/>
                </a:cubicBezTo>
                <a:cubicBezTo>
                  <a:pt x="5310" y="7430"/>
                  <a:pt x="5335" y="7439"/>
                  <a:pt x="5366" y="7398"/>
                </a:cubicBezTo>
                <a:cubicBezTo>
                  <a:pt x="5416" y="7331"/>
                  <a:pt x="5429" y="7330"/>
                  <a:pt x="5429" y="7239"/>
                </a:cubicBezTo>
                <a:cubicBezTo>
                  <a:pt x="5429" y="7207"/>
                  <a:pt x="5429" y="7197"/>
                  <a:pt x="5398" y="7207"/>
                </a:cubicBezTo>
                <a:cubicBezTo>
                  <a:pt x="5322" y="7226"/>
                  <a:pt x="5309" y="7256"/>
                  <a:pt x="5302" y="7334"/>
                </a:cubicBezTo>
                <a:cubicBezTo>
                  <a:pt x="5298" y="7381"/>
                  <a:pt x="5335" y="7399"/>
                  <a:pt x="5366" y="7430"/>
                </a:cubicBezTo>
                <a:cubicBezTo>
                  <a:pt x="5398" y="7406"/>
                  <a:pt x="5480" y="7381"/>
                  <a:pt x="5493" y="7334"/>
                </a:cubicBezTo>
                <a:cubicBezTo>
                  <a:pt x="5493" y="7277"/>
                  <a:pt x="5497" y="7260"/>
                  <a:pt x="5461" y="7239"/>
                </a:cubicBezTo>
                <a:cubicBezTo>
                  <a:pt x="5446" y="7284"/>
                  <a:pt x="5392" y="7276"/>
                  <a:pt x="5366" y="7334"/>
                </a:cubicBezTo>
                <a:cubicBezTo>
                  <a:pt x="5366" y="7377"/>
                  <a:pt x="5366" y="7398"/>
                  <a:pt x="5366" y="7430"/>
                </a:cubicBezTo>
                <a:cubicBezTo>
                  <a:pt x="5422" y="7430"/>
                  <a:pt x="5429" y="7422"/>
                  <a:pt x="5461" y="7398"/>
                </a:cubicBezTo>
                <a:cubicBezTo>
                  <a:pt x="5494" y="7373"/>
                  <a:pt x="5520" y="7310"/>
                  <a:pt x="5524" y="7271"/>
                </a:cubicBezTo>
                <a:cubicBezTo>
                  <a:pt x="5528" y="7234"/>
                  <a:pt x="5449" y="7214"/>
                  <a:pt x="5429" y="7239"/>
                </a:cubicBezTo>
                <a:cubicBezTo>
                  <a:pt x="5429" y="7250"/>
                  <a:pt x="5429" y="7260"/>
                  <a:pt x="5429" y="7271"/>
                </a:cubicBezTo>
              </a:path>
              <a:path w="2065" h="1557">
                <a:moveTo>
                  <a:pt x="5366" y="7810"/>
                </a:moveTo>
                <a:cubicBezTo>
                  <a:pt x="5440" y="7810"/>
                  <a:pt x="5322" y="7829"/>
                  <a:pt x="5302" y="7842"/>
                </a:cubicBezTo>
                <a:cubicBezTo>
                  <a:pt x="5250" y="7877"/>
                  <a:pt x="5194" y="7931"/>
                  <a:pt x="5144" y="7969"/>
                </a:cubicBezTo>
                <a:cubicBezTo>
                  <a:pt x="5086" y="8012"/>
                  <a:pt x="5062" y="8076"/>
                  <a:pt x="5016" y="8128"/>
                </a:cubicBezTo>
                <a:cubicBezTo>
                  <a:pt x="5000" y="8146"/>
                  <a:pt x="4949" y="8292"/>
                  <a:pt x="4953" y="8318"/>
                </a:cubicBezTo>
                <a:cubicBezTo>
                  <a:pt x="4966" y="8395"/>
                  <a:pt x="4990" y="8438"/>
                  <a:pt x="5048" y="8477"/>
                </a:cubicBezTo>
                <a:cubicBezTo>
                  <a:pt x="5094" y="8508"/>
                  <a:pt x="5124" y="8556"/>
                  <a:pt x="5175" y="8572"/>
                </a:cubicBezTo>
                <a:cubicBezTo>
                  <a:pt x="5191" y="8577"/>
                  <a:pt x="5281" y="8630"/>
                  <a:pt x="5302" y="8604"/>
                </a:cubicBezTo>
                <a:cubicBezTo>
                  <a:pt x="5302" y="8593"/>
                  <a:pt x="5302" y="8583"/>
                  <a:pt x="5302" y="8572"/>
                </a:cubicBezTo>
              </a:path>
              <a:path w="2065" h="1557">
                <a:moveTo>
                  <a:pt x="5620" y="8001"/>
                </a:moveTo>
                <a:cubicBezTo>
                  <a:pt x="5609" y="8001"/>
                  <a:pt x="5599" y="8001"/>
                  <a:pt x="5588" y="8001"/>
                </a:cubicBezTo>
                <a:cubicBezTo>
                  <a:pt x="5588" y="8135"/>
                  <a:pt x="5581" y="8266"/>
                  <a:pt x="5620" y="8382"/>
                </a:cubicBezTo>
                <a:cubicBezTo>
                  <a:pt x="5620" y="8414"/>
                  <a:pt x="5620" y="8425"/>
                  <a:pt x="5620" y="8446"/>
                </a:cubicBezTo>
              </a:path>
              <a:path w="2065" h="1557">
                <a:moveTo>
                  <a:pt x="5874" y="8318"/>
                </a:moveTo>
                <a:cubicBezTo>
                  <a:pt x="5874" y="8409"/>
                  <a:pt x="5865" y="8466"/>
                  <a:pt x="5842" y="8541"/>
                </a:cubicBezTo>
                <a:cubicBezTo>
                  <a:pt x="5828" y="8585"/>
                  <a:pt x="5821" y="8625"/>
                  <a:pt x="5810" y="8668"/>
                </a:cubicBezTo>
              </a:path>
              <a:path w="2065" h="1557">
                <a:moveTo>
                  <a:pt x="6064" y="8192"/>
                </a:moveTo>
                <a:cubicBezTo>
                  <a:pt x="6113" y="8155"/>
                  <a:pt x="6129" y="8160"/>
                  <a:pt x="6191" y="8160"/>
                </a:cubicBezTo>
                <a:cubicBezTo>
                  <a:pt x="6223" y="8160"/>
                  <a:pt x="6234" y="8160"/>
                  <a:pt x="6255" y="8160"/>
                </a:cubicBezTo>
              </a:path>
              <a:path w="2065" h="1557">
                <a:moveTo>
                  <a:pt x="6382" y="8096"/>
                </a:moveTo>
                <a:cubicBezTo>
                  <a:pt x="6382" y="8085"/>
                  <a:pt x="6382" y="8075"/>
                  <a:pt x="6382" y="8064"/>
                </a:cubicBezTo>
                <a:cubicBezTo>
                  <a:pt x="6427" y="8064"/>
                  <a:pt x="6476" y="8055"/>
                  <a:pt x="6509" y="8033"/>
                </a:cubicBezTo>
                <a:cubicBezTo>
                  <a:pt x="6539" y="8013"/>
                  <a:pt x="6592" y="7976"/>
                  <a:pt x="6636" y="8001"/>
                </a:cubicBezTo>
                <a:cubicBezTo>
                  <a:pt x="6665" y="8030"/>
                  <a:pt x="6671" y="8040"/>
                  <a:pt x="6699" y="8033"/>
                </a:cubicBezTo>
                <a:cubicBezTo>
                  <a:pt x="6699" y="8102"/>
                  <a:pt x="6685" y="8125"/>
                  <a:pt x="6668" y="8192"/>
                </a:cubicBezTo>
                <a:cubicBezTo>
                  <a:pt x="6654" y="8248"/>
                  <a:pt x="6655" y="8295"/>
                  <a:pt x="6636" y="8350"/>
                </a:cubicBezTo>
                <a:cubicBezTo>
                  <a:pt x="6613" y="8415"/>
                  <a:pt x="6604" y="8415"/>
                  <a:pt x="6604" y="8477"/>
                </a:cubicBezTo>
              </a:path>
              <a:path w="2065" h="1557">
                <a:moveTo>
                  <a:pt x="6826" y="7810"/>
                </a:moveTo>
                <a:cubicBezTo>
                  <a:pt x="6840" y="7851"/>
                  <a:pt x="6889" y="7883"/>
                  <a:pt x="6922" y="7938"/>
                </a:cubicBezTo>
                <a:cubicBezTo>
                  <a:pt x="6969" y="8016"/>
                  <a:pt x="6959" y="8110"/>
                  <a:pt x="6985" y="8192"/>
                </a:cubicBezTo>
                <a:cubicBezTo>
                  <a:pt x="7009" y="8268"/>
                  <a:pt x="7041" y="8361"/>
                  <a:pt x="7017" y="8446"/>
                </a:cubicBezTo>
                <a:cubicBezTo>
                  <a:pt x="7010" y="8470"/>
                  <a:pt x="6964" y="8627"/>
                  <a:pt x="6953" y="8636"/>
                </a:cubicBezTo>
                <a:cubicBezTo>
                  <a:pt x="6923" y="8661"/>
                  <a:pt x="6910" y="8707"/>
                  <a:pt x="6890" y="86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nk 7"/>
          <p:cNvSpPr/>
          <p:nvPr/>
        </p:nvSpPr>
        <p:spPr>
          <a:xfrm>
            <a:off x="2982960" y="2536920"/>
            <a:ext cx="914400" cy="652320"/>
          </a:xfrm>
          <a:custGeom>
            <a:avLst/>
            <a:gdLst/>
            <a:ahLst/>
            <a:rect l="l" t="t" r="r" b="b"/>
            <a:pathLst>
              <a:path w="2541" h="1811">
                <a:moveTo>
                  <a:pt x="9366" y="7048"/>
                </a:moveTo>
                <a:cubicBezTo>
                  <a:pt x="9366" y="7133"/>
                  <a:pt x="9348" y="7161"/>
                  <a:pt x="9334" y="7239"/>
                </a:cubicBezTo>
                <a:cubicBezTo>
                  <a:pt x="9310" y="7374"/>
                  <a:pt x="9335" y="7526"/>
                  <a:pt x="9366" y="7652"/>
                </a:cubicBezTo>
                <a:cubicBezTo>
                  <a:pt x="9382" y="7714"/>
                  <a:pt x="9356" y="7723"/>
                  <a:pt x="9398" y="7779"/>
                </a:cubicBezTo>
              </a:path>
              <a:path w="2541" h="1811">
                <a:moveTo>
                  <a:pt x="8636" y="8192"/>
                </a:moveTo>
                <a:cubicBezTo>
                  <a:pt x="8625" y="8192"/>
                  <a:pt x="8615" y="8192"/>
                  <a:pt x="8604" y="8192"/>
                </a:cubicBezTo>
                <a:cubicBezTo>
                  <a:pt x="8613" y="8219"/>
                  <a:pt x="8655" y="8248"/>
                  <a:pt x="8700" y="8223"/>
                </a:cubicBezTo>
                <a:cubicBezTo>
                  <a:pt x="8752" y="8195"/>
                  <a:pt x="8762" y="8192"/>
                  <a:pt x="8826" y="8192"/>
                </a:cubicBezTo>
              </a:path>
              <a:path w="2541" h="1811">
                <a:moveTo>
                  <a:pt x="8954" y="8160"/>
                </a:moveTo>
                <a:cubicBezTo>
                  <a:pt x="8986" y="8116"/>
                  <a:pt x="8994" y="8083"/>
                  <a:pt x="9049" y="8064"/>
                </a:cubicBezTo>
                <a:cubicBezTo>
                  <a:pt x="9083" y="8053"/>
                  <a:pt x="9168" y="8011"/>
                  <a:pt x="9208" y="8033"/>
                </a:cubicBezTo>
                <a:cubicBezTo>
                  <a:pt x="9273" y="8068"/>
                  <a:pt x="9229" y="8147"/>
                  <a:pt x="9208" y="8192"/>
                </a:cubicBezTo>
                <a:cubicBezTo>
                  <a:pt x="9177" y="8257"/>
                  <a:pt x="9122" y="8325"/>
                  <a:pt x="9080" y="8382"/>
                </a:cubicBezTo>
                <a:cubicBezTo>
                  <a:pt x="9037" y="8440"/>
                  <a:pt x="8973" y="8490"/>
                  <a:pt x="8922" y="8541"/>
                </a:cubicBezTo>
                <a:cubicBezTo>
                  <a:pt x="8964" y="8509"/>
                  <a:pt x="8979" y="8482"/>
                  <a:pt x="9017" y="8477"/>
                </a:cubicBezTo>
                <a:cubicBezTo>
                  <a:pt x="9055" y="8472"/>
                  <a:pt x="9114" y="8433"/>
                  <a:pt x="9144" y="8477"/>
                </a:cubicBezTo>
                <a:cubicBezTo>
                  <a:pt x="9165" y="8509"/>
                  <a:pt x="9160" y="8535"/>
                  <a:pt x="9208" y="8541"/>
                </a:cubicBezTo>
                <a:cubicBezTo>
                  <a:pt x="9239" y="8541"/>
                  <a:pt x="9250" y="8541"/>
                  <a:pt x="9239" y="8509"/>
                </a:cubicBezTo>
              </a:path>
              <a:path w="2541" h="1811">
                <a:moveTo>
                  <a:pt x="9462" y="8414"/>
                </a:moveTo>
                <a:cubicBezTo>
                  <a:pt x="9462" y="8520"/>
                  <a:pt x="9462" y="8625"/>
                  <a:pt x="9462" y="8731"/>
                </a:cubicBezTo>
              </a:path>
              <a:path w="2541" h="1811">
                <a:moveTo>
                  <a:pt x="9652" y="8192"/>
                </a:moveTo>
                <a:cubicBezTo>
                  <a:pt x="9701" y="8155"/>
                  <a:pt x="9717" y="8160"/>
                  <a:pt x="9779" y="8160"/>
                </a:cubicBezTo>
                <a:cubicBezTo>
                  <a:pt x="9820" y="8160"/>
                  <a:pt x="9836" y="8138"/>
                  <a:pt x="9874" y="8128"/>
                </a:cubicBezTo>
              </a:path>
              <a:path w="2541" h="1811">
                <a:moveTo>
                  <a:pt x="10319" y="8128"/>
                </a:moveTo>
                <a:cubicBezTo>
                  <a:pt x="10355" y="8128"/>
                  <a:pt x="10368" y="8131"/>
                  <a:pt x="10382" y="8160"/>
                </a:cubicBezTo>
                <a:cubicBezTo>
                  <a:pt x="10332" y="8147"/>
                  <a:pt x="10312" y="8128"/>
                  <a:pt x="10255" y="8128"/>
                </a:cubicBezTo>
                <a:cubicBezTo>
                  <a:pt x="10213" y="8128"/>
                  <a:pt x="10170" y="8128"/>
                  <a:pt x="10128" y="8128"/>
                </a:cubicBezTo>
                <a:cubicBezTo>
                  <a:pt x="10118" y="8194"/>
                  <a:pt x="10096" y="8221"/>
                  <a:pt x="10096" y="8287"/>
                </a:cubicBezTo>
                <a:cubicBezTo>
                  <a:pt x="10096" y="8318"/>
                  <a:pt x="10096" y="8329"/>
                  <a:pt x="10096" y="8350"/>
                </a:cubicBezTo>
                <a:cubicBezTo>
                  <a:pt x="10158" y="8334"/>
                  <a:pt x="10197" y="8275"/>
                  <a:pt x="10255" y="8255"/>
                </a:cubicBezTo>
                <a:cubicBezTo>
                  <a:pt x="10316" y="8235"/>
                  <a:pt x="10365" y="8296"/>
                  <a:pt x="10382" y="8318"/>
                </a:cubicBezTo>
                <a:cubicBezTo>
                  <a:pt x="10425" y="8374"/>
                  <a:pt x="10446" y="8373"/>
                  <a:pt x="10446" y="8446"/>
                </a:cubicBezTo>
                <a:cubicBezTo>
                  <a:pt x="10446" y="8516"/>
                  <a:pt x="10414" y="8548"/>
                  <a:pt x="10382" y="8572"/>
                </a:cubicBezTo>
                <a:cubicBezTo>
                  <a:pt x="10333" y="8609"/>
                  <a:pt x="10317" y="8604"/>
                  <a:pt x="10255" y="8604"/>
                </a:cubicBezTo>
                <a:cubicBezTo>
                  <a:pt x="10210" y="8604"/>
                  <a:pt x="10110" y="8572"/>
                  <a:pt x="10128" y="8509"/>
                </a:cubicBezTo>
                <a:cubicBezTo>
                  <a:pt x="10139" y="8488"/>
                  <a:pt x="10149" y="8467"/>
                  <a:pt x="10160" y="8446"/>
                </a:cubicBezTo>
              </a:path>
              <a:path w="2541" h="1811">
                <a:moveTo>
                  <a:pt x="10604" y="7969"/>
                </a:moveTo>
                <a:cubicBezTo>
                  <a:pt x="10654" y="7986"/>
                  <a:pt x="10625" y="8016"/>
                  <a:pt x="10668" y="8064"/>
                </a:cubicBezTo>
                <a:cubicBezTo>
                  <a:pt x="10736" y="8139"/>
                  <a:pt x="10756" y="8226"/>
                  <a:pt x="10795" y="8318"/>
                </a:cubicBezTo>
                <a:cubicBezTo>
                  <a:pt x="10830" y="8399"/>
                  <a:pt x="10851" y="8514"/>
                  <a:pt x="10827" y="8604"/>
                </a:cubicBezTo>
                <a:cubicBezTo>
                  <a:pt x="10811" y="8666"/>
                  <a:pt x="10742" y="8749"/>
                  <a:pt x="10700" y="8795"/>
                </a:cubicBezTo>
                <a:cubicBezTo>
                  <a:pt x="10689" y="8805"/>
                  <a:pt x="10679" y="8816"/>
                  <a:pt x="10668" y="8826"/>
                </a:cubicBezTo>
              </a:path>
              <a:path w="2541" h="1811">
                <a:moveTo>
                  <a:pt x="8541" y="7842"/>
                </a:moveTo>
                <a:cubicBezTo>
                  <a:pt x="8488" y="7895"/>
                  <a:pt x="8450" y="7935"/>
                  <a:pt x="8414" y="8001"/>
                </a:cubicBezTo>
                <a:cubicBezTo>
                  <a:pt x="8363" y="8097"/>
                  <a:pt x="8303" y="8210"/>
                  <a:pt x="8287" y="8318"/>
                </a:cubicBezTo>
                <a:cubicBezTo>
                  <a:pt x="8272" y="8421"/>
                  <a:pt x="8320" y="8584"/>
                  <a:pt x="8382" y="8668"/>
                </a:cubicBezTo>
                <a:cubicBezTo>
                  <a:pt x="8433" y="8736"/>
                  <a:pt x="8512" y="8798"/>
                  <a:pt x="8572" y="88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nk 8"/>
          <p:cNvSpPr/>
          <p:nvPr/>
        </p:nvSpPr>
        <p:spPr>
          <a:xfrm>
            <a:off x="4754520" y="2766960"/>
            <a:ext cx="1063800" cy="639720"/>
          </a:xfrm>
          <a:custGeom>
            <a:avLst/>
            <a:gdLst/>
            <a:ahLst/>
            <a:rect l="l" t="t" r="r" b="b"/>
            <a:pathLst>
              <a:path w="2954" h="1779">
                <a:moveTo>
                  <a:pt x="13652" y="7842"/>
                </a:moveTo>
                <a:cubicBezTo>
                  <a:pt x="13647" y="7844"/>
                  <a:pt x="13531" y="7901"/>
                  <a:pt x="13526" y="7906"/>
                </a:cubicBezTo>
                <a:cubicBezTo>
                  <a:pt x="13454" y="7971"/>
                  <a:pt x="13350" y="8065"/>
                  <a:pt x="13303" y="8160"/>
                </a:cubicBezTo>
                <a:cubicBezTo>
                  <a:pt x="13235" y="8297"/>
                  <a:pt x="13213" y="8455"/>
                  <a:pt x="13208" y="8604"/>
                </a:cubicBezTo>
                <a:cubicBezTo>
                  <a:pt x="13203" y="8756"/>
                  <a:pt x="13259" y="8808"/>
                  <a:pt x="13335" y="8922"/>
                </a:cubicBezTo>
                <a:cubicBezTo>
                  <a:pt x="13367" y="8985"/>
                  <a:pt x="13378" y="9006"/>
                  <a:pt x="13430" y="9017"/>
                </a:cubicBezTo>
              </a:path>
              <a:path w="2954" h="1779">
                <a:moveTo>
                  <a:pt x="15780" y="7715"/>
                </a:moveTo>
                <a:cubicBezTo>
                  <a:pt x="15821" y="7689"/>
                  <a:pt x="15823" y="7698"/>
                  <a:pt x="15875" y="7747"/>
                </a:cubicBezTo>
                <a:cubicBezTo>
                  <a:pt x="15949" y="7816"/>
                  <a:pt x="16024" y="7941"/>
                  <a:pt x="16066" y="8033"/>
                </a:cubicBezTo>
                <a:cubicBezTo>
                  <a:pt x="16123" y="8158"/>
                  <a:pt x="16147" y="8314"/>
                  <a:pt x="16161" y="8446"/>
                </a:cubicBezTo>
                <a:cubicBezTo>
                  <a:pt x="16174" y="8569"/>
                  <a:pt x="16112" y="8714"/>
                  <a:pt x="16066" y="8826"/>
                </a:cubicBezTo>
                <a:cubicBezTo>
                  <a:pt x="16029" y="8918"/>
                  <a:pt x="15987" y="8996"/>
                  <a:pt x="15938" y="9080"/>
                </a:cubicBezTo>
              </a:path>
              <a:path w="2954" h="1779">
                <a:moveTo>
                  <a:pt x="13938" y="8223"/>
                </a:moveTo>
                <a:cubicBezTo>
                  <a:pt x="13927" y="8223"/>
                  <a:pt x="13917" y="8223"/>
                  <a:pt x="13906" y="8223"/>
                </a:cubicBezTo>
                <a:cubicBezTo>
                  <a:pt x="13941" y="8270"/>
                  <a:pt x="13927" y="8273"/>
                  <a:pt x="13970" y="8287"/>
                </a:cubicBezTo>
                <a:cubicBezTo>
                  <a:pt x="13985" y="8344"/>
                  <a:pt x="14006" y="8393"/>
                  <a:pt x="14034" y="8446"/>
                </a:cubicBezTo>
                <a:cubicBezTo>
                  <a:pt x="14068" y="8510"/>
                  <a:pt x="14108" y="8599"/>
                  <a:pt x="14129" y="8668"/>
                </a:cubicBezTo>
                <a:cubicBezTo>
                  <a:pt x="14141" y="8708"/>
                  <a:pt x="14156" y="8756"/>
                  <a:pt x="14160" y="8795"/>
                </a:cubicBezTo>
                <a:cubicBezTo>
                  <a:pt x="14160" y="8826"/>
                  <a:pt x="14160" y="8837"/>
                  <a:pt x="14192" y="8826"/>
                </a:cubicBezTo>
              </a:path>
              <a:path w="2954" h="1779">
                <a:moveTo>
                  <a:pt x="14224" y="8192"/>
                </a:moveTo>
                <a:cubicBezTo>
                  <a:pt x="14187" y="8216"/>
                  <a:pt x="14162" y="8316"/>
                  <a:pt x="14129" y="8382"/>
                </a:cubicBezTo>
                <a:cubicBezTo>
                  <a:pt x="14082" y="8476"/>
                  <a:pt x="14049" y="8574"/>
                  <a:pt x="14002" y="8668"/>
                </a:cubicBezTo>
                <a:cubicBezTo>
                  <a:pt x="13964" y="8744"/>
                  <a:pt x="13939" y="8814"/>
                  <a:pt x="13906" y="8890"/>
                </a:cubicBezTo>
              </a:path>
              <a:path w="2954" h="1779">
                <a:moveTo>
                  <a:pt x="14605" y="8636"/>
                </a:moveTo>
                <a:cubicBezTo>
                  <a:pt x="14605" y="8723"/>
                  <a:pt x="14593" y="8778"/>
                  <a:pt x="14573" y="8858"/>
                </a:cubicBezTo>
                <a:cubicBezTo>
                  <a:pt x="14564" y="8894"/>
                  <a:pt x="14597" y="8921"/>
                  <a:pt x="14605" y="8954"/>
                </a:cubicBezTo>
              </a:path>
              <a:path w="2954" h="1779">
                <a:moveTo>
                  <a:pt x="14954" y="8192"/>
                </a:moveTo>
                <a:cubicBezTo>
                  <a:pt x="14954" y="8273"/>
                  <a:pt x="14934" y="8340"/>
                  <a:pt x="14922" y="8414"/>
                </a:cubicBezTo>
                <a:cubicBezTo>
                  <a:pt x="14901" y="8549"/>
                  <a:pt x="14919" y="8711"/>
                  <a:pt x="14954" y="8826"/>
                </a:cubicBezTo>
                <a:cubicBezTo>
                  <a:pt x="14954" y="8837"/>
                  <a:pt x="14954" y="8847"/>
                  <a:pt x="14954" y="8858"/>
                </a:cubicBezTo>
                <a:cubicBezTo>
                  <a:pt x="15017" y="8842"/>
                  <a:pt x="15027" y="8817"/>
                  <a:pt x="15050" y="8763"/>
                </a:cubicBezTo>
                <a:cubicBezTo>
                  <a:pt x="15086" y="8679"/>
                  <a:pt x="15085" y="8592"/>
                  <a:pt x="15113" y="8509"/>
                </a:cubicBezTo>
                <a:cubicBezTo>
                  <a:pt x="15130" y="8460"/>
                  <a:pt x="15124" y="8281"/>
                  <a:pt x="15145" y="8255"/>
                </a:cubicBezTo>
                <a:cubicBezTo>
                  <a:pt x="15176" y="8255"/>
                  <a:pt x="15186" y="8255"/>
                  <a:pt x="15145" y="8255"/>
                </a:cubicBezTo>
                <a:cubicBezTo>
                  <a:pt x="15189" y="8315"/>
                  <a:pt x="15176" y="8368"/>
                  <a:pt x="15176" y="8446"/>
                </a:cubicBezTo>
                <a:cubicBezTo>
                  <a:pt x="15176" y="8551"/>
                  <a:pt x="15204" y="8628"/>
                  <a:pt x="15208" y="8731"/>
                </a:cubicBezTo>
                <a:cubicBezTo>
                  <a:pt x="15216" y="8932"/>
                  <a:pt x="15220" y="9144"/>
                  <a:pt x="15176" y="9334"/>
                </a:cubicBezTo>
                <a:cubicBezTo>
                  <a:pt x="15162" y="9392"/>
                  <a:pt x="15173" y="9395"/>
                  <a:pt x="15145" y="9462"/>
                </a:cubicBezTo>
                <a:cubicBezTo>
                  <a:pt x="15087" y="9433"/>
                  <a:pt x="15081" y="9403"/>
                  <a:pt x="15081" y="9334"/>
                </a:cubicBezTo>
                <a:cubicBezTo>
                  <a:pt x="15081" y="9228"/>
                  <a:pt x="15079" y="9137"/>
                  <a:pt x="15113" y="9049"/>
                </a:cubicBezTo>
                <a:cubicBezTo>
                  <a:pt x="15148" y="8957"/>
                  <a:pt x="15181" y="8873"/>
                  <a:pt x="15240" y="8795"/>
                </a:cubicBezTo>
                <a:cubicBezTo>
                  <a:pt x="15270" y="8755"/>
                  <a:pt x="15293" y="8742"/>
                  <a:pt x="15335" y="87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Ink 9"/>
          <p:cNvSpPr/>
          <p:nvPr/>
        </p:nvSpPr>
        <p:spPr>
          <a:xfrm>
            <a:off x="6000840" y="2571840"/>
            <a:ext cx="1749240" cy="777960"/>
          </a:xfrm>
          <a:custGeom>
            <a:avLst/>
            <a:gdLst/>
            <a:ahLst/>
            <a:rect l="l" t="t" r="r" b="b"/>
            <a:pathLst>
              <a:path w="4858" h="2160">
                <a:moveTo>
                  <a:pt x="16700" y="8223"/>
                </a:moveTo>
                <a:cubicBezTo>
                  <a:pt x="16690" y="8234"/>
                  <a:pt x="16679" y="8244"/>
                  <a:pt x="16669" y="8255"/>
                </a:cubicBezTo>
                <a:cubicBezTo>
                  <a:pt x="16750" y="8276"/>
                  <a:pt x="16735" y="8261"/>
                  <a:pt x="16828" y="8255"/>
                </a:cubicBezTo>
                <a:cubicBezTo>
                  <a:pt x="16914" y="8250"/>
                  <a:pt x="16967" y="8274"/>
                  <a:pt x="17050" y="8287"/>
                </a:cubicBezTo>
                <a:cubicBezTo>
                  <a:pt x="17077" y="8291"/>
                  <a:pt x="17250" y="8287"/>
                  <a:pt x="17177" y="8287"/>
                </a:cubicBezTo>
              </a:path>
              <a:path w="4858" h="2160">
                <a:moveTo>
                  <a:pt x="16700" y="8636"/>
                </a:moveTo>
                <a:cubicBezTo>
                  <a:pt x="16824" y="8636"/>
                  <a:pt x="16943" y="8627"/>
                  <a:pt x="17050" y="8604"/>
                </a:cubicBezTo>
                <a:cubicBezTo>
                  <a:pt x="17106" y="8592"/>
                  <a:pt x="17182" y="8604"/>
                  <a:pt x="17240" y="8604"/>
                </a:cubicBezTo>
              </a:path>
              <a:path w="4858" h="2160">
                <a:moveTo>
                  <a:pt x="18224" y="7176"/>
                </a:moveTo>
                <a:cubicBezTo>
                  <a:pt x="18171" y="7209"/>
                  <a:pt x="18119" y="7250"/>
                  <a:pt x="18066" y="7302"/>
                </a:cubicBezTo>
                <a:cubicBezTo>
                  <a:pt x="17983" y="7385"/>
                  <a:pt x="17867" y="7486"/>
                  <a:pt x="17812" y="7588"/>
                </a:cubicBezTo>
                <a:cubicBezTo>
                  <a:pt x="17753" y="7698"/>
                  <a:pt x="17672" y="7842"/>
                  <a:pt x="17653" y="7969"/>
                </a:cubicBezTo>
                <a:cubicBezTo>
                  <a:pt x="17634" y="8097"/>
                  <a:pt x="17621" y="8218"/>
                  <a:pt x="17621" y="8350"/>
                </a:cubicBezTo>
                <a:cubicBezTo>
                  <a:pt x="17621" y="8458"/>
                  <a:pt x="17618" y="8537"/>
                  <a:pt x="17653" y="8636"/>
                </a:cubicBezTo>
                <a:cubicBezTo>
                  <a:pt x="17670" y="8684"/>
                  <a:pt x="17689" y="8756"/>
                  <a:pt x="17716" y="8795"/>
                </a:cubicBezTo>
                <a:cubicBezTo>
                  <a:pt x="17752" y="8846"/>
                  <a:pt x="17820" y="8909"/>
                  <a:pt x="17875" y="8922"/>
                </a:cubicBezTo>
                <a:cubicBezTo>
                  <a:pt x="17927" y="8934"/>
                  <a:pt x="17932" y="8913"/>
                  <a:pt x="17970" y="8890"/>
                </a:cubicBezTo>
              </a:path>
              <a:path w="4858" h="2160">
                <a:moveTo>
                  <a:pt x="18034" y="8096"/>
                </a:moveTo>
                <a:cubicBezTo>
                  <a:pt x="18119" y="8096"/>
                  <a:pt x="18178" y="8100"/>
                  <a:pt x="18256" y="8064"/>
                </a:cubicBezTo>
                <a:cubicBezTo>
                  <a:pt x="18331" y="8029"/>
                  <a:pt x="18397" y="8011"/>
                  <a:pt x="18478" y="8001"/>
                </a:cubicBezTo>
              </a:path>
              <a:path w="4858" h="2160">
                <a:moveTo>
                  <a:pt x="19272" y="7430"/>
                </a:moveTo>
                <a:cubicBezTo>
                  <a:pt x="19318" y="7395"/>
                  <a:pt x="19349" y="7373"/>
                  <a:pt x="19368" y="7430"/>
                </a:cubicBezTo>
                <a:cubicBezTo>
                  <a:pt x="19345" y="7458"/>
                  <a:pt x="19321" y="7521"/>
                  <a:pt x="19272" y="7556"/>
                </a:cubicBezTo>
                <a:cubicBezTo>
                  <a:pt x="19228" y="7588"/>
                  <a:pt x="19134" y="7617"/>
                  <a:pt x="19082" y="7620"/>
                </a:cubicBezTo>
                <a:cubicBezTo>
                  <a:pt x="18988" y="7626"/>
                  <a:pt x="19003" y="7629"/>
                  <a:pt x="18923" y="7620"/>
                </a:cubicBezTo>
                <a:cubicBezTo>
                  <a:pt x="18890" y="7616"/>
                  <a:pt x="18883" y="7606"/>
                  <a:pt x="18860" y="7588"/>
                </a:cubicBezTo>
                <a:cubicBezTo>
                  <a:pt x="18860" y="7646"/>
                  <a:pt x="18837" y="7664"/>
                  <a:pt x="18828" y="7715"/>
                </a:cubicBezTo>
                <a:cubicBezTo>
                  <a:pt x="18814" y="7794"/>
                  <a:pt x="18796" y="7856"/>
                  <a:pt x="18796" y="7938"/>
                </a:cubicBezTo>
                <a:cubicBezTo>
                  <a:pt x="18796" y="8027"/>
                  <a:pt x="18764" y="8098"/>
                  <a:pt x="18764" y="8192"/>
                </a:cubicBezTo>
                <a:cubicBezTo>
                  <a:pt x="18764" y="8223"/>
                  <a:pt x="18764" y="8234"/>
                  <a:pt x="18764" y="8255"/>
                </a:cubicBezTo>
                <a:cubicBezTo>
                  <a:pt x="18774" y="8252"/>
                  <a:pt x="18853" y="8202"/>
                  <a:pt x="18860" y="8192"/>
                </a:cubicBezTo>
                <a:cubicBezTo>
                  <a:pt x="18893" y="8143"/>
                  <a:pt x="18906" y="8129"/>
                  <a:pt x="18955" y="8096"/>
                </a:cubicBezTo>
                <a:cubicBezTo>
                  <a:pt x="19006" y="8061"/>
                  <a:pt x="19028" y="8060"/>
                  <a:pt x="19082" y="8096"/>
                </a:cubicBezTo>
                <a:cubicBezTo>
                  <a:pt x="19136" y="8132"/>
                  <a:pt x="19225" y="8224"/>
                  <a:pt x="19240" y="8287"/>
                </a:cubicBezTo>
                <a:cubicBezTo>
                  <a:pt x="19255" y="8353"/>
                  <a:pt x="19293" y="8434"/>
                  <a:pt x="19272" y="8509"/>
                </a:cubicBezTo>
                <a:cubicBezTo>
                  <a:pt x="19249" y="8589"/>
                  <a:pt x="19231" y="8693"/>
                  <a:pt x="19177" y="8763"/>
                </a:cubicBezTo>
                <a:cubicBezTo>
                  <a:pt x="19129" y="8825"/>
                  <a:pt x="19066" y="8885"/>
                  <a:pt x="18986" y="8890"/>
                </a:cubicBezTo>
                <a:cubicBezTo>
                  <a:pt x="18929" y="8894"/>
                  <a:pt x="18902" y="8896"/>
                  <a:pt x="18860" y="8858"/>
                </a:cubicBezTo>
                <a:cubicBezTo>
                  <a:pt x="18808" y="8812"/>
                  <a:pt x="18834" y="8765"/>
                  <a:pt x="18828" y="8700"/>
                </a:cubicBezTo>
              </a:path>
              <a:path w="4858" h="2160">
                <a:moveTo>
                  <a:pt x="19558" y="8477"/>
                </a:moveTo>
                <a:cubicBezTo>
                  <a:pt x="19602" y="8535"/>
                  <a:pt x="19616" y="8591"/>
                  <a:pt x="19622" y="8668"/>
                </a:cubicBezTo>
                <a:cubicBezTo>
                  <a:pt x="19628" y="8741"/>
                  <a:pt x="19622" y="8817"/>
                  <a:pt x="19622" y="8890"/>
                </a:cubicBezTo>
              </a:path>
              <a:path w="4858" h="2160">
                <a:moveTo>
                  <a:pt x="19876" y="7969"/>
                </a:moveTo>
                <a:cubicBezTo>
                  <a:pt x="19946" y="7917"/>
                  <a:pt x="19935" y="7947"/>
                  <a:pt x="20002" y="7969"/>
                </a:cubicBezTo>
                <a:cubicBezTo>
                  <a:pt x="20036" y="7980"/>
                  <a:pt x="20138" y="7950"/>
                  <a:pt x="20161" y="7938"/>
                </a:cubicBezTo>
                <a:cubicBezTo>
                  <a:pt x="20172" y="7927"/>
                  <a:pt x="20182" y="7917"/>
                  <a:pt x="20193" y="7906"/>
                </a:cubicBezTo>
              </a:path>
              <a:path w="4858" h="2160">
                <a:moveTo>
                  <a:pt x="20415" y="7779"/>
                </a:moveTo>
                <a:cubicBezTo>
                  <a:pt x="20434" y="7702"/>
                  <a:pt x="20449" y="7702"/>
                  <a:pt x="20510" y="7652"/>
                </a:cubicBezTo>
                <a:cubicBezTo>
                  <a:pt x="20555" y="7615"/>
                  <a:pt x="20613" y="7540"/>
                  <a:pt x="20669" y="7525"/>
                </a:cubicBezTo>
                <a:cubicBezTo>
                  <a:pt x="20707" y="7515"/>
                  <a:pt x="20806" y="7513"/>
                  <a:pt x="20828" y="7556"/>
                </a:cubicBezTo>
                <a:cubicBezTo>
                  <a:pt x="20848" y="7595"/>
                  <a:pt x="20807" y="7714"/>
                  <a:pt x="20796" y="7747"/>
                </a:cubicBezTo>
                <a:cubicBezTo>
                  <a:pt x="20773" y="7815"/>
                  <a:pt x="20686" y="7874"/>
                  <a:pt x="20669" y="7938"/>
                </a:cubicBezTo>
                <a:cubicBezTo>
                  <a:pt x="20655" y="7989"/>
                  <a:pt x="20559" y="8009"/>
                  <a:pt x="20606" y="8033"/>
                </a:cubicBezTo>
                <a:cubicBezTo>
                  <a:pt x="20637" y="8049"/>
                  <a:pt x="20666" y="7960"/>
                  <a:pt x="20701" y="7938"/>
                </a:cubicBezTo>
                <a:cubicBezTo>
                  <a:pt x="20730" y="7919"/>
                  <a:pt x="20819" y="7883"/>
                  <a:pt x="20860" y="7906"/>
                </a:cubicBezTo>
                <a:cubicBezTo>
                  <a:pt x="20934" y="7947"/>
                  <a:pt x="20933" y="8001"/>
                  <a:pt x="20955" y="8064"/>
                </a:cubicBezTo>
                <a:cubicBezTo>
                  <a:pt x="20993" y="8170"/>
                  <a:pt x="21001" y="8242"/>
                  <a:pt x="20955" y="8350"/>
                </a:cubicBezTo>
                <a:cubicBezTo>
                  <a:pt x="20927" y="8417"/>
                  <a:pt x="20876" y="8488"/>
                  <a:pt x="20828" y="8541"/>
                </a:cubicBezTo>
                <a:cubicBezTo>
                  <a:pt x="20809" y="8562"/>
                  <a:pt x="20694" y="8616"/>
                  <a:pt x="20669" y="8604"/>
                </a:cubicBezTo>
                <a:cubicBezTo>
                  <a:pt x="20641" y="8575"/>
                  <a:pt x="20635" y="8564"/>
                  <a:pt x="20606" y="8572"/>
                </a:cubicBezTo>
              </a:path>
              <a:path w="4858" h="2160">
                <a:moveTo>
                  <a:pt x="21018" y="7144"/>
                </a:moveTo>
                <a:cubicBezTo>
                  <a:pt x="21076" y="7177"/>
                  <a:pt x="21127" y="7207"/>
                  <a:pt x="21177" y="7271"/>
                </a:cubicBezTo>
                <a:cubicBezTo>
                  <a:pt x="21252" y="7368"/>
                  <a:pt x="21354" y="7539"/>
                  <a:pt x="21400" y="7652"/>
                </a:cubicBezTo>
                <a:cubicBezTo>
                  <a:pt x="21453" y="7783"/>
                  <a:pt x="21510" y="7987"/>
                  <a:pt x="21526" y="8128"/>
                </a:cubicBezTo>
                <a:cubicBezTo>
                  <a:pt x="21544" y="8285"/>
                  <a:pt x="21522" y="8457"/>
                  <a:pt x="21463" y="8604"/>
                </a:cubicBezTo>
                <a:cubicBezTo>
                  <a:pt x="21391" y="8786"/>
                  <a:pt x="21276" y="8923"/>
                  <a:pt x="21177" y="9080"/>
                </a:cubicBezTo>
                <a:cubicBezTo>
                  <a:pt x="21115" y="9206"/>
                  <a:pt x="21096" y="9247"/>
                  <a:pt x="21018" y="93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Ink 10"/>
          <p:cNvSpPr/>
          <p:nvPr/>
        </p:nvSpPr>
        <p:spPr>
          <a:xfrm>
            <a:off x="1965240" y="2617920"/>
            <a:ext cx="2984760" cy="79200"/>
          </a:xfrm>
          <a:custGeom>
            <a:avLst/>
            <a:gdLst/>
            <a:ahLst/>
            <a:rect l="l" t="t" r="r" b="b"/>
            <a:pathLst>
              <a:path w="8288" h="223">
                <a:moveTo>
                  <a:pt x="5461" y="7271"/>
                </a:moveTo>
                <a:cubicBezTo>
                  <a:pt x="6371" y="7271"/>
                  <a:pt x="7264" y="7302"/>
                  <a:pt x="8160" y="7302"/>
                </a:cubicBezTo>
                <a:cubicBezTo>
                  <a:pt x="8574" y="7302"/>
                  <a:pt x="8991" y="7313"/>
                  <a:pt x="9398" y="7334"/>
                </a:cubicBezTo>
                <a:cubicBezTo>
                  <a:pt x="10562" y="7394"/>
                  <a:pt x="11834" y="7420"/>
                  <a:pt x="12986" y="7366"/>
                </a:cubicBezTo>
                <a:cubicBezTo>
                  <a:pt x="13052" y="7363"/>
                  <a:pt x="13116" y="7330"/>
                  <a:pt x="13176" y="7334"/>
                </a:cubicBezTo>
                <a:cubicBezTo>
                  <a:pt x="13247" y="7339"/>
                  <a:pt x="13318" y="7366"/>
                  <a:pt x="13398" y="7366"/>
                </a:cubicBezTo>
                <a:cubicBezTo>
                  <a:pt x="13461" y="7366"/>
                  <a:pt x="13482" y="7320"/>
                  <a:pt x="13526" y="7366"/>
                </a:cubicBezTo>
                <a:cubicBezTo>
                  <a:pt x="13559" y="7401"/>
                  <a:pt x="13483" y="7510"/>
                  <a:pt x="13589" y="7493"/>
                </a:cubicBezTo>
                <a:cubicBezTo>
                  <a:pt x="13671" y="7480"/>
                  <a:pt x="13648" y="7399"/>
                  <a:pt x="13652" y="7334"/>
                </a:cubicBezTo>
                <a:cubicBezTo>
                  <a:pt x="13642" y="7323"/>
                  <a:pt x="13631" y="7313"/>
                  <a:pt x="13621" y="7302"/>
                </a:cubicBezTo>
                <a:cubicBezTo>
                  <a:pt x="13604" y="7343"/>
                  <a:pt x="13487" y="7324"/>
                  <a:pt x="13526" y="7430"/>
                </a:cubicBezTo>
                <a:cubicBezTo>
                  <a:pt x="13540" y="7469"/>
                  <a:pt x="13560" y="7521"/>
                  <a:pt x="13621" y="7493"/>
                </a:cubicBezTo>
                <a:cubicBezTo>
                  <a:pt x="13666" y="7472"/>
                  <a:pt x="13716" y="7436"/>
                  <a:pt x="13716" y="7366"/>
                </a:cubicBezTo>
                <a:cubicBezTo>
                  <a:pt x="13716" y="7305"/>
                  <a:pt x="13679" y="7359"/>
                  <a:pt x="13652" y="7271"/>
                </a:cubicBezTo>
                <a:cubicBezTo>
                  <a:pt x="13630" y="7309"/>
                  <a:pt x="13493" y="7346"/>
                  <a:pt x="13557" y="7430"/>
                </a:cubicBezTo>
                <a:cubicBezTo>
                  <a:pt x="13599" y="7485"/>
                  <a:pt x="13634" y="7467"/>
                  <a:pt x="13652" y="7430"/>
                </a:cubicBezTo>
                <a:cubicBezTo>
                  <a:pt x="13681" y="7371"/>
                  <a:pt x="13645" y="7331"/>
                  <a:pt x="13652" y="7302"/>
                </a:cubicBezTo>
                <a:cubicBezTo>
                  <a:pt x="13631" y="7345"/>
                  <a:pt x="13608" y="7391"/>
                  <a:pt x="13589" y="7430"/>
                </a:cubicBezTo>
                <a:cubicBezTo>
                  <a:pt x="13642" y="7401"/>
                  <a:pt x="13697" y="7370"/>
                  <a:pt x="13748" y="73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Ink 11"/>
          <p:cNvSpPr/>
          <p:nvPr/>
        </p:nvSpPr>
        <p:spPr>
          <a:xfrm>
            <a:off x="1050840" y="3440160"/>
            <a:ext cx="2949840" cy="1224000"/>
          </a:xfrm>
          <a:custGeom>
            <a:avLst/>
            <a:gdLst/>
            <a:ahLst/>
            <a:rect l="l" t="t" r="r" b="b"/>
            <a:pathLst>
              <a:path w="8192" h="3398">
                <a:moveTo>
                  <a:pt x="3715" y="10096"/>
                </a:moveTo>
                <a:cubicBezTo>
                  <a:pt x="3715" y="10013"/>
                  <a:pt x="3715" y="10146"/>
                  <a:pt x="3715" y="10160"/>
                </a:cubicBezTo>
                <a:cubicBezTo>
                  <a:pt x="3715" y="10274"/>
                  <a:pt x="3699" y="10367"/>
                  <a:pt x="3683" y="10478"/>
                </a:cubicBezTo>
                <a:cubicBezTo>
                  <a:pt x="3668" y="10584"/>
                  <a:pt x="3682" y="10672"/>
                  <a:pt x="3651" y="10763"/>
                </a:cubicBezTo>
                <a:cubicBezTo>
                  <a:pt x="3651" y="10795"/>
                  <a:pt x="3651" y="10806"/>
                  <a:pt x="3651" y="10827"/>
                </a:cubicBezTo>
              </a:path>
              <a:path w="8192" h="3398">
                <a:moveTo>
                  <a:pt x="3143" y="10986"/>
                </a:moveTo>
                <a:cubicBezTo>
                  <a:pt x="3159" y="11028"/>
                  <a:pt x="3160" y="11067"/>
                  <a:pt x="3175" y="11112"/>
                </a:cubicBezTo>
                <a:cubicBezTo>
                  <a:pt x="3205" y="11203"/>
                  <a:pt x="3257" y="11242"/>
                  <a:pt x="3302" y="11303"/>
                </a:cubicBezTo>
                <a:cubicBezTo>
                  <a:pt x="3356" y="11376"/>
                  <a:pt x="3390" y="11439"/>
                  <a:pt x="3492" y="11462"/>
                </a:cubicBezTo>
                <a:cubicBezTo>
                  <a:pt x="3600" y="11486"/>
                  <a:pt x="3644" y="11475"/>
                  <a:pt x="3746" y="11462"/>
                </a:cubicBezTo>
                <a:cubicBezTo>
                  <a:pt x="3873" y="11445"/>
                  <a:pt x="3957" y="11421"/>
                  <a:pt x="4064" y="11335"/>
                </a:cubicBezTo>
                <a:cubicBezTo>
                  <a:pt x="4172" y="11248"/>
                  <a:pt x="4250" y="11158"/>
                  <a:pt x="4318" y="11049"/>
                </a:cubicBezTo>
                <a:cubicBezTo>
                  <a:pt x="4398" y="10920"/>
                  <a:pt x="4487" y="10810"/>
                  <a:pt x="4540" y="10668"/>
                </a:cubicBezTo>
                <a:cubicBezTo>
                  <a:pt x="4583" y="10551"/>
                  <a:pt x="4593" y="10379"/>
                  <a:pt x="4572" y="10255"/>
                </a:cubicBezTo>
                <a:cubicBezTo>
                  <a:pt x="4554" y="10147"/>
                  <a:pt x="4500" y="10001"/>
                  <a:pt x="4445" y="9906"/>
                </a:cubicBezTo>
                <a:cubicBezTo>
                  <a:pt x="4363" y="9765"/>
                  <a:pt x="4277" y="9737"/>
                  <a:pt x="4159" y="9652"/>
                </a:cubicBezTo>
                <a:cubicBezTo>
                  <a:pt x="4035" y="9563"/>
                  <a:pt x="4003" y="9557"/>
                  <a:pt x="3842" y="9557"/>
                </a:cubicBezTo>
                <a:cubicBezTo>
                  <a:pt x="3740" y="9557"/>
                  <a:pt x="3580" y="9595"/>
                  <a:pt x="3492" y="9652"/>
                </a:cubicBezTo>
                <a:cubicBezTo>
                  <a:pt x="3385" y="9721"/>
                  <a:pt x="3256" y="9837"/>
                  <a:pt x="3175" y="9938"/>
                </a:cubicBezTo>
                <a:cubicBezTo>
                  <a:pt x="3072" y="10066"/>
                  <a:pt x="3004" y="10197"/>
                  <a:pt x="2953" y="10350"/>
                </a:cubicBezTo>
                <a:cubicBezTo>
                  <a:pt x="2916" y="10461"/>
                  <a:pt x="2896" y="10614"/>
                  <a:pt x="2921" y="10732"/>
                </a:cubicBezTo>
                <a:cubicBezTo>
                  <a:pt x="2944" y="10839"/>
                  <a:pt x="3013" y="10936"/>
                  <a:pt x="3080" y="11017"/>
                </a:cubicBezTo>
                <a:cubicBezTo>
                  <a:pt x="3154" y="11106"/>
                  <a:pt x="3270" y="11148"/>
                  <a:pt x="3366" y="11208"/>
                </a:cubicBezTo>
                <a:cubicBezTo>
                  <a:pt x="3418" y="11240"/>
                  <a:pt x="3467" y="11274"/>
                  <a:pt x="3524" y="11303"/>
                </a:cubicBezTo>
              </a:path>
              <a:path w="8192" h="3398">
                <a:moveTo>
                  <a:pt x="6032" y="10096"/>
                </a:moveTo>
                <a:cubicBezTo>
                  <a:pt x="6032" y="10209"/>
                  <a:pt x="6014" y="10309"/>
                  <a:pt x="6001" y="10414"/>
                </a:cubicBezTo>
                <a:cubicBezTo>
                  <a:pt x="5988" y="10517"/>
                  <a:pt x="5973" y="10630"/>
                  <a:pt x="5969" y="10732"/>
                </a:cubicBezTo>
                <a:cubicBezTo>
                  <a:pt x="5965" y="10825"/>
                  <a:pt x="5958" y="10957"/>
                  <a:pt x="5937" y="11049"/>
                </a:cubicBezTo>
                <a:cubicBezTo>
                  <a:pt x="5907" y="11110"/>
                  <a:pt x="5897" y="11129"/>
                  <a:pt x="5906" y="11176"/>
                </a:cubicBezTo>
              </a:path>
              <a:path w="8192" h="3398">
                <a:moveTo>
                  <a:pt x="7112" y="10446"/>
                </a:moveTo>
                <a:cubicBezTo>
                  <a:pt x="7112" y="10457"/>
                  <a:pt x="7112" y="10467"/>
                  <a:pt x="7112" y="10478"/>
                </a:cubicBezTo>
                <a:cubicBezTo>
                  <a:pt x="7087" y="10486"/>
                  <a:pt x="7056" y="10535"/>
                  <a:pt x="7048" y="10573"/>
                </a:cubicBezTo>
                <a:cubicBezTo>
                  <a:pt x="7033" y="10642"/>
                  <a:pt x="7021" y="10726"/>
                  <a:pt x="7017" y="10795"/>
                </a:cubicBezTo>
                <a:cubicBezTo>
                  <a:pt x="7013" y="10866"/>
                  <a:pt x="6985" y="10915"/>
                  <a:pt x="6985" y="10986"/>
                </a:cubicBezTo>
                <a:cubicBezTo>
                  <a:pt x="6985" y="11017"/>
                  <a:pt x="6985" y="11028"/>
                  <a:pt x="6985" y="11049"/>
                </a:cubicBezTo>
              </a:path>
              <a:path w="8192" h="3398">
                <a:moveTo>
                  <a:pt x="6794" y="10700"/>
                </a:moveTo>
                <a:cubicBezTo>
                  <a:pt x="6863" y="10714"/>
                  <a:pt x="6949" y="10714"/>
                  <a:pt x="7017" y="10732"/>
                </a:cubicBezTo>
                <a:cubicBezTo>
                  <a:pt x="7091" y="10752"/>
                  <a:pt x="7127" y="10763"/>
                  <a:pt x="7207" y="10763"/>
                </a:cubicBezTo>
              </a:path>
              <a:path w="8192" h="3398">
                <a:moveTo>
                  <a:pt x="7747" y="10350"/>
                </a:moveTo>
                <a:cubicBezTo>
                  <a:pt x="7761" y="10393"/>
                  <a:pt x="7792" y="10389"/>
                  <a:pt x="7810" y="10446"/>
                </a:cubicBezTo>
                <a:cubicBezTo>
                  <a:pt x="7834" y="10520"/>
                  <a:pt x="7864" y="10598"/>
                  <a:pt x="7906" y="10668"/>
                </a:cubicBezTo>
                <a:cubicBezTo>
                  <a:pt x="7975" y="10782"/>
                  <a:pt x="8029" y="10900"/>
                  <a:pt x="8096" y="11017"/>
                </a:cubicBezTo>
                <a:cubicBezTo>
                  <a:pt x="8139" y="11092"/>
                  <a:pt x="8164" y="11175"/>
                  <a:pt x="8223" y="11240"/>
                </a:cubicBezTo>
                <a:cubicBezTo>
                  <a:pt x="8265" y="11286"/>
                  <a:pt x="8272" y="11283"/>
                  <a:pt x="8287" y="11240"/>
                </a:cubicBezTo>
              </a:path>
              <a:path w="8192" h="3398">
                <a:moveTo>
                  <a:pt x="8287" y="10414"/>
                </a:moveTo>
                <a:cubicBezTo>
                  <a:pt x="8242" y="10488"/>
                  <a:pt x="8215" y="10525"/>
                  <a:pt x="8160" y="10604"/>
                </a:cubicBezTo>
                <a:cubicBezTo>
                  <a:pt x="8094" y="10698"/>
                  <a:pt x="8036" y="10798"/>
                  <a:pt x="7969" y="10890"/>
                </a:cubicBezTo>
                <a:cubicBezTo>
                  <a:pt x="7894" y="10993"/>
                  <a:pt x="7814" y="11100"/>
                  <a:pt x="7747" y="11208"/>
                </a:cubicBezTo>
                <a:cubicBezTo>
                  <a:pt x="7712" y="11277"/>
                  <a:pt x="7697" y="11302"/>
                  <a:pt x="7652" y="11335"/>
                </a:cubicBezTo>
              </a:path>
              <a:path w="8192" h="3398">
                <a:moveTo>
                  <a:pt x="5683" y="11748"/>
                </a:moveTo>
                <a:cubicBezTo>
                  <a:pt x="5768" y="11748"/>
                  <a:pt x="5828" y="11726"/>
                  <a:pt x="5906" y="11716"/>
                </a:cubicBezTo>
                <a:cubicBezTo>
                  <a:pt x="6010" y="11702"/>
                  <a:pt x="6121" y="11696"/>
                  <a:pt x="6223" y="11684"/>
                </a:cubicBezTo>
                <a:cubicBezTo>
                  <a:pt x="6349" y="11669"/>
                  <a:pt x="6480" y="11666"/>
                  <a:pt x="6604" y="11652"/>
                </a:cubicBezTo>
                <a:cubicBezTo>
                  <a:pt x="6751" y="11636"/>
                  <a:pt x="6902" y="11625"/>
                  <a:pt x="7048" y="11620"/>
                </a:cubicBezTo>
                <a:cubicBezTo>
                  <a:pt x="7191" y="11615"/>
                  <a:pt x="7323" y="11604"/>
                  <a:pt x="7461" y="11589"/>
                </a:cubicBezTo>
                <a:cubicBezTo>
                  <a:pt x="7588" y="11575"/>
                  <a:pt x="7722" y="11572"/>
                  <a:pt x="7842" y="11557"/>
                </a:cubicBezTo>
                <a:cubicBezTo>
                  <a:pt x="7989" y="11539"/>
                  <a:pt x="8075" y="11557"/>
                  <a:pt x="8223" y="11557"/>
                </a:cubicBezTo>
              </a:path>
              <a:path w="8192" h="3398">
                <a:moveTo>
                  <a:pt x="6572" y="12287"/>
                </a:moveTo>
                <a:cubicBezTo>
                  <a:pt x="6622" y="12275"/>
                  <a:pt x="6640" y="12245"/>
                  <a:pt x="6668" y="12224"/>
                </a:cubicBezTo>
                <a:cubicBezTo>
                  <a:pt x="6707" y="12194"/>
                  <a:pt x="6748" y="12138"/>
                  <a:pt x="6794" y="12128"/>
                </a:cubicBezTo>
                <a:cubicBezTo>
                  <a:pt x="6842" y="12118"/>
                  <a:pt x="6931" y="12075"/>
                  <a:pt x="6985" y="12097"/>
                </a:cubicBezTo>
                <a:cubicBezTo>
                  <a:pt x="7042" y="12120"/>
                  <a:pt x="7048" y="12134"/>
                  <a:pt x="7048" y="12192"/>
                </a:cubicBezTo>
                <a:cubicBezTo>
                  <a:pt x="7048" y="12275"/>
                  <a:pt x="6991" y="12292"/>
                  <a:pt x="6953" y="12351"/>
                </a:cubicBezTo>
                <a:cubicBezTo>
                  <a:pt x="6907" y="12422"/>
                  <a:pt x="6880" y="12508"/>
                  <a:pt x="6826" y="12573"/>
                </a:cubicBezTo>
                <a:cubicBezTo>
                  <a:pt x="6771" y="12639"/>
                  <a:pt x="6712" y="12690"/>
                  <a:pt x="6668" y="12764"/>
                </a:cubicBezTo>
                <a:cubicBezTo>
                  <a:pt x="6629" y="12829"/>
                  <a:pt x="6593" y="12868"/>
                  <a:pt x="6540" y="12922"/>
                </a:cubicBezTo>
                <a:cubicBezTo>
                  <a:pt x="6530" y="12933"/>
                  <a:pt x="6519" y="12943"/>
                  <a:pt x="6509" y="12954"/>
                </a:cubicBezTo>
                <a:cubicBezTo>
                  <a:pt x="6509" y="12877"/>
                  <a:pt x="6521" y="12893"/>
                  <a:pt x="6572" y="12859"/>
                </a:cubicBezTo>
                <a:cubicBezTo>
                  <a:pt x="6614" y="12831"/>
                  <a:pt x="6648" y="12801"/>
                  <a:pt x="6699" y="12795"/>
                </a:cubicBezTo>
                <a:cubicBezTo>
                  <a:pt x="6756" y="12789"/>
                  <a:pt x="6776" y="12836"/>
                  <a:pt x="6794" y="12859"/>
                </a:cubicBezTo>
                <a:cubicBezTo>
                  <a:pt x="6823" y="12897"/>
                  <a:pt x="6882" y="12940"/>
                  <a:pt x="6922" y="12954"/>
                </a:cubicBezTo>
                <a:cubicBezTo>
                  <a:pt x="6976" y="12972"/>
                  <a:pt x="7069" y="12951"/>
                  <a:pt x="7112" y="12922"/>
                </a:cubicBezTo>
                <a:cubicBezTo>
                  <a:pt x="7150" y="12884"/>
                  <a:pt x="7164" y="12866"/>
                  <a:pt x="7176" y="12827"/>
                </a:cubicBezTo>
              </a:path>
              <a:path w="8192" h="3398">
                <a:moveTo>
                  <a:pt x="8446" y="11716"/>
                </a:moveTo>
                <a:cubicBezTo>
                  <a:pt x="8504" y="11716"/>
                  <a:pt x="8521" y="11742"/>
                  <a:pt x="8572" y="11748"/>
                </a:cubicBezTo>
                <a:cubicBezTo>
                  <a:pt x="8641" y="11756"/>
                  <a:pt x="8808" y="11770"/>
                  <a:pt x="8826" y="11716"/>
                </a:cubicBezTo>
              </a:path>
              <a:path w="8192" h="3398">
                <a:moveTo>
                  <a:pt x="8414" y="12065"/>
                </a:moveTo>
                <a:cubicBezTo>
                  <a:pt x="8484" y="12065"/>
                  <a:pt x="8504" y="12080"/>
                  <a:pt x="8572" y="12097"/>
                </a:cubicBezTo>
                <a:cubicBezTo>
                  <a:pt x="8659" y="12119"/>
                  <a:pt x="8717" y="12082"/>
                  <a:pt x="8795" y="12128"/>
                </a:cubicBezTo>
              </a:path>
              <a:path w="8192" h="3398">
                <a:moveTo>
                  <a:pt x="9176" y="11366"/>
                </a:moveTo>
                <a:cubicBezTo>
                  <a:pt x="9187" y="11366"/>
                  <a:pt x="9197" y="11366"/>
                  <a:pt x="9208" y="11366"/>
                </a:cubicBezTo>
                <a:cubicBezTo>
                  <a:pt x="9220" y="11403"/>
                  <a:pt x="9251" y="11424"/>
                  <a:pt x="9303" y="11430"/>
                </a:cubicBezTo>
                <a:cubicBezTo>
                  <a:pt x="9374" y="11438"/>
                  <a:pt x="9417" y="11462"/>
                  <a:pt x="9493" y="11462"/>
                </a:cubicBezTo>
                <a:cubicBezTo>
                  <a:pt x="9525" y="11462"/>
                  <a:pt x="9556" y="11462"/>
                  <a:pt x="9588" y="11462"/>
                </a:cubicBezTo>
              </a:path>
              <a:path w="8192" h="3398">
                <a:moveTo>
                  <a:pt x="9747" y="11240"/>
                </a:moveTo>
                <a:cubicBezTo>
                  <a:pt x="9782" y="11193"/>
                  <a:pt x="9796" y="11157"/>
                  <a:pt x="9842" y="11112"/>
                </a:cubicBezTo>
                <a:cubicBezTo>
                  <a:pt x="9883" y="11072"/>
                  <a:pt x="9914" y="11023"/>
                  <a:pt x="9970" y="11017"/>
                </a:cubicBezTo>
                <a:cubicBezTo>
                  <a:pt x="10027" y="11011"/>
                  <a:pt x="10061" y="11020"/>
                  <a:pt x="10065" y="11081"/>
                </a:cubicBezTo>
                <a:cubicBezTo>
                  <a:pt x="10072" y="11176"/>
                  <a:pt x="10046" y="11243"/>
                  <a:pt x="10033" y="11335"/>
                </a:cubicBezTo>
                <a:cubicBezTo>
                  <a:pt x="10019" y="11431"/>
                  <a:pt x="9983" y="11500"/>
                  <a:pt x="9938" y="11589"/>
                </a:cubicBezTo>
                <a:cubicBezTo>
                  <a:pt x="9884" y="11695"/>
                  <a:pt x="9843" y="11777"/>
                  <a:pt x="9779" y="11874"/>
                </a:cubicBezTo>
                <a:cubicBezTo>
                  <a:pt x="9741" y="11931"/>
                  <a:pt x="9641" y="12053"/>
                  <a:pt x="9620" y="12097"/>
                </a:cubicBezTo>
                <a:cubicBezTo>
                  <a:pt x="9587" y="12168"/>
                  <a:pt x="9589" y="12192"/>
                  <a:pt x="9525" y="12256"/>
                </a:cubicBezTo>
                <a:cubicBezTo>
                  <a:pt x="9525" y="12201"/>
                  <a:pt x="9532" y="12179"/>
                  <a:pt x="9588" y="12160"/>
                </a:cubicBezTo>
                <a:cubicBezTo>
                  <a:pt x="9636" y="12144"/>
                  <a:pt x="9683" y="12162"/>
                  <a:pt x="9716" y="12192"/>
                </a:cubicBezTo>
                <a:cubicBezTo>
                  <a:pt x="9765" y="12236"/>
                  <a:pt x="9761" y="12242"/>
                  <a:pt x="9811" y="12287"/>
                </a:cubicBezTo>
                <a:cubicBezTo>
                  <a:pt x="9846" y="12318"/>
                  <a:pt x="9892" y="12348"/>
                  <a:pt x="9938" y="12351"/>
                </a:cubicBezTo>
                <a:cubicBezTo>
                  <a:pt x="9988" y="12355"/>
                  <a:pt x="10066" y="12330"/>
                  <a:pt x="10096" y="12287"/>
                </a:cubicBezTo>
                <a:cubicBezTo>
                  <a:pt x="10105" y="12274"/>
                  <a:pt x="10195" y="12140"/>
                  <a:pt x="10192" y="12128"/>
                </a:cubicBezTo>
                <a:cubicBezTo>
                  <a:pt x="10181" y="12118"/>
                  <a:pt x="10171" y="12107"/>
                  <a:pt x="10160" y="12097"/>
                </a:cubicBezTo>
              </a:path>
              <a:path w="8192" h="3398">
                <a:moveTo>
                  <a:pt x="5175" y="11779"/>
                </a:moveTo>
                <a:cubicBezTo>
                  <a:pt x="5175" y="11827"/>
                  <a:pt x="5155" y="11912"/>
                  <a:pt x="5207" y="11938"/>
                </a:cubicBezTo>
                <a:cubicBezTo>
                  <a:pt x="5240" y="11954"/>
                  <a:pt x="5251" y="11869"/>
                  <a:pt x="5270" y="11843"/>
                </a:cubicBezTo>
                <a:cubicBezTo>
                  <a:pt x="5248" y="11848"/>
                  <a:pt x="5158" y="11898"/>
                  <a:pt x="5207" y="11938"/>
                </a:cubicBezTo>
                <a:cubicBezTo>
                  <a:pt x="5246" y="11970"/>
                  <a:pt x="5264" y="11925"/>
                  <a:pt x="5270" y="11906"/>
                </a:cubicBezTo>
              </a:path>
              <a:path w="8192" h="3398">
                <a:moveTo>
                  <a:pt x="4508" y="11494"/>
                </a:moveTo>
                <a:cubicBezTo>
                  <a:pt x="4521" y="11444"/>
                  <a:pt x="4562" y="11417"/>
                  <a:pt x="4572" y="11398"/>
                </a:cubicBezTo>
                <a:cubicBezTo>
                  <a:pt x="4595" y="11353"/>
                  <a:pt x="4620" y="11366"/>
                  <a:pt x="4667" y="11335"/>
                </a:cubicBezTo>
                <a:cubicBezTo>
                  <a:pt x="4698" y="11314"/>
                  <a:pt x="4767" y="11311"/>
                  <a:pt x="4794" y="11366"/>
                </a:cubicBezTo>
                <a:cubicBezTo>
                  <a:pt x="4835" y="11447"/>
                  <a:pt x="4810" y="11436"/>
                  <a:pt x="4794" y="11525"/>
                </a:cubicBezTo>
                <a:cubicBezTo>
                  <a:pt x="4777" y="11620"/>
                  <a:pt x="4744" y="11689"/>
                  <a:pt x="4699" y="11779"/>
                </a:cubicBezTo>
                <a:cubicBezTo>
                  <a:pt x="4665" y="11846"/>
                  <a:pt x="4622" y="11914"/>
                  <a:pt x="4572" y="11970"/>
                </a:cubicBezTo>
                <a:cubicBezTo>
                  <a:pt x="4543" y="11999"/>
                  <a:pt x="4533" y="12005"/>
                  <a:pt x="4540" y="12033"/>
                </a:cubicBezTo>
                <a:cubicBezTo>
                  <a:pt x="4578" y="12005"/>
                  <a:pt x="4619" y="11973"/>
                  <a:pt x="4667" y="11970"/>
                </a:cubicBezTo>
                <a:cubicBezTo>
                  <a:pt x="4701" y="11968"/>
                  <a:pt x="4795" y="11985"/>
                  <a:pt x="4826" y="12002"/>
                </a:cubicBezTo>
                <a:cubicBezTo>
                  <a:pt x="4855" y="12030"/>
                  <a:pt x="4861" y="12040"/>
                  <a:pt x="4890" y="12033"/>
                </a:cubicBezTo>
              </a:path>
              <a:path w="8192" h="3398">
                <a:moveTo>
                  <a:pt x="10319" y="11779"/>
                </a:moveTo>
                <a:cubicBezTo>
                  <a:pt x="10319" y="11769"/>
                  <a:pt x="10319" y="11758"/>
                  <a:pt x="10319" y="11748"/>
                </a:cubicBezTo>
              </a:path>
              <a:path w="8192" h="3398">
                <a:moveTo>
                  <a:pt x="10319" y="11779"/>
                </a:moveTo>
                <a:lnTo>
                  <a:pt x="10319" y="11779"/>
                </a:lnTo>
                <a:lnTo>
                  <a:pt x="10319" y="11779"/>
                </a:lnTo>
              </a:path>
              <a:path w="8192" h="3398">
                <a:moveTo>
                  <a:pt x="10319" y="11779"/>
                </a:moveTo>
                <a:cubicBezTo>
                  <a:pt x="10308" y="11779"/>
                  <a:pt x="10298" y="11779"/>
                  <a:pt x="10287" y="11779"/>
                </a:cubicBezTo>
                <a:cubicBezTo>
                  <a:pt x="10303" y="11845"/>
                  <a:pt x="10309" y="11842"/>
                  <a:pt x="10350" y="11811"/>
                </a:cubicBezTo>
                <a:cubicBezTo>
                  <a:pt x="10387" y="11783"/>
                  <a:pt x="10382" y="11637"/>
                  <a:pt x="10382" y="11684"/>
                </a:cubicBezTo>
                <a:cubicBezTo>
                  <a:pt x="10382" y="11734"/>
                  <a:pt x="10350" y="11709"/>
                  <a:pt x="10350" y="11779"/>
                </a:cubicBezTo>
              </a:path>
              <a:path w="8192" h="3398">
                <a:moveTo>
                  <a:pt x="10636" y="11366"/>
                </a:moveTo>
                <a:cubicBezTo>
                  <a:pt x="10636" y="11311"/>
                  <a:pt x="10644" y="11302"/>
                  <a:pt x="10668" y="11271"/>
                </a:cubicBezTo>
                <a:cubicBezTo>
                  <a:pt x="10693" y="11238"/>
                  <a:pt x="10757" y="11212"/>
                  <a:pt x="10795" y="11208"/>
                </a:cubicBezTo>
                <a:cubicBezTo>
                  <a:pt x="10876" y="11199"/>
                  <a:pt x="10853" y="11247"/>
                  <a:pt x="10890" y="11271"/>
                </a:cubicBezTo>
                <a:cubicBezTo>
                  <a:pt x="10962" y="11318"/>
                  <a:pt x="10903" y="11336"/>
                  <a:pt x="10890" y="11398"/>
                </a:cubicBezTo>
                <a:cubicBezTo>
                  <a:pt x="10868" y="11500"/>
                  <a:pt x="10877" y="11525"/>
                  <a:pt x="10827" y="11620"/>
                </a:cubicBezTo>
                <a:cubicBezTo>
                  <a:pt x="10784" y="11702"/>
                  <a:pt x="10775" y="11787"/>
                  <a:pt x="10732" y="11874"/>
                </a:cubicBezTo>
                <a:cubicBezTo>
                  <a:pt x="10697" y="11945"/>
                  <a:pt x="10691" y="12004"/>
                  <a:pt x="10636" y="12065"/>
                </a:cubicBezTo>
                <a:cubicBezTo>
                  <a:pt x="10625" y="12076"/>
                  <a:pt x="10615" y="12086"/>
                  <a:pt x="10604" y="12097"/>
                </a:cubicBezTo>
                <a:cubicBezTo>
                  <a:pt x="10621" y="12047"/>
                  <a:pt x="10654" y="12063"/>
                  <a:pt x="10700" y="12033"/>
                </a:cubicBezTo>
                <a:cubicBezTo>
                  <a:pt x="10781" y="11980"/>
                  <a:pt x="10728" y="12025"/>
                  <a:pt x="10795" y="12033"/>
                </a:cubicBezTo>
                <a:cubicBezTo>
                  <a:pt x="10845" y="12039"/>
                  <a:pt x="10831" y="12077"/>
                  <a:pt x="10890" y="12097"/>
                </a:cubicBezTo>
                <a:cubicBezTo>
                  <a:pt x="10939" y="12113"/>
                  <a:pt x="10984" y="12094"/>
                  <a:pt x="11017" y="12065"/>
                </a:cubicBezTo>
                <a:cubicBezTo>
                  <a:pt x="11038" y="12046"/>
                  <a:pt x="11117" y="11963"/>
                  <a:pt x="11112" y="11938"/>
                </a:cubicBezTo>
                <a:cubicBezTo>
                  <a:pt x="11102" y="11927"/>
                  <a:pt x="11091" y="11917"/>
                  <a:pt x="11081" y="11906"/>
                </a:cubicBezTo>
              </a:path>
              <a:path w="8192" h="3398">
                <a:moveTo>
                  <a:pt x="4350" y="11557"/>
                </a:moveTo>
                <a:cubicBezTo>
                  <a:pt x="4473" y="11557"/>
                  <a:pt x="4585" y="11550"/>
                  <a:pt x="4699" y="11589"/>
                </a:cubicBezTo>
                <a:cubicBezTo>
                  <a:pt x="4879" y="11651"/>
                  <a:pt x="5060" y="11719"/>
                  <a:pt x="5239" y="11779"/>
                </a:cubicBezTo>
                <a:cubicBezTo>
                  <a:pt x="5425" y="11841"/>
                  <a:pt x="5597" y="11924"/>
                  <a:pt x="5778" y="12002"/>
                </a:cubicBezTo>
                <a:cubicBezTo>
                  <a:pt x="6031" y="12111"/>
                  <a:pt x="6292" y="12199"/>
                  <a:pt x="6540" y="12319"/>
                </a:cubicBezTo>
                <a:cubicBezTo>
                  <a:pt x="6685" y="12389"/>
                  <a:pt x="6835" y="12455"/>
                  <a:pt x="6985" y="12510"/>
                </a:cubicBezTo>
                <a:cubicBezTo>
                  <a:pt x="7081" y="12545"/>
                  <a:pt x="7179" y="12575"/>
                  <a:pt x="7271" y="12605"/>
                </a:cubicBezTo>
                <a:cubicBezTo>
                  <a:pt x="7364" y="12635"/>
                  <a:pt x="7310" y="12646"/>
                  <a:pt x="7302" y="127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Ink 12"/>
          <p:cNvSpPr/>
          <p:nvPr/>
        </p:nvSpPr>
        <p:spPr>
          <a:xfrm>
            <a:off x="4595760" y="3622680"/>
            <a:ext cx="3143160" cy="1109520"/>
          </a:xfrm>
          <a:custGeom>
            <a:avLst/>
            <a:gdLst/>
            <a:ahLst/>
            <a:rect l="l" t="t" r="r" b="b"/>
            <a:pathLst>
              <a:path w="8732" h="3080">
                <a:moveTo>
                  <a:pt x="13208" y="10668"/>
                </a:moveTo>
                <a:cubicBezTo>
                  <a:pt x="13133" y="10668"/>
                  <a:pt x="13252" y="10650"/>
                  <a:pt x="13272" y="10636"/>
                </a:cubicBezTo>
                <a:cubicBezTo>
                  <a:pt x="13322" y="10602"/>
                  <a:pt x="13335" y="10604"/>
                  <a:pt x="13398" y="10604"/>
                </a:cubicBezTo>
                <a:cubicBezTo>
                  <a:pt x="13430" y="10604"/>
                  <a:pt x="13441" y="10604"/>
                  <a:pt x="13462" y="10604"/>
                </a:cubicBezTo>
                <a:cubicBezTo>
                  <a:pt x="13462" y="10672"/>
                  <a:pt x="13469" y="10683"/>
                  <a:pt x="13462" y="10732"/>
                </a:cubicBezTo>
                <a:cubicBezTo>
                  <a:pt x="13451" y="10809"/>
                  <a:pt x="13446" y="10920"/>
                  <a:pt x="13398" y="10986"/>
                </a:cubicBezTo>
                <a:cubicBezTo>
                  <a:pt x="13343" y="11063"/>
                  <a:pt x="13285" y="11123"/>
                  <a:pt x="13240" y="11208"/>
                </a:cubicBezTo>
                <a:cubicBezTo>
                  <a:pt x="13227" y="11232"/>
                  <a:pt x="13095" y="11384"/>
                  <a:pt x="13176" y="11303"/>
                </a:cubicBezTo>
                <a:cubicBezTo>
                  <a:pt x="13204" y="11275"/>
                  <a:pt x="13261" y="11253"/>
                  <a:pt x="13272" y="11240"/>
                </a:cubicBezTo>
                <a:cubicBezTo>
                  <a:pt x="13272" y="11208"/>
                  <a:pt x="13272" y="11198"/>
                  <a:pt x="13303" y="11208"/>
                </a:cubicBezTo>
                <a:cubicBezTo>
                  <a:pt x="13345" y="11222"/>
                  <a:pt x="13341" y="11258"/>
                  <a:pt x="13367" y="11271"/>
                </a:cubicBezTo>
                <a:cubicBezTo>
                  <a:pt x="13402" y="11288"/>
                  <a:pt x="13462" y="11285"/>
                  <a:pt x="13494" y="11303"/>
                </a:cubicBezTo>
                <a:cubicBezTo>
                  <a:pt x="13523" y="11332"/>
                  <a:pt x="13529" y="11342"/>
                  <a:pt x="13557" y="11335"/>
                </a:cubicBezTo>
              </a:path>
              <a:path w="8732" h="3080">
                <a:moveTo>
                  <a:pt x="12954" y="11589"/>
                </a:moveTo>
                <a:cubicBezTo>
                  <a:pt x="12968" y="11600"/>
                  <a:pt x="13010" y="11643"/>
                  <a:pt x="13049" y="11652"/>
                </a:cubicBezTo>
                <a:cubicBezTo>
                  <a:pt x="13165" y="11679"/>
                  <a:pt x="13277" y="11731"/>
                  <a:pt x="13398" y="11748"/>
                </a:cubicBezTo>
                <a:cubicBezTo>
                  <a:pt x="13512" y="11764"/>
                  <a:pt x="13613" y="11729"/>
                  <a:pt x="13716" y="11716"/>
                </a:cubicBezTo>
                <a:cubicBezTo>
                  <a:pt x="13811" y="11704"/>
                  <a:pt x="13944" y="11654"/>
                  <a:pt x="14002" y="11557"/>
                </a:cubicBezTo>
                <a:cubicBezTo>
                  <a:pt x="14067" y="11447"/>
                  <a:pt x="14114" y="11338"/>
                  <a:pt x="14129" y="11208"/>
                </a:cubicBezTo>
                <a:cubicBezTo>
                  <a:pt x="14148" y="11033"/>
                  <a:pt x="14138" y="10835"/>
                  <a:pt x="14097" y="10668"/>
                </a:cubicBezTo>
                <a:cubicBezTo>
                  <a:pt x="14064" y="10532"/>
                  <a:pt x="14026" y="10399"/>
                  <a:pt x="13938" y="10287"/>
                </a:cubicBezTo>
                <a:cubicBezTo>
                  <a:pt x="13844" y="10168"/>
                  <a:pt x="13777" y="10137"/>
                  <a:pt x="13652" y="10096"/>
                </a:cubicBezTo>
                <a:cubicBezTo>
                  <a:pt x="13529" y="10056"/>
                  <a:pt x="13424" y="10065"/>
                  <a:pt x="13303" y="10128"/>
                </a:cubicBezTo>
                <a:cubicBezTo>
                  <a:pt x="13175" y="10195"/>
                  <a:pt x="13058" y="10324"/>
                  <a:pt x="12986" y="10446"/>
                </a:cubicBezTo>
                <a:cubicBezTo>
                  <a:pt x="12891" y="10607"/>
                  <a:pt x="12846" y="10744"/>
                  <a:pt x="12795" y="10922"/>
                </a:cubicBezTo>
                <a:cubicBezTo>
                  <a:pt x="12749" y="11083"/>
                  <a:pt x="12775" y="11180"/>
                  <a:pt x="12827" y="11335"/>
                </a:cubicBezTo>
                <a:cubicBezTo>
                  <a:pt x="12868" y="11456"/>
                  <a:pt x="12905" y="11555"/>
                  <a:pt x="12986" y="11652"/>
                </a:cubicBezTo>
                <a:cubicBezTo>
                  <a:pt x="13051" y="11731"/>
                  <a:pt x="13173" y="11790"/>
                  <a:pt x="13272" y="11811"/>
                </a:cubicBezTo>
                <a:cubicBezTo>
                  <a:pt x="13360" y="11830"/>
                  <a:pt x="13513" y="11825"/>
                  <a:pt x="13589" y="11779"/>
                </a:cubicBezTo>
                <a:cubicBezTo>
                  <a:pt x="13600" y="11769"/>
                  <a:pt x="13610" y="11758"/>
                  <a:pt x="13621" y="11748"/>
                </a:cubicBezTo>
              </a:path>
              <a:path w="8732" h="3080">
                <a:moveTo>
                  <a:pt x="15145" y="10668"/>
                </a:moveTo>
                <a:cubicBezTo>
                  <a:pt x="15232" y="10668"/>
                  <a:pt x="15294" y="10658"/>
                  <a:pt x="15367" y="10636"/>
                </a:cubicBezTo>
                <a:cubicBezTo>
                  <a:pt x="15427" y="10618"/>
                  <a:pt x="15498" y="10609"/>
                  <a:pt x="15558" y="10604"/>
                </a:cubicBezTo>
                <a:cubicBezTo>
                  <a:pt x="15599" y="10601"/>
                  <a:pt x="15643" y="10604"/>
                  <a:pt x="15684" y="10604"/>
                </a:cubicBezTo>
                <a:cubicBezTo>
                  <a:pt x="15684" y="10636"/>
                  <a:pt x="15684" y="10647"/>
                  <a:pt x="15716" y="10636"/>
                </a:cubicBezTo>
              </a:path>
              <a:path w="8732" h="3080">
                <a:moveTo>
                  <a:pt x="15907" y="10224"/>
                </a:moveTo>
                <a:cubicBezTo>
                  <a:pt x="15827" y="10224"/>
                  <a:pt x="15957" y="10259"/>
                  <a:pt x="15970" y="10255"/>
                </a:cubicBezTo>
                <a:cubicBezTo>
                  <a:pt x="16047" y="10234"/>
                  <a:pt x="16119" y="10197"/>
                  <a:pt x="16192" y="10160"/>
                </a:cubicBezTo>
                <a:cubicBezTo>
                  <a:pt x="16262" y="10125"/>
                  <a:pt x="16341" y="10090"/>
                  <a:pt x="16415" y="10065"/>
                </a:cubicBezTo>
                <a:cubicBezTo>
                  <a:pt x="16447" y="10055"/>
                  <a:pt x="16530" y="10057"/>
                  <a:pt x="16542" y="10096"/>
                </a:cubicBezTo>
                <a:cubicBezTo>
                  <a:pt x="16570" y="10185"/>
                  <a:pt x="16520" y="10271"/>
                  <a:pt x="16510" y="10350"/>
                </a:cubicBezTo>
                <a:cubicBezTo>
                  <a:pt x="16496" y="10459"/>
                  <a:pt x="16451" y="10557"/>
                  <a:pt x="16446" y="10668"/>
                </a:cubicBezTo>
                <a:cubicBezTo>
                  <a:pt x="16441" y="10790"/>
                  <a:pt x="16397" y="10903"/>
                  <a:pt x="16383" y="11017"/>
                </a:cubicBezTo>
                <a:cubicBezTo>
                  <a:pt x="16371" y="11114"/>
                  <a:pt x="16358" y="11209"/>
                  <a:pt x="16351" y="11303"/>
                </a:cubicBezTo>
                <a:cubicBezTo>
                  <a:pt x="16347" y="11358"/>
                  <a:pt x="16332" y="11381"/>
                  <a:pt x="16320" y="11430"/>
                </a:cubicBezTo>
              </a:path>
              <a:path w="8732" h="3080">
                <a:moveTo>
                  <a:pt x="17018" y="10350"/>
                </a:moveTo>
                <a:cubicBezTo>
                  <a:pt x="17018" y="10295"/>
                  <a:pt x="17025" y="10349"/>
                  <a:pt x="17050" y="10382"/>
                </a:cubicBezTo>
                <a:cubicBezTo>
                  <a:pt x="17004" y="10459"/>
                  <a:pt x="17042" y="10519"/>
                  <a:pt x="17018" y="10604"/>
                </a:cubicBezTo>
                <a:cubicBezTo>
                  <a:pt x="16989" y="10706"/>
                  <a:pt x="16986" y="10779"/>
                  <a:pt x="16986" y="10890"/>
                </a:cubicBezTo>
                <a:cubicBezTo>
                  <a:pt x="16986" y="10975"/>
                  <a:pt x="16986" y="11059"/>
                  <a:pt x="16986" y="11144"/>
                </a:cubicBezTo>
              </a:path>
              <a:path w="8732" h="3080">
                <a:moveTo>
                  <a:pt x="16796" y="10700"/>
                </a:moveTo>
                <a:cubicBezTo>
                  <a:pt x="16796" y="10689"/>
                  <a:pt x="16796" y="10679"/>
                  <a:pt x="16796" y="10668"/>
                </a:cubicBezTo>
                <a:cubicBezTo>
                  <a:pt x="16845" y="10680"/>
                  <a:pt x="16903" y="10683"/>
                  <a:pt x="16954" y="10700"/>
                </a:cubicBezTo>
                <a:cubicBezTo>
                  <a:pt x="17031" y="10726"/>
                  <a:pt x="17061" y="10732"/>
                  <a:pt x="17145" y="10732"/>
                </a:cubicBezTo>
              </a:path>
              <a:path w="8732" h="3080">
                <a:moveTo>
                  <a:pt x="17462" y="10192"/>
                </a:moveTo>
                <a:cubicBezTo>
                  <a:pt x="17454" y="10290"/>
                  <a:pt x="17435" y="10379"/>
                  <a:pt x="17431" y="10478"/>
                </a:cubicBezTo>
                <a:cubicBezTo>
                  <a:pt x="17425" y="10603"/>
                  <a:pt x="17446" y="10708"/>
                  <a:pt x="17462" y="10827"/>
                </a:cubicBezTo>
                <a:cubicBezTo>
                  <a:pt x="17474" y="10919"/>
                  <a:pt x="17485" y="11006"/>
                  <a:pt x="17526" y="11081"/>
                </a:cubicBezTo>
                <a:cubicBezTo>
                  <a:pt x="17526" y="11117"/>
                  <a:pt x="17529" y="11130"/>
                  <a:pt x="17558" y="11144"/>
                </a:cubicBezTo>
                <a:cubicBezTo>
                  <a:pt x="17626" y="11134"/>
                  <a:pt x="17664" y="11138"/>
                  <a:pt x="17685" y="11049"/>
                </a:cubicBezTo>
                <a:cubicBezTo>
                  <a:pt x="17714" y="10926"/>
                  <a:pt x="17725" y="10792"/>
                  <a:pt x="17748" y="10668"/>
                </a:cubicBezTo>
                <a:cubicBezTo>
                  <a:pt x="17772" y="10535"/>
                  <a:pt x="17780" y="10423"/>
                  <a:pt x="17780" y="10287"/>
                </a:cubicBezTo>
                <a:cubicBezTo>
                  <a:pt x="17780" y="10276"/>
                  <a:pt x="17780" y="10266"/>
                  <a:pt x="17780" y="10255"/>
                </a:cubicBezTo>
                <a:cubicBezTo>
                  <a:pt x="17763" y="10372"/>
                  <a:pt x="17776" y="10423"/>
                  <a:pt x="17780" y="10541"/>
                </a:cubicBezTo>
                <a:cubicBezTo>
                  <a:pt x="17786" y="10723"/>
                  <a:pt x="17808" y="10900"/>
                  <a:pt x="17812" y="11081"/>
                </a:cubicBezTo>
                <a:cubicBezTo>
                  <a:pt x="17817" y="11271"/>
                  <a:pt x="17869" y="11460"/>
                  <a:pt x="17844" y="11652"/>
                </a:cubicBezTo>
                <a:cubicBezTo>
                  <a:pt x="17832" y="11744"/>
                  <a:pt x="17831" y="11933"/>
                  <a:pt x="17780" y="12002"/>
                </a:cubicBezTo>
                <a:cubicBezTo>
                  <a:pt x="17751" y="12030"/>
                  <a:pt x="17740" y="12036"/>
                  <a:pt x="17748" y="12065"/>
                </a:cubicBezTo>
                <a:cubicBezTo>
                  <a:pt x="17707" y="12041"/>
                  <a:pt x="17653" y="12021"/>
                  <a:pt x="17621" y="11970"/>
                </a:cubicBezTo>
                <a:cubicBezTo>
                  <a:pt x="17545" y="11850"/>
                  <a:pt x="17558" y="11725"/>
                  <a:pt x="17558" y="11589"/>
                </a:cubicBezTo>
                <a:cubicBezTo>
                  <a:pt x="17558" y="11408"/>
                  <a:pt x="17582" y="11335"/>
                  <a:pt x="17653" y="11176"/>
                </a:cubicBezTo>
                <a:cubicBezTo>
                  <a:pt x="17713" y="11041"/>
                  <a:pt x="17729" y="11011"/>
                  <a:pt x="17844" y="10922"/>
                </a:cubicBezTo>
                <a:cubicBezTo>
                  <a:pt x="17854" y="10911"/>
                  <a:pt x="17865" y="10901"/>
                  <a:pt x="17875" y="10890"/>
                </a:cubicBezTo>
              </a:path>
              <a:path w="8732" h="3080">
                <a:moveTo>
                  <a:pt x="15684" y="11874"/>
                </a:moveTo>
                <a:cubicBezTo>
                  <a:pt x="15705" y="11906"/>
                  <a:pt x="15780" y="11925"/>
                  <a:pt x="15843" y="11906"/>
                </a:cubicBezTo>
                <a:cubicBezTo>
                  <a:pt x="15934" y="11879"/>
                  <a:pt x="15999" y="11874"/>
                  <a:pt x="16097" y="11874"/>
                </a:cubicBezTo>
                <a:cubicBezTo>
                  <a:pt x="16221" y="11874"/>
                  <a:pt x="16325" y="11901"/>
                  <a:pt x="16446" y="11906"/>
                </a:cubicBezTo>
                <a:cubicBezTo>
                  <a:pt x="16612" y="11912"/>
                  <a:pt x="16764" y="11892"/>
                  <a:pt x="16923" y="11874"/>
                </a:cubicBezTo>
                <a:cubicBezTo>
                  <a:pt x="17042" y="11861"/>
                  <a:pt x="17155" y="11859"/>
                  <a:pt x="17272" y="11843"/>
                </a:cubicBezTo>
                <a:cubicBezTo>
                  <a:pt x="17363" y="11830"/>
                  <a:pt x="17466" y="11843"/>
                  <a:pt x="17558" y="11843"/>
                </a:cubicBezTo>
              </a:path>
              <a:path w="8732" h="3080">
                <a:moveTo>
                  <a:pt x="16129" y="12414"/>
                </a:moveTo>
                <a:cubicBezTo>
                  <a:pt x="16179" y="12376"/>
                  <a:pt x="16239" y="12383"/>
                  <a:pt x="16288" y="12351"/>
                </a:cubicBezTo>
                <a:cubicBezTo>
                  <a:pt x="16317" y="12331"/>
                  <a:pt x="16371" y="12294"/>
                  <a:pt x="16415" y="12319"/>
                </a:cubicBezTo>
                <a:cubicBezTo>
                  <a:pt x="16460" y="12344"/>
                  <a:pt x="16504" y="12358"/>
                  <a:pt x="16510" y="12414"/>
                </a:cubicBezTo>
                <a:cubicBezTo>
                  <a:pt x="16518" y="12488"/>
                  <a:pt x="16487" y="12539"/>
                  <a:pt x="16478" y="12605"/>
                </a:cubicBezTo>
                <a:cubicBezTo>
                  <a:pt x="16463" y="12722"/>
                  <a:pt x="16431" y="12810"/>
                  <a:pt x="16383" y="12922"/>
                </a:cubicBezTo>
                <a:cubicBezTo>
                  <a:pt x="16352" y="12994"/>
                  <a:pt x="16285" y="13048"/>
                  <a:pt x="16256" y="13113"/>
                </a:cubicBezTo>
                <a:cubicBezTo>
                  <a:pt x="16228" y="13176"/>
                  <a:pt x="16283" y="13088"/>
                  <a:pt x="16288" y="13081"/>
                </a:cubicBezTo>
                <a:cubicBezTo>
                  <a:pt x="16313" y="13047"/>
                  <a:pt x="16376" y="13022"/>
                  <a:pt x="16415" y="13018"/>
                </a:cubicBezTo>
                <a:cubicBezTo>
                  <a:pt x="16478" y="13011"/>
                  <a:pt x="16492" y="13033"/>
                  <a:pt x="16542" y="13049"/>
                </a:cubicBezTo>
                <a:cubicBezTo>
                  <a:pt x="16594" y="13066"/>
                  <a:pt x="16664" y="13050"/>
                  <a:pt x="16700" y="13018"/>
                </a:cubicBezTo>
                <a:cubicBezTo>
                  <a:pt x="16711" y="13007"/>
                  <a:pt x="16721" y="12997"/>
                  <a:pt x="16732" y="12986"/>
                </a:cubicBezTo>
              </a:path>
              <a:path w="8732" h="3080">
                <a:moveTo>
                  <a:pt x="18320" y="11462"/>
                </a:moveTo>
                <a:cubicBezTo>
                  <a:pt x="18309" y="11462"/>
                  <a:pt x="18299" y="11462"/>
                  <a:pt x="18288" y="11462"/>
                </a:cubicBezTo>
                <a:cubicBezTo>
                  <a:pt x="18327" y="11433"/>
                  <a:pt x="18399" y="11401"/>
                  <a:pt x="18447" y="11398"/>
                </a:cubicBezTo>
                <a:cubicBezTo>
                  <a:pt x="18528" y="11392"/>
                  <a:pt x="18560" y="11372"/>
                  <a:pt x="18637" y="11366"/>
                </a:cubicBezTo>
                <a:cubicBezTo>
                  <a:pt x="18693" y="11361"/>
                  <a:pt x="18718" y="11353"/>
                  <a:pt x="18732" y="11398"/>
                </a:cubicBezTo>
              </a:path>
              <a:path w="8732" h="3080">
                <a:moveTo>
                  <a:pt x="18320" y="12065"/>
                </a:moveTo>
                <a:cubicBezTo>
                  <a:pt x="18377" y="12051"/>
                  <a:pt x="18409" y="12033"/>
                  <a:pt x="18478" y="12033"/>
                </a:cubicBezTo>
                <a:cubicBezTo>
                  <a:pt x="18542" y="12033"/>
                  <a:pt x="18605" y="12033"/>
                  <a:pt x="18669" y="12033"/>
                </a:cubicBezTo>
              </a:path>
              <a:path w="8732" h="3080">
                <a:moveTo>
                  <a:pt x="19114" y="11208"/>
                </a:moveTo>
                <a:cubicBezTo>
                  <a:pt x="19080" y="11182"/>
                  <a:pt x="18992" y="11176"/>
                  <a:pt x="19050" y="11176"/>
                </a:cubicBezTo>
                <a:cubicBezTo>
                  <a:pt x="19108" y="11176"/>
                  <a:pt x="19147" y="11123"/>
                  <a:pt x="19209" y="11112"/>
                </a:cubicBezTo>
                <a:cubicBezTo>
                  <a:pt x="19290" y="11097"/>
                  <a:pt x="19357" y="11107"/>
                  <a:pt x="19431" y="11081"/>
                </a:cubicBezTo>
                <a:cubicBezTo>
                  <a:pt x="19492" y="11050"/>
                  <a:pt x="19511" y="11039"/>
                  <a:pt x="19558" y="11049"/>
                </a:cubicBezTo>
              </a:path>
              <a:path w="8732" h="3080">
                <a:moveTo>
                  <a:pt x="20256" y="10573"/>
                </a:moveTo>
                <a:cubicBezTo>
                  <a:pt x="20288" y="10573"/>
                  <a:pt x="20320" y="10573"/>
                  <a:pt x="20352" y="10573"/>
                </a:cubicBezTo>
                <a:cubicBezTo>
                  <a:pt x="20326" y="10599"/>
                  <a:pt x="20314" y="10622"/>
                  <a:pt x="20256" y="10636"/>
                </a:cubicBezTo>
                <a:cubicBezTo>
                  <a:pt x="20183" y="10653"/>
                  <a:pt x="20106" y="10649"/>
                  <a:pt x="20034" y="10668"/>
                </a:cubicBezTo>
                <a:cubicBezTo>
                  <a:pt x="19973" y="10684"/>
                  <a:pt x="19923" y="10694"/>
                  <a:pt x="19876" y="10732"/>
                </a:cubicBezTo>
                <a:cubicBezTo>
                  <a:pt x="19841" y="10761"/>
                  <a:pt x="19791" y="10818"/>
                  <a:pt x="19780" y="10858"/>
                </a:cubicBezTo>
                <a:cubicBezTo>
                  <a:pt x="19758" y="10939"/>
                  <a:pt x="19803" y="11009"/>
                  <a:pt x="19812" y="11081"/>
                </a:cubicBezTo>
                <a:cubicBezTo>
                  <a:pt x="19829" y="11214"/>
                  <a:pt x="19812" y="11359"/>
                  <a:pt x="19812" y="11494"/>
                </a:cubicBezTo>
                <a:cubicBezTo>
                  <a:pt x="19837" y="11424"/>
                  <a:pt x="19868" y="11368"/>
                  <a:pt x="19907" y="11303"/>
                </a:cubicBezTo>
                <a:cubicBezTo>
                  <a:pt x="19955" y="11223"/>
                  <a:pt x="19971" y="11195"/>
                  <a:pt x="20066" y="11176"/>
                </a:cubicBezTo>
                <a:cubicBezTo>
                  <a:pt x="20156" y="11158"/>
                  <a:pt x="20178" y="11214"/>
                  <a:pt x="20225" y="11271"/>
                </a:cubicBezTo>
                <a:cubicBezTo>
                  <a:pt x="20283" y="11341"/>
                  <a:pt x="20309" y="11434"/>
                  <a:pt x="20320" y="11525"/>
                </a:cubicBezTo>
                <a:cubicBezTo>
                  <a:pt x="20336" y="11658"/>
                  <a:pt x="20336" y="11749"/>
                  <a:pt x="20320" y="11874"/>
                </a:cubicBezTo>
                <a:cubicBezTo>
                  <a:pt x="20302" y="12018"/>
                  <a:pt x="20271" y="12043"/>
                  <a:pt x="20193" y="12160"/>
                </a:cubicBezTo>
                <a:cubicBezTo>
                  <a:pt x="20134" y="12249"/>
                  <a:pt x="20081" y="12281"/>
                  <a:pt x="19971" y="12287"/>
                </a:cubicBezTo>
                <a:cubicBezTo>
                  <a:pt x="19916" y="12290"/>
                  <a:pt x="19818" y="12293"/>
                  <a:pt x="19780" y="12256"/>
                </a:cubicBezTo>
                <a:cubicBezTo>
                  <a:pt x="19780" y="12245"/>
                  <a:pt x="19780" y="12235"/>
                  <a:pt x="19780" y="12224"/>
                </a:cubicBezTo>
                <a:cubicBezTo>
                  <a:pt x="19831" y="12194"/>
                  <a:pt x="19870" y="12177"/>
                  <a:pt x="19939" y="12192"/>
                </a:cubicBezTo>
                <a:cubicBezTo>
                  <a:pt x="19984" y="12192"/>
                  <a:pt x="20006" y="12198"/>
                  <a:pt x="20034" y="12224"/>
                </a:cubicBezTo>
              </a:path>
              <a:path w="8732" h="3080">
                <a:moveTo>
                  <a:pt x="15335" y="11843"/>
                </a:moveTo>
                <a:cubicBezTo>
                  <a:pt x="15288" y="11859"/>
                  <a:pt x="15304" y="11882"/>
                  <a:pt x="15304" y="11938"/>
                </a:cubicBezTo>
                <a:cubicBezTo>
                  <a:pt x="15304" y="11970"/>
                  <a:pt x="15304" y="12001"/>
                  <a:pt x="15304" y="12033"/>
                </a:cubicBezTo>
                <a:cubicBezTo>
                  <a:pt x="15325" y="12004"/>
                  <a:pt x="15358" y="11949"/>
                  <a:pt x="15335" y="11906"/>
                </a:cubicBezTo>
                <a:cubicBezTo>
                  <a:pt x="15304" y="11849"/>
                  <a:pt x="15297" y="11830"/>
                  <a:pt x="15272" y="11906"/>
                </a:cubicBezTo>
                <a:cubicBezTo>
                  <a:pt x="15258" y="11949"/>
                  <a:pt x="15251" y="11991"/>
                  <a:pt x="15240" y="12033"/>
                </a:cubicBezTo>
              </a:path>
              <a:path w="8732" h="3080">
                <a:moveTo>
                  <a:pt x="14510" y="11684"/>
                </a:moveTo>
                <a:cubicBezTo>
                  <a:pt x="14510" y="11617"/>
                  <a:pt x="14525" y="11606"/>
                  <a:pt x="14573" y="11557"/>
                </a:cubicBezTo>
                <a:cubicBezTo>
                  <a:pt x="14588" y="11542"/>
                  <a:pt x="14675" y="11494"/>
                  <a:pt x="14700" y="11525"/>
                </a:cubicBezTo>
                <a:cubicBezTo>
                  <a:pt x="14732" y="11565"/>
                  <a:pt x="14757" y="11574"/>
                  <a:pt x="14764" y="11652"/>
                </a:cubicBezTo>
                <a:cubicBezTo>
                  <a:pt x="14771" y="11739"/>
                  <a:pt x="14745" y="11796"/>
                  <a:pt x="14732" y="11874"/>
                </a:cubicBezTo>
                <a:cubicBezTo>
                  <a:pt x="14715" y="11978"/>
                  <a:pt x="14690" y="12060"/>
                  <a:pt x="14668" y="12160"/>
                </a:cubicBezTo>
                <a:cubicBezTo>
                  <a:pt x="14659" y="12200"/>
                  <a:pt x="14636" y="12325"/>
                  <a:pt x="14605" y="12351"/>
                </a:cubicBezTo>
                <a:cubicBezTo>
                  <a:pt x="14594" y="12351"/>
                  <a:pt x="14584" y="12351"/>
                  <a:pt x="14573" y="12351"/>
                </a:cubicBezTo>
                <a:cubicBezTo>
                  <a:pt x="14629" y="12306"/>
                  <a:pt x="14661" y="12287"/>
                  <a:pt x="14732" y="12287"/>
                </a:cubicBezTo>
                <a:cubicBezTo>
                  <a:pt x="14836" y="12287"/>
                  <a:pt x="14865" y="12296"/>
                  <a:pt x="14986" y="12319"/>
                </a:cubicBezTo>
              </a:path>
              <a:path w="8732" h="3080">
                <a:moveTo>
                  <a:pt x="20669" y="11335"/>
                </a:moveTo>
                <a:cubicBezTo>
                  <a:pt x="20669" y="11364"/>
                  <a:pt x="20669" y="11364"/>
                  <a:pt x="20669" y="11335"/>
                </a:cubicBezTo>
              </a:path>
              <a:path w="8732" h="3080">
                <a:moveTo>
                  <a:pt x="20892" y="10986"/>
                </a:moveTo>
                <a:cubicBezTo>
                  <a:pt x="20904" y="10938"/>
                  <a:pt x="20920" y="10897"/>
                  <a:pt x="20955" y="10858"/>
                </a:cubicBezTo>
                <a:cubicBezTo>
                  <a:pt x="20994" y="10815"/>
                  <a:pt x="21003" y="10740"/>
                  <a:pt x="21050" y="10700"/>
                </a:cubicBezTo>
                <a:cubicBezTo>
                  <a:pt x="21099" y="10658"/>
                  <a:pt x="21151" y="10668"/>
                  <a:pt x="21209" y="10668"/>
                </a:cubicBezTo>
                <a:cubicBezTo>
                  <a:pt x="21298" y="10668"/>
                  <a:pt x="21272" y="10763"/>
                  <a:pt x="21272" y="10827"/>
                </a:cubicBezTo>
                <a:cubicBezTo>
                  <a:pt x="21272" y="10955"/>
                  <a:pt x="21216" y="11087"/>
                  <a:pt x="21177" y="11208"/>
                </a:cubicBezTo>
                <a:cubicBezTo>
                  <a:pt x="21147" y="11302"/>
                  <a:pt x="21098" y="11411"/>
                  <a:pt x="21082" y="11494"/>
                </a:cubicBezTo>
                <a:cubicBezTo>
                  <a:pt x="21062" y="11598"/>
                  <a:pt x="21073" y="11519"/>
                  <a:pt x="21050" y="11589"/>
                </a:cubicBezTo>
                <a:cubicBezTo>
                  <a:pt x="21108" y="11589"/>
                  <a:pt x="21126" y="11561"/>
                  <a:pt x="21177" y="11557"/>
                </a:cubicBezTo>
                <a:cubicBezTo>
                  <a:pt x="21248" y="11552"/>
                  <a:pt x="21276" y="11532"/>
                  <a:pt x="21336" y="11525"/>
                </a:cubicBezTo>
                <a:cubicBezTo>
                  <a:pt x="21387" y="11519"/>
                  <a:pt x="21443" y="11525"/>
                  <a:pt x="21495" y="11525"/>
                </a:cubicBezTo>
              </a:path>
              <a:path w="8732" h="3080">
                <a:moveTo>
                  <a:pt x="14256" y="11620"/>
                </a:moveTo>
                <a:cubicBezTo>
                  <a:pt x="14279" y="11639"/>
                  <a:pt x="14309" y="11661"/>
                  <a:pt x="14351" y="11684"/>
                </a:cubicBezTo>
                <a:cubicBezTo>
                  <a:pt x="14393" y="11706"/>
                  <a:pt x="14433" y="11762"/>
                  <a:pt x="14478" y="11779"/>
                </a:cubicBezTo>
                <a:cubicBezTo>
                  <a:pt x="14551" y="11807"/>
                  <a:pt x="14620" y="11834"/>
                  <a:pt x="14700" y="11874"/>
                </a:cubicBezTo>
                <a:cubicBezTo>
                  <a:pt x="14837" y="11942"/>
                  <a:pt x="14957" y="12015"/>
                  <a:pt x="15081" y="12097"/>
                </a:cubicBezTo>
                <a:cubicBezTo>
                  <a:pt x="15165" y="12152"/>
                  <a:pt x="15274" y="12189"/>
                  <a:pt x="15367" y="12224"/>
                </a:cubicBezTo>
                <a:cubicBezTo>
                  <a:pt x="15482" y="12268"/>
                  <a:pt x="15601" y="12305"/>
                  <a:pt x="15716" y="12351"/>
                </a:cubicBezTo>
                <a:cubicBezTo>
                  <a:pt x="15838" y="12400"/>
                  <a:pt x="15951" y="12478"/>
                  <a:pt x="16066" y="12541"/>
                </a:cubicBezTo>
                <a:cubicBezTo>
                  <a:pt x="16170" y="12598"/>
                  <a:pt x="16278" y="12644"/>
                  <a:pt x="16383" y="12700"/>
                </a:cubicBezTo>
                <a:cubicBezTo>
                  <a:pt x="16472" y="12747"/>
                  <a:pt x="16553" y="12809"/>
                  <a:pt x="16637" y="12859"/>
                </a:cubicBezTo>
                <a:cubicBezTo>
                  <a:pt x="16701" y="12896"/>
                  <a:pt x="16793" y="12926"/>
                  <a:pt x="16859" y="12954"/>
                </a:cubicBezTo>
                <a:cubicBezTo>
                  <a:pt x="16895" y="12990"/>
                  <a:pt x="16912" y="13001"/>
                  <a:pt x="16954" y="129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Ink 13"/>
          <p:cNvSpPr/>
          <p:nvPr/>
        </p:nvSpPr>
        <p:spPr>
          <a:xfrm>
            <a:off x="5646600" y="5075280"/>
            <a:ext cx="103320" cy="22320"/>
          </a:xfrm>
          <a:custGeom>
            <a:avLst/>
            <a:gdLst/>
            <a:ahLst/>
            <a:rect l="l" t="t" r="r" b="b"/>
            <a:pathLst>
              <a:path w="287" h="64">
                <a:moveTo>
                  <a:pt x="15684" y="14160"/>
                </a:moveTo>
                <a:cubicBezTo>
                  <a:pt x="15756" y="14160"/>
                  <a:pt x="15785" y="14148"/>
                  <a:pt x="15843" y="14129"/>
                </a:cubicBezTo>
                <a:cubicBezTo>
                  <a:pt x="15904" y="14109"/>
                  <a:pt x="15914" y="14139"/>
                  <a:pt x="15970" y="140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Ink 14"/>
          <p:cNvSpPr/>
          <p:nvPr/>
        </p:nvSpPr>
        <p:spPr>
          <a:xfrm>
            <a:off x="5897520" y="4857840"/>
            <a:ext cx="927000" cy="720720"/>
          </a:xfrm>
          <a:custGeom>
            <a:avLst/>
            <a:gdLst/>
            <a:ahLst/>
            <a:rect l="l" t="t" r="r" b="b"/>
            <a:pathLst>
              <a:path w="2573" h="2001">
                <a:moveTo>
                  <a:pt x="16383" y="13716"/>
                </a:moveTo>
                <a:cubicBezTo>
                  <a:pt x="16464" y="13716"/>
                  <a:pt x="16507" y="13707"/>
                  <a:pt x="16574" y="13684"/>
                </a:cubicBezTo>
                <a:cubicBezTo>
                  <a:pt x="16617" y="13669"/>
                  <a:pt x="16662" y="13677"/>
                  <a:pt x="16700" y="13652"/>
                </a:cubicBezTo>
                <a:cubicBezTo>
                  <a:pt x="16742" y="13624"/>
                  <a:pt x="16777" y="13595"/>
                  <a:pt x="16828" y="13589"/>
                </a:cubicBezTo>
                <a:cubicBezTo>
                  <a:pt x="16867" y="13585"/>
                  <a:pt x="16913" y="13602"/>
                  <a:pt x="16923" y="13621"/>
                </a:cubicBezTo>
                <a:cubicBezTo>
                  <a:pt x="16963" y="13699"/>
                  <a:pt x="16900" y="13836"/>
                  <a:pt x="16891" y="13906"/>
                </a:cubicBezTo>
                <a:cubicBezTo>
                  <a:pt x="16878" y="14009"/>
                  <a:pt x="16870" y="14096"/>
                  <a:pt x="16828" y="14192"/>
                </a:cubicBezTo>
                <a:cubicBezTo>
                  <a:pt x="16792" y="14273"/>
                  <a:pt x="16769" y="14363"/>
                  <a:pt x="16764" y="14446"/>
                </a:cubicBezTo>
                <a:cubicBezTo>
                  <a:pt x="16760" y="14516"/>
                  <a:pt x="16732" y="14536"/>
                  <a:pt x="16732" y="14605"/>
                </a:cubicBezTo>
              </a:path>
              <a:path w="2573" h="2001">
                <a:moveTo>
                  <a:pt x="17399" y="13684"/>
                </a:moveTo>
                <a:cubicBezTo>
                  <a:pt x="17399" y="13879"/>
                  <a:pt x="17391" y="14071"/>
                  <a:pt x="17431" y="14256"/>
                </a:cubicBezTo>
                <a:cubicBezTo>
                  <a:pt x="17441" y="14304"/>
                  <a:pt x="17431" y="14364"/>
                  <a:pt x="17431" y="14414"/>
                </a:cubicBezTo>
              </a:path>
              <a:path w="2573" h="2001">
                <a:moveTo>
                  <a:pt x="17208" y="14129"/>
                </a:moveTo>
                <a:cubicBezTo>
                  <a:pt x="17198" y="14129"/>
                  <a:pt x="17187" y="14129"/>
                  <a:pt x="17177" y="14129"/>
                </a:cubicBezTo>
                <a:cubicBezTo>
                  <a:pt x="17274" y="14129"/>
                  <a:pt x="17350" y="14114"/>
                  <a:pt x="17431" y="14097"/>
                </a:cubicBezTo>
                <a:cubicBezTo>
                  <a:pt x="17508" y="14080"/>
                  <a:pt x="17501" y="14090"/>
                  <a:pt x="17558" y="14034"/>
                </a:cubicBezTo>
              </a:path>
              <a:path w="2573" h="2001">
                <a:moveTo>
                  <a:pt x="17812" y="13621"/>
                </a:moveTo>
                <a:cubicBezTo>
                  <a:pt x="17812" y="13722"/>
                  <a:pt x="17860" y="13777"/>
                  <a:pt x="17875" y="13875"/>
                </a:cubicBezTo>
                <a:cubicBezTo>
                  <a:pt x="17893" y="13994"/>
                  <a:pt x="17893" y="14112"/>
                  <a:pt x="17939" y="14224"/>
                </a:cubicBezTo>
                <a:cubicBezTo>
                  <a:pt x="17970" y="14299"/>
                  <a:pt x="18004" y="14347"/>
                  <a:pt x="18034" y="14414"/>
                </a:cubicBezTo>
                <a:cubicBezTo>
                  <a:pt x="18034" y="14446"/>
                  <a:pt x="18034" y="14457"/>
                  <a:pt x="18066" y="14446"/>
                </a:cubicBezTo>
              </a:path>
              <a:path w="2573" h="2001">
                <a:moveTo>
                  <a:pt x="18224" y="13494"/>
                </a:moveTo>
                <a:cubicBezTo>
                  <a:pt x="18224" y="13636"/>
                  <a:pt x="18204" y="13768"/>
                  <a:pt x="18193" y="13906"/>
                </a:cubicBezTo>
                <a:cubicBezTo>
                  <a:pt x="18173" y="14151"/>
                  <a:pt x="18116" y="14392"/>
                  <a:pt x="18098" y="14637"/>
                </a:cubicBezTo>
                <a:cubicBezTo>
                  <a:pt x="18085" y="14806"/>
                  <a:pt x="18071" y="14976"/>
                  <a:pt x="18066" y="15145"/>
                </a:cubicBezTo>
                <a:cubicBezTo>
                  <a:pt x="18063" y="15268"/>
                  <a:pt x="18034" y="15372"/>
                  <a:pt x="18034" y="15494"/>
                </a:cubicBezTo>
              </a:path>
              <a:path w="2573" h="2001">
                <a:moveTo>
                  <a:pt x="18574" y="13684"/>
                </a:moveTo>
                <a:cubicBezTo>
                  <a:pt x="18660" y="13684"/>
                  <a:pt x="18696" y="13693"/>
                  <a:pt x="18764" y="13716"/>
                </a:cubicBezTo>
                <a:cubicBezTo>
                  <a:pt x="18815" y="13733"/>
                  <a:pt x="18777" y="13731"/>
                  <a:pt x="18828" y="13748"/>
                </a:cubicBezTo>
              </a:path>
              <a:path w="2573" h="2001">
                <a:moveTo>
                  <a:pt x="18637" y="14160"/>
                </a:moveTo>
                <a:cubicBezTo>
                  <a:pt x="18697" y="14160"/>
                  <a:pt x="18738" y="14135"/>
                  <a:pt x="18796" y="14129"/>
                </a:cubicBezTo>
                <a:cubicBezTo>
                  <a:pt x="18858" y="14123"/>
                  <a:pt x="18909" y="14100"/>
                  <a:pt x="18955" y="140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Ink 15"/>
          <p:cNvSpPr/>
          <p:nvPr/>
        </p:nvSpPr>
        <p:spPr>
          <a:xfrm>
            <a:off x="6892920" y="4640400"/>
            <a:ext cx="468360" cy="457200"/>
          </a:xfrm>
          <a:custGeom>
            <a:avLst/>
            <a:gdLst/>
            <a:ahLst/>
            <a:rect l="l" t="t" r="r" b="b"/>
            <a:pathLst>
              <a:path w="1303" h="1271">
                <a:moveTo>
                  <a:pt x="19145" y="13335"/>
                </a:moveTo>
                <a:cubicBezTo>
                  <a:pt x="19197" y="13335"/>
                  <a:pt x="19263" y="13327"/>
                  <a:pt x="19304" y="13303"/>
                </a:cubicBezTo>
                <a:cubicBezTo>
                  <a:pt x="19352" y="13275"/>
                  <a:pt x="19373" y="13265"/>
                  <a:pt x="19431" y="13240"/>
                </a:cubicBezTo>
              </a:path>
              <a:path w="1303" h="1271">
                <a:moveTo>
                  <a:pt x="19717" y="12890"/>
                </a:moveTo>
                <a:cubicBezTo>
                  <a:pt x="19717" y="12973"/>
                  <a:pt x="19745" y="13032"/>
                  <a:pt x="19748" y="13113"/>
                </a:cubicBezTo>
                <a:cubicBezTo>
                  <a:pt x="19754" y="13287"/>
                  <a:pt x="19722" y="13449"/>
                  <a:pt x="19717" y="13621"/>
                </a:cubicBezTo>
                <a:cubicBezTo>
                  <a:pt x="19712" y="13800"/>
                  <a:pt x="19717" y="13981"/>
                  <a:pt x="19717" y="14160"/>
                </a:cubicBezTo>
              </a:path>
              <a:path w="1303" h="1271">
                <a:moveTo>
                  <a:pt x="20066" y="12890"/>
                </a:moveTo>
                <a:cubicBezTo>
                  <a:pt x="20028" y="12903"/>
                  <a:pt x="20009" y="12991"/>
                  <a:pt x="20002" y="13049"/>
                </a:cubicBezTo>
                <a:cubicBezTo>
                  <a:pt x="19986" y="13185"/>
                  <a:pt x="19975" y="13326"/>
                  <a:pt x="19971" y="13462"/>
                </a:cubicBezTo>
                <a:cubicBezTo>
                  <a:pt x="19966" y="13600"/>
                  <a:pt x="19954" y="13744"/>
                  <a:pt x="20002" y="13875"/>
                </a:cubicBezTo>
                <a:cubicBezTo>
                  <a:pt x="20036" y="13968"/>
                  <a:pt x="20026" y="14053"/>
                  <a:pt x="20130" y="14097"/>
                </a:cubicBezTo>
                <a:cubicBezTo>
                  <a:pt x="20176" y="14116"/>
                  <a:pt x="20226" y="14092"/>
                  <a:pt x="20256" y="14065"/>
                </a:cubicBezTo>
                <a:cubicBezTo>
                  <a:pt x="20307" y="14020"/>
                  <a:pt x="20350" y="13963"/>
                  <a:pt x="20384" y="13906"/>
                </a:cubicBezTo>
                <a:cubicBezTo>
                  <a:pt x="20434" y="13822"/>
                  <a:pt x="20436" y="13653"/>
                  <a:pt x="20447" y="13557"/>
                </a:cubicBezTo>
                <a:cubicBezTo>
                  <a:pt x="20461" y="13432"/>
                  <a:pt x="20403" y="13322"/>
                  <a:pt x="20384" y="13208"/>
                </a:cubicBezTo>
                <a:cubicBezTo>
                  <a:pt x="20378" y="13170"/>
                  <a:pt x="20352" y="13070"/>
                  <a:pt x="20320" y="13049"/>
                </a:cubicBezTo>
                <a:cubicBezTo>
                  <a:pt x="20270" y="13016"/>
                  <a:pt x="20206" y="13064"/>
                  <a:pt x="20193" y="13081"/>
                </a:cubicBezTo>
                <a:cubicBezTo>
                  <a:pt x="20161" y="13124"/>
                  <a:pt x="20142" y="13126"/>
                  <a:pt x="20130" y="13176"/>
                </a:cubicBezTo>
              </a:path>
              <a:path w="1303" h="1271">
                <a:moveTo>
                  <a:pt x="20066" y="13081"/>
                </a:moveTo>
                <a:cubicBezTo>
                  <a:pt x="20066" y="13070"/>
                  <a:pt x="20066" y="13060"/>
                  <a:pt x="20066" y="13049"/>
                </a:cubicBezTo>
              </a:path>
              <a:path w="1303" h="1271">
                <a:moveTo>
                  <a:pt x="20066" y="13081"/>
                </a:moveTo>
                <a:cubicBezTo>
                  <a:pt x="20087" y="13060"/>
                  <a:pt x="20109" y="13039"/>
                  <a:pt x="20130" y="13018"/>
                </a:cubicBezTo>
              </a:path>
              <a:path w="1303" h="1271">
                <a:moveTo>
                  <a:pt x="20130" y="13018"/>
                </a:moveTo>
                <a:cubicBezTo>
                  <a:pt x="20172" y="13018"/>
                  <a:pt x="20214" y="13018"/>
                  <a:pt x="20256" y="13018"/>
                </a:cubicBezTo>
                <a:cubicBezTo>
                  <a:pt x="20273" y="13068"/>
                  <a:pt x="20271" y="13030"/>
                  <a:pt x="20288" y="130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Ink 16"/>
          <p:cNvSpPr/>
          <p:nvPr/>
        </p:nvSpPr>
        <p:spPr>
          <a:xfrm>
            <a:off x="1703520" y="4879800"/>
            <a:ext cx="1371600" cy="731880"/>
          </a:xfrm>
          <a:custGeom>
            <a:avLst/>
            <a:gdLst/>
            <a:ahLst/>
            <a:rect l="l" t="t" r="r" b="b"/>
            <a:pathLst>
              <a:path w="3811" h="2033">
                <a:moveTo>
                  <a:pt x="5556" y="13557"/>
                </a:moveTo>
                <a:cubicBezTo>
                  <a:pt x="5556" y="13701"/>
                  <a:pt x="5541" y="13835"/>
                  <a:pt x="5524" y="13970"/>
                </a:cubicBezTo>
                <a:cubicBezTo>
                  <a:pt x="5511" y="14070"/>
                  <a:pt x="5493" y="14154"/>
                  <a:pt x="5493" y="14256"/>
                </a:cubicBezTo>
                <a:cubicBezTo>
                  <a:pt x="5493" y="14393"/>
                  <a:pt x="5493" y="14531"/>
                  <a:pt x="5493" y="14668"/>
                </a:cubicBezTo>
              </a:path>
              <a:path w="3811" h="2033">
                <a:moveTo>
                  <a:pt x="6032" y="13780"/>
                </a:moveTo>
                <a:cubicBezTo>
                  <a:pt x="6032" y="13849"/>
                  <a:pt x="6079" y="13901"/>
                  <a:pt x="6064" y="13970"/>
                </a:cubicBezTo>
                <a:cubicBezTo>
                  <a:pt x="6041" y="14073"/>
                  <a:pt x="6015" y="14180"/>
                  <a:pt x="6001" y="14288"/>
                </a:cubicBezTo>
                <a:cubicBezTo>
                  <a:pt x="5987" y="14392"/>
                  <a:pt x="5987" y="14485"/>
                  <a:pt x="6001" y="14573"/>
                </a:cubicBezTo>
                <a:cubicBezTo>
                  <a:pt x="6001" y="14584"/>
                  <a:pt x="6001" y="14594"/>
                  <a:pt x="6001" y="14605"/>
                </a:cubicBezTo>
              </a:path>
              <a:path w="3811" h="2033">
                <a:moveTo>
                  <a:pt x="5778" y="14065"/>
                </a:moveTo>
                <a:cubicBezTo>
                  <a:pt x="5837" y="14065"/>
                  <a:pt x="5854" y="14093"/>
                  <a:pt x="5906" y="14097"/>
                </a:cubicBezTo>
                <a:cubicBezTo>
                  <a:pt x="5997" y="14104"/>
                  <a:pt x="6072" y="14146"/>
                  <a:pt x="6160" y="14160"/>
                </a:cubicBezTo>
                <a:cubicBezTo>
                  <a:pt x="6181" y="14160"/>
                  <a:pt x="6202" y="14160"/>
                  <a:pt x="6223" y="14160"/>
                </a:cubicBezTo>
              </a:path>
              <a:path w="3811" h="2033">
                <a:moveTo>
                  <a:pt x="6509" y="13652"/>
                </a:moveTo>
                <a:cubicBezTo>
                  <a:pt x="6523" y="13727"/>
                  <a:pt x="6560" y="13801"/>
                  <a:pt x="6572" y="13875"/>
                </a:cubicBezTo>
                <a:cubicBezTo>
                  <a:pt x="6590" y="13984"/>
                  <a:pt x="6629" y="14058"/>
                  <a:pt x="6668" y="14160"/>
                </a:cubicBezTo>
                <a:cubicBezTo>
                  <a:pt x="6705" y="14256"/>
                  <a:pt x="6733" y="14354"/>
                  <a:pt x="6763" y="14446"/>
                </a:cubicBezTo>
                <a:cubicBezTo>
                  <a:pt x="6782" y="14504"/>
                  <a:pt x="6824" y="14560"/>
                  <a:pt x="6858" y="14605"/>
                </a:cubicBezTo>
              </a:path>
              <a:path w="3811" h="2033">
                <a:moveTo>
                  <a:pt x="6858" y="13716"/>
                </a:moveTo>
                <a:cubicBezTo>
                  <a:pt x="6858" y="13781"/>
                  <a:pt x="6835" y="13820"/>
                  <a:pt x="6794" y="13875"/>
                </a:cubicBezTo>
                <a:cubicBezTo>
                  <a:pt x="6736" y="13953"/>
                  <a:pt x="6658" y="14017"/>
                  <a:pt x="6604" y="14097"/>
                </a:cubicBezTo>
                <a:cubicBezTo>
                  <a:pt x="6528" y="14210"/>
                  <a:pt x="6425" y="14302"/>
                  <a:pt x="6350" y="14414"/>
                </a:cubicBezTo>
                <a:cubicBezTo>
                  <a:pt x="6324" y="14466"/>
                  <a:pt x="6313" y="14474"/>
                  <a:pt x="6318" y="14510"/>
                </a:cubicBezTo>
              </a:path>
              <a:path w="3811" h="2033">
                <a:moveTo>
                  <a:pt x="7017" y="13970"/>
                </a:moveTo>
                <a:cubicBezTo>
                  <a:pt x="7048" y="13970"/>
                  <a:pt x="7059" y="13970"/>
                  <a:pt x="7048" y="13938"/>
                </a:cubicBezTo>
                <a:cubicBezTo>
                  <a:pt x="7118" y="13938"/>
                  <a:pt x="7210" y="13887"/>
                  <a:pt x="7271" y="13906"/>
                </a:cubicBezTo>
                <a:cubicBezTo>
                  <a:pt x="7298" y="13914"/>
                  <a:pt x="7342" y="13952"/>
                  <a:pt x="7366" y="13970"/>
                </a:cubicBezTo>
              </a:path>
              <a:path w="3811" h="2033">
                <a:moveTo>
                  <a:pt x="7048" y="14224"/>
                </a:moveTo>
                <a:cubicBezTo>
                  <a:pt x="7143" y="14224"/>
                  <a:pt x="7210" y="14205"/>
                  <a:pt x="7302" y="14192"/>
                </a:cubicBezTo>
                <a:cubicBezTo>
                  <a:pt x="7323" y="14192"/>
                  <a:pt x="7345" y="14192"/>
                  <a:pt x="7366" y="14192"/>
                </a:cubicBezTo>
              </a:path>
              <a:path w="3811" h="2033">
                <a:moveTo>
                  <a:pt x="7588" y="13843"/>
                </a:moveTo>
                <a:cubicBezTo>
                  <a:pt x="7588" y="13832"/>
                  <a:pt x="7588" y="13822"/>
                  <a:pt x="7588" y="13811"/>
                </a:cubicBezTo>
                <a:cubicBezTo>
                  <a:pt x="7683" y="13811"/>
                  <a:pt x="7799" y="13834"/>
                  <a:pt x="7874" y="13780"/>
                </a:cubicBezTo>
              </a:path>
              <a:path w="3811" h="2033">
                <a:moveTo>
                  <a:pt x="8192" y="13557"/>
                </a:moveTo>
                <a:cubicBezTo>
                  <a:pt x="8183" y="13602"/>
                  <a:pt x="8177" y="13706"/>
                  <a:pt x="8160" y="13748"/>
                </a:cubicBezTo>
                <a:cubicBezTo>
                  <a:pt x="8134" y="13810"/>
                  <a:pt x="8108" y="13897"/>
                  <a:pt x="8096" y="13970"/>
                </a:cubicBezTo>
                <a:cubicBezTo>
                  <a:pt x="8086" y="14029"/>
                  <a:pt x="8096" y="14100"/>
                  <a:pt x="8096" y="14160"/>
                </a:cubicBezTo>
                <a:cubicBezTo>
                  <a:pt x="8139" y="14146"/>
                  <a:pt x="8134" y="14110"/>
                  <a:pt x="8160" y="14097"/>
                </a:cubicBezTo>
                <a:cubicBezTo>
                  <a:pt x="8221" y="14066"/>
                  <a:pt x="8305" y="14114"/>
                  <a:pt x="8350" y="14129"/>
                </a:cubicBezTo>
                <a:cubicBezTo>
                  <a:pt x="8401" y="14146"/>
                  <a:pt x="8456" y="14156"/>
                  <a:pt x="8509" y="14160"/>
                </a:cubicBezTo>
                <a:cubicBezTo>
                  <a:pt x="8520" y="14160"/>
                  <a:pt x="8530" y="14160"/>
                  <a:pt x="8541" y="14160"/>
                </a:cubicBezTo>
              </a:path>
              <a:path w="3811" h="2033">
                <a:moveTo>
                  <a:pt x="8509" y="13652"/>
                </a:moveTo>
                <a:cubicBezTo>
                  <a:pt x="8453" y="13745"/>
                  <a:pt x="8443" y="13888"/>
                  <a:pt x="8414" y="14002"/>
                </a:cubicBezTo>
                <a:cubicBezTo>
                  <a:pt x="8357" y="14231"/>
                  <a:pt x="8302" y="14470"/>
                  <a:pt x="8255" y="14700"/>
                </a:cubicBezTo>
                <a:cubicBezTo>
                  <a:pt x="8244" y="14774"/>
                  <a:pt x="8234" y="14848"/>
                  <a:pt x="8223" y="14922"/>
                </a:cubicBezTo>
              </a:path>
              <a:path w="3811" h="2033">
                <a:moveTo>
                  <a:pt x="4731" y="15018"/>
                </a:moveTo>
                <a:cubicBezTo>
                  <a:pt x="4823" y="15018"/>
                  <a:pt x="4871" y="15040"/>
                  <a:pt x="4953" y="15081"/>
                </a:cubicBezTo>
                <a:cubicBezTo>
                  <a:pt x="4974" y="15092"/>
                  <a:pt x="4995" y="15102"/>
                  <a:pt x="5016" y="15113"/>
                </a:cubicBezTo>
              </a:path>
              <a:path w="3811" h="2033">
                <a:moveTo>
                  <a:pt x="5493" y="14827"/>
                </a:moveTo>
                <a:cubicBezTo>
                  <a:pt x="5493" y="14895"/>
                  <a:pt x="5472" y="14921"/>
                  <a:pt x="5461" y="14986"/>
                </a:cubicBezTo>
                <a:cubicBezTo>
                  <a:pt x="5440" y="15102"/>
                  <a:pt x="5404" y="15218"/>
                  <a:pt x="5366" y="15335"/>
                </a:cubicBezTo>
                <a:cubicBezTo>
                  <a:pt x="5334" y="15434"/>
                  <a:pt x="5334" y="15486"/>
                  <a:pt x="5334" y="155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Ink 17"/>
          <p:cNvSpPr/>
          <p:nvPr/>
        </p:nvSpPr>
        <p:spPr>
          <a:xfrm>
            <a:off x="6950160" y="5154480"/>
            <a:ext cx="365040" cy="355680"/>
          </a:xfrm>
          <a:custGeom>
            <a:avLst/>
            <a:gdLst/>
            <a:ahLst/>
            <a:rect l="l" t="t" r="r" b="b"/>
            <a:pathLst>
              <a:path w="1017" h="986">
                <a:moveTo>
                  <a:pt x="19622" y="14637"/>
                </a:moveTo>
                <a:cubicBezTo>
                  <a:pt x="19622" y="14722"/>
                  <a:pt x="19640" y="14781"/>
                  <a:pt x="19653" y="14859"/>
                </a:cubicBezTo>
                <a:cubicBezTo>
                  <a:pt x="19657" y="14886"/>
                  <a:pt x="19685" y="15047"/>
                  <a:pt x="19685" y="15050"/>
                </a:cubicBezTo>
                <a:cubicBezTo>
                  <a:pt x="19678" y="15099"/>
                  <a:pt x="19641" y="15195"/>
                  <a:pt x="19622" y="15208"/>
                </a:cubicBezTo>
              </a:path>
              <a:path w="1017" h="986">
                <a:moveTo>
                  <a:pt x="19336" y="14922"/>
                </a:moveTo>
                <a:cubicBezTo>
                  <a:pt x="19325" y="14933"/>
                  <a:pt x="19315" y="14943"/>
                  <a:pt x="19304" y="14954"/>
                </a:cubicBezTo>
                <a:cubicBezTo>
                  <a:pt x="19383" y="14954"/>
                  <a:pt x="19465" y="14970"/>
                  <a:pt x="19526" y="14922"/>
                </a:cubicBezTo>
                <a:cubicBezTo>
                  <a:pt x="19569" y="14889"/>
                  <a:pt x="19611" y="14861"/>
                  <a:pt x="19653" y="14827"/>
                </a:cubicBezTo>
              </a:path>
              <a:path w="1017" h="986">
                <a:moveTo>
                  <a:pt x="20002" y="14478"/>
                </a:moveTo>
                <a:cubicBezTo>
                  <a:pt x="20096" y="14478"/>
                  <a:pt x="20027" y="14449"/>
                  <a:pt x="20098" y="14414"/>
                </a:cubicBezTo>
                <a:cubicBezTo>
                  <a:pt x="20140" y="14393"/>
                  <a:pt x="20181" y="14339"/>
                  <a:pt x="20225" y="14319"/>
                </a:cubicBezTo>
                <a:cubicBezTo>
                  <a:pt x="20245" y="14310"/>
                  <a:pt x="20297" y="14319"/>
                  <a:pt x="20320" y="14319"/>
                </a:cubicBezTo>
                <a:cubicBezTo>
                  <a:pt x="20320" y="14425"/>
                  <a:pt x="20311" y="14505"/>
                  <a:pt x="20288" y="14605"/>
                </a:cubicBezTo>
                <a:cubicBezTo>
                  <a:pt x="20272" y="14675"/>
                  <a:pt x="20264" y="14789"/>
                  <a:pt x="20256" y="14859"/>
                </a:cubicBezTo>
                <a:cubicBezTo>
                  <a:pt x="20239" y="15002"/>
                  <a:pt x="20256" y="15160"/>
                  <a:pt x="20256" y="153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Ink 18"/>
          <p:cNvSpPr/>
          <p:nvPr/>
        </p:nvSpPr>
        <p:spPr>
          <a:xfrm>
            <a:off x="6858000" y="5418000"/>
            <a:ext cx="914400" cy="879480"/>
          </a:xfrm>
          <a:custGeom>
            <a:avLst/>
            <a:gdLst/>
            <a:ahLst/>
            <a:rect l="l" t="t" r="r" b="b"/>
            <a:pathLst>
              <a:path w="2541" h="2445">
                <a:moveTo>
                  <a:pt x="19050" y="16066"/>
                </a:moveTo>
                <a:cubicBezTo>
                  <a:pt x="19072" y="16115"/>
                  <a:pt x="19092" y="16167"/>
                  <a:pt x="19114" y="16224"/>
                </a:cubicBezTo>
                <a:cubicBezTo>
                  <a:pt x="19154" y="16326"/>
                  <a:pt x="19160" y="16410"/>
                  <a:pt x="19209" y="16510"/>
                </a:cubicBezTo>
                <a:cubicBezTo>
                  <a:pt x="19235" y="16563"/>
                  <a:pt x="19258" y="16619"/>
                  <a:pt x="19304" y="16669"/>
                </a:cubicBezTo>
                <a:cubicBezTo>
                  <a:pt x="19336" y="16703"/>
                  <a:pt x="19386" y="16792"/>
                  <a:pt x="19399" y="16828"/>
                </a:cubicBezTo>
                <a:cubicBezTo>
                  <a:pt x="19399" y="16838"/>
                  <a:pt x="19399" y="16849"/>
                  <a:pt x="19399" y="16859"/>
                </a:cubicBezTo>
                <a:cubicBezTo>
                  <a:pt x="19432" y="16854"/>
                  <a:pt x="19489" y="16849"/>
                  <a:pt x="19494" y="16828"/>
                </a:cubicBezTo>
                <a:cubicBezTo>
                  <a:pt x="19550" y="16566"/>
                  <a:pt x="19494" y="16240"/>
                  <a:pt x="19494" y="15970"/>
                </a:cubicBezTo>
                <a:cubicBezTo>
                  <a:pt x="19521" y="16010"/>
                  <a:pt x="19522" y="16029"/>
                  <a:pt x="19558" y="16097"/>
                </a:cubicBezTo>
                <a:cubicBezTo>
                  <a:pt x="19603" y="16182"/>
                  <a:pt x="19620" y="16289"/>
                  <a:pt x="19653" y="16383"/>
                </a:cubicBezTo>
                <a:cubicBezTo>
                  <a:pt x="19703" y="16528"/>
                  <a:pt x="19723" y="16649"/>
                  <a:pt x="19748" y="16796"/>
                </a:cubicBezTo>
                <a:cubicBezTo>
                  <a:pt x="19770" y="16924"/>
                  <a:pt x="19805" y="17049"/>
                  <a:pt x="19812" y="17177"/>
                </a:cubicBezTo>
                <a:cubicBezTo>
                  <a:pt x="19816" y="17246"/>
                  <a:pt x="19785" y="17340"/>
                  <a:pt x="19748" y="17399"/>
                </a:cubicBezTo>
                <a:cubicBezTo>
                  <a:pt x="19722" y="17440"/>
                  <a:pt x="19683" y="17485"/>
                  <a:pt x="19653" y="17494"/>
                </a:cubicBezTo>
                <a:cubicBezTo>
                  <a:pt x="19613" y="17506"/>
                  <a:pt x="19570" y="17478"/>
                  <a:pt x="19558" y="17462"/>
                </a:cubicBezTo>
                <a:cubicBezTo>
                  <a:pt x="19527" y="17401"/>
                  <a:pt x="19516" y="17383"/>
                  <a:pt x="19526" y="17336"/>
                </a:cubicBezTo>
              </a:path>
              <a:path w="2541" h="2445">
                <a:moveTo>
                  <a:pt x="20002" y="16066"/>
                </a:moveTo>
                <a:cubicBezTo>
                  <a:pt x="20013" y="16066"/>
                  <a:pt x="20023" y="16066"/>
                  <a:pt x="20034" y="16066"/>
                </a:cubicBezTo>
                <a:cubicBezTo>
                  <a:pt x="20051" y="16016"/>
                  <a:pt x="20085" y="16032"/>
                  <a:pt x="20130" y="16002"/>
                </a:cubicBezTo>
                <a:cubicBezTo>
                  <a:pt x="20171" y="15974"/>
                  <a:pt x="20219" y="15962"/>
                  <a:pt x="20256" y="15938"/>
                </a:cubicBezTo>
                <a:cubicBezTo>
                  <a:pt x="20303" y="15907"/>
                  <a:pt x="20296" y="15907"/>
                  <a:pt x="20352" y="15907"/>
                </a:cubicBezTo>
              </a:path>
              <a:path w="2541" h="2445">
                <a:moveTo>
                  <a:pt x="20288" y="16256"/>
                </a:moveTo>
                <a:cubicBezTo>
                  <a:pt x="20366" y="16256"/>
                  <a:pt x="20353" y="16220"/>
                  <a:pt x="20415" y="16192"/>
                </a:cubicBezTo>
                <a:cubicBezTo>
                  <a:pt x="20457" y="16173"/>
                  <a:pt x="20496" y="16156"/>
                  <a:pt x="20542" y="16129"/>
                </a:cubicBezTo>
              </a:path>
              <a:path w="2541" h="2445">
                <a:moveTo>
                  <a:pt x="20796" y="15589"/>
                </a:moveTo>
                <a:cubicBezTo>
                  <a:pt x="20839" y="15558"/>
                  <a:pt x="20873" y="15539"/>
                  <a:pt x="20923" y="15526"/>
                </a:cubicBezTo>
                <a:cubicBezTo>
                  <a:pt x="20923" y="15490"/>
                  <a:pt x="20926" y="15476"/>
                  <a:pt x="20955" y="15462"/>
                </a:cubicBezTo>
              </a:path>
              <a:path w="2541" h="2445">
                <a:moveTo>
                  <a:pt x="21114" y="15240"/>
                </a:moveTo>
                <a:cubicBezTo>
                  <a:pt x="21137" y="15232"/>
                  <a:pt x="21200" y="15161"/>
                  <a:pt x="21209" y="15145"/>
                </a:cubicBezTo>
                <a:cubicBezTo>
                  <a:pt x="21224" y="15118"/>
                  <a:pt x="21255" y="15058"/>
                  <a:pt x="21272" y="15050"/>
                </a:cubicBezTo>
                <a:cubicBezTo>
                  <a:pt x="21283" y="15050"/>
                  <a:pt x="21293" y="15050"/>
                  <a:pt x="21304" y="15050"/>
                </a:cubicBezTo>
                <a:cubicBezTo>
                  <a:pt x="21339" y="15061"/>
                  <a:pt x="21365" y="15093"/>
                  <a:pt x="21368" y="15145"/>
                </a:cubicBezTo>
                <a:cubicBezTo>
                  <a:pt x="21374" y="15255"/>
                  <a:pt x="21353" y="15331"/>
                  <a:pt x="21336" y="15430"/>
                </a:cubicBezTo>
                <a:cubicBezTo>
                  <a:pt x="21321" y="15519"/>
                  <a:pt x="21292" y="15597"/>
                  <a:pt x="21272" y="15684"/>
                </a:cubicBezTo>
                <a:cubicBezTo>
                  <a:pt x="21272" y="15716"/>
                  <a:pt x="21272" y="15726"/>
                  <a:pt x="21241" y="15716"/>
                </a:cubicBezTo>
                <a:cubicBezTo>
                  <a:pt x="21287" y="15669"/>
                  <a:pt x="21336" y="15596"/>
                  <a:pt x="21400" y="15589"/>
                </a:cubicBezTo>
                <a:cubicBezTo>
                  <a:pt x="21466" y="15582"/>
                  <a:pt x="21481" y="15609"/>
                  <a:pt x="21526" y="15653"/>
                </a:cubicBezTo>
                <a:cubicBezTo>
                  <a:pt x="21572" y="15699"/>
                  <a:pt x="21585" y="15747"/>
                  <a:pt x="21590" y="15812"/>
                </a:cubicBezTo>
                <a:cubicBezTo>
                  <a:pt x="21597" y="15899"/>
                  <a:pt x="21571" y="15956"/>
                  <a:pt x="21558" y="16034"/>
                </a:cubicBezTo>
                <a:cubicBezTo>
                  <a:pt x="21543" y="16123"/>
                  <a:pt x="21517" y="16210"/>
                  <a:pt x="21463" y="16288"/>
                </a:cubicBezTo>
                <a:cubicBezTo>
                  <a:pt x="21416" y="16355"/>
                  <a:pt x="21392" y="16406"/>
                  <a:pt x="21304" y="16415"/>
                </a:cubicBezTo>
                <a:cubicBezTo>
                  <a:pt x="21251" y="16420"/>
                  <a:pt x="21254" y="16424"/>
                  <a:pt x="21241" y="163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Ink 19"/>
          <p:cNvSpPr/>
          <p:nvPr/>
        </p:nvSpPr>
        <p:spPr>
          <a:xfrm>
            <a:off x="5818320" y="5418000"/>
            <a:ext cx="263520" cy="320760"/>
          </a:xfrm>
          <a:custGeom>
            <a:avLst/>
            <a:gdLst/>
            <a:ahLst/>
            <a:rect l="l" t="t" r="r" b="b"/>
            <a:pathLst>
              <a:path w="731" h="889">
                <a:moveTo>
                  <a:pt x="16288" y="15208"/>
                </a:moveTo>
                <a:cubicBezTo>
                  <a:pt x="16277" y="15208"/>
                  <a:pt x="16267" y="15208"/>
                  <a:pt x="16256" y="15208"/>
                </a:cubicBezTo>
                <a:cubicBezTo>
                  <a:pt x="16264" y="15239"/>
                  <a:pt x="16273" y="15308"/>
                  <a:pt x="16288" y="15335"/>
                </a:cubicBezTo>
                <a:cubicBezTo>
                  <a:pt x="16315" y="15384"/>
                  <a:pt x="16336" y="15434"/>
                  <a:pt x="16351" y="15494"/>
                </a:cubicBezTo>
                <a:cubicBezTo>
                  <a:pt x="16374" y="15587"/>
                  <a:pt x="16351" y="15716"/>
                  <a:pt x="16351" y="15812"/>
                </a:cubicBezTo>
              </a:path>
              <a:path w="731" h="889">
                <a:moveTo>
                  <a:pt x="16161" y="15589"/>
                </a:moveTo>
                <a:cubicBezTo>
                  <a:pt x="16189" y="15568"/>
                  <a:pt x="16256" y="15533"/>
                  <a:pt x="16288" y="15526"/>
                </a:cubicBezTo>
                <a:cubicBezTo>
                  <a:pt x="16345" y="15526"/>
                  <a:pt x="16362" y="15530"/>
                  <a:pt x="16383" y="15494"/>
                </a:cubicBezTo>
              </a:path>
              <a:path w="731" h="889">
                <a:moveTo>
                  <a:pt x="16605" y="15081"/>
                </a:moveTo>
                <a:cubicBezTo>
                  <a:pt x="16669" y="15081"/>
                  <a:pt x="16680" y="15067"/>
                  <a:pt x="16732" y="15050"/>
                </a:cubicBezTo>
                <a:cubicBezTo>
                  <a:pt x="16775" y="15036"/>
                  <a:pt x="16846" y="15050"/>
                  <a:pt x="16891" y="15050"/>
                </a:cubicBezTo>
                <a:cubicBezTo>
                  <a:pt x="16891" y="15131"/>
                  <a:pt x="16871" y="15198"/>
                  <a:pt x="16859" y="15272"/>
                </a:cubicBezTo>
                <a:cubicBezTo>
                  <a:pt x="16844" y="15364"/>
                  <a:pt x="16839" y="15471"/>
                  <a:pt x="16828" y="15558"/>
                </a:cubicBezTo>
                <a:cubicBezTo>
                  <a:pt x="16813" y="15681"/>
                  <a:pt x="16828" y="15814"/>
                  <a:pt x="16828" y="159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Ink 20"/>
          <p:cNvSpPr/>
          <p:nvPr/>
        </p:nvSpPr>
        <p:spPr>
          <a:xfrm>
            <a:off x="2651040" y="5383080"/>
            <a:ext cx="160560" cy="12960"/>
          </a:xfrm>
          <a:custGeom>
            <a:avLst/>
            <a:gdLst/>
            <a:ahLst/>
            <a:rect l="l" t="t" r="r" b="b"/>
            <a:pathLst>
              <a:path w="445" h="33">
                <a:moveTo>
                  <a:pt x="7366" y="14986"/>
                </a:moveTo>
                <a:cubicBezTo>
                  <a:pt x="7415" y="14949"/>
                  <a:pt x="7489" y="14935"/>
                  <a:pt x="7556" y="14954"/>
                </a:cubicBezTo>
                <a:cubicBezTo>
                  <a:pt x="7647" y="14979"/>
                  <a:pt x="7712" y="14986"/>
                  <a:pt x="7810" y="149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Ink 21"/>
          <p:cNvSpPr/>
          <p:nvPr/>
        </p:nvSpPr>
        <p:spPr>
          <a:xfrm>
            <a:off x="2857680" y="5349960"/>
            <a:ext cx="45720" cy="274680"/>
          </a:xfrm>
          <a:custGeom>
            <a:avLst/>
            <a:gdLst/>
            <a:ahLst/>
            <a:rect l="l" t="t" r="r" b="b"/>
            <a:pathLst>
              <a:path w="127" h="763">
                <a:moveTo>
                  <a:pt x="8064" y="14859"/>
                </a:moveTo>
                <a:cubicBezTo>
                  <a:pt x="8064" y="14939"/>
                  <a:pt x="8041" y="15008"/>
                  <a:pt x="8033" y="15081"/>
                </a:cubicBezTo>
                <a:cubicBezTo>
                  <a:pt x="8019" y="15217"/>
                  <a:pt x="7989" y="15329"/>
                  <a:pt x="7969" y="15462"/>
                </a:cubicBezTo>
                <a:cubicBezTo>
                  <a:pt x="7969" y="15549"/>
                  <a:pt x="7973" y="15574"/>
                  <a:pt x="7938" y="156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Ink 22"/>
          <p:cNvSpPr/>
          <p:nvPr/>
        </p:nvSpPr>
        <p:spPr>
          <a:xfrm>
            <a:off x="2262240" y="5726160"/>
            <a:ext cx="115920" cy="480960"/>
          </a:xfrm>
          <a:custGeom>
            <a:avLst/>
            <a:gdLst/>
            <a:ahLst/>
            <a:rect l="l" t="t" r="r" b="b"/>
            <a:pathLst>
              <a:path w="319" h="1334">
                <a:moveTo>
                  <a:pt x="6318" y="15907"/>
                </a:moveTo>
                <a:cubicBezTo>
                  <a:pt x="6268" y="15940"/>
                  <a:pt x="6302" y="16113"/>
                  <a:pt x="6318" y="16192"/>
                </a:cubicBezTo>
                <a:cubicBezTo>
                  <a:pt x="6351" y="16354"/>
                  <a:pt x="6384" y="16504"/>
                  <a:pt x="6414" y="16669"/>
                </a:cubicBezTo>
                <a:cubicBezTo>
                  <a:pt x="6442" y="16826"/>
                  <a:pt x="6481" y="16996"/>
                  <a:pt x="6540" y="17145"/>
                </a:cubicBezTo>
                <a:cubicBezTo>
                  <a:pt x="6568" y="17200"/>
                  <a:pt x="6573" y="17215"/>
                  <a:pt x="6604" y="172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Ink 23"/>
          <p:cNvSpPr/>
          <p:nvPr/>
        </p:nvSpPr>
        <p:spPr>
          <a:xfrm>
            <a:off x="2149560" y="5818320"/>
            <a:ext cx="274680" cy="331560"/>
          </a:xfrm>
          <a:custGeom>
            <a:avLst/>
            <a:gdLst/>
            <a:ahLst/>
            <a:rect l="l" t="t" r="r" b="b"/>
            <a:pathLst>
              <a:path w="763" h="922">
                <a:moveTo>
                  <a:pt x="6731" y="16161"/>
                </a:moveTo>
                <a:cubicBezTo>
                  <a:pt x="6694" y="16173"/>
                  <a:pt x="6650" y="16248"/>
                  <a:pt x="6604" y="16288"/>
                </a:cubicBezTo>
                <a:cubicBezTo>
                  <a:pt x="6495" y="16383"/>
                  <a:pt x="6417" y="16501"/>
                  <a:pt x="6318" y="16605"/>
                </a:cubicBezTo>
                <a:cubicBezTo>
                  <a:pt x="6227" y="16701"/>
                  <a:pt x="6180" y="16824"/>
                  <a:pt x="6096" y="16923"/>
                </a:cubicBezTo>
                <a:cubicBezTo>
                  <a:pt x="6050" y="16978"/>
                  <a:pt x="6013" y="17027"/>
                  <a:pt x="5969" y="170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Ink 24"/>
          <p:cNvSpPr/>
          <p:nvPr/>
        </p:nvSpPr>
        <p:spPr>
          <a:xfrm>
            <a:off x="2422440" y="5954760"/>
            <a:ext cx="127080" cy="12600"/>
          </a:xfrm>
          <a:custGeom>
            <a:avLst/>
            <a:gdLst/>
            <a:ahLst/>
            <a:rect l="l" t="t" r="r" b="b"/>
            <a:pathLst>
              <a:path w="350" h="33">
                <a:moveTo>
                  <a:pt x="6731" y="16542"/>
                </a:moveTo>
                <a:cubicBezTo>
                  <a:pt x="6835" y="16542"/>
                  <a:pt x="6930" y="16556"/>
                  <a:pt x="7017" y="16574"/>
                </a:cubicBezTo>
                <a:cubicBezTo>
                  <a:pt x="7038" y="16574"/>
                  <a:pt x="7059" y="16574"/>
                  <a:pt x="7080" y="165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Ink 25"/>
          <p:cNvSpPr/>
          <p:nvPr/>
        </p:nvSpPr>
        <p:spPr>
          <a:xfrm>
            <a:off x="2422440" y="6080040"/>
            <a:ext cx="138240" cy="23760"/>
          </a:xfrm>
          <a:custGeom>
            <a:avLst/>
            <a:gdLst/>
            <a:ahLst/>
            <a:rect l="l" t="t" r="r" b="b"/>
            <a:pathLst>
              <a:path w="382" h="64">
                <a:moveTo>
                  <a:pt x="6731" y="16891"/>
                </a:moveTo>
                <a:cubicBezTo>
                  <a:pt x="6802" y="16905"/>
                  <a:pt x="6846" y="16923"/>
                  <a:pt x="6922" y="16923"/>
                </a:cubicBezTo>
                <a:cubicBezTo>
                  <a:pt x="6993" y="16923"/>
                  <a:pt x="7041" y="16954"/>
                  <a:pt x="7112" y="169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Ink 26"/>
          <p:cNvSpPr/>
          <p:nvPr/>
        </p:nvSpPr>
        <p:spPr>
          <a:xfrm>
            <a:off x="2719440" y="5772240"/>
            <a:ext cx="127080" cy="34920"/>
          </a:xfrm>
          <a:custGeom>
            <a:avLst/>
            <a:gdLst/>
            <a:ahLst/>
            <a:rect l="l" t="t" r="r" b="b"/>
            <a:pathLst>
              <a:path w="351" h="96">
                <a:moveTo>
                  <a:pt x="7556" y="16034"/>
                </a:moveTo>
                <a:cubicBezTo>
                  <a:pt x="7634" y="16034"/>
                  <a:pt x="7640" y="16072"/>
                  <a:pt x="7715" y="16097"/>
                </a:cubicBezTo>
                <a:cubicBezTo>
                  <a:pt x="7763" y="16113"/>
                  <a:pt x="7787" y="16129"/>
                  <a:pt x="7842" y="16129"/>
                </a:cubicBezTo>
                <a:cubicBezTo>
                  <a:pt x="7878" y="16129"/>
                  <a:pt x="7892" y="16126"/>
                  <a:pt x="7906" y="160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Ink 27"/>
          <p:cNvSpPr/>
          <p:nvPr/>
        </p:nvSpPr>
        <p:spPr>
          <a:xfrm>
            <a:off x="2811600" y="5749920"/>
            <a:ext cx="241200" cy="503280"/>
          </a:xfrm>
          <a:custGeom>
            <a:avLst/>
            <a:gdLst/>
            <a:ahLst/>
            <a:rect l="l" t="t" r="r" b="b"/>
            <a:pathLst>
              <a:path w="668" h="1398">
                <a:moveTo>
                  <a:pt x="8414" y="16002"/>
                </a:moveTo>
                <a:cubicBezTo>
                  <a:pt x="8414" y="15970"/>
                  <a:pt x="8414" y="15959"/>
                  <a:pt x="8446" y="15970"/>
                </a:cubicBezTo>
                <a:cubicBezTo>
                  <a:pt x="8506" y="15991"/>
                  <a:pt x="8475" y="16012"/>
                  <a:pt x="8446" y="16034"/>
                </a:cubicBezTo>
                <a:cubicBezTo>
                  <a:pt x="8405" y="16065"/>
                  <a:pt x="8356" y="16071"/>
                  <a:pt x="8318" y="16097"/>
                </a:cubicBezTo>
                <a:cubicBezTo>
                  <a:pt x="8277" y="16125"/>
                  <a:pt x="8243" y="16155"/>
                  <a:pt x="8192" y="16161"/>
                </a:cubicBezTo>
                <a:cubicBezTo>
                  <a:pt x="8135" y="16167"/>
                  <a:pt x="8130" y="16166"/>
                  <a:pt x="8096" y="16192"/>
                </a:cubicBezTo>
                <a:cubicBezTo>
                  <a:pt x="8074" y="16208"/>
                  <a:pt x="8013" y="16293"/>
                  <a:pt x="8001" y="16320"/>
                </a:cubicBezTo>
                <a:cubicBezTo>
                  <a:pt x="7984" y="16357"/>
                  <a:pt x="7951" y="16408"/>
                  <a:pt x="7938" y="16446"/>
                </a:cubicBezTo>
                <a:cubicBezTo>
                  <a:pt x="7938" y="16457"/>
                  <a:pt x="7938" y="16467"/>
                  <a:pt x="7938" y="16478"/>
                </a:cubicBezTo>
                <a:cubicBezTo>
                  <a:pt x="7977" y="16448"/>
                  <a:pt x="8015" y="16420"/>
                  <a:pt x="8064" y="16415"/>
                </a:cubicBezTo>
                <a:cubicBezTo>
                  <a:pt x="8130" y="16408"/>
                  <a:pt x="8172" y="16431"/>
                  <a:pt x="8223" y="16446"/>
                </a:cubicBezTo>
                <a:cubicBezTo>
                  <a:pt x="8297" y="16468"/>
                  <a:pt x="8284" y="16510"/>
                  <a:pt x="8318" y="16574"/>
                </a:cubicBezTo>
                <a:cubicBezTo>
                  <a:pt x="8370" y="16672"/>
                  <a:pt x="8350" y="16781"/>
                  <a:pt x="8350" y="16891"/>
                </a:cubicBezTo>
                <a:cubicBezTo>
                  <a:pt x="8350" y="16997"/>
                  <a:pt x="8335" y="17050"/>
                  <a:pt x="8287" y="17145"/>
                </a:cubicBezTo>
                <a:cubicBezTo>
                  <a:pt x="8254" y="17210"/>
                  <a:pt x="8226" y="17295"/>
                  <a:pt x="8160" y="17336"/>
                </a:cubicBezTo>
                <a:cubicBezTo>
                  <a:pt x="8102" y="17373"/>
                  <a:pt x="8064" y="17367"/>
                  <a:pt x="8001" y="17367"/>
                </a:cubicBezTo>
                <a:cubicBezTo>
                  <a:pt x="7957" y="17367"/>
                  <a:pt x="7907" y="17333"/>
                  <a:pt x="7874" y="17304"/>
                </a:cubicBezTo>
                <a:cubicBezTo>
                  <a:pt x="7821" y="17257"/>
                  <a:pt x="7810" y="17284"/>
                  <a:pt x="7810" y="17208"/>
                </a:cubicBezTo>
                <a:cubicBezTo>
                  <a:pt x="7810" y="17144"/>
                  <a:pt x="7789" y="17068"/>
                  <a:pt x="7842" y="170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46:10Z</dcterms:created>
  <dc:creator>Sharon Fieldman</dc:creator>
  <dc:description/>
  <dc:language>en-US</dc:language>
  <cp:lastModifiedBy>njamison</cp:lastModifiedBy>
  <dcterms:modified xsi:type="dcterms:W3CDTF">2011-05-09T16:15:02Z</dcterms:modified>
  <cp:revision>19</cp:revision>
  <dc:subject/>
  <dc:title>Goal 2.01: Distance and Midpoint</dc:title>
</cp:coreProperties>
</file>